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camera.wav" ContentType="audio/x-wav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D378-D10A-4E55-8A94-D36D1CD7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0DC-E295-4094-8147-BD46590F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46F-6B78-4533-9CF5-4CEBCFFB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6CF-8B7E-47BA-B975-DFE7EBDE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7B26-4095-4720-B66C-3962F9EA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9D73-7822-4BC4-B0D9-C400C7FB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B6DC-DBA0-4B0D-BFC7-948A803C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3142-3597-4C49-A8DF-D0F3AE91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128B-603A-407D-8AC4-F5624775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7AC2-81F2-4282-A759-057E8736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A5DE-97A4-463F-BD5F-FE2A0F31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E1D-AF50-45AE-BA8F-754517AB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D940-9C01-4858-AAE8-852B0DDB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A7CE-BAD4-4B69-9E9D-5F9B99D6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4AB4-6F4A-42CA-8F65-71A6CA6B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71C7-5372-4358-BC25-29594DB8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7D4A-FD99-4490-8DE0-FA27516D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3FF-0A63-4093-8034-7510CC5A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385-0004-43EF-B6D6-6DEA37D3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E8F8-437D-4911-9878-37D46A7F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CEB-2AE7-42C3-BE06-CF746762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CBB-8DE2-4975-BDFC-F4A11D32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A46-3A51-4A11-A008-BC2A6DA8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68D-A651-4F4A-9296-0B069C98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23F0-3A55-461E-BED1-08F92A8957B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7003-FEDA-4916-8C4F-D14D9D8BEDF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Miopatías Inflamator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r. Ramón Pérez Acuñ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Patogénesi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limiositis y miositis por cuerpos de inclusión: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s células inflamatorias son principalmente células T CD8+ (citotóxicas) y macrófagos que infiltran las regiones del endomisio.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*Los vasos de los músculos están respetados y no hay evidencia de activación del comp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s células B y los NK no juegan un papel import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Patogénesi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rmatomiositis: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s células son linfocitos T y B CD4+ (cooperadores), localizados principalmente e las áreas perivasculares del músculo.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complejo de ataque de membrana se deposita temprano en los vasos de los músculos.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inflamación celular puede ser una respuesta de la destrucción de la microvasculatura muscular mediada por inmunidad humo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Patogénesis y  HL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R3: &gt; riesgo de polimiositis y DM juven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odos los pacientes con Anti-Jo-1 presentaron antígeno HLA DRw5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acientes con anti-SRP tienen HLA-DR5 y DRw5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ti- Mi-2 presentan HLA-DR7 y DRw5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acientes con miositis de inclusión tienen alta prevalencia de HLA-DR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6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Patogénesi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año de la fibras musculares con necrosis y fib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lteraciones a nivel de membra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lteraciones a nivel de la producción de energía.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*modelo animal infectado con virus coxsackie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*Depleción de ATP rápi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Criterios Diagnóstico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ilidad Motora Proximal Simét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centraciones séricas elevadas de enzimas musculares ( CPK, Trasam, aldolasa, mioglobina, DH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udios neurodiagnósticos anormales: EMG con potenciales de la unidad motora son polifásicos, t corto y baja 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iopsia Muscular: cuadro histopat. de PM o D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xantema característico de la dermatomiosi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6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Criterios Diagnóstico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iagnós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finido de DM: presentes 3 de los 4 criterios más el erit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bable de DM: presentes 2 de los 4 criterios más el erit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finido de PM: presentes 4 criterios sin el erit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bable de PM:presentes 3 de los 4 criterios sin el erit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Excluye el Diagnóstico de DM/PM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nfermedad neur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bilidad de curso lento con datos que sugieren distrofia muscu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iopsia que sugiere miositis granulomat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fecciones, incluyendo las parasitar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so reciente de drogas y toxinas como alcohol o fibra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abdomiol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7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Excluye el Diagnóstico de DM/PM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índromes o enfermedades metabólicas como la enfermedad de McArd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ndocrinopatías como caus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iastenia gra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Manifestaciones dérmicas de la DM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xantema en heliotropo: Párpados, malar, frente, nasolab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ápulas de Got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xantema en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xantema en chal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anos de mecán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ormalidades en pliegue ungue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lcificaciones subcután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8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6360" y="404640"/>
            <a:ext cx="3948120" cy="5904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323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Introducció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s enfermedades inflamatorias de los músculos son un grupo heterogéneo de entidades caracterizado por debilidad muscular proximal e inflamación no supurativa del músculo esquelé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radicionalmente los términos polimiositis y complejo  dermatomiositis-polimiositis han sido usados para definir una amplia variedad de padecimientos que están involucrados bajo este grupo de enferm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86280" y="765000"/>
            <a:ext cx="3267000" cy="4886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38400" y="1206360"/>
            <a:ext cx="6667200" cy="44452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238400" y="1206360"/>
            <a:ext cx="6667200" cy="44452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238400" y="1206360"/>
            <a:ext cx="6667200" cy="44452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331920"/>
            <a:ext cx="84978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 Black"/>
              </a:rPr>
              <a:t>Clasificación Clínica de las Miopatías Inflamatorias Idiopátic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M del adul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M del adul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M juven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iositis asociada a neoplas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iositis asociada a otras enfermedades reumatológ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iositis de cuerpos de incl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7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2974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Manifestaciones extra musculares y extradérmica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stitucionales: fatiga, fiebre, pérdida de pe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rticulares: artralgias, art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lmonares: Enf.intersticial, broncoaspiración, H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astrointestinales: perforación por vasculitis, Dismot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rdíacas: arritmias, bloqueos, miocard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sculares: livedo reticularis, úlceras, Rayn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8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Diagnóstico Diferencial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Tratamient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ero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munosupresores: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*Azatioprina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*Metotrexato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*Ot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idroxicloroquina en las lesiones de D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isioterap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DMJ</a:t>
            </a:r>
            <a:br>
              <a:rPr sz="4400"/>
            </a:b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Introduc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nfermedad multisistémica caracterizada por la inflamación no supurativa del músculo estriado, piel y tracto gastrointesti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caracteriza por la aparición temprana de vasculitis por complejos inmunes de severidad variable y calcinosis en etapas tardí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Etiologí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u etiología es desconocida y puede que existan diferentes causas y distintos mecanismos patogénicos responsables de la inflamación y daño muscu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han considerado agentes infecciosos, vacunas, neoplasias, drogas y anomalías inmunológ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02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pidemiologí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 relativamente infrecu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presenta aprox. el 6% de las enfermedades pediátricas del tejido conec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cidencia en UK e Irlanda: 0.19/100 0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 más frecuente en niñ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u instauración es entre los 4 y 10 años de e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ha informado de déficit de IgA y C2 en pacientes con DMJ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7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tiología y Patogénesi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tiología desconoc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vasculitis por inmunocomplejos puede ser un evento desencadenante o perpetu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s inmunoglobulinas son depositadas en las paredes de los vasos pequeños de los músculos estri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HLA-QA1*0501 tiene una frecuencia aumentada en los pacientes con DMJ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Arial Black"/>
              </a:rPr>
              <a:t>Etiología y Patogénesi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observa correlación de aparición después de infecciones, vacunaciones, reacciones de hipersensibilidad y quemaduras sol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ositis transitoria se han informado después de infecciones virales y parasitarias (  virus coxsackie B, influenza, toxoplasmosi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 se ha podido detectar el RNA del virus coxsackie en las biopsias muscul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ha descrito DMJ fatal en niños con agamaglobulinemia e infección con echovir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Arial Black"/>
              </a:rPr>
              <a:t>Patologí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afecta el músculo estriado, la piel y el tracto gastrointesti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icialmente hay parches de tejido inflamato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ay períodos de degeneración y regeneración de las fibras musculares dando variaciones en el tamaño de las fib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curre una vasculitis necrotizante en arteriolas, capilares y vénul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Patologí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miocardio generalmente no está afect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ha informado de afección miocárdica con bandas fibrót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Arial Black"/>
              </a:rPr>
              <a:t>Manifestaciones Clínica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488000" cy="5976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Laboratori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evación de CPK, aldolasa, AST, A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leucocitosis y anemia es infrecuente, excepto cuan do hay sangrado G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R y ANA son vari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antígeno del factor VIII de von Willebrand se encuentra elevado en la fase activa de la enferme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Diagnóstic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instauración aguda con debilidad proximal acompañado con la dermatitis característica, es patognomónico en DMJ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polimiositis es muy rara en ni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os tres hallazgos más característicos para el diagnóstico 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evación de enzimas musculares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98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MG anormal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96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iopsia característica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7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Diagnóstic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determinación seriada de las enzimas musculares sirve para el diagnóstico y el seguimi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MG generalmente no es aplicada en niños, pero al realizarse muestra miopatía y desnerv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biopsia esta indicada en etapas iniciales para procurar el diagnóstico y para el seguimiento luego del uso de esteroides y citotox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Diagnóstico Diferenci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981000"/>
            <a:ext cx="3814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Otras enfermedades del tejido con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R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cleroder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strofias muscu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opatías cogéni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opatías endocrinológ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981000"/>
            <a:ext cx="3814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ficiencia de la desaminasa del mioadenila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oglobinuria paroxís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astenia gravis (ra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abdomilisis por infección o ejercicio inten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Etiologí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bablemente la perpetuación de la enfermedad se debe a una respuesta inmune contra un antígeno infeccioso persistente o a una reacción cruzada con determinantes antigénicos del huésp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ecanismos de hipersensibilidad pueden explicar el Sd. clínico secundario a drogas como la sulfonamidas, penicilinas, D-penicilamina, colchicina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amera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02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Tratamient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dnisona 2 mg/kg/d en cuatro dosis por 1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dnisona 1 mg/kg/d si las manifestacione son leves o hay respuesta ráp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ulsos IV se propone en recaidas y para minimizar los efectos a largo plazo de los estero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idroxicloroquina: Dermatitis /estero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81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Tratamient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n casos resistentes se ha usa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torex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iclofosfamida 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iclospor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munoglobulinas 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toquimioterapia extracorpó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n la calcinosis se han empleado múltiples tratamientos sin éxito definitivo (colchicina, warfarina, probenecid, bifosfonato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amera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9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Pronóstic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uatro grupos clin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dromo de semanas a meses sin sintomas específ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ilidad progresiva y dermatitis de duración de dias a sema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rmatitis y miositis persistente de 1 a 2 añ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cuperación con manifestaciones residuales de artropatía, contracturas con o sin calci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45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Pronóstic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60% de los casos presenta períodos de 2 recaídas durante los próximos  2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40% con períodos mas largos de varias recaí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numero pequeño progresa con muy mal pronóstico con esclerodactilia, atrofia cutis y calcino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s manifestaciones arborescentes en la capilaroscopía es signo de mal pronós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iositis Asociada a Neoplasi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 ha descrito cuadros de miositis asociados a neoplas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incidencia de esta realción no es cla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mucho más común que se asocie a DM y esta asociación es rara en niñ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Ca de ovario es bastante común en mujeres con D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iositis Asociada a Neoplasi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s neoplasias encontradas son similares a las encontradas con pacientes de la misma edad sin miopat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han visto Ca de mama, ovario, pulmón, páncreas, gástrico, colon y re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s neoplasias aparecen simultaneamente a la miopatia o tiempo despué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camera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iositis por Cuerpos de Inclus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fecta a personas de edad avanzada (&gt;50 año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u inicio es incidioso y de progresión lenta y el paciente pudo haber tenido la enfermedad por varios años antes de ir al méd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debilidad es a menudo asimétrica e involucra tanto músculos proximales como dist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camera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iositis por Cuerpos de Inclus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debilidad llega a ser severa con disminución de los reflejos tendinosos, pero no por afección neurológ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n algunos pacientes la enfermedad alcanza una meseta y no progresa má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característica es la presencia de vacuolas intracelulares con material eosinofílico en la biop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camera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iositis por Cuerpos de Inclus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microscopía electrónica revela inclusiones tanto intracitoplasmáticas como intranucleares que pueden ser tubulares o filamento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iositis por Cuerpos de Inclusión.Tratamient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 satisfacto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lentamente progres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 ha usado esteroides y MT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cientemente se postula el uso de MTX+azatioprina y esteroides con mejoría de la fuerza muscular en un 70% de los paci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Etiologí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. contra toxoplasma como probable agente etiológ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tigenemia contra hepatitis 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irus Coxackie se han cultivado de los músculos de algunos pacientes con miosi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ticuerpos contra un picornavirus puede que tengan reacción cruzada con la t-RNA histidilsintetasa (Jo-1) al igual que con proteínas muscul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trovirus.HIV asociado con Sd. Polimiosítico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virus no infecta directamente al múscu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6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Epidemiologí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cidencia anual de 2 a 10 por 10^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icio bimodal:10-15 años, 45 a 55 añ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azón M:H general es 3:1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r cuerpos de inclusión 1:3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matomiositis infantil 1:1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li/Dermatomiositis + otras Enf. 8-10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egros:Blancos 3-4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iositis asociada a neoplasias y miositis por cuerpos de inclusión es más frecuente en &gt; 50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6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Patogénesi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polimiositis y la dermatomiositis parecen ser distintas desde el punto de vista histopatológ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piensa que ambas son procesos mediados inmunológiacamente y que el gatillo está en el ambi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o se basa en los cambios inflamatorios específicos que presenta, observaciones inmunológicas, prevalencia y tipos de autoanticuerpos; y la respuesta que tiene a los inmunosupres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Patogénesi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n embargo, son dos los datos que más fuerte corroboran de que estas entidades son autoinmunitari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u presencia como parte de cuadros de otras enfermedades autoinmu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alta prevalencia de autoanticuerp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Patogénesi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1085760"/>
            <a:ext cx="7238880" cy="4635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05:51:17Z</dcterms:created>
  <dc:creator>Ramon Perés Acuña</dc:creator>
  <dc:description/>
  <dc:language>en-US</dc:language>
  <cp:lastModifiedBy>David Arrieta</cp:lastModifiedBy>
  <dcterms:modified xsi:type="dcterms:W3CDTF">2003-09-21T19:38:14Z</dcterms:modified>
  <cp:revision>10</cp:revision>
  <dc:subject/>
  <dc:title>Miopatías Inflamatorias</dc:title>
</cp:coreProperties>
</file>