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00C-AD4A-4191-98EB-23572843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9C0-7334-4040-B1C0-DF9DDD3B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7A9-DEE3-4D8D-BD6D-EF3C7DEE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B1A-61AF-499F-BFCE-C8E71AAB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FB6-200B-4C53-96DF-14A3B4D0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7B6-5B2C-4C68-893C-8012A1E8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55B-02AB-4E98-9B8B-EFE89B19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9C6-A6F0-461B-BDB8-C7E7D636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546-6A74-42BE-B8D2-9381DFAB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730-9796-427C-BFE1-1BC617F8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23F-B624-4CC8-B6E6-92B2EDAB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59E-1EB8-4E67-B3EE-174974B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F394-ACC7-48BF-AC05-5468F59CF2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1371600"/>
            <a:ext cx="9009000" cy="1052640"/>
            <a:chOff x="135000" y="137160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425520" y="1479600"/>
              <a:ext cx="711360" cy="474840"/>
              <a:chOff x="425520" y="147960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25520" y="14796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8560" y="1479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49360" y="1901880"/>
              <a:ext cx="737640" cy="474840"/>
              <a:chOff x="549360" y="190188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49360" y="19018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18000" y="1901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5000" y="1828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13716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" y="2193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POST OPERATOR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R. NICOLAS SAVAL ROBL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IRUJANO GENER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BOS Y DRENAJES EN EL POST OPERATO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ASOGASTRICO, NASOENTER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GASTROSTOMIA (alimen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UODENOSTO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ENAJE DE LA VIA BILIAR, VESICU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YEYUNOSTO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ECOSTO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ONDA FOLEY, SUPRA PUB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SONDA NASOGASTR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ROSIS ALAS NAS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ION LARINGEA (ronquera,condrit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. LAMINA CRIBO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UJO GASTROESOFAGICO,ESOFAGIT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ACION ESOFAGO, ESTOMAGO DUODE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MORRAGIA (necrosis de la muco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OMONIA POR ASPIRAC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USITIS (bloqueo sinusal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ENAJES QUIRUR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BIERTOS( PENRO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ENAJE DE PUS, SANGRE,SERO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TIRARSE 1 – 2 cm. cada 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 SACARLO POR LA HERIDA Q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IJARLO EN LA PI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AYOR PORCENTAJE DE INFECC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ENAJES QUIRUR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ERRADOS(jackson pratt, hemova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OLIVINIL, SILIC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ENAJES DE PUS, SANGRE, SERO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NOS IRRITACION E INFECC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ANTIENE EL AREA SECA Y LIMP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UIDADO AL RETIRARLO PORQUE SE ROM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ENAJES QUIRUR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MP DRAIN (doble o triple lum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RRIGACION – SUCC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LEMONES PANCREATICOS RETROPERITONE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ERCUTANEOS (colocados via US,C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ENAJES QUIRUR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UBO EN T o DE KER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USO EN EXPLORACION DE LA VIA BILIAR (colangitis,calculo,obstruccion,lesion de la via biliar, manipulac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ENAJE BILIAR (500-700 cc/d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IJADO A LA PI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LANGIO A LOS 7-10 dias post o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EBRE POST OPERA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ACTORES QUE CONTRIBUYEN            (tiempo qx.,transfusiones,preexistencia de infeccion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USAS PULMONARES,UROLOG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BCESOS INTRA ABDOMIN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LEBITIS,RX A DROGAS,TUM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FECCION DE LA HER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ESGO DE INFEC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ISTEMICAS (edad, diabetes, obesidad, desnutricion,inmunodeprimido,enf.pre existentes.quimioterapia, urem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CALES  (enf. vasculares perifericas,  radiación, obesidad.edema,cuerpo extraños, tension en la sutura,presión en el área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CARDIA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ITM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ARTO DEL MIOCAR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LLA CARDIA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PERTENSION AR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QUICARDIA SUPRAVENTRIC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QUEO CARDIA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RESPIRATOR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OLOR TORAXICO ( infarto,pericarditis, aneurisma disecante,neumotorax,reflujo gastro esofagico,embolismo pulmonar, neumonia,espasmo difuso esofagico,   costocondrit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NEA – HIPOXIA (falla cardiaca,epoc, asma,embolismo pulmonar,atelectasia,  neomonia,neumotora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DENES PRE OPERATOR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040" y="23623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AGNOSTICO DE LA PATOLOG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DENES AL PA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DENES A LA ENFERMERA (venoclisis, medicamentos, radiografias,rasurado,  colocación de son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UACION POR ANEST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VISAR DE SU INGRE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TROMBOEMBOLIS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OLISMO PULMON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NEA SUBITA, TAQUIPNEA,SHOCK,   SINCOPE,HIPOX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KG: INVERSION ONDA T, SEGMENTO S-T ELEVADO, TAQUICAR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 SCAN TORAXICO, ANGIOGRAFIA PULMON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TROMBOEMBOLIS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MBOSIS DE  VENAS PROFUN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CUENTES EN CIRUGIAS TORAXICAS ABDOMINALES, CAD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LAXIS EDAD MAYOR DE 50, OBESIDAD,ENF. MALIGNA, CIRUGIAS LARGAS, ANTEC. DE TROMBO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PARINAS DE BAJO PESO, MEDIAS,   COMPRESIÓN NEUMATICA EXTERN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ACCESOS VENO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CALES (hematomas,extravasaciones, flebitis, celulitis, sepsis,perdida de la fijación a pie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AYORES (embolismo del cateter, rotura del cateter, perforacion cardiaca, neumotorax, hematoma,embolismo aereo,laceración de la pared arterial y venosa, infección, tromb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POST TRANF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ACCIONES HEMOLITICAS (diaforesis, ansiedad, dolor toráxico,ictericia,an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ACCIONES NO HEMOLITICAS (fiebre, escalofrios, prurito,distress respira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RANMISION DE HIV, HEPATITIS,      CITOMEGALOVIRUS, HER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MUNODEPRESIÓN,COAGULOPATIAS, EDEMA PULMONAR,HIPOTER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NGRAMIENTO DIGESTIVO AL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040" y="23623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C. DUODENAL,GASTRICA,GASTRITIS  VARICES ESÓFAGICAS,MALLORY WEIS, REFLUJO GASTROESOFAGICO SEVERO, DESORDENES HEMORRAGICOS,CIRUGIA GASTRICA RECIENTE, HEMOBILIA, FISTULA AORTO ENTERICO,USO HEPARINA - WARFAR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NGRAMIENTO DIGESTIVO BAJ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IODISPLASIA,ENF. DIVERTICULAR  COLONICA,COLITIS ISQUEMICA, CANCER,DISENTERIA,POLIPOS,MECKEL HEMORROIDES, FISURA A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RR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CESO PELVICO,INTERASAS,COLITIS PSEUDOMENBRANOSA, SIND. DE MALA ABSORCIÓN,COLITIS ISQUEMICA, ANTIBIOTICORAPIA,ALIMENTACIÓN  ENTERAL, ENF. INFLAMATORIA DEL COL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IPAC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OPLASIA, ILEO, ADHERENCIAS,        IMPACTACIÓN FECAL, SUBOCLUSIÓN, MEDICAMENTOS ANALGÉSICOS, ANTICOLINERG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A DE CONSTIP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IPACIÓN SICÓG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IFICACION DE HERIDAS QUIRÚRG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LASE 1 LIMPIA 1.5% no hay inflamación, atraumatica,no entrada en viscera. Her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LASE 2 LIMPIA CONTAMINADA 7.5%  entran viscera pero con control. C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LASE 3 CONTAMINADA 15% trauma,  aguda,salida de material. Apendicit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LASE 4 SUCIA 40% perforaciones, abcesos, tejidos desvitalizados. Hartmann´s diverticulit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HERIDA QUIRURG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LOR – ANESTESIA – GRUESA ED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ORRAGIA – HEMATOMA - SERO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ULITIS – ABCESOS - NECRO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CATRIZ HIPERTROFICA-CONTRAIDA-QUELO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NIA POST INCIS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DENES POST OPERA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BICACIÓN DEL PTE EN SALA, SEMI INTENSIVO, INTENSI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EO DEL PA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EO DE TUBOS Y DRENA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DRATACION DEL P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GESIA DEL P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BIOTICOS DEL P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HER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MATOMA – CELULITIS – INFECC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LOR CRONICO. PARESTESIA. LESIONES N.GENITOFEMORAL,ILIOINGU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IONES VASCULARES;FEMORALES, FUNICULARES ART. O VENO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IONES VAS DEFER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QUITIS ISQUÉMICA, ATROFIA TESTICULAR. INF. URINA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S, RECHAZO DE LA MAL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APENDICECTOM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ORRAGIA – HEMATO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ULITIS – ABCESO HERIDA Q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CESOS INTRAABDOMINALES O PELVICOS - SEPTIC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STULA CE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NIA POST INCIS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COLECISTECTOM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ORRAGIA – HEMATOMA - SERO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ULITIS – ABCESO HERIDA Q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STULA BILIAR – BILIOMA – PERITONITIS BILI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TERICIA POR: CALCULO, LESIÓN,PARA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NCREAT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NIAS POST INCIS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MASTECTOM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ORRAGIA – HEMATOMA – SERO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IONES VASCULARES AXILA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IONES DE N.SERRATO MAYOR, N. DORSAL ANCH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FAEDEMA DEL BRAZO. INFEC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CROSIS DE LOS BORDES Q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URA AXILAR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LICACIONES TIROIDECTOM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TRUCCION VIA AREA SUPERIOR   HEMORRAGIA- LESIÓN NERVIO RECURRENTE- EDEMA LARING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I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IÓN N. LARINGEO RECURRENTE Y N. LARINGEO SUPER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POCALCEMIA TRANSITORIA 15% PERMANENTE 2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ORMIDAD COSMETICA DEL CUELLO,PÉRDIDA DEL SENSORIO DEL ÁRE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S LLAMA LA ENF. O FLIA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! LO VEO RARO (A) !!!!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NEA, TAQUIPNEA,CIANO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USO,PALIDO,CEFALEA,VOM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PERTENSO,TAQUICARDICO,FIE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AMBRES,SUDORACION,SE BRO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ORINA, SE LE SALIO EL TU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 TUBO DE LEVIN NO SUCCIO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 HACEMOS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UDIR A LA SALA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CITAR LA INFORMACION DEL P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R A VER AL P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OS VITALES Y OBSERVAC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ENES DE LABORATO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ENES RADIOGRAF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R EL PROBLEMA(dolor,fieb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RATACION DEL PACI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CTATO RINGER 100-120 cc/h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POSICION DE LIQUIDOS POR PERDIDA (sonda nasogastrica,vomitos, diarrea,drenaj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URESIS 30 – 50 cc/h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EGARON LOS LABORATO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HIPONATREMIA (exceso de agu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HIPERNATREMIA (perdida de agu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HIPOKALEMIA (gastrointestinal,desnutricion,diuretic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HIPERKALEMIA (trauma,hemolisis,acidocis,necrosis muscular, hipertemia malig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EGARON LOS GASES ARTERI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CALOSIS RESPIRATOR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IDOSIS RESPIRATOR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CALOSIS METABOL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IDOSIS METABOL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EGARON MAS LABORATO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MINUCION DEL HTO.(buscar caus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UMENTO LEUCOCITOS. (buscar pulmones, abdomen,urinari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UMENTO BILIRRUBINA (buscar arbol biliar,hepatico,hemolisis,hepatit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UMENTO AMILASA (pancreatit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8:25:07Z</dcterms:created>
  <dc:creator>Uso Personal</dc:creator>
  <dc:description/>
  <dc:language>en-US</dc:language>
  <cp:lastModifiedBy>Uso Personal</cp:lastModifiedBy>
  <dcterms:modified xsi:type="dcterms:W3CDTF">2003-03-31T17:43:20Z</dcterms:modified>
  <cp:revision>16</cp:revision>
  <dc:subject/>
  <dc:title>FIEBRES POST OPERATORIAS</dc:title>
</cp:coreProperties>
</file>