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D3F-C4C0-4B6F-B1E5-BE7EE1D4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688-E768-45E8-8C06-859640A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3C4-5119-458C-B5C1-05BA0B79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118-1AAF-45FE-8908-F7D101B8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A24-5048-41D7-A35D-7655920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77C-DA12-4621-8438-FAAB84DE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98C-34EB-47F9-8011-996D311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F42-AFDF-43B0-8BAB-818A7D0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151-09E4-420D-B21E-4223434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5A6-C424-4CC9-AA86-D24FB1C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19-69C8-4D69-947F-7A9DF09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36A-393B-419A-9954-BA8EAC3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E83-ADCD-48B3-A26B-ED80B5952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Book Antiqua"/>
              </a:rPr>
              <a:t>TRASTORNOS MENSTRUAL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: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. ICELA SU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DICO RESIDENTE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NECO-OBSTETRI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RONE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MENORR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CUENCIA REG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IDAD Y DURACIÓN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 &lt;21 D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LIGOMENORR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CUENCIA REG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IDAD Y DURACIÓN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 &gt; 35 D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RONE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RORRAG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GRADO MENSTRUAL ENTRE CICLOS NOR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OMETRORRAG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CUENCIA IR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Y DU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RONE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219560"/>
        </p:xfrm>
        <a:graphic>
          <a:graphicData uri="http://schemas.openxmlformats.org/drawingml/2006/table">
            <a:tbl>
              <a:tblPr/>
              <a:tblGrid>
                <a:gridCol w="1944360"/>
                <a:gridCol w="216000"/>
                <a:gridCol w="453960"/>
                <a:gridCol w="455400"/>
                <a:gridCol w="455400"/>
                <a:gridCol w="531000"/>
                <a:gridCol w="455400"/>
                <a:gridCol w="455400"/>
                <a:gridCol w="455400"/>
                <a:gridCol w="531360"/>
                <a:gridCol w="455400"/>
                <a:gridCol w="455400"/>
                <a:gridCol w="455400"/>
                <a:gridCol w="45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ENORRAG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HIPOMENOR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POLIMENOR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LIGOMENOR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ETRORRAG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ENOMETRORRAG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AN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2819520" y="21337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240"/>
                </a:moveTo>
                <a:cubicBezTo>
                  <a:pt x="48" y="120"/>
                  <a:pt x="96" y="0"/>
                  <a:pt x="144" y="0"/>
                </a:cubicBezTo>
                <a:cubicBezTo>
                  <a:pt x="192" y="0"/>
                  <a:pt x="240" y="120"/>
                  <a:pt x="28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1337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240"/>
                </a:moveTo>
                <a:cubicBezTo>
                  <a:pt x="48" y="120"/>
                  <a:pt x="96" y="0"/>
                  <a:pt x="144" y="0"/>
                </a:cubicBezTo>
                <a:cubicBezTo>
                  <a:pt x="192" y="0"/>
                  <a:pt x="240" y="120"/>
                  <a:pt x="28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1337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240"/>
                </a:moveTo>
                <a:cubicBezTo>
                  <a:pt x="48" y="120"/>
                  <a:pt x="96" y="0"/>
                  <a:pt x="144" y="0"/>
                </a:cubicBezTo>
                <a:cubicBezTo>
                  <a:pt x="192" y="0"/>
                  <a:pt x="240" y="120"/>
                  <a:pt x="28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2590920"/>
            <a:ext cx="914400" cy="45720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72" y="144"/>
                  <a:pt x="144" y="0"/>
                  <a:pt x="240" y="0"/>
                </a:cubicBezTo>
                <a:cubicBezTo>
                  <a:pt x="336" y="0"/>
                  <a:pt x="456" y="144"/>
                  <a:pt x="576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666880"/>
            <a:ext cx="9144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96" y="120"/>
                  <a:pt x="192" y="0"/>
                  <a:pt x="288" y="0"/>
                </a:cubicBezTo>
                <a:cubicBezTo>
                  <a:pt x="384" y="0"/>
                  <a:pt x="528" y="200"/>
                  <a:pt x="576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30600"/>
            <a:ext cx="1447920" cy="317520"/>
          </a:xfrm>
          <a:custGeom>
            <a:avLst/>
            <a:gdLst/>
            <a:ahLst/>
            <a:rect l="l" t="t" r="r" b="b"/>
            <a:pathLst>
              <a:path w="912" h="200">
                <a:moveTo>
                  <a:pt x="0" y="152"/>
                </a:moveTo>
                <a:cubicBezTo>
                  <a:pt x="140" y="76"/>
                  <a:pt x="280" y="0"/>
                  <a:pt x="432" y="8"/>
                </a:cubicBezTo>
                <a:cubicBezTo>
                  <a:pt x="584" y="16"/>
                  <a:pt x="748" y="108"/>
                  <a:pt x="912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352680"/>
            <a:ext cx="30456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352680"/>
            <a:ext cx="304920" cy="152640"/>
          </a:xfrm>
          <a:custGeom>
            <a:avLst/>
            <a:gdLst/>
            <a:ahLst/>
            <a:rect l="l" t="t" r="r" b="b"/>
            <a:pathLst>
              <a:path w="192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48"/>
                  <a:pt x="192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2767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144"/>
                </a:moveTo>
                <a:cubicBezTo>
                  <a:pt x="32" y="72"/>
                  <a:pt x="64" y="0"/>
                  <a:pt x="96" y="0"/>
                </a:cubicBezTo>
                <a:cubicBezTo>
                  <a:pt x="128" y="0"/>
                  <a:pt x="160" y="72"/>
                  <a:pt x="192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73392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28" y="96"/>
                  <a:pt x="56" y="0"/>
                  <a:pt x="96" y="0"/>
                </a:cubicBezTo>
                <a:cubicBezTo>
                  <a:pt x="136" y="0"/>
                  <a:pt x="188" y="96"/>
                  <a:pt x="24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733920"/>
            <a:ext cx="38124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cubicBezTo>
                  <a:pt x="28" y="96"/>
                  <a:pt x="56" y="0"/>
                  <a:pt x="96" y="0"/>
                </a:cubicBezTo>
                <a:cubicBezTo>
                  <a:pt x="136" y="0"/>
                  <a:pt x="188" y="96"/>
                  <a:pt x="24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733920"/>
            <a:ext cx="457200" cy="3045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48" y="96"/>
                  <a:pt x="96" y="0"/>
                  <a:pt x="144" y="0"/>
                </a:cubicBezTo>
                <a:cubicBezTo>
                  <a:pt x="192" y="0"/>
                  <a:pt x="240" y="96"/>
                  <a:pt x="288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3720960"/>
            <a:ext cx="457200" cy="393840"/>
          </a:xfrm>
          <a:custGeom>
            <a:avLst/>
            <a:gdLst/>
            <a:ahLst/>
            <a:rect l="l" t="t" r="r" b="b"/>
            <a:pathLst>
              <a:path w="288" h="248">
                <a:moveTo>
                  <a:pt x="0" y="200"/>
                </a:moveTo>
                <a:cubicBezTo>
                  <a:pt x="48" y="100"/>
                  <a:pt x="96" y="0"/>
                  <a:pt x="144" y="8"/>
                </a:cubicBezTo>
                <a:cubicBezTo>
                  <a:pt x="192" y="16"/>
                  <a:pt x="240" y="132"/>
                  <a:pt x="288" y="2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7339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cubicBezTo>
                  <a:pt x="8" y="96"/>
                  <a:pt x="16" y="0"/>
                  <a:pt x="48" y="0"/>
                </a:cubicBezTo>
                <a:cubicBezTo>
                  <a:pt x="80" y="0"/>
                  <a:pt x="168" y="160"/>
                  <a:pt x="192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4267080"/>
            <a:ext cx="38088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28" y="120"/>
                  <a:pt x="56" y="0"/>
                  <a:pt x="96" y="0"/>
                </a:cubicBezTo>
                <a:cubicBezTo>
                  <a:pt x="136" y="0"/>
                  <a:pt x="216" y="200"/>
                  <a:pt x="240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4267080"/>
            <a:ext cx="381240" cy="38124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28" y="120"/>
                  <a:pt x="56" y="0"/>
                  <a:pt x="96" y="0"/>
                </a:cubicBezTo>
                <a:cubicBezTo>
                  <a:pt x="136" y="0"/>
                  <a:pt x="216" y="200"/>
                  <a:pt x="240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4317840"/>
            <a:ext cx="228600" cy="330480"/>
          </a:xfrm>
          <a:custGeom>
            <a:avLst/>
            <a:gdLst/>
            <a:ahLst/>
            <a:rect l="l" t="t" r="r" b="b"/>
            <a:pathLst>
              <a:path w="144" h="208">
                <a:moveTo>
                  <a:pt x="0" y="208"/>
                </a:moveTo>
                <a:cubicBezTo>
                  <a:pt x="36" y="120"/>
                  <a:pt x="72" y="32"/>
                  <a:pt x="96" y="16"/>
                </a:cubicBezTo>
                <a:cubicBezTo>
                  <a:pt x="120" y="0"/>
                  <a:pt x="132" y="56"/>
                  <a:pt x="144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788000"/>
            <a:ext cx="380880" cy="393480"/>
          </a:xfrm>
          <a:custGeom>
            <a:avLst/>
            <a:gdLst/>
            <a:ahLst/>
            <a:rect l="l" t="t" r="r" b="b"/>
            <a:pathLst>
              <a:path w="240" h="248">
                <a:moveTo>
                  <a:pt x="0" y="200"/>
                </a:moveTo>
                <a:cubicBezTo>
                  <a:pt x="28" y="100"/>
                  <a:pt x="56" y="0"/>
                  <a:pt x="96" y="8"/>
                </a:cubicBezTo>
                <a:cubicBezTo>
                  <a:pt x="136" y="16"/>
                  <a:pt x="188" y="132"/>
                  <a:pt x="240" y="2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50292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28" y="80"/>
                  <a:pt x="144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502920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cubicBezTo>
                  <a:pt x="16" y="48"/>
                  <a:pt x="32" y="0"/>
                  <a:pt x="48" y="0"/>
                </a:cubicBezTo>
                <a:cubicBezTo>
                  <a:pt x="64" y="0"/>
                  <a:pt x="80" y="48"/>
                  <a:pt x="96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80060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28" y="120"/>
                  <a:pt x="56" y="0"/>
                  <a:pt x="96" y="0"/>
                </a:cubicBezTo>
                <a:cubicBezTo>
                  <a:pt x="136" y="0"/>
                  <a:pt x="188" y="120"/>
                  <a:pt x="240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9528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144"/>
                </a:moveTo>
                <a:cubicBezTo>
                  <a:pt x="80" y="72"/>
                  <a:pt x="160" y="0"/>
                  <a:pt x="240" y="0"/>
                </a:cubicBezTo>
                <a:cubicBezTo>
                  <a:pt x="320" y="0"/>
                  <a:pt x="400" y="72"/>
                  <a:pt x="480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480060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40"/>
                </a:moveTo>
                <a:cubicBezTo>
                  <a:pt x="28" y="120"/>
                  <a:pt x="56" y="0"/>
                  <a:pt x="96" y="0"/>
                </a:cubicBezTo>
                <a:cubicBezTo>
                  <a:pt x="136" y="0"/>
                  <a:pt x="188" y="120"/>
                  <a:pt x="240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495288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144"/>
                </a:moveTo>
                <a:cubicBezTo>
                  <a:pt x="48" y="72"/>
                  <a:pt x="96" y="0"/>
                  <a:pt x="144" y="0"/>
                </a:cubicBezTo>
                <a:cubicBezTo>
                  <a:pt x="192" y="0"/>
                  <a:pt x="240" y="72"/>
                  <a:pt x="288" y="1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5321160"/>
            <a:ext cx="914400" cy="393840"/>
          </a:xfrm>
          <a:custGeom>
            <a:avLst/>
            <a:gdLst/>
            <a:ahLst/>
            <a:rect l="l" t="t" r="r" b="b"/>
            <a:pathLst>
              <a:path w="576" h="248">
                <a:moveTo>
                  <a:pt x="0" y="248"/>
                </a:moveTo>
                <a:cubicBezTo>
                  <a:pt x="72" y="132"/>
                  <a:pt x="144" y="16"/>
                  <a:pt x="240" y="8"/>
                </a:cubicBezTo>
                <a:cubicBezTo>
                  <a:pt x="336" y="0"/>
                  <a:pt x="520" y="168"/>
                  <a:pt x="576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334120"/>
            <a:ext cx="1066680" cy="30456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192"/>
                </a:moveTo>
                <a:cubicBezTo>
                  <a:pt x="136" y="96"/>
                  <a:pt x="272" y="0"/>
                  <a:pt x="384" y="0"/>
                </a:cubicBezTo>
                <a:cubicBezTo>
                  <a:pt x="496" y="0"/>
                  <a:pt x="624" y="160"/>
                  <a:pt x="672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245200"/>
            <a:ext cx="457200" cy="469800"/>
          </a:xfrm>
          <a:custGeom>
            <a:avLst/>
            <a:gdLst/>
            <a:ahLst/>
            <a:rect l="l" t="t" r="r" b="b"/>
            <a:pathLst>
              <a:path w="288" h="296">
                <a:moveTo>
                  <a:pt x="0" y="248"/>
                </a:moveTo>
                <a:cubicBezTo>
                  <a:pt x="24" y="124"/>
                  <a:pt x="48" y="0"/>
                  <a:pt x="96" y="8"/>
                </a:cubicBezTo>
                <a:cubicBezTo>
                  <a:pt x="144" y="16"/>
                  <a:pt x="256" y="248"/>
                  <a:pt x="288" y="2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5245200"/>
            <a:ext cx="1905120" cy="469800"/>
          </a:xfrm>
          <a:custGeom>
            <a:avLst/>
            <a:gdLst/>
            <a:ahLst/>
            <a:rect l="l" t="t" r="r" b="b"/>
            <a:pathLst>
              <a:path w="1200" h="296">
                <a:moveTo>
                  <a:pt x="0" y="296"/>
                </a:moveTo>
                <a:cubicBezTo>
                  <a:pt x="244" y="156"/>
                  <a:pt x="488" y="16"/>
                  <a:pt x="672" y="8"/>
                </a:cubicBezTo>
                <a:cubicBezTo>
                  <a:pt x="856" y="0"/>
                  <a:pt x="1016" y="200"/>
                  <a:pt x="1104" y="248"/>
                </a:cubicBezTo>
                <a:cubicBezTo>
                  <a:pt x="1192" y="296"/>
                  <a:pt x="1196" y="296"/>
                  <a:pt x="1200" y="2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AGNÓSTICO DIFEREN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ICACIONES DEL EMBAR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BA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BARAZO ECTÓP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. DEL TROFOBL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CENTA PRE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VICI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METRI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ERACIÓN, ABRA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RPO EXTR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OPLASIAS MALIG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V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MET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Á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OLOGÍA PÉLVICA BEN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ÓLIPO CEV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ÓLIPO ENDOMET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IOMI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ENOMI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AGNÓSTICO DIFEREN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F. SISTÉ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. HEPÁ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. RE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GULOPA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MBOCIT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. DE VON WILLEBR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UC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MENTOS / IATROGÉNIC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RMONAS : 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POTIROD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PERPROLACTIN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. DE CUS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D. DE OVARIO POLIQUI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FUNCIÓN ADRE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R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GRADO UTERINO DISFUNC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JER PREMENOPAÚ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JER PERIMENOPAÚ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JER POSTMENOPAÚ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AR EL ESTADO OVULATO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VULACIÓN ES LA CAUSA MÁS COMÚN DE SANGRADO EN ESTE GRU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CLOS CAMBIAN EN UN PROMEDIO DE 20 ME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HENTA POR CIENTO DE LOS CICLOS MENSTRUALES SON ANOVULATORIOS EN EL PRIMER AÑOS DESPUÉS DE LA MENARQU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VULACIÓN HIPOTALÁ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ÉRDIDA DE P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ÓRDENES EN LOS HÁBITOS ALIMENT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RC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VELES HORM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AC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RAS CAUSAS DE ANOVUL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ÍNDROME DE OVARIO POLIQUÍS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R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STENCIA A LA INSU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VULACIÓN CRÓNICA IDIOPÁ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TRASTORNO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ye uno de los problemas ginecológicos más comu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ocido como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grado uterino disfun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grado uterino a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agia uterina atíp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agia uterina disfuncion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ULATO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OS COMÚ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ORRAGIA : LESIÓN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OLESCENT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. VON WILLEBRAND  2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MENORREA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LUTEA INADECU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FOLICULAR CO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GRADO INTERMENSTRUAL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. CERV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ITIVO INTRAUTER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ERI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CLOS MESTRUALES SE ACOR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VULACIÓN INTERMI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NUCIÓN EN EL NÚMERO DE FOLICULOS OVÁRICOS Y EL NIVEL DE ESTRADI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ERI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GRADO UTERINO PERSIS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PERPLASIA O ADENOCARCINOMA ENDOME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PSIA ENDOME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G TRANSVA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OHISTEROGRAF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EROSCOP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OST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PATOLOGÍA MÁS SERIA EN CUANTO SANGRADO UTERINO ANORMAL ES EL CARCINOMA ENDOME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JER POSTMENOPAUSICA 5 –10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JER POST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C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VIC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GINITIS ATRÓ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ÓLIPOS ENDOME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H**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ÓGE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isodio agudo de hemorragia:  10 mg diarios de estrógenos en cuatro tomas fraccion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24 horas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0 mg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añade progestágeno 10 mg por 7 – 10 días y se susp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ÓGE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er un diagnóstico defi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ACO suele proporcionar el mejor tratamiento a largo plaz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ESTÁGE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RATAMIENTO DE ELECCIÓN PARA LA ANOVUL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S EL TRATAMIENTO DE ELECCIÓN EN LA HEMORRAGIA AGU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AMP A DOSIS DE 10 mg 10 – 14 dí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MIFENO:  50 A 150 mg POR DÍA ENTRE 5º A  9º D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AZO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S 200- 400 mg POR 12 SEMA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NES:   20 – 50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GRADO UTERINO DISFUNC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agia uterina sin causa orgánica demostrable (genital o extragenit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ele guardar relación con patologías de origen endocri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óstico de exclus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RÚRG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LATACIÓN Y LEGRADO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JERES &gt;35 AÑOS CON HEMORRAGIAS ATÍPICAS O PERSIST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ORRAGIAS ES GRAV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 UNA TÉCNICA A CIEGAS Y NO SIEMPRE DETECTA LESIONES F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A POR ALTO  DEL 10 – 25 %  DE LESIONES PATOLÓ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TA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RÚR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LACIÓN ENDOMETR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LDRATH EN 19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MENORRAGIAS SIN LESIONES UTERINAS QUE NO RESPONDEN A TRATAMIENTO MÉD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NORRAGIAS GRAVES QUE PRESENTAN CONTRAINDICACIONES MÉDICAS A LA HISTERECTOM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NGRADO QUE NO DESEAN TOMAR FÁRMA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 DEBE USAR EN LAS QUE DESEAN CAPACIDAD REPRODUCT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ERECTOM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ENOPAÚS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160020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ISTORIA Y EXAMEN FÍS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286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C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ESIÓN GEN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ÚTERO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276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G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OS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048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IOPSIA , T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2971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ESC. EMBARAZO, US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EV. EMBAR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0384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TATUS OVULATO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181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OVU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1814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NOVU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76160" y="1981080"/>
            <a:ext cx="10666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19051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61760" y="27432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7432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657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65760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572000"/>
            <a:ext cx="1523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914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OVU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371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DOLESC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T. TSH Y PROLAC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2286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RANQUILIZAR  A LA PTE.   O   A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2666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76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0481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ESORDEN HIPOTALÁMICO (ESTRÉS, EJERCICI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3434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ÍND. DE OVARIO POLIQUÍSTICO O ANOVULACIÓN CRÓNICA ((EX.  LH, FSH, DEHE-AS, TESTOSTERON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1814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IND. DE OVARIO POLIQUÍS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43434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X CON ACO O CLOMIF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52578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OVULACIÓN CRÓ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60199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CO, PROGESTERONA, CLOMIF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85840" y="16765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676520"/>
            <a:ext cx="1447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828800" y="243828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24382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7617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895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03848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80720" y="502920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50292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440" y="57913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23520" y="365760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58128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VU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T. PATRÓN DE SAN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1337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ENORRA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1337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OLIMENOR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21337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LIGOMENORR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9810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ANGRADO INTERMENSTR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8195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EV. DESORDEN SAN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4114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IOPSIA  O US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2743200"/>
            <a:ext cx="160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SIDERAR EVALUACIÓN POR DEFECTO DE FASE LÚT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4267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CO O CLOMIF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266688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TIRAR PROGESTERONAACO,  CLOMIFE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2819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I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TOLOGÍA CERV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434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MOVER Y OBSER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5029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029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T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5486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ANGRADO OV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6019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60879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6521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BSERV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05120" y="1905120"/>
            <a:ext cx="914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657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391160" y="31240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312408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10480" y="3962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85764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81480" y="47242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7242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647960" y="54100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819160" y="60958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601992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3341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I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13716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STORIA  Y EXAMEN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C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SIÓN TRACTO GEN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1828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ÚTERO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G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50532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IOPSIA ENDOME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4956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RMAL O ATRÓF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100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GULACIÓN HORMONAL   U OBSERV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648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PERPL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54864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GESTERONA, SI PERSISTE DY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4572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TIPIA O CARCINO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4864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FERIR A LA P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3733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X NO ES PO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4956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G TV, SONOHISTEROGRAFIA, HISTEROSCOPIA  , DY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2514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OS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3048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EV. EMBAR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X O RE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22860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G TV  O  HISTEROS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819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ES CLA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2895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3429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STEROSCOP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05920" y="35053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1676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828800" y="160020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1600200"/>
            <a:ext cx="7617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91404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133720"/>
            <a:ext cx="3808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2895480"/>
            <a:ext cx="759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09120" y="41911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1911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4038480"/>
            <a:ext cx="21333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5029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5181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886200"/>
            <a:ext cx="1828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495680" y="21337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74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314840" y="2666880"/>
            <a:ext cx="2286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5920" y="2666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200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TMENOPAÚS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1066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ISTORIA Y EX.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6765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RMAL , SI TR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16765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SIÓN GEN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1676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ÚTERO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362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R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&gt; 6 ME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3276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URACIÓN &lt; 6 ME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X, B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2286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G TV, HISTEROSO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3886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BSERV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886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X ENDOMETRIAL O USG T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4648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X ENDOME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4495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G T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5181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715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ETUV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7696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USG TV, HISTEROSONO,HISTEROSCOP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6172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BS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5105520"/>
            <a:ext cx="1905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ENDOMET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&lt;5m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5105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&gt;5 m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67480" y="49528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ATOLOGÍA UTER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X, HISTEROSCOP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437920" y="13716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44792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1295280"/>
            <a:ext cx="8384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1981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90720" y="20574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19810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743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2743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276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514240" y="37339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30481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49528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495288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61760" y="556272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057400" y="601992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59436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4191120"/>
            <a:ext cx="358164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943240" y="4876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472428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ICARSE EN EL  GRUPO E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HEMORRAGIA AGUDA SE TRATA MEJOR CON ESTRÓGE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LEGRADO UTERINO ESTÁ INDICADO EN MUJERES &gt;35 A LOS QUE SUFREN HEMORRAGÍAS ATÍPICAS PERSISTENTE, O CUANDO LA HEMORRAGIA ES GRA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TRATAMIENTO A LARGO PLAZO SE DEBE INDIVIDUALIZ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ICLO MESTR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ANGRADO UTERINO DISFUNCIONAL</a:t>
            </a:r>
            <a:br>
              <a:rPr sz="36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USAS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mente relacionado a una de las tres condiciones de desequilibrio horm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o de estróge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grado por deprivación de estróge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o de proge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GRADO UTERINO DISFUNC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a Y Examen fís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ención de Urg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nes Menstr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Sex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uma y Síntomas de Infe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GRADO UTERINO DISFUNC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en Pélv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ebas de labora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ueba de embar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metría he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ivos cervi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artar Enfermedad Sisté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RONE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RM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CUENCIA REG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TIDAD: 35 ml – 60 ml  - 8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ACIÓ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4 DÍAS  ( &gt;7 DÍ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CLO 21 – 35 DÍAS ( 28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 DÍ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RONES MENSTRU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ORRAGIA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CUENCIA 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Y DU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CLO 21 – 3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POMENOR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CUENCIA 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Y DU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CLO 21 – 3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23:59:16Z</dcterms:created>
  <dc:creator>Fabio Herrera</dc:creator>
  <dc:description/>
  <dc:language>en-US</dc:language>
  <cp:lastModifiedBy>Isela</cp:lastModifiedBy>
  <dcterms:modified xsi:type="dcterms:W3CDTF">2003-03-30T14:34:19Z</dcterms:modified>
  <cp:revision>66</cp:revision>
  <dc:subject/>
  <dc:title>TRASTORNOS MENSTRUALES</dc:title>
</cp:coreProperties>
</file>