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94F-D975-486F-92C1-B1C5FF67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23D-A403-4DE6-A8D9-A11A2061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CA3-EEEF-4275-970D-FC838152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9F0-1E52-4826-85F8-01674952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82C5-5A86-49CC-9E29-6ED8EB31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955D-EBAE-4E1F-9996-C92C98D3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7B49-5054-4B06-9544-38700E98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F82A-3C59-44EC-A466-B3EC8509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3C1A-72CE-4B3E-8D75-B317ACB9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872D-2662-45C3-A6BD-E359B854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7C84-0A90-4485-BD32-07B44DD2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F08-17C1-4A65-828F-3FBDB6E8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1B8E-9CCC-4821-A6BC-8FAD9F58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ECA3-8D46-481B-8AE8-C76DF25B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AB17-9FD6-4145-93DE-57497801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AD49-13E7-468C-AB41-DC334839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643B-A24C-411B-A541-0F508DBF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0E4-CBB6-4606-861A-042599E8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BA0-4058-4AFE-8ADD-72B1FF68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763-8E1E-4EAF-97B8-0BCF3E84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9FE-DB4E-42C7-8CE6-CDC8AB58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E0E-4BBE-4E1D-9B59-390A20D4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795-72F8-4639-A718-A1930557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2FD-F2A0-4EF3-964C-C8BEC2D5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66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EE2C-F4AA-439A-A4A4-DF6E711CC96D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66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6FF2-A161-415A-AAE6-58FB8BABCCAE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66"/>
                </a:solidFill>
                <a:latin typeface="Tahoma"/>
              </a:rPr>
              <a:t>Complicaciones Postgastrectomías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723920" y="419076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ra. Yaira López 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.R. Cirugía Gene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yo 200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empranas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ancreatit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t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NG a SI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posición de líquidos I.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tibioticoterap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renaje de abscesos o colec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empranas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Ictericia postoperatori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imeros días postquirúrg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dema que ocluye conducto bili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ras caus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emóli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ncreatit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xicidad por anestésic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lla hepát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ardías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índromes postgastrectomía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fini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rupo de signos y síntomas que aparecen secundarios  a cirugía gástrica, causados principalmente por cambios en la función motora estomacal y del intestino delgado superior.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Patogénesis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9928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lteración de la motilidad gástrica causada por la cirugí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ciamiento Gástrico nor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ones motor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servo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ánica digesti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nspor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Patogénesis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ciamiento Gástrico nor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gastro1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027840" cy="41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Patogénesis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8483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lteraciones postquirúrgic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gotomía proxim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sminuye capacidad dereservo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gotomía o gastrectomía dist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sminuye función mecánica digesti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irugía pilór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flujo intesti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Patogénesis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lteraciones postquirúrgic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cosa gástr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lteración secre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zimática y de ác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rm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ctor intrínsec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Evaluación del Paciente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2286000"/>
            <a:ext cx="716292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namn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rago de ba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doscop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adionucleótidos para vaciamiento gástr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entellografía biliar cuantitati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80773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s postgastrectomía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ump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emanente gástrico pequeñ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iarrea postvagotom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tonía gást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índrome de Roux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Reflujo alcali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sa afer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sa eferent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 de Dumping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lta incidenci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Ingesta hiperosmolar e hidratos de carbon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pleción intravascul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ción de serotonina, quinina, neurotensina, péptido intestinal vasoacti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íntomas gastrointestinales (náuseas, vómitos, dolor abdominal y diarre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íntomas vasomotores (debilidad, mareos, palpitaciones, diaforesis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Compl. Postgastrectomías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57517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Tempran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emorrag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hiscencia de sutu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bscesos intraabdomin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ncreatit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ctericia postoperator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Tardí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índromes postgastrectomí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Úlcera recurr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 de Dumping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Tempran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10-30 m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íntomas gastrointesatinales y vasomot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Tardí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-4 h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íntomas vasomo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iberación excesiva de enteroglucag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 de Dumping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Factores quirúrgicos condicionant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érdida de capacidad de reservorio gástrico proximal. (vagotomí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sminución de la capacidad gástrica por res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lteración del control de vaciamiento con la anastomosis o resección del pílo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érdida de la regulación del vaciamiento gástrico por el duodeno en anastomosis duodenales o gastroyeyu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 de remanente gástrico pequeño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ffff"/>
                </a:solidFill>
                <a:latin typeface="Tahoma"/>
              </a:rPr>
              <a:t>Generalida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Sínd. Saciedad tempr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Mayormente en resecciones de 80% o más de estómag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Síntomas leves(usual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Saciedad tempr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Dolor epigástrico después de com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Vómi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 de remanente gástrico pequeño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240" y="2438280"/>
            <a:ext cx="6629400" cy="30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ffff"/>
                </a:solidFill>
                <a:latin typeface="Tahoma"/>
              </a:rPr>
              <a:t>Genera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Síntomas oca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Pérdida severa de pe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Desnutri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Anemia (deficit de folatos, Vit. B12 o Hierr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 de remanente gástrico pequeño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24379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ffff"/>
                </a:solidFill>
                <a:latin typeface="Tahoma"/>
              </a:rPr>
              <a:t>Patofisiologí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Pérdida de la capacidad de reservorio estomacal.                                 Factores quirúrgicos causan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Pérdida de la relajación y acomodación receptiva secundaria a vagotomí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Disminución de capacidad por res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iarrea postvagotomía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47560" y="2362320"/>
            <a:ext cx="636084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Generalidad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cidencia al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0% vagotomía troncul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6% vagotomía selecti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4% piloroplastía y vagotomía proxim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iarrea postvagotomía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8204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atofisiologí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 cl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gotomía tot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lteración de función biliar y pancreát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cremento en la excreción fecal de sales y ácidos bili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iarrea postvagotomía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09680" y="2590560"/>
            <a:ext cx="407520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Diagnóstic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línic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00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arrea por dí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Atonía gástrica crónica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General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cidenc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0.7 a 3% en pacientes con vagotomía proxim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ínto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lenura epigástrica y dol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áuseas y vómitos de comida digeri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ctores predisponent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d. Pilórico, D.M., Hipotiroidismo, enfermedades neurológicas autonóm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Atonía gástrica crónica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2514240"/>
            <a:ext cx="61326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atofisilogí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érdida del tono gástrico por alteración en la inerv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usencia de contracciones peristálticas del antr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empranas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emorragi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ragást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tralumi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bilizar a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cartar sangrado de anastomo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siderar reinterven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Atonía gástrica crónica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556236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iagnóst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usa mecánica o func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x con contras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doscopia: ausencia de obstru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ntelleo. Retardo de vaciami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 de Roux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enera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troyeyunoanastomosis en Y de Roux, mayor riesgo de retardo en vaciamiento gástr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eval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0-50% en pacientes de ries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íntom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lenura, dolor abdominal, náuseas y vómitos alimentar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ezoa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 de Roux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2057040"/>
            <a:ext cx="6705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atofisiologí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lteración del tono gástrico secundario a vagotomía, con posterior paresia y disminución del vaci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errupción de contracciones mecánicas del yeyu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 de Roux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6132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iagnóst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cartar obstrucción mecá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rago de b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doscop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ntelleo (método de elección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79292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Gastritis de reflujo alcalino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28488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Generalidad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5-15% de pacientes con cirugías gástr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illroth II alta incid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ínto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olor epigástrico ardoro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áuse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ómitos bilios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Gastritis de reflujo alcalino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742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atofisiologí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sección, anastomosis o reconstrucción piló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flujo intest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ucosa gástrica en contacto con flujo bili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Gastritis de reflujo alcalino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947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iagnóstic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doscopi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opsia de mucosa y revisión de anastomo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entelle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scartar retardo de vaciami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 de asa aferente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2640" y="201744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General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bstrucción del asa afer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gu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 o 2 semana post o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usas: Intusucepción, herniación o volvulus del asa afer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íntomas: dolor abdominal, náuseas o vómitos bilios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licaciones: dehiscencia o necrosis de muñon duode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 de asa aferente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04760" y="2017440"/>
            <a:ext cx="60958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Generalidad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bstrucción del asa afer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rón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rucción parcial del as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íntomas: dolor, náuseas y vómi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eatorrea, deficiencia de hierro y vit. B1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usas: adherencias, estrecheces, intusucepción, carcino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 de asa eferente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General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bstrucción mecánica parcial o comple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ses o años después de cirug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ínto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olor abdominal difu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aús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ómitos bilios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empranas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hiscencia de línea de sutur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terioro del estado gene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p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uñon difíci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ipoalbuminem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ermedades concomita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ncreatit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bstru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Síndrome de asa eferente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57040" y="2361960"/>
            <a:ext cx="514188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iagnóstic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adiográf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ciamiento gátrico lento o aus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ratamiento Sínd. Postg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981080"/>
          <a:ext cx="9144000" cy="4876920"/>
        </p:xfrm>
        <a:graphic>
          <a:graphicData uri="http://schemas.openxmlformats.org/drawingml/2006/table">
            <a:tbl>
              <a:tblPr/>
              <a:tblGrid>
                <a:gridCol w="3048120"/>
                <a:gridCol w="2438280"/>
                <a:gridCol w="365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índrome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t. Méd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t. Qx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umping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et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 de Roux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m. Gast. Peq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et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unt-Lawrence Pou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arrea post vag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et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gm. antiperistált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onia Gástric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cinétic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rect.  Y de Rou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ux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ngun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rect.  Y de Rou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fl. Alcalin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lestiram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 de Roux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a aferent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ngun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 de Roux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a eferent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inguno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sis de adherencia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ardías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Úlcera recurrent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lla en la disminución de secreción de áci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ás frecuente en cirugás de úlcera duode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ayor riesgo en cirugías sin resección gást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ardías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Úlcera recurrent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gotomía incomple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trino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sección inadecu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sa aferente larg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ardías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598032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Úlcera recurrent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agnóst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doscop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calización en anastomos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ardías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598032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Úlcera recurrent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tamien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loqueadores H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omba de prot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irúrg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66"/>
                </a:solidFill>
                <a:latin typeface="Tahoma"/>
              </a:rPr>
              <a:t>Por su atención, gracias...</a:t>
            </a:r>
            <a:endParaRPr b="0" lang="en-US" sz="5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empranas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hiscencia de línea de sutur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agnós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empranas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bscesos intrabdominal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recuentes en pacientes con ¨Ca¨ u obstrucción gást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eneralmente debido a ¨leaks¨de la anastomo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ínic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terioro del estado gene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ieb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eucocitos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olor abdo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empranas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bscesos intrabdominale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agnóst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tami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renaje percutáne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PE más lavado de cav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empranas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ancreatiti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co frecu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orbi-mortalidad elev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eneralmente secundario a manipulación transoperat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esión de conducto pancreático con salida a cav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Tempranas</a:t>
            </a:r>
            <a:r>
              <a:rPr b="0" lang="es-ES" sz="44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ancreatiti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lí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olor abdomi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eb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eucocito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21:22:52Z</dcterms:created>
  <dc:creator>YAIRA LOPEZ</dc:creator>
  <dc:description/>
  <dc:language>en-US</dc:language>
  <cp:lastModifiedBy>YAIRA LOPEZ</cp:lastModifiedBy>
  <dcterms:modified xsi:type="dcterms:W3CDTF">2003-05-05T11:09:35Z</dcterms:modified>
  <cp:revision>43</cp:revision>
  <dc:subject/>
  <dc:title>Síndromes Postgastrectomías.</dc:title>
</cp:coreProperties>
</file>