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5D7-80AA-41B9-A744-FA9AD3E4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953-BA03-49A1-9B50-331C8A1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D85-8501-42C2-9B38-D4FB4D5A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9E3-F409-4833-85FC-3A6FB320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1FC7-1BDA-48F8-B1B9-A5CCB57F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E178-A62B-4A66-BAA7-F5E4AFFC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FEB-0D06-4160-94AD-F3F1D423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E737-DD11-44B1-A247-53CD4D72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88B5-CFFC-40A4-963B-E28A75FE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4CA9-1D7B-466F-A2DB-056A606C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2A7C-1463-4F61-9913-BBBFABC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A7F-56CB-4300-8FC1-003FCEB5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B5BB-2A10-4A6E-871F-BEAD762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82F2-C16B-4536-8C68-BC532D37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C429-EA3E-42A2-AA7D-0258C588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6F3E-4A9C-4336-8638-6CB1F7A2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0B1F-911E-46BA-BDB0-BE2E07F0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081-83DA-4A21-A6AC-BB66A56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3F1-A60E-481E-89EF-98B92DB2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0BD-AB5D-47D3-937C-45D4462D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E23-75A4-476C-B72C-8AE679C8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EA5-A0A5-41D0-9E7F-EDCC541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3E2-1FA4-4E7A-BA76-2E92F75C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489-D379-47F4-834E-1D4E6A0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22EC-CEBF-4F8A-9DB0-5311D7BFD5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E5F8-ACE1-4E20-A715-E5CC24C9BB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SARCOMAS DE TEJIDOS BLAN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Dr. NICOLAS SAVAL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CIRUGIA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PRESENTACIÓN CLI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 mayoria se presentan como una masa asintomática (casu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Por lo general hay un traumatismo asociado en el área afect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Muy pocos pacientes refieren d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En el caso de tumores grandes o de larga data debe realizarse una biops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Algunos tumores pueden llegar a medir hasta 15 cm produciendo síntomas  de peso en bajo vientre u obstrucción gastrointest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BIOPS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 biopsia con aguja ha demostrado ser una herramienta confiable en el diagnóstico sin embargo a veces es necesario obtener muestras más ampl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 biopsia excisional esta indicada para lesiones menores de 3 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Para los tumores de más de 3 cm esta indicada la biopsia incis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BIOPS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 biopsia incisional debe orientarse de tal modo que la excisión local amplia que se realizará posteriormente pueda abarcar el sitio de la biops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Esta orientación debe hacerse a lo largo del eje de la extrem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Es importante la hemostasia adecuada ya que la sangre extravasada permite la diseminación de células malign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000" spc="-1" strike="noStrike">
                <a:solidFill>
                  <a:srgbClr val="333399"/>
                </a:solidFill>
                <a:latin typeface="Tahoma"/>
              </a:rPr>
              <a:t>EXTENSIÓN DE LA ENFERMEDA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Después de hacer el diagnóstico, es necesario evaluar la extensión de la enfermedad ya sea local o a dista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Tanto la resonancia magnética como la tomografía, nos permiten planificar la resección quirúr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La localización más común a distancia es el pu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TRATAMIENTO QUIRÚRG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os sarcomas deben resecarse con su pseudocápsula lo cual reduce la tasa de recidiva en un 2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 linfadenectomía pocas veces está indicada excepto en los pacientes con sarcoma epiteli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os tumores pequeños de menos de 5cm y bajo grado pueden ser tratados con una excisión local amplia y margenes de 2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RADIOTERAP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Ha demostrado ser eficaz en el tratamiento de las lesiones de mayor tamaño y alto gr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Reduce la tasa de recidiva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Con la radioterapia más cirugía hay una sobrevida igual a la que se observa en pacientes ampu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 braquiterapia proporciona resultados similares a la radioterapia exte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BRAQUITERAP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Consiste en la colocación de catéteres en el lecho del tumor rese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Se colocan después semillas radioactivas a través de los catéteres al quinto día postopera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Se requieren únicamente de 5 a 6 dias de tra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Es la técnica de elección para los sarcomas localizados cerca de las articulaciones y las gón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000" spc="-1" strike="noStrike">
                <a:solidFill>
                  <a:srgbClr val="333399"/>
                </a:solidFill>
                <a:latin typeface="Tahoma"/>
              </a:rPr>
              <a:t>TRATAMIENTO DE LA ENFERMEDAD A DISTANC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s metástasis a distancia son la causa más frecuente de mue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 mayoria se observan dentro de los dos primeros años una vez concluido el tra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 incidencia de metástasis es de un 40% para los pacientes con sarcoma de alto grado y de 5% para los de bajo gr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a incidencia de metástasis aumenta en proporción directa al tamaño del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SOBREVI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Estadio I-90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Estadio II-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Estadio III-56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TIPOS HISTOLÓ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6553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Sarcoma alveo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Sarcoma epitelio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Sarcoma de células cla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Condrosarco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Sarcoma de E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Fibrosarco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Leiomiosarco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Liposarco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Histiocitoma fibroso malig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Hemangiopericitoma malig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Rabdomiosarco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ahoma"/>
              </a:rPr>
              <a:t>Sarcoma sinov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EPIDEMI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Es una neoplasia maligna rara que representa sólo el 1% de todos los cánceres en el adu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Es más frecuente en niños-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Su localización es variable y puede presentarse en extremidades, cabeza,cuello, retroperitoneo y pared abdom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El 50% se localiza en las extremidades, siendo más frecuentes en los miembros inferiores, específicamente a nivel de los musl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La incidencia es igual en hombres y muje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GUIMIENTO POST OPERA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6 MESES. LABORATORIOS EN GENER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XAMEN FISICO DEL PA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DIOGRAFIAS DEL TORAX - CAT ABDOMINOPELVICO - RESONANCIA MAGNET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TROL LOCAL DEL TUMOR POR EL ALTO PORCENTAJE DE RECID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FACTORES DE RIESG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1. Factores medioambien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Arsénico y Vinilo (angiosarcoma hepát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Herbicidas (dioxina) y Asbe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2. Rad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Histiocitoma fibrosos malig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3. Linfedema crón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Linfangiosarco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000" spc="-1" strike="noStrike">
                <a:solidFill>
                  <a:srgbClr val="333399"/>
                </a:solidFill>
                <a:latin typeface="Tahoma"/>
              </a:rPr>
              <a:t>FACTORES DE RIESG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Predisposición ge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Pacientes con Sind. Gardner (poliposis famili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Enf.de Von Recklinghausen (neurofibrosarcom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Pacientes con retinoblastomas hereditari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Cambios en los oncoge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Pacientes con mutaciones en el gen P53 supresor de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ANATOMÍA PATOLÓG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Sarcoma proviene del griego y significa “carne de pez” debido a la consistencia de  estos tum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Los sarcomas se derivan de las células mesodérmicas que se encuentran por todo el cuerpo (pleura, pericardio, músculo, hueso, cartílago y tejido sinov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El histiocitoma fibroso maligno es el tipo histológico más frecuente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15% se observan en el retroperito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000" spc="-1" strike="noStrike">
                <a:solidFill>
                  <a:srgbClr val="333399"/>
                </a:solidFill>
                <a:latin typeface="Tahoma"/>
              </a:rPr>
              <a:t>CRITERIOS PARA EL GRADO HISTOLÓGIC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Diferenciación celular      ALTO - BA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Celula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Cantidad de estro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Vascul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Grado de necro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ahoma"/>
              </a:rPr>
              <a:t>Mitosis por campo de alta resolu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TIPOS HISTOLÓ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-Histiocitoma fibroso maligno    </a:t>
            </a: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 2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-Neurofibrosarcoma                   2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-Fibrosarcoma                          </a:t>
            </a: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 14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-Liposarcoma                              8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-Sarcoma sinovial                        6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-Rabdomiosarcoma                      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-Sarcoma epitelioide                    2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Tahoma"/>
              </a:rPr>
              <a:t>-Angiosarcoma                            1%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ESTAD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-GRADO HISTOLOG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G1 – Bien diferenci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G2  - Moderadamente diferenci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G3 -  Mal diferenci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G4 -  Indiferenci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-TAMAÑO DEL TUM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Tx – no evalu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T0 – no hay evidencia de tumor prim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T1 – 5cm o me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T2 – mayor de 5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333399"/>
                </a:solidFill>
                <a:latin typeface="Tahoma"/>
              </a:rPr>
              <a:t>ESTAD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GANGLIOS LINFÁTICOS REG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Nx – no evalu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N0 – no hay metástasis a gangl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N1 – Metástasis a ganglios reg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METÁSTASIS A DISTA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Mx – no evalu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M0 – no hay metátasis a dist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PA" sz="2400" spc="-1" strike="noStrike">
                <a:solidFill>
                  <a:srgbClr val="000000"/>
                </a:solidFill>
                <a:latin typeface="Tahoma"/>
              </a:rPr>
              <a:t>M1 – metástasis a distancia (pulmón, hueso, higad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22:32:38Z</dcterms:created>
  <dc:creator>Rexxie Valle</dc:creator>
  <dc:description/>
  <dc:language>en-US</dc:language>
  <cp:lastModifiedBy>CLINICA</cp:lastModifiedBy>
  <dcterms:modified xsi:type="dcterms:W3CDTF">2003-05-20T13:35:21Z</dcterms:modified>
  <cp:revision>10</cp:revision>
  <dc:subject/>
  <dc:title>SARCOMAS DE TEJIDOS BLANDOS</dc:title>
</cp:coreProperties>
</file>