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9CC-975F-4122-AE5D-6BDFC741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8A1-C2A8-41A0-98BD-1FED7A42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36C-DF65-4EA3-B1CA-A4B9DB9E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0FC-CAF5-4D9C-94D5-E9CEC7A1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B41B-8E70-4045-A7E3-517F49AD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ED62-5230-40CA-BBC5-4635A8D1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113F-960B-48F3-A631-DD3F75EA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3E72-5474-4253-B5EE-AF25E9FF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1AC9-EE5A-432D-98D3-BE15B956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93F9-08D6-4D89-A72E-DD081EA1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5FE2-A80C-43A7-8D41-0AFD065C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B5E-D5E4-487B-9E10-A668B3CF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4477-FBFB-4E70-812D-D501B353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C262-AE5C-48DA-98CB-92D6CD75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841E-1470-4F82-B4DA-A5895D4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1C1-F265-4800-B68D-1B69E9B8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6EB8-03E2-47EF-9DB3-727CE13E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9FB-BB89-4B39-8944-5B5BD8DC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D7A-EB84-4BDB-84A5-BB408DE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AE3-1F79-4C6F-AB58-490DDD6F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D62-80D7-408B-9EDA-8C030B0D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EA1-4428-436D-B2F8-B34B554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C1A-881B-4474-AF50-750CD92E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87A-0AAD-451D-A0BC-557D8EF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4DB7-7BEE-4D00-B4DA-9AB7BE8A379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B249-C612-4A76-BE3E-83ECD6A0EFC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666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Infecciones Congénit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ra. Elizabeth Casta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diatra Infectólo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fecciones Congénitas: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allazgos Específicos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320" y="18284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ubeól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taratas, defectos cardíacos (DAP), “blueberry muffin” manc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MV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drocefalia, calcificaciones periventri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voviru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uter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hydrops fetalis(anem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aricel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ormalidades de las extremidades, lesiones cicatriz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fecciones congénitas/ perinatal: Diagnóst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31760" y="2209680"/>
            <a:ext cx="708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99"/>
              </a:spcBef>
              <a:spcAft>
                <a:spcPts val="15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lectiv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so de determinación de anticuerpos (IgG/Ig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spcAft>
                <a:spcPts val="15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U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 cultivos ó PC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spcAft>
                <a:spcPts val="15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oc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quien se le realiza la prueba de escrutini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re vs. Neonato vs. Amb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320" y="509040"/>
            <a:ext cx="9067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FECCIONES CONGENITAS: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EVALUACION MATERN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73120" y="2285640"/>
            <a:ext cx="6197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PR / FTA-ABS (prozo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G Rubeóla (screen/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H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G Toxoplasm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6771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fecciones Congénitas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:</a:t>
            </a:r>
            <a:br>
              <a:rPr sz="44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aluación Matern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42720" y="2568240"/>
            <a:ext cx="84582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re: Panel de toxoplasm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G (Sabin-Feldman Dye Te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M ELISA; IgA-ELISA; 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/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 Aglutin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-360" y="143280"/>
            <a:ext cx="8991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fecciones Congénitas: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aluación Neonatal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cuer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spcAft>
                <a:spcPts val="349"/>
              </a:spcAft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M Rubeó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spcAft>
                <a:spcPts val="349"/>
              </a:spcAft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nel de Toxoplasm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349"/>
              </a:spcAft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G (Sabin-Feldman Dye Te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349"/>
              </a:spcAft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gM-ISAG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IgA ELISA; 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fección Congénita: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aluación neonatal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90000"/>
              </a:lnSpc>
              <a:spcBef>
                <a:spcPts val="850"/>
              </a:spcBef>
              <a:spcAft>
                <a:spcPts val="638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islamiento Viral 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20880" indent="-357480">
              <a:lnSpc>
                <a:spcPct val="90000"/>
              </a:lnSpc>
              <a:spcBef>
                <a:spcPts val="561"/>
              </a:spcBef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MV (orina/garganta) Enterovirus, HS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701"/>
              </a:spcBef>
              <a:spcAft>
                <a:spcPts val="638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C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20880" indent="-357480">
              <a:lnSpc>
                <a:spcPct val="90000"/>
              </a:lnSpc>
              <a:spcBef>
                <a:spcPts val="56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V (sangre); HSV (LCR); Parvovirus (sangre); Enterovirus (suero, LCR); HHV-6 (suer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50960" y="585000"/>
            <a:ext cx="7642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fecciones Congénitas: Evaluación Neonatal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ucocitos, plaque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ión hep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en Oftál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G Cerebral / C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ciales Evocados Audi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ífilis Congénit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ransmisión usualmente  &gt; 16 sem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frecuente si la madre presenta sífilis primaria, secundaria o latente temp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0% de la Sífilis primaria es asinto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dquisición el en 1er trimestre y  no tratamiento materno: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40%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letalitad fetal o perina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ífilis Congénita tempran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epatoesplenomeg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rupción cutá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diloma l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initis persist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ctericia (hepat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seudoparálisis (osteocondr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índrome nefróti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idrops Fet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48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ífilis Congénita Tardí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ntale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Dientes de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Hutchinson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ncisivos centrales), molares de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ons ó Fourn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Oj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Queratitis intersticial, corioretinitis, glaucoma secund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Oíd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Sordera (8º p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Nariz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silla de mon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iel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Ragadí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SNC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Hidrocefalia, neurosífi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Hues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Articulación de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lutto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(sinovitis con hidroartrosis), Signo de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Higoumenakis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Deformidad de la sección esternoclavicular de la clavícula), tibia en s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60960" y="87480"/>
            <a:ext cx="2648160" cy="6367320"/>
          </a:xfrm>
          <a:custGeom>
            <a:avLst/>
            <a:gdLst/>
            <a:ahLst/>
            <a:rect l="l" t="t" r="r" b="b"/>
            <a:pathLst>
              <a:path w="5120" h="12038">
                <a:moveTo>
                  <a:pt x="489" y="8586"/>
                </a:moveTo>
                <a:lnTo>
                  <a:pt x="333" y="7946"/>
                </a:lnTo>
                <a:lnTo>
                  <a:pt x="405" y="7489"/>
                </a:lnTo>
                <a:lnTo>
                  <a:pt x="356" y="7356"/>
                </a:lnTo>
                <a:lnTo>
                  <a:pt x="356" y="6658"/>
                </a:lnTo>
                <a:lnTo>
                  <a:pt x="501" y="6163"/>
                </a:lnTo>
                <a:lnTo>
                  <a:pt x="429" y="5946"/>
                </a:lnTo>
                <a:lnTo>
                  <a:pt x="478" y="5730"/>
                </a:lnTo>
                <a:lnTo>
                  <a:pt x="369" y="5441"/>
                </a:lnTo>
                <a:lnTo>
                  <a:pt x="344" y="4779"/>
                </a:lnTo>
                <a:lnTo>
                  <a:pt x="163" y="4706"/>
                </a:lnTo>
                <a:lnTo>
                  <a:pt x="18" y="4538"/>
                </a:lnTo>
                <a:lnTo>
                  <a:pt x="6" y="4441"/>
                </a:lnTo>
                <a:lnTo>
                  <a:pt x="91" y="4284"/>
                </a:lnTo>
                <a:lnTo>
                  <a:pt x="102" y="4200"/>
                </a:lnTo>
                <a:lnTo>
                  <a:pt x="115" y="4162"/>
                </a:lnTo>
                <a:lnTo>
                  <a:pt x="266" y="3960"/>
                </a:lnTo>
                <a:lnTo>
                  <a:pt x="366" y="3860"/>
                </a:lnTo>
                <a:lnTo>
                  <a:pt x="278" y="2915"/>
                </a:lnTo>
                <a:lnTo>
                  <a:pt x="228" y="2539"/>
                </a:lnTo>
                <a:lnTo>
                  <a:pt x="266" y="2025"/>
                </a:lnTo>
                <a:lnTo>
                  <a:pt x="254" y="1811"/>
                </a:lnTo>
                <a:lnTo>
                  <a:pt x="178" y="1773"/>
                </a:lnTo>
                <a:lnTo>
                  <a:pt x="178" y="1684"/>
                </a:lnTo>
                <a:lnTo>
                  <a:pt x="203" y="1634"/>
                </a:lnTo>
                <a:lnTo>
                  <a:pt x="101" y="1421"/>
                </a:lnTo>
                <a:lnTo>
                  <a:pt x="203" y="1131"/>
                </a:lnTo>
                <a:lnTo>
                  <a:pt x="203" y="892"/>
                </a:lnTo>
                <a:lnTo>
                  <a:pt x="12" y="741"/>
                </a:lnTo>
                <a:lnTo>
                  <a:pt x="0" y="640"/>
                </a:lnTo>
                <a:lnTo>
                  <a:pt x="64" y="554"/>
                </a:lnTo>
                <a:lnTo>
                  <a:pt x="139" y="566"/>
                </a:lnTo>
                <a:lnTo>
                  <a:pt x="101" y="515"/>
                </a:lnTo>
                <a:lnTo>
                  <a:pt x="115" y="453"/>
                </a:lnTo>
                <a:lnTo>
                  <a:pt x="203" y="477"/>
                </a:lnTo>
                <a:lnTo>
                  <a:pt x="228" y="427"/>
                </a:lnTo>
                <a:lnTo>
                  <a:pt x="178" y="353"/>
                </a:lnTo>
                <a:lnTo>
                  <a:pt x="239" y="238"/>
                </a:lnTo>
                <a:lnTo>
                  <a:pt x="392" y="152"/>
                </a:lnTo>
                <a:lnTo>
                  <a:pt x="532" y="0"/>
                </a:lnTo>
                <a:lnTo>
                  <a:pt x="544" y="113"/>
                </a:lnTo>
                <a:lnTo>
                  <a:pt x="606" y="264"/>
                </a:lnTo>
                <a:lnTo>
                  <a:pt x="682" y="252"/>
                </a:lnTo>
                <a:lnTo>
                  <a:pt x="656" y="365"/>
                </a:lnTo>
                <a:lnTo>
                  <a:pt x="595" y="477"/>
                </a:lnTo>
                <a:lnTo>
                  <a:pt x="633" y="577"/>
                </a:lnTo>
                <a:lnTo>
                  <a:pt x="720" y="655"/>
                </a:lnTo>
                <a:lnTo>
                  <a:pt x="720" y="755"/>
                </a:lnTo>
                <a:lnTo>
                  <a:pt x="556" y="956"/>
                </a:lnTo>
                <a:lnTo>
                  <a:pt x="544" y="1031"/>
                </a:lnTo>
                <a:lnTo>
                  <a:pt x="506" y="1031"/>
                </a:lnTo>
                <a:lnTo>
                  <a:pt x="506" y="1069"/>
                </a:lnTo>
                <a:lnTo>
                  <a:pt x="582" y="1181"/>
                </a:lnTo>
                <a:lnTo>
                  <a:pt x="682" y="1395"/>
                </a:lnTo>
                <a:lnTo>
                  <a:pt x="682" y="1545"/>
                </a:lnTo>
                <a:lnTo>
                  <a:pt x="618" y="1835"/>
                </a:lnTo>
                <a:lnTo>
                  <a:pt x="618" y="2025"/>
                </a:lnTo>
                <a:lnTo>
                  <a:pt x="758" y="2815"/>
                </a:lnTo>
                <a:lnTo>
                  <a:pt x="758" y="2980"/>
                </a:lnTo>
                <a:lnTo>
                  <a:pt x="896" y="3608"/>
                </a:lnTo>
                <a:lnTo>
                  <a:pt x="1023" y="3634"/>
                </a:lnTo>
                <a:lnTo>
                  <a:pt x="1088" y="4022"/>
                </a:lnTo>
                <a:lnTo>
                  <a:pt x="1239" y="4300"/>
                </a:lnTo>
                <a:lnTo>
                  <a:pt x="1378" y="4401"/>
                </a:lnTo>
                <a:lnTo>
                  <a:pt x="1452" y="4401"/>
                </a:lnTo>
                <a:lnTo>
                  <a:pt x="1402" y="4238"/>
                </a:lnTo>
                <a:lnTo>
                  <a:pt x="1389" y="4123"/>
                </a:lnTo>
                <a:lnTo>
                  <a:pt x="1351" y="3960"/>
                </a:lnTo>
                <a:lnTo>
                  <a:pt x="1378" y="3735"/>
                </a:lnTo>
                <a:lnTo>
                  <a:pt x="1466" y="3583"/>
                </a:lnTo>
                <a:lnTo>
                  <a:pt x="1567" y="3469"/>
                </a:lnTo>
                <a:lnTo>
                  <a:pt x="1668" y="3382"/>
                </a:lnTo>
                <a:lnTo>
                  <a:pt x="1806" y="3294"/>
                </a:lnTo>
                <a:lnTo>
                  <a:pt x="1984" y="3255"/>
                </a:lnTo>
                <a:lnTo>
                  <a:pt x="2147" y="3282"/>
                </a:lnTo>
                <a:lnTo>
                  <a:pt x="2286" y="3318"/>
                </a:lnTo>
                <a:lnTo>
                  <a:pt x="2425" y="3407"/>
                </a:lnTo>
                <a:lnTo>
                  <a:pt x="2539" y="3507"/>
                </a:lnTo>
                <a:lnTo>
                  <a:pt x="2628" y="3620"/>
                </a:lnTo>
                <a:lnTo>
                  <a:pt x="2679" y="3771"/>
                </a:lnTo>
                <a:lnTo>
                  <a:pt x="2679" y="3936"/>
                </a:lnTo>
                <a:lnTo>
                  <a:pt x="2653" y="4123"/>
                </a:lnTo>
                <a:lnTo>
                  <a:pt x="2590" y="4350"/>
                </a:lnTo>
                <a:lnTo>
                  <a:pt x="2717" y="4676"/>
                </a:lnTo>
                <a:lnTo>
                  <a:pt x="2664" y="4803"/>
                </a:lnTo>
                <a:lnTo>
                  <a:pt x="2753" y="5155"/>
                </a:lnTo>
                <a:lnTo>
                  <a:pt x="2808" y="5219"/>
                </a:lnTo>
                <a:lnTo>
                  <a:pt x="3003" y="5367"/>
                </a:lnTo>
                <a:lnTo>
                  <a:pt x="3273" y="5489"/>
                </a:lnTo>
                <a:lnTo>
                  <a:pt x="3322" y="5697"/>
                </a:lnTo>
                <a:lnTo>
                  <a:pt x="3444" y="6267"/>
                </a:lnTo>
                <a:lnTo>
                  <a:pt x="3627" y="6559"/>
                </a:lnTo>
                <a:lnTo>
                  <a:pt x="3823" y="6559"/>
                </a:lnTo>
                <a:lnTo>
                  <a:pt x="3933" y="6610"/>
                </a:lnTo>
                <a:lnTo>
                  <a:pt x="4215" y="6195"/>
                </a:lnTo>
                <a:lnTo>
                  <a:pt x="4300" y="6183"/>
                </a:lnTo>
                <a:lnTo>
                  <a:pt x="4264" y="6084"/>
                </a:lnTo>
                <a:lnTo>
                  <a:pt x="5047" y="6025"/>
                </a:lnTo>
                <a:lnTo>
                  <a:pt x="4986" y="6121"/>
                </a:lnTo>
                <a:lnTo>
                  <a:pt x="5083" y="6219"/>
                </a:lnTo>
                <a:lnTo>
                  <a:pt x="4986" y="6353"/>
                </a:lnTo>
                <a:lnTo>
                  <a:pt x="5047" y="6403"/>
                </a:lnTo>
                <a:lnTo>
                  <a:pt x="5120" y="6572"/>
                </a:lnTo>
                <a:lnTo>
                  <a:pt x="4729" y="7291"/>
                </a:lnTo>
                <a:lnTo>
                  <a:pt x="3922" y="7913"/>
                </a:lnTo>
                <a:lnTo>
                  <a:pt x="4080" y="8693"/>
                </a:lnTo>
                <a:lnTo>
                  <a:pt x="4116" y="9118"/>
                </a:lnTo>
                <a:lnTo>
                  <a:pt x="4203" y="9484"/>
                </a:lnTo>
                <a:lnTo>
                  <a:pt x="4179" y="9618"/>
                </a:lnTo>
                <a:lnTo>
                  <a:pt x="3994" y="9960"/>
                </a:lnTo>
                <a:lnTo>
                  <a:pt x="3994" y="10228"/>
                </a:lnTo>
                <a:lnTo>
                  <a:pt x="3992" y="10346"/>
                </a:lnTo>
                <a:lnTo>
                  <a:pt x="4103" y="11090"/>
                </a:lnTo>
                <a:lnTo>
                  <a:pt x="3961" y="11291"/>
                </a:lnTo>
                <a:lnTo>
                  <a:pt x="4032" y="12038"/>
                </a:lnTo>
                <a:lnTo>
                  <a:pt x="358" y="12038"/>
                </a:lnTo>
                <a:lnTo>
                  <a:pt x="308" y="11301"/>
                </a:lnTo>
                <a:lnTo>
                  <a:pt x="308" y="11000"/>
                </a:lnTo>
                <a:lnTo>
                  <a:pt x="379" y="10467"/>
                </a:lnTo>
                <a:lnTo>
                  <a:pt x="461" y="10004"/>
                </a:lnTo>
                <a:lnTo>
                  <a:pt x="542" y="9248"/>
                </a:lnTo>
                <a:lnTo>
                  <a:pt x="501" y="8734"/>
                </a:lnTo>
                <a:lnTo>
                  <a:pt x="489" y="858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943600" y="76320"/>
            <a:ext cx="2784600" cy="6781680"/>
            <a:chOff x="5943600" y="76320"/>
            <a:chExt cx="2784600" cy="6781680"/>
          </a:xfrm>
        </p:grpSpPr>
        <p:sp>
          <p:nvSpPr>
            <p:cNvPr id="145" name=""/>
            <p:cNvSpPr/>
            <p:nvPr/>
          </p:nvSpPr>
          <p:spPr>
            <a:xfrm>
              <a:off x="6051600" y="6692760"/>
              <a:ext cx="2201760" cy="165240"/>
            </a:xfrm>
            <a:prstGeom prst="rect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26120" y="6446880"/>
              <a:ext cx="2052720" cy="228600"/>
            </a:xfrm>
            <a:prstGeom prst="rect">
              <a:avLst/>
            </a:prstGeom>
            <a:solidFill>
              <a:srgbClr val="00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83360" y="1176480"/>
              <a:ext cx="164880" cy="1074600"/>
            </a:xfrm>
            <a:custGeom>
              <a:avLst/>
              <a:gdLst/>
              <a:ahLst/>
              <a:rect l="l" t="t" r="r" b="b"/>
              <a:pathLst>
                <a:path w="320" h="2033">
                  <a:moveTo>
                    <a:pt x="209" y="13"/>
                  </a:moveTo>
                  <a:lnTo>
                    <a:pt x="136" y="284"/>
                  </a:lnTo>
                  <a:lnTo>
                    <a:pt x="110" y="526"/>
                  </a:lnTo>
                  <a:lnTo>
                    <a:pt x="136" y="871"/>
                  </a:lnTo>
                  <a:lnTo>
                    <a:pt x="161" y="1177"/>
                  </a:lnTo>
                  <a:lnTo>
                    <a:pt x="222" y="1617"/>
                  </a:lnTo>
                  <a:lnTo>
                    <a:pt x="320" y="1962"/>
                  </a:lnTo>
                  <a:lnTo>
                    <a:pt x="260" y="2033"/>
                  </a:lnTo>
                  <a:lnTo>
                    <a:pt x="148" y="1703"/>
                  </a:lnTo>
                  <a:lnTo>
                    <a:pt x="74" y="1336"/>
                  </a:lnTo>
                  <a:lnTo>
                    <a:pt x="50" y="981"/>
                  </a:lnTo>
                  <a:lnTo>
                    <a:pt x="26" y="808"/>
                  </a:lnTo>
                  <a:lnTo>
                    <a:pt x="0" y="625"/>
                  </a:lnTo>
                  <a:lnTo>
                    <a:pt x="0" y="442"/>
                  </a:lnTo>
                  <a:lnTo>
                    <a:pt x="38" y="245"/>
                  </a:lnTo>
                  <a:lnTo>
                    <a:pt x="87" y="0"/>
                  </a:lnTo>
                  <a:lnTo>
                    <a:pt x="209" y="13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11880" y="965160"/>
              <a:ext cx="189000" cy="1176480"/>
            </a:xfrm>
            <a:custGeom>
              <a:avLst/>
              <a:gdLst/>
              <a:ahLst/>
              <a:rect l="l" t="t" r="r" b="b"/>
              <a:pathLst>
                <a:path w="369" h="2229">
                  <a:moveTo>
                    <a:pt x="0" y="158"/>
                  </a:moveTo>
                  <a:lnTo>
                    <a:pt x="49" y="476"/>
                  </a:lnTo>
                  <a:lnTo>
                    <a:pt x="112" y="979"/>
                  </a:lnTo>
                  <a:lnTo>
                    <a:pt x="123" y="1396"/>
                  </a:lnTo>
                  <a:lnTo>
                    <a:pt x="184" y="1566"/>
                  </a:lnTo>
                  <a:lnTo>
                    <a:pt x="234" y="1873"/>
                  </a:lnTo>
                  <a:lnTo>
                    <a:pt x="234" y="2229"/>
                  </a:lnTo>
                  <a:lnTo>
                    <a:pt x="369" y="2130"/>
                  </a:lnTo>
                  <a:lnTo>
                    <a:pt x="344" y="1738"/>
                  </a:lnTo>
                  <a:lnTo>
                    <a:pt x="270" y="1345"/>
                  </a:lnTo>
                  <a:lnTo>
                    <a:pt x="234" y="1015"/>
                  </a:lnTo>
                  <a:lnTo>
                    <a:pt x="160" y="598"/>
                  </a:lnTo>
                  <a:lnTo>
                    <a:pt x="123" y="329"/>
                  </a:lnTo>
                  <a:lnTo>
                    <a:pt x="112" y="84"/>
                  </a:lnTo>
                  <a:lnTo>
                    <a:pt x="13" y="0"/>
                  </a:lnTo>
                  <a:lnTo>
                    <a:pt x="13" y="9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78800" y="1938240"/>
              <a:ext cx="330120" cy="405000"/>
            </a:xfrm>
            <a:custGeom>
              <a:avLst/>
              <a:gdLst/>
              <a:ahLst/>
              <a:rect l="l" t="t" r="r" b="b"/>
              <a:pathLst>
                <a:path w="639" h="773">
                  <a:moveTo>
                    <a:pt x="628" y="0"/>
                  </a:moveTo>
                  <a:lnTo>
                    <a:pt x="565" y="55"/>
                  </a:lnTo>
                  <a:lnTo>
                    <a:pt x="331" y="185"/>
                  </a:lnTo>
                  <a:lnTo>
                    <a:pt x="183" y="312"/>
                  </a:lnTo>
                  <a:lnTo>
                    <a:pt x="112" y="455"/>
                  </a:lnTo>
                  <a:lnTo>
                    <a:pt x="94" y="551"/>
                  </a:lnTo>
                  <a:lnTo>
                    <a:pt x="123" y="548"/>
                  </a:lnTo>
                  <a:lnTo>
                    <a:pt x="74" y="640"/>
                  </a:lnTo>
                  <a:lnTo>
                    <a:pt x="0" y="699"/>
                  </a:lnTo>
                  <a:lnTo>
                    <a:pt x="10" y="763"/>
                  </a:lnTo>
                  <a:lnTo>
                    <a:pt x="60" y="773"/>
                  </a:lnTo>
                  <a:lnTo>
                    <a:pt x="232" y="483"/>
                  </a:lnTo>
                  <a:lnTo>
                    <a:pt x="324" y="267"/>
                  </a:lnTo>
                  <a:lnTo>
                    <a:pt x="624" y="79"/>
                  </a:lnTo>
                  <a:lnTo>
                    <a:pt x="639" y="28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32680" y="1941480"/>
              <a:ext cx="260280" cy="233280"/>
            </a:xfrm>
            <a:custGeom>
              <a:avLst/>
              <a:gdLst/>
              <a:ahLst/>
              <a:rect l="l" t="t" r="r" b="b"/>
              <a:pathLst>
                <a:path w="506" h="439">
                  <a:moveTo>
                    <a:pt x="0" y="0"/>
                  </a:moveTo>
                  <a:lnTo>
                    <a:pt x="15" y="45"/>
                  </a:lnTo>
                  <a:lnTo>
                    <a:pt x="73" y="93"/>
                  </a:lnTo>
                  <a:lnTo>
                    <a:pt x="274" y="209"/>
                  </a:lnTo>
                  <a:lnTo>
                    <a:pt x="506" y="439"/>
                  </a:lnTo>
                  <a:lnTo>
                    <a:pt x="480" y="274"/>
                  </a:lnTo>
                  <a:lnTo>
                    <a:pt x="393" y="147"/>
                  </a:lnTo>
                  <a:lnTo>
                    <a:pt x="397" y="209"/>
                  </a:lnTo>
                  <a:lnTo>
                    <a:pt x="284" y="127"/>
                  </a:lnTo>
                  <a:lnTo>
                    <a:pt x="131" y="69"/>
                  </a:lnTo>
                  <a:lnTo>
                    <a:pt x="63" y="48"/>
                  </a:lnTo>
                  <a:lnTo>
                    <a:pt x="29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72480" y="2098800"/>
              <a:ext cx="102960" cy="37800"/>
            </a:xfrm>
            <a:custGeom>
              <a:avLst/>
              <a:gdLst/>
              <a:ahLst/>
              <a:rect l="l" t="t" r="r" b="b"/>
              <a:pathLst>
                <a:path w="197" h="73">
                  <a:moveTo>
                    <a:pt x="0" y="4"/>
                  </a:moveTo>
                  <a:lnTo>
                    <a:pt x="74" y="24"/>
                  </a:lnTo>
                  <a:lnTo>
                    <a:pt x="0" y="73"/>
                  </a:lnTo>
                  <a:lnTo>
                    <a:pt x="197" y="35"/>
                  </a:lnTo>
                  <a:lnTo>
                    <a:pt x="11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04240" y="2154240"/>
              <a:ext cx="107640" cy="130320"/>
            </a:xfrm>
            <a:custGeom>
              <a:avLst/>
              <a:gdLst/>
              <a:ahLst/>
              <a:rect l="l" t="t" r="r" b="b"/>
              <a:pathLst>
                <a:path w="212" h="249">
                  <a:moveTo>
                    <a:pt x="0" y="195"/>
                  </a:moveTo>
                  <a:lnTo>
                    <a:pt x="69" y="249"/>
                  </a:lnTo>
                  <a:lnTo>
                    <a:pt x="212" y="191"/>
                  </a:lnTo>
                  <a:lnTo>
                    <a:pt x="177" y="117"/>
                  </a:lnTo>
                  <a:lnTo>
                    <a:pt x="148" y="0"/>
                  </a:lnTo>
                  <a:lnTo>
                    <a:pt x="133" y="122"/>
                  </a:lnTo>
                  <a:lnTo>
                    <a:pt x="16" y="161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94360" y="2187720"/>
              <a:ext cx="462240" cy="282600"/>
            </a:xfrm>
            <a:custGeom>
              <a:avLst/>
              <a:gdLst/>
              <a:ahLst/>
              <a:rect l="l" t="t" r="r" b="b"/>
              <a:pathLst>
                <a:path w="902" h="532">
                  <a:moveTo>
                    <a:pt x="693" y="0"/>
                  </a:moveTo>
                  <a:lnTo>
                    <a:pt x="776" y="48"/>
                  </a:lnTo>
                  <a:lnTo>
                    <a:pt x="776" y="71"/>
                  </a:lnTo>
                  <a:lnTo>
                    <a:pt x="711" y="106"/>
                  </a:lnTo>
                  <a:lnTo>
                    <a:pt x="624" y="293"/>
                  </a:lnTo>
                  <a:lnTo>
                    <a:pt x="570" y="301"/>
                  </a:lnTo>
                  <a:lnTo>
                    <a:pt x="458" y="301"/>
                  </a:lnTo>
                  <a:lnTo>
                    <a:pt x="413" y="321"/>
                  </a:lnTo>
                  <a:lnTo>
                    <a:pt x="334" y="389"/>
                  </a:lnTo>
                  <a:lnTo>
                    <a:pt x="99" y="503"/>
                  </a:lnTo>
                  <a:lnTo>
                    <a:pt x="65" y="503"/>
                  </a:lnTo>
                  <a:lnTo>
                    <a:pt x="0" y="448"/>
                  </a:lnTo>
                  <a:lnTo>
                    <a:pt x="44" y="532"/>
                  </a:lnTo>
                  <a:lnTo>
                    <a:pt x="123" y="532"/>
                  </a:lnTo>
                  <a:lnTo>
                    <a:pt x="776" y="396"/>
                  </a:lnTo>
                  <a:lnTo>
                    <a:pt x="902" y="53"/>
                  </a:lnTo>
                  <a:lnTo>
                    <a:pt x="746" y="0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88040" y="2305080"/>
              <a:ext cx="111240" cy="22320"/>
            </a:xfrm>
            <a:custGeom>
              <a:avLst/>
              <a:gdLst/>
              <a:ahLst/>
              <a:rect l="l" t="t" r="r" b="b"/>
              <a:pathLst>
                <a:path w="215" h="43">
                  <a:moveTo>
                    <a:pt x="0" y="33"/>
                  </a:moveTo>
                  <a:lnTo>
                    <a:pt x="28" y="0"/>
                  </a:lnTo>
                  <a:lnTo>
                    <a:pt x="107" y="0"/>
                  </a:lnTo>
                  <a:lnTo>
                    <a:pt x="185" y="0"/>
                  </a:lnTo>
                  <a:lnTo>
                    <a:pt x="215" y="23"/>
                  </a:lnTo>
                  <a:lnTo>
                    <a:pt x="185" y="4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78800" y="1836720"/>
              <a:ext cx="585720" cy="371520"/>
            </a:xfrm>
            <a:custGeom>
              <a:avLst/>
              <a:gdLst/>
              <a:ahLst/>
              <a:rect l="l" t="t" r="r" b="b"/>
              <a:pathLst>
                <a:path w="1140" h="709">
                  <a:moveTo>
                    <a:pt x="20" y="694"/>
                  </a:moveTo>
                  <a:lnTo>
                    <a:pt x="99" y="410"/>
                  </a:lnTo>
                  <a:lnTo>
                    <a:pt x="300" y="191"/>
                  </a:lnTo>
                  <a:lnTo>
                    <a:pt x="511" y="92"/>
                  </a:lnTo>
                  <a:lnTo>
                    <a:pt x="757" y="89"/>
                  </a:lnTo>
                  <a:lnTo>
                    <a:pt x="972" y="171"/>
                  </a:lnTo>
                  <a:lnTo>
                    <a:pt x="1133" y="304"/>
                  </a:lnTo>
                  <a:lnTo>
                    <a:pt x="1140" y="239"/>
                  </a:lnTo>
                  <a:lnTo>
                    <a:pt x="929" y="82"/>
                  </a:lnTo>
                  <a:lnTo>
                    <a:pt x="654" y="0"/>
                  </a:lnTo>
                  <a:lnTo>
                    <a:pt x="354" y="82"/>
                  </a:lnTo>
                  <a:lnTo>
                    <a:pt x="123" y="260"/>
                  </a:lnTo>
                  <a:lnTo>
                    <a:pt x="26" y="468"/>
                  </a:lnTo>
                  <a:lnTo>
                    <a:pt x="0" y="709"/>
                  </a:lnTo>
                  <a:lnTo>
                    <a:pt x="20" y="69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40680" y="2103480"/>
              <a:ext cx="54000" cy="38160"/>
            </a:xfrm>
            <a:custGeom>
              <a:avLst/>
              <a:gdLst/>
              <a:ahLst/>
              <a:rect l="l" t="t" r="r" b="b"/>
              <a:pathLst>
                <a:path w="99" h="68">
                  <a:moveTo>
                    <a:pt x="0" y="14"/>
                  </a:moveTo>
                  <a:lnTo>
                    <a:pt x="99" y="68"/>
                  </a:lnTo>
                  <a:lnTo>
                    <a:pt x="74" y="14"/>
                  </a:lnTo>
                  <a:lnTo>
                    <a:pt x="51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43640" y="2406600"/>
              <a:ext cx="87480" cy="352440"/>
            </a:xfrm>
            <a:custGeom>
              <a:avLst/>
              <a:gdLst/>
              <a:ahLst/>
              <a:rect l="l" t="t" r="r" b="b"/>
              <a:pathLst>
                <a:path w="163" h="671">
                  <a:moveTo>
                    <a:pt x="163" y="142"/>
                  </a:moveTo>
                  <a:lnTo>
                    <a:pt x="95" y="142"/>
                  </a:lnTo>
                  <a:lnTo>
                    <a:pt x="113" y="209"/>
                  </a:lnTo>
                  <a:lnTo>
                    <a:pt x="61" y="268"/>
                  </a:lnTo>
                  <a:lnTo>
                    <a:pt x="44" y="371"/>
                  </a:lnTo>
                  <a:lnTo>
                    <a:pt x="44" y="460"/>
                  </a:lnTo>
                  <a:lnTo>
                    <a:pt x="89" y="671"/>
                  </a:lnTo>
                  <a:lnTo>
                    <a:pt x="0" y="499"/>
                  </a:lnTo>
                  <a:lnTo>
                    <a:pt x="0" y="244"/>
                  </a:lnTo>
                  <a:lnTo>
                    <a:pt x="61" y="0"/>
                  </a:lnTo>
                  <a:lnTo>
                    <a:pt x="143" y="79"/>
                  </a:lnTo>
                  <a:lnTo>
                    <a:pt x="163" y="14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02280" y="2470320"/>
              <a:ext cx="338400" cy="220320"/>
            </a:xfrm>
            <a:custGeom>
              <a:avLst/>
              <a:gdLst/>
              <a:ahLst/>
              <a:rect l="l" t="t" r="r" b="b"/>
              <a:pathLst>
                <a:path w="656" h="415">
                  <a:moveTo>
                    <a:pt x="20" y="35"/>
                  </a:moveTo>
                  <a:lnTo>
                    <a:pt x="150" y="107"/>
                  </a:lnTo>
                  <a:lnTo>
                    <a:pt x="293" y="175"/>
                  </a:lnTo>
                  <a:lnTo>
                    <a:pt x="397" y="278"/>
                  </a:lnTo>
                  <a:lnTo>
                    <a:pt x="504" y="309"/>
                  </a:lnTo>
                  <a:lnTo>
                    <a:pt x="481" y="327"/>
                  </a:lnTo>
                  <a:lnTo>
                    <a:pt x="504" y="347"/>
                  </a:lnTo>
                  <a:lnTo>
                    <a:pt x="481" y="367"/>
                  </a:lnTo>
                  <a:lnTo>
                    <a:pt x="509" y="381"/>
                  </a:lnTo>
                  <a:lnTo>
                    <a:pt x="475" y="411"/>
                  </a:lnTo>
                  <a:lnTo>
                    <a:pt x="559" y="415"/>
                  </a:lnTo>
                  <a:lnTo>
                    <a:pt x="656" y="376"/>
                  </a:lnTo>
                  <a:lnTo>
                    <a:pt x="656" y="258"/>
                  </a:lnTo>
                  <a:lnTo>
                    <a:pt x="211" y="19"/>
                  </a:lnTo>
                  <a:lnTo>
                    <a:pt x="0" y="0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0680" y="3676680"/>
              <a:ext cx="322200" cy="482400"/>
            </a:xfrm>
            <a:custGeom>
              <a:avLst/>
              <a:gdLst/>
              <a:ahLst/>
              <a:rect l="l" t="t" r="r" b="b"/>
              <a:pathLst>
                <a:path w="624" h="912">
                  <a:moveTo>
                    <a:pt x="517" y="0"/>
                  </a:moveTo>
                  <a:lnTo>
                    <a:pt x="0" y="755"/>
                  </a:lnTo>
                  <a:lnTo>
                    <a:pt x="107" y="912"/>
                  </a:lnTo>
                  <a:lnTo>
                    <a:pt x="624" y="121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70760" y="2170080"/>
              <a:ext cx="90360" cy="96840"/>
            </a:xfrm>
            <a:custGeom>
              <a:avLst/>
              <a:gdLst/>
              <a:ahLst/>
              <a:rect l="l" t="t" r="r" b="b"/>
              <a:pathLst>
                <a:path w="180" h="181">
                  <a:moveTo>
                    <a:pt x="168" y="0"/>
                  </a:moveTo>
                  <a:lnTo>
                    <a:pt x="0" y="181"/>
                  </a:lnTo>
                  <a:lnTo>
                    <a:pt x="180" y="121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0920" y="2077920"/>
              <a:ext cx="450720" cy="328680"/>
            </a:xfrm>
            <a:custGeom>
              <a:avLst/>
              <a:gdLst/>
              <a:ahLst/>
              <a:rect l="l" t="t" r="r" b="b"/>
              <a:pathLst>
                <a:path w="867" h="623">
                  <a:moveTo>
                    <a:pt x="313" y="275"/>
                  </a:moveTo>
                  <a:lnTo>
                    <a:pt x="0" y="623"/>
                  </a:lnTo>
                  <a:lnTo>
                    <a:pt x="240" y="503"/>
                  </a:lnTo>
                  <a:lnTo>
                    <a:pt x="229" y="611"/>
                  </a:lnTo>
                  <a:lnTo>
                    <a:pt x="627" y="372"/>
                  </a:lnTo>
                  <a:lnTo>
                    <a:pt x="842" y="143"/>
                  </a:lnTo>
                  <a:lnTo>
                    <a:pt x="867" y="0"/>
                  </a:lnTo>
                  <a:lnTo>
                    <a:pt x="627" y="133"/>
                  </a:lnTo>
                  <a:lnTo>
                    <a:pt x="482" y="252"/>
                  </a:lnTo>
                  <a:lnTo>
                    <a:pt x="313" y="275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62760" y="2470320"/>
              <a:ext cx="149040" cy="85680"/>
            </a:xfrm>
            <a:custGeom>
              <a:avLst/>
              <a:gdLst/>
              <a:ahLst/>
              <a:rect l="l" t="t" r="r" b="b"/>
              <a:pathLst>
                <a:path w="287" h="168">
                  <a:moveTo>
                    <a:pt x="0" y="0"/>
                  </a:moveTo>
                  <a:lnTo>
                    <a:pt x="132" y="0"/>
                  </a:lnTo>
                  <a:lnTo>
                    <a:pt x="132" y="97"/>
                  </a:lnTo>
                  <a:lnTo>
                    <a:pt x="287" y="109"/>
                  </a:lnTo>
                  <a:lnTo>
                    <a:pt x="145" y="168"/>
                  </a:lnTo>
                  <a:lnTo>
                    <a:pt x="48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57880" y="2330280"/>
              <a:ext cx="273240" cy="182880"/>
            </a:xfrm>
            <a:custGeom>
              <a:avLst/>
              <a:gdLst/>
              <a:ahLst/>
              <a:rect l="l" t="t" r="r" b="b"/>
              <a:pathLst>
                <a:path w="529" h="348">
                  <a:moveTo>
                    <a:pt x="0" y="239"/>
                  </a:moveTo>
                  <a:lnTo>
                    <a:pt x="254" y="191"/>
                  </a:lnTo>
                  <a:lnTo>
                    <a:pt x="60" y="348"/>
                  </a:lnTo>
                  <a:lnTo>
                    <a:pt x="350" y="228"/>
                  </a:lnTo>
                  <a:lnTo>
                    <a:pt x="529" y="0"/>
                  </a:lnTo>
                  <a:lnTo>
                    <a:pt x="241" y="6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56520" y="2141640"/>
              <a:ext cx="236520" cy="269640"/>
            </a:xfrm>
            <a:custGeom>
              <a:avLst/>
              <a:gdLst/>
              <a:ahLst/>
              <a:rect l="l" t="t" r="r" b="b"/>
              <a:pathLst>
                <a:path w="457" h="516">
                  <a:moveTo>
                    <a:pt x="145" y="228"/>
                  </a:moveTo>
                  <a:lnTo>
                    <a:pt x="0" y="516"/>
                  </a:lnTo>
                  <a:lnTo>
                    <a:pt x="457" y="59"/>
                  </a:lnTo>
                  <a:lnTo>
                    <a:pt x="361" y="0"/>
                  </a:lnTo>
                  <a:lnTo>
                    <a:pt x="145" y="22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37360" y="2495520"/>
              <a:ext cx="152280" cy="563760"/>
            </a:xfrm>
            <a:custGeom>
              <a:avLst/>
              <a:gdLst/>
              <a:ahLst/>
              <a:rect l="l" t="t" r="r" b="b"/>
              <a:pathLst>
                <a:path w="290" h="1065">
                  <a:moveTo>
                    <a:pt x="290" y="0"/>
                  </a:moveTo>
                  <a:lnTo>
                    <a:pt x="145" y="442"/>
                  </a:lnTo>
                  <a:lnTo>
                    <a:pt x="84" y="839"/>
                  </a:lnTo>
                  <a:lnTo>
                    <a:pt x="157" y="909"/>
                  </a:lnTo>
                  <a:lnTo>
                    <a:pt x="96" y="1065"/>
                  </a:lnTo>
                  <a:lnTo>
                    <a:pt x="0" y="863"/>
                  </a:lnTo>
                  <a:lnTo>
                    <a:pt x="84" y="36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00880" y="2394000"/>
              <a:ext cx="149040" cy="156960"/>
            </a:xfrm>
            <a:custGeom>
              <a:avLst/>
              <a:gdLst/>
              <a:ahLst/>
              <a:rect l="l" t="t" r="r" b="b"/>
              <a:pathLst>
                <a:path w="290" h="300">
                  <a:moveTo>
                    <a:pt x="97" y="0"/>
                  </a:moveTo>
                  <a:lnTo>
                    <a:pt x="0" y="118"/>
                  </a:lnTo>
                  <a:lnTo>
                    <a:pt x="12" y="300"/>
                  </a:lnTo>
                  <a:lnTo>
                    <a:pt x="290" y="58"/>
                  </a:lnTo>
                  <a:lnTo>
                    <a:pt x="97" y="118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16880" y="2360520"/>
              <a:ext cx="106200" cy="233280"/>
            </a:xfrm>
            <a:custGeom>
              <a:avLst/>
              <a:gdLst/>
              <a:ahLst/>
              <a:rect l="l" t="t" r="r" b="b"/>
              <a:pathLst>
                <a:path w="206" h="443">
                  <a:moveTo>
                    <a:pt x="0" y="0"/>
                  </a:moveTo>
                  <a:lnTo>
                    <a:pt x="121" y="443"/>
                  </a:lnTo>
                  <a:lnTo>
                    <a:pt x="206" y="252"/>
                  </a:lnTo>
                  <a:lnTo>
                    <a:pt x="170" y="72"/>
                  </a:lnTo>
                  <a:lnTo>
                    <a:pt x="73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26080" y="2830680"/>
              <a:ext cx="235080" cy="203040"/>
            </a:xfrm>
            <a:custGeom>
              <a:avLst/>
              <a:gdLst/>
              <a:ahLst/>
              <a:rect l="l" t="t" r="r" b="b"/>
              <a:pathLst>
                <a:path w="456" h="384">
                  <a:moveTo>
                    <a:pt x="0" y="276"/>
                  </a:moveTo>
                  <a:lnTo>
                    <a:pt x="456" y="0"/>
                  </a:lnTo>
                  <a:lnTo>
                    <a:pt x="23" y="384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37320" y="2695680"/>
              <a:ext cx="631800" cy="353880"/>
            </a:xfrm>
            <a:custGeom>
              <a:avLst/>
              <a:gdLst/>
              <a:ahLst/>
              <a:rect l="l" t="t" r="r" b="b"/>
              <a:pathLst>
                <a:path w="1226" h="672">
                  <a:moveTo>
                    <a:pt x="264" y="251"/>
                  </a:moveTo>
                  <a:lnTo>
                    <a:pt x="506" y="157"/>
                  </a:lnTo>
                  <a:lnTo>
                    <a:pt x="0" y="672"/>
                  </a:lnTo>
                  <a:lnTo>
                    <a:pt x="554" y="348"/>
                  </a:lnTo>
                  <a:lnTo>
                    <a:pt x="445" y="493"/>
                  </a:lnTo>
                  <a:lnTo>
                    <a:pt x="962" y="276"/>
                  </a:lnTo>
                  <a:lnTo>
                    <a:pt x="1226" y="73"/>
                  </a:lnTo>
                  <a:lnTo>
                    <a:pt x="829" y="0"/>
                  </a:lnTo>
                  <a:lnTo>
                    <a:pt x="325" y="182"/>
                  </a:lnTo>
                  <a:lnTo>
                    <a:pt x="264" y="2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13480" y="3354480"/>
              <a:ext cx="479520" cy="546120"/>
            </a:xfrm>
            <a:custGeom>
              <a:avLst/>
              <a:gdLst/>
              <a:ahLst/>
              <a:rect l="l" t="t" r="r" b="b"/>
              <a:pathLst>
                <a:path w="927" h="1031">
                  <a:moveTo>
                    <a:pt x="927" y="1031"/>
                  </a:moveTo>
                  <a:lnTo>
                    <a:pt x="625" y="264"/>
                  </a:lnTo>
                  <a:lnTo>
                    <a:pt x="564" y="419"/>
                  </a:lnTo>
                  <a:lnTo>
                    <a:pt x="337" y="419"/>
                  </a:lnTo>
                  <a:lnTo>
                    <a:pt x="107" y="562"/>
                  </a:lnTo>
                  <a:lnTo>
                    <a:pt x="0" y="838"/>
                  </a:lnTo>
                  <a:lnTo>
                    <a:pt x="0" y="503"/>
                  </a:lnTo>
                  <a:lnTo>
                    <a:pt x="95" y="358"/>
                  </a:lnTo>
                  <a:lnTo>
                    <a:pt x="457" y="239"/>
                  </a:lnTo>
                  <a:lnTo>
                    <a:pt x="612" y="0"/>
                  </a:lnTo>
                  <a:lnTo>
                    <a:pt x="745" y="346"/>
                  </a:lnTo>
                  <a:lnTo>
                    <a:pt x="927" y="103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67480" y="2759040"/>
              <a:ext cx="174600" cy="709560"/>
            </a:xfrm>
            <a:custGeom>
              <a:avLst/>
              <a:gdLst/>
              <a:ahLst/>
              <a:rect l="l" t="t" r="r" b="b"/>
              <a:pathLst>
                <a:path w="338" h="1342">
                  <a:moveTo>
                    <a:pt x="338" y="336"/>
                  </a:moveTo>
                  <a:lnTo>
                    <a:pt x="302" y="539"/>
                  </a:lnTo>
                  <a:lnTo>
                    <a:pt x="218" y="669"/>
                  </a:lnTo>
                  <a:lnTo>
                    <a:pt x="73" y="1342"/>
                  </a:lnTo>
                  <a:lnTo>
                    <a:pt x="0" y="0"/>
                  </a:lnTo>
                  <a:lnTo>
                    <a:pt x="133" y="166"/>
                  </a:lnTo>
                  <a:lnTo>
                    <a:pt x="338" y="33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19720" y="3287880"/>
              <a:ext cx="835200" cy="3028680"/>
            </a:xfrm>
            <a:custGeom>
              <a:avLst/>
              <a:gdLst/>
              <a:ahLst/>
              <a:rect l="l" t="t" r="r" b="b"/>
              <a:pathLst>
                <a:path w="1614" h="5730">
                  <a:moveTo>
                    <a:pt x="1350" y="0"/>
                  </a:moveTo>
                  <a:lnTo>
                    <a:pt x="808" y="1235"/>
                  </a:lnTo>
                  <a:lnTo>
                    <a:pt x="356" y="2579"/>
                  </a:lnTo>
                  <a:lnTo>
                    <a:pt x="745" y="2114"/>
                  </a:lnTo>
                  <a:lnTo>
                    <a:pt x="343" y="3289"/>
                  </a:lnTo>
                  <a:lnTo>
                    <a:pt x="343" y="3474"/>
                  </a:lnTo>
                  <a:lnTo>
                    <a:pt x="979" y="2454"/>
                  </a:lnTo>
                  <a:lnTo>
                    <a:pt x="248" y="4078"/>
                  </a:lnTo>
                  <a:lnTo>
                    <a:pt x="745" y="3461"/>
                  </a:lnTo>
                  <a:lnTo>
                    <a:pt x="1536" y="1682"/>
                  </a:lnTo>
                  <a:lnTo>
                    <a:pt x="884" y="4216"/>
                  </a:lnTo>
                  <a:lnTo>
                    <a:pt x="1304" y="3319"/>
                  </a:lnTo>
                  <a:lnTo>
                    <a:pt x="1614" y="2068"/>
                  </a:lnTo>
                  <a:lnTo>
                    <a:pt x="1381" y="3520"/>
                  </a:lnTo>
                  <a:lnTo>
                    <a:pt x="1086" y="4325"/>
                  </a:lnTo>
                  <a:lnTo>
                    <a:pt x="1040" y="4851"/>
                  </a:lnTo>
                  <a:lnTo>
                    <a:pt x="775" y="5390"/>
                  </a:lnTo>
                  <a:lnTo>
                    <a:pt x="373" y="5730"/>
                  </a:lnTo>
                  <a:lnTo>
                    <a:pt x="0" y="5283"/>
                  </a:lnTo>
                  <a:lnTo>
                    <a:pt x="17" y="4679"/>
                  </a:lnTo>
                  <a:lnTo>
                    <a:pt x="172" y="3969"/>
                  </a:lnTo>
                  <a:lnTo>
                    <a:pt x="218" y="3352"/>
                  </a:lnTo>
                  <a:lnTo>
                    <a:pt x="264" y="3120"/>
                  </a:lnTo>
                  <a:lnTo>
                    <a:pt x="187" y="2547"/>
                  </a:lnTo>
                  <a:lnTo>
                    <a:pt x="808" y="971"/>
                  </a:lnTo>
                  <a:lnTo>
                    <a:pt x="1350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37440" y="3676680"/>
              <a:ext cx="322200" cy="1911240"/>
            </a:xfrm>
            <a:custGeom>
              <a:avLst/>
              <a:gdLst/>
              <a:ahLst/>
              <a:rect l="l" t="t" r="r" b="b"/>
              <a:pathLst>
                <a:path w="621" h="3616">
                  <a:moveTo>
                    <a:pt x="328" y="0"/>
                  </a:moveTo>
                  <a:lnTo>
                    <a:pt x="0" y="2952"/>
                  </a:lnTo>
                  <a:lnTo>
                    <a:pt x="78" y="3229"/>
                  </a:lnTo>
                  <a:lnTo>
                    <a:pt x="63" y="3398"/>
                  </a:lnTo>
                  <a:lnTo>
                    <a:pt x="156" y="3616"/>
                  </a:lnTo>
                  <a:lnTo>
                    <a:pt x="496" y="3553"/>
                  </a:lnTo>
                  <a:lnTo>
                    <a:pt x="621" y="3338"/>
                  </a:lnTo>
                  <a:lnTo>
                    <a:pt x="328" y="3090"/>
                  </a:lnTo>
                  <a:lnTo>
                    <a:pt x="140" y="2797"/>
                  </a:lnTo>
                  <a:lnTo>
                    <a:pt x="249" y="1515"/>
                  </a:lnTo>
                  <a:lnTo>
                    <a:pt x="328" y="634"/>
                  </a:lnTo>
                  <a:lnTo>
                    <a:pt x="358" y="63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97640" y="3638520"/>
              <a:ext cx="520920" cy="1413000"/>
            </a:xfrm>
            <a:custGeom>
              <a:avLst/>
              <a:gdLst/>
              <a:ahLst/>
              <a:rect l="l" t="t" r="r" b="b"/>
              <a:pathLst>
                <a:path w="1009" h="2673">
                  <a:moveTo>
                    <a:pt x="280" y="140"/>
                  </a:moveTo>
                  <a:lnTo>
                    <a:pt x="155" y="2471"/>
                  </a:lnTo>
                  <a:lnTo>
                    <a:pt x="0" y="2673"/>
                  </a:lnTo>
                  <a:lnTo>
                    <a:pt x="373" y="2488"/>
                  </a:lnTo>
                  <a:lnTo>
                    <a:pt x="683" y="2395"/>
                  </a:lnTo>
                  <a:lnTo>
                    <a:pt x="1009" y="2194"/>
                  </a:lnTo>
                  <a:lnTo>
                    <a:pt x="699" y="2316"/>
                  </a:lnTo>
                  <a:lnTo>
                    <a:pt x="544" y="2316"/>
                  </a:lnTo>
                  <a:lnTo>
                    <a:pt x="465" y="1004"/>
                  </a:lnTo>
                  <a:lnTo>
                    <a:pt x="403" y="493"/>
                  </a:lnTo>
                  <a:lnTo>
                    <a:pt x="294" y="0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45240" y="5140440"/>
              <a:ext cx="1484280" cy="1306440"/>
            </a:xfrm>
            <a:custGeom>
              <a:avLst/>
              <a:gdLst/>
              <a:ahLst/>
              <a:rect l="l" t="t" r="r" b="b"/>
              <a:pathLst>
                <a:path w="2873" h="2470">
                  <a:moveTo>
                    <a:pt x="2873" y="2408"/>
                  </a:moveTo>
                  <a:lnTo>
                    <a:pt x="2640" y="602"/>
                  </a:lnTo>
                  <a:lnTo>
                    <a:pt x="2516" y="912"/>
                  </a:lnTo>
                  <a:lnTo>
                    <a:pt x="2454" y="740"/>
                  </a:lnTo>
                  <a:lnTo>
                    <a:pt x="2454" y="1235"/>
                  </a:lnTo>
                  <a:lnTo>
                    <a:pt x="2516" y="1172"/>
                  </a:lnTo>
                  <a:lnTo>
                    <a:pt x="2547" y="1482"/>
                  </a:lnTo>
                  <a:lnTo>
                    <a:pt x="2533" y="2470"/>
                  </a:lnTo>
                  <a:lnTo>
                    <a:pt x="2190" y="2470"/>
                  </a:lnTo>
                  <a:lnTo>
                    <a:pt x="2282" y="1080"/>
                  </a:lnTo>
                  <a:lnTo>
                    <a:pt x="2299" y="307"/>
                  </a:lnTo>
                  <a:lnTo>
                    <a:pt x="2144" y="539"/>
                  </a:lnTo>
                  <a:lnTo>
                    <a:pt x="2098" y="416"/>
                  </a:lnTo>
                  <a:lnTo>
                    <a:pt x="1972" y="478"/>
                  </a:lnTo>
                  <a:lnTo>
                    <a:pt x="1910" y="554"/>
                  </a:lnTo>
                  <a:lnTo>
                    <a:pt x="1910" y="912"/>
                  </a:lnTo>
                  <a:lnTo>
                    <a:pt x="1771" y="1189"/>
                  </a:lnTo>
                  <a:lnTo>
                    <a:pt x="1633" y="1606"/>
                  </a:lnTo>
                  <a:lnTo>
                    <a:pt x="1600" y="1235"/>
                  </a:lnTo>
                  <a:lnTo>
                    <a:pt x="1461" y="1064"/>
                  </a:lnTo>
                  <a:lnTo>
                    <a:pt x="1336" y="1403"/>
                  </a:lnTo>
                  <a:lnTo>
                    <a:pt x="1181" y="1636"/>
                  </a:lnTo>
                  <a:lnTo>
                    <a:pt x="1104" y="2348"/>
                  </a:lnTo>
                  <a:lnTo>
                    <a:pt x="1073" y="2470"/>
                  </a:lnTo>
                  <a:lnTo>
                    <a:pt x="498" y="2470"/>
                  </a:lnTo>
                  <a:lnTo>
                    <a:pt x="654" y="2285"/>
                  </a:lnTo>
                  <a:lnTo>
                    <a:pt x="778" y="1466"/>
                  </a:lnTo>
                  <a:lnTo>
                    <a:pt x="623" y="1730"/>
                  </a:lnTo>
                  <a:lnTo>
                    <a:pt x="591" y="1529"/>
                  </a:lnTo>
                  <a:lnTo>
                    <a:pt x="297" y="2378"/>
                  </a:lnTo>
                  <a:lnTo>
                    <a:pt x="313" y="1853"/>
                  </a:lnTo>
                  <a:lnTo>
                    <a:pt x="0" y="2163"/>
                  </a:lnTo>
                  <a:lnTo>
                    <a:pt x="125" y="1390"/>
                  </a:lnTo>
                  <a:lnTo>
                    <a:pt x="343" y="1235"/>
                  </a:lnTo>
                  <a:lnTo>
                    <a:pt x="855" y="941"/>
                  </a:lnTo>
                  <a:lnTo>
                    <a:pt x="1461" y="849"/>
                  </a:lnTo>
                  <a:lnTo>
                    <a:pt x="1725" y="786"/>
                  </a:lnTo>
                  <a:lnTo>
                    <a:pt x="1818" y="617"/>
                  </a:lnTo>
                  <a:lnTo>
                    <a:pt x="1834" y="231"/>
                  </a:lnTo>
                  <a:lnTo>
                    <a:pt x="2221" y="0"/>
                  </a:lnTo>
                  <a:lnTo>
                    <a:pt x="2826" y="30"/>
                  </a:lnTo>
                  <a:lnTo>
                    <a:pt x="2826" y="539"/>
                  </a:lnTo>
                  <a:lnTo>
                    <a:pt x="2765" y="925"/>
                  </a:lnTo>
                  <a:lnTo>
                    <a:pt x="2826" y="1744"/>
                  </a:lnTo>
                  <a:lnTo>
                    <a:pt x="2873" y="240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34480" y="4649760"/>
              <a:ext cx="156960" cy="304920"/>
            </a:xfrm>
            <a:custGeom>
              <a:avLst/>
              <a:gdLst/>
              <a:ahLst/>
              <a:rect l="l" t="t" r="r" b="b"/>
              <a:pathLst>
                <a:path w="309" h="572">
                  <a:moveTo>
                    <a:pt x="0" y="0"/>
                  </a:moveTo>
                  <a:lnTo>
                    <a:pt x="185" y="92"/>
                  </a:lnTo>
                  <a:lnTo>
                    <a:pt x="263" y="278"/>
                  </a:lnTo>
                  <a:lnTo>
                    <a:pt x="309" y="572"/>
                  </a:lnTo>
                  <a:lnTo>
                    <a:pt x="185" y="293"/>
                  </a:lnTo>
                  <a:lnTo>
                    <a:pt x="6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05560" y="5229360"/>
              <a:ext cx="195480" cy="88920"/>
            </a:xfrm>
            <a:custGeom>
              <a:avLst/>
              <a:gdLst/>
              <a:ahLst/>
              <a:rect l="l" t="t" r="r" b="b"/>
              <a:pathLst>
                <a:path w="369" h="170">
                  <a:moveTo>
                    <a:pt x="92" y="170"/>
                  </a:moveTo>
                  <a:lnTo>
                    <a:pt x="369" y="77"/>
                  </a:lnTo>
                  <a:lnTo>
                    <a:pt x="310" y="0"/>
                  </a:lnTo>
                  <a:lnTo>
                    <a:pt x="0" y="124"/>
                  </a:lnTo>
                  <a:lnTo>
                    <a:pt x="92" y="17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37440" y="5432400"/>
              <a:ext cx="498600" cy="1014480"/>
            </a:xfrm>
            <a:custGeom>
              <a:avLst/>
              <a:gdLst/>
              <a:ahLst/>
              <a:rect l="l" t="t" r="r" b="b"/>
              <a:pathLst>
                <a:path w="962" h="1916">
                  <a:moveTo>
                    <a:pt x="0" y="1916"/>
                  </a:moveTo>
                  <a:lnTo>
                    <a:pt x="203" y="1748"/>
                  </a:lnTo>
                  <a:lnTo>
                    <a:pt x="341" y="711"/>
                  </a:lnTo>
                  <a:lnTo>
                    <a:pt x="341" y="1715"/>
                  </a:lnTo>
                  <a:lnTo>
                    <a:pt x="793" y="665"/>
                  </a:lnTo>
                  <a:lnTo>
                    <a:pt x="915" y="0"/>
                  </a:lnTo>
                  <a:lnTo>
                    <a:pt x="869" y="681"/>
                  </a:lnTo>
                  <a:lnTo>
                    <a:pt x="746" y="1731"/>
                  </a:lnTo>
                  <a:lnTo>
                    <a:pt x="962" y="958"/>
                  </a:lnTo>
                  <a:lnTo>
                    <a:pt x="962" y="1916"/>
                  </a:lnTo>
                  <a:lnTo>
                    <a:pt x="0" y="191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86680" y="6342120"/>
              <a:ext cx="453960" cy="96840"/>
            </a:xfrm>
            <a:custGeom>
              <a:avLst/>
              <a:gdLst/>
              <a:ahLst/>
              <a:rect l="l" t="t" r="r" b="b"/>
              <a:pathLst>
                <a:path w="884" h="185">
                  <a:moveTo>
                    <a:pt x="0" y="185"/>
                  </a:moveTo>
                  <a:lnTo>
                    <a:pt x="327" y="16"/>
                  </a:lnTo>
                  <a:lnTo>
                    <a:pt x="433" y="109"/>
                  </a:lnTo>
                  <a:lnTo>
                    <a:pt x="729" y="139"/>
                  </a:lnTo>
                  <a:lnTo>
                    <a:pt x="884" y="0"/>
                  </a:lnTo>
                  <a:lnTo>
                    <a:pt x="868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1280" y="2106720"/>
              <a:ext cx="104760" cy="172800"/>
            </a:xfrm>
            <a:custGeom>
              <a:avLst/>
              <a:gdLst/>
              <a:ahLst/>
              <a:rect l="l" t="t" r="r" b="b"/>
              <a:pathLst>
                <a:path w="206" h="328">
                  <a:moveTo>
                    <a:pt x="145" y="188"/>
                  </a:moveTo>
                  <a:lnTo>
                    <a:pt x="117" y="203"/>
                  </a:lnTo>
                  <a:lnTo>
                    <a:pt x="56" y="203"/>
                  </a:lnTo>
                  <a:lnTo>
                    <a:pt x="48" y="183"/>
                  </a:lnTo>
                  <a:lnTo>
                    <a:pt x="0" y="238"/>
                  </a:lnTo>
                  <a:lnTo>
                    <a:pt x="0" y="260"/>
                  </a:lnTo>
                  <a:lnTo>
                    <a:pt x="25" y="288"/>
                  </a:lnTo>
                  <a:lnTo>
                    <a:pt x="50" y="272"/>
                  </a:lnTo>
                  <a:lnTo>
                    <a:pt x="111" y="328"/>
                  </a:lnTo>
                  <a:lnTo>
                    <a:pt x="183" y="284"/>
                  </a:lnTo>
                  <a:lnTo>
                    <a:pt x="206" y="276"/>
                  </a:lnTo>
                  <a:lnTo>
                    <a:pt x="185" y="221"/>
                  </a:lnTo>
                  <a:lnTo>
                    <a:pt x="185" y="196"/>
                  </a:lnTo>
                  <a:lnTo>
                    <a:pt x="153" y="0"/>
                  </a:lnTo>
                  <a:lnTo>
                    <a:pt x="127" y="25"/>
                  </a:lnTo>
                  <a:lnTo>
                    <a:pt x="122" y="51"/>
                  </a:lnTo>
                  <a:lnTo>
                    <a:pt x="122" y="89"/>
                  </a:lnTo>
                  <a:lnTo>
                    <a:pt x="127" y="125"/>
                  </a:lnTo>
                  <a:lnTo>
                    <a:pt x="139" y="165"/>
                  </a:lnTo>
                  <a:lnTo>
                    <a:pt x="145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65800" y="2081160"/>
              <a:ext cx="157320" cy="114480"/>
            </a:xfrm>
            <a:custGeom>
              <a:avLst/>
              <a:gdLst/>
              <a:ahLst/>
              <a:rect l="l" t="t" r="r" b="b"/>
              <a:pathLst>
                <a:path w="307" h="211">
                  <a:moveTo>
                    <a:pt x="0" y="56"/>
                  </a:moveTo>
                  <a:lnTo>
                    <a:pt x="22" y="2"/>
                  </a:lnTo>
                  <a:lnTo>
                    <a:pt x="75" y="0"/>
                  </a:lnTo>
                  <a:lnTo>
                    <a:pt x="135" y="6"/>
                  </a:lnTo>
                  <a:lnTo>
                    <a:pt x="205" y="40"/>
                  </a:lnTo>
                  <a:lnTo>
                    <a:pt x="169" y="45"/>
                  </a:lnTo>
                  <a:lnTo>
                    <a:pt x="229" y="91"/>
                  </a:lnTo>
                  <a:lnTo>
                    <a:pt x="226" y="50"/>
                  </a:lnTo>
                  <a:lnTo>
                    <a:pt x="298" y="114"/>
                  </a:lnTo>
                  <a:lnTo>
                    <a:pt x="307" y="211"/>
                  </a:lnTo>
                  <a:lnTo>
                    <a:pt x="246" y="183"/>
                  </a:lnTo>
                  <a:lnTo>
                    <a:pt x="181" y="183"/>
                  </a:lnTo>
                  <a:lnTo>
                    <a:pt x="193" y="159"/>
                  </a:lnTo>
                  <a:lnTo>
                    <a:pt x="187" y="147"/>
                  </a:lnTo>
                  <a:lnTo>
                    <a:pt x="181" y="134"/>
                  </a:lnTo>
                  <a:lnTo>
                    <a:pt x="167" y="127"/>
                  </a:lnTo>
                  <a:lnTo>
                    <a:pt x="131" y="127"/>
                  </a:lnTo>
                  <a:lnTo>
                    <a:pt x="101" y="145"/>
                  </a:lnTo>
                  <a:lnTo>
                    <a:pt x="88" y="159"/>
                  </a:lnTo>
                  <a:lnTo>
                    <a:pt x="81" y="172"/>
                  </a:lnTo>
                  <a:lnTo>
                    <a:pt x="22" y="13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26400" y="2085840"/>
              <a:ext cx="174600" cy="122400"/>
            </a:xfrm>
            <a:custGeom>
              <a:avLst/>
              <a:gdLst/>
              <a:ahLst/>
              <a:rect l="l" t="t" r="r" b="b"/>
              <a:pathLst>
                <a:path w="336" h="230">
                  <a:moveTo>
                    <a:pt x="314" y="157"/>
                  </a:moveTo>
                  <a:lnTo>
                    <a:pt x="252" y="161"/>
                  </a:lnTo>
                  <a:lnTo>
                    <a:pt x="171" y="141"/>
                  </a:lnTo>
                  <a:lnTo>
                    <a:pt x="141" y="145"/>
                  </a:lnTo>
                  <a:lnTo>
                    <a:pt x="120" y="153"/>
                  </a:lnTo>
                  <a:lnTo>
                    <a:pt x="108" y="171"/>
                  </a:lnTo>
                  <a:lnTo>
                    <a:pt x="94" y="222"/>
                  </a:lnTo>
                  <a:lnTo>
                    <a:pt x="60" y="230"/>
                  </a:lnTo>
                  <a:lnTo>
                    <a:pt x="0" y="214"/>
                  </a:lnTo>
                  <a:lnTo>
                    <a:pt x="26" y="183"/>
                  </a:lnTo>
                  <a:lnTo>
                    <a:pt x="58" y="110"/>
                  </a:lnTo>
                  <a:lnTo>
                    <a:pt x="82" y="88"/>
                  </a:lnTo>
                  <a:lnTo>
                    <a:pt x="105" y="79"/>
                  </a:lnTo>
                  <a:lnTo>
                    <a:pt x="257" y="50"/>
                  </a:lnTo>
                  <a:lnTo>
                    <a:pt x="145" y="22"/>
                  </a:lnTo>
                  <a:lnTo>
                    <a:pt x="94" y="32"/>
                  </a:lnTo>
                  <a:lnTo>
                    <a:pt x="151" y="14"/>
                  </a:lnTo>
                  <a:lnTo>
                    <a:pt x="292" y="8"/>
                  </a:lnTo>
                  <a:lnTo>
                    <a:pt x="336" y="0"/>
                  </a:lnTo>
                  <a:lnTo>
                    <a:pt x="316" y="44"/>
                  </a:lnTo>
                  <a:lnTo>
                    <a:pt x="332" y="72"/>
                  </a:lnTo>
                  <a:lnTo>
                    <a:pt x="318" y="121"/>
                  </a:lnTo>
                  <a:lnTo>
                    <a:pt x="3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85080" y="2182680"/>
              <a:ext cx="57240" cy="30240"/>
            </a:xfrm>
            <a:custGeom>
              <a:avLst/>
              <a:gdLst/>
              <a:ahLst/>
              <a:rect l="l" t="t" r="r" b="b"/>
              <a:pathLst>
                <a:path w="107" h="50">
                  <a:moveTo>
                    <a:pt x="11" y="20"/>
                  </a:moveTo>
                  <a:lnTo>
                    <a:pt x="107" y="0"/>
                  </a:lnTo>
                  <a:lnTo>
                    <a:pt x="71" y="48"/>
                  </a:lnTo>
                  <a:lnTo>
                    <a:pt x="53" y="50"/>
                  </a:lnTo>
                  <a:lnTo>
                    <a:pt x="0" y="3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75440" y="2271600"/>
              <a:ext cx="136440" cy="38160"/>
            </a:xfrm>
            <a:custGeom>
              <a:avLst/>
              <a:gdLst/>
              <a:ahLst/>
              <a:rect l="l" t="t" r="r" b="b"/>
              <a:pathLst>
                <a:path w="269" h="68">
                  <a:moveTo>
                    <a:pt x="5" y="68"/>
                  </a:moveTo>
                  <a:lnTo>
                    <a:pt x="39" y="43"/>
                  </a:lnTo>
                  <a:lnTo>
                    <a:pt x="63" y="35"/>
                  </a:lnTo>
                  <a:lnTo>
                    <a:pt x="83" y="30"/>
                  </a:lnTo>
                  <a:lnTo>
                    <a:pt x="117" y="35"/>
                  </a:lnTo>
                  <a:lnTo>
                    <a:pt x="140" y="36"/>
                  </a:lnTo>
                  <a:lnTo>
                    <a:pt x="182" y="30"/>
                  </a:lnTo>
                  <a:lnTo>
                    <a:pt x="212" y="35"/>
                  </a:lnTo>
                  <a:lnTo>
                    <a:pt x="239" y="48"/>
                  </a:lnTo>
                  <a:lnTo>
                    <a:pt x="264" y="66"/>
                  </a:lnTo>
                  <a:lnTo>
                    <a:pt x="269" y="65"/>
                  </a:lnTo>
                  <a:lnTo>
                    <a:pt x="239" y="22"/>
                  </a:lnTo>
                  <a:lnTo>
                    <a:pt x="206" y="4"/>
                  </a:lnTo>
                  <a:lnTo>
                    <a:pt x="172" y="0"/>
                  </a:lnTo>
                  <a:lnTo>
                    <a:pt x="104" y="0"/>
                  </a:lnTo>
                  <a:lnTo>
                    <a:pt x="66" y="10"/>
                  </a:lnTo>
                  <a:lnTo>
                    <a:pt x="45" y="22"/>
                  </a:lnTo>
                  <a:lnTo>
                    <a:pt x="0" y="66"/>
                  </a:lnTo>
                  <a:lnTo>
                    <a:pt x="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8040" y="2314440"/>
              <a:ext cx="103320" cy="20880"/>
            </a:xfrm>
            <a:custGeom>
              <a:avLst/>
              <a:gdLst/>
              <a:ahLst/>
              <a:rect l="l" t="t" r="r" b="b"/>
              <a:pathLst>
                <a:path w="197" h="43">
                  <a:moveTo>
                    <a:pt x="0" y="25"/>
                  </a:moveTo>
                  <a:lnTo>
                    <a:pt x="35" y="0"/>
                  </a:lnTo>
                  <a:lnTo>
                    <a:pt x="65" y="5"/>
                  </a:lnTo>
                  <a:lnTo>
                    <a:pt x="157" y="5"/>
                  </a:lnTo>
                  <a:lnTo>
                    <a:pt x="181" y="0"/>
                  </a:lnTo>
                  <a:lnTo>
                    <a:pt x="197" y="25"/>
                  </a:lnTo>
                  <a:lnTo>
                    <a:pt x="175" y="43"/>
                  </a:lnTo>
                  <a:lnTo>
                    <a:pt x="27" y="43"/>
                  </a:lnTo>
                  <a:lnTo>
                    <a:pt x="8" y="3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02280" y="1908000"/>
              <a:ext cx="570240" cy="854280"/>
            </a:xfrm>
            <a:custGeom>
              <a:avLst/>
              <a:gdLst/>
              <a:ahLst/>
              <a:rect l="l" t="t" r="r" b="b"/>
              <a:pathLst>
                <a:path w="1105" h="1613">
                  <a:moveTo>
                    <a:pt x="710" y="510"/>
                  </a:moveTo>
                  <a:lnTo>
                    <a:pt x="642" y="513"/>
                  </a:lnTo>
                  <a:lnTo>
                    <a:pt x="736" y="548"/>
                  </a:lnTo>
                  <a:lnTo>
                    <a:pt x="814" y="567"/>
                  </a:lnTo>
                  <a:lnTo>
                    <a:pt x="819" y="586"/>
                  </a:lnTo>
                  <a:lnTo>
                    <a:pt x="817" y="602"/>
                  </a:lnTo>
                  <a:lnTo>
                    <a:pt x="781" y="617"/>
                  </a:lnTo>
                  <a:lnTo>
                    <a:pt x="738" y="634"/>
                  </a:lnTo>
                  <a:lnTo>
                    <a:pt x="718" y="658"/>
                  </a:lnTo>
                  <a:lnTo>
                    <a:pt x="707" y="684"/>
                  </a:lnTo>
                  <a:lnTo>
                    <a:pt x="674" y="849"/>
                  </a:lnTo>
                  <a:lnTo>
                    <a:pt x="658" y="877"/>
                  </a:lnTo>
                  <a:lnTo>
                    <a:pt x="638" y="896"/>
                  </a:lnTo>
                  <a:lnTo>
                    <a:pt x="611" y="905"/>
                  </a:lnTo>
                  <a:lnTo>
                    <a:pt x="593" y="873"/>
                  </a:lnTo>
                  <a:lnTo>
                    <a:pt x="555" y="904"/>
                  </a:lnTo>
                  <a:lnTo>
                    <a:pt x="525" y="907"/>
                  </a:lnTo>
                  <a:lnTo>
                    <a:pt x="402" y="907"/>
                  </a:lnTo>
                  <a:lnTo>
                    <a:pt x="349" y="917"/>
                  </a:lnTo>
                  <a:lnTo>
                    <a:pt x="310" y="945"/>
                  </a:lnTo>
                  <a:lnTo>
                    <a:pt x="62" y="1056"/>
                  </a:lnTo>
                  <a:lnTo>
                    <a:pt x="38" y="1050"/>
                  </a:lnTo>
                  <a:lnTo>
                    <a:pt x="21" y="1039"/>
                  </a:lnTo>
                  <a:lnTo>
                    <a:pt x="0" y="1000"/>
                  </a:lnTo>
                  <a:lnTo>
                    <a:pt x="20" y="1064"/>
                  </a:lnTo>
                  <a:lnTo>
                    <a:pt x="38" y="1087"/>
                  </a:lnTo>
                  <a:lnTo>
                    <a:pt x="66" y="1098"/>
                  </a:lnTo>
                  <a:lnTo>
                    <a:pt x="138" y="1121"/>
                  </a:lnTo>
                  <a:lnTo>
                    <a:pt x="171" y="1133"/>
                  </a:lnTo>
                  <a:lnTo>
                    <a:pt x="280" y="1176"/>
                  </a:lnTo>
                  <a:lnTo>
                    <a:pt x="349" y="1227"/>
                  </a:lnTo>
                  <a:lnTo>
                    <a:pt x="410" y="1283"/>
                  </a:lnTo>
                  <a:lnTo>
                    <a:pt x="458" y="1314"/>
                  </a:lnTo>
                  <a:lnTo>
                    <a:pt x="509" y="1328"/>
                  </a:lnTo>
                  <a:lnTo>
                    <a:pt x="611" y="1336"/>
                  </a:lnTo>
                  <a:lnTo>
                    <a:pt x="585" y="1362"/>
                  </a:lnTo>
                  <a:lnTo>
                    <a:pt x="616" y="1382"/>
                  </a:lnTo>
                  <a:lnTo>
                    <a:pt x="590" y="1405"/>
                  </a:lnTo>
                  <a:lnTo>
                    <a:pt x="616" y="1438"/>
                  </a:lnTo>
                  <a:lnTo>
                    <a:pt x="567" y="1461"/>
                  </a:lnTo>
                  <a:lnTo>
                    <a:pt x="476" y="1466"/>
                  </a:lnTo>
                  <a:lnTo>
                    <a:pt x="380" y="1453"/>
                  </a:lnTo>
                  <a:lnTo>
                    <a:pt x="320" y="1423"/>
                  </a:lnTo>
                  <a:lnTo>
                    <a:pt x="204" y="1359"/>
                  </a:lnTo>
                  <a:lnTo>
                    <a:pt x="340" y="1448"/>
                  </a:lnTo>
                  <a:lnTo>
                    <a:pt x="428" y="1479"/>
                  </a:lnTo>
                  <a:lnTo>
                    <a:pt x="559" y="1493"/>
                  </a:lnTo>
                  <a:lnTo>
                    <a:pt x="697" y="1509"/>
                  </a:lnTo>
                  <a:lnTo>
                    <a:pt x="835" y="1553"/>
                  </a:lnTo>
                  <a:lnTo>
                    <a:pt x="835" y="1573"/>
                  </a:lnTo>
                  <a:lnTo>
                    <a:pt x="736" y="1613"/>
                  </a:lnTo>
                  <a:lnTo>
                    <a:pt x="950" y="1610"/>
                  </a:lnTo>
                  <a:lnTo>
                    <a:pt x="898" y="1479"/>
                  </a:lnTo>
                  <a:lnTo>
                    <a:pt x="880" y="1390"/>
                  </a:lnTo>
                  <a:lnTo>
                    <a:pt x="870" y="1306"/>
                  </a:lnTo>
                  <a:lnTo>
                    <a:pt x="870" y="1209"/>
                  </a:lnTo>
                  <a:lnTo>
                    <a:pt x="885" y="1125"/>
                  </a:lnTo>
                  <a:lnTo>
                    <a:pt x="906" y="1034"/>
                  </a:lnTo>
                  <a:lnTo>
                    <a:pt x="1020" y="917"/>
                  </a:lnTo>
                  <a:lnTo>
                    <a:pt x="1093" y="877"/>
                  </a:lnTo>
                  <a:lnTo>
                    <a:pt x="1101" y="867"/>
                  </a:lnTo>
                  <a:lnTo>
                    <a:pt x="1105" y="843"/>
                  </a:lnTo>
                  <a:lnTo>
                    <a:pt x="1101" y="831"/>
                  </a:lnTo>
                  <a:lnTo>
                    <a:pt x="1030" y="716"/>
                  </a:lnTo>
                  <a:lnTo>
                    <a:pt x="1055" y="587"/>
                  </a:lnTo>
                  <a:lnTo>
                    <a:pt x="1066" y="457"/>
                  </a:lnTo>
                  <a:lnTo>
                    <a:pt x="1061" y="356"/>
                  </a:lnTo>
                  <a:lnTo>
                    <a:pt x="1036" y="261"/>
                  </a:lnTo>
                  <a:lnTo>
                    <a:pt x="1002" y="175"/>
                  </a:lnTo>
                  <a:lnTo>
                    <a:pt x="946" y="89"/>
                  </a:lnTo>
                  <a:lnTo>
                    <a:pt x="867" y="0"/>
                  </a:lnTo>
                  <a:lnTo>
                    <a:pt x="936" y="111"/>
                  </a:lnTo>
                  <a:lnTo>
                    <a:pt x="890" y="84"/>
                  </a:lnTo>
                  <a:lnTo>
                    <a:pt x="833" y="159"/>
                  </a:lnTo>
                  <a:lnTo>
                    <a:pt x="794" y="131"/>
                  </a:lnTo>
                  <a:lnTo>
                    <a:pt x="852" y="58"/>
                  </a:lnTo>
                  <a:lnTo>
                    <a:pt x="793" y="0"/>
                  </a:lnTo>
                  <a:lnTo>
                    <a:pt x="725" y="93"/>
                  </a:lnTo>
                  <a:lnTo>
                    <a:pt x="662" y="71"/>
                  </a:lnTo>
                  <a:lnTo>
                    <a:pt x="763" y="139"/>
                  </a:lnTo>
                  <a:lnTo>
                    <a:pt x="835" y="201"/>
                  </a:lnTo>
                  <a:lnTo>
                    <a:pt x="878" y="261"/>
                  </a:lnTo>
                  <a:lnTo>
                    <a:pt x="914" y="338"/>
                  </a:lnTo>
                  <a:lnTo>
                    <a:pt x="934" y="424"/>
                  </a:lnTo>
                  <a:lnTo>
                    <a:pt x="911" y="396"/>
                  </a:lnTo>
                  <a:lnTo>
                    <a:pt x="827" y="307"/>
                  </a:lnTo>
                  <a:lnTo>
                    <a:pt x="766" y="251"/>
                  </a:lnTo>
                  <a:lnTo>
                    <a:pt x="692" y="201"/>
                  </a:lnTo>
                  <a:lnTo>
                    <a:pt x="618" y="163"/>
                  </a:lnTo>
                  <a:lnTo>
                    <a:pt x="537" y="132"/>
                  </a:lnTo>
                  <a:lnTo>
                    <a:pt x="494" y="122"/>
                  </a:lnTo>
                  <a:lnTo>
                    <a:pt x="475" y="106"/>
                  </a:lnTo>
                  <a:lnTo>
                    <a:pt x="453" y="81"/>
                  </a:lnTo>
                  <a:lnTo>
                    <a:pt x="463" y="113"/>
                  </a:lnTo>
                  <a:lnTo>
                    <a:pt x="471" y="127"/>
                  </a:lnTo>
                  <a:lnTo>
                    <a:pt x="486" y="145"/>
                  </a:lnTo>
                  <a:lnTo>
                    <a:pt x="531" y="170"/>
                  </a:lnTo>
                  <a:lnTo>
                    <a:pt x="662" y="259"/>
                  </a:lnTo>
                  <a:lnTo>
                    <a:pt x="736" y="325"/>
                  </a:lnTo>
                  <a:lnTo>
                    <a:pt x="787" y="384"/>
                  </a:lnTo>
                  <a:lnTo>
                    <a:pt x="805" y="422"/>
                  </a:lnTo>
                  <a:lnTo>
                    <a:pt x="801" y="444"/>
                  </a:lnTo>
                  <a:lnTo>
                    <a:pt x="710" y="5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19760" y="1941480"/>
              <a:ext cx="392400" cy="622440"/>
            </a:xfrm>
            <a:custGeom>
              <a:avLst/>
              <a:gdLst/>
              <a:ahLst/>
              <a:rect l="l" t="t" r="r" b="b"/>
              <a:pathLst>
                <a:path w="759" h="1180">
                  <a:moveTo>
                    <a:pt x="741" y="0"/>
                  </a:moveTo>
                  <a:lnTo>
                    <a:pt x="759" y="39"/>
                  </a:lnTo>
                  <a:lnTo>
                    <a:pt x="759" y="71"/>
                  </a:lnTo>
                  <a:lnTo>
                    <a:pt x="741" y="97"/>
                  </a:lnTo>
                  <a:lnTo>
                    <a:pt x="689" y="121"/>
                  </a:lnTo>
                  <a:lnTo>
                    <a:pt x="580" y="179"/>
                  </a:lnTo>
                  <a:lnTo>
                    <a:pt x="509" y="224"/>
                  </a:lnTo>
                  <a:lnTo>
                    <a:pt x="457" y="274"/>
                  </a:lnTo>
                  <a:lnTo>
                    <a:pt x="419" y="333"/>
                  </a:lnTo>
                  <a:lnTo>
                    <a:pt x="387" y="459"/>
                  </a:lnTo>
                  <a:lnTo>
                    <a:pt x="372" y="504"/>
                  </a:lnTo>
                  <a:lnTo>
                    <a:pt x="323" y="588"/>
                  </a:lnTo>
                  <a:lnTo>
                    <a:pt x="305" y="651"/>
                  </a:lnTo>
                  <a:lnTo>
                    <a:pt x="296" y="729"/>
                  </a:lnTo>
                  <a:lnTo>
                    <a:pt x="308" y="753"/>
                  </a:lnTo>
                  <a:lnTo>
                    <a:pt x="330" y="753"/>
                  </a:lnTo>
                  <a:lnTo>
                    <a:pt x="343" y="733"/>
                  </a:lnTo>
                  <a:lnTo>
                    <a:pt x="343" y="836"/>
                  </a:lnTo>
                  <a:lnTo>
                    <a:pt x="296" y="806"/>
                  </a:lnTo>
                  <a:lnTo>
                    <a:pt x="296" y="867"/>
                  </a:lnTo>
                  <a:lnTo>
                    <a:pt x="252" y="829"/>
                  </a:lnTo>
                  <a:lnTo>
                    <a:pt x="252" y="893"/>
                  </a:lnTo>
                  <a:lnTo>
                    <a:pt x="270" y="964"/>
                  </a:lnTo>
                  <a:lnTo>
                    <a:pt x="290" y="964"/>
                  </a:lnTo>
                  <a:lnTo>
                    <a:pt x="308" y="924"/>
                  </a:lnTo>
                  <a:lnTo>
                    <a:pt x="334" y="900"/>
                  </a:lnTo>
                  <a:lnTo>
                    <a:pt x="361" y="971"/>
                  </a:lnTo>
                  <a:lnTo>
                    <a:pt x="372" y="1002"/>
                  </a:lnTo>
                  <a:lnTo>
                    <a:pt x="372" y="1085"/>
                  </a:lnTo>
                  <a:lnTo>
                    <a:pt x="354" y="1180"/>
                  </a:lnTo>
                  <a:lnTo>
                    <a:pt x="316" y="1040"/>
                  </a:lnTo>
                  <a:lnTo>
                    <a:pt x="252" y="976"/>
                  </a:lnTo>
                  <a:lnTo>
                    <a:pt x="206" y="938"/>
                  </a:lnTo>
                  <a:lnTo>
                    <a:pt x="155" y="885"/>
                  </a:lnTo>
                  <a:lnTo>
                    <a:pt x="61" y="867"/>
                  </a:lnTo>
                  <a:lnTo>
                    <a:pt x="0" y="785"/>
                  </a:lnTo>
                  <a:lnTo>
                    <a:pt x="91" y="836"/>
                  </a:lnTo>
                  <a:lnTo>
                    <a:pt x="163" y="836"/>
                  </a:lnTo>
                  <a:lnTo>
                    <a:pt x="123" y="791"/>
                  </a:lnTo>
                  <a:lnTo>
                    <a:pt x="111" y="747"/>
                  </a:lnTo>
                  <a:lnTo>
                    <a:pt x="111" y="682"/>
                  </a:lnTo>
                  <a:lnTo>
                    <a:pt x="123" y="729"/>
                  </a:lnTo>
                  <a:lnTo>
                    <a:pt x="137" y="733"/>
                  </a:lnTo>
                  <a:lnTo>
                    <a:pt x="181" y="671"/>
                  </a:lnTo>
                  <a:lnTo>
                    <a:pt x="219" y="592"/>
                  </a:lnTo>
                  <a:lnTo>
                    <a:pt x="257" y="536"/>
                  </a:lnTo>
                  <a:lnTo>
                    <a:pt x="305" y="478"/>
                  </a:lnTo>
                  <a:lnTo>
                    <a:pt x="239" y="504"/>
                  </a:lnTo>
                  <a:lnTo>
                    <a:pt x="239" y="465"/>
                  </a:lnTo>
                  <a:lnTo>
                    <a:pt x="257" y="409"/>
                  </a:lnTo>
                  <a:lnTo>
                    <a:pt x="290" y="359"/>
                  </a:lnTo>
                  <a:lnTo>
                    <a:pt x="343" y="288"/>
                  </a:lnTo>
                  <a:lnTo>
                    <a:pt x="419" y="217"/>
                  </a:lnTo>
                  <a:lnTo>
                    <a:pt x="516" y="148"/>
                  </a:lnTo>
                  <a:lnTo>
                    <a:pt x="624" y="89"/>
                  </a:lnTo>
                  <a:lnTo>
                    <a:pt x="682" y="64"/>
                  </a:lnTo>
                  <a:lnTo>
                    <a:pt x="715" y="39"/>
                  </a:lnTo>
                  <a:lnTo>
                    <a:pt x="727" y="24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81800" y="2386080"/>
              <a:ext cx="111240" cy="419040"/>
            </a:xfrm>
            <a:custGeom>
              <a:avLst/>
              <a:gdLst/>
              <a:ahLst/>
              <a:rect l="l" t="t" r="r" b="b"/>
              <a:pathLst>
                <a:path w="218" h="788">
                  <a:moveTo>
                    <a:pt x="71" y="0"/>
                  </a:moveTo>
                  <a:lnTo>
                    <a:pt x="180" y="297"/>
                  </a:lnTo>
                  <a:lnTo>
                    <a:pt x="185" y="323"/>
                  </a:lnTo>
                  <a:lnTo>
                    <a:pt x="185" y="349"/>
                  </a:lnTo>
                  <a:lnTo>
                    <a:pt x="114" y="465"/>
                  </a:lnTo>
                  <a:lnTo>
                    <a:pt x="218" y="788"/>
                  </a:lnTo>
                  <a:lnTo>
                    <a:pt x="129" y="770"/>
                  </a:lnTo>
                  <a:lnTo>
                    <a:pt x="26" y="706"/>
                  </a:lnTo>
                  <a:lnTo>
                    <a:pt x="76" y="668"/>
                  </a:lnTo>
                  <a:lnTo>
                    <a:pt x="30" y="387"/>
                  </a:lnTo>
                  <a:lnTo>
                    <a:pt x="121" y="597"/>
                  </a:lnTo>
                  <a:lnTo>
                    <a:pt x="0" y="94"/>
                  </a:lnTo>
                  <a:lnTo>
                    <a:pt x="96" y="387"/>
                  </a:lnTo>
                  <a:lnTo>
                    <a:pt x="135" y="330"/>
                  </a:lnTo>
                  <a:lnTo>
                    <a:pt x="135" y="297"/>
                  </a:lnTo>
                  <a:lnTo>
                    <a:pt x="71" y="120"/>
                  </a:lnTo>
                  <a:lnTo>
                    <a:pt x="12" y="8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3240" y="1913040"/>
              <a:ext cx="453960" cy="366480"/>
            </a:xfrm>
            <a:custGeom>
              <a:avLst/>
              <a:gdLst/>
              <a:ahLst/>
              <a:rect l="l" t="t" r="r" b="b"/>
              <a:pathLst>
                <a:path w="877" h="690">
                  <a:moveTo>
                    <a:pt x="877" y="38"/>
                  </a:moveTo>
                  <a:lnTo>
                    <a:pt x="748" y="20"/>
                  </a:lnTo>
                  <a:lnTo>
                    <a:pt x="618" y="20"/>
                  </a:lnTo>
                  <a:lnTo>
                    <a:pt x="490" y="52"/>
                  </a:lnTo>
                  <a:lnTo>
                    <a:pt x="381" y="111"/>
                  </a:lnTo>
                  <a:lnTo>
                    <a:pt x="284" y="193"/>
                  </a:lnTo>
                  <a:lnTo>
                    <a:pt x="214" y="294"/>
                  </a:lnTo>
                  <a:lnTo>
                    <a:pt x="168" y="378"/>
                  </a:lnTo>
                  <a:lnTo>
                    <a:pt x="124" y="492"/>
                  </a:lnTo>
                  <a:lnTo>
                    <a:pt x="53" y="690"/>
                  </a:lnTo>
                  <a:lnTo>
                    <a:pt x="15" y="658"/>
                  </a:lnTo>
                  <a:lnTo>
                    <a:pt x="15" y="606"/>
                  </a:lnTo>
                  <a:lnTo>
                    <a:pt x="0" y="492"/>
                  </a:lnTo>
                  <a:lnTo>
                    <a:pt x="8" y="378"/>
                  </a:lnTo>
                  <a:lnTo>
                    <a:pt x="27" y="568"/>
                  </a:lnTo>
                  <a:lnTo>
                    <a:pt x="38" y="626"/>
                  </a:lnTo>
                  <a:lnTo>
                    <a:pt x="99" y="472"/>
                  </a:lnTo>
                  <a:lnTo>
                    <a:pt x="150" y="352"/>
                  </a:lnTo>
                  <a:lnTo>
                    <a:pt x="226" y="225"/>
                  </a:lnTo>
                  <a:lnTo>
                    <a:pt x="317" y="129"/>
                  </a:lnTo>
                  <a:lnTo>
                    <a:pt x="458" y="38"/>
                  </a:lnTo>
                  <a:lnTo>
                    <a:pt x="618" y="0"/>
                  </a:lnTo>
                  <a:lnTo>
                    <a:pt x="748" y="0"/>
                  </a:lnTo>
                  <a:lnTo>
                    <a:pt x="830" y="20"/>
                  </a:lnTo>
                  <a:lnTo>
                    <a:pt x="87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57920" y="1793880"/>
              <a:ext cx="593640" cy="338040"/>
            </a:xfrm>
            <a:custGeom>
              <a:avLst/>
              <a:gdLst/>
              <a:ahLst/>
              <a:rect l="l" t="t" r="r" b="b"/>
              <a:pathLst>
                <a:path w="1152" h="638">
                  <a:moveTo>
                    <a:pt x="4" y="557"/>
                  </a:moveTo>
                  <a:lnTo>
                    <a:pt x="39" y="419"/>
                  </a:lnTo>
                  <a:lnTo>
                    <a:pt x="142" y="259"/>
                  </a:lnTo>
                  <a:lnTo>
                    <a:pt x="254" y="147"/>
                  </a:lnTo>
                  <a:lnTo>
                    <a:pt x="391" y="62"/>
                  </a:lnTo>
                  <a:lnTo>
                    <a:pt x="523" y="18"/>
                  </a:lnTo>
                  <a:lnTo>
                    <a:pt x="619" y="0"/>
                  </a:lnTo>
                  <a:lnTo>
                    <a:pt x="732" y="0"/>
                  </a:lnTo>
                  <a:lnTo>
                    <a:pt x="872" y="40"/>
                  </a:lnTo>
                  <a:lnTo>
                    <a:pt x="981" y="91"/>
                  </a:lnTo>
                  <a:lnTo>
                    <a:pt x="1090" y="163"/>
                  </a:lnTo>
                  <a:lnTo>
                    <a:pt x="1152" y="227"/>
                  </a:lnTo>
                  <a:lnTo>
                    <a:pt x="1062" y="158"/>
                  </a:lnTo>
                  <a:lnTo>
                    <a:pt x="913" y="74"/>
                  </a:lnTo>
                  <a:lnTo>
                    <a:pt x="772" y="28"/>
                  </a:lnTo>
                  <a:lnTo>
                    <a:pt x="663" y="23"/>
                  </a:lnTo>
                  <a:lnTo>
                    <a:pt x="534" y="33"/>
                  </a:lnTo>
                  <a:lnTo>
                    <a:pt x="403" y="78"/>
                  </a:lnTo>
                  <a:lnTo>
                    <a:pt x="279" y="153"/>
                  </a:lnTo>
                  <a:lnTo>
                    <a:pt x="170" y="254"/>
                  </a:lnTo>
                  <a:lnTo>
                    <a:pt x="91" y="372"/>
                  </a:lnTo>
                  <a:lnTo>
                    <a:pt x="39" y="462"/>
                  </a:lnTo>
                  <a:lnTo>
                    <a:pt x="0" y="638"/>
                  </a:lnTo>
                  <a:lnTo>
                    <a:pt x="4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73760" y="1827360"/>
              <a:ext cx="619200" cy="426960"/>
            </a:xfrm>
            <a:custGeom>
              <a:avLst/>
              <a:gdLst/>
              <a:ahLst/>
              <a:rect l="l" t="t" r="r" b="b"/>
              <a:pathLst>
                <a:path w="1198" h="811">
                  <a:moveTo>
                    <a:pt x="0" y="771"/>
                  </a:moveTo>
                  <a:lnTo>
                    <a:pt x="0" y="648"/>
                  </a:lnTo>
                  <a:lnTo>
                    <a:pt x="12" y="520"/>
                  </a:lnTo>
                  <a:lnTo>
                    <a:pt x="58" y="383"/>
                  </a:lnTo>
                  <a:lnTo>
                    <a:pt x="143" y="248"/>
                  </a:lnTo>
                  <a:lnTo>
                    <a:pt x="257" y="134"/>
                  </a:lnTo>
                  <a:lnTo>
                    <a:pt x="376" y="62"/>
                  </a:lnTo>
                  <a:lnTo>
                    <a:pt x="501" y="12"/>
                  </a:lnTo>
                  <a:lnTo>
                    <a:pt x="586" y="0"/>
                  </a:lnTo>
                  <a:lnTo>
                    <a:pt x="705" y="0"/>
                  </a:lnTo>
                  <a:lnTo>
                    <a:pt x="845" y="40"/>
                  </a:lnTo>
                  <a:lnTo>
                    <a:pt x="949" y="85"/>
                  </a:lnTo>
                  <a:lnTo>
                    <a:pt x="1051" y="147"/>
                  </a:lnTo>
                  <a:lnTo>
                    <a:pt x="1119" y="210"/>
                  </a:lnTo>
                  <a:lnTo>
                    <a:pt x="1181" y="266"/>
                  </a:lnTo>
                  <a:lnTo>
                    <a:pt x="1198" y="322"/>
                  </a:lnTo>
                  <a:lnTo>
                    <a:pt x="1045" y="192"/>
                  </a:lnTo>
                  <a:lnTo>
                    <a:pt x="910" y="113"/>
                  </a:lnTo>
                  <a:lnTo>
                    <a:pt x="767" y="67"/>
                  </a:lnTo>
                  <a:lnTo>
                    <a:pt x="649" y="50"/>
                  </a:lnTo>
                  <a:lnTo>
                    <a:pt x="511" y="67"/>
                  </a:lnTo>
                  <a:lnTo>
                    <a:pt x="364" y="131"/>
                  </a:lnTo>
                  <a:lnTo>
                    <a:pt x="252" y="210"/>
                  </a:lnTo>
                  <a:lnTo>
                    <a:pt x="143" y="322"/>
                  </a:lnTo>
                  <a:lnTo>
                    <a:pt x="74" y="457"/>
                  </a:lnTo>
                  <a:lnTo>
                    <a:pt x="40" y="586"/>
                  </a:lnTo>
                  <a:lnTo>
                    <a:pt x="18" y="811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27720" y="1887480"/>
              <a:ext cx="54000" cy="63720"/>
            </a:xfrm>
            <a:custGeom>
              <a:avLst/>
              <a:gdLst/>
              <a:ahLst/>
              <a:rect l="l" t="t" r="r" b="b"/>
              <a:pathLst>
                <a:path w="105" h="118">
                  <a:moveTo>
                    <a:pt x="30" y="0"/>
                  </a:moveTo>
                  <a:lnTo>
                    <a:pt x="0" y="90"/>
                  </a:lnTo>
                  <a:lnTo>
                    <a:pt x="59" y="118"/>
                  </a:lnTo>
                  <a:lnTo>
                    <a:pt x="105" y="2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70840" y="1862280"/>
              <a:ext cx="48960" cy="6660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97" y="18"/>
                  </a:moveTo>
                  <a:lnTo>
                    <a:pt x="52" y="125"/>
                  </a:lnTo>
                  <a:lnTo>
                    <a:pt x="0" y="108"/>
                  </a:lnTo>
                  <a:lnTo>
                    <a:pt x="13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95960" y="1849320"/>
              <a:ext cx="54000" cy="66960"/>
            </a:xfrm>
            <a:custGeom>
              <a:avLst/>
              <a:gdLst/>
              <a:ahLst/>
              <a:rect l="l" t="t" r="r" b="b"/>
              <a:pathLst>
                <a:path w="101" h="129">
                  <a:moveTo>
                    <a:pt x="101" y="7"/>
                  </a:moveTo>
                  <a:lnTo>
                    <a:pt x="84" y="129"/>
                  </a:lnTo>
                  <a:lnTo>
                    <a:pt x="16" y="125"/>
                  </a:lnTo>
                  <a:lnTo>
                    <a:pt x="0" y="0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21440" y="1852560"/>
              <a:ext cx="58680" cy="73080"/>
            </a:xfrm>
            <a:custGeom>
              <a:avLst/>
              <a:gdLst/>
              <a:ahLst/>
              <a:rect l="l" t="t" r="r" b="b"/>
              <a:pathLst>
                <a:path w="109" h="135">
                  <a:moveTo>
                    <a:pt x="79" y="0"/>
                  </a:moveTo>
                  <a:lnTo>
                    <a:pt x="109" y="125"/>
                  </a:lnTo>
                  <a:lnTo>
                    <a:pt x="44" y="135"/>
                  </a:lnTo>
                  <a:lnTo>
                    <a:pt x="0" y="1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59520" y="1874880"/>
              <a:ext cx="58680" cy="6660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63" y="0"/>
                  </a:moveTo>
                  <a:lnTo>
                    <a:pt x="109" y="101"/>
                  </a:lnTo>
                  <a:lnTo>
                    <a:pt x="53" y="124"/>
                  </a:lnTo>
                  <a:lnTo>
                    <a:pt x="0" y="2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05520" y="1908000"/>
              <a:ext cx="54000" cy="63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52" y="0"/>
                  </a:moveTo>
                  <a:lnTo>
                    <a:pt x="102" y="84"/>
                  </a:lnTo>
                  <a:lnTo>
                    <a:pt x="52" y="114"/>
                  </a:lnTo>
                  <a:lnTo>
                    <a:pt x="0" y="3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64480" y="1951200"/>
              <a:ext cx="54000" cy="5868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48" y="0"/>
                  </a:moveTo>
                  <a:lnTo>
                    <a:pt x="107" y="73"/>
                  </a:lnTo>
                  <a:lnTo>
                    <a:pt x="69" y="113"/>
                  </a:lnTo>
                  <a:lnTo>
                    <a:pt x="0" y="3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32440" y="1992240"/>
              <a:ext cx="52560" cy="50760"/>
            </a:xfrm>
            <a:custGeom>
              <a:avLst/>
              <a:gdLst/>
              <a:ahLst/>
              <a:rect l="l" t="t" r="r" b="b"/>
              <a:pathLst>
                <a:path w="102" h="96">
                  <a:moveTo>
                    <a:pt x="28" y="0"/>
                  </a:moveTo>
                  <a:lnTo>
                    <a:pt x="102" y="62"/>
                  </a:lnTo>
                  <a:lnTo>
                    <a:pt x="68" y="96"/>
                  </a:lnTo>
                  <a:lnTo>
                    <a:pt x="0" y="5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7240" y="2039760"/>
              <a:ext cx="49320" cy="4140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28" y="0"/>
                  </a:moveTo>
                  <a:lnTo>
                    <a:pt x="94" y="44"/>
                  </a:lnTo>
                  <a:lnTo>
                    <a:pt x="73" y="79"/>
                  </a:lnTo>
                  <a:lnTo>
                    <a:pt x="0" y="4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94640" y="2081160"/>
              <a:ext cx="41040" cy="3492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79" y="23"/>
                  </a:moveTo>
                  <a:lnTo>
                    <a:pt x="12" y="0"/>
                  </a:lnTo>
                  <a:lnTo>
                    <a:pt x="0" y="41"/>
                  </a:lnTo>
                  <a:lnTo>
                    <a:pt x="63" y="69"/>
                  </a:lnTo>
                  <a:lnTo>
                    <a:pt x="7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89600" y="2119320"/>
              <a:ext cx="33480" cy="4284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69" y="19"/>
                  </a:moveTo>
                  <a:lnTo>
                    <a:pt x="10" y="0"/>
                  </a:lnTo>
                  <a:lnTo>
                    <a:pt x="0" y="75"/>
                  </a:lnTo>
                  <a:lnTo>
                    <a:pt x="44" y="85"/>
                  </a:lnTo>
                  <a:lnTo>
                    <a:pt x="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83360" y="1420920"/>
              <a:ext cx="58680" cy="380880"/>
            </a:xfrm>
            <a:custGeom>
              <a:avLst/>
              <a:gdLst/>
              <a:ahLst/>
              <a:rect l="l" t="t" r="r" b="b"/>
              <a:pathLst>
                <a:path w="116" h="714">
                  <a:moveTo>
                    <a:pt x="0" y="714"/>
                  </a:moveTo>
                  <a:lnTo>
                    <a:pt x="59" y="0"/>
                  </a:lnTo>
                  <a:lnTo>
                    <a:pt x="116" y="707"/>
                  </a:lnTo>
                  <a:lnTo>
                    <a:pt x="0" y="7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86760" y="1582560"/>
              <a:ext cx="293400" cy="312840"/>
            </a:xfrm>
            <a:custGeom>
              <a:avLst/>
              <a:gdLst/>
              <a:ahLst/>
              <a:rect l="l" t="t" r="r" b="b"/>
              <a:pathLst>
                <a:path w="567" h="594">
                  <a:moveTo>
                    <a:pt x="0" y="525"/>
                  </a:moveTo>
                  <a:lnTo>
                    <a:pt x="567" y="0"/>
                  </a:lnTo>
                  <a:lnTo>
                    <a:pt x="102" y="594"/>
                  </a:lnTo>
                  <a:lnTo>
                    <a:pt x="0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5240" y="1519200"/>
              <a:ext cx="293760" cy="358920"/>
            </a:xfrm>
            <a:custGeom>
              <a:avLst/>
              <a:gdLst/>
              <a:ahLst/>
              <a:rect l="l" t="t" r="r" b="b"/>
              <a:pathLst>
                <a:path w="568" h="681">
                  <a:moveTo>
                    <a:pt x="568" y="609"/>
                  </a:moveTo>
                  <a:lnTo>
                    <a:pt x="0" y="0"/>
                  </a:lnTo>
                  <a:lnTo>
                    <a:pt x="468" y="681"/>
                  </a:lnTo>
                  <a:lnTo>
                    <a:pt x="568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10600" y="1900080"/>
              <a:ext cx="417240" cy="160560"/>
            </a:xfrm>
            <a:custGeom>
              <a:avLst/>
              <a:gdLst/>
              <a:ahLst/>
              <a:rect l="l" t="t" r="r" b="b"/>
              <a:pathLst>
                <a:path w="808" h="310">
                  <a:moveTo>
                    <a:pt x="0" y="192"/>
                  </a:moveTo>
                  <a:lnTo>
                    <a:pt x="808" y="0"/>
                  </a:lnTo>
                  <a:lnTo>
                    <a:pt x="56" y="31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34000" y="1963800"/>
              <a:ext cx="255600" cy="104760"/>
            </a:xfrm>
            <a:custGeom>
              <a:avLst/>
              <a:gdLst/>
              <a:ahLst/>
              <a:rect l="l" t="t" r="r" b="b"/>
              <a:pathLst>
                <a:path w="490" h="197">
                  <a:moveTo>
                    <a:pt x="490" y="84"/>
                  </a:moveTo>
                  <a:lnTo>
                    <a:pt x="0" y="0"/>
                  </a:lnTo>
                  <a:lnTo>
                    <a:pt x="23" y="62"/>
                  </a:lnTo>
                  <a:lnTo>
                    <a:pt x="450" y="197"/>
                  </a:lnTo>
                  <a:lnTo>
                    <a:pt x="4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9040" y="2162160"/>
              <a:ext cx="417600" cy="76320"/>
            </a:xfrm>
            <a:custGeom>
              <a:avLst/>
              <a:gdLst/>
              <a:ahLst/>
              <a:rect l="l" t="t" r="r" b="b"/>
              <a:pathLst>
                <a:path w="814" h="141">
                  <a:moveTo>
                    <a:pt x="25" y="0"/>
                  </a:moveTo>
                  <a:lnTo>
                    <a:pt x="814" y="118"/>
                  </a:lnTo>
                  <a:lnTo>
                    <a:pt x="0" y="14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34080" y="2162160"/>
              <a:ext cx="127080" cy="71280"/>
            </a:xfrm>
            <a:custGeom>
              <a:avLst/>
              <a:gdLst/>
              <a:ahLst/>
              <a:rect l="l" t="t" r="r" b="b"/>
              <a:pathLst>
                <a:path w="244" h="139">
                  <a:moveTo>
                    <a:pt x="232" y="0"/>
                  </a:moveTo>
                  <a:lnTo>
                    <a:pt x="0" y="35"/>
                  </a:lnTo>
                  <a:lnTo>
                    <a:pt x="0" y="129"/>
                  </a:lnTo>
                  <a:lnTo>
                    <a:pt x="244" y="139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6120" y="2052720"/>
              <a:ext cx="392040" cy="338040"/>
            </a:xfrm>
            <a:custGeom>
              <a:avLst/>
              <a:gdLst/>
              <a:ahLst/>
              <a:rect l="l" t="t" r="r" b="b"/>
              <a:pathLst>
                <a:path w="765" h="641">
                  <a:moveTo>
                    <a:pt x="263" y="183"/>
                  </a:moveTo>
                  <a:lnTo>
                    <a:pt x="299" y="417"/>
                  </a:lnTo>
                  <a:lnTo>
                    <a:pt x="765" y="0"/>
                  </a:lnTo>
                  <a:lnTo>
                    <a:pt x="197" y="641"/>
                  </a:lnTo>
                  <a:lnTo>
                    <a:pt x="258" y="446"/>
                  </a:lnTo>
                  <a:lnTo>
                    <a:pt x="0" y="641"/>
                  </a:lnTo>
                  <a:lnTo>
                    <a:pt x="250" y="396"/>
                  </a:lnTo>
                  <a:lnTo>
                    <a:pt x="250" y="358"/>
                  </a:lnTo>
                  <a:lnTo>
                    <a:pt x="161" y="396"/>
                  </a:lnTo>
                  <a:lnTo>
                    <a:pt x="250" y="321"/>
                  </a:lnTo>
                  <a:lnTo>
                    <a:pt x="263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72120" y="2090880"/>
              <a:ext cx="185760" cy="325440"/>
            </a:xfrm>
            <a:custGeom>
              <a:avLst/>
              <a:gdLst/>
              <a:ahLst/>
              <a:rect l="l" t="t" r="r" b="b"/>
              <a:pathLst>
                <a:path w="361" h="614">
                  <a:moveTo>
                    <a:pt x="353" y="0"/>
                  </a:moveTo>
                  <a:lnTo>
                    <a:pt x="236" y="124"/>
                  </a:lnTo>
                  <a:lnTo>
                    <a:pt x="73" y="366"/>
                  </a:lnTo>
                  <a:lnTo>
                    <a:pt x="51" y="483"/>
                  </a:lnTo>
                  <a:lnTo>
                    <a:pt x="0" y="614"/>
                  </a:lnTo>
                  <a:lnTo>
                    <a:pt x="73" y="483"/>
                  </a:lnTo>
                  <a:lnTo>
                    <a:pt x="103" y="366"/>
                  </a:lnTo>
                  <a:lnTo>
                    <a:pt x="270" y="124"/>
                  </a:lnTo>
                  <a:lnTo>
                    <a:pt x="361" y="38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2400" y="2444760"/>
              <a:ext cx="127080" cy="406440"/>
            </a:xfrm>
            <a:custGeom>
              <a:avLst/>
              <a:gdLst/>
              <a:ahLst/>
              <a:rect l="l" t="t" r="r" b="b"/>
              <a:pathLst>
                <a:path w="249" h="766">
                  <a:moveTo>
                    <a:pt x="249" y="0"/>
                  </a:moveTo>
                  <a:lnTo>
                    <a:pt x="168" y="103"/>
                  </a:lnTo>
                  <a:lnTo>
                    <a:pt x="0" y="606"/>
                  </a:lnTo>
                  <a:lnTo>
                    <a:pt x="0" y="766"/>
                  </a:lnTo>
                  <a:lnTo>
                    <a:pt x="125" y="570"/>
                  </a:lnTo>
                  <a:lnTo>
                    <a:pt x="249" y="67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2416320"/>
              <a:ext cx="180720" cy="172800"/>
            </a:xfrm>
            <a:custGeom>
              <a:avLst/>
              <a:gdLst/>
              <a:ahLst/>
              <a:rect l="l" t="t" r="r" b="b"/>
              <a:pathLst>
                <a:path w="352" h="328">
                  <a:moveTo>
                    <a:pt x="60" y="0"/>
                  </a:moveTo>
                  <a:lnTo>
                    <a:pt x="0" y="196"/>
                  </a:lnTo>
                  <a:lnTo>
                    <a:pt x="0" y="328"/>
                  </a:lnTo>
                  <a:lnTo>
                    <a:pt x="140" y="283"/>
                  </a:lnTo>
                  <a:lnTo>
                    <a:pt x="352" y="6"/>
                  </a:lnTo>
                  <a:lnTo>
                    <a:pt x="177" y="147"/>
                  </a:lnTo>
                  <a:lnTo>
                    <a:pt x="51" y="18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45280" y="2419200"/>
              <a:ext cx="450720" cy="677880"/>
            </a:xfrm>
            <a:custGeom>
              <a:avLst/>
              <a:gdLst/>
              <a:ahLst/>
              <a:rect l="l" t="t" r="r" b="b"/>
              <a:pathLst>
                <a:path w="868" h="1277">
                  <a:moveTo>
                    <a:pt x="868" y="0"/>
                  </a:moveTo>
                  <a:lnTo>
                    <a:pt x="720" y="299"/>
                  </a:lnTo>
                  <a:lnTo>
                    <a:pt x="537" y="431"/>
                  </a:lnTo>
                  <a:lnTo>
                    <a:pt x="303" y="760"/>
                  </a:lnTo>
                  <a:lnTo>
                    <a:pt x="81" y="1125"/>
                  </a:lnTo>
                  <a:lnTo>
                    <a:pt x="0" y="1008"/>
                  </a:lnTo>
                  <a:lnTo>
                    <a:pt x="0" y="1189"/>
                  </a:lnTo>
                  <a:lnTo>
                    <a:pt x="95" y="1277"/>
                  </a:lnTo>
                  <a:lnTo>
                    <a:pt x="104" y="1175"/>
                  </a:lnTo>
                  <a:lnTo>
                    <a:pt x="331" y="772"/>
                  </a:lnTo>
                  <a:lnTo>
                    <a:pt x="470" y="607"/>
                  </a:lnTo>
                  <a:lnTo>
                    <a:pt x="353" y="847"/>
                  </a:lnTo>
                  <a:lnTo>
                    <a:pt x="616" y="686"/>
                  </a:lnTo>
                  <a:lnTo>
                    <a:pt x="758" y="327"/>
                  </a:lnTo>
                  <a:lnTo>
                    <a:pt x="8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07160" y="2457360"/>
              <a:ext cx="149400" cy="330120"/>
            </a:xfrm>
            <a:custGeom>
              <a:avLst/>
              <a:gdLst/>
              <a:ahLst/>
              <a:rect l="l" t="t" r="r" b="b"/>
              <a:pathLst>
                <a:path w="287" h="621">
                  <a:moveTo>
                    <a:pt x="223" y="0"/>
                  </a:moveTo>
                  <a:lnTo>
                    <a:pt x="287" y="160"/>
                  </a:lnTo>
                  <a:lnTo>
                    <a:pt x="0" y="621"/>
                  </a:lnTo>
                  <a:lnTo>
                    <a:pt x="89" y="432"/>
                  </a:lnTo>
                  <a:lnTo>
                    <a:pt x="119" y="198"/>
                  </a:lnTo>
                  <a:lnTo>
                    <a:pt x="178" y="147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26360" y="2698920"/>
              <a:ext cx="839520" cy="685800"/>
            </a:xfrm>
            <a:custGeom>
              <a:avLst/>
              <a:gdLst/>
              <a:ahLst/>
              <a:rect l="l" t="t" r="r" b="b"/>
              <a:pathLst>
                <a:path w="1623" h="1296">
                  <a:moveTo>
                    <a:pt x="735" y="171"/>
                  </a:moveTo>
                  <a:lnTo>
                    <a:pt x="1222" y="0"/>
                  </a:lnTo>
                  <a:lnTo>
                    <a:pt x="1623" y="84"/>
                  </a:lnTo>
                  <a:lnTo>
                    <a:pt x="918" y="428"/>
                  </a:lnTo>
                  <a:lnTo>
                    <a:pt x="1201" y="181"/>
                  </a:lnTo>
                  <a:lnTo>
                    <a:pt x="822" y="376"/>
                  </a:lnTo>
                  <a:lnTo>
                    <a:pt x="389" y="719"/>
                  </a:lnTo>
                  <a:lnTo>
                    <a:pt x="0" y="1296"/>
                  </a:lnTo>
                  <a:lnTo>
                    <a:pt x="400" y="664"/>
                  </a:lnTo>
                  <a:lnTo>
                    <a:pt x="1114" y="64"/>
                  </a:lnTo>
                  <a:lnTo>
                    <a:pt x="735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040" y="2787480"/>
              <a:ext cx="1139760" cy="1578240"/>
            </a:xfrm>
            <a:custGeom>
              <a:avLst/>
              <a:gdLst/>
              <a:ahLst/>
              <a:rect l="l" t="t" r="r" b="b"/>
              <a:pathLst>
                <a:path w="2207" h="2980">
                  <a:moveTo>
                    <a:pt x="2162" y="0"/>
                  </a:moveTo>
                  <a:lnTo>
                    <a:pt x="1861" y="193"/>
                  </a:lnTo>
                  <a:lnTo>
                    <a:pt x="865" y="653"/>
                  </a:lnTo>
                  <a:lnTo>
                    <a:pt x="595" y="1125"/>
                  </a:lnTo>
                  <a:lnTo>
                    <a:pt x="844" y="879"/>
                  </a:lnTo>
                  <a:lnTo>
                    <a:pt x="346" y="1822"/>
                  </a:lnTo>
                  <a:lnTo>
                    <a:pt x="422" y="1211"/>
                  </a:lnTo>
                  <a:lnTo>
                    <a:pt x="99" y="1768"/>
                  </a:lnTo>
                  <a:lnTo>
                    <a:pt x="99" y="1426"/>
                  </a:lnTo>
                  <a:lnTo>
                    <a:pt x="0" y="1865"/>
                  </a:lnTo>
                  <a:lnTo>
                    <a:pt x="0" y="2132"/>
                  </a:lnTo>
                  <a:lnTo>
                    <a:pt x="109" y="2432"/>
                  </a:lnTo>
                  <a:lnTo>
                    <a:pt x="33" y="2853"/>
                  </a:lnTo>
                  <a:lnTo>
                    <a:pt x="54" y="2980"/>
                  </a:lnTo>
                  <a:lnTo>
                    <a:pt x="54" y="2831"/>
                  </a:lnTo>
                  <a:lnTo>
                    <a:pt x="195" y="2305"/>
                  </a:lnTo>
                  <a:lnTo>
                    <a:pt x="661" y="1426"/>
                  </a:lnTo>
                  <a:lnTo>
                    <a:pt x="606" y="1426"/>
                  </a:lnTo>
                  <a:lnTo>
                    <a:pt x="1007" y="760"/>
                  </a:lnTo>
                  <a:lnTo>
                    <a:pt x="1775" y="396"/>
                  </a:lnTo>
                  <a:lnTo>
                    <a:pt x="1611" y="599"/>
                  </a:lnTo>
                  <a:lnTo>
                    <a:pt x="2012" y="257"/>
                  </a:lnTo>
                  <a:lnTo>
                    <a:pt x="2207" y="32"/>
                  </a:lnTo>
                  <a:lnTo>
                    <a:pt x="21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49960" y="2800440"/>
              <a:ext cx="338400" cy="287280"/>
            </a:xfrm>
            <a:custGeom>
              <a:avLst/>
              <a:gdLst/>
              <a:ahLst/>
              <a:rect l="l" t="t" r="r" b="b"/>
              <a:pathLst>
                <a:path w="658" h="547">
                  <a:moveTo>
                    <a:pt x="0" y="547"/>
                  </a:moveTo>
                  <a:lnTo>
                    <a:pt x="453" y="10"/>
                  </a:lnTo>
                  <a:lnTo>
                    <a:pt x="626" y="0"/>
                  </a:lnTo>
                  <a:lnTo>
                    <a:pt x="658" y="138"/>
                  </a:lnTo>
                  <a:lnTo>
                    <a:pt x="441" y="107"/>
                  </a:lnTo>
                  <a:lnTo>
                    <a:pt x="0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94640" y="2851200"/>
              <a:ext cx="577800" cy="1595520"/>
            </a:xfrm>
            <a:custGeom>
              <a:avLst/>
              <a:gdLst/>
              <a:ahLst/>
              <a:rect l="l" t="t" r="r" b="b"/>
              <a:pathLst>
                <a:path w="1114" h="3012">
                  <a:moveTo>
                    <a:pt x="1114" y="0"/>
                  </a:moveTo>
                  <a:lnTo>
                    <a:pt x="1069" y="599"/>
                  </a:lnTo>
                  <a:lnTo>
                    <a:pt x="681" y="1114"/>
                  </a:lnTo>
                  <a:lnTo>
                    <a:pt x="409" y="2272"/>
                  </a:lnTo>
                  <a:lnTo>
                    <a:pt x="280" y="2389"/>
                  </a:lnTo>
                  <a:lnTo>
                    <a:pt x="0" y="3012"/>
                  </a:lnTo>
                  <a:lnTo>
                    <a:pt x="431" y="1896"/>
                  </a:lnTo>
                  <a:lnTo>
                    <a:pt x="659" y="1070"/>
                  </a:lnTo>
                  <a:lnTo>
                    <a:pt x="951" y="589"/>
                  </a:lnTo>
                  <a:lnTo>
                    <a:pt x="1069" y="30"/>
                  </a:lnTo>
                  <a:lnTo>
                    <a:pt x="1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4680" y="2847960"/>
              <a:ext cx="930240" cy="2652840"/>
            </a:xfrm>
            <a:custGeom>
              <a:avLst/>
              <a:gdLst/>
              <a:ahLst/>
              <a:rect l="l" t="t" r="r" b="b"/>
              <a:pathLst>
                <a:path w="1796" h="5013">
                  <a:moveTo>
                    <a:pt x="223" y="0"/>
                  </a:moveTo>
                  <a:lnTo>
                    <a:pt x="262" y="495"/>
                  </a:lnTo>
                  <a:lnTo>
                    <a:pt x="137" y="1089"/>
                  </a:lnTo>
                  <a:lnTo>
                    <a:pt x="137" y="1387"/>
                  </a:lnTo>
                  <a:lnTo>
                    <a:pt x="211" y="1509"/>
                  </a:lnTo>
                  <a:lnTo>
                    <a:pt x="211" y="2043"/>
                  </a:lnTo>
                  <a:lnTo>
                    <a:pt x="0" y="4444"/>
                  </a:lnTo>
                  <a:lnTo>
                    <a:pt x="50" y="4580"/>
                  </a:lnTo>
                  <a:lnTo>
                    <a:pt x="163" y="4655"/>
                  </a:lnTo>
                  <a:lnTo>
                    <a:pt x="163" y="4792"/>
                  </a:lnTo>
                  <a:lnTo>
                    <a:pt x="249" y="4914"/>
                  </a:lnTo>
                  <a:lnTo>
                    <a:pt x="473" y="4965"/>
                  </a:lnTo>
                  <a:lnTo>
                    <a:pt x="562" y="4876"/>
                  </a:lnTo>
                  <a:lnTo>
                    <a:pt x="574" y="4815"/>
                  </a:lnTo>
                  <a:lnTo>
                    <a:pt x="537" y="4777"/>
                  </a:lnTo>
                  <a:lnTo>
                    <a:pt x="437" y="4727"/>
                  </a:lnTo>
                  <a:lnTo>
                    <a:pt x="249" y="4642"/>
                  </a:lnTo>
                  <a:lnTo>
                    <a:pt x="336" y="4592"/>
                  </a:lnTo>
                  <a:lnTo>
                    <a:pt x="449" y="4554"/>
                  </a:lnTo>
                  <a:lnTo>
                    <a:pt x="524" y="4554"/>
                  </a:lnTo>
                  <a:lnTo>
                    <a:pt x="574" y="4691"/>
                  </a:lnTo>
                  <a:lnTo>
                    <a:pt x="674" y="4541"/>
                  </a:lnTo>
                  <a:lnTo>
                    <a:pt x="761" y="4482"/>
                  </a:lnTo>
                  <a:lnTo>
                    <a:pt x="860" y="4467"/>
                  </a:lnTo>
                  <a:lnTo>
                    <a:pt x="910" y="4493"/>
                  </a:lnTo>
                  <a:lnTo>
                    <a:pt x="910" y="4655"/>
                  </a:lnTo>
                  <a:lnTo>
                    <a:pt x="1023" y="4482"/>
                  </a:lnTo>
                  <a:lnTo>
                    <a:pt x="1073" y="4467"/>
                  </a:lnTo>
                  <a:lnTo>
                    <a:pt x="1109" y="4482"/>
                  </a:lnTo>
                  <a:lnTo>
                    <a:pt x="1109" y="5013"/>
                  </a:lnTo>
                  <a:lnTo>
                    <a:pt x="1234" y="4703"/>
                  </a:lnTo>
                  <a:lnTo>
                    <a:pt x="1246" y="4926"/>
                  </a:lnTo>
                  <a:lnTo>
                    <a:pt x="1386" y="4666"/>
                  </a:lnTo>
                  <a:lnTo>
                    <a:pt x="1472" y="4530"/>
                  </a:lnTo>
                  <a:lnTo>
                    <a:pt x="1523" y="4307"/>
                  </a:lnTo>
                  <a:lnTo>
                    <a:pt x="1508" y="4666"/>
                  </a:lnTo>
                  <a:lnTo>
                    <a:pt x="1460" y="4926"/>
                  </a:lnTo>
                  <a:lnTo>
                    <a:pt x="1734" y="4714"/>
                  </a:lnTo>
                  <a:lnTo>
                    <a:pt x="1758" y="4642"/>
                  </a:lnTo>
                  <a:lnTo>
                    <a:pt x="1734" y="4541"/>
                  </a:lnTo>
                  <a:lnTo>
                    <a:pt x="1784" y="4444"/>
                  </a:lnTo>
                  <a:lnTo>
                    <a:pt x="1796" y="4357"/>
                  </a:lnTo>
                  <a:lnTo>
                    <a:pt x="1772" y="4307"/>
                  </a:lnTo>
                  <a:lnTo>
                    <a:pt x="1697" y="4258"/>
                  </a:lnTo>
                  <a:lnTo>
                    <a:pt x="1633" y="4234"/>
                  </a:lnTo>
                  <a:lnTo>
                    <a:pt x="1210" y="2279"/>
                  </a:lnTo>
                  <a:lnTo>
                    <a:pt x="1484" y="3763"/>
                  </a:lnTo>
                  <a:lnTo>
                    <a:pt x="1272" y="3862"/>
                  </a:lnTo>
                  <a:lnTo>
                    <a:pt x="999" y="4010"/>
                  </a:lnTo>
                  <a:lnTo>
                    <a:pt x="836" y="4061"/>
                  </a:lnTo>
                  <a:lnTo>
                    <a:pt x="610" y="4109"/>
                  </a:lnTo>
                  <a:lnTo>
                    <a:pt x="374" y="4157"/>
                  </a:lnTo>
                  <a:lnTo>
                    <a:pt x="211" y="4234"/>
                  </a:lnTo>
                  <a:lnTo>
                    <a:pt x="101" y="4307"/>
                  </a:lnTo>
                  <a:lnTo>
                    <a:pt x="50" y="4345"/>
                  </a:lnTo>
                  <a:lnTo>
                    <a:pt x="199" y="2612"/>
                  </a:lnTo>
                  <a:lnTo>
                    <a:pt x="237" y="2079"/>
                  </a:lnTo>
                  <a:lnTo>
                    <a:pt x="237" y="1486"/>
                  </a:lnTo>
                  <a:lnTo>
                    <a:pt x="363" y="1336"/>
                  </a:lnTo>
                  <a:lnTo>
                    <a:pt x="574" y="1265"/>
                  </a:lnTo>
                  <a:lnTo>
                    <a:pt x="710" y="1265"/>
                  </a:lnTo>
                  <a:lnTo>
                    <a:pt x="824" y="1041"/>
                  </a:lnTo>
                  <a:lnTo>
                    <a:pt x="910" y="1238"/>
                  </a:lnTo>
                  <a:lnTo>
                    <a:pt x="1147" y="1981"/>
                  </a:lnTo>
                  <a:lnTo>
                    <a:pt x="1048" y="1486"/>
                  </a:lnTo>
                  <a:lnTo>
                    <a:pt x="1335" y="2055"/>
                  </a:lnTo>
                  <a:lnTo>
                    <a:pt x="1223" y="2167"/>
                  </a:lnTo>
                  <a:lnTo>
                    <a:pt x="1323" y="2129"/>
                  </a:lnTo>
                  <a:lnTo>
                    <a:pt x="1323" y="2167"/>
                  </a:lnTo>
                  <a:lnTo>
                    <a:pt x="1261" y="2252"/>
                  </a:lnTo>
                  <a:lnTo>
                    <a:pt x="1386" y="2142"/>
                  </a:lnTo>
                  <a:lnTo>
                    <a:pt x="1371" y="2043"/>
                  </a:lnTo>
                  <a:lnTo>
                    <a:pt x="1109" y="1473"/>
                  </a:lnTo>
                  <a:lnTo>
                    <a:pt x="811" y="645"/>
                  </a:lnTo>
                  <a:lnTo>
                    <a:pt x="648" y="533"/>
                  </a:lnTo>
                  <a:lnTo>
                    <a:pt x="511" y="620"/>
                  </a:lnTo>
                  <a:lnTo>
                    <a:pt x="722" y="755"/>
                  </a:lnTo>
                  <a:lnTo>
                    <a:pt x="799" y="928"/>
                  </a:lnTo>
                  <a:lnTo>
                    <a:pt x="648" y="1189"/>
                  </a:lnTo>
                  <a:lnTo>
                    <a:pt x="300" y="1300"/>
                  </a:lnTo>
                  <a:lnTo>
                    <a:pt x="211" y="1399"/>
                  </a:lnTo>
                  <a:lnTo>
                    <a:pt x="175" y="1288"/>
                  </a:lnTo>
                  <a:lnTo>
                    <a:pt x="175" y="1103"/>
                  </a:lnTo>
                  <a:lnTo>
                    <a:pt x="287" y="533"/>
                  </a:lnTo>
                  <a:lnTo>
                    <a:pt x="274" y="385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13560" y="2809800"/>
              <a:ext cx="471600" cy="1065240"/>
            </a:xfrm>
            <a:custGeom>
              <a:avLst/>
              <a:gdLst/>
              <a:ahLst/>
              <a:rect l="l" t="t" r="r" b="b"/>
              <a:pathLst>
                <a:path w="910" h="2018">
                  <a:moveTo>
                    <a:pt x="0" y="0"/>
                  </a:moveTo>
                  <a:lnTo>
                    <a:pt x="0" y="1103"/>
                  </a:lnTo>
                  <a:lnTo>
                    <a:pt x="86" y="485"/>
                  </a:lnTo>
                  <a:lnTo>
                    <a:pt x="173" y="409"/>
                  </a:lnTo>
                  <a:lnTo>
                    <a:pt x="199" y="236"/>
                  </a:lnTo>
                  <a:lnTo>
                    <a:pt x="297" y="286"/>
                  </a:lnTo>
                  <a:lnTo>
                    <a:pt x="262" y="533"/>
                  </a:lnTo>
                  <a:lnTo>
                    <a:pt x="449" y="620"/>
                  </a:lnTo>
                  <a:lnTo>
                    <a:pt x="872" y="1994"/>
                  </a:lnTo>
                  <a:lnTo>
                    <a:pt x="910" y="2018"/>
                  </a:lnTo>
                  <a:lnTo>
                    <a:pt x="773" y="1511"/>
                  </a:lnTo>
                  <a:lnTo>
                    <a:pt x="910" y="1350"/>
                  </a:lnTo>
                  <a:lnTo>
                    <a:pt x="773" y="1263"/>
                  </a:lnTo>
                  <a:lnTo>
                    <a:pt x="711" y="1090"/>
                  </a:lnTo>
                  <a:lnTo>
                    <a:pt x="623" y="1052"/>
                  </a:lnTo>
                  <a:lnTo>
                    <a:pt x="449" y="533"/>
                  </a:lnTo>
                  <a:lnTo>
                    <a:pt x="348" y="447"/>
                  </a:lnTo>
                  <a:lnTo>
                    <a:pt x="374" y="310"/>
                  </a:lnTo>
                  <a:lnTo>
                    <a:pt x="499" y="510"/>
                  </a:lnTo>
                  <a:lnTo>
                    <a:pt x="460" y="324"/>
                  </a:lnTo>
                  <a:lnTo>
                    <a:pt x="173" y="163"/>
                  </a:lnTo>
                  <a:lnTo>
                    <a:pt x="4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23240" y="3529080"/>
              <a:ext cx="160200" cy="58680"/>
            </a:xfrm>
            <a:custGeom>
              <a:avLst/>
              <a:gdLst/>
              <a:ahLst/>
              <a:rect l="l" t="t" r="r" b="b"/>
              <a:pathLst>
                <a:path w="313" h="111">
                  <a:moveTo>
                    <a:pt x="100" y="0"/>
                  </a:moveTo>
                  <a:lnTo>
                    <a:pt x="212" y="0"/>
                  </a:lnTo>
                  <a:lnTo>
                    <a:pt x="313" y="63"/>
                  </a:lnTo>
                  <a:lnTo>
                    <a:pt x="187" y="36"/>
                  </a:lnTo>
                  <a:lnTo>
                    <a:pt x="0" y="111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23240" y="3575160"/>
              <a:ext cx="106200" cy="13176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0" y="147"/>
                  </a:moveTo>
                  <a:lnTo>
                    <a:pt x="212" y="0"/>
                  </a:lnTo>
                  <a:lnTo>
                    <a:pt x="36" y="248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13520" y="4002120"/>
              <a:ext cx="113040" cy="233280"/>
            </a:xfrm>
            <a:custGeom>
              <a:avLst/>
              <a:gdLst/>
              <a:ahLst/>
              <a:rect l="l" t="t" r="r" b="b"/>
              <a:pathLst>
                <a:path w="211" h="444">
                  <a:moveTo>
                    <a:pt x="25" y="0"/>
                  </a:moveTo>
                  <a:lnTo>
                    <a:pt x="99" y="23"/>
                  </a:lnTo>
                  <a:lnTo>
                    <a:pt x="211" y="346"/>
                  </a:lnTo>
                  <a:lnTo>
                    <a:pt x="87" y="444"/>
                  </a:lnTo>
                  <a:lnTo>
                    <a:pt x="0" y="4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13600" y="3379680"/>
              <a:ext cx="706680" cy="1689120"/>
            </a:xfrm>
            <a:custGeom>
              <a:avLst/>
              <a:gdLst/>
              <a:ahLst/>
              <a:rect l="l" t="t" r="r" b="b"/>
              <a:pathLst>
                <a:path w="1371" h="3190">
                  <a:moveTo>
                    <a:pt x="0" y="1175"/>
                  </a:moveTo>
                  <a:lnTo>
                    <a:pt x="285" y="2511"/>
                  </a:lnTo>
                  <a:lnTo>
                    <a:pt x="122" y="2436"/>
                  </a:lnTo>
                  <a:lnTo>
                    <a:pt x="186" y="2499"/>
                  </a:lnTo>
                  <a:lnTo>
                    <a:pt x="160" y="2535"/>
                  </a:lnTo>
                  <a:lnTo>
                    <a:pt x="262" y="2623"/>
                  </a:lnTo>
                  <a:lnTo>
                    <a:pt x="300" y="2684"/>
                  </a:lnTo>
                  <a:lnTo>
                    <a:pt x="311" y="2857"/>
                  </a:lnTo>
                  <a:lnTo>
                    <a:pt x="410" y="3190"/>
                  </a:lnTo>
                  <a:lnTo>
                    <a:pt x="348" y="2869"/>
                  </a:lnTo>
                  <a:lnTo>
                    <a:pt x="323" y="2511"/>
                  </a:lnTo>
                  <a:lnTo>
                    <a:pt x="311" y="2398"/>
                  </a:lnTo>
                  <a:lnTo>
                    <a:pt x="410" y="2288"/>
                  </a:lnTo>
                  <a:lnTo>
                    <a:pt x="473" y="2164"/>
                  </a:lnTo>
                  <a:lnTo>
                    <a:pt x="524" y="2003"/>
                  </a:lnTo>
                  <a:lnTo>
                    <a:pt x="562" y="1792"/>
                  </a:lnTo>
                  <a:lnTo>
                    <a:pt x="573" y="1607"/>
                  </a:lnTo>
                  <a:lnTo>
                    <a:pt x="535" y="1372"/>
                  </a:lnTo>
                  <a:lnTo>
                    <a:pt x="797" y="1247"/>
                  </a:lnTo>
                  <a:lnTo>
                    <a:pt x="898" y="1150"/>
                  </a:lnTo>
                  <a:lnTo>
                    <a:pt x="984" y="1050"/>
                  </a:lnTo>
                  <a:lnTo>
                    <a:pt x="1371" y="308"/>
                  </a:lnTo>
                  <a:lnTo>
                    <a:pt x="1270" y="146"/>
                  </a:lnTo>
                  <a:lnTo>
                    <a:pt x="1035" y="0"/>
                  </a:lnTo>
                  <a:lnTo>
                    <a:pt x="1259" y="161"/>
                  </a:lnTo>
                  <a:lnTo>
                    <a:pt x="1335" y="308"/>
                  </a:lnTo>
                  <a:lnTo>
                    <a:pt x="1234" y="346"/>
                  </a:lnTo>
                  <a:lnTo>
                    <a:pt x="1122" y="161"/>
                  </a:lnTo>
                  <a:lnTo>
                    <a:pt x="1008" y="84"/>
                  </a:lnTo>
                  <a:lnTo>
                    <a:pt x="1008" y="36"/>
                  </a:lnTo>
                  <a:lnTo>
                    <a:pt x="984" y="84"/>
                  </a:lnTo>
                  <a:lnTo>
                    <a:pt x="1035" y="209"/>
                  </a:lnTo>
                  <a:lnTo>
                    <a:pt x="921" y="161"/>
                  </a:lnTo>
                  <a:lnTo>
                    <a:pt x="784" y="245"/>
                  </a:lnTo>
                  <a:lnTo>
                    <a:pt x="936" y="184"/>
                  </a:lnTo>
                  <a:lnTo>
                    <a:pt x="1183" y="331"/>
                  </a:lnTo>
                  <a:lnTo>
                    <a:pt x="1145" y="370"/>
                  </a:lnTo>
                  <a:lnTo>
                    <a:pt x="1084" y="382"/>
                  </a:lnTo>
                  <a:lnTo>
                    <a:pt x="936" y="271"/>
                  </a:lnTo>
                  <a:lnTo>
                    <a:pt x="835" y="283"/>
                  </a:lnTo>
                  <a:lnTo>
                    <a:pt x="936" y="295"/>
                  </a:lnTo>
                  <a:lnTo>
                    <a:pt x="1073" y="408"/>
                  </a:lnTo>
                  <a:lnTo>
                    <a:pt x="972" y="445"/>
                  </a:lnTo>
                  <a:lnTo>
                    <a:pt x="883" y="346"/>
                  </a:lnTo>
                  <a:lnTo>
                    <a:pt x="746" y="319"/>
                  </a:lnTo>
                  <a:lnTo>
                    <a:pt x="948" y="531"/>
                  </a:lnTo>
                  <a:lnTo>
                    <a:pt x="860" y="605"/>
                  </a:lnTo>
                  <a:lnTo>
                    <a:pt x="735" y="445"/>
                  </a:lnTo>
                  <a:lnTo>
                    <a:pt x="710" y="346"/>
                  </a:lnTo>
                  <a:lnTo>
                    <a:pt x="710" y="420"/>
                  </a:lnTo>
                  <a:lnTo>
                    <a:pt x="824" y="654"/>
                  </a:lnTo>
                  <a:lnTo>
                    <a:pt x="811" y="742"/>
                  </a:lnTo>
                  <a:lnTo>
                    <a:pt x="648" y="1014"/>
                  </a:lnTo>
                  <a:lnTo>
                    <a:pt x="372" y="1434"/>
                  </a:lnTo>
                  <a:lnTo>
                    <a:pt x="262" y="1312"/>
                  </a:lnTo>
                  <a:lnTo>
                    <a:pt x="62" y="1324"/>
                  </a:lnTo>
                  <a:lnTo>
                    <a:pt x="0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78840" y="3659040"/>
              <a:ext cx="280800" cy="414360"/>
            </a:xfrm>
            <a:custGeom>
              <a:avLst/>
              <a:gdLst/>
              <a:ahLst/>
              <a:rect l="l" t="t" r="r" b="b"/>
              <a:pathLst>
                <a:path w="542" h="785">
                  <a:moveTo>
                    <a:pt x="447" y="0"/>
                  </a:moveTo>
                  <a:lnTo>
                    <a:pt x="0" y="690"/>
                  </a:lnTo>
                  <a:lnTo>
                    <a:pt x="219" y="388"/>
                  </a:lnTo>
                  <a:lnTo>
                    <a:pt x="23" y="722"/>
                  </a:lnTo>
                  <a:lnTo>
                    <a:pt x="257" y="411"/>
                  </a:lnTo>
                  <a:lnTo>
                    <a:pt x="53" y="757"/>
                  </a:lnTo>
                  <a:lnTo>
                    <a:pt x="290" y="434"/>
                  </a:lnTo>
                  <a:lnTo>
                    <a:pt x="81" y="785"/>
                  </a:lnTo>
                  <a:lnTo>
                    <a:pt x="332" y="473"/>
                  </a:lnTo>
                  <a:lnTo>
                    <a:pt x="542" y="153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56600" y="3252960"/>
              <a:ext cx="471600" cy="190440"/>
            </a:xfrm>
            <a:custGeom>
              <a:avLst/>
              <a:gdLst/>
              <a:ahLst/>
              <a:rect l="l" t="t" r="r" b="b"/>
              <a:pathLst>
                <a:path w="911" h="361">
                  <a:moveTo>
                    <a:pt x="646" y="119"/>
                  </a:moveTo>
                  <a:lnTo>
                    <a:pt x="786" y="15"/>
                  </a:lnTo>
                  <a:lnTo>
                    <a:pt x="10" y="76"/>
                  </a:lnTo>
                  <a:lnTo>
                    <a:pt x="35" y="170"/>
                  </a:lnTo>
                  <a:lnTo>
                    <a:pt x="25" y="165"/>
                  </a:lnTo>
                  <a:lnTo>
                    <a:pt x="0" y="66"/>
                  </a:lnTo>
                  <a:lnTo>
                    <a:pt x="802" y="0"/>
                  </a:lnTo>
                  <a:lnTo>
                    <a:pt x="911" y="104"/>
                  </a:lnTo>
                  <a:lnTo>
                    <a:pt x="821" y="175"/>
                  </a:lnTo>
                  <a:lnTo>
                    <a:pt x="855" y="208"/>
                  </a:lnTo>
                  <a:lnTo>
                    <a:pt x="753" y="361"/>
                  </a:lnTo>
                  <a:lnTo>
                    <a:pt x="615" y="280"/>
                  </a:lnTo>
                  <a:lnTo>
                    <a:pt x="725" y="115"/>
                  </a:lnTo>
                  <a:lnTo>
                    <a:pt x="64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21560" y="3452760"/>
              <a:ext cx="41400" cy="50760"/>
            </a:xfrm>
            <a:custGeom>
              <a:avLst/>
              <a:gdLst/>
              <a:ahLst/>
              <a:rect l="l" t="t" r="r" b="b"/>
              <a:pathLst>
                <a:path w="76" h="89">
                  <a:moveTo>
                    <a:pt x="44" y="0"/>
                  </a:moveTo>
                  <a:lnTo>
                    <a:pt x="0" y="63"/>
                  </a:lnTo>
                  <a:lnTo>
                    <a:pt x="76" y="8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51680" y="3338640"/>
              <a:ext cx="325440" cy="431640"/>
            </a:xfrm>
            <a:custGeom>
              <a:avLst/>
              <a:gdLst/>
              <a:ahLst/>
              <a:rect l="l" t="t" r="r" b="b"/>
              <a:pathLst>
                <a:path w="628" h="817">
                  <a:moveTo>
                    <a:pt x="628" y="9"/>
                  </a:moveTo>
                  <a:lnTo>
                    <a:pt x="552" y="19"/>
                  </a:lnTo>
                  <a:lnTo>
                    <a:pt x="3" y="817"/>
                  </a:lnTo>
                  <a:lnTo>
                    <a:pt x="0" y="799"/>
                  </a:lnTo>
                  <a:lnTo>
                    <a:pt x="542" y="9"/>
                  </a:lnTo>
                  <a:lnTo>
                    <a:pt x="621" y="0"/>
                  </a:lnTo>
                  <a:lnTo>
                    <a:pt x="6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54880" y="3798720"/>
              <a:ext cx="157320" cy="1209960"/>
            </a:xfrm>
            <a:custGeom>
              <a:avLst/>
              <a:gdLst/>
              <a:ahLst/>
              <a:rect l="l" t="t" r="r" b="b"/>
              <a:pathLst>
                <a:path w="298" h="2289">
                  <a:moveTo>
                    <a:pt x="199" y="0"/>
                  </a:moveTo>
                  <a:lnTo>
                    <a:pt x="100" y="2176"/>
                  </a:lnTo>
                  <a:lnTo>
                    <a:pt x="0" y="2289"/>
                  </a:lnTo>
                  <a:lnTo>
                    <a:pt x="298" y="2116"/>
                  </a:lnTo>
                  <a:lnTo>
                    <a:pt x="298" y="754"/>
                  </a:lnTo>
                  <a:lnTo>
                    <a:pt x="273" y="321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95960" y="3219480"/>
              <a:ext cx="776520" cy="3227400"/>
            </a:xfrm>
            <a:custGeom>
              <a:avLst/>
              <a:gdLst/>
              <a:ahLst/>
              <a:rect l="l" t="t" r="r" b="b"/>
              <a:pathLst>
                <a:path w="1502" h="6111">
                  <a:moveTo>
                    <a:pt x="1458" y="0"/>
                  </a:moveTo>
                  <a:lnTo>
                    <a:pt x="823" y="1215"/>
                  </a:lnTo>
                  <a:lnTo>
                    <a:pt x="290" y="2673"/>
                  </a:lnTo>
                  <a:lnTo>
                    <a:pt x="347" y="3133"/>
                  </a:lnTo>
                  <a:lnTo>
                    <a:pt x="606" y="2619"/>
                  </a:lnTo>
                  <a:lnTo>
                    <a:pt x="360" y="3234"/>
                  </a:lnTo>
                  <a:lnTo>
                    <a:pt x="290" y="3519"/>
                  </a:lnTo>
                  <a:lnTo>
                    <a:pt x="360" y="3776"/>
                  </a:lnTo>
                  <a:lnTo>
                    <a:pt x="1025" y="2589"/>
                  </a:lnTo>
                  <a:lnTo>
                    <a:pt x="535" y="3591"/>
                  </a:lnTo>
                  <a:lnTo>
                    <a:pt x="202" y="4221"/>
                  </a:lnTo>
                  <a:lnTo>
                    <a:pt x="72" y="4893"/>
                  </a:lnTo>
                  <a:lnTo>
                    <a:pt x="44" y="5338"/>
                  </a:lnTo>
                  <a:lnTo>
                    <a:pt x="433" y="4837"/>
                  </a:lnTo>
                  <a:lnTo>
                    <a:pt x="548" y="4607"/>
                  </a:lnTo>
                  <a:lnTo>
                    <a:pt x="592" y="4694"/>
                  </a:lnTo>
                  <a:lnTo>
                    <a:pt x="592" y="5038"/>
                  </a:lnTo>
                  <a:lnTo>
                    <a:pt x="737" y="4537"/>
                  </a:lnTo>
                  <a:lnTo>
                    <a:pt x="749" y="4235"/>
                  </a:lnTo>
                  <a:lnTo>
                    <a:pt x="693" y="4162"/>
                  </a:lnTo>
                  <a:lnTo>
                    <a:pt x="347" y="4622"/>
                  </a:lnTo>
                  <a:lnTo>
                    <a:pt x="143" y="5021"/>
                  </a:lnTo>
                  <a:lnTo>
                    <a:pt x="318" y="4521"/>
                  </a:lnTo>
                  <a:lnTo>
                    <a:pt x="388" y="4193"/>
                  </a:lnTo>
                  <a:lnTo>
                    <a:pt x="823" y="3662"/>
                  </a:lnTo>
                  <a:lnTo>
                    <a:pt x="1313" y="2604"/>
                  </a:lnTo>
                  <a:lnTo>
                    <a:pt x="1502" y="2074"/>
                  </a:lnTo>
                  <a:lnTo>
                    <a:pt x="1141" y="3277"/>
                  </a:lnTo>
                  <a:lnTo>
                    <a:pt x="765" y="4820"/>
                  </a:lnTo>
                  <a:lnTo>
                    <a:pt x="563" y="5366"/>
                  </a:lnTo>
                  <a:lnTo>
                    <a:pt x="505" y="5811"/>
                  </a:lnTo>
                  <a:lnTo>
                    <a:pt x="159" y="6010"/>
                  </a:lnTo>
                  <a:lnTo>
                    <a:pt x="87" y="6111"/>
                  </a:lnTo>
                  <a:lnTo>
                    <a:pt x="0" y="5610"/>
                  </a:lnTo>
                  <a:lnTo>
                    <a:pt x="14" y="5122"/>
                  </a:lnTo>
                  <a:lnTo>
                    <a:pt x="87" y="4537"/>
                  </a:lnTo>
                  <a:lnTo>
                    <a:pt x="143" y="4179"/>
                  </a:lnTo>
                  <a:lnTo>
                    <a:pt x="131" y="3949"/>
                  </a:lnTo>
                  <a:lnTo>
                    <a:pt x="159" y="3677"/>
                  </a:lnTo>
                  <a:lnTo>
                    <a:pt x="245" y="3348"/>
                  </a:lnTo>
                  <a:lnTo>
                    <a:pt x="202" y="2962"/>
                  </a:lnTo>
                  <a:lnTo>
                    <a:pt x="202" y="2704"/>
                  </a:lnTo>
                  <a:lnTo>
                    <a:pt x="87" y="2317"/>
                  </a:lnTo>
                  <a:lnTo>
                    <a:pt x="217" y="2119"/>
                  </a:lnTo>
                  <a:lnTo>
                    <a:pt x="418" y="1400"/>
                  </a:lnTo>
                  <a:lnTo>
                    <a:pt x="678" y="856"/>
                  </a:lnTo>
                  <a:lnTo>
                    <a:pt x="447" y="1430"/>
                  </a:lnTo>
                  <a:lnTo>
                    <a:pt x="302" y="2245"/>
                  </a:lnTo>
                  <a:lnTo>
                    <a:pt x="665" y="1417"/>
                  </a:lnTo>
                  <a:lnTo>
                    <a:pt x="995" y="800"/>
                  </a:lnTo>
                  <a:lnTo>
                    <a:pt x="14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6880" y="5246640"/>
              <a:ext cx="1149480" cy="1197000"/>
            </a:xfrm>
            <a:custGeom>
              <a:avLst/>
              <a:gdLst/>
              <a:ahLst/>
              <a:rect l="l" t="t" r="r" b="b"/>
              <a:pathLst>
                <a:path w="2223" h="2262">
                  <a:moveTo>
                    <a:pt x="0" y="1988"/>
                  </a:moveTo>
                  <a:lnTo>
                    <a:pt x="331" y="1688"/>
                  </a:lnTo>
                  <a:lnTo>
                    <a:pt x="692" y="1073"/>
                  </a:lnTo>
                  <a:lnTo>
                    <a:pt x="765" y="1059"/>
                  </a:lnTo>
                  <a:lnTo>
                    <a:pt x="765" y="1159"/>
                  </a:lnTo>
                  <a:lnTo>
                    <a:pt x="547" y="1747"/>
                  </a:lnTo>
                  <a:lnTo>
                    <a:pt x="863" y="1073"/>
                  </a:lnTo>
                  <a:lnTo>
                    <a:pt x="863" y="1288"/>
                  </a:lnTo>
                  <a:lnTo>
                    <a:pt x="692" y="2046"/>
                  </a:lnTo>
                  <a:lnTo>
                    <a:pt x="994" y="1003"/>
                  </a:lnTo>
                  <a:lnTo>
                    <a:pt x="1053" y="945"/>
                  </a:lnTo>
                  <a:lnTo>
                    <a:pt x="1125" y="930"/>
                  </a:lnTo>
                  <a:lnTo>
                    <a:pt x="1109" y="1187"/>
                  </a:lnTo>
                  <a:lnTo>
                    <a:pt x="1196" y="860"/>
                  </a:lnTo>
                  <a:lnTo>
                    <a:pt x="1239" y="801"/>
                  </a:lnTo>
                  <a:lnTo>
                    <a:pt x="1298" y="801"/>
                  </a:lnTo>
                  <a:lnTo>
                    <a:pt x="1326" y="846"/>
                  </a:lnTo>
                  <a:lnTo>
                    <a:pt x="1298" y="1319"/>
                  </a:lnTo>
                  <a:lnTo>
                    <a:pt x="1239" y="1761"/>
                  </a:lnTo>
                  <a:lnTo>
                    <a:pt x="1181" y="2033"/>
                  </a:lnTo>
                  <a:lnTo>
                    <a:pt x="1094" y="2190"/>
                  </a:lnTo>
                  <a:lnTo>
                    <a:pt x="1038" y="2262"/>
                  </a:lnTo>
                  <a:lnTo>
                    <a:pt x="1371" y="2262"/>
                  </a:lnTo>
                  <a:lnTo>
                    <a:pt x="1414" y="2104"/>
                  </a:lnTo>
                  <a:lnTo>
                    <a:pt x="1442" y="1904"/>
                  </a:lnTo>
                  <a:lnTo>
                    <a:pt x="1457" y="1747"/>
                  </a:lnTo>
                  <a:lnTo>
                    <a:pt x="1486" y="1375"/>
                  </a:lnTo>
                  <a:lnTo>
                    <a:pt x="1587" y="1260"/>
                  </a:lnTo>
                  <a:lnTo>
                    <a:pt x="1645" y="1131"/>
                  </a:lnTo>
                  <a:lnTo>
                    <a:pt x="1687" y="1017"/>
                  </a:lnTo>
                  <a:lnTo>
                    <a:pt x="1732" y="846"/>
                  </a:lnTo>
                  <a:lnTo>
                    <a:pt x="1788" y="773"/>
                  </a:lnTo>
                  <a:lnTo>
                    <a:pt x="1860" y="732"/>
                  </a:lnTo>
                  <a:lnTo>
                    <a:pt x="1933" y="732"/>
                  </a:lnTo>
                  <a:lnTo>
                    <a:pt x="1933" y="846"/>
                  </a:lnTo>
                  <a:lnTo>
                    <a:pt x="2005" y="916"/>
                  </a:lnTo>
                  <a:lnTo>
                    <a:pt x="2033" y="1090"/>
                  </a:lnTo>
                  <a:lnTo>
                    <a:pt x="2134" y="773"/>
                  </a:lnTo>
                  <a:lnTo>
                    <a:pt x="2223" y="645"/>
                  </a:lnTo>
                  <a:lnTo>
                    <a:pt x="2223" y="43"/>
                  </a:lnTo>
                  <a:lnTo>
                    <a:pt x="2193" y="0"/>
                  </a:lnTo>
                  <a:lnTo>
                    <a:pt x="2193" y="317"/>
                  </a:lnTo>
                  <a:lnTo>
                    <a:pt x="2020" y="486"/>
                  </a:lnTo>
                  <a:lnTo>
                    <a:pt x="1830" y="572"/>
                  </a:lnTo>
                  <a:lnTo>
                    <a:pt x="1414" y="645"/>
                  </a:lnTo>
                  <a:lnTo>
                    <a:pt x="908" y="846"/>
                  </a:lnTo>
                  <a:lnTo>
                    <a:pt x="620" y="1045"/>
                  </a:lnTo>
                  <a:lnTo>
                    <a:pt x="315" y="1632"/>
                  </a:lnTo>
                  <a:lnTo>
                    <a:pt x="0" y="1947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00880" y="5622840"/>
              <a:ext cx="177840" cy="584280"/>
            </a:xfrm>
            <a:custGeom>
              <a:avLst/>
              <a:gdLst/>
              <a:ahLst/>
              <a:rect l="l" t="t" r="r" b="b"/>
              <a:pathLst>
                <a:path w="347" h="1105">
                  <a:moveTo>
                    <a:pt x="0" y="1105"/>
                  </a:moveTo>
                  <a:lnTo>
                    <a:pt x="101" y="703"/>
                  </a:lnTo>
                  <a:lnTo>
                    <a:pt x="317" y="17"/>
                  </a:lnTo>
                  <a:lnTo>
                    <a:pt x="347" y="0"/>
                  </a:lnTo>
                  <a:lnTo>
                    <a:pt x="173" y="990"/>
                  </a:lnTo>
                  <a:lnTo>
                    <a:pt x="0" y="1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62880" y="4581360"/>
              <a:ext cx="350640" cy="1430640"/>
            </a:xfrm>
            <a:custGeom>
              <a:avLst/>
              <a:gdLst/>
              <a:ahLst/>
              <a:rect l="l" t="t" r="r" b="b"/>
              <a:pathLst>
                <a:path w="677" h="2704">
                  <a:moveTo>
                    <a:pt x="0" y="2704"/>
                  </a:moveTo>
                  <a:lnTo>
                    <a:pt x="145" y="1846"/>
                  </a:lnTo>
                  <a:lnTo>
                    <a:pt x="476" y="900"/>
                  </a:lnTo>
                  <a:lnTo>
                    <a:pt x="677" y="0"/>
                  </a:lnTo>
                  <a:lnTo>
                    <a:pt x="491" y="959"/>
                  </a:lnTo>
                  <a:lnTo>
                    <a:pt x="173" y="1888"/>
                  </a:lnTo>
                  <a:lnTo>
                    <a:pt x="116" y="2532"/>
                  </a:lnTo>
                  <a:lnTo>
                    <a:pt x="0" y="27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18480" y="5541840"/>
              <a:ext cx="112680" cy="901800"/>
            </a:xfrm>
            <a:custGeom>
              <a:avLst/>
              <a:gdLst/>
              <a:ahLst/>
              <a:rect l="l" t="t" r="r" b="b"/>
              <a:pathLst>
                <a:path w="218" h="1703">
                  <a:moveTo>
                    <a:pt x="101" y="0"/>
                  </a:moveTo>
                  <a:lnTo>
                    <a:pt x="0" y="1703"/>
                  </a:lnTo>
                  <a:lnTo>
                    <a:pt x="131" y="1703"/>
                  </a:lnTo>
                  <a:lnTo>
                    <a:pt x="173" y="1487"/>
                  </a:lnTo>
                  <a:lnTo>
                    <a:pt x="218" y="657"/>
                  </a:lnTo>
                  <a:lnTo>
                    <a:pt x="116" y="107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29440" y="5351400"/>
              <a:ext cx="152640" cy="1092240"/>
            </a:xfrm>
            <a:custGeom>
              <a:avLst/>
              <a:gdLst/>
              <a:ahLst/>
              <a:rect l="l" t="t" r="r" b="b"/>
              <a:pathLst>
                <a:path w="303" h="2061">
                  <a:moveTo>
                    <a:pt x="0" y="99"/>
                  </a:moveTo>
                  <a:lnTo>
                    <a:pt x="188" y="2061"/>
                  </a:lnTo>
                  <a:lnTo>
                    <a:pt x="231" y="2061"/>
                  </a:lnTo>
                  <a:lnTo>
                    <a:pt x="173" y="1345"/>
                  </a:lnTo>
                  <a:lnTo>
                    <a:pt x="260" y="1232"/>
                  </a:lnTo>
                  <a:lnTo>
                    <a:pt x="289" y="1189"/>
                  </a:lnTo>
                  <a:lnTo>
                    <a:pt x="289" y="1118"/>
                  </a:lnTo>
                  <a:lnTo>
                    <a:pt x="260" y="1045"/>
                  </a:lnTo>
                  <a:lnTo>
                    <a:pt x="188" y="1003"/>
                  </a:lnTo>
                  <a:lnTo>
                    <a:pt x="115" y="531"/>
                  </a:lnTo>
                  <a:lnTo>
                    <a:pt x="188" y="617"/>
                  </a:lnTo>
                  <a:lnTo>
                    <a:pt x="274" y="1003"/>
                  </a:lnTo>
                  <a:lnTo>
                    <a:pt x="203" y="416"/>
                  </a:lnTo>
                  <a:lnTo>
                    <a:pt x="274" y="343"/>
                  </a:lnTo>
                  <a:lnTo>
                    <a:pt x="303" y="285"/>
                  </a:lnTo>
                  <a:lnTo>
                    <a:pt x="289" y="228"/>
                  </a:lnTo>
                  <a:lnTo>
                    <a:pt x="188" y="0"/>
                  </a:lnTo>
                  <a:lnTo>
                    <a:pt x="58" y="15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43600" y="6438960"/>
              <a:ext cx="2508120" cy="419040"/>
            </a:xfrm>
            <a:custGeom>
              <a:avLst/>
              <a:gdLst/>
              <a:ahLst/>
              <a:rect l="l" t="t" r="r" b="b"/>
              <a:pathLst>
                <a:path w="4854" h="797">
                  <a:moveTo>
                    <a:pt x="121" y="318"/>
                  </a:moveTo>
                  <a:lnTo>
                    <a:pt x="339" y="0"/>
                  </a:lnTo>
                  <a:lnTo>
                    <a:pt x="4353" y="0"/>
                  </a:lnTo>
                  <a:lnTo>
                    <a:pt x="4598" y="209"/>
                  </a:lnTo>
                  <a:lnTo>
                    <a:pt x="4598" y="527"/>
                  </a:lnTo>
                  <a:lnTo>
                    <a:pt x="4854" y="697"/>
                  </a:lnTo>
                  <a:lnTo>
                    <a:pt x="4854" y="791"/>
                  </a:lnTo>
                  <a:lnTo>
                    <a:pt x="4450" y="791"/>
                  </a:lnTo>
                  <a:lnTo>
                    <a:pt x="4482" y="601"/>
                  </a:lnTo>
                  <a:lnTo>
                    <a:pt x="4482" y="476"/>
                  </a:lnTo>
                  <a:lnTo>
                    <a:pt x="4333" y="476"/>
                  </a:lnTo>
                  <a:lnTo>
                    <a:pt x="4333" y="31"/>
                  </a:lnTo>
                  <a:lnTo>
                    <a:pt x="349" y="31"/>
                  </a:lnTo>
                  <a:lnTo>
                    <a:pt x="349" y="476"/>
                  </a:lnTo>
                  <a:lnTo>
                    <a:pt x="254" y="476"/>
                  </a:lnTo>
                  <a:lnTo>
                    <a:pt x="254" y="601"/>
                  </a:lnTo>
                  <a:lnTo>
                    <a:pt x="337" y="797"/>
                  </a:lnTo>
                  <a:lnTo>
                    <a:pt x="0" y="797"/>
                  </a:lnTo>
                  <a:lnTo>
                    <a:pt x="121" y="628"/>
                  </a:lnTo>
                  <a:lnTo>
                    <a:pt x="121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75360" y="6680160"/>
              <a:ext cx="2181240" cy="17640"/>
            </a:xfrm>
            <a:custGeom>
              <a:avLst/>
              <a:gdLst/>
              <a:ahLst/>
              <a:rect l="l" t="t" r="r" b="b"/>
              <a:pathLst>
                <a:path w="4228" h="33">
                  <a:moveTo>
                    <a:pt x="0" y="33"/>
                  </a:moveTo>
                  <a:lnTo>
                    <a:pt x="4228" y="33"/>
                  </a:lnTo>
                  <a:lnTo>
                    <a:pt x="4228" y="0"/>
                  </a:lnTo>
                  <a:lnTo>
                    <a:pt x="72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6040" y="6751800"/>
              <a:ext cx="2251080" cy="12600"/>
            </a:xfrm>
            <a:custGeom>
              <a:avLst/>
              <a:gdLst/>
              <a:ahLst/>
              <a:rect l="l" t="t" r="r" b="b"/>
              <a:pathLst>
                <a:path w="4358" h="30">
                  <a:moveTo>
                    <a:pt x="0" y="30"/>
                  </a:moveTo>
                  <a:lnTo>
                    <a:pt x="4358" y="30"/>
                  </a:lnTo>
                  <a:lnTo>
                    <a:pt x="4358" y="0"/>
                  </a:lnTo>
                  <a:lnTo>
                    <a:pt x="7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70480" y="630360"/>
              <a:ext cx="271440" cy="1463400"/>
            </a:xfrm>
            <a:custGeom>
              <a:avLst/>
              <a:gdLst/>
              <a:ahLst/>
              <a:rect l="l" t="t" r="r" b="b"/>
              <a:pathLst>
                <a:path w="527" h="2764">
                  <a:moveTo>
                    <a:pt x="279" y="359"/>
                  </a:moveTo>
                  <a:lnTo>
                    <a:pt x="279" y="512"/>
                  </a:lnTo>
                  <a:lnTo>
                    <a:pt x="226" y="801"/>
                  </a:lnTo>
                  <a:lnTo>
                    <a:pt x="226" y="985"/>
                  </a:lnTo>
                  <a:lnTo>
                    <a:pt x="308" y="1408"/>
                  </a:lnTo>
                  <a:lnTo>
                    <a:pt x="392" y="1726"/>
                  </a:lnTo>
                  <a:lnTo>
                    <a:pt x="392" y="1921"/>
                  </a:lnTo>
                  <a:lnTo>
                    <a:pt x="434" y="2158"/>
                  </a:lnTo>
                  <a:lnTo>
                    <a:pt x="527" y="2661"/>
                  </a:lnTo>
                  <a:lnTo>
                    <a:pt x="414" y="2764"/>
                  </a:lnTo>
                  <a:lnTo>
                    <a:pt x="371" y="2219"/>
                  </a:lnTo>
                  <a:lnTo>
                    <a:pt x="341" y="1993"/>
                  </a:lnTo>
                  <a:lnTo>
                    <a:pt x="289" y="2003"/>
                  </a:lnTo>
                  <a:lnTo>
                    <a:pt x="289" y="1736"/>
                  </a:lnTo>
                  <a:lnTo>
                    <a:pt x="216" y="1284"/>
                  </a:lnTo>
                  <a:lnTo>
                    <a:pt x="176" y="946"/>
                  </a:lnTo>
                  <a:lnTo>
                    <a:pt x="176" y="750"/>
                  </a:lnTo>
                  <a:lnTo>
                    <a:pt x="21" y="555"/>
                  </a:lnTo>
                  <a:lnTo>
                    <a:pt x="21" y="420"/>
                  </a:lnTo>
                  <a:lnTo>
                    <a:pt x="94" y="225"/>
                  </a:lnTo>
                  <a:lnTo>
                    <a:pt x="0" y="72"/>
                  </a:lnTo>
                  <a:lnTo>
                    <a:pt x="0" y="10"/>
                  </a:lnTo>
                  <a:lnTo>
                    <a:pt x="41" y="0"/>
                  </a:lnTo>
                  <a:lnTo>
                    <a:pt x="31" y="29"/>
                  </a:lnTo>
                  <a:lnTo>
                    <a:pt x="31" y="62"/>
                  </a:lnTo>
                  <a:lnTo>
                    <a:pt x="166" y="277"/>
                  </a:lnTo>
                  <a:lnTo>
                    <a:pt x="114" y="257"/>
                  </a:lnTo>
                  <a:lnTo>
                    <a:pt x="114" y="318"/>
                  </a:lnTo>
                  <a:lnTo>
                    <a:pt x="166" y="410"/>
                  </a:lnTo>
                  <a:lnTo>
                    <a:pt x="104" y="380"/>
                  </a:lnTo>
                  <a:lnTo>
                    <a:pt x="104" y="483"/>
                  </a:lnTo>
                  <a:lnTo>
                    <a:pt x="154" y="605"/>
                  </a:lnTo>
                  <a:lnTo>
                    <a:pt x="206" y="667"/>
                  </a:lnTo>
                  <a:lnTo>
                    <a:pt x="259" y="512"/>
                  </a:lnTo>
                  <a:lnTo>
                    <a:pt x="259" y="349"/>
                  </a:lnTo>
                  <a:lnTo>
                    <a:pt x="186" y="133"/>
                  </a:lnTo>
                  <a:lnTo>
                    <a:pt x="94" y="19"/>
                  </a:lnTo>
                  <a:lnTo>
                    <a:pt x="196" y="133"/>
                  </a:lnTo>
                  <a:lnTo>
                    <a:pt x="279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57800" y="1100160"/>
              <a:ext cx="182520" cy="1189080"/>
            </a:xfrm>
            <a:custGeom>
              <a:avLst/>
              <a:gdLst/>
              <a:ahLst/>
              <a:rect l="l" t="t" r="r" b="b"/>
              <a:pathLst>
                <a:path w="351" h="2251">
                  <a:moveTo>
                    <a:pt x="31" y="63"/>
                  </a:moveTo>
                  <a:lnTo>
                    <a:pt x="0" y="597"/>
                  </a:lnTo>
                  <a:lnTo>
                    <a:pt x="21" y="863"/>
                  </a:lnTo>
                  <a:lnTo>
                    <a:pt x="62" y="1090"/>
                  </a:lnTo>
                  <a:lnTo>
                    <a:pt x="72" y="1398"/>
                  </a:lnTo>
                  <a:lnTo>
                    <a:pt x="123" y="1748"/>
                  </a:lnTo>
                  <a:lnTo>
                    <a:pt x="248" y="2251"/>
                  </a:lnTo>
                  <a:lnTo>
                    <a:pt x="351" y="2198"/>
                  </a:lnTo>
                  <a:lnTo>
                    <a:pt x="217" y="1799"/>
                  </a:lnTo>
                  <a:lnTo>
                    <a:pt x="166" y="1408"/>
                  </a:lnTo>
                  <a:lnTo>
                    <a:pt x="156" y="1120"/>
                  </a:lnTo>
                  <a:lnTo>
                    <a:pt x="83" y="721"/>
                  </a:lnTo>
                  <a:lnTo>
                    <a:pt x="83" y="483"/>
                  </a:lnTo>
                  <a:lnTo>
                    <a:pt x="186" y="297"/>
                  </a:lnTo>
                  <a:lnTo>
                    <a:pt x="196" y="195"/>
                  </a:lnTo>
                  <a:lnTo>
                    <a:pt x="268" y="175"/>
                  </a:lnTo>
                  <a:lnTo>
                    <a:pt x="301" y="93"/>
                  </a:lnTo>
                  <a:lnTo>
                    <a:pt x="278" y="22"/>
                  </a:lnTo>
                  <a:lnTo>
                    <a:pt x="278" y="83"/>
                  </a:lnTo>
                  <a:lnTo>
                    <a:pt x="248" y="102"/>
                  </a:lnTo>
                  <a:lnTo>
                    <a:pt x="113" y="102"/>
                  </a:lnTo>
                  <a:lnTo>
                    <a:pt x="62" y="112"/>
                  </a:lnTo>
                  <a:lnTo>
                    <a:pt x="103" y="52"/>
                  </a:lnTo>
                  <a:lnTo>
                    <a:pt x="62" y="63"/>
                  </a:lnTo>
                  <a:lnTo>
                    <a:pt x="62" y="0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78400" y="630360"/>
              <a:ext cx="111240" cy="372960"/>
            </a:xfrm>
            <a:custGeom>
              <a:avLst/>
              <a:gdLst/>
              <a:ahLst/>
              <a:rect l="l" t="t" r="r" b="b"/>
              <a:pathLst>
                <a:path w="211" h="699">
                  <a:moveTo>
                    <a:pt x="25" y="0"/>
                  </a:moveTo>
                  <a:lnTo>
                    <a:pt x="63" y="99"/>
                  </a:lnTo>
                  <a:lnTo>
                    <a:pt x="198" y="307"/>
                  </a:lnTo>
                  <a:lnTo>
                    <a:pt x="148" y="330"/>
                  </a:lnTo>
                  <a:lnTo>
                    <a:pt x="148" y="404"/>
                  </a:lnTo>
                  <a:lnTo>
                    <a:pt x="211" y="612"/>
                  </a:lnTo>
                  <a:lnTo>
                    <a:pt x="186" y="699"/>
                  </a:lnTo>
                  <a:lnTo>
                    <a:pt x="88" y="540"/>
                  </a:lnTo>
                  <a:lnTo>
                    <a:pt x="76" y="404"/>
                  </a:lnTo>
                  <a:lnTo>
                    <a:pt x="88" y="234"/>
                  </a:lnTo>
                  <a:lnTo>
                    <a:pt x="0" y="61"/>
                  </a:lnTo>
                  <a:lnTo>
                    <a:pt x="0" y="1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34040" y="808200"/>
              <a:ext cx="82440" cy="207720"/>
            </a:xfrm>
            <a:custGeom>
              <a:avLst/>
              <a:gdLst/>
              <a:ahLst/>
              <a:rect l="l" t="t" r="r" b="b"/>
              <a:pathLst>
                <a:path w="161" h="393">
                  <a:moveTo>
                    <a:pt x="161" y="0"/>
                  </a:moveTo>
                  <a:lnTo>
                    <a:pt x="161" y="270"/>
                  </a:lnTo>
                  <a:lnTo>
                    <a:pt x="87" y="282"/>
                  </a:lnTo>
                  <a:lnTo>
                    <a:pt x="87" y="356"/>
                  </a:lnTo>
                  <a:lnTo>
                    <a:pt x="26" y="393"/>
                  </a:lnTo>
                  <a:lnTo>
                    <a:pt x="0" y="320"/>
                  </a:lnTo>
                  <a:lnTo>
                    <a:pt x="62" y="270"/>
                  </a:lnTo>
                  <a:lnTo>
                    <a:pt x="62" y="15"/>
                  </a:lnTo>
                  <a:lnTo>
                    <a:pt x="110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0760" y="990720"/>
              <a:ext cx="90360" cy="96840"/>
            </a:xfrm>
            <a:custGeom>
              <a:avLst/>
              <a:gdLst/>
              <a:ahLst/>
              <a:rect l="l" t="t" r="r" b="b"/>
              <a:pathLst>
                <a:path w="173" h="183">
                  <a:moveTo>
                    <a:pt x="173" y="0"/>
                  </a:moveTo>
                  <a:lnTo>
                    <a:pt x="112" y="48"/>
                  </a:lnTo>
                  <a:lnTo>
                    <a:pt x="135" y="122"/>
                  </a:lnTo>
                  <a:lnTo>
                    <a:pt x="135" y="183"/>
                  </a:lnTo>
                  <a:lnTo>
                    <a:pt x="51" y="183"/>
                  </a:lnTo>
                  <a:lnTo>
                    <a:pt x="0" y="60"/>
                  </a:lnTo>
                  <a:lnTo>
                    <a:pt x="75" y="1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83360" y="1087560"/>
              <a:ext cx="66600" cy="6804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98" y="11"/>
                  </a:moveTo>
                  <a:lnTo>
                    <a:pt x="62" y="62"/>
                  </a:lnTo>
                  <a:lnTo>
                    <a:pt x="123" y="135"/>
                  </a:lnTo>
                  <a:lnTo>
                    <a:pt x="26" y="123"/>
                  </a:lnTo>
                  <a:lnTo>
                    <a:pt x="0" y="62"/>
                  </a:lnTo>
                  <a:lnTo>
                    <a:pt x="26" y="0"/>
                  </a:lnTo>
                  <a:lnTo>
                    <a:pt x="98" y="1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3000" y="638280"/>
              <a:ext cx="226800" cy="512640"/>
            </a:xfrm>
            <a:custGeom>
              <a:avLst/>
              <a:gdLst/>
              <a:ahLst/>
              <a:rect l="l" t="t" r="r" b="b"/>
              <a:pathLst>
                <a:path w="443" h="974">
                  <a:moveTo>
                    <a:pt x="349" y="53"/>
                  </a:moveTo>
                  <a:lnTo>
                    <a:pt x="333" y="89"/>
                  </a:lnTo>
                  <a:lnTo>
                    <a:pt x="293" y="125"/>
                  </a:lnTo>
                  <a:lnTo>
                    <a:pt x="421" y="168"/>
                  </a:lnTo>
                  <a:lnTo>
                    <a:pt x="428" y="193"/>
                  </a:lnTo>
                  <a:lnTo>
                    <a:pt x="214" y="132"/>
                  </a:lnTo>
                  <a:lnTo>
                    <a:pt x="110" y="135"/>
                  </a:lnTo>
                  <a:lnTo>
                    <a:pt x="43" y="193"/>
                  </a:lnTo>
                  <a:lnTo>
                    <a:pt x="33" y="234"/>
                  </a:lnTo>
                  <a:lnTo>
                    <a:pt x="47" y="254"/>
                  </a:lnTo>
                  <a:lnTo>
                    <a:pt x="168" y="214"/>
                  </a:lnTo>
                  <a:lnTo>
                    <a:pt x="392" y="241"/>
                  </a:lnTo>
                  <a:lnTo>
                    <a:pt x="443" y="234"/>
                  </a:lnTo>
                  <a:lnTo>
                    <a:pt x="431" y="250"/>
                  </a:lnTo>
                  <a:lnTo>
                    <a:pt x="385" y="266"/>
                  </a:lnTo>
                  <a:lnTo>
                    <a:pt x="329" y="266"/>
                  </a:lnTo>
                  <a:lnTo>
                    <a:pt x="306" y="307"/>
                  </a:lnTo>
                  <a:lnTo>
                    <a:pt x="178" y="327"/>
                  </a:lnTo>
                  <a:lnTo>
                    <a:pt x="135" y="442"/>
                  </a:lnTo>
                  <a:lnTo>
                    <a:pt x="158" y="520"/>
                  </a:lnTo>
                  <a:lnTo>
                    <a:pt x="168" y="607"/>
                  </a:lnTo>
                  <a:lnTo>
                    <a:pt x="110" y="653"/>
                  </a:lnTo>
                  <a:lnTo>
                    <a:pt x="99" y="704"/>
                  </a:lnTo>
                  <a:lnTo>
                    <a:pt x="188" y="648"/>
                  </a:lnTo>
                  <a:lnTo>
                    <a:pt x="286" y="643"/>
                  </a:lnTo>
                  <a:lnTo>
                    <a:pt x="355" y="653"/>
                  </a:lnTo>
                  <a:lnTo>
                    <a:pt x="240" y="679"/>
                  </a:lnTo>
                  <a:lnTo>
                    <a:pt x="178" y="714"/>
                  </a:lnTo>
                  <a:lnTo>
                    <a:pt x="240" y="741"/>
                  </a:lnTo>
                  <a:lnTo>
                    <a:pt x="270" y="772"/>
                  </a:lnTo>
                  <a:lnTo>
                    <a:pt x="260" y="783"/>
                  </a:lnTo>
                  <a:lnTo>
                    <a:pt x="214" y="762"/>
                  </a:lnTo>
                  <a:lnTo>
                    <a:pt x="184" y="762"/>
                  </a:lnTo>
                  <a:lnTo>
                    <a:pt x="198" y="808"/>
                  </a:lnTo>
                  <a:lnTo>
                    <a:pt x="250" y="823"/>
                  </a:lnTo>
                  <a:lnTo>
                    <a:pt x="234" y="849"/>
                  </a:lnTo>
                  <a:lnTo>
                    <a:pt x="344" y="856"/>
                  </a:lnTo>
                  <a:lnTo>
                    <a:pt x="208" y="866"/>
                  </a:lnTo>
                  <a:lnTo>
                    <a:pt x="168" y="917"/>
                  </a:lnTo>
                  <a:lnTo>
                    <a:pt x="161" y="974"/>
                  </a:lnTo>
                  <a:lnTo>
                    <a:pt x="141" y="917"/>
                  </a:lnTo>
                  <a:lnTo>
                    <a:pt x="158" y="844"/>
                  </a:lnTo>
                  <a:lnTo>
                    <a:pt x="151" y="787"/>
                  </a:lnTo>
                  <a:lnTo>
                    <a:pt x="131" y="747"/>
                  </a:lnTo>
                  <a:lnTo>
                    <a:pt x="89" y="741"/>
                  </a:lnTo>
                  <a:lnTo>
                    <a:pt x="79" y="694"/>
                  </a:lnTo>
                  <a:lnTo>
                    <a:pt x="89" y="633"/>
                  </a:lnTo>
                  <a:lnTo>
                    <a:pt x="125" y="586"/>
                  </a:lnTo>
                  <a:lnTo>
                    <a:pt x="11" y="385"/>
                  </a:lnTo>
                  <a:lnTo>
                    <a:pt x="0" y="348"/>
                  </a:lnTo>
                  <a:lnTo>
                    <a:pt x="23" y="317"/>
                  </a:lnTo>
                  <a:lnTo>
                    <a:pt x="33" y="369"/>
                  </a:lnTo>
                  <a:lnTo>
                    <a:pt x="53" y="379"/>
                  </a:lnTo>
                  <a:lnTo>
                    <a:pt x="171" y="297"/>
                  </a:lnTo>
                  <a:lnTo>
                    <a:pt x="296" y="287"/>
                  </a:lnTo>
                  <a:lnTo>
                    <a:pt x="306" y="266"/>
                  </a:lnTo>
                  <a:lnTo>
                    <a:pt x="296" y="254"/>
                  </a:lnTo>
                  <a:lnTo>
                    <a:pt x="131" y="254"/>
                  </a:lnTo>
                  <a:lnTo>
                    <a:pt x="23" y="302"/>
                  </a:lnTo>
                  <a:lnTo>
                    <a:pt x="6" y="266"/>
                  </a:lnTo>
                  <a:lnTo>
                    <a:pt x="6" y="208"/>
                  </a:lnTo>
                  <a:lnTo>
                    <a:pt x="47" y="145"/>
                  </a:lnTo>
                  <a:lnTo>
                    <a:pt x="63" y="63"/>
                  </a:lnTo>
                  <a:lnTo>
                    <a:pt x="115" y="0"/>
                  </a:lnTo>
                  <a:lnTo>
                    <a:pt x="158" y="0"/>
                  </a:lnTo>
                  <a:lnTo>
                    <a:pt x="115" y="27"/>
                  </a:lnTo>
                  <a:lnTo>
                    <a:pt x="99" y="73"/>
                  </a:lnTo>
                  <a:lnTo>
                    <a:pt x="99" y="105"/>
                  </a:lnTo>
                  <a:lnTo>
                    <a:pt x="208" y="99"/>
                  </a:lnTo>
                  <a:lnTo>
                    <a:pt x="260" y="109"/>
                  </a:lnTo>
                  <a:lnTo>
                    <a:pt x="296" y="79"/>
                  </a:lnTo>
                  <a:lnTo>
                    <a:pt x="293" y="59"/>
                  </a:lnTo>
                  <a:lnTo>
                    <a:pt x="184" y="0"/>
                  </a:lnTo>
                  <a:lnTo>
                    <a:pt x="286" y="23"/>
                  </a:lnTo>
                  <a:lnTo>
                    <a:pt x="333" y="53"/>
                  </a:lnTo>
                  <a:lnTo>
                    <a:pt x="3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57880" y="952560"/>
              <a:ext cx="65160" cy="152280"/>
            </a:xfrm>
            <a:custGeom>
              <a:avLst/>
              <a:gdLst/>
              <a:ahLst/>
              <a:rect l="l" t="t" r="r" b="b"/>
              <a:pathLst>
                <a:path w="129" h="283">
                  <a:moveTo>
                    <a:pt x="92" y="10"/>
                  </a:moveTo>
                  <a:lnTo>
                    <a:pt x="46" y="0"/>
                  </a:lnTo>
                  <a:lnTo>
                    <a:pt x="63" y="25"/>
                  </a:lnTo>
                  <a:lnTo>
                    <a:pt x="36" y="51"/>
                  </a:lnTo>
                  <a:lnTo>
                    <a:pt x="99" y="92"/>
                  </a:lnTo>
                  <a:lnTo>
                    <a:pt x="99" y="150"/>
                  </a:lnTo>
                  <a:lnTo>
                    <a:pt x="50" y="180"/>
                  </a:lnTo>
                  <a:lnTo>
                    <a:pt x="0" y="196"/>
                  </a:lnTo>
                  <a:lnTo>
                    <a:pt x="20" y="206"/>
                  </a:lnTo>
                  <a:lnTo>
                    <a:pt x="46" y="206"/>
                  </a:lnTo>
                  <a:lnTo>
                    <a:pt x="46" y="259"/>
                  </a:lnTo>
                  <a:lnTo>
                    <a:pt x="88" y="283"/>
                  </a:lnTo>
                  <a:lnTo>
                    <a:pt x="83" y="247"/>
                  </a:lnTo>
                  <a:lnTo>
                    <a:pt x="109" y="190"/>
                  </a:lnTo>
                  <a:lnTo>
                    <a:pt x="129" y="138"/>
                  </a:lnTo>
                  <a:lnTo>
                    <a:pt x="124" y="4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072120" y="76320"/>
              <a:ext cx="404640" cy="876240"/>
              <a:chOff x="6072120" y="76320"/>
              <a:chExt cx="404640" cy="876240"/>
            </a:xfrm>
          </p:grpSpPr>
          <p:sp>
            <p:nvSpPr>
              <p:cNvPr id="249" name=""/>
              <p:cNvSpPr/>
              <p:nvPr/>
            </p:nvSpPr>
            <p:spPr>
              <a:xfrm>
                <a:off x="6121080" y="638280"/>
                <a:ext cx="95400" cy="207720"/>
              </a:xfrm>
              <a:custGeom>
                <a:avLst/>
                <a:gdLst/>
                <a:ahLst/>
                <a:rect l="l" t="t" r="r" b="b"/>
                <a:pathLst>
                  <a:path w="183" h="391">
                    <a:moveTo>
                      <a:pt x="172" y="12"/>
                    </a:moveTo>
                    <a:lnTo>
                      <a:pt x="135" y="48"/>
                    </a:lnTo>
                    <a:lnTo>
                      <a:pt x="147" y="74"/>
                    </a:lnTo>
                    <a:lnTo>
                      <a:pt x="183" y="122"/>
                    </a:lnTo>
                    <a:lnTo>
                      <a:pt x="124" y="170"/>
                    </a:lnTo>
                    <a:lnTo>
                      <a:pt x="124" y="208"/>
                    </a:lnTo>
                    <a:lnTo>
                      <a:pt x="160" y="281"/>
                    </a:lnTo>
                    <a:lnTo>
                      <a:pt x="147" y="332"/>
                    </a:lnTo>
                    <a:lnTo>
                      <a:pt x="48" y="391"/>
                    </a:lnTo>
                    <a:lnTo>
                      <a:pt x="0" y="356"/>
                    </a:lnTo>
                    <a:lnTo>
                      <a:pt x="25" y="281"/>
                    </a:lnTo>
                    <a:lnTo>
                      <a:pt x="12" y="245"/>
                    </a:lnTo>
                    <a:lnTo>
                      <a:pt x="73" y="134"/>
                    </a:lnTo>
                    <a:lnTo>
                      <a:pt x="87" y="48"/>
                    </a:lnTo>
                    <a:lnTo>
                      <a:pt x="124" y="0"/>
                    </a:lnTo>
                    <a:lnTo>
                      <a:pt x="172" y="1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71840" y="147600"/>
                <a:ext cx="165240" cy="165240"/>
              </a:xfrm>
              <a:custGeom>
                <a:avLst/>
                <a:gdLst/>
                <a:ahLst/>
                <a:rect l="l" t="t" r="r" b="b"/>
                <a:pathLst>
                  <a:path w="320" h="319">
                    <a:moveTo>
                      <a:pt x="183" y="49"/>
                    </a:moveTo>
                    <a:lnTo>
                      <a:pt x="111" y="134"/>
                    </a:lnTo>
                    <a:lnTo>
                      <a:pt x="320" y="0"/>
                    </a:lnTo>
                    <a:lnTo>
                      <a:pt x="257" y="160"/>
                    </a:lnTo>
                    <a:lnTo>
                      <a:pt x="160" y="319"/>
                    </a:lnTo>
                    <a:lnTo>
                      <a:pt x="73" y="280"/>
                    </a:lnTo>
                    <a:lnTo>
                      <a:pt x="25" y="280"/>
                    </a:lnTo>
                    <a:lnTo>
                      <a:pt x="0" y="184"/>
                    </a:lnTo>
                    <a:lnTo>
                      <a:pt x="48" y="122"/>
                    </a:lnTo>
                    <a:lnTo>
                      <a:pt x="111" y="86"/>
                    </a:lnTo>
                    <a:lnTo>
                      <a:pt x="183" y="4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159240" y="549360"/>
                <a:ext cx="82440" cy="93600"/>
              </a:xfrm>
              <a:custGeom>
                <a:avLst/>
                <a:gdLst/>
                <a:ahLst/>
                <a:rect l="l" t="t" r="r" b="b"/>
                <a:pathLst>
                  <a:path w="161" h="183">
                    <a:moveTo>
                      <a:pt x="161" y="0"/>
                    </a:moveTo>
                    <a:lnTo>
                      <a:pt x="161" y="86"/>
                    </a:lnTo>
                    <a:lnTo>
                      <a:pt x="99" y="99"/>
                    </a:lnTo>
                    <a:lnTo>
                      <a:pt x="99" y="158"/>
                    </a:lnTo>
                    <a:lnTo>
                      <a:pt x="38" y="183"/>
                    </a:lnTo>
                    <a:lnTo>
                      <a:pt x="0" y="72"/>
                    </a:lnTo>
                    <a:lnTo>
                      <a:pt x="26" y="1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51320" y="338040"/>
                <a:ext cx="52560" cy="4788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9" y="12"/>
                    </a:moveTo>
                    <a:lnTo>
                      <a:pt x="12" y="0"/>
                    </a:lnTo>
                    <a:lnTo>
                      <a:pt x="0" y="75"/>
                    </a:lnTo>
                    <a:lnTo>
                      <a:pt x="74" y="86"/>
                    </a:lnTo>
                    <a:lnTo>
                      <a:pt x="99" y="1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51320" y="574560"/>
                <a:ext cx="209520" cy="68400"/>
              </a:xfrm>
              <a:custGeom>
                <a:avLst/>
                <a:gdLst/>
                <a:ahLst/>
                <a:rect l="l" t="t" r="r" b="b"/>
                <a:pathLst>
                  <a:path w="405" h="131">
                    <a:moveTo>
                      <a:pt x="26" y="0"/>
                    </a:moveTo>
                    <a:lnTo>
                      <a:pt x="0" y="36"/>
                    </a:lnTo>
                    <a:lnTo>
                      <a:pt x="0" y="95"/>
                    </a:lnTo>
                    <a:lnTo>
                      <a:pt x="52" y="131"/>
                    </a:lnTo>
                    <a:lnTo>
                      <a:pt x="52" y="78"/>
                    </a:lnTo>
                    <a:lnTo>
                      <a:pt x="141" y="42"/>
                    </a:lnTo>
                    <a:lnTo>
                      <a:pt x="266" y="46"/>
                    </a:lnTo>
                    <a:lnTo>
                      <a:pt x="332" y="52"/>
                    </a:lnTo>
                    <a:lnTo>
                      <a:pt x="319" y="115"/>
                    </a:lnTo>
                    <a:lnTo>
                      <a:pt x="375" y="118"/>
                    </a:lnTo>
                    <a:lnTo>
                      <a:pt x="405" y="78"/>
                    </a:lnTo>
                    <a:lnTo>
                      <a:pt x="405" y="59"/>
                    </a:lnTo>
                    <a:lnTo>
                      <a:pt x="322" y="26"/>
                    </a:lnTo>
                    <a:lnTo>
                      <a:pt x="184" y="10"/>
                    </a:lnTo>
                    <a:lnTo>
                      <a:pt x="26" y="5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4920" y="90972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56" h="84">
                    <a:moveTo>
                      <a:pt x="0" y="84"/>
                    </a:moveTo>
                    <a:lnTo>
                      <a:pt x="56" y="0"/>
                    </a:lnTo>
                    <a:lnTo>
                      <a:pt x="46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72120" y="317520"/>
                <a:ext cx="371520" cy="270000"/>
              </a:xfrm>
              <a:custGeom>
                <a:avLst/>
                <a:gdLst/>
                <a:ahLst/>
                <a:rect l="l" t="t" r="r" b="b"/>
                <a:pathLst>
                  <a:path w="721" h="507">
                    <a:moveTo>
                      <a:pt x="171" y="475"/>
                    </a:moveTo>
                    <a:lnTo>
                      <a:pt x="30" y="300"/>
                    </a:lnTo>
                    <a:lnTo>
                      <a:pt x="0" y="196"/>
                    </a:lnTo>
                    <a:lnTo>
                      <a:pt x="72" y="77"/>
                    </a:lnTo>
                    <a:lnTo>
                      <a:pt x="128" y="97"/>
                    </a:lnTo>
                    <a:lnTo>
                      <a:pt x="98" y="46"/>
                    </a:lnTo>
                    <a:lnTo>
                      <a:pt x="125" y="0"/>
                    </a:lnTo>
                    <a:lnTo>
                      <a:pt x="181" y="4"/>
                    </a:lnTo>
                    <a:lnTo>
                      <a:pt x="139" y="10"/>
                    </a:lnTo>
                    <a:lnTo>
                      <a:pt x="118" y="41"/>
                    </a:lnTo>
                    <a:lnTo>
                      <a:pt x="161" y="128"/>
                    </a:lnTo>
                    <a:lnTo>
                      <a:pt x="82" y="102"/>
                    </a:lnTo>
                    <a:lnTo>
                      <a:pt x="46" y="181"/>
                    </a:lnTo>
                    <a:lnTo>
                      <a:pt x="125" y="155"/>
                    </a:lnTo>
                    <a:lnTo>
                      <a:pt x="40" y="217"/>
                    </a:lnTo>
                    <a:lnTo>
                      <a:pt x="52" y="273"/>
                    </a:lnTo>
                    <a:lnTo>
                      <a:pt x="181" y="191"/>
                    </a:lnTo>
                    <a:lnTo>
                      <a:pt x="322" y="165"/>
                    </a:lnTo>
                    <a:lnTo>
                      <a:pt x="477" y="169"/>
                    </a:lnTo>
                    <a:lnTo>
                      <a:pt x="670" y="247"/>
                    </a:lnTo>
                    <a:lnTo>
                      <a:pt x="608" y="254"/>
                    </a:lnTo>
                    <a:lnTo>
                      <a:pt x="535" y="412"/>
                    </a:lnTo>
                    <a:lnTo>
                      <a:pt x="566" y="412"/>
                    </a:lnTo>
                    <a:lnTo>
                      <a:pt x="670" y="273"/>
                    </a:lnTo>
                    <a:lnTo>
                      <a:pt x="619" y="428"/>
                    </a:lnTo>
                    <a:lnTo>
                      <a:pt x="706" y="314"/>
                    </a:lnTo>
                    <a:lnTo>
                      <a:pt x="721" y="336"/>
                    </a:lnTo>
                    <a:lnTo>
                      <a:pt x="581" y="507"/>
                    </a:lnTo>
                    <a:lnTo>
                      <a:pt x="523" y="455"/>
                    </a:lnTo>
                    <a:lnTo>
                      <a:pt x="451" y="412"/>
                    </a:lnTo>
                    <a:lnTo>
                      <a:pt x="342" y="418"/>
                    </a:lnTo>
                    <a:lnTo>
                      <a:pt x="253" y="438"/>
                    </a:lnTo>
                    <a:lnTo>
                      <a:pt x="171" y="47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88040" y="330120"/>
                <a:ext cx="69840" cy="38160"/>
              </a:xfrm>
              <a:custGeom>
                <a:avLst/>
                <a:gdLst/>
                <a:ahLst/>
                <a:rect l="l" t="t" r="r" b="b"/>
                <a:pathLst>
                  <a:path w="135" h="68">
                    <a:moveTo>
                      <a:pt x="0" y="22"/>
                    </a:moveTo>
                    <a:lnTo>
                      <a:pt x="43" y="68"/>
                    </a:lnTo>
                    <a:lnTo>
                      <a:pt x="135" y="63"/>
                    </a:lnTo>
                    <a:lnTo>
                      <a:pt x="125" y="0"/>
                    </a:lnTo>
                    <a:lnTo>
                      <a:pt x="43" y="1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179760" y="291960"/>
                <a:ext cx="297000" cy="157320"/>
              </a:xfrm>
              <a:custGeom>
                <a:avLst/>
                <a:gdLst/>
                <a:ahLst/>
                <a:rect l="l" t="t" r="r" b="b"/>
                <a:pathLst>
                  <a:path w="576" h="300">
                    <a:moveTo>
                      <a:pt x="0" y="53"/>
                    </a:moveTo>
                    <a:lnTo>
                      <a:pt x="30" y="17"/>
                    </a:lnTo>
                    <a:lnTo>
                      <a:pt x="109" y="0"/>
                    </a:lnTo>
                    <a:lnTo>
                      <a:pt x="162" y="73"/>
                    </a:lnTo>
                    <a:lnTo>
                      <a:pt x="185" y="53"/>
                    </a:lnTo>
                    <a:lnTo>
                      <a:pt x="218" y="73"/>
                    </a:lnTo>
                    <a:lnTo>
                      <a:pt x="254" y="17"/>
                    </a:lnTo>
                    <a:lnTo>
                      <a:pt x="347" y="47"/>
                    </a:lnTo>
                    <a:lnTo>
                      <a:pt x="347" y="99"/>
                    </a:lnTo>
                    <a:lnTo>
                      <a:pt x="368" y="114"/>
                    </a:lnTo>
                    <a:lnTo>
                      <a:pt x="399" y="94"/>
                    </a:lnTo>
                    <a:lnTo>
                      <a:pt x="457" y="114"/>
                    </a:lnTo>
                    <a:lnTo>
                      <a:pt x="452" y="166"/>
                    </a:lnTo>
                    <a:lnTo>
                      <a:pt x="503" y="218"/>
                    </a:lnTo>
                    <a:lnTo>
                      <a:pt x="576" y="218"/>
                    </a:lnTo>
                    <a:lnTo>
                      <a:pt x="534" y="300"/>
                    </a:lnTo>
                    <a:lnTo>
                      <a:pt x="534" y="249"/>
                    </a:lnTo>
                    <a:lnTo>
                      <a:pt x="503" y="244"/>
                    </a:lnTo>
                    <a:lnTo>
                      <a:pt x="442" y="198"/>
                    </a:lnTo>
                    <a:lnTo>
                      <a:pt x="264" y="162"/>
                    </a:lnTo>
                    <a:lnTo>
                      <a:pt x="10" y="176"/>
                    </a:lnTo>
                    <a:lnTo>
                      <a:pt x="254" y="140"/>
                    </a:lnTo>
                    <a:lnTo>
                      <a:pt x="343" y="150"/>
                    </a:lnTo>
                    <a:lnTo>
                      <a:pt x="358" y="130"/>
                    </a:lnTo>
                    <a:lnTo>
                      <a:pt x="332" y="109"/>
                    </a:lnTo>
                    <a:lnTo>
                      <a:pt x="332" y="57"/>
                    </a:lnTo>
                    <a:lnTo>
                      <a:pt x="261" y="41"/>
                    </a:lnTo>
                    <a:lnTo>
                      <a:pt x="218" y="99"/>
                    </a:lnTo>
                    <a:lnTo>
                      <a:pt x="185" y="89"/>
                    </a:lnTo>
                    <a:lnTo>
                      <a:pt x="149" y="94"/>
                    </a:lnTo>
                    <a:lnTo>
                      <a:pt x="93" y="31"/>
                    </a:lnTo>
                    <a:lnTo>
                      <a:pt x="40" y="36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291000" y="3348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19" h="71">
                    <a:moveTo>
                      <a:pt x="0" y="0"/>
                    </a:moveTo>
                    <a:lnTo>
                      <a:pt x="16" y="61"/>
                    </a:lnTo>
                    <a:lnTo>
                      <a:pt x="92" y="71"/>
                    </a:lnTo>
                    <a:lnTo>
                      <a:pt x="119" y="36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138720" y="351000"/>
                <a:ext cx="28440" cy="3492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0" y="0"/>
                    </a:moveTo>
                    <a:lnTo>
                      <a:pt x="59" y="16"/>
                    </a:lnTo>
                    <a:lnTo>
                      <a:pt x="33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54560" y="76320"/>
                <a:ext cx="206280" cy="249120"/>
              </a:xfrm>
              <a:custGeom>
                <a:avLst/>
                <a:gdLst/>
                <a:ahLst/>
                <a:rect l="l" t="t" r="r" b="b"/>
                <a:pathLst>
                  <a:path w="396" h="471">
                    <a:moveTo>
                      <a:pt x="53" y="444"/>
                    </a:moveTo>
                    <a:lnTo>
                      <a:pt x="0" y="388"/>
                    </a:lnTo>
                    <a:lnTo>
                      <a:pt x="0" y="320"/>
                    </a:lnTo>
                    <a:lnTo>
                      <a:pt x="59" y="232"/>
                    </a:lnTo>
                    <a:lnTo>
                      <a:pt x="224" y="149"/>
                    </a:lnTo>
                    <a:lnTo>
                      <a:pt x="396" y="0"/>
                    </a:lnTo>
                    <a:lnTo>
                      <a:pt x="241" y="165"/>
                    </a:lnTo>
                    <a:lnTo>
                      <a:pt x="106" y="232"/>
                    </a:lnTo>
                    <a:lnTo>
                      <a:pt x="76" y="362"/>
                    </a:lnTo>
                    <a:lnTo>
                      <a:pt x="112" y="425"/>
                    </a:lnTo>
                    <a:lnTo>
                      <a:pt x="142" y="310"/>
                    </a:lnTo>
                    <a:lnTo>
                      <a:pt x="214" y="274"/>
                    </a:lnTo>
                    <a:lnTo>
                      <a:pt x="287" y="212"/>
                    </a:lnTo>
                    <a:lnTo>
                      <a:pt x="221" y="294"/>
                    </a:lnTo>
                    <a:lnTo>
                      <a:pt x="221" y="373"/>
                    </a:lnTo>
                    <a:lnTo>
                      <a:pt x="185" y="471"/>
                    </a:lnTo>
                    <a:lnTo>
                      <a:pt x="148" y="439"/>
                    </a:lnTo>
                    <a:lnTo>
                      <a:pt x="89" y="444"/>
                    </a:lnTo>
                    <a:lnTo>
                      <a:pt x="53" y="44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262560" y="106200"/>
                <a:ext cx="172800" cy="244800"/>
              </a:xfrm>
              <a:custGeom>
                <a:avLst/>
                <a:gdLst/>
                <a:ahLst/>
                <a:rect l="l" t="t" r="r" b="b"/>
                <a:pathLst>
                  <a:path w="336" h="465">
                    <a:moveTo>
                      <a:pt x="0" y="418"/>
                    </a:moveTo>
                    <a:lnTo>
                      <a:pt x="72" y="305"/>
                    </a:lnTo>
                    <a:lnTo>
                      <a:pt x="82" y="341"/>
                    </a:lnTo>
                    <a:lnTo>
                      <a:pt x="155" y="273"/>
                    </a:lnTo>
                    <a:lnTo>
                      <a:pt x="185" y="181"/>
                    </a:lnTo>
                    <a:lnTo>
                      <a:pt x="211" y="227"/>
                    </a:lnTo>
                    <a:lnTo>
                      <a:pt x="217" y="155"/>
                    </a:lnTo>
                    <a:lnTo>
                      <a:pt x="181" y="66"/>
                    </a:lnTo>
                    <a:lnTo>
                      <a:pt x="181" y="0"/>
                    </a:lnTo>
                    <a:lnTo>
                      <a:pt x="206" y="66"/>
                    </a:lnTo>
                    <a:lnTo>
                      <a:pt x="259" y="128"/>
                    </a:lnTo>
                    <a:lnTo>
                      <a:pt x="269" y="211"/>
                    </a:lnTo>
                    <a:lnTo>
                      <a:pt x="326" y="128"/>
                    </a:lnTo>
                    <a:lnTo>
                      <a:pt x="336" y="259"/>
                    </a:lnTo>
                    <a:lnTo>
                      <a:pt x="305" y="362"/>
                    </a:lnTo>
                    <a:lnTo>
                      <a:pt x="237" y="465"/>
                    </a:lnTo>
                    <a:lnTo>
                      <a:pt x="233" y="392"/>
                    </a:lnTo>
                    <a:lnTo>
                      <a:pt x="290" y="331"/>
                    </a:lnTo>
                    <a:lnTo>
                      <a:pt x="310" y="197"/>
                    </a:lnTo>
                    <a:lnTo>
                      <a:pt x="269" y="247"/>
                    </a:lnTo>
                    <a:lnTo>
                      <a:pt x="237" y="310"/>
                    </a:lnTo>
                    <a:lnTo>
                      <a:pt x="160" y="392"/>
                    </a:lnTo>
                    <a:lnTo>
                      <a:pt x="92" y="377"/>
                    </a:lnTo>
                    <a:lnTo>
                      <a:pt x="61" y="445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63504" dir="13983909" blurRad="0" rotWithShape="0">
                  <a:srgbClr val="ff99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412920" y="577800"/>
            <a:ext cx="734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RCH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7760" y="5778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oxoplasm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06280" y="2935440"/>
            <a:ext cx="23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ubeól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04840" y="4056120"/>
            <a:ext cx="500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tomegalovir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04840" y="5114880"/>
            <a:ext cx="46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rpes simple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52000" y="1706400"/>
            <a:ext cx="17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ra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2680" y="646128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hmias, 19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04920"/>
            <a:ext cx="137160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19920" y="0"/>
            <a:ext cx="761760" cy="1295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ifilis Congénit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aso Confirm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dentificación del T. Pallid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aso presuntiv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Sífilis Materna no tratada o de forma inadecuada, VDRL + en neonato y manifestación clínica o radiológica, LCR anormal, 4 veces los títulos ma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rtinato sifílitic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Muerte de neonato de hijo de madre con sífilis no tratada , &gt; 20 semanas y &gt; 500 gr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ífilis Congénit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aso Confirm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dentificación del T. Pallid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aso presuntiv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Sífilis Materna no tratada o de forma inadecuada, VDRL + en neonato y manifestación clínica o radiológica, LCR anormal, 4 veces los títulos ma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rtinato sifílitic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Muerte de neonato de hijo de madre con sífilis no tratada , &gt; 20 semanas y &gt; 500 gr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ífilis Congénita</a:t>
            </a: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Diagnóst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uebas No treponemicas: VDRL; R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uebas Treponemicas: FTA-ABS, MHA-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ífilis Congénita Tratamient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Penicilina 50,000 u/kg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por 14 días si la madre no fue tratada.(reacción Jarisch-Herxheimer entre 2 a 36 hor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la madre fue tratada adecuadamente y no hay hallazgos clínicos en el neonato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Benzetacil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dosis ó seguimiento solamen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04920" y="182520"/>
            <a:ext cx="8738640" cy="6675480"/>
            <a:chOff x="304920" y="182520"/>
            <a:chExt cx="8738640" cy="6675480"/>
          </a:xfrm>
        </p:grpSpPr>
        <p:sp>
          <p:nvSpPr>
            <p:cNvPr id="272" name=""/>
            <p:cNvSpPr/>
            <p:nvPr/>
          </p:nvSpPr>
          <p:spPr>
            <a:xfrm>
              <a:off x="1333800" y="214200"/>
              <a:ext cx="7625880" cy="6643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08360" y="18252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Arial"/>
                </a:rPr>
                <a:t>Plotkin, 198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7354800" y="2859120"/>
              <a:ext cx="1288800" cy="3998160"/>
              <a:chOff x="7354800" y="2859120"/>
              <a:chExt cx="1288800" cy="3998160"/>
            </a:xfrm>
          </p:grpSpPr>
          <p:sp>
            <p:nvSpPr>
              <p:cNvPr id="275" name=""/>
              <p:cNvSpPr/>
              <p:nvPr/>
            </p:nvSpPr>
            <p:spPr>
              <a:xfrm flipH="1">
                <a:off x="8052480" y="5132880"/>
                <a:ext cx="87840" cy="615240"/>
              </a:xfrm>
              <a:custGeom>
                <a:avLst/>
                <a:gdLst/>
                <a:ahLst/>
                <a:rect l="l" t="t" r="r" b="b"/>
                <a:pathLst>
                  <a:path w="35" h="232">
                    <a:moveTo>
                      <a:pt x="15" y="0"/>
                    </a:moveTo>
                    <a:lnTo>
                      <a:pt x="0" y="21"/>
                    </a:lnTo>
                    <a:lnTo>
                      <a:pt x="23" y="71"/>
                    </a:lnTo>
                    <a:lnTo>
                      <a:pt x="7" y="126"/>
                    </a:lnTo>
                    <a:lnTo>
                      <a:pt x="26" y="231"/>
                    </a:lnTo>
                    <a:lnTo>
                      <a:pt x="21" y="123"/>
                    </a:lnTo>
                    <a:lnTo>
                      <a:pt x="34" y="63"/>
                    </a:lnTo>
                    <a:lnTo>
                      <a:pt x="31" y="16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f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7422840" y="3126600"/>
                <a:ext cx="528480" cy="3600720"/>
              </a:xfrm>
              <a:custGeom>
                <a:avLst/>
                <a:gdLst/>
                <a:ahLst/>
                <a:rect l="l" t="t" r="r" b="b"/>
                <a:pathLst>
                  <a:path w="210" h="1357">
                    <a:moveTo>
                      <a:pt x="148" y="0"/>
                    </a:moveTo>
                    <a:lnTo>
                      <a:pt x="135" y="39"/>
                    </a:lnTo>
                    <a:lnTo>
                      <a:pt x="149" y="112"/>
                    </a:lnTo>
                    <a:lnTo>
                      <a:pt x="133" y="275"/>
                    </a:lnTo>
                    <a:lnTo>
                      <a:pt x="79" y="505"/>
                    </a:lnTo>
                    <a:lnTo>
                      <a:pt x="52" y="613"/>
                    </a:lnTo>
                    <a:lnTo>
                      <a:pt x="36" y="677"/>
                    </a:lnTo>
                    <a:lnTo>
                      <a:pt x="67" y="755"/>
                    </a:lnTo>
                    <a:lnTo>
                      <a:pt x="71" y="893"/>
                    </a:lnTo>
                    <a:lnTo>
                      <a:pt x="54" y="1021"/>
                    </a:lnTo>
                    <a:lnTo>
                      <a:pt x="22" y="1199"/>
                    </a:lnTo>
                    <a:lnTo>
                      <a:pt x="4" y="1264"/>
                    </a:lnTo>
                    <a:lnTo>
                      <a:pt x="0" y="1339"/>
                    </a:lnTo>
                    <a:lnTo>
                      <a:pt x="35" y="1356"/>
                    </a:lnTo>
                    <a:lnTo>
                      <a:pt x="54" y="1328"/>
                    </a:lnTo>
                    <a:lnTo>
                      <a:pt x="30" y="1259"/>
                    </a:lnTo>
                    <a:lnTo>
                      <a:pt x="30" y="1223"/>
                    </a:lnTo>
                    <a:lnTo>
                      <a:pt x="45" y="1137"/>
                    </a:lnTo>
                    <a:lnTo>
                      <a:pt x="70" y="1028"/>
                    </a:lnTo>
                    <a:lnTo>
                      <a:pt x="84" y="922"/>
                    </a:lnTo>
                    <a:lnTo>
                      <a:pt x="89" y="838"/>
                    </a:lnTo>
                    <a:lnTo>
                      <a:pt x="88" y="762"/>
                    </a:lnTo>
                    <a:lnTo>
                      <a:pt x="79" y="677"/>
                    </a:lnTo>
                    <a:lnTo>
                      <a:pt x="83" y="587"/>
                    </a:lnTo>
                    <a:lnTo>
                      <a:pt x="118" y="496"/>
                    </a:lnTo>
                    <a:lnTo>
                      <a:pt x="181" y="342"/>
                    </a:lnTo>
                    <a:lnTo>
                      <a:pt x="209" y="250"/>
                    </a:lnTo>
                    <a:lnTo>
                      <a:pt x="207" y="178"/>
                    </a:lnTo>
                    <a:lnTo>
                      <a:pt x="187" y="72"/>
                    </a:lnTo>
                    <a:lnTo>
                      <a:pt x="148" y="0"/>
                    </a:lnTo>
                  </a:path>
                </a:pathLst>
              </a:custGeom>
              <a:solidFill>
                <a:srgbClr val="f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8117280" y="3543840"/>
                <a:ext cx="289800" cy="623160"/>
              </a:xfrm>
              <a:custGeom>
                <a:avLst/>
                <a:gdLst/>
                <a:ahLst/>
                <a:rect l="l" t="t" r="r" b="b"/>
                <a:pathLst>
                  <a:path w="115" h="235">
                    <a:moveTo>
                      <a:pt x="50" y="0"/>
                    </a:moveTo>
                    <a:lnTo>
                      <a:pt x="0" y="37"/>
                    </a:lnTo>
                    <a:lnTo>
                      <a:pt x="43" y="116"/>
                    </a:lnTo>
                    <a:lnTo>
                      <a:pt x="58" y="234"/>
                    </a:lnTo>
                    <a:lnTo>
                      <a:pt x="89" y="171"/>
                    </a:lnTo>
                    <a:lnTo>
                      <a:pt x="114" y="88"/>
                    </a:lnTo>
                    <a:lnTo>
                      <a:pt x="78" y="17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f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8258400" y="3042000"/>
                <a:ext cx="83160" cy="12744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8" y="0"/>
                    </a:moveTo>
                    <a:lnTo>
                      <a:pt x="32" y="47"/>
                    </a:lnTo>
                    <a:lnTo>
                      <a:pt x="1" y="33"/>
                    </a:lnTo>
                    <a:lnTo>
                      <a:pt x="0" y="17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7563960" y="2859120"/>
                <a:ext cx="943920" cy="838080"/>
              </a:xfrm>
              <a:custGeom>
                <a:avLst/>
                <a:gdLst/>
                <a:ahLst/>
                <a:rect l="l" t="t" r="r" b="b"/>
                <a:pathLst>
                  <a:path w="375" h="316">
                    <a:moveTo>
                      <a:pt x="17" y="79"/>
                    </a:moveTo>
                    <a:lnTo>
                      <a:pt x="61" y="117"/>
                    </a:lnTo>
                    <a:lnTo>
                      <a:pt x="99" y="141"/>
                    </a:lnTo>
                    <a:lnTo>
                      <a:pt x="153" y="160"/>
                    </a:lnTo>
                    <a:lnTo>
                      <a:pt x="191" y="156"/>
                    </a:lnTo>
                    <a:lnTo>
                      <a:pt x="236" y="138"/>
                    </a:lnTo>
                    <a:lnTo>
                      <a:pt x="268" y="115"/>
                    </a:lnTo>
                    <a:lnTo>
                      <a:pt x="318" y="40"/>
                    </a:lnTo>
                    <a:lnTo>
                      <a:pt x="354" y="0"/>
                    </a:lnTo>
                    <a:lnTo>
                      <a:pt x="374" y="49"/>
                    </a:lnTo>
                    <a:lnTo>
                      <a:pt x="321" y="127"/>
                    </a:lnTo>
                    <a:lnTo>
                      <a:pt x="299" y="174"/>
                    </a:lnTo>
                    <a:lnTo>
                      <a:pt x="266" y="250"/>
                    </a:lnTo>
                    <a:lnTo>
                      <a:pt x="205" y="315"/>
                    </a:lnTo>
                    <a:lnTo>
                      <a:pt x="167" y="308"/>
                    </a:lnTo>
                    <a:lnTo>
                      <a:pt x="149" y="284"/>
                    </a:lnTo>
                    <a:lnTo>
                      <a:pt x="115" y="231"/>
                    </a:lnTo>
                    <a:lnTo>
                      <a:pt x="76" y="181"/>
                    </a:lnTo>
                    <a:lnTo>
                      <a:pt x="26" y="119"/>
                    </a:lnTo>
                    <a:lnTo>
                      <a:pt x="0" y="95"/>
                    </a:lnTo>
                    <a:lnTo>
                      <a:pt x="17" y="79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7466040" y="3384360"/>
                <a:ext cx="249120" cy="1135440"/>
              </a:xfrm>
              <a:custGeom>
                <a:avLst/>
                <a:gdLst/>
                <a:ahLst/>
                <a:rect l="l" t="t" r="r" b="b"/>
                <a:pathLst>
                  <a:path w="99" h="428">
                    <a:moveTo>
                      <a:pt x="72" y="0"/>
                    </a:moveTo>
                    <a:lnTo>
                      <a:pt x="56" y="222"/>
                    </a:lnTo>
                    <a:lnTo>
                      <a:pt x="0" y="427"/>
                    </a:lnTo>
                    <a:lnTo>
                      <a:pt x="90" y="179"/>
                    </a:lnTo>
                    <a:lnTo>
                      <a:pt x="98" y="66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ff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8172720" y="3612240"/>
                <a:ext cx="115560" cy="230760"/>
              </a:xfrm>
              <a:custGeom>
                <a:avLst/>
                <a:gdLst/>
                <a:ahLst/>
                <a:rect l="l" t="t" r="r" b="b"/>
                <a:pathLst>
                  <a:path w="46" h="87">
                    <a:moveTo>
                      <a:pt x="0" y="13"/>
                    </a:moveTo>
                    <a:lnTo>
                      <a:pt x="31" y="86"/>
                    </a:lnTo>
                    <a:lnTo>
                      <a:pt x="45" y="50"/>
                    </a:lnTo>
                    <a:lnTo>
                      <a:pt x="23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7904160" y="3254400"/>
                <a:ext cx="475200" cy="525240"/>
              </a:xfrm>
              <a:custGeom>
                <a:avLst/>
                <a:gdLst/>
                <a:ahLst/>
                <a:rect l="l" t="t" r="r" b="b"/>
                <a:pathLst>
                  <a:path w="189" h="198">
                    <a:moveTo>
                      <a:pt x="0" y="0"/>
                    </a:moveTo>
                    <a:lnTo>
                      <a:pt x="39" y="46"/>
                    </a:lnTo>
                    <a:lnTo>
                      <a:pt x="79" y="99"/>
                    </a:lnTo>
                    <a:lnTo>
                      <a:pt x="106" y="137"/>
                    </a:lnTo>
                    <a:lnTo>
                      <a:pt x="122" y="150"/>
                    </a:lnTo>
                    <a:lnTo>
                      <a:pt x="144" y="153"/>
                    </a:lnTo>
                    <a:lnTo>
                      <a:pt x="188" y="135"/>
                    </a:lnTo>
                    <a:lnTo>
                      <a:pt x="167" y="169"/>
                    </a:lnTo>
                    <a:lnTo>
                      <a:pt x="145" y="190"/>
                    </a:lnTo>
                    <a:lnTo>
                      <a:pt x="128" y="197"/>
                    </a:lnTo>
                    <a:lnTo>
                      <a:pt x="107" y="156"/>
                    </a:lnTo>
                    <a:lnTo>
                      <a:pt x="80" y="113"/>
                    </a:lnTo>
                    <a:lnTo>
                      <a:pt x="58" y="79"/>
                    </a:lnTo>
                    <a:lnTo>
                      <a:pt x="20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916400" y="3076920"/>
                <a:ext cx="727200" cy="3377520"/>
              </a:xfrm>
              <a:custGeom>
                <a:avLst/>
                <a:gdLst/>
                <a:ahLst/>
                <a:rect l="l" t="t" r="r" b="b"/>
                <a:pathLst>
                  <a:path w="289" h="1273">
                    <a:moveTo>
                      <a:pt x="29" y="0"/>
                    </a:moveTo>
                    <a:lnTo>
                      <a:pt x="11" y="110"/>
                    </a:lnTo>
                    <a:lnTo>
                      <a:pt x="5" y="178"/>
                    </a:lnTo>
                    <a:lnTo>
                      <a:pt x="0" y="264"/>
                    </a:lnTo>
                    <a:lnTo>
                      <a:pt x="5" y="306"/>
                    </a:lnTo>
                    <a:lnTo>
                      <a:pt x="14" y="356"/>
                    </a:lnTo>
                    <a:lnTo>
                      <a:pt x="28" y="407"/>
                    </a:lnTo>
                    <a:lnTo>
                      <a:pt x="67" y="502"/>
                    </a:lnTo>
                    <a:lnTo>
                      <a:pt x="96" y="618"/>
                    </a:lnTo>
                    <a:lnTo>
                      <a:pt x="110" y="673"/>
                    </a:lnTo>
                    <a:lnTo>
                      <a:pt x="112" y="727"/>
                    </a:lnTo>
                    <a:lnTo>
                      <a:pt x="121" y="769"/>
                    </a:lnTo>
                    <a:lnTo>
                      <a:pt x="131" y="800"/>
                    </a:lnTo>
                    <a:lnTo>
                      <a:pt x="136" y="914"/>
                    </a:lnTo>
                    <a:lnTo>
                      <a:pt x="148" y="985"/>
                    </a:lnTo>
                    <a:lnTo>
                      <a:pt x="184" y="1101"/>
                    </a:lnTo>
                    <a:lnTo>
                      <a:pt x="212" y="1206"/>
                    </a:lnTo>
                    <a:lnTo>
                      <a:pt x="238" y="1272"/>
                    </a:lnTo>
                    <a:lnTo>
                      <a:pt x="251" y="1232"/>
                    </a:lnTo>
                    <a:lnTo>
                      <a:pt x="234" y="1179"/>
                    </a:lnTo>
                    <a:lnTo>
                      <a:pt x="223" y="1124"/>
                    </a:lnTo>
                    <a:lnTo>
                      <a:pt x="209" y="1007"/>
                    </a:lnTo>
                    <a:lnTo>
                      <a:pt x="194" y="926"/>
                    </a:lnTo>
                    <a:lnTo>
                      <a:pt x="192" y="877"/>
                    </a:lnTo>
                    <a:lnTo>
                      <a:pt x="210" y="844"/>
                    </a:lnTo>
                    <a:lnTo>
                      <a:pt x="204" y="823"/>
                    </a:lnTo>
                    <a:lnTo>
                      <a:pt x="176" y="783"/>
                    </a:lnTo>
                    <a:lnTo>
                      <a:pt x="209" y="751"/>
                    </a:lnTo>
                    <a:lnTo>
                      <a:pt x="204" y="704"/>
                    </a:lnTo>
                    <a:lnTo>
                      <a:pt x="213" y="674"/>
                    </a:lnTo>
                    <a:lnTo>
                      <a:pt x="248" y="638"/>
                    </a:lnTo>
                    <a:lnTo>
                      <a:pt x="267" y="448"/>
                    </a:lnTo>
                    <a:lnTo>
                      <a:pt x="288" y="207"/>
                    </a:lnTo>
                    <a:lnTo>
                      <a:pt x="237" y="257"/>
                    </a:lnTo>
                    <a:lnTo>
                      <a:pt x="222" y="297"/>
                    </a:lnTo>
                    <a:lnTo>
                      <a:pt x="205" y="342"/>
                    </a:lnTo>
                    <a:lnTo>
                      <a:pt x="179" y="408"/>
                    </a:lnTo>
                    <a:lnTo>
                      <a:pt x="158" y="434"/>
                    </a:lnTo>
                    <a:lnTo>
                      <a:pt x="132" y="452"/>
                    </a:lnTo>
                    <a:lnTo>
                      <a:pt x="116" y="346"/>
                    </a:lnTo>
                    <a:lnTo>
                      <a:pt x="95" y="285"/>
                    </a:lnTo>
                    <a:lnTo>
                      <a:pt x="72" y="241"/>
                    </a:lnTo>
                    <a:lnTo>
                      <a:pt x="69" y="208"/>
                    </a:lnTo>
                    <a:lnTo>
                      <a:pt x="76" y="186"/>
                    </a:lnTo>
                    <a:lnTo>
                      <a:pt x="101" y="173"/>
                    </a:lnTo>
                    <a:lnTo>
                      <a:pt x="113" y="157"/>
                    </a:lnTo>
                    <a:lnTo>
                      <a:pt x="105" y="124"/>
                    </a:lnTo>
                    <a:lnTo>
                      <a:pt x="75" y="71"/>
                    </a:lnTo>
                    <a:lnTo>
                      <a:pt x="61" y="43"/>
                    </a:lnTo>
                    <a:lnTo>
                      <a:pt x="57" y="6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699680" y="3395160"/>
                <a:ext cx="387360" cy="3414600"/>
              </a:xfrm>
              <a:custGeom>
                <a:avLst/>
                <a:gdLst/>
                <a:ahLst/>
                <a:rect l="l" t="t" r="r" b="b"/>
                <a:pathLst>
                  <a:path w="154" h="1287">
                    <a:moveTo>
                      <a:pt x="60" y="94"/>
                    </a:moveTo>
                    <a:lnTo>
                      <a:pt x="117" y="17"/>
                    </a:lnTo>
                    <a:lnTo>
                      <a:pt x="153" y="0"/>
                    </a:lnTo>
                    <a:lnTo>
                      <a:pt x="128" y="57"/>
                    </a:lnTo>
                    <a:lnTo>
                      <a:pt x="115" y="125"/>
                    </a:lnTo>
                    <a:lnTo>
                      <a:pt x="113" y="195"/>
                    </a:lnTo>
                    <a:lnTo>
                      <a:pt x="108" y="269"/>
                    </a:lnTo>
                    <a:lnTo>
                      <a:pt x="89" y="349"/>
                    </a:lnTo>
                    <a:lnTo>
                      <a:pt x="68" y="452"/>
                    </a:lnTo>
                    <a:lnTo>
                      <a:pt x="62" y="485"/>
                    </a:lnTo>
                    <a:lnTo>
                      <a:pt x="63" y="510"/>
                    </a:lnTo>
                    <a:lnTo>
                      <a:pt x="69" y="529"/>
                    </a:lnTo>
                    <a:lnTo>
                      <a:pt x="57" y="559"/>
                    </a:lnTo>
                    <a:lnTo>
                      <a:pt x="58" y="582"/>
                    </a:lnTo>
                    <a:lnTo>
                      <a:pt x="72" y="611"/>
                    </a:lnTo>
                    <a:lnTo>
                      <a:pt x="94" y="630"/>
                    </a:lnTo>
                    <a:lnTo>
                      <a:pt x="101" y="702"/>
                    </a:lnTo>
                    <a:lnTo>
                      <a:pt x="95" y="862"/>
                    </a:lnTo>
                    <a:lnTo>
                      <a:pt x="87" y="960"/>
                    </a:lnTo>
                    <a:lnTo>
                      <a:pt x="72" y="1047"/>
                    </a:lnTo>
                    <a:lnTo>
                      <a:pt x="55" y="1099"/>
                    </a:lnTo>
                    <a:lnTo>
                      <a:pt x="39" y="1161"/>
                    </a:lnTo>
                    <a:lnTo>
                      <a:pt x="41" y="1195"/>
                    </a:lnTo>
                    <a:lnTo>
                      <a:pt x="38" y="1225"/>
                    </a:lnTo>
                    <a:lnTo>
                      <a:pt x="27" y="1255"/>
                    </a:lnTo>
                    <a:lnTo>
                      <a:pt x="3" y="1286"/>
                    </a:lnTo>
                    <a:lnTo>
                      <a:pt x="2" y="1274"/>
                    </a:lnTo>
                    <a:lnTo>
                      <a:pt x="13" y="1246"/>
                    </a:lnTo>
                    <a:lnTo>
                      <a:pt x="16" y="1197"/>
                    </a:lnTo>
                    <a:lnTo>
                      <a:pt x="12" y="1173"/>
                    </a:lnTo>
                    <a:lnTo>
                      <a:pt x="21" y="1119"/>
                    </a:lnTo>
                    <a:lnTo>
                      <a:pt x="27" y="1020"/>
                    </a:lnTo>
                    <a:lnTo>
                      <a:pt x="32" y="900"/>
                    </a:lnTo>
                    <a:lnTo>
                      <a:pt x="18" y="823"/>
                    </a:lnTo>
                    <a:lnTo>
                      <a:pt x="20" y="771"/>
                    </a:lnTo>
                    <a:lnTo>
                      <a:pt x="29" y="684"/>
                    </a:lnTo>
                    <a:lnTo>
                      <a:pt x="20" y="642"/>
                    </a:lnTo>
                    <a:lnTo>
                      <a:pt x="14" y="601"/>
                    </a:lnTo>
                    <a:lnTo>
                      <a:pt x="9" y="537"/>
                    </a:lnTo>
                    <a:lnTo>
                      <a:pt x="0" y="361"/>
                    </a:lnTo>
                    <a:lnTo>
                      <a:pt x="60" y="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354440" y="3602160"/>
                <a:ext cx="480600" cy="3059280"/>
              </a:xfrm>
              <a:custGeom>
                <a:avLst/>
                <a:gdLst/>
                <a:ahLst/>
                <a:rect l="l" t="t" r="r" b="b"/>
                <a:pathLst>
                  <a:path w="191" h="1153">
                    <a:moveTo>
                      <a:pt x="183" y="0"/>
                    </a:moveTo>
                    <a:lnTo>
                      <a:pt x="185" y="46"/>
                    </a:lnTo>
                    <a:lnTo>
                      <a:pt x="180" y="91"/>
                    </a:lnTo>
                    <a:lnTo>
                      <a:pt x="169" y="131"/>
                    </a:lnTo>
                    <a:lnTo>
                      <a:pt x="141" y="210"/>
                    </a:lnTo>
                    <a:lnTo>
                      <a:pt x="113" y="271"/>
                    </a:lnTo>
                    <a:lnTo>
                      <a:pt x="92" y="333"/>
                    </a:lnTo>
                    <a:lnTo>
                      <a:pt x="74" y="431"/>
                    </a:lnTo>
                    <a:lnTo>
                      <a:pt x="65" y="480"/>
                    </a:lnTo>
                    <a:lnTo>
                      <a:pt x="60" y="533"/>
                    </a:lnTo>
                    <a:lnTo>
                      <a:pt x="59" y="609"/>
                    </a:lnTo>
                    <a:lnTo>
                      <a:pt x="56" y="696"/>
                    </a:lnTo>
                    <a:lnTo>
                      <a:pt x="50" y="768"/>
                    </a:lnTo>
                    <a:lnTo>
                      <a:pt x="36" y="865"/>
                    </a:lnTo>
                    <a:lnTo>
                      <a:pt x="19" y="939"/>
                    </a:lnTo>
                    <a:lnTo>
                      <a:pt x="4" y="1025"/>
                    </a:lnTo>
                    <a:lnTo>
                      <a:pt x="0" y="1068"/>
                    </a:lnTo>
                    <a:lnTo>
                      <a:pt x="7" y="1093"/>
                    </a:lnTo>
                    <a:lnTo>
                      <a:pt x="23" y="1118"/>
                    </a:lnTo>
                    <a:lnTo>
                      <a:pt x="26" y="1152"/>
                    </a:lnTo>
                    <a:lnTo>
                      <a:pt x="33" y="1125"/>
                    </a:lnTo>
                    <a:lnTo>
                      <a:pt x="28" y="1106"/>
                    </a:lnTo>
                    <a:lnTo>
                      <a:pt x="16" y="1092"/>
                    </a:lnTo>
                    <a:lnTo>
                      <a:pt x="7" y="1064"/>
                    </a:lnTo>
                    <a:lnTo>
                      <a:pt x="8" y="1038"/>
                    </a:lnTo>
                    <a:lnTo>
                      <a:pt x="16" y="989"/>
                    </a:lnTo>
                    <a:lnTo>
                      <a:pt x="51" y="836"/>
                    </a:lnTo>
                    <a:lnTo>
                      <a:pt x="62" y="751"/>
                    </a:lnTo>
                    <a:lnTo>
                      <a:pt x="65" y="647"/>
                    </a:lnTo>
                    <a:lnTo>
                      <a:pt x="73" y="505"/>
                    </a:lnTo>
                    <a:lnTo>
                      <a:pt x="88" y="386"/>
                    </a:lnTo>
                    <a:lnTo>
                      <a:pt x="116" y="287"/>
                    </a:lnTo>
                    <a:lnTo>
                      <a:pt x="155" y="186"/>
                    </a:lnTo>
                    <a:lnTo>
                      <a:pt x="179" y="121"/>
                    </a:lnTo>
                    <a:lnTo>
                      <a:pt x="188" y="74"/>
                    </a:lnTo>
                    <a:lnTo>
                      <a:pt x="190" y="41"/>
                    </a:lnTo>
                    <a:lnTo>
                      <a:pt x="18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785360" y="6735960"/>
                <a:ext cx="291960" cy="12132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21" y="0"/>
                    </a:moveTo>
                    <a:lnTo>
                      <a:pt x="30" y="4"/>
                    </a:lnTo>
                    <a:lnTo>
                      <a:pt x="39" y="11"/>
                    </a:lnTo>
                    <a:lnTo>
                      <a:pt x="41" y="25"/>
                    </a:lnTo>
                    <a:lnTo>
                      <a:pt x="57" y="17"/>
                    </a:lnTo>
                    <a:lnTo>
                      <a:pt x="64" y="18"/>
                    </a:lnTo>
                    <a:lnTo>
                      <a:pt x="68" y="23"/>
                    </a:lnTo>
                    <a:lnTo>
                      <a:pt x="82" y="24"/>
                    </a:lnTo>
                    <a:lnTo>
                      <a:pt x="91" y="19"/>
                    </a:lnTo>
                    <a:lnTo>
                      <a:pt x="95" y="23"/>
                    </a:lnTo>
                    <a:lnTo>
                      <a:pt x="106" y="24"/>
                    </a:lnTo>
                    <a:lnTo>
                      <a:pt x="111" y="29"/>
                    </a:lnTo>
                    <a:lnTo>
                      <a:pt x="115" y="10"/>
                    </a:lnTo>
                    <a:lnTo>
                      <a:pt x="114" y="30"/>
                    </a:lnTo>
                    <a:lnTo>
                      <a:pt x="108" y="38"/>
                    </a:lnTo>
                    <a:lnTo>
                      <a:pt x="96" y="40"/>
                    </a:lnTo>
                    <a:lnTo>
                      <a:pt x="89" y="39"/>
                    </a:lnTo>
                    <a:lnTo>
                      <a:pt x="69" y="42"/>
                    </a:lnTo>
                    <a:lnTo>
                      <a:pt x="58" y="45"/>
                    </a:lnTo>
                    <a:lnTo>
                      <a:pt x="24" y="41"/>
                    </a:lnTo>
                    <a:lnTo>
                      <a:pt x="10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10" y="4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154200" y="384120"/>
              <a:ext cx="1233360" cy="3760200"/>
              <a:chOff x="6154200" y="384120"/>
              <a:chExt cx="1233360" cy="3760200"/>
            </a:xfrm>
          </p:grpSpPr>
          <p:sp>
            <p:nvSpPr>
              <p:cNvPr id="288" name=""/>
              <p:cNvSpPr/>
              <p:nvPr/>
            </p:nvSpPr>
            <p:spPr>
              <a:xfrm flipH="1">
                <a:off x="6823440" y="983880"/>
                <a:ext cx="289800" cy="1408680"/>
              </a:xfrm>
              <a:custGeom>
                <a:avLst/>
                <a:gdLst/>
                <a:ahLst/>
                <a:rect l="l" t="t" r="r" b="b"/>
                <a:pathLst>
                  <a:path w="115" h="531">
                    <a:moveTo>
                      <a:pt x="19" y="0"/>
                    </a:moveTo>
                    <a:lnTo>
                      <a:pt x="67" y="62"/>
                    </a:lnTo>
                    <a:lnTo>
                      <a:pt x="114" y="103"/>
                    </a:lnTo>
                    <a:lnTo>
                      <a:pt x="104" y="211"/>
                    </a:lnTo>
                    <a:lnTo>
                      <a:pt x="72" y="428"/>
                    </a:lnTo>
                    <a:lnTo>
                      <a:pt x="66" y="496"/>
                    </a:lnTo>
                    <a:lnTo>
                      <a:pt x="64" y="529"/>
                    </a:lnTo>
                    <a:lnTo>
                      <a:pt x="36" y="530"/>
                    </a:lnTo>
                    <a:lnTo>
                      <a:pt x="21" y="501"/>
                    </a:lnTo>
                    <a:lnTo>
                      <a:pt x="39" y="454"/>
                    </a:lnTo>
                    <a:lnTo>
                      <a:pt x="13" y="301"/>
                    </a:lnTo>
                    <a:lnTo>
                      <a:pt x="1" y="62"/>
                    </a:lnTo>
                    <a:lnTo>
                      <a:pt x="0" y="2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6481800" y="2398320"/>
                <a:ext cx="205920" cy="1656000"/>
              </a:xfrm>
              <a:custGeom>
                <a:avLst/>
                <a:gdLst/>
                <a:ahLst/>
                <a:rect l="l" t="t" r="r" b="b"/>
                <a:pathLst>
                  <a:path w="82" h="624">
                    <a:moveTo>
                      <a:pt x="67" y="0"/>
                    </a:moveTo>
                    <a:lnTo>
                      <a:pt x="49" y="95"/>
                    </a:lnTo>
                    <a:lnTo>
                      <a:pt x="54" y="196"/>
                    </a:lnTo>
                    <a:lnTo>
                      <a:pt x="44" y="328"/>
                    </a:lnTo>
                    <a:lnTo>
                      <a:pt x="0" y="520"/>
                    </a:lnTo>
                    <a:lnTo>
                      <a:pt x="14" y="556"/>
                    </a:lnTo>
                    <a:lnTo>
                      <a:pt x="13" y="594"/>
                    </a:lnTo>
                    <a:lnTo>
                      <a:pt x="56" y="623"/>
                    </a:lnTo>
                    <a:lnTo>
                      <a:pt x="32" y="567"/>
                    </a:lnTo>
                    <a:lnTo>
                      <a:pt x="31" y="523"/>
                    </a:lnTo>
                    <a:lnTo>
                      <a:pt x="24" y="490"/>
                    </a:lnTo>
                    <a:lnTo>
                      <a:pt x="29" y="440"/>
                    </a:lnTo>
                    <a:lnTo>
                      <a:pt x="61" y="317"/>
                    </a:lnTo>
                    <a:lnTo>
                      <a:pt x="78" y="165"/>
                    </a:lnTo>
                    <a:lnTo>
                      <a:pt x="81" y="78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f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6189120" y="644040"/>
                <a:ext cx="375120" cy="1648080"/>
              </a:xfrm>
              <a:custGeom>
                <a:avLst/>
                <a:gdLst/>
                <a:ahLst/>
                <a:rect l="l" t="t" r="r" b="b"/>
                <a:pathLst>
                  <a:path w="149" h="621">
                    <a:moveTo>
                      <a:pt x="138" y="0"/>
                    </a:moveTo>
                    <a:lnTo>
                      <a:pt x="96" y="29"/>
                    </a:lnTo>
                    <a:lnTo>
                      <a:pt x="65" y="74"/>
                    </a:lnTo>
                    <a:lnTo>
                      <a:pt x="51" y="227"/>
                    </a:lnTo>
                    <a:lnTo>
                      <a:pt x="66" y="336"/>
                    </a:lnTo>
                    <a:lnTo>
                      <a:pt x="49" y="445"/>
                    </a:lnTo>
                    <a:lnTo>
                      <a:pt x="1" y="558"/>
                    </a:lnTo>
                    <a:lnTo>
                      <a:pt x="0" y="599"/>
                    </a:lnTo>
                    <a:lnTo>
                      <a:pt x="26" y="620"/>
                    </a:lnTo>
                    <a:lnTo>
                      <a:pt x="44" y="550"/>
                    </a:lnTo>
                    <a:lnTo>
                      <a:pt x="89" y="386"/>
                    </a:lnTo>
                    <a:lnTo>
                      <a:pt x="119" y="259"/>
                    </a:lnTo>
                    <a:lnTo>
                      <a:pt x="147" y="97"/>
                    </a:lnTo>
                    <a:lnTo>
                      <a:pt x="148" y="28"/>
                    </a:lnTo>
                    <a:lnTo>
                      <a:pt x="138" y="0"/>
                    </a:lnTo>
                  </a:path>
                </a:pathLst>
              </a:custGeom>
              <a:solidFill>
                <a:srgbClr val="f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181920" y="415800"/>
                <a:ext cx="1089720" cy="621000"/>
              </a:xfrm>
              <a:custGeom>
                <a:avLst/>
                <a:gdLst/>
                <a:ahLst/>
                <a:rect l="l" t="t" r="r" b="b"/>
                <a:pathLst>
                  <a:path w="433" h="234">
                    <a:moveTo>
                      <a:pt x="1" y="7"/>
                    </a:moveTo>
                    <a:lnTo>
                      <a:pt x="150" y="40"/>
                    </a:lnTo>
                    <a:lnTo>
                      <a:pt x="276" y="36"/>
                    </a:lnTo>
                    <a:lnTo>
                      <a:pt x="419" y="0"/>
                    </a:lnTo>
                    <a:lnTo>
                      <a:pt x="430" y="34"/>
                    </a:lnTo>
                    <a:lnTo>
                      <a:pt x="432" y="58"/>
                    </a:lnTo>
                    <a:lnTo>
                      <a:pt x="376" y="81"/>
                    </a:lnTo>
                    <a:lnTo>
                      <a:pt x="226" y="233"/>
                    </a:lnTo>
                    <a:lnTo>
                      <a:pt x="178" y="228"/>
                    </a:lnTo>
                    <a:lnTo>
                      <a:pt x="54" y="87"/>
                    </a:lnTo>
                    <a:lnTo>
                      <a:pt x="0" y="41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b05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871680" y="1180080"/>
                <a:ext cx="126000" cy="960480"/>
              </a:xfrm>
              <a:custGeom>
                <a:avLst/>
                <a:gdLst/>
                <a:ahLst/>
                <a:rect l="l" t="t" r="r" b="b"/>
                <a:pathLst>
                  <a:path w="50" h="362">
                    <a:moveTo>
                      <a:pt x="7" y="0"/>
                    </a:moveTo>
                    <a:lnTo>
                      <a:pt x="49" y="38"/>
                    </a:lnTo>
                    <a:lnTo>
                      <a:pt x="38" y="157"/>
                    </a:lnTo>
                    <a:lnTo>
                      <a:pt x="13" y="361"/>
                    </a:lnTo>
                    <a:lnTo>
                      <a:pt x="0" y="267"/>
                    </a:lnTo>
                    <a:lnTo>
                      <a:pt x="1" y="5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967800" y="2230920"/>
                <a:ext cx="64800" cy="13536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20" y="0"/>
                    </a:moveTo>
                    <a:lnTo>
                      <a:pt x="0" y="23"/>
                    </a:lnTo>
                    <a:lnTo>
                      <a:pt x="5" y="50"/>
                    </a:lnTo>
                    <a:lnTo>
                      <a:pt x="24" y="42"/>
                    </a:lnTo>
                    <a:lnTo>
                      <a:pt x="25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225120" y="745200"/>
                <a:ext cx="155520" cy="846000"/>
              </a:xfrm>
              <a:custGeom>
                <a:avLst/>
                <a:gdLst/>
                <a:ahLst/>
                <a:rect l="l" t="t" r="r" b="b"/>
                <a:pathLst>
                  <a:path w="62" h="319">
                    <a:moveTo>
                      <a:pt x="27" y="21"/>
                    </a:moveTo>
                    <a:lnTo>
                      <a:pt x="0" y="121"/>
                    </a:lnTo>
                    <a:lnTo>
                      <a:pt x="9" y="318"/>
                    </a:lnTo>
                    <a:lnTo>
                      <a:pt x="46" y="151"/>
                    </a:lnTo>
                    <a:lnTo>
                      <a:pt x="61" y="0"/>
                    </a:lnTo>
                    <a:lnTo>
                      <a:pt x="27" y="21"/>
                    </a:lnTo>
                  </a:path>
                </a:pathLst>
              </a:custGeom>
              <a:solidFill>
                <a:srgbClr val="ff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484320" y="2026800"/>
                <a:ext cx="67680" cy="225360"/>
              </a:xfrm>
              <a:custGeom>
                <a:avLst/>
                <a:gdLst/>
                <a:ahLst/>
                <a:rect l="l" t="t" r="r" b="b"/>
                <a:pathLst>
                  <a:path w="27" h="85">
                    <a:moveTo>
                      <a:pt x="26" y="0"/>
                    </a:moveTo>
                    <a:lnTo>
                      <a:pt x="4" y="39"/>
                    </a:lnTo>
                    <a:lnTo>
                      <a:pt x="0" y="84"/>
                    </a:lnTo>
                    <a:lnTo>
                      <a:pt x="18" y="61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ff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179400" y="384120"/>
                <a:ext cx="1172520" cy="824760"/>
              </a:xfrm>
              <a:custGeom>
                <a:avLst/>
                <a:gdLst/>
                <a:ahLst/>
                <a:rect l="l" t="t" r="r" b="b"/>
                <a:pathLst>
                  <a:path w="466" h="311">
                    <a:moveTo>
                      <a:pt x="428" y="16"/>
                    </a:moveTo>
                    <a:lnTo>
                      <a:pt x="383" y="25"/>
                    </a:lnTo>
                    <a:lnTo>
                      <a:pt x="290" y="42"/>
                    </a:lnTo>
                    <a:lnTo>
                      <a:pt x="176" y="40"/>
                    </a:lnTo>
                    <a:lnTo>
                      <a:pt x="92" y="24"/>
                    </a:lnTo>
                    <a:lnTo>
                      <a:pt x="5" y="0"/>
                    </a:lnTo>
                    <a:lnTo>
                      <a:pt x="0" y="99"/>
                    </a:lnTo>
                    <a:lnTo>
                      <a:pt x="5" y="123"/>
                    </a:lnTo>
                    <a:lnTo>
                      <a:pt x="50" y="121"/>
                    </a:lnTo>
                    <a:lnTo>
                      <a:pt x="93" y="137"/>
                    </a:lnTo>
                    <a:lnTo>
                      <a:pt x="124" y="165"/>
                    </a:lnTo>
                    <a:lnTo>
                      <a:pt x="139" y="201"/>
                    </a:lnTo>
                    <a:lnTo>
                      <a:pt x="158" y="251"/>
                    </a:lnTo>
                    <a:lnTo>
                      <a:pt x="199" y="288"/>
                    </a:lnTo>
                    <a:lnTo>
                      <a:pt x="244" y="310"/>
                    </a:lnTo>
                    <a:lnTo>
                      <a:pt x="291" y="268"/>
                    </a:lnTo>
                    <a:lnTo>
                      <a:pt x="309" y="222"/>
                    </a:lnTo>
                    <a:lnTo>
                      <a:pt x="387" y="125"/>
                    </a:lnTo>
                    <a:lnTo>
                      <a:pt x="427" y="92"/>
                    </a:lnTo>
                    <a:lnTo>
                      <a:pt x="464" y="77"/>
                    </a:lnTo>
                    <a:lnTo>
                      <a:pt x="465" y="68"/>
                    </a:lnTo>
                    <a:lnTo>
                      <a:pt x="411" y="85"/>
                    </a:lnTo>
                    <a:lnTo>
                      <a:pt x="387" y="97"/>
                    </a:lnTo>
                    <a:lnTo>
                      <a:pt x="394" y="72"/>
                    </a:lnTo>
                    <a:lnTo>
                      <a:pt x="347" y="125"/>
                    </a:lnTo>
                    <a:lnTo>
                      <a:pt x="289" y="203"/>
                    </a:lnTo>
                    <a:lnTo>
                      <a:pt x="250" y="220"/>
                    </a:lnTo>
                    <a:lnTo>
                      <a:pt x="240" y="190"/>
                    </a:lnTo>
                    <a:lnTo>
                      <a:pt x="244" y="144"/>
                    </a:lnTo>
                    <a:lnTo>
                      <a:pt x="232" y="103"/>
                    </a:lnTo>
                    <a:lnTo>
                      <a:pt x="226" y="158"/>
                    </a:lnTo>
                    <a:lnTo>
                      <a:pt x="208" y="105"/>
                    </a:lnTo>
                    <a:lnTo>
                      <a:pt x="193" y="89"/>
                    </a:lnTo>
                    <a:lnTo>
                      <a:pt x="192" y="122"/>
                    </a:lnTo>
                    <a:lnTo>
                      <a:pt x="190" y="136"/>
                    </a:lnTo>
                    <a:lnTo>
                      <a:pt x="170" y="95"/>
                    </a:lnTo>
                    <a:lnTo>
                      <a:pt x="149" y="60"/>
                    </a:lnTo>
                    <a:lnTo>
                      <a:pt x="193" y="78"/>
                    </a:lnTo>
                    <a:lnTo>
                      <a:pt x="213" y="70"/>
                    </a:lnTo>
                    <a:lnTo>
                      <a:pt x="238" y="84"/>
                    </a:lnTo>
                    <a:lnTo>
                      <a:pt x="266" y="74"/>
                    </a:lnTo>
                    <a:lnTo>
                      <a:pt x="282" y="71"/>
                    </a:lnTo>
                    <a:lnTo>
                      <a:pt x="266" y="130"/>
                    </a:lnTo>
                    <a:lnTo>
                      <a:pt x="266" y="174"/>
                    </a:lnTo>
                    <a:lnTo>
                      <a:pt x="284" y="132"/>
                    </a:lnTo>
                    <a:lnTo>
                      <a:pt x="288" y="81"/>
                    </a:lnTo>
                    <a:lnTo>
                      <a:pt x="299" y="65"/>
                    </a:lnTo>
                    <a:lnTo>
                      <a:pt x="306" y="91"/>
                    </a:lnTo>
                    <a:lnTo>
                      <a:pt x="346" y="58"/>
                    </a:lnTo>
                    <a:lnTo>
                      <a:pt x="358" y="58"/>
                    </a:lnTo>
                    <a:lnTo>
                      <a:pt x="315" y="123"/>
                    </a:lnTo>
                    <a:lnTo>
                      <a:pt x="286" y="184"/>
                    </a:lnTo>
                    <a:lnTo>
                      <a:pt x="333" y="122"/>
                    </a:lnTo>
                    <a:lnTo>
                      <a:pt x="365" y="68"/>
                    </a:lnTo>
                    <a:lnTo>
                      <a:pt x="394" y="49"/>
                    </a:lnTo>
                    <a:lnTo>
                      <a:pt x="400" y="63"/>
                    </a:lnTo>
                    <a:lnTo>
                      <a:pt x="423" y="29"/>
                    </a:lnTo>
                    <a:lnTo>
                      <a:pt x="442" y="27"/>
                    </a:lnTo>
                    <a:lnTo>
                      <a:pt x="453" y="10"/>
                    </a:lnTo>
                    <a:lnTo>
                      <a:pt x="42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465960" y="598680"/>
                <a:ext cx="921240" cy="3545640"/>
              </a:xfrm>
              <a:custGeom>
                <a:avLst/>
                <a:gdLst/>
                <a:ahLst/>
                <a:rect l="l" t="t" r="r" b="b"/>
                <a:pathLst>
                  <a:path w="366" h="1336">
                    <a:moveTo>
                      <a:pt x="77" y="38"/>
                    </a:moveTo>
                    <a:lnTo>
                      <a:pt x="95" y="114"/>
                    </a:lnTo>
                    <a:lnTo>
                      <a:pt x="87" y="130"/>
                    </a:lnTo>
                    <a:lnTo>
                      <a:pt x="61" y="92"/>
                    </a:lnTo>
                    <a:lnTo>
                      <a:pt x="66" y="261"/>
                    </a:lnTo>
                    <a:lnTo>
                      <a:pt x="90" y="447"/>
                    </a:lnTo>
                    <a:lnTo>
                      <a:pt x="128" y="601"/>
                    </a:lnTo>
                    <a:lnTo>
                      <a:pt x="107" y="625"/>
                    </a:lnTo>
                    <a:lnTo>
                      <a:pt x="104" y="658"/>
                    </a:lnTo>
                    <a:lnTo>
                      <a:pt x="129" y="691"/>
                    </a:lnTo>
                    <a:lnTo>
                      <a:pt x="162" y="703"/>
                    </a:lnTo>
                    <a:lnTo>
                      <a:pt x="184" y="698"/>
                    </a:lnTo>
                    <a:lnTo>
                      <a:pt x="195" y="660"/>
                    </a:lnTo>
                    <a:lnTo>
                      <a:pt x="193" y="585"/>
                    </a:lnTo>
                    <a:lnTo>
                      <a:pt x="210" y="467"/>
                    </a:lnTo>
                    <a:lnTo>
                      <a:pt x="238" y="336"/>
                    </a:lnTo>
                    <a:lnTo>
                      <a:pt x="239" y="234"/>
                    </a:lnTo>
                    <a:lnTo>
                      <a:pt x="250" y="191"/>
                    </a:lnTo>
                    <a:lnTo>
                      <a:pt x="359" y="89"/>
                    </a:lnTo>
                    <a:lnTo>
                      <a:pt x="344" y="263"/>
                    </a:lnTo>
                    <a:lnTo>
                      <a:pt x="365" y="366"/>
                    </a:lnTo>
                    <a:lnTo>
                      <a:pt x="347" y="482"/>
                    </a:lnTo>
                    <a:lnTo>
                      <a:pt x="311" y="566"/>
                    </a:lnTo>
                    <a:lnTo>
                      <a:pt x="302" y="616"/>
                    </a:lnTo>
                    <a:lnTo>
                      <a:pt x="330" y="649"/>
                    </a:lnTo>
                    <a:lnTo>
                      <a:pt x="324" y="708"/>
                    </a:lnTo>
                    <a:lnTo>
                      <a:pt x="316" y="762"/>
                    </a:lnTo>
                    <a:lnTo>
                      <a:pt x="319" y="852"/>
                    </a:lnTo>
                    <a:lnTo>
                      <a:pt x="316" y="929"/>
                    </a:lnTo>
                    <a:lnTo>
                      <a:pt x="298" y="1052"/>
                    </a:lnTo>
                    <a:lnTo>
                      <a:pt x="270" y="1186"/>
                    </a:lnTo>
                    <a:lnTo>
                      <a:pt x="258" y="1223"/>
                    </a:lnTo>
                    <a:lnTo>
                      <a:pt x="274" y="1231"/>
                    </a:lnTo>
                    <a:lnTo>
                      <a:pt x="275" y="1252"/>
                    </a:lnTo>
                    <a:lnTo>
                      <a:pt x="264" y="1268"/>
                    </a:lnTo>
                    <a:lnTo>
                      <a:pt x="265" y="1294"/>
                    </a:lnTo>
                    <a:lnTo>
                      <a:pt x="275" y="1309"/>
                    </a:lnTo>
                    <a:lnTo>
                      <a:pt x="289" y="1295"/>
                    </a:lnTo>
                    <a:lnTo>
                      <a:pt x="306" y="1295"/>
                    </a:lnTo>
                    <a:lnTo>
                      <a:pt x="310" y="1306"/>
                    </a:lnTo>
                    <a:lnTo>
                      <a:pt x="309" y="1317"/>
                    </a:lnTo>
                    <a:lnTo>
                      <a:pt x="323" y="1313"/>
                    </a:lnTo>
                    <a:lnTo>
                      <a:pt x="337" y="1318"/>
                    </a:lnTo>
                    <a:lnTo>
                      <a:pt x="356" y="1320"/>
                    </a:lnTo>
                    <a:lnTo>
                      <a:pt x="349" y="1335"/>
                    </a:lnTo>
                    <a:lnTo>
                      <a:pt x="323" y="1329"/>
                    </a:lnTo>
                    <a:lnTo>
                      <a:pt x="300" y="1334"/>
                    </a:lnTo>
                    <a:lnTo>
                      <a:pt x="280" y="1331"/>
                    </a:lnTo>
                    <a:lnTo>
                      <a:pt x="267" y="1330"/>
                    </a:lnTo>
                    <a:lnTo>
                      <a:pt x="255" y="1314"/>
                    </a:lnTo>
                    <a:lnTo>
                      <a:pt x="244" y="1292"/>
                    </a:lnTo>
                    <a:lnTo>
                      <a:pt x="228" y="1285"/>
                    </a:lnTo>
                    <a:lnTo>
                      <a:pt x="210" y="1295"/>
                    </a:lnTo>
                    <a:lnTo>
                      <a:pt x="219" y="1277"/>
                    </a:lnTo>
                    <a:lnTo>
                      <a:pt x="221" y="1240"/>
                    </a:lnTo>
                    <a:lnTo>
                      <a:pt x="213" y="1190"/>
                    </a:lnTo>
                    <a:lnTo>
                      <a:pt x="229" y="1210"/>
                    </a:lnTo>
                    <a:lnTo>
                      <a:pt x="245" y="1167"/>
                    </a:lnTo>
                    <a:lnTo>
                      <a:pt x="250" y="1130"/>
                    </a:lnTo>
                    <a:lnTo>
                      <a:pt x="249" y="1079"/>
                    </a:lnTo>
                    <a:lnTo>
                      <a:pt x="231" y="930"/>
                    </a:lnTo>
                    <a:lnTo>
                      <a:pt x="230" y="860"/>
                    </a:lnTo>
                    <a:lnTo>
                      <a:pt x="243" y="798"/>
                    </a:lnTo>
                    <a:lnTo>
                      <a:pt x="253" y="744"/>
                    </a:lnTo>
                    <a:lnTo>
                      <a:pt x="242" y="650"/>
                    </a:lnTo>
                    <a:lnTo>
                      <a:pt x="237" y="565"/>
                    </a:lnTo>
                    <a:lnTo>
                      <a:pt x="252" y="453"/>
                    </a:lnTo>
                    <a:lnTo>
                      <a:pt x="238" y="388"/>
                    </a:lnTo>
                    <a:lnTo>
                      <a:pt x="210" y="517"/>
                    </a:lnTo>
                    <a:lnTo>
                      <a:pt x="203" y="617"/>
                    </a:lnTo>
                    <a:lnTo>
                      <a:pt x="203" y="652"/>
                    </a:lnTo>
                    <a:lnTo>
                      <a:pt x="192" y="704"/>
                    </a:lnTo>
                    <a:lnTo>
                      <a:pt x="178" y="735"/>
                    </a:lnTo>
                    <a:lnTo>
                      <a:pt x="128" y="761"/>
                    </a:lnTo>
                    <a:lnTo>
                      <a:pt x="147" y="799"/>
                    </a:lnTo>
                    <a:lnTo>
                      <a:pt x="156" y="855"/>
                    </a:lnTo>
                    <a:lnTo>
                      <a:pt x="198" y="790"/>
                    </a:lnTo>
                    <a:lnTo>
                      <a:pt x="201" y="736"/>
                    </a:lnTo>
                    <a:lnTo>
                      <a:pt x="212" y="772"/>
                    </a:lnTo>
                    <a:lnTo>
                      <a:pt x="211" y="804"/>
                    </a:lnTo>
                    <a:lnTo>
                      <a:pt x="198" y="861"/>
                    </a:lnTo>
                    <a:lnTo>
                      <a:pt x="199" y="920"/>
                    </a:lnTo>
                    <a:lnTo>
                      <a:pt x="210" y="1000"/>
                    </a:lnTo>
                    <a:lnTo>
                      <a:pt x="225" y="1074"/>
                    </a:lnTo>
                    <a:lnTo>
                      <a:pt x="190" y="962"/>
                    </a:lnTo>
                    <a:lnTo>
                      <a:pt x="176" y="1009"/>
                    </a:lnTo>
                    <a:lnTo>
                      <a:pt x="201" y="1076"/>
                    </a:lnTo>
                    <a:lnTo>
                      <a:pt x="185" y="1070"/>
                    </a:lnTo>
                    <a:lnTo>
                      <a:pt x="191" y="1123"/>
                    </a:lnTo>
                    <a:lnTo>
                      <a:pt x="199" y="1177"/>
                    </a:lnTo>
                    <a:lnTo>
                      <a:pt x="182" y="1164"/>
                    </a:lnTo>
                    <a:lnTo>
                      <a:pt x="183" y="1216"/>
                    </a:lnTo>
                    <a:lnTo>
                      <a:pt x="168" y="1168"/>
                    </a:lnTo>
                    <a:lnTo>
                      <a:pt x="159" y="1215"/>
                    </a:lnTo>
                    <a:lnTo>
                      <a:pt x="150" y="1165"/>
                    </a:lnTo>
                    <a:lnTo>
                      <a:pt x="137" y="1197"/>
                    </a:lnTo>
                    <a:lnTo>
                      <a:pt x="132" y="1235"/>
                    </a:lnTo>
                    <a:lnTo>
                      <a:pt x="119" y="1215"/>
                    </a:lnTo>
                    <a:lnTo>
                      <a:pt x="117" y="1162"/>
                    </a:lnTo>
                    <a:lnTo>
                      <a:pt x="129" y="1096"/>
                    </a:lnTo>
                    <a:lnTo>
                      <a:pt x="132" y="1072"/>
                    </a:lnTo>
                    <a:lnTo>
                      <a:pt x="119" y="1028"/>
                    </a:lnTo>
                    <a:lnTo>
                      <a:pt x="118" y="1000"/>
                    </a:lnTo>
                    <a:lnTo>
                      <a:pt x="118" y="973"/>
                    </a:lnTo>
                    <a:lnTo>
                      <a:pt x="111" y="941"/>
                    </a:lnTo>
                    <a:lnTo>
                      <a:pt x="68" y="841"/>
                    </a:lnTo>
                    <a:lnTo>
                      <a:pt x="50" y="779"/>
                    </a:lnTo>
                    <a:lnTo>
                      <a:pt x="43" y="743"/>
                    </a:lnTo>
                    <a:lnTo>
                      <a:pt x="46" y="704"/>
                    </a:lnTo>
                    <a:lnTo>
                      <a:pt x="49" y="679"/>
                    </a:lnTo>
                    <a:lnTo>
                      <a:pt x="25" y="565"/>
                    </a:lnTo>
                    <a:lnTo>
                      <a:pt x="11" y="466"/>
                    </a:lnTo>
                    <a:lnTo>
                      <a:pt x="0" y="348"/>
                    </a:lnTo>
                    <a:lnTo>
                      <a:pt x="3" y="248"/>
                    </a:lnTo>
                    <a:lnTo>
                      <a:pt x="16" y="125"/>
                    </a:lnTo>
                    <a:lnTo>
                      <a:pt x="16" y="16"/>
                    </a:lnTo>
                    <a:lnTo>
                      <a:pt x="49" y="0"/>
                    </a:lnTo>
                    <a:lnTo>
                      <a:pt x="77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153840" y="728640"/>
                <a:ext cx="430920" cy="3335760"/>
              </a:xfrm>
              <a:custGeom>
                <a:avLst/>
                <a:gdLst/>
                <a:ahLst/>
                <a:rect l="l" t="t" r="r" b="b"/>
                <a:pathLst>
                  <a:path w="171" h="1257">
                    <a:moveTo>
                      <a:pt x="165" y="0"/>
                    </a:moveTo>
                    <a:lnTo>
                      <a:pt x="159" y="121"/>
                    </a:lnTo>
                    <a:lnTo>
                      <a:pt x="128" y="315"/>
                    </a:lnTo>
                    <a:lnTo>
                      <a:pt x="69" y="508"/>
                    </a:lnTo>
                    <a:lnTo>
                      <a:pt x="56" y="603"/>
                    </a:lnTo>
                    <a:lnTo>
                      <a:pt x="61" y="705"/>
                    </a:lnTo>
                    <a:lnTo>
                      <a:pt x="56" y="811"/>
                    </a:lnTo>
                    <a:lnTo>
                      <a:pt x="23" y="1019"/>
                    </a:lnTo>
                    <a:lnTo>
                      <a:pt x="0" y="1117"/>
                    </a:lnTo>
                    <a:lnTo>
                      <a:pt x="9" y="1163"/>
                    </a:lnTo>
                    <a:lnTo>
                      <a:pt x="7" y="1202"/>
                    </a:lnTo>
                    <a:lnTo>
                      <a:pt x="28" y="1244"/>
                    </a:lnTo>
                    <a:lnTo>
                      <a:pt x="40" y="1256"/>
                    </a:lnTo>
                    <a:lnTo>
                      <a:pt x="24" y="1214"/>
                    </a:lnTo>
                    <a:lnTo>
                      <a:pt x="15" y="1183"/>
                    </a:lnTo>
                    <a:lnTo>
                      <a:pt x="16" y="1153"/>
                    </a:lnTo>
                    <a:lnTo>
                      <a:pt x="12" y="1118"/>
                    </a:lnTo>
                    <a:lnTo>
                      <a:pt x="35" y="1001"/>
                    </a:lnTo>
                    <a:lnTo>
                      <a:pt x="63" y="860"/>
                    </a:lnTo>
                    <a:lnTo>
                      <a:pt x="71" y="803"/>
                    </a:lnTo>
                    <a:lnTo>
                      <a:pt x="70" y="749"/>
                    </a:lnTo>
                    <a:lnTo>
                      <a:pt x="71" y="688"/>
                    </a:lnTo>
                    <a:lnTo>
                      <a:pt x="71" y="594"/>
                    </a:lnTo>
                    <a:lnTo>
                      <a:pt x="93" y="485"/>
                    </a:lnTo>
                    <a:lnTo>
                      <a:pt x="138" y="348"/>
                    </a:lnTo>
                    <a:lnTo>
                      <a:pt x="161" y="210"/>
                    </a:lnTo>
                    <a:lnTo>
                      <a:pt x="170" y="116"/>
                    </a:lnTo>
                    <a:lnTo>
                      <a:pt x="16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559560" y="4075560"/>
                <a:ext cx="45360" cy="1296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6" y="0"/>
                    </a:moveTo>
                    <a:lnTo>
                      <a:pt x="12" y="1"/>
                    </a:lnTo>
                    <a:lnTo>
                      <a:pt x="17" y="4"/>
                    </a:lnTo>
                    <a:lnTo>
                      <a:pt x="11" y="3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6513840" y="4086360"/>
                <a:ext cx="22680" cy="10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2"/>
                    </a:moveTo>
                    <a:lnTo>
                      <a:pt x="4" y="1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626880" y="4046040"/>
                <a:ext cx="78120" cy="13680"/>
              </a:xfrm>
              <a:custGeom>
                <a:avLst/>
                <a:gdLst/>
                <a:ahLst/>
                <a:rect l="l" t="t" r="r" b="b"/>
                <a:pathLst>
                  <a:path w="31" h="5">
                    <a:moveTo>
                      <a:pt x="30" y="0"/>
                    </a:moveTo>
                    <a:lnTo>
                      <a:pt x="14" y="0"/>
                    </a:lnTo>
                    <a:lnTo>
                      <a:pt x="0" y="4"/>
                    </a:lnTo>
                    <a:lnTo>
                      <a:pt x="12" y="1"/>
                    </a:lnTo>
                    <a:lnTo>
                      <a:pt x="20" y="3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861600" y="3884040"/>
                <a:ext cx="188280" cy="172440"/>
              </a:xfrm>
              <a:custGeom>
                <a:avLst/>
                <a:gdLst/>
                <a:ahLst/>
                <a:rect l="l" t="t" r="r" b="b"/>
                <a:pathLst>
                  <a:path w="75" h="65">
                    <a:moveTo>
                      <a:pt x="0" y="5"/>
                    </a:moveTo>
                    <a:lnTo>
                      <a:pt x="7" y="29"/>
                    </a:lnTo>
                    <a:lnTo>
                      <a:pt x="15" y="32"/>
                    </a:lnTo>
                    <a:lnTo>
                      <a:pt x="22" y="43"/>
                    </a:lnTo>
                    <a:lnTo>
                      <a:pt x="28" y="44"/>
                    </a:lnTo>
                    <a:lnTo>
                      <a:pt x="38" y="56"/>
                    </a:lnTo>
                    <a:lnTo>
                      <a:pt x="49" y="56"/>
                    </a:lnTo>
                    <a:lnTo>
                      <a:pt x="54" y="62"/>
                    </a:lnTo>
                    <a:lnTo>
                      <a:pt x="71" y="64"/>
                    </a:lnTo>
                    <a:lnTo>
                      <a:pt x="74" y="58"/>
                    </a:lnTo>
                    <a:lnTo>
                      <a:pt x="62" y="45"/>
                    </a:lnTo>
                    <a:lnTo>
                      <a:pt x="64" y="32"/>
                    </a:lnTo>
                    <a:lnTo>
                      <a:pt x="50" y="45"/>
                    </a:lnTo>
                    <a:lnTo>
                      <a:pt x="36" y="40"/>
                    </a:lnTo>
                    <a:lnTo>
                      <a:pt x="44" y="28"/>
                    </a:lnTo>
                    <a:lnTo>
                      <a:pt x="45" y="17"/>
                    </a:lnTo>
                    <a:lnTo>
                      <a:pt x="39" y="29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4" y="0"/>
                    </a:lnTo>
                    <a:lnTo>
                      <a:pt x="21" y="21"/>
                    </a:lnTo>
                    <a:lnTo>
                      <a:pt x="12" y="20"/>
                    </a:lnTo>
                    <a:lnTo>
                      <a:pt x="5" y="9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438560" y="378000"/>
              <a:ext cx="451188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itomegaloviru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36400" y="1309680"/>
              <a:ext cx="214200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ubeóla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4240" y="2200320"/>
              <a:ext cx="133128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tro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39280" y="3130560"/>
              <a:ext cx="424080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xoplasmos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38560" y="4952880"/>
              <a:ext cx="424224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erpes simplex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0000" y="4062240"/>
              <a:ext cx="42069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xsackieviru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35680" y="5884920"/>
              <a:ext cx="139824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ífil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920" y="206280"/>
              <a:ext cx="1130760" cy="66517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9720" y="262080"/>
              <a:ext cx="773640" cy="64947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154800" y="66600"/>
            <a:ext cx="8796240" cy="6791400"/>
            <a:chOff x="154800" y="66600"/>
            <a:chExt cx="8796240" cy="6791400"/>
          </a:xfrm>
        </p:grpSpPr>
        <p:sp>
          <p:nvSpPr>
            <p:cNvPr id="313" name=""/>
            <p:cNvSpPr/>
            <p:nvPr/>
          </p:nvSpPr>
          <p:spPr>
            <a:xfrm>
              <a:off x="6642000" y="5483160"/>
              <a:ext cx="8280" cy="126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0" y="0"/>
                  </a:moveTo>
                  <a:lnTo>
                    <a:pt x="0" y="1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2bf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02320" y="5823000"/>
              <a:ext cx="2520" cy="2520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30"/>
                  </a:moveTo>
                  <a:lnTo>
                    <a:pt x="0" y="0"/>
                  </a:lnTo>
                  <a:lnTo>
                    <a:pt x="4" y="18"/>
                  </a:lnTo>
                  <a:lnTo>
                    <a:pt x="2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d99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50960" y="5962680"/>
              <a:ext cx="252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4" y="0"/>
                  </a:moveTo>
                  <a:lnTo>
                    <a:pt x="0" y="12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99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192640" y="482760"/>
              <a:ext cx="2510280" cy="6375240"/>
              <a:chOff x="5192640" y="482760"/>
              <a:chExt cx="2510280" cy="63752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192640" y="482760"/>
                <a:ext cx="2510280" cy="6375240"/>
                <a:chOff x="5192640" y="482760"/>
                <a:chExt cx="2510280" cy="63752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192640" y="482760"/>
                  <a:ext cx="2510280" cy="6375240"/>
                </a:xfrm>
                <a:custGeom>
                  <a:avLst/>
                  <a:gdLst/>
                  <a:ahLst/>
                  <a:rect l="l" t="t" r="r" b="b"/>
                  <a:pathLst>
                    <a:path w="3503" h="8032">
                      <a:moveTo>
                        <a:pt x="1657" y="0"/>
                      </a:moveTo>
                      <a:lnTo>
                        <a:pt x="1655" y="3"/>
                      </a:lnTo>
                      <a:lnTo>
                        <a:pt x="1653" y="5"/>
                      </a:lnTo>
                      <a:lnTo>
                        <a:pt x="1650" y="7"/>
                      </a:lnTo>
                      <a:lnTo>
                        <a:pt x="1648" y="9"/>
                      </a:lnTo>
                      <a:lnTo>
                        <a:pt x="1644" y="9"/>
                      </a:lnTo>
                      <a:lnTo>
                        <a:pt x="1642" y="10"/>
                      </a:lnTo>
                      <a:lnTo>
                        <a:pt x="1638" y="12"/>
                      </a:lnTo>
                      <a:lnTo>
                        <a:pt x="1634" y="14"/>
                      </a:lnTo>
                      <a:lnTo>
                        <a:pt x="1632" y="16"/>
                      </a:lnTo>
                      <a:lnTo>
                        <a:pt x="1628" y="19"/>
                      </a:lnTo>
                      <a:lnTo>
                        <a:pt x="1634" y="21"/>
                      </a:lnTo>
                      <a:lnTo>
                        <a:pt x="1638" y="21"/>
                      </a:lnTo>
                      <a:lnTo>
                        <a:pt x="1644" y="21"/>
                      </a:lnTo>
                      <a:lnTo>
                        <a:pt x="1650" y="19"/>
                      </a:lnTo>
                      <a:lnTo>
                        <a:pt x="1655" y="18"/>
                      </a:lnTo>
                      <a:lnTo>
                        <a:pt x="1659" y="16"/>
                      </a:lnTo>
                      <a:lnTo>
                        <a:pt x="1665" y="14"/>
                      </a:lnTo>
                      <a:lnTo>
                        <a:pt x="1671" y="12"/>
                      </a:lnTo>
                      <a:lnTo>
                        <a:pt x="1675" y="10"/>
                      </a:lnTo>
                      <a:lnTo>
                        <a:pt x="1680" y="9"/>
                      </a:lnTo>
                      <a:lnTo>
                        <a:pt x="1706" y="34"/>
                      </a:lnTo>
                      <a:lnTo>
                        <a:pt x="1735" y="57"/>
                      </a:lnTo>
                      <a:lnTo>
                        <a:pt x="1762" y="77"/>
                      </a:lnTo>
                      <a:lnTo>
                        <a:pt x="1793" y="97"/>
                      </a:lnTo>
                      <a:lnTo>
                        <a:pt x="1824" y="111"/>
                      </a:lnTo>
                      <a:lnTo>
                        <a:pt x="1855" y="126"/>
                      </a:lnTo>
                      <a:lnTo>
                        <a:pt x="1888" y="138"/>
                      </a:lnTo>
                      <a:lnTo>
                        <a:pt x="1921" y="149"/>
                      </a:lnTo>
                      <a:lnTo>
                        <a:pt x="1955" y="156"/>
                      </a:lnTo>
                      <a:lnTo>
                        <a:pt x="1990" y="164"/>
                      </a:lnTo>
                      <a:lnTo>
                        <a:pt x="1994" y="160"/>
                      </a:lnTo>
                      <a:lnTo>
                        <a:pt x="2000" y="158"/>
                      </a:lnTo>
                      <a:lnTo>
                        <a:pt x="2004" y="160"/>
                      </a:lnTo>
                      <a:lnTo>
                        <a:pt x="2008" y="162"/>
                      </a:lnTo>
                      <a:lnTo>
                        <a:pt x="2012" y="165"/>
                      </a:lnTo>
                      <a:lnTo>
                        <a:pt x="2017" y="169"/>
                      </a:lnTo>
                      <a:lnTo>
                        <a:pt x="2021" y="173"/>
                      </a:lnTo>
                      <a:lnTo>
                        <a:pt x="2025" y="176"/>
                      </a:lnTo>
                      <a:lnTo>
                        <a:pt x="2029" y="178"/>
                      </a:lnTo>
                      <a:lnTo>
                        <a:pt x="2033" y="180"/>
                      </a:lnTo>
                      <a:lnTo>
                        <a:pt x="2033" y="205"/>
                      </a:lnTo>
                      <a:lnTo>
                        <a:pt x="2031" y="230"/>
                      </a:lnTo>
                      <a:lnTo>
                        <a:pt x="2027" y="254"/>
                      </a:lnTo>
                      <a:lnTo>
                        <a:pt x="2021" y="277"/>
                      </a:lnTo>
                      <a:lnTo>
                        <a:pt x="2014" y="299"/>
                      </a:lnTo>
                      <a:lnTo>
                        <a:pt x="2006" y="322"/>
                      </a:lnTo>
                      <a:lnTo>
                        <a:pt x="1998" y="346"/>
                      </a:lnTo>
                      <a:lnTo>
                        <a:pt x="1990" y="369"/>
                      </a:lnTo>
                      <a:lnTo>
                        <a:pt x="1983" y="393"/>
                      </a:lnTo>
                      <a:lnTo>
                        <a:pt x="1977" y="418"/>
                      </a:lnTo>
                      <a:lnTo>
                        <a:pt x="1981" y="420"/>
                      </a:lnTo>
                      <a:lnTo>
                        <a:pt x="1984" y="421"/>
                      </a:lnTo>
                      <a:lnTo>
                        <a:pt x="1986" y="425"/>
                      </a:lnTo>
                      <a:lnTo>
                        <a:pt x="1988" y="427"/>
                      </a:lnTo>
                      <a:lnTo>
                        <a:pt x="1988" y="430"/>
                      </a:lnTo>
                      <a:lnTo>
                        <a:pt x="1990" y="434"/>
                      </a:lnTo>
                      <a:lnTo>
                        <a:pt x="1990" y="439"/>
                      </a:lnTo>
                      <a:lnTo>
                        <a:pt x="1990" y="443"/>
                      </a:lnTo>
                      <a:lnTo>
                        <a:pt x="1988" y="447"/>
                      </a:lnTo>
                      <a:lnTo>
                        <a:pt x="1988" y="450"/>
                      </a:lnTo>
                      <a:lnTo>
                        <a:pt x="2008" y="461"/>
                      </a:lnTo>
                      <a:lnTo>
                        <a:pt x="2025" y="472"/>
                      </a:lnTo>
                      <a:lnTo>
                        <a:pt x="2041" y="485"/>
                      </a:lnTo>
                      <a:lnTo>
                        <a:pt x="2056" y="497"/>
                      </a:lnTo>
                      <a:lnTo>
                        <a:pt x="2072" y="510"/>
                      </a:lnTo>
                      <a:lnTo>
                        <a:pt x="2087" y="524"/>
                      </a:lnTo>
                      <a:lnTo>
                        <a:pt x="2103" y="539"/>
                      </a:lnTo>
                      <a:lnTo>
                        <a:pt x="2118" y="553"/>
                      </a:lnTo>
                      <a:lnTo>
                        <a:pt x="2134" y="567"/>
                      </a:lnTo>
                      <a:lnTo>
                        <a:pt x="2149" y="582"/>
                      </a:lnTo>
                      <a:lnTo>
                        <a:pt x="2139" y="567"/>
                      </a:lnTo>
                      <a:lnTo>
                        <a:pt x="2130" y="551"/>
                      </a:lnTo>
                      <a:lnTo>
                        <a:pt x="2116" y="535"/>
                      </a:lnTo>
                      <a:lnTo>
                        <a:pt x="2103" y="521"/>
                      </a:lnTo>
                      <a:lnTo>
                        <a:pt x="2087" y="504"/>
                      </a:lnTo>
                      <a:lnTo>
                        <a:pt x="2072" y="490"/>
                      </a:lnTo>
                      <a:lnTo>
                        <a:pt x="2054" y="476"/>
                      </a:lnTo>
                      <a:lnTo>
                        <a:pt x="2039" y="463"/>
                      </a:lnTo>
                      <a:lnTo>
                        <a:pt x="2021" y="452"/>
                      </a:lnTo>
                      <a:lnTo>
                        <a:pt x="2004" y="441"/>
                      </a:lnTo>
                      <a:lnTo>
                        <a:pt x="2004" y="420"/>
                      </a:lnTo>
                      <a:lnTo>
                        <a:pt x="2017" y="421"/>
                      </a:lnTo>
                      <a:lnTo>
                        <a:pt x="2031" y="427"/>
                      </a:lnTo>
                      <a:lnTo>
                        <a:pt x="2043" y="434"/>
                      </a:lnTo>
                      <a:lnTo>
                        <a:pt x="2052" y="443"/>
                      </a:lnTo>
                      <a:lnTo>
                        <a:pt x="2064" y="452"/>
                      </a:lnTo>
                      <a:lnTo>
                        <a:pt x="2075" y="461"/>
                      </a:lnTo>
                      <a:lnTo>
                        <a:pt x="2087" y="470"/>
                      </a:lnTo>
                      <a:lnTo>
                        <a:pt x="2099" y="477"/>
                      </a:lnTo>
                      <a:lnTo>
                        <a:pt x="2112" y="483"/>
                      </a:lnTo>
                      <a:lnTo>
                        <a:pt x="2126" y="486"/>
                      </a:lnTo>
                      <a:lnTo>
                        <a:pt x="2234" y="593"/>
                      </a:lnTo>
                      <a:lnTo>
                        <a:pt x="2244" y="580"/>
                      </a:lnTo>
                      <a:lnTo>
                        <a:pt x="2257" y="602"/>
                      </a:lnTo>
                      <a:lnTo>
                        <a:pt x="2273" y="623"/>
                      </a:lnTo>
                      <a:lnTo>
                        <a:pt x="2290" y="643"/>
                      </a:lnTo>
                      <a:lnTo>
                        <a:pt x="2308" y="663"/>
                      </a:lnTo>
                      <a:lnTo>
                        <a:pt x="2327" y="681"/>
                      </a:lnTo>
                      <a:lnTo>
                        <a:pt x="2347" y="701"/>
                      </a:lnTo>
                      <a:lnTo>
                        <a:pt x="2366" y="719"/>
                      </a:lnTo>
                      <a:lnTo>
                        <a:pt x="2385" y="739"/>
                      </a:lnTo>
                      <a:lnTo>
                        <a:pt x="2403" y="759"/>
                      </a:lnTo>
                      <a:lnTo>
                        <a:pt x="2420" y="778"/>
                      </a:lnTo>
                      <a:lnTo>
                        <a:pt x="2422" y="802"/>
                      </a:lnTo>
                      <a:lnTo>
                        <a:pt x="2428" y="825"/>
                      </a:lnTo>
                      <a:lnTo>
                        <a:pt x="2438" y="849"/>
                      </a:lnTo>
                      <a:lnTo>
                        <a:pt x="2451" y="870"/>
                      </a:lnTo>
                      <a:lnTo>
                        <a:pt x="2465" y="892"/>
                      </a:lnTo>
                      <a:lnTo>
                        <a:pt x="2478" y="912"/>
                      </a:lnTo>
                      <a:lnTo>
                        <a:pt x="2494" y="933"/>
                      </a:lnTo>
                      <a:lnTo>
                        <a:pt x="2507" y="953"/>
                      </a:lnTo>
                      <a:lnTo>
                        <a:pt x="2521" y="975"/>
                      </a:lnTo>
                      <a:lnTo>
                        <a:pt x="2531" y="996"/>
                      </a:lnTo>
                      <a:lnTo>
                        <a:pt x="2523" y="1018"/>
                      </a:lnTo>
                      <a:lnTo>
                        <a:pt x="2532" y="1036"/>
                      </a:lnTo>
                      <a:lnTo>
                        <a:pt x="2540" y="1054"/>
                      </a:lnTo>
                      <a:lnTo>
                        <a:pt x="2550" y="1072"/>
                      </a:lnTo>
                      <a:lnTo>
                        <a:pt x="2560" y="1090"/>
                      </a:lnTo>
                      <a:lnTo>
                        <a:pt x="2569" y="1108"/>
                      </a:lnTo>
                      <a:lnTo>
                        <a:pt x="2577" y="1126"/>
                      </a:lnTo>
                      <a:lnTo>
                        <a:pt x="2587" y="1144"/>
                      </a:lnTo>
                      <a:lnTo>
                        <a:pt x="2596" y="1162"/>
                      </a:lnTo>
                      <a:lnTo>
                        <a:pt x="2606" y="1180"/>
                      </a:lnTo>
                      <a:lnTo>
                        <a:pt x="2616" y="1197"/>
                      </a:lnTo>
                      <a:lnTo>
                        <a:pt x="2627" y="1182"/>
                      </a:lnTo>
                      <a:lnTo>
                        <a:pt x="2656" y="1247"/>
                      </a:lnTo>
                      <a:lnTo>
                        <a:pt x="2683" y="1314"/>
                      </a:lnTo>
                      <a:lnTo>
                        <a:pt x="2707" y="1380"/>
                      </a:lnTo>
                      <a:lnTo>
                        <a:pt x="2724" y="1451"/>
                      </a:lnTo>
                      <a:lnTo>
                        <a:pt x="2740" y="1519"/>
                      </a:lnTo>
                      <a:lnTo>
                        <a:pt x="2749" y="1591"/>
                      </a:lnTo>
                      <a:lnTo>
                        <a:pt x="2757" y="1663"/>
                      </a:lnTo>
                      <a:lnTo>
                        <a:pt x="2761" y="1737"/>
                      </a:lnTo>
                      <a:lnTo>
                        <a:pt x="2763" y="1811"/>
                      </a:lnTo>
                      <a:lnTo>
                        <a:pt x="2761" y="1887"/>
                      </a:lnTo>
                      <a:lnTo>
                        <a:pt x="2736" y="1896"/>
                      </a:lnTo>
                      <a:lnTo>
                        <a:pt x="2738" y="1903"/>
                      </a:lnTo>
                      <a:lnTo>
                        <a:pt x="2738" y="1912"/>
                      </a:lnTo>
                      <a:lnTo>
                        <a:pt x="2736" y="1919"/>
                      </a:lnTo>
                      <a:lnTo>
                        <a:pt x="2732" y="1927"/>
                      </a:lnTo>
                      <a:lnTo>
                        <a:pt x="2726" y="1934"/>
                      </a:lnTo>
                      <a:lnTo>
                        <a:pt x="2722" y="1941"/>
                      </a:lnTo>
                      <a:lnTo>
                        <a:pt x="2716" y="1948"/>
                      </a:lnTo>
                      <a:lnTo>
                        <a:pt x="2713" y="1956"/>
                      </a:lnTo>
                      <a:lnTo>
                        <a:pt x="2709" y="1963"/>
                      </a:lnTo>
                      <a:lnTo>
                        <a:pt x="2707" y="1972"/>
                      </a:lnTo>
                      <a:lnTo>
                        <a:pt x="2625" y="2087"/>
                      </a:lnTo>
                      <a:lnTo>
                        <a:pt x="2612" y="2073"/>
                      </a:lnTo>
                      <a:lnTo>
                        <a:pt x="2608" y="2078"/>
                      </a:lnTo>
                      <a:lnTo>
                        <a:pt x="2606" y="2080"/>
                      </a:lnTo>
                      <a:lnTo>
                        <a:pt x="2600" y="2084"/>
                      </a:lnTo>
                      <a:lnTo>
                        <a:pt x="2596" y="2085"/>
                      </a:lnTo>
                      <a:lnTo>
                        <a:pt x="2592" y="2085"/>
                      </a:lnTo>
                      <a:lnTo>
                        <a:pt x="2589" y="2085"/>
                      </a:lnTo>
                      <a:lnTo>
                        <a:pt x="2585" y="2084"/>
                      </a:lnTo>
                      <a:lnTo>
                        <a:pt x="2581" y="2082"/>
                      </a:lnTo>
                      <a:lnTo>
                        <a:pt x="2577" y="2080"/>
                      </a:lnTo>
                      <a:lnTo>
                        <a:pt x="2573" y="2076"/>
                      </a:lnTo>
                      <a:lnTo>
                        <a:pt x="2540" y="2109"/>
                      </a:lnTo>
                      <a:lnTo>
                        <a:pt x="2571" y="2118"/>
                      </a:lnTo>
                      <a:lnTo>
                        <a:pt x="2598" y="2132"/>
                      </a:lnTo>
                      <a:lnTo>
                        <a:pt x="2623" y="2150"/>
                      </a:lnTo>
                      <a:lnTo>
                        <a:pt x="2647" y="2170"/>
                      </a:lnTo>
                      <a:lnTo>
                        <a:pt x="2670" y="2192"/>
                      </a:lnTo>
                      <a:lnTo>
                        <a:pt x="2693" y="2213"/>
                      </a:lnTo>
                      <a:lnTo>
                        <a:pt x="2716" y="2235"/>
                      </a:lnTo>
                      <a:lnTo>
                        <a:pt x="2742" y="2253"/>
                      </a:lnTo>
                      <a:lnTo>
                        <a:pt x="2771" y="2267"/>
                      </a:lnTo>
                      <a:lnTo>
                        <a:pt x="2802" y="2276"/>
                      </a:lnTo>
                      <a:lnTo>
                        <a:pt x="2846" y="2316"/>
                      </a:lnTo>
                      <a:lnTo>
                        <a:pt x="2896" y="2350"/>
                      </a:lnTo>
                      <a:lnTo>
                        <a:pt x="2949" y="2377"/>
                      </a:lnTo>
                      <a:lnTo>
                        <a:pt x="3005" y="2401"/>
                      </a:lnTo>
                      <a:lnTo>
                        <a:pt x="3063" y="2422"/>
                      </a:lnTo>
                      <a:lnTo>
                        <a:pt x="3123" y="2442"/>
                      </a:lnTo>
                      <a:lnTo>
                        <a:pt x="3183" y="2462"/>
                      </a:lnTo>
                      <a:lnTo>
                        <a:pt x="3241" y="2482"/>
                      </a:lnTo>
                      <a:lnTo>
                        <a:pt x="3299" y="2504"/>
                      </a:lnTo>
                      <a:lnTo>
                        <a:pt x="3355" y="2531"/>
                      </a:lnTo>
                      <a:lnTo>
                        <a:pt x="3365" y="2532"/>
                      </a:lnTo>
                      <a:lnTo>
                        <a:pt x="3375" y="2536"/>
                      </a:lnTo>
                      <a:lnTo>
                        <a:pt x="3386" y="2538"/>
                      </a:lnTo>
                      <a:lnTo>
                        <a:pt x="3398" y="2541"/>
                      </a:lnTo>
                      <a:lnTo>
                        <a:pt x="3408" y="2543"/>
                      </a:lnTo>
                      <a:lnTo>
                        <a:pt x="3419" y="2545"/>
                      </a:lnTo>
                      <a:lnTo>
                        <a:pt x="3429" y="2549"/>
                      </a:lnTo>
                      <a:lnTo>
                        <a:pt x="3437" y="2552"/>
                      </a:lnTo>
                      <a:lnTo>
                        <a:pt x="3444" y="2556"/>
                      </a:lnTo>
                      <a:lnTo>
                        <a:pt x="3450" y="2561"/>
                      </a:lnTo>
                      <a:lnTo>
                        <a:pt x="3404" y="2565"/>
                      </a:lnTo>
                      <a:lnTo>
                        <a:pt x="3406" y="2565"/>
                      </a:lnTo>
                      <a:lnTo>
                        <a:pt x="3408" y="2565"/>
                      </a:lnTo>
                      <a:lnTo>
                        <a:pt x="3408" y="2567"/>
                      </a:lnTo>
                      <a:lnTo>
                        <a:pt x="3408" y="2568"/>
                      </a:lnTo>
                      <a:lnTo>
                        <a:pt x="3408" y="2568"/>
                      </a:lnTo>
                      <a:lnTo>
                        <a:pt x="3408" y="2570"/>
                      </a:lnTo>
                      <a:lnTo>
                        <a:pt x="3408" y="2572"/>
                      </a:lnTo>
                      <a:lnTo>
                        <a:pt x="3408" y="2574"/>
                      </a:lnTo>
                      <a:lnTo>
                        <a:pt x="3408" y="2576"/>
                      </a:lnTo>
                      <a:lnTo>
                        <a:pt x="3408" y="2577"/>
                      </a:lnTo>
                      <a:lnTo>
                        <a:pt x="3406" y="2576"/>
                      </a:lnTo>
                      <a:lnTo>
                        <a:pt x="3404" y="2574"/>
                      </a:lnTo>
                      <a:lnTo>
                        <a:pt x="3402" y="2572"/>
                      </a:lnTo>
                      <a:lnTo>
                        <a:pt x="3400" y="2572"/>
                      </a:lnTo>
                      <a:lnTo>
                        <a:pt x="3398" y="2572"/>
                      </a:lnTo>
                      <a:lnTo>
                        <a:pt x="3394" y="2572"/>
                      </a:lnTo>
                      <a:lnTo>
                        <a:pt x="3392" y="2570"/>
                      </a:lnTo>
                      <a:lnTo>
                        <a:pt x="3390" y="2570"/>
                      </a:lnTo>
                      <a:lnTo>
                        <a:pt x="3386" y="2570"/>
                      </a:lnTo>
                      <a:lnTo>
                        <a:pt x="3384" y="2570"/>
                      </a:lnTo>
                      <a:lnTo>
                        <a:pt x="3381" y="2576"/>
                      </a:lnTo>
                      <a:lnTo>
                        <a:pt x="3396" y="2581"/>
                      </a:lnTo>
                      <a:lnTo>
                        <a:pt x="3412" y="2588"/>
                      </a:lnTo>
                      <a:lnTo>
                        <a:pt x="3427" y="2597"/>
                      </a:lnTo>
                      <a:lnTo>
                        <a:pt x="3441" y="2606"/>
                      </a:lnTo>
                      <a:lnTo>
                        <a:pt x="3454" y="2617"/>
                      </a:lnTo>
                      <a:lnTo>
                        <a:pt x="3466" y="2630"/>
                      </a:lnTo>
                      <a:lnTo>
                        <a:pt x="3477" y="2642"/>
                      </a:lnTo>
                      <a:lnTo>
                        <a:pt x="3487" y="2657"/>
                      </a:lnTo>
                      <a:lnTo>
                        <a:pt x="3495" y="2671"/>
                      </a:lnTo>
                      <a:lnTo>
                        <a:pt x="3503" y="2686"/>
                      </a:lnTo>
                      <a:lnTo>
                        <a:pt x="3501" y="2702"/>
                      </a:lnTo>
                      <a:lnTo>
                        <a:pt x="3501" y="2716"/>
                      </a:lnTo>
                      <a:lnTo>
                        <a:pt x="3499" y="2731"/>
                      </a:lnTo>
                      <a:lnTo>
                        <a:pt x="3497" y="2743"/>
                      </a:lnTo>
                      <a:lnTo>
                        <a:pt x="3495" y="2758"/>
                      </a:lnTo>
                      <a:lnTo>
                        <a:pt x="3493" y="2770"/>
                      </a:lnTo>
                      <a:lnTo>
                        <a:pt x="3489" y="2783"/>
                      </a:lnTo>
                      <a:lnTo>
                        <a:pt x="3487" y="2796"/>
                      </a:lnTo>
                      <a:lnTo>
                        <a:pt x="3483" y="2810"/>
                      </a:lnTo>
                      <a:lnTo>
                        <a:pt x="3477" y="2824"/>
                      </a:lnTo>
                      <a:lnTo>
                        <a:pt x="3464" y="2833"/>
                      </a:lnTo>
                      <a:lnTo>
                        <a:pt x="3454" y="2846"/>
                      </a:lnTo>
                      <a:lnTo>
                        <a:pt x="3444" y="2860"/>
                      </a:lnTo>
                      <a:lnTo>
                        <a:pt x="3437" y="2875"/>
                      </a:lnTo>
                      <a:lnTo>
                        <a:pt x="3431" y="2889"/>
                      </a:lnTo>
                      <a:lnTo>
                        <a:pt x="3423" y="2906"/>
                      </a:lnTo>
                      <a:lnTo>
                        <a:pt x="3417" y="2922"/>
                      </a:lnTo>
                      <a:lnTo>
                        <a:pt x="3410" y="2938"/>
                      </a:lnTo>
                      <a:lnTo>
                        <a:pt x="3402" y="2952"/>
                      </a:lnTo>
                      <a:lnTo>
                        <a:pt x="3392" y="2967"/>
                      </a:lnTo>
                      <a:lnTo>
                        <a:pt x="3350" y="3034"/>
                      </a:lnTo>
                      <a:lnTo>
                        <a:pt x="3299" y="3097"/>
                      </a:lnTo>
                      <a:lnTo>
                        <a:pt x="3243" y="3158"/>
                      </a:lnTo>
                      <a:lnTo>
                        <a:pt x="3183" y="3217"/>
                      </a:lnTo>
                      <a:lnTo>
                        <a:pt x="3121" y="3275"/>
                      </a:lnTo>
                      <a:lnTo>
                        <a:pt x="3061" y="3335"/>
                      </a:lnTo>
                      <a:lnTo>
                        <a:pt x="3003" y="3396"/>
                      </a:lnTo>
                      <a:lnTo>
                        <a:pt x="2953" y="3459"/>
                      </a:lnTo>
                      <a:lnTo>
                        <a:pt x="2910" y="3526"/>
                      </a:lnTo>
                      <a:lnTo>
                        <a:pt x="2879" y="3596"/>
                      </a:lnTo>
                      <a:lnTo>
                        <a:pt x="2865" y="3605"/>
                      </a:lnTo>
                      <a:lnTo>
                        <a:pt x="2856" y="3616"/>
                      </a:lnTo>
                      <a:lnTo>
                        <a:pt x="2848" y="3627"/>
                      </a:lnTo>
                      <a:lnTo>
                        <a:pt x="2842" y="3639"/>
                      </a:lnTo>
                      <a:lnTo>
                        <a:pt x="2836" y="3652"/>
                      </a:lnTo>
                      <a:lnTo>
                        <a:pt x="2831" y="3664"/>
                      </a:lnTo>
                      <a:lnTo>
                        <a:pt x="2825" y="3677"/>
                      </a:lnTo>
                      <a:lnTo>
                        <a:pt x="2817" y="3688"/>
                      </a:lnTo>
                      <a:lnTo>
                        <a:pt x="2807" y="3697"/>
                      </a:lnTo>
                      <a:lnTo>
                        <a:pt x="2792" y="3702"/>
                      </a:lnTo>
                      <a:lnTo>
                        <a:pt x="2786" y="3697"/>
                      </a:lnTo>
                      <a:lnTo>
                        <a:pt x="2780" y="3693"/>
                      </a:lnTo>
                      <a:lnTo>
                        <a:pt x="2773" y="3690"/>
                      </a:lnTo>
                      <a:lnTo>
                        <a:pt x="2765" y="3686"/>
                      </a:lnTo>
                      <a:lnTo>
                        <a:pt x="2757" y="3681"/>
                      </a:lnTo>
                      <a:lnTo>
                        <a:pt x="2751" y="3677"/>
                      </a:lnTo>
                      <a:lnTo>
                        <a:pt x="2745" y="3672"/>
                      </a:lnTo>
                      <a:lnTo>
                        <a:pt x="2740" y="3666"/>
                      </a:lnTo>
                      <a:lnTo>
                        <a:pt x="2736" y="3659"/>
                      </a:lnTo>
                      <a:lnTo>
                        <a:pt x="2734" y="3652"/>
                      </a:lnTo>
                      <a:lnTo>
                        <a:pt x="2720" y="3663"/>
                      </a:lnTo>
                      <a:lnTo>
                        <a:pt x="2713" y="3673"/>
                      </a:lnTo>
                      <a:lnTo>
                        <a:pt x="2709" y="3686"/>
                      </a:lnTo>
                      <a:lnTo>
                        <a:pt x="2709" y="3699"/>
                      </a:lnTo>
                      <a:lnTo>
                        <a:pt x="2711" y="3711"/>
                      </a:lnTo>
                      <a:lnTo>
                        <a:pt x="2716" y="3724"/>
                      </a:lnTo>
                      <a:lnTo>
                        <a:pt x="2722" y="3737"/>
                      </a:lnTo>
                      <a:lnTo>
                        <a:pt x="2730" y="3749"/>
                      </a:lnTo>
                      <a:lnTo>
                        <a:pt x="2736" y="3760"/>
                      </a:lnTo>
                      <a:lnTo>
                        <a:pt x="2742" y="3773"/>
                      </a:lnTo>
                      <a:lnTo>
                        <a:pt x="2742" y="3789"/>
                      </a:lnTo>
                      <a:lnTo>
                        <a:pt x="2743" y="3805"/>
                      </a:lnTo>
                      <a:lnTo>
                        <a:pt x="2745" y="3820"/>
                      </a:lnTo>
                      <a:lnTo>
                        <a:pt x="2747" y="3836"/>
                      </a:lnTo>
                      <a:lnTo>
                        <a:pt x="2749" y="3850"/>
                      </a:lnTo>
                      <a:lnTo>
                        <a:pt x="2753" y="3865"/>
                      </a:lnTo>
                      <a:lnTo>
                        <a:pt x="2757" y="3879"/>
                      </a:lnTo>
                      <a:lnTo>
                        <a:pt x="2765" y="3893"/>
                      </a:lnTo>
                      <a:lnTo>
                        <a:pt x="2773" y="3906"/>
                      </a:lnTo>
                      <a:lnTo>
                        <a:pt x="2784" y="3919"/>
                      </a:lnTo>
                      <a:lnTo>
                        <a:pt x="2786" y="3919"/>
                      </a:lnTo>
                      <a:lnTo>
                        <a:pt x="2788" y="3917"/>
                      </a:lnTo>
                      <a:lnTo>
                        <a:pt x="2790" y="3915"/>
                      </a:lnTo>
                      <a:lnTo>
                        <a:pt x="2790" y="3915"/>
                      </a:lnTo>
                      <a:lnTo>
                        <a:pt x="2790" y="3913"/>
                      </a:lnTo>
                      <a:lnTo>
                        <a:pt x="2790" y="3910"/>
                      </a:lnTo>
                      <a:lnTo>
                        <a:pt x="2790" y="3908"/>
                      </a:lnTo>
                      <a:lnTo>
                        <a:pt x="2790" y="3906"/>
                      </a:lnTo>
                      <a:lnTo>
                        <a:pt x="2790" y="3904"/>
                      </a:lnTo>
                      <a:lnTo>
                        <a:pt x="2792" y="3902"/>
                      </a:lnTo>
                      <a:lnTo>
                        <a:pt x="2809" y="3915"/>
                      </a:lnTo>
                      <a:lnTo>
                        <a:pt x="2829" y="3926"/>
                      </a:lnTo>
                      <a:lnTo>
                        <a:pt x="2848" y="3935"/>
                      </a:lnTo>
                      <a:lnTo>
                        <a:pt x="2869" y="3942"/>
                      </a:lnTo>
                      <a:lnTo>
                        <a:pt x="2891" y="3949"/>
                      </a:lnTo>
                      <a:lnTo>
                        <a:pt x="2910" y="3957"/>
                      </a:lnTo>
                      <a:lnTo>
                        <a:pt x="2931" y="3964"/>
                      </a:lnTo>
                      <a:lnTo>
                        <a:pt x="2951" y="3975"/>
                      </a:lnTo>
                      <a:lnTo>
                        <a:pt x="2970" y="3987"/>
                      </a:lnTo>
                      <a:lnTo>
                        <a:pt x="2987" y="4003"/>
                      </a:lnTo>
                      <a:lnTo>
                        <a:pt x="2999" y="4002"/>
                      </a:lnTo>
                      <a:lnTo>
                        <a:pt x="3009" y="4003"/>
                      </a:lnTo>
                      <a:lnTo>
                        <a:pt x="3017" y="4007"/>
                      </a:lnTo>
                      <a:lnTo>
                        <a:pt x="3024" y="4011"/>
                      </a:lnTo>
                      <a:lnTo>
                        <a:pt x="3030" y="4018"/>
                      </a:lnTo>
                      <a:lnTo>
                        <a:pt x="3036" y="4023"/>
                      </a:lnTo>
                      <a:lnTo>
                        <a:pt x="3044" y="4029"/>
                      </a:lnTo>
                      <a:lnTo>
                        <a:pt x="3051" y="4034"/>
                      </a:lnTo>
                      <a:lnTo>
                        <a:pt x="3059" y="4038"/>
                      </a:lnTo>
                      <a:lnTo>
                        <a:pt x="3071" y="4039"/>
                      </a:lnTo>
                      <a:lnTo>
                        <a:pt x="3073" y="4041"/>
                      </a:lnTo>
                      <a:lnTo>
                        <a:pt x="3075" y="4043"/>
                      </a:lnTo>
                      <a:lnTo>
                        <a:pt x="3075" y="4045"/>
                      </a:lnTo>
                      <a:lnTo>
                        <a:pt x="3077" y="4047"/>
                      </a:lnTo>
                      <a:lnTo>
                        <a:pt x="3077" y="4048"/>
                      </a:lnTo>
                      <a:lnTo>
                        <a:pt x="3077" y="4050"/>
                      </a:lnTo>
                      <a:lnTo>
                        <a:pt x="3077" y="4054"/>
                      </a:lnTo>
                      <a:lnTo>
                        <a:pt x="3075" y="4056"/>
                      </a:lnTo>
                      <a:lnTo>
                        <a:pt x="3075" y="4057"/>
                      </a:lnTo>
                      <a:lnTo>
                        <a:pt x="3073" y="4061"/>
                      </a:lnTo>
                      <a:lnTo>
                        <a:pt x="3055" y="4068"/>
                      </a:lnTo>
                      <a:lnTo>
                        <a:pt x="3040" y="4072"/>
                      </a:lnTo>
                      <a:lnTo>
                        <a:pt x="3022" y="4074"/>
                      </a:lnTo>
                      <a:lnTo>
                        <a:pt x="3007" y="4074"/>
                      </a:lnTo>
                      <a:lnTo>
                        <a:pt x="2991" y="4072"/>
                      </a:lnTo>
                      <a:lnTo>
                        <a:pt x="2976" y="4070"/>
                      </a:lnTo>
                      <a:lnTo>
                        <a:pt x="2960" y="4066"/>
                      </a:lnTo>
                      <a:lnTo>
                        <a:pt x="2945" y="4061"/>
                      </a:lnTo>
                      <a:lnTo>
                        <a:pt x="2927" y="4057"/>
                      </a:lnTo>
                      <a:lnTo>
                        <a:pt x="2910" y="4054"/>
                      </a:lnTo>
                      <a:lnTo>
                        <a:pt x="2896" y="4059"/>
                      </a:lnTo>
                      <a:lnTo>
                        <a:pt x="2881" y="4061"/>
                      </a:lnTo>
                      <a:lnTo>
                        <a:pt x="2867" y="4059"/>
                      </a:lnTo>
                      <a:lnTo>
                        <a:pt x="2854" y="4056"/>
                      </a:lnTo>
                      <a:lnTo>
                        <a:pt x="2838" y="4052"/>
                      </a:lnTo>
                      <a:lnTo>
                        <a:pt x="2825" y="4047"/>
                      </a:lnTo>
                      <a:lnTo>
                        <a:pt x="2811" y="4041"/>
                      </a:lnTo>
                      <a:lnTo>
                        <a:pt x="2798" y="4038"/>
                      </a:lnTo>
                      <a:lnTo>
                        <a:pt x="2784" y="4036"/>
                      </a:lnTo>
                      <a:lnTo>
                        <a:pt x="2773" y="4036"/>
                      </a:lnTo>
                      <a:lnTo>
                        <a:pt x="2767" y="4057"/>
                      </a:lnTo>
                      <a:lnTo>
                        <a:pt x="2780" y="4079"/>
                      </a:lnTo>
                      <a:lnTo>
                        <a:pt x="2798" y="4103"/>
                      </a:lnTo>
                      <a:lnTo>
                        <a:pt x="2815" y="4124"/>
                      </a:lnTo>
                      <a:lnTo>
                        <a:pt x="2833" y="4146"/>
                      </a:lnTo>
                      <a:lnTo>
                        <a:pt x="2854" y="4166"/>
                      </a:lnTo>
                      <a:lnTo>
                        <a:pt x="2875" y="4185"/>
                      </a:lnTo>
                      <a:lnTo>
                        <a:pt x="2896" y="4202"/>
                      </a:lnTo>
                      <a:lnTo>
                        <a:pt x="2920" y="4216"/>
                      </a:lnTo>
                      <a:lnTo>
                        <a:pt x="2945" y="4231"/>
                      </a:lnTo>
                      <a:lnTo>
                        <a:pt x="2970" y="4240"/>
                      </a:lnTo>
                      <a:lnTo>
                        <a:pt x="2974" y="4249"/>
                      </a:lnTo>
                      <a:lnTo>
                        <a:pt x="2978" y="4258"/>
                      </a:lnTo>
                      <a:lnTo>
                        <a:pt x="2984" y="4265"/>
                      </a:lnTo>
                      <a:lnTo>
                        <a:pt x="2991" y="4270"/>
                      </a:lnTo>
                      <a:lnTo>
                        <a:pt x="2999" y="4277"/>
                      </a:lnTo>
                      <a:lnTo>
                        <a:pt x="3005" y="4283"/>
                      </a:lnTo>
                      <a:lnTo>
                        <a:pt x="3009" y="4290"/>
                      </a:lnTo>
                      <a:lnTo>
                        <a:pt x="3013" y="4297"/>
                      </a:lnTo>
                      <a:lnTo>
                        <a:pt x="3013" y="4306"/>
                      </a:lnTo>
                      <a:lnTo>
                        <a:pt x="3011" y="4317"/>
                      </a:lnTo>
                      <a:lnTo>
                        <a:pt x="3009" y="4330"/>
                      </a:lnTo>
                      <a:lnTo>
                        <a:pt x="2989" y="4324"/>
                      </a:lnTo>
                      <a:lnTo>
                        <a:pt x="2968" y="4322"/>
                      </a:lnTo>
                      <a:lnTo>
                        <a:pt x="2947" y="4319"/>
                      </a:lnTo>
                      <a:lnTo>
                        <a:pt x="2926" y="4317"/>
                      </a:lnTo>
                      <a:lnTo>
                        <a:pt x="2904" y="4313"/>
                      </a:lnTo>
                      <a:lnTo>
                        <a:pt x="2885" y="4310"/>
                      </a:lnTo>
                      <a:lnTo>
                        <a:pt x="2864" y="4304"/>
                      </a:lnTo>
                      <a:lnTo>
                        <a:pt x="2842" y="4299"/>
                      </a:lnTo>
                      <a:lnTo>
                        <a:pt x="2821" y="4292"/>
                      </a:lnTo>
                      <a:lnTo>
                        <a:pt x="2800" y="4281"/>
                      </a:lnTo>
                      <a:lnTo>
                        <a:pt x="2794" y="4268"/>
                      </a:lnTo>
                      <a:lnTo>
                        <a:pt x="2786" y="4258"/>
                      </a:lnTo>
                      <a:lnTo>
                        <a:pt x="2776" y="4247"/>
                      </a:lnTo>
                      <a:lnTo>
                        <a:pt x="2767" y="4236"/>
                      </a:lnTo>
                      <a:lnTo>
                        <a:pt x="2755" y="4225"/>
                      </a:lnTo>
                      <a:lnTo>
                        <a:pt x="2743" y="4216"/>
                      </a:lnTo>
                      <a:lnTo>
                        <a:pt x="2734" y="4205"/>
                      </a:lnTo>
                      <a:lnTo>
                        <a:pt x="2722" y="4194"/>
                      </a:lnTo>
                      <a:lnTo>
                        <a:pt x="2711" y="4184"/>
                      </a:lnTo>
                      <a:lnTo>
                        <a:pt x="2701" y="4173"/>
                      </a:lnTo>
                      <a:lnTo>
                        <a:pt x="2672" y="4180"/>
                      </a:lnTo>
                      <a:lnTo>
                        <a:pt x="2670" y="4178"/>
                      </a:lnTo>
                      <a:lnTo>
                        <a:pt x="2668" y="4176"/>
                      </a:lnTo>
                      <a:lnTo>
                        <a:pt x="2668" y="4175"/>
                      </a:lnTo>
                      <a:lnTo>
                        <a:pt x="2668" y="4173"/>
                      </a:lnTo>
                      <a:lnTo>
                        <a:pt x="2666" y="4169"/>
                      </a:lnTo>
                      <a:lnTo>
                        <a:pt x="2666" y="4167"/>
                      </a:lnTo>
                      <a:lnTo>
                        <a:pt x="2666" y="4164"/>
                      </a:lnTo>
                      <a:lnTo>
                        <a:pt x="2664" y="4162"/>
                      </a:lnTo>
                      <a:lnTo>
                        <a:pt x="2662" y="4160"/>
                      </a:lnTo>
                      <a:lnTo>
                        <a:pt x="2660" y="4158"/>
                      </a:lnTo>
                      <a:lnTo>
                        <a:pt x="2654" y="4166"/>
                      </a:lnTo>
                      <a:lnTo>
                        <a:pt x="2651" y="4175"/>
                      </a:lnTo>
                      <a:lnTo>
                        <a:pt x="2649" y="4184"/>
                      </a:lnTo>
                      <a:lnTo>
                        <a:pt x="2647" y="4194"/>
                      </a:lnTo>
                      <a:lnTo>
                        <a:pt x="2647" y="4205"/>
                      </a:lnTo>
                      <a:lnTo>
                        <a:pt x="2645" y="4218"/>
                      </a:lnTo>
                      <a:lnTo>
                        <a:pt x="2645" y="4229"/>
                      </a:lnTo>
                      <a:lnTo>
                        <a:pt x="2647" y="4241"/>
                      </a:lnTo>
                      <a:lnTo>
                        <a:pt x="2647" y="4252"/>
                      </a:lnTo>
                      <a:lnTo>
                        <a:pt x="2649" y="4263"/>
                      </a:lnTo>
                      <a:lnTo>
                        <a:pt x="2654" y="4272"/>
                      </a:lnTo>
                      <a:lnTo>
                        <a:pt x="2658" y="4283"/>
                      </a:lnTo>
                      <a:lnTo>
                        <a:pt x="2662" y="4294"/>
                      </a:lnTo>
                      <a:lnTo>
                        <a:pt x="2666" y="4306"/>
                      </a:lnTo>
                      <a:lnTo>
                        <a:pt x="2670" y="4319"/>
                      </a:lnTo>
                      <a:lnTo>
                        <a:pt x="2674" y="4330"/>
                      </a:lnTo>
                      <a:lnTo>
                        <a:pt x="2680" y="4340"/>
                      </a:lnTo>
                      <a:lnTo>
                        <a:pt x="2689" y="4349"/>
                      </a:lnTo>
                      <a:lnTo>
                        <a:pt x="2699" y="4357"/>
                      </a:lnTo>
                      <a:lnTo>
                        <a:pt x="2714" y="4362"/>
                      </a:lnTo>
                      <a:lnTo>
                        <a:pt x="2716" y="4377"/>
                      </a:lnTo>
                      <a:lnTo>
                        <a:pt x="2724" y="4391"/>
                      </a:lnTo>
                      <a:lnTo>
                        <a:pt x="2732" y="4405"/>
                      </a:lnTo>
                      <a:lnTo>
                        <a:pt x="2740" y="4420"/>
                      </a:lnTo>
                      <a:lnTo>
                        <a:pt x="2747" y="4432"/>
                      </a:lnTo>
                      <a:lnTo>
                        <a:pt x="2755" y="4447"/>
                      </a:lnTo>
                      <a:lnTo>
                        <a:pt x="2759" y="4459"/>
                      </a:lnTo>
                      <a:lnTo>
                        <a:pt x="2761" y="4474"/>
                      </a:lnTo>
                      <a:lnTo>
                        <a:pt x="2757" y="4488"/>
                      </a:lnTo>
                      <a:lnTo>
                        <a:pt x="2745" y="4501"/>
                      </a:lnTo>
                      <a:lnTo>
                        <a:pt x="2747" y="4508"/>
                      </a:lnTo>
                      <a:lnTo>
                        <a:pt x="2749" y="4517"/>
                      </a:lnTo>
                      <a:lnTo>
                        <a:pt x="2753" y="4524"/>
                      </a:lnTo>
                      <a:lnTo>
                        <a:pt x="2755" y="4532"/>
                      </a:lnTo>
                      <a:lnTo>
                        <a:pt x="2757" y="4539"/>
                      </a:lnTo>
                      <a:lnTo>
                        <a:pt x="2759" y="4546"/>
                      </a:lnTo>
                      <a:lnTo>
                        <a:pt x="2761" y="4553"/>
                      </a:lnTo>
                      <a:lnTo>
                        <a:pt x="2759" y="4560"/>
                      </a:lnTo>
                      <a:lnTo>
                        <a:pt x="2757" y="4566"/>
                      </a:lnTo>
                      <a:lnTo>
                        <a:pt x="2751" y="4573"/>
                      </a:lnTo>
                      <a:lnTo>
                        <a:pt x="2734" y="4564"/>
                      </a:lnTo>
                      <a:lnTo>
                        <a:pt x="2722" y="4551"/>
                      </a:lnTo>
                      <a:lnTo>
                        <a:pt x="2714" y="4535"/>
                      </a:lnTo>
                      <a:lnTo>
                        <a:pt x="2707" y="4517"/>
                      </a:lnTo>
                      <a:lnTo>
                        <a:pt x="2701" y="4497"/>
                      </a:lnTo>
                      <a:lnTo>
                        <a:pt x="2695" y="4477"/>
                      </a:lnTo>
                      <a:lnTo>
                        <a:pt x="2687" y="4459"/>
                      </a:lnTo>
                      <a:lnTo>
                        <a:pt x="2676" y="4445"/>
                      </a:lnTo>
                      <a:lnTo>
                        <a:pt x="2660" y="4431"/>
                      </a:lnTo>
                      <a:lnTo>
                        <a:pt x="2639" y="4423"/>
                      </a:lnTo>
                      <a:lnTo>
                        <a:pt x="2637" y="4414"/>
                      </a:lnTo>
                      <a:lnTo>
                        <a:pt x="2631" y="4407"/>
                      </a:lnTo>
                      <a:lnTo>
                        <a:pt x="2625" y="4402"/>
                      </a:lnTo>
                      <a:lnTo>
                        <a:pt x="2620" y="4398"/>
                      </a:lnTo>
                      <a:lnTo>
                        <a:pt x="2612" y="4395"/>
                      </a:lnTo>
                      <a:lnTo>
                        <a:pt x="2606" y="4391"/>
                      </a:lnTo>
                      <a:lnTo>
                        <a:pt x="2598" y="4387"/>
                      </a:lnTo>
                      <a:lnTo>
                        <a:pt x="2592" y="4384"/>
                      </a:lnTo>
                      <a:lnTo>
                        <a:pt x="2587" y="4378"/>
                      </a:lnTo>
                      <a:lnTo>
                        <a:pt x="2583" y="4369"/>
                      </a:lnTo>
                      <a:lnTo>
                        <a:pt x="2573" y="4378"/>
                      </a:lnTo>
                      <a:lnTo>
                        <a:pt x="2579" y="4404"/>
                      </a:lnTo>
                      <a:lnTo>
                        <a:pt x="2585" y="4431"/>
                      </a:lnTo>
                      <a:lnTo>
                        <a:pt x="2591" y="4456"/>
                      </a:lnTo>
                      <a:lnTo>
                        <a:pt x="2596" y="4483"/>
                      </a:lnTo>
                      <a:lnTo>
                        <a:pt x="2602" y="4508"/>
                      </a:lnTo>
                      <a:lnTo>
                        <a:pt x="2608" y="4535"/>
                      </a:lnTo>
                      <a:lnTo>
                        <a:pt x="2614" y="4560"/>
                      </a:lnTo>
                      <a:lnTo>
                        <a:pt x="2618" y="4587"/>
                      </a:lnTo>
                      <a:lnTo>
                        <a:pt x="2622" y="4614"/>
                      </a:lnTo>
                      <a:lnTo>
                        <a:pt x="2623" y="4642"/>
                      </a:lnTo>
                      <a:lnTo>
                        <a:pt x="2622" y="4625"/>
                      </a:lnTo>
                      <a:lnTo>
                        <a:pt x="2622" y="4611"/>
                      </a:lnTo>
                      <a:lnTo>
                        <a:pt x="2620" y="4595"/>
                      </a:lnTo>
                      <a:lnTo>
                        <a:pt x="2616" y="4578"/>
                      </a:lnTo>
                      <a:lnTo>
                        <a:pt x="2614" y="4564"/>
                      </a:lnTo>
                      <a:lnTo>
                        <a:pt x="2610" y="4548"/>
                      </a:lnTo>
                      <a:lnTo>
                        <a:pt x="2606" y="4533"/>
                      </a:lnTo>
                      <a:lnTo>
                        <a:pt x="2602" y="4517"/>
                      </a:lnTo>
                      <a:lnTo>
                        <a:pt x="2598" y="4503"/>
                      </a:lnTo>
                      <a:lnTo>
                        <a:pt x="2594" y="4488"/>
                      </a:lnTo>
                      <a:lnTo>
                        <a:pt x="2596" y="4535"/>
                      </a:lnTo>
                      <a:lnTo>
                        <a:pt x="2598" y="4586"/>
                      </a:lnTo>
                      <a:lnTo>
                        <a:pt x="2600" y="4636"/>
                      </a:lnTo>
                      <a:lnTo>
                        <a:pt x="2598" y="4687"/>
                      </a:lnTo>
                      <a:lnTo>
                        <a:pt x="2598" y="4737"/>
                      </a:lnTo>
                      <a:lnTo>
                        <a:pt x="2596" y="4789"/>
                      </a:lnTo>
                      <a:lnTo>
                        <a:pt x="2594" y="4840"/>
                      </a:lnTo>
                      <a:lnTo>
                        <a:pt x="2594" y="4890"/>
                      </a:lnTo>
                      <a:lnTo>
                        <a:pt x="2592" y="4939"/>
                      </a:lnTo>
                      <a:lnTo>
                        <a:pt x="2592" y="4988"/>
                      </a:lnTo>
                      <a:lnTo>
                        <a:pt x="2596" y="4986"/>
                      </a:lnTo>
                      <a:lnTo>
                        <a:pt x="2596" y="4984"/>
                      </a:lnTo>
                      <a:lnTo>
                        <a:pt x="2598" y="4982"/>
                      </a:lnTo>
                      <a:lnTo>
                        <a:pt x="2598" y="4980"/>
                      </a:lnTo>
                      <a:lnTo>
                        <a:pt x="2598" y="4979"/>
                      </a:lnTo>
                      <a:lnTo>
                        <a:pt x="2598" y="4975"/>
                      </a:lnTo>
                      <a:lnTo>
                        <a:pt x="2598" y="4973"/>
                      </a:lnTo>
                      <a:lnTo>
                        <a:pt x="2598" y="4970"/>
                      </a:lnTo>
                      <a:lnTo>
                        <a:pt x="2598" y="4968"/>
                      </a:lnTo>
                      <a:lnTo>
                        <a:pt x="2598" y="4966"/>
                      </a:lnTo>
                      <a:lnTo>
                        <a:pt x="2598" y="5035"/>
                      </a:lnTo>
                      <a:lnTo>
                        <a:pt x="2598" y="5105"/>
                      </a:lnTo>
                      <a:lnTo>
                        <a:pt x="2596" y="5177"/>
                      </a:lnTo>
                      <a:lnTo>
                        <a:pt x="2594" y="5247"/>
                      </a:lnTo>
                      <a:lnTo>
                        <a:pt x="2592" y="5319"/>
                      </a:lnTo>
                      <a:lnTo>
                        <a:pt x="2591" y="5390"/>
                      </a:lnTo>
                      <a:lnTo>
                        <a:pt x="2592" y="5462"/>
                      </a:lnTo>
                      <a:lnTo>
                        <a:pt x="2594" y="5532"/>
                      </a:lnTo>
                      <a:lnTo>
                        <a:pt x="2598" y="5601"/>
                      </a:lnTo>
                      <a:lnTo>
                        <a:pt x="2606" y="5669"/>
                      </a:lnTo>
                      <a:lnTo>
                        <a:pt x="2612" y="5669"/>
                      </a:lnTo>
                      <a:lnTo>
                        <a:pt x="2618" y="5635"/>
                      </a:lnTo>
                      <a:lnTo>
                        <a:pt x="2629" y="5694"/>
                      </a:lnTo>
                      <a:lnTo>
                        <a:pt x="2639" y="5756"/>
                      </a:lnTo>
                      <a:lnTo>
                        <a:pt x="2647" y="5815"/>
                      </a:lnTo>
                      <a:lnTo>
                        <a:pt x="2656" y="5876"/>
                      </a:lnTo>
                      <a:lnTo>
                        <a:pt x="2666" y="5936"/>
                      </a:lnTo>
                      <a:lnTo>
                        <a:pt x="2674" y="5995"/>
                      </a:lnTo>
                      <a:lnTo>
                        <a:pt x="2685" y="6057"/>
                      </a:lnTo>
                      <a:lnTo>
                        <a:pt x="2697" y="6114"/>
                      </a:lnTo>
                      <a:lnTo>
                        <a:pt x="2711" y="6174"/>
                      </a:lnTo>
                      <a:lnTo>
                        <a:pt x="2726" y="6232"/>
                      </a:lnTo>
                      <a:lnTo>
                        <a:pt x="2724" y="6248"/>
                      </a:lnTo>
                      <a:lnTo>
                        <a:pt x="2726" y="6262"/>
                      </a:lnTo>
                      <a:lnTo>
                        <a:pt x="2728" y="6278"/>
                      </a:lnTo>
                      <a:lnTo>
                        <a:pt x="2732" y="6295"/>
                      </a:lnTo>
                      <a:lnTo>
                        <a:pt x="2736" y="6313"/>
                      </a:lnTo>
                      <a:lnTo>
                        <a:pt x="2740" y="6331"/>
                      </a:lnTo>
                      <a:lnTo>
                        <a:pt x="2743" y="6347"/>
                      </a:lnTo>
                      <a:lnTo>
                        <a:pt x="2747" y="6365"/>
                      </a:lnTo>
                      <a:lnTo>
                        <a:pt x="2747" y="6385"/>
                      </a:lnTo>
                      <a:lnTo>
                        <a:pt x="2747" y="6403"/>
                      </a:lnTo>
                      <a:lnTo>
                        <a:pt x="2732" y="6410"/>
                      </a:lnTo>
                      <a:lnTo>
                        <a:pt x="2716" y="6417"/>
                      </a:lnTo>
                      <a:lnTo>
                        <a:pt x="2701" y="6423"/>
                      </a:lnTo>
                      <a:lnTo>
                        <a:pt x="2683" y="6428"/>
                      </a:lnTo>
                      <a:lnTo>
                        <a:pt x="2666" y="6432"/>
                      </a:lnTo>
                      <a:lnTo>
                        <a:pt x="2651" y="6437"/>
                      </a:lnTo>
                      <a:lnTo>
                        <a:pt x="2633" y="6439"/>
                      </a:lnTo>
                      <a:lnTo>
                        <a:pt x="2616" y="6442"/>
                      </a:lnTo>
                      <a:lnTo>
                        <a:pt x="2598" y="6446"/>
                      </a:lnTo>
                      <a:lnTo>
                        <a:pt x="2581" y="6448"/>
                      </a:lnTo>
                      <a:lnTo>
                        <a:pt x="2534" y="6464"/>
                      </a:lnTo>
                      <a:lnTo>
                        <a:pt x="2488" y="6482"/>
                      </a:lnTo>
                      <a:lnTo>
                        <a:pt x="2445" y="6504"/>
                      </a:lnTo>
                      <a:lnTo>
                        <a:pt x="2403" y="6527"/>
                      </a:lnTo>
                      <a:lnTo>
                        <a:pt x="2360" y="6552"/>
                      </a:lnTo>
                      <a:lnTo>
                        <a:pt x="2318" y="6578"/>
                      </a:lnTo>
                      <a:lnTo>
                        <a:pt x="2275" y="6601"/>
                      </a:lnTo>
                      <a:lnTo>
                        <a:pt x="2232" y="6624"/>
                      </a:lnTo>
                      <a:lnTo>
                        <a:pt x="2188" y="6644"/>
                      </a:lnTo>
                      <a:lnTo>
                        <a:pt x="2141" y="6662"/>
                      </a:lnTo>
                      <a:lnTo>
                        <a:pt x="2137" y="6698"/>
                      </a:lnTo>
                      <a:lnTo>
                        <a:pt x="2130" y="6736"/>
                      </a:lnTo>
                      <a:lnTo>
                        <a:pt x="2120" y="6774"/>
                      </a:lnTo>
                      <a:lnTo>
                        <a:pt x="2110" y="6814"/>
                      </a:lnTo>
                      <a:lnTo>
                        <a:pt x="2101" y="6852"/>
                      </a:lnTo>
                      <a:lnTo>
                        <a:pt x="2091" y="6889"/>
                      </a:lnTo>
                      <a:lnTo>
                        <a:pt x="2081" y="6929"/>
                      </a:lnTo>
                      <a:lnTo>
                        <a:pt x="2075" y="6969"/>
                      </a:lnTo>
                      <a:lnTo>
                        <a:pt x="2074" y="7008"/>
                      </a:lnTo>
                      <a:lnTo>
                        <a:pt x="2075" y="7048"/>
                      </a:lnTo>
                      <a:lnTo>
                        <a:pt x="2077" y="7052"/>
                      </a:lnTo>
                      <a:lnTo>
                        <a:pt x="2079" y="7055"/>
                      </a:lnTo>
                      <a:lnTo>
                        <a:pt x="2083" y="7059"/>
                      </a:lnTo>
                      <a:lnTo>
                        <a:pt x="2085" y="7063"/>
                      </a:lnTo>
                      <a:lnTo>
                        <a:pt x="2089" y="7066"/>
                      </a:lnTo>
                      <a:lnTo>
                        <a:pt x="2091" y="7070"/>
                      </a:lnTo>
                      <a:lnTo>
                        <a:pt x="2095" y="7073"/>
                      </a:lnTo>
                      <a:lnTo>
                        <a:pt x="2097" y="7077"/>
                      </a:lnTo>
                      <a:lnTo>
                        <a:pt x="2099" y="7081"/>
                      </a:lnTo>
                      <a:lnTo>
                        <a:pt x="2101" y="7084"/>
                      </a:lnTo>
                      <a:lnTo>
                        <a:pt x="2099" y="7095"/>
                      </a:lnTo>
                      <a:lnTo>
                        <a:pt x="2097" y="7104"/>
                      </a:lnTo>
                      <a:lnTo>
                        <a:pt x="2093" y="7115"/>
                      </a:lnTo>
                      <a:lnTo>
                        <a:pt x="2091" y="7124"/>
                      </a:lnTo>
                      <a:lnTo>
                        <a:pt x="2089" y="7133"/>
                      </a:lnTo>
                      <a:lnTo>
                        <a:pt x="2087" y="7142"/>
                      </a:lnTo>
                      <a:lnTo>
                        <a:pt x="2089" y="7149"/>
                      </a:lnTo>
                      <a:lnTo>
                        <a:pt x="2091" y="7158"/>
                      </a:lnTo>
                      <a:lnTo>
                        <a:pt x="2097" y="7167"/>
                      </a:lnTo>
                      <a:lnTo>
                        <a:pt x="2106" y="7176"/>
                      </a:lnTo>
                      <a:lnTo>
                        <a:pt x="2124" y="7183"/>
                      </a:lnTo>
                      <a:lnTo>
                        <a:pt x="2139" y="7191"/>
                      </a:lnTo>
                      <a:lnTo>
                        <a:pt x="2157" y="7200"/>
                      </a:lnTo>
                      <a:lnTo>
                        <a:pt x="2172" y="7209"/>
                      </a:lnTo>
                      <a:lnTo>
                        <a:pt x="2190" y="7218"/>
                      </a:lnTo>
                      <a:lnTo>
                        <a:pt x="2205" y="7227"/>
                      </a:lnTo>
                      <a:lnTo>
                        <a:pt x="2223" y="7236"/>
                      </a:lnTo>
                      <a:lnTo>
                        <a:pt x="2238" y="7245"/>
                      </a:lnTo>
                      <a:lnTo>
                        <a:pt x="2256" y="7254"/>
                      </a:lnTo>
                      <a:lnTo>
                        <a:pt x="2273" y="7261"/>
                      </a:lnTo>
                      <a:lnTo>
                        <a:pt x="2281" y="7259"/>
                      </a:lnTo>
                      <a:lnTo>
                        <a:pt x="2290" y="7257"/>
                      </a:lnTo>
                      <a:lnTo>
                        <a:pt x="2298" y="7257"/>
                      </a:lnTo>
                      <a:lnTo>
                        <a:pt x="2308" y="7259"/>
                      </a:lnTo>
                      <a:lnTo>
                        <a:pt x="2316" y="7261"/>
                      </a:lnTo>
                      <a:lnTo>
                        <a:pt x="2325" y="7264"/>
                      </a:lnTo>
                      <a:lnTo>
                        <a:pt x="2335" y="7268"/>
                      </a:lnTo>
                      <a:lnTo>
                        <a:pt x="2343" y="7270"/>
                      </a:lnTo>
                      <a:lnTo>
                        <a:pt x="2352" y="7272"/>
                      </a:lnTo>
                      <a:lnTo>
                        <a:pt x="2362" y="7273"/>
                      </a:lnTo>
                      <a:lnTo>
                        <a:pt x="2383" y="7277"/>
                      </a:lnTo>
                      <a:lnTo>
                        <a:pt x="2405" y="7279"/>
                      </a:lnTo>
                      <a:lnTo>
                        <a:pt x="2428" y="7282"/>
                      </a:lnTo>
                      <a:lnTo>
                        <a:pt x="2453" y="7286"/>
                      </a:lnTo>
                      <a:lnTo>
                        <a:pt x="2476" y="7290"/>
                      </a:lnTo>
                      <a:lnTo>
                        <a:pt x="2501" y="7295"/>
                      </a:lnTo>
                      <a:lnTo>
                        <a:pt x="2527" y="7299"/>
                      </a:lnTo>
                      <a:lnTo>
                        <a:pt x="2550" y="7304"/>
                      </a:lnTo>
                      <a:lnTo>
                        <a:pt x="2573" y="7308"/>
                      </a:lnTo>
                      <a:lnTo>
                        <a:pt x="2596" y="7311"/>
                      </a:lnTo>
                      <a:lnTo>
                        <a:pt x="2600" y="7329"/>
                      </a:lnTo>
                      <a:lnTo>
                        <a:pt x="2602" y="7346"/>
                      </a:lnTo>
                      <a:lnTo>
                        <a:pt x="2604" y="7365"/>
                      </a:lnTo>
                      <a:lnTo>
                        <a:pt x="2606" y="7383"/>
                      </a:lnTo>
                      <a:lnTo>
                        <a:pt x="2606" y="7401"/>
                      </a:lnTo>
                      <a:lnTo>
                        <a:pt x="2606" y="7421"/>
                      </a:lnTo>
                      <a:lnTo>
                        <a:pt x="2604" y="7439"/>
                      </a:lnTo>
                      <a:lnTo>
                        <a:pt x="2604" y="7459"/>
                      </a:lnTo>
                      <a:lnTo>
                        <a:pt x="2602" y="7477"/>
                      </a:lnTo>
                      <a:lnTo>
                        <a:pt x="2600" y="7493"/>
                      </a:lnTo>
                      <a:lnTo>
                        <a:pt x="2596" y="7497"/>
                      </a:lnTo>
                      <a:lnTo>
                        <a:pt x="2591" y="7499"/>
                      </a:lnTo>
                      <a:lnTo>
                        <a:pt x="2587" y="7502"/>
                      </a:lnTo>
                      <a:lnTo>
                        <a:pt x="2583" y="7504"/>
                      </a:lnTo>
                      <a:lnTo>
                        <a:pt x="2577" y="7506"/>
                      </a:lnTo>
                      <a:lnTo>
                        <a:pt x="2573" y="7510"/>
                      </a:lnTo>
                      <a:lnTo>
                        <a:pt x="2569" y="7511"/>
                      </a:lnTo>
                      <a:lnTo>
                        <a:pt x="2563" y="7515"/>
                      </a:lnTo>
                      <a:lnTo>
                        <a:pt x="2560" y="7519"/>
                      </a:lnTo>
                      <a:lnTo>
                        <a:pt x="2556" y="7522"/>
                      </a:lnTo>
                      <a:lnTo>
                        <a:pt x="2548" y="7508"/>
                      </a:lnTo>
                      <a:lnTo>
                        <a:pt x="2546" y="7510"/>
                      </a:lnTo>
                      <a:lnTo>
                        <a:pt x="2544" y="7510"/>
                      </a:lnTo>
                      <a:lnTo>
                        <a:pt x="2544" y="7511"/>
                      </a:lnTo>
                      <a:lnTo>
                        <a:pt x="2542" y="7511"/>
                      </a:lnTo>
                      <a:lnTo>
                        <a:pt x="2540" y="7513"/>
                      </a:lnTo>
                      <a:lnTo>
                        <a:pt x="2538" y="7513"/>
                      </a:lnTo>
                      <a:lnTo>
                        <a:pt x="2538" y="7515"/>
                      </a:lnTo>
                      <a:lnTo>
                        <a:pt x="2536" y="7517"/>
                      </a:lnTo>
                      <a:lnTo>
                        <a:pt x="2536" y="7519"/>
                      </a:lnTo>
                      <a:lnTo>
                        <a:pt x="2536" y="7520"/>
                      </a:lnTo>
                      <a:lnTo>
                        <a:pt x="2529" y="7524"/>
                      </a:lnTo>
                      <a:lnTo>
                        <a:pt x="2521" y="7528"/>
                      </a:lnTo>
                      <a:lnTo>
                        <a:pt x="2515" y="7531"/>
                      </a:lnTo>
                      <a:lnTo>
                        <a:pt x="2507" y="7535"/>
                      </a:lnTo>
                      <a:lnTo>
                        <a:pt x="2500" y="7538"/>
                      </a:lnTo>
                      <a:lnTo>
                        <a:pt x="2494" y="7542"/>
                      </a:lnTo>
                      <a:lnTo>
                        <a:pt x="2486" y="7544"/>
                      </a:lnTo>
                      <a:lnTo>
                        <a:pt x="2478" y="7546"/>
                      </a:lnTo>
                      <a:lnTo>
                        <a:pt x="2472" y="7546"/>
                      </a:lnTo>
                      <a:lnTo>
                        <a:pt x="2465" y="7546"/>
                      </a:lnTo>
                      <a:lnTo>
                        <a:pt x="2463" y="7546"/>
                      </a:lnTo>
                      <a:lnTo>
                        <a:pt x="2463" y="7544"/>
                      </a:lnTo>
                      <a:lnTo>
                        <a:pt x="2463" y="7542"/>
                      </a:lnTo>
                      <a:lnTo>
                        <a:pt x="2463" y="7540"/>
                      </a:lnTo>
                      <a:lnTo>
                        <a:pt x="2463" y="7537"/>
                      </a:lnTo>
                      <a:lnTo>
                        <a:pt x="2463" y="7535"/>
                      </a:lnTo>
                      <a:lnTo>
                        <a:pt x="2463" y="7533"/>
                      </a:lnTo>
                      <a:lnTo>
                        <a:pt x="2461" y="7533"/>
                      </a:lnTo>
                      <a:lnTo>
                        <a:pt x="2457" y="7533"/>
                      </a:lnTo>
                      <a:lnTo>
                        <a:pt x="2453" y="7533"/>
                      </a:lnTo>
                      <a:lnTo>
                        <a:pt x="2447" y="7546"/>
                      </a:lnTo>
                      <a:lnTo>
                        <a:pt x="2445" y="7542"/>
                      </a:lnTo>
                      <a:lnTo>
                        <a:pt x="2443" y="7540"/>
                      </a:lnTo>
                      <a:lnTo>
                        <a:pt x="2441" y="7540"/>
                      </a:lnTo>
                      <a:lnTo>
                        <a:pt x="2440" y="7542"/>
                      </a:lnTo>
                      <a:lnTo>
                        <a:pt x="2438" y="7542"/>
                      </a:lnTo>
                      <a:lnTo>
                        <a:pt x="2436" y="7544"/>
                      </a:lnTo>
                      <a:lnTo>
                        <a:pt x="2432" y="7546"/>
                      </a:lnTo>
                      <a:lnTo>
                        <a:pt x="2430" y="7547"/>
                      </a:lnTo>
                      <a:lnTo>
                        <a:pt x="2428" y="7547"/>
                      </a:lnTo>
                      <a:lnTo>
                        <a:pt x="2424" y="7547"/>
                      </a:lnTo>
                      <a:lnTo>
                        <a:pt x="2424" y="7549"/>
                      </a:lnTo>
                      <a:lnTo>
                        <a:pt x="2424" y="7549"/>
                      </a:lnTo>
                      <a:lnTo>
                        <a:pt x="2424" y="7547"/>
                      </a:lnTo>
                      <a:lnTo>
                        <a:pt x="2426" y="7546"/>
                      </a:lnTo>
                      <a:lnTo>
                        <a:pt x="2428" y="7544"/>
                      </a:lnTo>
                      <a:lnTo>
                        <a:pt x="2428" y="7540"/>
                      </a:lnTo>
                      <a:lnTo>
                        <a:pt x="2428" y="7538"/>
                      </a:lnTo>
                      <a:lnTo>
                        <a:pt x="2428" y="7537"/>
                      </a:lnTo>
                      <a:lnTo>
                        <a:pt x="2424" y="7535"/>
                      </a:lnTo>
                      <a:lnTo>
                        <a:pt x="2420" y="7535"/>
                      </a:lnTo>
                      <a:lnTo>
                        <a:pt x="2416" y="7542"/>
                      </a:lnTo>
                      <a:lnTo>
                        <a:pt x="2414" y="7546"/>
                      </a:lnTo>
                      <a:lnTo>
                        <a:pt x="2410" y="7547"/>
                      </a:lnTo>
                      <a:lnTo>
                        <a:pt x="2409" y="7546"/>
                      </a:lnTo>
                      <a:lnTo>
                        <a:pt x="2405" y="7542"/>
                      </a:lnTo>
                      <a:lnTo>
                        <a:pt x="2401" y="7540"/>
                      </a:lnTo>
                      <a:lnTo>
                        <a:pt x="2397" y="7537"/>
                      </a:lnTo>
                      <a:lnTo>
                        <a:pt x="2393" y="7537"/>
                      </a:lnTo>
                      <a:lnTo>
                        <a:pt x="2387" y="7537"/>
                      </a:lnTo>
                      <a:lnTo>
                        <a:pt x="2381" y="7540"/>
                      </a:lnTo>
                      <a:lnTo>
                        <a:pt x="2343" y="7549"/>
                      </a:lnTo>
                      <a:lnTo>
                        <a:pt x="2304" y="7556"/>
                      </a:lnTo>
                      <a:lnTo>
                        <a:pt x="2263" y="7558"/>
                      </a:lnTo>
                      <a:lnTo>
                        <a:pt x="2225" y="7558"/>
                      </a:lnTo>
                      <a:lnTo>
                        <a:pt x="2184" y="7556"/>
                      </a:lnTo>
                      <a:lnTo>
                        <a:pt x="2143" y="7553"/>
                      </a:lnTo>
                      <a:lnTo>
                        <a:pt x="2103" y="7549"/>
                      </a:lnTo>
                      <a:lnTo>
                        <a:pt x="2064" y="7544"/>
                      </a:lnTo>
                      <a:lnTo>
                        <a:pt x="2023" y="7540"/>
                      </a:lnTo>
                      <a:lnTo>
                        <a:pt x="1983" y="7537"/>
                      </a:lnTo>
                      <a:lnTo>
                        <a:pt x="1984" y="7553"/>
                      </a:lnTo>
                      <a:lnTo>
                        <a:pt x="1986" y="7569"/>
                      </a:lnTo>
                      <a:lnTo>
                        <a:pt x="1986" y="7587"/>
                      </a:lnTo>
                      <a:lnTo>
                        <a:pt x="1986" y="7605"/>
                      </a:lnTo>
                      <a:lnTo>
                        <a:pt x="1988" y="7623"/>
                      </a:lnTo>
                      <a:lnTo>
                        <a:pt x="1988" y="7641"/>
                      </a:lnTo>
                      <a:lnTo>
                        <a:pt x="1992" y="7659"/>
                      </a:lnTo>
                      <a:lnTo>
                        <a:pt x="1998" y="7677"/>
                      </a:lnTo>
                      <a:lnTo>
                        <a:pt x="2006" y="7692"/>
                      </a:lnTo>
                      <a:lnTo>
                        <a:pt x="2015" y="7708"/>
                      </a:lnTo>
                      <a:lnTo>
                        <a:pt x="2015" y="7717"/>
                      </a:lnTo>
                      <a:lnTo>
                        <a:pt x="2015" y="7724"/>
                      </a:lnTo>
                      <a:lnTo>
                        <a:pt x="2017" y="7733"/>
                      </a:lnTo>
                      <a:lnTo>
                        <a:pt x="2021" y="7740"/>
                      </a:lnTo>
                      <a:lnTo>
                        <a:pt x="2025" y="7749"/>
                      </a:lnTo>
                      <a:lnTo>
                        <a:pt x="2029" y="7757"/>
                      </a:lnTo>
                      <a:lnTo>
                        <a:pt x="2031" y="7764"/>
                      </a:lnTo>
                      <a:lnTo>
                        <a:pt x="2033" y="7771"/>
                      </a:lnTo>
                      <a:lnTo>
                        <a:pt x="2031" y="7780"/>
                      </a:lnTo>
                      <a:lnTo>
                        <a:pt x="2027" y="7787"/>
                      </a:lnTo>
                      <a:lnTo>
                        <a:pt x="2027" y="7805"/>
                      </a:lnTo>
                      <a:lnTo>
                        <a:pt x="2027" y="7823"/>
                      </a:lnTo>
                      <a:lnTo>
                        <a:pt x="2029" y="7843"/>
                      </a:lnTo>
                      <a:lnTo>
                        <a:pt x="2027" y="7863"/>
                      </a:lnTo>
                      <a:lnTo>
                        <a:pt x="2027" y="7883"/>
                      </a:lnTo>
                      <a:lnTo>
                        <a:pt x="2023" y="7903"/>
                      </a:lnTo>
                      <a:lnTo>
                        <a:pt x="2017" y="7921"/>
                      </a:lnTo>
                      <a:lnTo>
                        <a:pt x="2008" y="7937"/>
                      </a:lnTo>
                      <a:lnTo>
                        <a:pt x="1994" y="7951"/>
                      </a:lnTo>
                      <a:lnTo>
                        <a:pt x="1977" y="7964"/>
                      </a:lnTo>
                      <a:lnTo>
                        <a:pt x="1953" y="7991"/>
                      </a:lnTo>
                      <a:lnTo>
                        <a:pt x="1928" y="8011"/>
                      </a:lnTo>
                      <a:lnTo>
                        <a:pt x="1901" y="8022"/>
                      </a:lnTo>
                      <a:lnTo>
                        <a:pt x="1872" y="8029"/>
                      </a:lnTo>
                      <a:lnTo>
                        <a:pt x="1841" y="8032"/>
                      </a:lnTo>
                      <a:lnTo>
                        <a:pt x="1810" y="8032"/>
                      </a:lnTo>
                      <a:lnTo>
                        <a:pt x="1779" y="8031"/>
                      </a:lnTo>
                      <a:lnTo>
                        <a:pt x="1748" y="8029"/>
                      </a:lnTo>
                      <a:lnTo>
                        <a:pt x="1715" y="8029"/>
                      </a:lnTo>
                      <a:lnTo>
                        <a:pt x="1682" y="8032"/>
                      </a:lnTo>
                      <a:lnTo>
                        <a:pt x="1667" y="8023"/>
                      </a:lnTo>
                      <a:lnTo>
                        <a:pt x="1651" y="8016"/>
                      </a:lnTo>
                      <a:lnTo>
                        <a:pt x="1634" y="8009"/>
                      </a:lnTo>
                      <a:lnTo>
                        <a:pt x="1617" y="8000"/>
                      </a:lnTo>
                      <a:lnTo>
                        <a:pt x="1599" y="7993"/>
                      </a:lnTo>
                      <a:lnTo>
                        <a:pt x="1584" y="7984"/>
                      </a:lnTo>
                      <a:lnTo>
                        <a:pt x="1568" y="7975"/>
                      </a:lnTo>
                      <a:lnTo>
                        <a:pt x="1553" y="7964"/>
                      </a:lnTo>
                      <a:lnTo>
                        <a:pt x="1539" y="7951"/>
                      </a:lnTo>
                      <a:lnTo>
                        <a:pt x="1528" y="7935"/>
                      </a:lnTo>
                      <a:lnTo>
                        <a:pt x="1514" y="7881"/>
                      </a:lnTo>
                      <a:lnTo>
                        <a:pt x="1512" y="7825"/>
                      </a:lnTo>
                      <a:lnTo>
                        <a:pt x="1516" y="7771"/>
                      </a:lnTo>
                      <a:lnTo>
                        <a:pt x="1526" y="7717"/>
                      </a:lnTo>
                      <a:lnTo>
                        <a:pt x="1537" y="7663"/>
                      </a:lnTo>
                      <a:lnTo>
                        <a:pt x="1551" y="7609"/>
                      </a:lnTo>
                      <a:lnTo>
                        <a:pt x="1564" y="7553"/>
                      </a:lnTo>
                      <a:lnTo>
                        <a:pt x="1574" y="7497"/>
                      </a:lnTo>
                      <a:lnTo>
                        <a:pt x="1578" y="7441"/>
                      </a:lnTo>
                      <a:lnTo>
                        <a:pt x="1574" y="7383"/>
                      </a:lnTo>
                      <a:lnTo>
                        <a:pt x="1574" y="7371"/>
                      </a:lnTo>
                      <a:lnTo>
                        <a:pt x="1576" y="7356"/>
                      </a:lnTo>
                      <a:lnTo>
                        <a:pt x="1578" y="7342"/>
                      </a:lnTo>
                      <a:lnTo>
                        <a:pt x="1578" y="7329"/>
                      </a:lnTo>
                      <a:lnTo>
                        <a:pt x="1580" y="7315"/>
                      </a:lnTo>
                      <a:lnTo>
                        <a:pt x="1580" y="7302"/>
                      </a:lnTo>
                      <a:lnTo>
                        <a:pt x="1580" y="7288"/>
                      </a:lnTo>
                      <a:lnTo>
                        <a:pt x="1578" y="7275"/>
                      </a:lnTo>
                      <a:lnTo>
                        <a:pt x="1572" y="7263"/>
                      </a:lnTo>
                      <a:lnTo>
                        <a:pt x="1566" y="7250"/>
                      </a:lnTo>
                      <a:lnTo>
                        <a:pt x="1580" y="7205"/>
                      </a:lnTo>
                      <a:lnTo>
                        <a:pt x="1589" y="7160"/>
                      </a:lnTo>
                      <a:lnTo>
                        <a:pt x="1591" y="7115"/>
                      </a:lnTo>
                      <a:lnTo>
                        <a:pt x="1589" y="7072"/>
                      </a:lnTo>
                      <a:lnTo>
                        <a:pt x="1584" y="7028"/>
                      </a:lnTo>
                      <a:lnTo>
                        <a:pt x="1576" y="6985"/>
                      </a:lnTo>
                      <a:lnTo>
                        <a:pt x="1566" y="6942"/>
                      </a:lnTo>
                      <a:lnTo>
                        <a:pt x="1557" y="6900"/>
                      </a:lnTo>
                      <a:lnTo>
                        <a:pt x="1549" y="6857"/>
                      </a:lnTo>
                      <a:lnTo>
                        <a:pt x="1541" y="6814"/>
                      </a:lnTo>
                      <a:lnTo>
                        <a:pt x="1539" y="6807"/>
                      </a:lnTo>
                      <a:lnTo>
                        <a:pt x="1537" y="6799"/>
                      </a:lnTo>
                      <a:lnTo>
                        <a:pt x="1535" y="6792"/>
                      </a:lnTo>
                      <a:lnTo>
                        <a:pt x="1533" y="6785"/>
                      </a:lnTo>
                      <a:lnTo>
                        <a:pt x="1531" y="6778"/>
                      </a:lnTo>
                      <a:lnTo>
                        <a:pt x="1529" y="6771"/>
                      </a:lnTo>
                      <a:lnTo>
                        <a:pt x="1528" y="6765"/>
                      </a:lnTo>
                      <a:lnTo>
                        <a:pt x="1524" y="6758"/>
                      </a:lnTo>
                      <a:lnTo>
                        <a:pt x="1520" y="6752"/>
                      </a:lnTo>
                      <a:lnTo>
                        <a:pt x="1516" y="6747"/>
                      </a:lnTo>
                      <a:lnTo>
                        <a:pt x="1464" y="6740"/>
                      </a:lnTo>
                      <a:lnTo>
                        <a:pt x="1415" y="6733"/>
                      </a:lnTo>
                      <a:lnTo>
                        <a:pt x="1369" y="6725"/>
                      </a:lnTo>
                      <a:lnTo>
                        <a:pt x="1322" y="6715"/>
                      </a:lnTo>
                      <a:lnTo>
                        <a:pt x="1280" y="6702"/>
                      </a:lnTo>
                      <a:lnTo>
                        <a:pt x="1237" y="6688"/>
                      </a:lnTo>
                      <a:lnTo>
                        <a:pt x="1196" y="6670"/>
                      </a:lnTo>
                      <a:lnTo>
                        <a:pt x="1156" y="6648"/>
                      </a:lnTo>
                      <a:lnTo>
                        <a:pt x="1117" y="6621"/>
                      </a:lnTo>
                      <a:lnTo>
                        <a:pt x="1080" y="6588"/>
                      </a:lnTo>
                      <a:lnTo>
                        <a:pt x="1069" y="6574"/>
                      </a:lnTo>
                      <a:lnTo>
                        <a:pt x="1055" y="6558"/>
                      </a:lnTo>
                      <a:lnTo>
                        <a:pt x="1040" y="6543"/>
                      </a:lnTo>
                      <a:lnTo>
                        <a:pt x="1022" y="6529"/>
                      </a:lnTo>
                      <a:lnTo>
                        <a:pt x="1005" y="6516"/>
                      </a:lnTo>
                      <a:lnTo>
                        <a:pt x="987" y="6502"/>
                      </a:lnTo>
                      <a:lnTo>
                        <a:pt x="972" y="6487"/>
                      </a:lnTo>
                      <a:lnTo>
                        <a:pt x="958" y="6473"/>
                      </a:lnTo>
                      <a:lnTo>
                        <a:pt x="947" y="6459"/>
                      </a:lnTo>
                      <a:lnTo>
                        <a:pt x="937" y="6444"/>
                      </a:lnTo>
                      <a:lnTo>
                        <a:pt x="933" y="6441"/>
                      </a:lnTo>
                      <a:lnTo>
                        <a:pt x="929" y="6437"/>
                      </a:lnTo>
                      <a:lnTo>
                        <a:pt x="925" y="6432"/>
                      </a:lnTo>
                      <a:lnTo>
                        <a:pt x="921" y="6426"/>
                      </a:lnTo>
                      <a:lnTo>
                        <a:pt x="916" y="6421"/>
                      </a:lnTo>
                      <a:lnTo>
                        <a:pt x="912" y="6415"/>
                      </a:lnTo>
                      <a:lnTo>
                        <a:pt x="908" y="6410"/>
                      </a:lnTo>
                      <a:lnTo>
                        <a:pt x="904" y="6405"/>
                      </a:lnTo>
                      <a:lnTo>
                        <a:pt x="902" y="6399"/>
                      </a:lnTo>
                      <a:lnTo>
                        <a:pt x="898" y="6394"/>
                      </a:lnTo>
                      <a:lnTo>
                        <a:pt x="896" y="6383"/>
                      </a:lnTo>
                      <a:lnTo>
                        <a:pt x="896" y="6372"/>
                      </a:lnTo>
                      <a:lnTo>
                        <a:pt x="898" y="6361"/>
                      </a:lnTo>
                      <a:lnTo>
                        <a:pt x="898" y="6349"/>
                      </a:lnTo>
                      <a:lnTo>
                        <a:pt x="900" y="6338"/>
                      </a:lnTo>
                      <a:lnTo>
                        <a:pt x="900" y="6327"/>
                      </a:lnTo>
                      <a:lnTo>
                        <a:pt x="898" y="6314"/>
                      </a:lnTo>
                      <a:lnTo>
                        <a:pt x="898" y="6304"/>
                      </a:lnTo>
                      <a:lnTo>
                        <a:pt x="894" y="6293"/>
                      </a:lnTo>
                      <a:lnTo>
                        <a:pt x="889" y="6282"/>
                      </a:lnTo>
                      <a:lnTo>
                        <a:pt x="879" y="6273"/>
                      </a:lnTo>
                      <a:lnTo>
                        <a:pt x="869" y="6264"/>
                      </a:lnTo>
                      <a:lnTo>
                        <a:pt x="861" y="6255"/>
                      </a:lnTo>
                      <a:lnTo>
                        <a:pt x="852" y="6246"/>
                      </a:lnTo>
                      <a:lnTo>
                        <a:pt x="842" y="6237"/>
                      </a:lnTo>
                      <a:lnTo>
                        <a:pt x="832" y="6228"/>
                      </a:lnTo>
                      <a:lnTo>
                        <a:pt x="825" y="6217"/>
                      </a:lnTo>
                      <a:lnTo>
                        <a:pt x="817" y="6206"/>
                      </a:lnTo>
                      <a:lnTo>
                        <a:pt x="809" y="6195"/>
                      </a:lnTo>
                      <a:lnTo>
                        <a:pt x="803" y="6185"/>
                      </a:lnTo>
                      <a:lnTo>
                        <a:pt x="790" y="6183"/>
                      </a:lnTo>
                      <a:lnTo>
                        <a:pt x="792" y="6168"/>
                      </a:lnTo>
                      <a:lnTo>
                        <a:pt x="794" y="6154"/>
                      </a:lnTo>
                      <a:lnTo>
                        <a:pt x="798" y="6140"/>
                      </a:lnTo>
                      <a:lnTo>
                        <a:pt x="799" y="6127"/>
                      </a:lnTo>
                      <a:lnTo>
                        <a:pt x="803" y="6113"/>
                      </a:lnTo>
                      <a:lnTo>
                        <a:pt x="807" y="6098"/>
                      </a:lnTo>
                      <a:lnTo>
                        <a:pt x="811" y="6085"/>
                      </a:lnTo>
                      <a:lnTo>
                        <a:pt x="817" y="6073"/>
                      </a:lnTo>
                      <a:lnTo>
                        <a:pt x="821" y="6060"/>
                      </a:lnTo>
                      <a:lnTo>
                        <a:pt x="827" y="6046"/>
                      </a:lnTo>
                      <a:lnTo>
                        <a:pt x="813" y="6042"/>
                      </a:lnTo>
                      <a:lnTo>
                        <a:pt x="848" y="5972"/>
                      </a:lnTo>
                      <a:lnTo>
                        <a:pt x="881" y="5900"/>
                      </a:lnTo>
                      <a:lnTo>
                        <a:pt x="912" y="5828"/>
                      </a:lnTo>
                      <a:lnTo>
                        <a:pt x="943" y="5756"/>
                      </a:lnTo>
                      <a:lnTo>
                        <a:pt x="970" y="5682"/>
                      </a:lnTo>
                      <a:lnTo>
                        <a:pt x="997" y="5608"/>
                      </a:lnTo>
                      <a:lnTo>
                        <a:pt x="1020" y="5532"/>
                      </a:lnTo>
                      <a:lnTo>
                        <a:pt x="1043" y="5455"/>
                      </a:lnTo>
                      <a:lnTo>
                        <a:pt x="1063" y="5377"/>
                      </a:lnTo>
                      <a:lnTo>
                        <a:pt x="1080" y="5298"/>
                      </a:lnTo>
                      <a:lnTo>
                        <a:pt x="1134" y="5000"/>
                      </a:lnTo>
                      <a:lnTo>
                        <a:pt x="1119" y="5000"/>
                      </a:lnTo>
                      <a:lnTo>
                        <a:pt x="1131" y="4934"/>
                      </a:lnTo>
                      <a:lnTo>
                        <a:pt x="1138" y="4867"/>
                      </a:lnTo>
                      <a:lnTo>
                        <a:pt x="1140" y="4802"/>
                      </a:lnTo>
                      <a:lnTo>
                        <a:pt x="1140" y="4737"/>
                      </a:lnTo>
                      <a:lnTo>
                        <a:pt x="1138" y="4672"/>
                      </a:lnTo>
                      <a:lnTo>
                        <a:pt x="1133" y="4607"/>
                      </a:lnTo>
                      <a:lnTo>
                        <a:pt x="1129" y="4544"/>
                      </a:lnTo>
                      <a:lnTo>
                        <a:pt x="1123" y="4479"/>
                      </a:lnTo>
                      <a:lnTo>
                        <a:pt x="1119" y="4416"/>
                      </a:lnTo>
                      <a:lnTo>
                        <a:pt x="1117" y="4353"/>
                      </a:lnTo>
                      <a:lnTo>
                        <a:pt x="1103" y="4344"/>
                      </a:lnTo>
                      <a:lnTo>
                        <a:pt x="1127" y="4167"/>
                      </a:lnTo>
                      <a:lnTo>
                        <a:pt x="1107" y="4166"/>
                      </a:lnTo>
                      <a:lnTo>
                        <a:pt x="1206" y="3911"/>
                      </a:lnTo>
                      <a:lnTo>
                        <a:pt x="1196" y="3893"/>
                      </a:lnTo>
                      <a:lnTo>
                        <a:pt x="1193" y="3875"/>
                      </a:lnTo>
                      <a:lnTo>
                        <a:pt x="1194" y="3857"/>
                      </a:lnTo>
                      <a:lnTo>
                        <a:pt x="1202" y="3841"/>
                      </a:lnTo>
                      <a:lnTo>
                        <a:pt x="1212" y="3825"/>
                      </a:lnTo>
                      <a:lnTo>
                        <a:pt x="1225" y="3810"/>
                      </a:lnTo>
                      <a:lnTo>
                        <a:pt x="1239" y="3794"/>
                      </a:lnTo>
                      <a:lnTo>
                        <a:pt x="1255" y="3780"/>
                      </a:lnTo>
                      <a:lnTo>
                        <a:pt x="1268" y="3764"/>
                      </a:lnTo>
                      <a:lnTo>
                        <a:pt x="1280" y="3749"/>
                      </a:lnTo>
                      <a:lnTo>
                        <a:pt x="1291" y="3720"/>
                      </a:lnTo>
                      <a:lnTo>
                        <a:pt x="1305" y="3692"/>
                      </a:lnTo>
                      <a:lnTo>
                        <a:pt x="1322" y="3666"/>
                      </a:lnTo>
                      <a:lnTo>
                        <a:pt x="1340" y="3639"/>
                      </a:lnTo>
                      <a:lnTo>
                        <a:pt x="1357" y="3614"/>
                      </a:lnTo>
                      <a:lnTo>
                        <a:pt x="1375" y="3587"/>
                      </a:lnTo>
                      <a:lnTo>
                        <a:pt x="1388" y="3560"/>
                      </a:lnTo>
                      <a:lnTo>
                        <a:pt x="1402" y="3531"/>
                      </a:lnTo>
                      <a:lnTo>
                        <a:pt x="1411" y="3502"/>
                      </a:lnTo>
                      <a:lnTo>
                        <a:pt x="1417" y="3470"/>
                      </a:lnTo>
                      <a:lnTo>
                        <a:pt x="1425" y="3464"/>
                      </a:lnTo>
                      <a:lnTo>
                        <a:pt x="1429" y="3459"/>
                      </a:lnTo>
                      <a:lnTo>
                        <a:pt x="1431" y="3452"/>
                      </a:lnTo>
                      <a:lnTo>
                        <a:pt x="1431" y="3446"/>
                      </a:lnTo>
                      <a:lnTo>
                        <a:pt x="1429" y="3439"/>
                      </a:lnTo>
                      <a:lnTo>
                        <a:pt x="1427" y="3432"/>
                      </a:lnTo>
                      <a:lnTo>
                        <a:pt x="1423" y="3425"/>
                      </a:lnTo>
                      <a:lnTo>
                        <a:pt x="1421" y="3419"/>
                      </a:lnTo>
                      <a:lnTo>
                        <a:pt x="1417" y="3412"/>
                      </a:lnTo>
                      <a:lnTo>
                        <a:pt x="1417" y="3405"/>
                      </a:lnTo>
                      <a:lnTo>
                        <a:pt x="1407" y="3398"/>
                      </a:lnTo>
                      <a:lnTo>
                        <a:pt x="1400" y="3389"/>
                      </a:lnTo>
                      <a:lnTo>
                        <a:pt x="1392" y="3380"/>
                      </a:lnTo>
                      <a:lnTo>
                        <a:pt x="1388" y="3369"/>
                      </a:lnTo>
                      <a:lnTo>
                        <a:pt x="1382" y="3358"/>
                      </a:lnTo>
                      <a:lnTo>
                        <a:pt x="1378" y="3345"/>
                      </a:lnTo>
                      <a:lnTo>
                        <a:pt x="1375" y="3335"/>
                      </a:lnTo>
                      <a:lnTo>
                        <a:pt x="1369" y="3322"/>
                      </a:lnTo>
                      <a:lnTo>
                        <a:pt x="1363" y="3311"/>
                      </a:lnTo>
                      <a:lnTo>
                        <a:pt x="1355" y="3302"/>
                      </a:lnTo>
                      <a:lnTo>
                        <a:pt x="1346" y="3282"/>
                      </a:lnTo>
                      <a:lnTo>
                        <a:pt x="1336" y="3261"/>
                      </a:lnTo>
                      <a:lnTo>
                        <a:pt x="1326" y="3241"/>
                      </a:lnTo>
                      <a:lnTo>
                        <a:pt x="1316" y="3221"/>
                      </a:lnTo>
                      <a:lnTo>
                        <a:pt x="1307" y="3199"/>
                      </a:lnTo>
                      <a:lnTo>
                        <a:pt x="1295" y="3180"/>
                      </a:lnTo>
                      <a:lnTo>
                        <a:pt x="1285" y="3158"/>
                      </a:lnTo>
                      <a:lnTo>
                        <a:pt x="1272" y="3138"/>
                      </a:lnTo>
                      <a:lnTo>
                        <a:pt x="1258" y="3118"/>
                      </a:lnTo>
                      <a:lnTo>
                        <a:pt x="1245" y="3098"/>
                      </a:lnTo>
                      <a:lnTo>
                        <a:pt x="1247" y="3093"/>
                      </a:lnTo>
                      <a:lnTo>
                        <a:pt x="1247" y="3089"/>
                      </a:lnTo>
                      <a:lnTo>
                        <a:pt x="1247" y="3086"/>
                      </a:lnTo>
                      <a:lnTo>
                        <a:pt x="1243" y="3084"/>
                      </a:lnTo>
                      <a:lnTo>
                        <a:pt x="1241" y="3084"/>
                      </a:lnTo>
                      <a:lnTo>
                        <a:pt x="1237" y="3084"/>
                      </a:lnTo>
                      <a:lnTo>
                        <a:pt x="1233" y="3084"/>
                      </a:lnTo>
                      <a:lnTo>
                        <a:pt x="1229" y="3082"/>
                      </a:lnTo>
                      <a:lnTo>
                        <a:pt x="1225" y="3082"/>
                      </a:lnTo>
                      <a:lnTo>
                        <a:pt x="1224" y="3080"/>
                      </a:lnTo>
                      <a:lnTo>
                        <a:pt x="1227" y="3070"/>
                      </a:lnTo>
                      <a:lnTo>
                        <a:pt x="1227" y="3059"/>
                      </a:lnTo>
                      <a:lnTo>
                        <a:pt x="1225" y="3050"/>
                      </a:lnTo>
                      <a:lnTo>
                        <a:pt x="1224" y="3039"/>
                      </a:lnTo>
                      <a:lnTo>
                        <a:pt x="1218" y="3030"/>
                      </a:lnTo>
                      <a:lnTo>
                        <a:pt x="1212" y="3021"/>
                      </a:lnTo>
                      <a:lnTo>
                        <a:pt x="1206" y="3012"/>
                      </a:lnTo>
                      <a:lnTo>
                        <a:pt x="1202" y="3003"/>
                      </a:lnTo>
                      <a:lnTo>
                        <a:pt x="1196" y="2994"/>
                      </a:lnTo>
                      <a:lnTo>
                        <a:pt x="1193" y="2983"/>
                      </a:lnTo>
                      <a:lnTo>
                        <a:pt x="1169" y="2922"/>
                      </a:lnTo>
                      <a:lnTo>
                        <a:pt x="1144" y="2859"/>
                      </a:lnTo>
                      <a:lnTo>
                        <a:pt x="1113" y="2796"/>
                      </a:lnTo>
                      <a:lnTo>
                        <a:pt x="1080" y="2734"/>
                      </a:lnTo>
                      <a:lnTo>
                        <a:pt x="1045" y="2675"/>
                      </a:lnTo>
                      <a:lnTo>
                        <a:pt x="1005" y="2615"/>
                      </a:lnTo>
                      <a:lnTo>
                        <a:pt x="960" y="2559"/>
                      </a:lnTo>
                      <a:lnTo>
                        <a:pt x="914" y="2505"/>
                      </a:lnTo>
                      <a:lnTo>
                        <a:pt x="863" y="2455"/>
                      </a:lnTo>
                      <a:lnTo>
                        <a:pt x="807" y="2408"/>
                      </a:lnTo>
                      <a:lnTo>
                        <a:pt x="798" y="2419"/>
                      </a:lnTo>
                      <a:lnTo>
                        <a:pt x="757" y="2395"/>
                      </a:lnTo>
                      <a:lnTo>
                        <a:pt x="720" y="2367"/>
                      </a:lnTo>
                      <a:lnTo>
                        <a:pt x="685" y="2336"/>
                      </a:lnTo>
                      <a:lnTo>
                        <a:pt x="650" y="2303"/>
                      </a:lnTo>
                      <a:lnTo>
                        <a:pt x="616" y="2271"/>
                      </a:lnTo>
                      <a:lnTo>
                        <a:pt x="583" y="2237"/>
                      </a:lnTo>
                      <a:lnTo>
                        <a:pt x="550" y="2202"/>
                      </a:lnTo>
                      <a:lnTo>
                        <a:pt x="517" y="2170"/>
                      </a:lnTo>
                      <a:lnTo>
                        <a:pt x="482" y="2139"/>
                      </a:lnTo>
                      <a:lnTo>
                        <a:pt x="447" y="2111"/>
                      </a:lnTo>
                      <a:lnTo>
                        <a:pt x="445" y="2105"/>
                      </a:lnTo>
                      <a:lnTo>
                        <a:pt x="441" y="2100"/>
                      </a:lnTo>
                      <a:lnTo>
                        <a:pt x="439" y="2094"/>
                      </a:lnTo>
                      <a:lnTo>
                        <a:pt x="435" y="2089"/>
                      </a:lnTo>
                      <a:lnTo>
                        <a:pt x="434" y="2084"/>
                      </a:lnTo>
                      <a:lnTo>
                        <a:pt x="430" y="2078"/>
                      </a:lnTo>
                      <a:lnTo>
                        <a:pt x="426" y="2073"/>
                      </a:lnTo>
                      <a:lnTo>
                        <a:pt x="420" y="2069"/>
                      </a:lnTo>
                      <a:lnTo>
                        <a:pt x="414" y="2067"/>
                      </a:lnTo>
                      <a:lnTo>
                        <a:pt x="408" y="2065"/>
                      </a:lnTo>
                      <a:lnTo>
                        <a:pt x="416" y="2091"/>
                      </a:lnTo>
                      <a:lnTo>
                        <a:pt x="389" y="2062"/>
                      </a:lnTo>
                      <a:lnTo>
                        <a:pt x="364" y="2029"/>
                      </a:lnTo>
                      <a:lnTo>
                        <a:pt x="341" y="1999"/>
                      </a:lnTo>
                      <a:lnTo>
                        <a:pt x="317" y="1966"/>
                      </a:lnTo>
                      <a:lnTo>
                        <a:pt x="296" y="1934"/>
                      </a:lnTo>
                      <a:lnTo>
                        <a:pt x="273" y="1901"/>
                      </a:lnTo>
                      <a:lnTo>
                        <a:pt x="252" y="1871"/>
                      </a:lnTo>
                      <a:lnTo>
                        <a:pt x="226" y="1840"/>
                      </a:lnTo>
                      <a:lnTo>
                        <a:pt x="201" y="1810"/>
                      </a:lnTo>
                      <a:lnTo>
                        <a:pt x="174" y="1781"/>
                      </a:lnTo>
                      <a:lnTo>
                        <a:pt x="153" y="1754"/>
                      </a:lnTo>
                      <a:lnTo>
                        <a:pt x="131" y="1725"/>
                      </a:lnTo>
                      <a:lnTo>
                        <a:pt x="114" y="1696"/>
                      </a:lnTo>
                      <a:lnTo>
                        <a:pt x="95" y="1667"/>
                      </a:lnTo>
                      <a:lnTo>
                        <a:pt x="77" y="1638"/>
                      </a:lnTo>
                      <a:lnTo>
                        <a:pt x="62" y="1608"/>
                      </a:lnTo>
                      <a:lnTo>
                        <a:pt x="46" y="1579"/>
                      </a:lnTo>
                      <a:lnTo>
                        <a:pt x="31" y="1550"/>
                      </a:lnTo>
                      <a:lnTo>
                        <a:pt x="15" y="1519"/>
                      </a:lnTo>
                      <a:lnTo>
                        <a:pt x="0" y="1490"/>
                      </a:lnTo>
                      <a:lnTo>
                        <a:pt x="8" y="1471"/>
                      </a:lnTo>
                      <a:lnTo>
                        <a:pt x="19" y="1453"/>
                      </a:lnTo>
                      <a:lnTo>
                        <a:pt x="33" y="1435"/>
                      </a:lnTo>
                      <a:lnTo>
                        <a:pt x="48" y="1418"/>
                      </a:lnTo>
                      <a:lnTo>
                        <a:pt x="64" y="1402"/>
                      </a:lnTo>
                      <a:lnTo>
                        <a:pt x="79" y="1386"/>
                      </a:lnTo>
                      <a:lnTo>
                        <a:pt x="95" y="1370"/>
                      </a:lnTo>
                      <a:lnTo>
                        <a:pt x="108" y="1353"/>
                      </a:lnTo>
                      <a:lnTo>
                        <a:pt x="118" y="1335"/>
                      </a:lnTo>
                      <a:lnTo>
                        <a:pt x="124" y="1317"/>
                      </a:lnTo>
                      <a:lnTo>
                        <a:pt x="193" y="1224"/>
                      </a:lnTo>
                      <a:lnTo>
                        <a:pt x="263" y="1130"/>
                      </a:lnTo>
                      <a:lnTo>
                        <a:pt x="335" y="1034"/>
                      </a:lnTo>
                      <a:lnTo>
                        <a:pt x="404" y="941"/>
                      </a:lnTo>
                      <a:lnTo>
                        <a:pt x="478" y="845"/>
                      </a:lnTo>
                      <a:lnTo>
                        <a:pt x="554" y="751"/>
                      </a:lnTo>
                      <a:lnTo>
                        <a:pt x="631" y="659"/>
                      </a:lnTo>
                      <a:lnTo>
                        <a:pt x="710" y="567"/>
                      </a:lnTo>
                      <a:lnTo>
                        <a:pt x="796" y="477"/>
                      </a:lnTo>
                      <a:lnTo>
                        <a:pt x="883" y="391"/>
                      </a:lnTo>
                      <a:lnTo>
                        <a:pt x="889" y="396"/>
                      </a:lnTo>
                      <a:lnTo>
                        <a:pt x="896" y="378"/>
                      </a:lnTo>
                      <a:lnTo>
                        <a:pt x="904" y="360"/>
                      </a:lnTo>
                      <a:lnTo>
                        <a:pt x="916" y="344"/>
                      </a:lnTo>
                      <a:lnTo>
                        <a:pt x="927" y="328"/>
                      </a:lnTo>
                      <a:lnTo>
                        <a:pt x="939" y="311"/>
                      </a:lnTo>
                      <a:lnTo>
                        <a:pt x="952" y="295"/>
                      </a:lnTo>
                      <a:lnTo>
                        <a:pt x="966" y="279"/>
                      </a:lnTo>
                      <a:lnTo>
                        <a:pt x="978" y="261"/>
                      </a:lnTo>
                      <a:lnTo>
                        <a:pt x="989" y="243"/>
                      </a:lnTo>
                      <a:lnTo>
                        <a:pt x="999" y="225"/>
                      </a:lnTo>
                      <a:lnTo>
                        <a:pt x="1030" y="202"/>
                      </a:lnTo>
                      <a:lnTo>
                        <a:pt x="1034" y="209"/>
                      </a:lnTo>
                      <a:lnTo>
                        <a:pt x="1040" y="214"/>
                      </a:lnTo>
                      <a:lnTo>
                        <a:pt x="1045" y="216"/>
                      </a:lnTo>
                      <a:lnTo>
                        <a:pt x="1051" y="220"/>
                      </a:lnTo>
                      <a:lnTo>
                        <a:pt x="1057" y="220"/>
                      </a:lnTo>
                      <a:lnTo>
                        <a:pt x="1063" y="221"/>
                      </a:lnTo>
                      <a:lnTo>
                        <a:pt x="1069" y="221"/>
                      </a:lnTo>
                      <a:lnTo>
                        <a:pt x="1074" y="221"/>
                      </a:lnTo>
                      <a:lnTo>
                        <a:pt x="1082" y="223"/>
                      </a:lnTo>
                      <a:lnTo>
                        <a:pt x="1088" y="227"/>
                      </a:lnTo>
                      <a:lnTo>
                        <a:pt x="1096" y="225"/>
                      </a:lnTo>
                      <a:lnTo>
                        <a:pt x="1103" y="221"/>
                      </a:lnTo>
                      <a:lnTo>
                        <a:pt x="1111" y="218"/>
                      </a:lnTo>
                      <a:lnTo>
                        <a:pt x="1117" y="214"/>
                      </a:lnTo>
                      <a:lnTo>
                        <a:pt x="1125" y="211"/>
                      </a:lnTo>
                      <a:lnTo>
                        <a:pt x="1131" y="207"/>
                      </a:lnTo>
                      <a:lnTo>
                        <a:pt x="1136" y="202"/>
                      </a:lnTo>
                      <a:lnTo>
                        <a:pt x="1140" y="196"/>
                      </a:lnTo>
                      <a:lnTo>
                        <a:pt x="1142" y="191"/>
                      </a:lnTo>
                      <a:lnTo>
                        <a:pt x="1142" y="183"/>
                      </a:lnTo>
                      <a:lnTo>
                        <a:pt x="1142" y="182"/>
                      </a:lnTo>
                      <a:lnTo>
                        <a:pt x="1142" y="180"/>
                      </a:lnTo>
                      <a:lnTo>
                        <a:pt x="1142" y="178"/>
                      </a:lnTo>
                      <a:lnTo>
                        <a:pt x="1142" y="176"/>
                      </a:lnTo>
                      <a:lnTo>
                        <a:pt x="1142" y="174"/>
                      </a:lnTo>
                      <a:lnTo>
                        <a:pt x="1144" y="174"/>
                      </a:lnTo>
                      <a:lnTo>
                        <a:pt x="1144" y="173"/>
                      </a:lnTo>
                      <a:lnTo>
                        <a:pt x="1146" y="171"/>
                      </a:lnTo>
                      <a:lnTo>
                        <a:pt x="1146" y="171"/>
                      </a:lnTo>
                      <a:lnTo>
                        <a:pt x="1148" y="169"/>
                      </a:lnTo>
                      <a:lnTo>
                        <a:pt x="1150" y="191"/>
                      </a:lnTo>
                      <a:lnTo>
                        <a:pt x="1202" y="178"/>
                      </a:lnTo>
                      <a:lnTo>
                        <a:pt x="1253" y="164"/>
                      </a:lnTo>
                      <a:lnTo>
                        <a:pt x="1305" y="147"/>
                      </a:lnTo>
                      <a:lnTo>
                        <a:pt x="1357" y="129"/>
                      </a:lnTo>
                      <a:lnTo>
                        <a:pt x="1407" y="111"/>
                      </a:lnTo>
                      <a:lnTo>
                        <a:pt x="1458" y="92"/>
                      </a:lnTo>
                      <a:lnTo>
                        <a:pt x="1508" y="70"/>
                      </a:lnTo>
                      <a:lnTo>
                        <a:pt x="1559" y="46"/>
                      </a:lnTo>
                      <a:lnTo>
                        <a:pt x="1609" y="25"/>
                      </a:lnTo>
                      <a:lnTo>
                        <a:pt x="1657" y="0"/>
                      </a:lnTo>
                      <a:lnTo>
                        <a:pt x="1657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973840" y="501840"/>
                  <a:ext cx="667800" cy="411120"/>
                </a:xfrm>
                <a:custGeom>
                  <a:avLst/>
                  <a:gdLst/>
                  <a:ahLst/>
                  <a:rect l="l" t="t" r="r" b="b"/>
                  <a:pathLst>
                    <a:path w="931" h="519">
                      <a:moveTo>
                        <a:pt x="536" y="22"/>
                      </a:moveTo>
                      <a:lnTo>
                        <a:pt x="546" y="18"/>
                      </a:lnTo>
                      <a:lnTo>
                        <a:pt x="556" y="18"/>
                      </a:lnTo>
                      <a:lnTo>
                        <a:pt x="565" y="22"/>
                      </a:lnTo>
                      <a:lnTo>
                        <a:pt x="573" y="27"/>
                      </a:lnTo>
                      <a:lnTo>
                        <a:pt x="583" y="32"/>
                      </a:lnTo>
                      <a:lnTo>
                        <a:pt x="592" y="42"/>
                      </a:lnTo>
                      <a:lnTo>
                        <a:pt x="600" y="49"/>
                      </a:lnTo>
                      <a:lnTo>
                        <a:pt x="610" y="54"/>
                      </a:lnTo>
                      <a:lnTo>
                        <a:pt x="621" y="60"/>
                      </a:lnTo>
                      <a:lnTo>
                        <a:pt x="631" y="63"/>
                      </a:lnTo>
                      <a:lnTo>
                        <a:pt x="751" y="135"/>
                      </a:lnTo>
                      <a:lnTo>
                        <a:pt x="771" y="139"/>
                      </a:lnTo>
                      <a:lnTo>
                        <a:pt x="790" y="142"/>
                      </a:lnTo>
                      <a:lnTo>
                        <a:pt x="807" y="148"/>
                      </a:lnTo>
                      <a:lnTo>
                        <a:pt x="825" y="153"/>
                      </a:lnTo>
                      <a:lnTo>
                        <a:pt x="842" y="160"/>
                      </a:lnTo>
                      <a:lnTo>
                        <a:pt x="860" y="166"/>
                      </a:lnTo>
                      <a:lnTo>
                        <a:pt x="877" y="171"/>
                      </a:lnTo>
                      <a:lnTo>
                        <a:pt x="896" y="175"/>
                      </a:lnTo>
                      <a:lnTo>
                        <a:pt x="914" y="179"/>
                      </a:lnTo>
                      <a:lnTo>
                        <a:pt x="931" y="182"/>
                      </a:lnTo>
                      <a:lnTo>
                        <a:pt x="931" y="204"/>
                      </a:lnTo>
                      <a:lnTo>
                        <a:pt x="927" y="227"/>
                      </a:lnTo>
                      <a:lnTo>
                        <a:pt x="924" y="247"/>
                      </a:lnTo>
                      <a:lnTo>
                        <a:pt x="916" y="267"/>
                      </a:lnTo>
                      <a:lnTo>
                        <a:pt x="906" y="287"/>
                      </a:lnTo>
                      <a:lnTo>
                        <a:pt x="898" y="305"/>
                      </a:lnTo>
                      <a:lnTo>
                        <a:pt x="889" y="325"/>
                      </a:lnTo>
                      <a:lnTo>
                        <a:pt x="881" y="343"/>
                      </a:lnTo>
                      <a:lnTo>
                        <a:pt x="875" y="362"/>
                      </a:lnTo>
                      <a:lnTo>
                        <a:pt x="869" y="382"/>
                      </a:lnTo>
                      <a:lnTo>
                        <a:pt x="833" y="379"/>
                      </a:lnTo>
                      <a:lnTo>
                        <a:pt x="834" y="366"/>
                      </a:lnTo>
                      <a:lnTo>
                        <a:pt x="834" y="350"/>
                      </a:lnTo>
                      <a:lnTo>
                        <a:pt x="834" y="335"/>
                      </a:lnTo>
                      <a:lnTo>
                        <a:pt x="836" y="319"/>
                      </a:lnTo>
                      <a:lnTo>
                        <a:pt x="838" y="303"/>
                      </a:lnTo>
                      <a:lnTo>
                        <a:pt x="838" y="287"/>
                      </a:lnTo>
                      <a:lnTo>
                        <a:pt x="840" y="270"/>
                      </a:lnTo>
                      <a:lnTo>
                        <a:pt x="842" y="256"/>
                      </a:lnTo>
                      <a:lnTo>
                        <a:pt x="844" y="242"/>
                      </a:lnTo>
                      <a:lnTo>
                        <a:pt x="848" y="229"/>
                      </a:lnTo>
                      <a:lnTo>
                        <a:pt x="842" y="225"/>
                      </a:lnTo>
                      <a:lnTo>
                        <a:pt x="836" y="222"/>
                      </a:lnTo>
                      <a:lnTo>
                        <a:pt x="829" y="220"/>
                      </a:lnTo>
                      <a:lnTo>
                        <a:pt x="821" y="218"/>
                      </a:lnTo>
                      <a:lnTo>
                        <a:pt x="813" y="218"/>
                      </a:lnTo>
                      <a:lnTo>
                        <a:pt x="805" y="216"/>
                      </a:lnTo>
                      <a:lnTo>
                        <a:pt x="800" y="216"/>
                      </a:lnTo>
                      <a:lnTo>
                        <a:pt x="792" y="216"/>
                      </a:lnTo>
                      <a:lnTo>
                        <a:pt x="786" y="216"/>
                      </a:lnTo>
                      <a:lnTo>
                        <a:pt x="778" y="215"/>
                      </a:lnTo>
                      <a:lnTo>
                        <a:pt x="761" y="209"/>
                      </a:lnTo>
                      <a:lnTo>
                        <a:pt x="742" y="204"/>
                      </a:lnTo>
                      <a:lnTo>
                        <a:pt x="722" y="197"/>
                      </a:lnTo>
                      <a:lnTo>
                        <a:pt x="705" y="188"/>
                      </a:lnTo>
                      <a:lnTo>
                        <a:pt x="687" y="179"/>
                      </a:lnTo>
                      <a:lnTo>
                        <a:pt x="674" y="168"/>
                      </a:lnTo>
                      <a:lnTo>
                        <a:pt x="660" y="155"/>
                      </a:lnTo>
                      <a:lnTo>
                        <a:pt x="651" y="139"/>
                      </a:lnTo>
                      <a:lnTo>
                        <a:pt x="643" y="123"/>
                      </a:lnTo>
                      <a:lnTo>
                        <a:pt x="639" y="103"/>
                      </a:lnTo>
                      <a:lnTo>
                        <a:pt x="631" y="105"/>
                      </a:lnTo>
                      <a:lnTo>
                        <a:pt x="627" y="110"/>
                      </a:lnTo>
                      <a:lnTo>
                        <a:pt x="623" y="114"/>
                      </a:lnTo>
                      <a:lnTo>
                        <a:pt x="621" y="119"/>
                      </a:lnTo>
                      <a:lnTo>
                        <a:pt x="621" y="124"/>
                      </a:lnTo>
                      <a:lnTo>
                        <a:pt x="621" y="132"/>
                      </a:lnTo>
                      <a:lnTo>
                        <a:pt x="621" y="137"/>
                      </a:lnTo>
                      <a:lnTo>
                        <a:pt x="621" y="142"/>
                      </a:lnTo>
                      <a:lnTo>
                        <a:pt x="620" y="148"/>
                      </a:lnTo>
                      <a:lnTo>
                        <a:pt x="618" y="153"/>
                      </a:lnTo>
                      <a:lnTo>
                        <a:pt x="633" y="177"/>
                      </a:lnTo>
                      <a:lnTo>
                        <a:pt x="623" y="184"/>
                      </a:lnTo>
                      <a:lnTo>
                        <a:pt x="614" y="188"/>
                      </a:lnTo>
                      <a:lnTo>
                        <a:pt x="608" y="188"/>
                      </a:lnTo>
                      <a:lnTo>
                        <a:pt x="600" y="182"/>
                      </a:lnTo>
                      <a:lnTo>
                        <a:pt x="594" y="177"/>
                      </a:lnTo>
                      <a:lnTo>
                        <a:pt x="589" y="168"/>
                      </a:lnTo>
                      <a:lnTo>
                        <a:pt x="583" y="159"/>
                      </a:lnTo>
                      <a:lnTo>
                        <a:pt x="577" y="150"/>
                      </a:lnTo>
                      <a:lnTo>
                        <a:pt x="571" y="142"/>
                      </a:lnTo>
                      <a:lnTo>
                        <a:pt x="565" y="135"/>
                      </a:lnTo>
                      <a:lnTo>
                        <a:pt x="556" y="150"/>
                      </a:lnTo>
                      <a:lnTo>
                        <a:pt x="558" y="175"/>
                      </a:lnTo>
                      <a:lnTo>
                        <a:pt x="567" y="200"/>
                      </a:lnTo>
                      <a:lnTo>
                        <a:pt x="581" y="225"/>
                      </a:lnTo>
                      <a:lnTo>
                        <a:pt x="596" y="251"/>
                      </a:lnTo>
                      <a:lnTo>
                        <a:pt x="612" y="276"/>
                      </a:lnTo>
                      <a:lnTo>
                        <a:pt x="623" y="299"/>
                      </a:lnTo>
                      <a:lnTo>
                        <a:pt x="629" y="323"/>
                      </a:lnTo>
                      <a:lnTo>
                        <a:pt x="627" y="346"/>
                      </a:lnTo>
                      <a:lnTo>
                        <a:pt x="618" y="370"/>
                      </a:lnTo>
                      <a:lnTo>
                        <a:pt x="592" y="391"/>
                      </a:lnTo>
                      <a:lnTo>
                        <a:pt x="560" y="483"/>
                      </a:lnTo>
                      <a:lnTo>
                        <a:pt x="548" y="481"/>
                      </a:lnTo>
                      <a:lnTo>
                        <a:pt x="538" y="483"/>
                      </a:lnTo>
                      <a:lnTo>
                        <a:pt x="530" y="487"/>
                      </a:lnTo>
                      <a:lnTo>
                        <a:pt x="521" y="492"/>
                      </a:lnTo>
                      <a:lnTo>
                        <a:pt x="513" y="498"/>
                      </a:lnTo>
                      <a:lnTo>
                        <a:pt x="507" y="505"/>
                      </a:lnTo>
                      <a:lnTo>
                        <a:pt x="499" y="510"/>
                      </a:lnTo>
                      <a:lnTo>
                        <a:pt x="490" y="516"/>
                      </a:lnTo>
                      <a:lnTo>
                        <a:pt x="482" y="519"/>
                      </a:lnTo>
                      <a:lnTo>
                        <a:pt x="472" y="519"/>
                      </a:lnTo>
                      <a:lnTo>
                        <a:pt x="476" y="514"/>
                      </a:lnTo>
                      <a:lnTo>
                        <a:pt x="480" y="508"/>
                      </a:lnTo>
                      <a:lnTo>
                        <a:pt x="486" y="503"/>
                      </a:lnTo>
                      <a:lnTo>
                        <a:pt x="492" y="496"/>
                      </a:lnTo>
                      <a:lnTo>
                        <a:pt x="498" y="490"/>
                      </a:lnTo>
                      <a:lnTo>
                        <a:pt x="503" y="485"/>
                      </a:lnTo>
                      <a:lnTo>
                        <a:pt x="509" y="481"/>
                      </a:lnTo>
                      <a:lnTo>
                        <a:pt x="515" y="478"/>
                      </a:lnTo>
                      <a:lnTo>
                        <a:pt x="521" y="476"/>
                      </a:lnTo>
                      <a:lnTo>
                        <a:pt x="527" y="476"/>
                      </a:lnTo>
                      <a:lnTo>
                        <a:pt x="532" y="474"/>
                      </a:lnTo>
                      <a:lnTo>
                        <a:pt x="536" y="471"/>
                      </a:lnTo>
                      <a:lnTo>
                        <a:pt x="538" y="467"/>
                      </a:lnTo>
                      <a:lnTo>
                        <a:pt x="538" y="463"/>
                      </a:lnTo>
                      <a:lnTo>
                        <a:pt x="538" y="460"/>
                      </a:lnTo>
                      <a:lnTo>
                        <a:pt x="538" y="456"/>
                      </a:lnTo>
                      <a:lnTo>
                        <a:pt x="536" y="451"/>
                      </a:lnTo>
                      <a:lnTo>
                        <a:pt x="536" y="447"/>
                      </a:lnTo>
                      <a:lnTo>
                        <a:pt x="534" y="442"/>
                      </a:lnTo>
                      <a:lnTo>
                        <a:pt x="532" y="438"/>
                      </a:lnTo>
                      <a:lnTo>
                        <a:pt x="540" y="427"/>
                      </a:lnTo>
                      <a:lnTo>
                        <a:pt x="546" y="418"/>
                      </a:lnTo>
                      <a:lnTo>
                        <a:pt x="550" y="407"/>
                      </a:lnTo>
                      <a:lnTo>
                        <a:pt x="554" y="395"/>
                      </a:lnTo>
                      <a:lnTo>
                        <a:pt x="558" y="384"/>
                      </a:lnTo>
                      <a:lnTo>
                        <a:pt x="561" y="373"/>
                      </a:lnTo>
                      <a:lnTo>
                        <a:pt x="563" y="361"/>
                      </a:lnTo>
                      <a:lnTo>
                        <a:pt x="565" y="350"/>
                      </a:lnTo>
                      <a:lnTo>
                        <a:pt x="565" y="339"/>
                      </a:lnTo>
                      <a:lnTo>
                        <a:pt x="565" y="328"/>
                      </a:lnTo>
                      <a:lnTo>
                        <a:pt x="556" y="319"/>
                      </a:lnTo>
                      <a:lnTo>
                        <a:pt x="546" y="312"/>
                      </a:lnTo>
                      <a:lnTo>
                        <a:pt x="536" y="305"/>
                      </a:lnTo>
                      <a:lnTo>
                        <a:pt x="527" y="297"/>
                      </a:lnTo>
                      <a:lnTo>
                        <a:pt x="519" y="290"/>
                      </a:lnTo>
                      <a:lnTo>
                        <a:pt x="511" y="283"/>
                      </a:lnTo>
                      <a:lnTo>
                        <a:pt x="503" y="274"/>
                      </a:lnTo>
                      <a:lnTo>
                        <a:pt x="496" y="265"/>
                      </a:lnTo>
                      <a:lnTo>
                        <a:pt x="490" y="254"/>
                      </a:lnTo>
                      <a:lnTo>
                        <a:pt x="484" y="245"/>
                      </a:lnTo>
                      <a:lnTo>
                        <a:pt x="465" y="247"/>
                      </a:lnTo>
                      <a:lnTo>
                        <a:pt x="465" y="242"/>
                      </a:lnTo>
                      <a:lnTo>
                        <a:pt x="467" y="236"/>
                      </a:lnTo>
                      <a:lnTo>
                        <a:pt x="470" y="231"/>
                      </a:lnTo>
                      <a:lnTo>
                        <a:pt x="472" y="225"/>
                      </a:lnTo>
                      <a:lnTo>
                        <a:pt x="476" y="222"/>
                      </a:lnTo>
                      <a:lnTo>
                        <a:pt x="480" y="216"/>
                      </a:lnTo>
                      <a:lnTo>
                        <a:pt x="482" y="211"/>
                      </a:lnTo>
                      <a:lnTo>
                        <a:pt x="482" y="207"/>
                      </a:lnTo>
                      <a:lnTo>
                        <a:pt x="482" y="202"/>
                      </a:lnTo>
                      <a:lnTo>
                        <a:pt x="478" y="195"/>
                      </a:lnTo>
                      <a:lnTo>
                        <a:pt x="469" y="200"/>
                      </a:lnTo>
                      <a:lnTo>
                        <a:pt x="459" y="206"/>
                      </a:lnTo>
                      <a:lnTo>
                        <a:pt x="453" y="215"/>
                      </a:lnTo>
                      <a:lnTo>
                        <a:pt x="449" y="224"/>
                      </a:lnTo>
                      <a:lnTo>
                        <a:pt x="443" y="233"/>
                      </a:lnTo>
                      <a:lnTo>
                        <a:pt x="439" y="243"/>
                      </a:lnTo>
                      <a:lnTo>
                        <a:pt x="436" y="252"/>
                      </a:lnTo>
                      <a:lnTo>
                        <a:pt x="430" y="261"/>
                      </a:lnTo>
                      <a:lnTo>
                        <a:pt x="424" y="270"/>
                      </a:lnTo>
                      <a:lnTo>
                        <a:pt x="414" y="278"/>
                      </a:lnTo>
                      <a:lnTo>
                        <a:pt x="399" y="290"/>
                      </a:lnTo>
                      <a:lnTo>
                        <a:pt x="381" y="301"/>
                      </a:lnTo>
                      <a:lnTo>
                        <a:pt x="362" y="306"/>
                      </a:lnTo>
                      <a:lnTo>
                        <a:pt x="345" y="312"/>
                      </a:lnTo>
                      <a:lnTo>
                        <a:pt x="323" y="316"/>
                      </a:lnTo>
                      <a:lnTo>
                        <a:pt x="304" y="321"/>
                      </a:lnTo>
                      <a:lnTo>
                        <a:pt x="285" y="325"/>
                      </a:lnTo>
                      <a:lnTo>
                        <a:pt x="265" y="330"/>
                      </a:lnTo>
                      <a:lnTo>
                        <a:pt x="248" y="335"/>
                      </a:lnTo>
                      <a:lnTo>
                        <a:pt x="230" y="344"/>
                      </a:lnTo>
                      <a:lnTo>
                        <a:pt x="223" y="337"/>
                      </a:lnTo>
                      <a:lnTo>
                        <a:pt x="217" y="334"/>
                      </a:lnTo>
                      <a:lnTo>
                        <a:pt x="211" y="334"/>
                      </a:lnTo>
                      <a:lnTo>
                        <a:pt x="205" y="337"/>
                      </a:lnTo>
                      <a:lnTo>
                        <a:pt x="201" y="341"/>
                      </a:lnTo>
                      <a:lnTo>
                        <a:pt x="195" y="346"/>
                      </a:lnTo>
                      <a:lnTo>
                        <a:pt x="192" y="352"/>
                      </a:lnTo>
                      <a:lnTo>
                        <a:pt x="186" y="355"/>
                      </a:lnTo>
                      <a:lnTo>
                        <a:pt x="180" y="357"/>
                      </a:lnTo>
                      <a:lnTo>
                        <a:pt x="172" y="357"/>
                      </a:lnTo>
                      <a:lnTo>
                        <a:pt x="165" y="359"/>
                      </a:lnTo>
                      <a:lnTo>
                        <a:pt x="159" y="362"/>
                      </a:lnTo>
                      <a:lnTo>
                        <a:pt x="151" y="364"/>
                      </a:lnTo>
                      <a:lnTo>
                        <a:pt x="143" y="368"/>
                      </a:lnTo>
                      <a:lnTo>
                        <a:pt x="137" y="373"/>
                      </a:lnTo>
                      <a:lnTo>
                        <a:pt x="132" y="377"/>
                      </a:lnTo>
                      <a:lnTo>
                        <a:pt x="124" y="380"/>
                      </a:lnTo>
                      <a:lnTo>
                        <a:pt x="118" y="386"/>
                      </a:lnTo>
                      <a:lnTo>
                        <a:pt x="110" y="389"/>
                      </a:lnTo>
                      <a:lnTo>
                        <a:pt x="104" y="393"/>
                      </a:lnTo>
                      <a:lnTo>
                        <a:pt x="89" y="357"/>
                      </a:lnTo>
                      <a:lnTo>
                        <a:pt x="85" y="359"/>
                      </a:lnTo>
                      <a:lnTo>
                        <a:pt x="83" y="361"/>
                      </a:lnTo>
                      <a:lnTo>
                        <a:pt x="79" y="362"/>
                      </a:lnTo>
                      <a:lnTo>
                        <a:pt x="77" y="364"/>
                      </a:lnTo>
                      <a:lnTo>
                        <a:pt x="75" y="368"/>
                      </a:lnTo>
                      <a:lnTo>
                        <a:pt x="74" y="371"/>
                      </a:lnTo>
                      <a:lnTo>
                        <a:pt x="72" y="375"/>
                      </a:lnTo>
                      <a:lnTo>
                        <a:pt x="72" y="379"/>
                      </a:lnTo>
                      <a:lnTo>
                        <a:pt x="72" y="382"/>
                      </a:lnTo>
                      <a:lnTo>
                        <a:pt x="72" y="386"/>
                      </a:lnTo>
                      <a:lnTo>
                        <a:pt x="64" y="370"/>
                      </a:lnTo>
                      <a:lnTo>
                        <a:pt x="58" y="353"/>
                      </a:lnTo>
                      <a:lnTo>
                        <a:pt x="50" y="337"/>
                      </a:lnTo>
                      <a:lnTo>
                        <a:pt x="43" y="321"/>
                      </a:lnTo>
                      <a:lnTo>
                        <a:pt x="37" y="305"/>
                      </a:lnTo>
                      <a:lnTo>
                        <a:pt x="29" y="288"/>
                      </a:lnTo>
                      <a:lnTo>
                        <a:pt x="21" y="272"/>
                      </a:lnTo>
                      <a:lnTo>
                        <a:pt x="15" y="256"/>
                      </a:lnTo>
                      <a:lnTo>
                        <a:pt x="8" y="240"/>
                      </a:lnTo>
                      <a:lnTo>
                        <a:pt x="0" y="225"/>
                      </a:lnTo>
                      <a:lnTo>
                        <a:pt x="2" y="225"/>
                      </a:lnTo>
                      <a:lnTo>
                        <a:pt x="6" y="225"/>
                      </a:lnTo>
                      <a:lnTo>
                        <a:pt x="8" y="225"/>
                      </a:lnTo>
                      <a:lnTo>
                        <a:pt x="10" y="225"/>
                      </a:lnTo>
                      <a:lnTo>
                        <a:pt x="13" y="227"/>
                      </a:lnTo>
                      <a:lnTo>
                        <a:pt x="15" y="227"/>
                      </a:lnTo>
                      <a:lnTo>
                        <a:pt x="17" y="227"/>
                      </a:lnTo>
                      <a:lnTo>
                        <a:pt x="19" y="225"/>
                      </a:lnTo>
                      <a:lnTo>
                        <a:pt x="21" y="225"/>
                      </a:lnTo>
                      <a:lnTo>
                        <a:pt x="23" y="224"/>
                      </a:lnTo>
                      <a:lnTo>
                        <a:pt x="23" y="222"/>
                      </a:lnTo>
                      <a:lnTo>
                        <a:pt x="21" y="220"/>
                      </a:lnTo>
                      <a:lnTo>
                        <a:pt x="21" y="220"/>
                      </a:lnTo>
                      <a:lnTo>
                        <a:pt x="19" y="218"/>
                      </a:lnTo>
                      <a:lnTo>
                        <a:pt x="17" y="218"/>
                      </a:lnTo>
                      <a:lnTo>
                        <a:pt x="15" y="218"/>
                      </a:lnTo>
                      <a:lnTo>
                        <a:pt x="13" y="218"/>
                      </a:lnTo>
                      <a:lnTo>
                        <a:pt x="13" y="218"/>
                      </a:lnTo>
                      <a:lnTo>
                        <a:pt x="12" y="216"/>
                      </a:lnTo>
                      <a:lnTo>
                        <a:pt x="10" y="216"/>
                      </a:lnTo>
                      <a:lnTo>
                        <a:pt x="12" y="216"/>
                      </a:lnTo>
                      <a:lnTo>
                        <a:pt x="15" y="216"/>
                      </a:lnTo>
                      <a:lnTo>
                        <a:pt x="17" y="216"/>
                      </a:lnTo>
                      <a:lnTo>
                        <a:pt x="19" y="215"/>
                      </a:lnTo>
                      <a:lnTo>
                        <a:pt x="21" y="215"/>
                      </a:lnTo>
                      <a:lnTo>
                        <a:pt x="23" y="215"/>
                      </a:lnTo>
                      <a:lnTo>
                        <a:pt x="25" y="213"/>
                      </a:lnTo>
                      <a:lnTo>
                        <a:pt x="27" y="213"/>
                      </a:lnTo>
                      <a:lnTo>
                        <a:pt x="29" y="211"/>
                      </a:lnTo>
                      <a:lnTo>
                        <a:pt x="31" y="209"/>
                      </a:lnTo>
                      <a:lnTo>
                        <a:pt x="29" y="213"/>
                      </a:lnTo>
                      <a:lnTo>
                        <a:pt x="29" y="215"/>
                      </a:lnTo>
                      <a:lnTo>
                        <a:pt x="29" y="216"/>
                      </a:lnTo>
                      <a:lnTo>
                        <a:pt x="29" y="218"/>
                      </a:lnTo>
                      <a:lnTo>
                        <a:pt x="31" y="220"/>
                      </a:lnTo>
                      <a:lnTo>
                        <a:pt x="31" y="222"/>
                      </a:lnTo>
                      <a:lnTo>
                        <a:pt x="33" y="224"/>
                      </a:lnTo>
                      <a:lnTo>
                        <a:pt x="35" y="225"/>
                      </a:lnTo>
                      <a:lnTo>
                        <a:pt x="35" y="225"/>
                      </a:lnTo>
                      <a:lnTo>
                        <a:pt x="37" y="227"/>
                      </a:lnTo>
                      <a:lnTo>
                        <a:pt x="48" y="224"/>
                      </a:lnTo>
                      <a:lnTo>
                        <a:pt x="58" y="220"/>
                      </a:lnTo>
                      <a:lnTo>
                        <a:pt x="70" y="218"/>
                      </a:lnTo>
                      <a:lnTo>
                        <a:pt x="81" y="216"/>
                      </a:lnTo>
                      <a:lnTo>
                        <a:pt x="93" y="213"/>
                      </a:lnTo>
                      <a:lnTo>
                        <a:pt x="103" y="211"/>
                      </a:lnTo>
                      <a:lnTo>
                        <a:pt x="114" y="209"/>
                      </a:lnTo>
                      <a:lnTo>
                        <a:pt x="126" y="207"/>
                      </a:lnTo>
                      <a:lnTo>
                        <a:pt x="137" y="204"/>
                      </a:lnTo>
                      <a:lnTo>
                        <a:pt x="147" y="200"/>
                      </a:lnTo>
                      <a:lnTo>
                        <a:pt x="132" y="191"/>
                      </a:lnTo>
                      <a:lnTo>
                        <a:pt x="143" y="182"/>
                      </a:lnTo>
                      <a:lnTo>
                        <a:pt x="155" y="175"/>
                      </a:lnTo>
                      <a:lnTo>
                        <a:pt x="168" y="169"/>
                      </a:lnTo>
                      <a:lnTo>
                        <a:pt x="182" y="164"/>
                      </a:lnTo>
                      <a:lnTo>
                        <a:pt x="195" y="160"/>
                      </a:lnTo>
                      <a:lnTo>
                        <a:pt x="209" y="157"/>
                      </a:lnTo>
                      <a:lnTo>
                        <a:pt x="223" y="153"/>
                      </a:lnTo>
                      <a:lnTo>
                        <a:pt x="236" y="148"/>
                      </a:lnTo>
                      <a:lnTo>
                        <a:pt x="250" y="144"/>
                      </a:lnTo>
                      <a:lnTo>
                        <a:pt x="263" y="137"/>
                      </a:lnTo>
                      <a:lnTo>
                        <a:pt x="534" y="0"/>
                      </a:lnTo>
                      <a:lnTo>
                        <a:pt x="538" y="22"/>
                      </a:lnTo>
                      <a:lnTo>
                        <a:pt x="538" y="22"/>
                      </a:lnTo>
                      <a:lnTo>
                        <a:pt x="536" y="22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96840" y="662040"/>
                  <a:ext cx="95760" cy="220680"/>
                </a:xfrm>
                <a:custGeom>
                  <a:avLst/>
                  <a:gdLst/>
                  <a:ahLst/>
                  <a:rect l="l" t="t" r="r" b="b"/>
                  <a:pathLst>
                    <a:path w="134" h="277">
                      <a:moveTo>
                        <a:pt x="134" y="121"/>
                      </a:moveTo>
                      <a:lnTo>
                        <a:pt x="128" y="137"/>
                      </a:lnTo>
                      <a:lnTo>
                        <a:pt x="121" y="153"/>
                      </a:lnTo>
                      <a:lnTo>
                        <a:pt x="109" y="171"/>
                      </a:lnTo>
                      <a:lnTo>
                        <a:pt x="97" y="187"/>
                      </a:lnTo>
                      <a:lnTo>
                        <a:pt x="84" y="203"/>
                      </a:lnTo>
                      <a:lnTo>
                        <a:pt x="70" y="220"/>
                      </a:lnTo>
                      <a:lnTo>
                        <a:pt x="57" y="232"/>
                      </a:lnTo>
                      <a:lnTo>
                        <a:pt x="43" y="245"/>
                      </a:lnTo>
                      <a:lnTo>
                        <a:pt x="30" y="254"/>
                      </a:lnTo>
                      <a:lnTo>
                        <a:pt x="18" y="259"/>
                      </a:lnTo>
                      <a:lnTo>
                        <a:pt x="16" y="261"/>
                      </a:lnTo>
                      <a:lnTo>
                        <a:pt x="16" y="265"/>
                      </a:lnTo>
                      <a:lnTo>
                        <a:pt x="14" y="267"/>
                      </a:lnTo>
                      <a:lnTo>
                        <a:pt x="14" y="268"/>
                      </a:lnTo>
                      <a:lnTo>
                        <a:pt x="12" y="270"/>
                      </a:lnTo>
                      <a:lnTo>
                        <a:pt x="12" y="272"/>
                      </a:lnTo>
                      <a:lnTo>
                        <a:pt x="10" y="274"/>
                      </a:lnTo>
                      <a:lnTo>
                        <a:pt x="8" y="276"/>
                      </a:lnTo>
                      <a:lnTo>
                        <a:pt x="8" y="276"/>
                      </a:lnTo>
                      <a:lnTo>
                        <a:pt x="6" y="277"/>
                      </a:lnTo>
                      <a:lnTo>
                        <a:pt x="4" y="272"/>
                      </a:lnTo>
                      <a:lnTo>
                        <a:pt x="2" y="268"/>
                      </a:lnTo>
                      <a:lnTo>
                        <a:pt x="0" y="265"/>
                      </a:lnTo>
                      <a:lnTo>
                        <a:pt x="0" y="259"/>
                      </a:lnTo>
                      <a:lnTo>
                        <a:pt x="2" y="256"/>
                      </a:lnTo>
                      <a:lnTo>
                        <a:pt x="4" y="252"/>
                      </a:lnTo>
                      <a:lnTo>
                        <a:pt x="6" y="249"/>
                      </a:lnTo>
                      <a:lnTo>
                        <a:pt x="10" y="245"/>
                      </a:lnTo>
                      <a:lnTo>
                        <a:pt x="14" y="241"/>
                      </a:lnTo>
                      <a:lnTo>
                        <a:pt x="18" y="238"/>
                      </a:lnTo>
                      <a:lnTo>
                        <a:pt x="74" y="126"/>
                      </a:lnTo>
                      <a:lnTo>
                        <a:pt x="24" y="0"/>
                      </a:lnTo>
                      <a:lnTo>
                        <a:pt x="41" y="2"/>
                      </a:lnTo>
                      <a:lnTo>
                        <a:pt x="57" y="7"/>
                      </a:lnTo>
                      <a:lnTo>
                        <a:pt x="70" y="16"/>
                      </a:lnTo>
                      <a:lnTo>
                        <a:pt x="82" y="29"/>
                      </a:lnTo>
                      <a:lnTo>
                        <a:pt x="93" y="43"/>
                      </a:lnTo>
                      <a:lnTo>
                        <a:pt x="101" y="59"/>
                      </a:lnTo>
                      <a:lnTo>
                        <a:pt x="111" y="75"/>
                      </a:lnTo>
                      <a:lnTo>
                        <a:pt x="119" y="92"/>
                      </a:lnTo>
                      <a:lnTo>
                        <a:pt x="126" y="108"/>
                      </a:lnTo>
                      <a:lnTo>
                        <a:pt x="134" y="121"/>
                      </a:lnTo>
                      <a:lnTo>
                        <a:pt x="134" y="121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297840" y="71460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21" h="19">
                      <a:moveTo>
                        <a:pt x="0" y="19"/>
                      </a:moveTo>
                      <a:lnTo>
                        <a:pt x="18" y="0"/>
                      </a:lnTo>
                      <a:lnTo>
                        <a:pt x="21" y="5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904720" y="692280"/>
                  <a:ext cx="16920" cy="27000"/>
                </a:xfrm>
                <a:custGeom>
                  <a:avLst/>
                  <a:gdLst/>
                  <a:ahLst/>
                  <a:rect l="l" t="t" r="r" b="b"/>
                  <a:pathLst>
                    <a:path w="25" h="34">
                      <a:moveTo>
                        <a:pt x="0" y="32"/>
                      </a:moveTo>
                      <a:lnTo>
                        <a:pt x="16" y="0"/>
                      </a:lnTo>
                      <a:lnTo>
                        <a:pt x="25" y="1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215320" y="693720"/>
                  <a:ext cx="831600" cy="1758960"/>
                </a:xfrm>
                <a:custGeom>
                  <a:avLst/>
                  <a:gdLst/>
                  <a:ahLst/>
                  <a:rect l="l" t="t" r="r" b="b"/>
                  <a:pathLst>
                    <a:path w="1160" h="2216">
                      <a:moveTo>
                        <a:pt x="1014" y="4"/>
                      </a:moveTo>
                      <a:lnTo>
                        <a:pt x="902" y="134"/>
                      </a:lnTo>
                      <a:lnTo>
                        <a:pt x="906" y="137"/>
                      </a:lnTo>
                      <a:lnTo>
                        <a:pt x="919" y="127"/>
                      </a:lnTo>
                      <a:lnTo>
                        <a:pt x="933" y="114"/>
                      </a:lnTo>
                      <a:lnTo>
                        <a:pt x="947" y="101"/>
                      </a:lnTo>
                      <a:lnTo>
                        <a:pt x="960" y="87"/>
                      </a:lnTo>
                      <a:lnTo>
                        <a:pt x="972" y="74"/>
                      </a:lnTo>
                      <a:lnTo>
                        <a:pt x="983" y="60"/>
                      </a:lnTo>
                      <a:lnTo>
                        <a:pt x="997" y="45"/>
                      </a:lnTo>
                      <a:lnTo>
                        <a:pt x="1009" y="33"/>
                      </a:lnTo>
                      <a:lnTo>
                        <a:pt x="1022" y="18"/>
                      </a:lnTo>
                      <a:lnTo>
                        <a:pt x="1038" y="6"/>
                      </a:lnTo>
                      <a:lnTo>
                        <a:pt x="1034" y="20"/>
                      </a:lnTo>
                      <a:lnTo>
                        <a:pt x="1028" y="35"/>
                      </a:lnTo>
                      <a:lnTo>
                        <a:pt x="1020" y="47"/>
                      </a:lnTo>
                      <a:lnTo>
                        <a:pt x="1012" y="60"/>
                      </a:lnTo>
                      <a:lnTo>
                        <a:pt x="1001" y="71"/>
                      </a:lnTo>
                      <a:lnTo>
                        <a:pt x="991" y="83"/>
                      </a:lnTo>
                      <a:lnTo>
                        <a:pt x="979" y="94"/>
                      </a:lnTo>
                      <a:lnTo>
                        <a:pt x="968" y="107"/>
                      </a:lnTo>
                      <a:lnTo>
                        <a:pt x="958" y="119"/>
                      </a:lnTo>
                      <a:lnTo>
                        <a:pt x="948" y="130"/>
                      </a:lnTo>
                      <a:lnTo>
                        <a:pt x="952" y="136"/>
                      </a:lnTo>
                      <a:lnTo>
                        <a:pt x="964" y="128"/>
                      </a:lnTo>
                      <a:lnTo>
                        <a:pt x="974" y="119"/>
                      </a:lnTo>
                      <a:lnTo>
                        <a:pt x="983" y="109"/>
                      </a:lnTo>
                      <a:lnTo>
                        <a:pt x="993" y="98"/>
                      </a:lnTo>
                      <a:lnTo>
                        <a:pt x="1001" y="87"/>
                      </a:lnTo>
                      <a:lnTo>
                        <a:pt x="1010" y="76"/>
                      </a:lnTo>
                      <a:lnTo>
                        <a:pt x="1018" y="65"/>
                      </a:lnTo>
                      <a:lnTo>
                        <a:pt x="1028" y="54"/>
                      </a:lnTo>
                      <a:lnTo>
                        <a:pt x="1038" y="44"/>
                      </a:lnTo>
                      <a:lnTo>
                        <a:pt x="1049" y="35"/>
                      </a:lnTo>
                      <a:lnTo>
                        <a:pt x="1055" y="38"/>
                      </a:lnTo>
                      <a:lnTo>
                        <a:pt x="1059" y="42"/>
                      </a:lnTo>
                      <a:lnTo>
                        <a:pt x="1061" y="45"/>
                      </a:lnTo>
                      <a:lnTo>
                        <a:pt x="1061" y="49"/>
                      </a:lnTo>
                      <a:lnTo>
                        <a:pt x="1061" y="54"/>
                      </a:lnTo>
                      <a:lnTo>
                        <a:pt x="1059" y="60"/>
                      </a:lnTo>
                      <a:lnTo>
                        <a:pt x="1055" y="65"/>
                      </a:lnTo>
                      <a:lnTo>
                        <a:pt x="1053" y="69"/>
                      </a:lnTo>
                      <a:lnTo>
                        <a:pt x="1049" y="74"/>
                      </a:lnTo>
                      <a:lnTo>
                        <a:pt x="1045" y="78"/>
                      </a:lnTo>
                      <a:lnTo>
                        <a:pt x="1074" y="71"/>
                      </a:lnTo>
                      <a:lnTo>
                        <a:pt x="1078" y="96"/>
                      </a:lnTo>
                      <a:lnTo>
                        <a:pt x="1090" y="123"/>
                      </a:lnTo>
                      <a:lnTo>
                        <a:pt x="1107" y="150"/>
                      </a:lnTo>
                      <a:lnTo>
                        <a:pt x="1127" y="179"/>
                      </a:lnTo>
                      <a:lnTo>
                        <a:pt x="1144" y="204"/>
                      </a:lnTo>
                      <a:lnTo>
                        <a:pt x="1156" y="231"/>
                      </a:lnTo>
                      <a:lnTo>
                        <a:pt x="1160" y="255"/>
                      </a:lnTo>
                      <a:lnTo>
                        <a:pt x="1152" y="276"/>
                      </a:lnTo>
                      <a:lnTo>
                        <a:pt x="1129" y="294"/>
                      </a:lnTo>
                      <a:lnTo>
                        <a:pt x="1088" y="310"/>
                      </a:lnTo>
                      <a:lnTo>
                        <a:pt x="1070" y="296"/>
                      </a:lnTo>
                      <a:lnTo>
                        <a:pt x="1001" y="359"/>
                      </a:lnTo>
                      <a:lnTo>
                        <a:pt x="943" y="426"/>
                      </a:lnTo>
                      <a:lnTo>
                        <a:pt x="892" y="496"/>
                      </a:lnTo>
                      <a:lnTo>
                        <a:pt x="850" y="570"/>
                      </a:lnTo>
                      <a:lnTo>
                        <a:pt x="807" y="646"/>
                      </a:lnTo>
                      <a:lnTo>
                        <a:pt x="768" y="721"/>
                      </a:lnTo>
                      <a:lnTo>
                        <a:pt x="728" y="797"/>
                      </a:lnTo>
                      <a:lnTo>
                        <a:pt x="685" y="871"/>
                      </a:lnTo>
                      <a:lnTo>
                        <a:pt x="637" y="941"/>
                      </a:lnTo>
                      <a:lnTo>
                        <a:pt x="581" y="1010"/>
                      </a:lnTo>
                      <a:lnTo>
                        <a:pt x="569" y="1030"/>
                      </a:lnTo>
                      <a:lnTo>
                        <a:pt x="555" y="1050"/>
                      </a:lnTo>
                      <a:lnTo>
                        <a:pt x="540" y="1068"/>
                      </a:lnTo>
                      <a:lnTo>
                        <a:pt x="524" y="1087"/>
                      </a:lnTo>
                      <a:lnTo>
                        <a:pt x="507" y="1105"/>
                      </a:lnTo>
                      <a:lnTo>
                        <a:pt x="492" y="1125"/>
                      </a:lnTo>
                      <a:lnTo>
                        <a:pt x="476" y="1145"/>
                      </a:lnTo>
                      <a:lnTo>
                        <a:pt x="462" y="1165"/>
                      </a:lnTo>
                      <a:lnTo>
                        <a:pt x="451" y="1187"/>
                      </a:lnTo>
                      <a:lnTo>
                        <a:pt x="443" y="1210"/>
                      </a:lnTo>
                      <a:lnTo>
                        <a:pt x="435" y="1219"/>
                      </a:lnTo>
                      <a:lnTo>
                        <a:pt x="430" y="1230"/>
                      </a:lnTo>
                      <a:lnTo>
                        <a:pt x="424" y="1242"/>
                      </a:lnTo>
                      <a:lnTo>
                        <a:pt x="418" y="1253"/>
                      </a:lnTo>
                      <a:lnTo>
                        <a:pt x="412" y="1264"/>
                      </a:lnTo>
                      <a:lnTo>
                        <a:pt x="408" y="1277"/>
                      </a:lnTo>
                      <a:lnTo>
                        <a:pt x="404" y="1288"/>
                      </a:lnTo>
                      <a:lnTo>
                        <a:pt x="401" y="1300"/>
                      </a:lnTo>
                      <a:lnTo>
                        <a:pt x="399" y="1313"/>
                      </a:lnTo>
                      <a:lnTo>
                        <a:pt x="397" y="1324"/>
                      </a:lnTo>
                      <a:lnTo>
                        <a:pt x="406" y="1318"/>
                      </a:lnTo>
                      <a:lnTo>
                        <a:pt x="414" y="1311"/>
                      </a:lnTo>
                      <a:lnTo>
                        <a:pt x="420" y="1304"/>
                      </a:lnTo>
                      <a:lnTo>
                        <a:pt x="426" y="1295"/>
                      </a:lnTo>
                      <a:lnTo>
                        <a:pt x="430" y="1284"/>
                      </a:lnTo>
                      <a:lnTo>
                        <a:pt x="433" y="1275"/>
                      </a:lnTo>
                      <a:lnTo>
                        <a:pt x="437" y="1264"/>
                      </a:lnTo>
                      <a:lnTo>
                        <a:pt x="441" y="1253"/>
                      </a:lnTo>
                      <a:lnTo>
                        <a:pt x="445" y="1244"/>
                      </a:lnTo>
                      <a:lnTo>
                        <a:pt x="451" y="1235"/>
                      </a:lnTo>
                      <a:lnTo>
                        <a:pt x="466" y="1257"/>
                      </a:lnTo>
                      <a:lnTo>
                        <a:pt x="482" y="1277"/>
                      </a:lnTo>
                      <a:lnTo>
                        <a:pt x="497" y="1298"/>
                      </a:lnTo>
                      <a:lnTo>
                        <a:pt x="515" y="1320"/>
                      </a:lnTo>
                      <a:lnTo>
                        <a:pt x="532" y="1342"/>
                      </a:lnTo>
                      <a:lnTo>
                        <a:pt x="548" y="1363"/>
                      </a:lnTo>
                      <a:lnTo>
                        <a:pt x="563" y="1385"/>
                      </a:lnTo>
                      <a:lnTo>
                        <a:pt x="579" y="1408"/>
                      </a:lnTo>
                      <a:lnTo>
                        <a:pt x="592" y="1430"/>
                      </a:lnTo>
                      <a:lnTo>
                        <a:pt x="602" y="1453"/>
                      </a:lnTo>
                      <a:lnTo>
                        <a:pt x="614" y="1464"/>
                      </a:lnTo>
                      <a:lnTo>
                        <a:pt x="627" y="1473"/>
                      </a:lnTo>
                      <a:lnTo>
                        <a:pt x="641" y="1482"/>
                      </a:lnTo>
                      <a:lnTo>
                        <a:pt x="654" y="1491"/>
                      </a:lnTo>
                      <a:lnTo>
                        <a:pt x="668" y="1500"/>
                      </a:lnTo>
                      <a:lnTo>
                        <a:pt x="679" y="1509"/>
                      </a:lnTo>
                      <a:lnTo>
                        <a:pt x="689" y="1520"/>
                      </a:lnTo>
                      <a:lnTo>
                        <a:pt x="695" y="1534"/>
                      </a:lnTo>
                      <a:lnTo>
                        <a:pt x="695" y="1549"/>
                      </a:lnTo>
                      <a:lnTo>
                        <a:pt x="691" y="1567"/>
                      </a:lnTo>
                      <a:lnTo>
                        <a:pt x="689" y="1572"/>
                      </a:lnTo>
                      <a:lnTo>
                        <a:pt x="687" y="1578"/>
                      </a:lnTo>
                      <a:lnTo>
                        <a:pt x="685" y="1583"/>
                      </a:lnTo>
                      <a:lnTo>
                        <a:pt x="681" y="1590"/>
                      </a:lnTo>
                      <a:lnTo>
                        <a:pt x="679" y="1596"/>
                      </a:lnTo>
                      <a:lnTo>
                        <a:pt x="679" y="1603"/>
                      </a:lnTo>
                      <a:lnTo>
                        <a:pt x="679" y="1608"/>
                      </a:lnTo>
                      <a:lnTo>
                        <a:pt x="681" y="1614"/>
                      </a:lnTo>
                      <a:lnTo>
                        <a:pt x="685" y="1619"/>
                      </a:lnTo>
                      <a:lnTo>
                        <a:pt x="691" y="1625"/>
                      </a:lnTo>
                      <a:lnTo>
                        <a:pt x="691" y="1634"/>
                      </a:lnTo>
                      <a:lnTo>
                        <a:pt x="693" y="1643"/>
                      </a:lnTo>
                      <a:lnTo>
                        <a:pt x="693" y="1652"/>
                      </a:lnTo>
                      <a:lnTo>
                        <a:pt x="693" y="1661"/>
                      </a:lnTo>
                      <a:lnTo>
                        <a:pt x="695" y="1670"/>
                      </a:lnTo>
                      <a:lnTo>
                        <a:pt x="695" y="1679"/>
                      </a:lnTo>
                      <a:lnTo>
                        <a:pt x="697" y="1686"/>
                      </a:lnTo>
                      <a:lnTo>
                        <a:pt x="699" y="1695"/>
                      </a:lnTo>
                      <a:lnTo>
                        <a:pt x="701" y="1704"/>
                      </a:lnTo>
                      <a:lnTo>
                        <a:pt x="705" y="1713"/>
                      </a:lnTo>
                      <a:lnTo>
                        <a:pt x="710" y="1709"/>
                      </a:lnTo>
                      <a:lnTo>
                        <a:pt x="716" y="1704"/>
                      </a:lnTo>
                      <a:lnTo>
                        <a:pt x="718" y="1700"/>
                      </a:lnTo>
                      <a:lnTo>
                        <a:pt x="718" y="1695"/>
                      </a:lnTo>
                      <a:lnTo>
                        <a:pt x="718" y="1688"/>
                      </a:lnTo>
                      <a:lnTo>
                        <a:pt x="716" y="1682"/>
                      </a:lnTo>
                      <a:lnTo>
                        <a:pt x="714" y="1677"/>
                      </a:lnTo>
                      <a:lnTo>
                        <a:pt x="712" y="1671"/>
                      </a:lnTo>
                      <a:lnTo>
                        <a:pt x="712" y="1666"/>
                      </a:lnTo>
                      <a:lnTo>
                        <a:pt x="712" y="1661"/>
                      </a:lnTo>
                      <a:lnTo>
                        <a:pt x="722" y="1661"/>
                      </a:lnTo>
                      <a:lnTo>
                        <a:pt x="722" y="1668"/>
                      </a:lnTo>
                      <a:lnTo>
                        <a:pt x="722" y="1675"/>
                      </a:lnTo>
                      <a:lnTo>
                        <a:pt x="720" y="1682"/>
                      </a:lnTo>
                      <a:lnTo>
                        <a:pt x="720" y="1691"/>
                      </a:lnTo>
                      <a:lnTo>
                        <a:pt x="718" y="1700"/>
                      </a:lnTo>
                      <a:lnTo>
                        <a:pt x="718" y="1708"/>
                      </a:lnTo>
                      <a:lnTo>
                        <a:pt x="720" y="1717"/>
                      </a:lnTo>
                      <a:lnTo>
                        <a:pt x="722" y="1722"/>
                      </a:lnTo>
                      <a:lnTo>
                        <a:pt x="728" y="1727"/>
                      </a:lnTo>
                      <a:lnTo>
                        <a:pt x="736" y="1731"/>
                      </a:lnTo>
                      <a:lnTo>
                        <a:pt x="741" y="1727"/>
                      </a:lnTo>
                      <a:lnTo>
                        <a:pt x="743" y="1724"/>
                      </a:lnTo>
                      <a:lnTo>
                        <a:pt x="745" y="1720"/>
                      </a:lnTo>
                      <a:lnTo>
                        <a:pt x="745" y="1717"/>
                      </a:lnTo>
                      <a:lnTo>
                        <a:pt x="745" y="1713"/>
                      </a:lnTo>
                      <a:lnTo>
                        <a:pt x="743" y="1709"/>
                      </a:lnTo>
                      <a:lnTo>
                        <a:pt x="741" y="1706"/>
                      </a:lnTo>
                      <a:lnTo>
                        <a:pt x="739" y="1700"/>
                      </a:lnTo>
                      <a:lnTo>
                        <a:pt x="739" y="1697"/>
                      </a:lnTo>
                      <a:lnTo>
                        <a:pt x="737" y="1693"/>
                      </a:lnTo>
                      <a:lnTo>
                        <a:pt x="739" y="1681"/>
                      </a:lnTo>
                      <a:lnTo>
                        <a:pt x="741" y="1668"/>
                      </a:lnTo>
                      <a:lnTo>
                        <a:pt x="741" y="1653"/>
                      </a:lnTo>
                      <a:lnTo>
                        <a:pt x="741" y="1641"/>
                      </a:lnTo>
                      <a:lnTo>
                        <a:pt x="739" y="1626"/>
                      </a:lnTo>
                      <a:lnTo>
                        <a:pt x="739" y="1614"/>
                      </a:lnTo>
                      <a:lnTo>
                        <a:pt x="739" y="1599"/>
                      </a:lnTo>
                      <a:lnTo>
                        <a:pt x="739" y="1587"/>
                      </a:lnTo>
                      <a:lnTo>
                        <a:pt x="739" y="1572"/>
                      </a:lnTo>
                      <a:lnTo>
                        <a:pt x="743" y="1558"/>
                      </a:lnTo>
                      <a:lnTo>
                        <a:pt x="761" y="1569"/>
                      </a:lnTo>
                      <a:lnTo>
                        <a:pt x="765" y="1585"/>
                      </a:lnTo>
                      <a:lnTo>
                        <a:pt x="765" y="1601"/>
                      </a:lnTo>
                      <a:lnTo>
                        <a:pt x="763" y="1616"/>
                      </a:lnTo>
                      <a:lnTo>
                        <a:pt x="761" y="1630"/>
                      </a:lnTo>
                      <a:lnTo>
                        <a:pt x="757" y="1646"/>
                      </a:lnTo>
                      <a:lnTo>
                        <a:pt x="755" y="1661"/>
                      </a:lnTo>
                      <a:lnTo>
                        <a:pt x="753" y="1675"/>
                      </a:lnTo>
                      <a:lnTo>
                        <a:pt x="753" y="1690"/>
                      </a:lnTo>
                      <a:lnTo>
                        <a:pt x="755" y="1704"/>
                      </a:lnTo>
                      <a:lnTo>
                        <a:pt x="759" y="1720"/>
                      </a:lnTo>
                      <a:lnTo>
                        <a:pt x="765" y="1708"/>
                      </a:lnTo>
                      <a:lnTo>
                        <a:pt x="768" y="1697"/>
                      </a:lnTo>
                      <a:lnTo>
                        <a:pt x="770" y="1686"/>
                      </a:lnTo>
                      <a:lnTo>
                        <a:pt x="772" y="1673"/>
                      </a:lnTo>
                      <a:lnTo>
                        <a:pt x="772" y="1662"/>
                      </a:lnTo>
                      <a:lnTo>
                        <a:pt x="774" y="1650"/>
                      </a:lnTo>
                      <a:lnTo>
                        <a:pt x="774" y="1637"/>
                      </a:lnTo>
                      <a:lnTo>
                        <a:pt x="774" y="1626"/>
                      </a:lnTo>
                      <a:lnTo>
                        <a:pt x="776" y="1614"/>
                      </a:lnTo>
                      <a:lnTo>
                        <a:pt x="778" y="1599"/>
                      </a:lnTo>
                      <a:lnTo>
                        <a:pt x="782" y="1603"/>
                      </a:lnTo>
                      <a:lnTo>
                        <a:pt x="786" y="1603"/>
                      </a:lnTo>
                      <a:lnTo>
                        <a:pt x="788" y="1603"/>
                      </a:lnTo>
                      <a:lnTo>
                        <a:pt x="792" y="1603"/>
                      </a:lnTo>
                      <a:lnTo>
                        <a:pt x="794" y="1601"/>
                      </a:lnTo>
                      <a:lnTo>
                        <a:pt x="797" y="1599"/>
                      </a:lnTo>
                      <a:lnTo>
                        <a:pt x="799" y="1598"/>
                      </a:lnTo>
                      <a:lnTo>
                        <a:pt x="803" y="1598"/>
                      </a:lnTo>
                      <a:lnTo>
                        <a:pt x="805" y="1599"/>
                      </a:lnTo>
                      <a:lnTo>
                        <a:pt x="809" y="1601"/>
                      </a:lnTo>
                      <a:lnTo>
                        <a:pt x="813" y="1610"/>
                      </a:lnTo>
                      <a:lnTo>
                        <a:pt x="815" y="1621"/>
                      </a:lnTo>
                      <a:lnTo>
                        <a:pt x="817" y="1632"/>
                      </a:lnTo>
                      <a:lnTo>
                        <a:pt x="817" y="1644"/>
                      </a:lnTo>
                      <a:lnTo>
                        <a:pt x="817" y="1655"/>
                      </a:lnTo>
                      <a:lnTo>
                        <a:pt x="817" y="1666"/>
                      </a:lnTo>
                      <a:lnTo>
                        <a:pt x="819" y="1677"/>
                      </a:lnTo>
                      <a:lnTo>
                        <a:pt x="825" y="1684"/>
                      </a:lnTo>
                      <a:lnTo>
                        <a:pt x="832" y="1691"/>
                      </a:lnTo>
                      <a:lnTo>
                        <a:pt x="844" y="1695"/>
                      </a:lnTo>
                      <a:lnTo>
                        <a:pt x="850" y="1706"/>
                      </a:lnTo>
                      <a:lnTo>
                        <a:pt x="852" y="1718"/>
                      </a:lnTo>
                      <a:lnTo>
                        <a:pt x="856" y="1731"/>
                      </a:lnTo>
                      <a:lnTo>
                        <a:pt x="857" y="1744"/>
                      </a:lnTo>
                      <a:lnTo>
                        <a:pt x="859" y="1756"/>
                      </a:lnTo>
                      <a:lnTo>
                        <a:pt x="863" y="1767"/>
                      </a:lnTo>
                      <a:lnTo>
                        <a:pt x="869" y="1778"/>
                      </a:lnTo>
                      <a:lnTo>
                        <a:pt x="879" y="1787"/>
                      </a:lnTo>
                      <a:lnTo>
                        <a:pt x="888" y="1794"/>
                      </a:lnTo>
                      <a:lnTo>
                        <a:pt x="904" y="1798"/>
                      </a:lnTo>
                      <a:lnTo>
                        <a:pt x="919" y="1809"/>
                      </a:lnTo>
                      <a:lnTo>
                        <a:pt x="933" y="1819"/>
                      </a:lnTo>
                      <a:lnTo>
                        <a:pt x="943" y="1832"/>
                      </a:lnTo>
                      <a:lnTo>
                        <a:pt x="952" y="1845"/>
                      </a:lnTo>
                      <a:lnTo>
                        <a:pt x="960" y="1857"/>
                      </a:lnTo>
                      <a:lnTo>
                        <a:pt x="968" y="1872"/>
                      </a:lnTo>
                      <a:lnTo>
                        <a:pt x="974" y="1886"/>
                      </a:lnTo>
                      <a:lnTo>
                        <a:pt x="981" y="1900"/>
                      </a:lnTo>
                      <a:lnTo>
                        <a:pt x="989" y="1913"/>
                      </a:lnTo>
                      <a:lnTo>
                        <a:pt x="1001" y="1927"/>
                      </a:lnTo>
                      <a:lnTo>
                        <a:pt x="985" y="1868"/>
                      </a:lnTo>
                      <a:lnTo>
                        <a:pt x="989" y="1879"/>
                      </a:lnTo>
                      <a:lnTo>
                        <a:pt x="993" y="1888"/>
                      </a:lnTo>
                      <a:lnTo>
                        <a:pt x="995" y="1899"/>
                      </a:lnTo>
                      <a:lnTo>
                        <a:pt x="999" y="1908"/>
                      </a:lnTo>
                      <a:lnTo>
                        <a:pt x="1003" y="1918"/>
                      </a:lnTo>
                      <a:lnTo>
                        <a:pt x="1007" y="1927"/>
                      </a:lnTo>
                      <a:lnTo>
                        <a:pt x="1010" y="1938"/>
                      </a:lnTo>
                      <a:lnTo>
                        <a:pt x="1014" y="1947"/>
                      </a:lnTo>
                      <a:lnTo>
                        <a:pt x="1018" y="1956"/>
                      </a:lnTo>
                      <a:lnTo>
                        <a:pt x="1024" y="1967"/>
                      </a:lnTo>
                      <a:lnTo>
                        <a:pt x="1036" y="1933"/>
                      </a:lnTo>
                      <a:lnTo>
                        <a:pt x="1038" y="1938"/>
                      </a:lnTo>
                      <a:lnTo>
                        <a:pt x="1039" y="1944"/>
                      </a:lnTo>
                      <a:lnTo>
                        <a:pt x="1043" y="1947"/>
                      </a:lnTo>
                      <a:lnTo>
                        <a:pt x="1045" y="1953"/>
                      </a:lnTo>
                      <a:lnTo>
                        <a:pt x="1047" y="1958"/>
                      </a:lnTo>
                      <a:lnTo>
                        <a:pt x="1049" y="1964"/>
                      </a:lnTo>
                      <a:lnTo>
                        <a:pt x="1051" y="1969"/>
                      </a:lnTo>
                      <a:lnTo>
                        <a:pt x="1053" y="1973"/>
                      </a:lnTo>
                      <a:lnTo>
                        <a:pt x="1053" y="1976"/>
                      </a:lnTo>
                      <a:lnTo>
                        <a:pt x="1053" y="1982"/>
                      </a:lnTo>
                      <a:lnTo>
                        <a:pt x="1057" y="1978"/>
                      </a:lnTo>
                      <a:lnTo>
                        <a:pt x="1063" y="1983"/>
                      </a:lnTo>
                      <a:lnTo>
                        <a:pt x="1067" y="1989"/>
                      </a:lnTo>
                      <a:lnTo>
                        <a:pt x="1067" y="1996"/>
                      </a:lnTo>
                      <a:lnTo>
                        <a:pt x="1065" y="2001"/>
                      </a:lnTo>
                      <a:lnTo>
                        <a:pt x="1063" y="2007"/>
                      </a:lnTo>
                      <a:lnTo>
                        <a:pt x="1061" y="2012"/>
                      </a:lnTo>
                      <a:lnTo>
                        <a:pt x="1059" y="2018"/>
                      </a:lnTo>
                      <a:lnTo>
                        <a:pt x="1057" y="2023"/>
                      </a:lnTo>
                      <a:lnTo>
                        <a:pt x="1061" y="2028"/>
                      </a:lnTo>
                      <a:lnTo>
                        <a:pt x="1067" y="2034"/>
                      </a:lnTo>
                      <a:lnTo>
                        <a:pt x="1028" y="2093"/>
                      </a:lnTo>
                      <a:lnTo>
                        <a:pt x="1028" y="2086"/>
                      </a:lnTo>
                      <a:lnTo>
                        <a:pt x="1024" y="2079"/>
                      </a:lnTo>
                      <a:lnTo>
                        <a:pt x="1020" y="2072"/>
                      </a:lnTo>
                      <a:lnTo>
                        <a:pt x="1016" y="2064"/>
                      </a:lnTo>
                      <a:lnTo>
                        <a:pt x="1012" y="2057"/>
                      </a:lnTo>
                      <a:lnTo>
                        <a:pt x="1010" y="2050"/>
                      </a:lnTo>
                      <a:lnTo>
                        <a:pt x="1009" y="2043"/>
                      </a:lnTo>
                      <a:lnTo>
                        <a:pt x="1010" y="2036"/>
                      </a:lnTo>
                      <a:lnTo>
                        <a:pt x="1012" y="2028"/>
                      </a:lnTo>
                      <a:lnTo>
                        <a:pt x="1020" y="2021"/>
                      </a:lnTo>
                      <a:lnTo>
                        <a:pt x="1012" y="2025"/>
                      </a:lnTo>
                      <a:lnTo>
                        <a:pt x="1007" y="2023"/>
                      </a:lnTo>
                      <a:lnTo>
                        <a:pt x="1003" y="2018"/>
                      </a:lnTo>
                      <a:lnTo>
                        <a:pt x="999" y="2010"/>
                      </a:lnTo>
                      <a:lnTo>
                        <a:pt x="997" y="2003"/>
                      </a:lnTo>
                      <a:lnTo>
                        <a:pt x="993" y="1994"/>
                      </a:lnTo>
                      <a:lnTo>
                        <a:pt x="991" y="1983"/>
                      </a:lnTo>
                      <a:lnTo>
                        <a:pt x="987" y="1974"/>
                      </a:lnTo>
                      <a:lnTo>
                        <a:pt x="983" y="1967"/>
                      </a:lnTo>
                      <a:lnTo>
                        <a:pt x="978" y="1960"/>
                      </a:lnTo>
                      <a:lnTo>
                        <a:pt x="925" y="1873"/>
                      </a:lnTo>
                      <a:lnTo>
                        <a:pt x="921" y="1877"/>
                      </a:lnTo>
                      <a:lnTo>
                        <a:pt x="919" y="1882"/>
                      </a:lnTo>
                      <a:lnTo>
                        <a:pt x="921" y="1888"/>
                      </a:lnTo>
                      <a:lnTo>
                        <a:pt x="923" y="1893"/>
                      </a:lnTo>
                      <a:lnTo>
                        <a:pt x="927" y="1899"/>
                      </a:lnTo>
                      <a:lnTo>
                        <a:pt x="929" y="1904"/>
                      </a:lnTo>
                      <a:lnTo>
                        <a:pt x="933" y="1909"/>
                      </a:lnTo>
                      <a:lnTo>
                        <a:pt x="933" y="1915"/>
                      </a:lnTo>
                      <a:lnTo>
                        <a:pt x="933" y="1920"/>
                      </a:lnTo>
                      <a:lnTo>
                        <a:pt x="931" y="1926"/>
                      </a:lnTo>
                      <a:lnTo>
                        <a:pt x="933" y="1935"/>
                      </a:lnTo>
                      <a:lnTo>
                        <a:pt x="937" y="1944"/>
                      </a:lnTo>
                      <a:lnTo>
                        <a:pt x="943" y="1953"/>
                      </a:lnTo>
                      <a:lnTo>
                        <a:pt x="947" y="1962"/>
                      </a:lnTo>
                      <a:lnTo>
                        <a:pt x="952" y="1971"/>
                      </a:lnTo>
                      <a:lnTo>
                        <a:pt x="958" y="1982"/>
                      </a:lnTo>
                      <a:lnTo>
                        <a:pt x="964" y="1991"/>
                      </a:lnTo>
                      <a:lnTo>
                        <a:pt x="970" y="2000"/>
                      </a:lnTo>
                      <a:lnTo>
                        <a:pt x="976" y="2010"/>
                      </a:lnTo>
                      <a:lnTo>
                        <a:pt x="979" y="2019"/>
                      </a:lnTo>
                      <a:lnTo>
                        <a:pt x="983" y="2028"/>
                      </a:lnTo>
                      <a:lnTo>
                        <a:pt x="987" y="2039"/>
                      </a:lnTo>
                      <a:lnTo>
                        <a:pt x="991" y="2050"/>
                      </a:lnTo>
                      <a:lnTo>
                        <a:pt x="995" y="2059"/>
                      </a:lnTo>
                      <a:lnTo>
                        <a:pt x="999" y="2070"/>
                      </a:lnTo>
                      <a:lnTo>
                        <a:pt x="1001" y="2081"/>
                      </a:lnTo>
                      <a:lnTo>
                        <a:pt x="1003" y="2090"/>
                      </a:lnTo>
                      <a:lnTo>
                        <a:pt x="1003" y="2099"/>
                      </a:lnTo>
                      <a:lnTo>
                        <a:pt x="1003" y="2108"/>
                      </a:lnTo>
                      <a:lnTo>
                        <a:pt x="999" y="2117"/>
                      </a:lnTo>
                      <a:lnTo>
                        <a:pt x="985" y="2128"/>
                      </a:lnTo>
                      <a:lnTo>
                        <a:pt x="976" y="2115"/>
                      </a:lnTo>
                      <a:lnTo>
                        <a:pt x="964" y="2149"/>
                      </a:lnTo>
                      <a:lnTo>
                        <a:pt x="954" y="2129"/>
                      </a:lnTo>
                      <a:lnTo>
                        <a:pt x="947" y="2108"/>
                      </a:lnTo>
                      <a:lnTo>
                        <a:pt x="939" y="2088"/>
                      </a:lnTo>
                      <a:lnTo>
                        <a:pt x="931" y="2068"/>
                      </a:lnTo>
                      <a:lnTo>
                        <a:pt x="925" y="2046"/>
                      </a:lnTo>
                      <a:lnTo>
                        <a:pt x="918" y="2027"/>
                      </a:lnTo>
                      <a:lnTo>
                        <a:pt x="912" y="2005"/>
                      </a:lnTo>
                      <a:lnTo>
                        <a:pt x="904" y="1985"/>
                      </a:lnTo>
                      <a:lnTo>
                        <a:pt x="896" y="1965"/>
                      </a:lnTo>
                      <a:lnTo>
                        <a:pt x="887" y="1946"/>
                      </a:lnTo>
                      <a:lnTo>
                        <a:pt x="881" y="1949"/>
                      </a:lnTo>
                      <a:lnTo>
                        <a:pt x="877" y="1953"/>
                      </a:lnTo>
                      <a:lnTo>
                        <a:pt x="875" y="1956"/>
                      </a:lnTo>
                      <a:lnTo>
                        <a:pt x="875" y="1960"/>
                      </a:lnTo>
                      <a:lnTo>
                        <a:pt x="877" y="1965"/>
                      </a:lnTo>
                      <a:lnTo>
                        <a:pt x="879" y="1969"/>
                      </a:lnTo>
                      <a:lnTo>
                        <a:pt x="881" y="1974"/>
                      </a:lnTo>
                      <a:lnTo>
                        <a:pt x="881" y="1980"/>
                      </a:lnTo>
                      <a:lnTo>
                        <a:pt x="883" y="1983"/>
                      </a:lnTo>
                      <a:lnTo>
                        <a:pt x="883" y="1987"/>
                      </a:lnTo>
                      <a:lnTo>
                        <a:pt x="892" y="2005"/>
                      </a:lnTo>
                      <a:lnTo>
                        <a:pt x="900" y="2021"/>
                      </a:lnTo>
                      <a:lnTo>
                        <a:pt x="910" y="2039"/>
                      </a:lnTo>
                      <a:lnTo>
                        <a:pt x="918" y="2057"/>
                      </a:lnTo>
                      <a:lnTo>
                        <a:pt x="923" y="2077"/>
                      </a:lnTo>
                      <a:lnTo>
                        <a:pt x="931" y="2095"/>
                      </a:lnTo>
                      <a:lnTo>
                        <a:pt x="937" y="2113"/>
                      </a:lnTo>
                      <a:lnTo>
                        <a:pt x="941" y="2133"/>
                      </a:lnTo>
                      <a:lnTo>
                        <a:pt x="947" y="2151"/>
                      </a:lnTo>
                      <a:lnTo>
                        <a:pt x="948" y="2169"/>
                      </a:lnTo>
                      <a:lnTo>
                        <a:pt x="939" y="2178"/>
                      </a:lnTo>
                      <a:lnTo>
                        <a:pt x="929" y="2156"/>
                      </a:lnTo>
                      <a:lnTo>
                        <a:pt x="919" y="2135"/>
                      </a:lnTo>
                      <a:lnTo>
                        <a:pt x="910" y="2111"/>
                      </a:lnTo>
                      <a:lnTo>
                        <a:pt x="902" y="2090"/>
                      </a:lnTo>
                      <a:lnTo>
                        <a:pt x="892" y="2068"/>
                      </a:lnTo>
                      <a:lnTo>
                        <a:pt x="883" y="2046"/>
                      </a:lnTo>
                      <a:lnTo>
                        <a:pt x="873" y="2025"/>
                      </a:lnTo>
                      <a:lnTo>
                        <a:pt x="865" y="2003"/>
                      </a:lnTo>
                      <a:lnTo>
                        <a:pt x="856" y="1982"/>
                      </a:lnTo>
                      <a:lnTo>
                        <a:pt x="844" y="1960"/>
                      </a:lnTo>
                      <a:lnTo>
                        <a:pt x="850" y="1983"/>
                      </a:lnTo>
                      <a:lnTo>
                        <a:pt x="856" y="2005"/>
                      </a:lnTo>
                      <a:lnTo>
                        <a:pt x="863" y="2028"/>
                      </a:lnTo>
                      <a:lnTo>
                        <a:pt x="873" y="2050"/>
                      </a:lnTo>
                      <a:lnTo>
                        <a:pt x="883" y="2073"/>
                      </a:lnTo>
                      <a:lnTo>
                        <a:pt x="892" y="2097"/>
                      </a:lnTo>
                      <a:lnTo>
                        <a:pt x="902" y="2120"/>
                      </a:lnTo>
                      <a:lnTo>
                        <a:pt x="912" y="2144"/>
                      </a:lnTo>
                      <a:lnTo>
                        <a:pt x="919" y="2167"/>
                      </a:lnTo>
                      <a:lnTo>
                        <a:pt x="927" y="2189"/>
                      </a:lnTo>
                      <a:lnTo>
                        <a:pt x="921" y="2216"/>
                      </a:lnTo>
                      <a:lnTo>
                        <a:pt x="908" y="2205"/>
                      </a:lnTo>
                      <a:lnTo>
                        <a:pt x="894" y="2191"/>
                      </a:lnTo>
                      <a:lnTo>
                        <a:pt x="885" y="2176"/>
                      </a:lnTo>
                      <a:lnTo>
                        <a:pt x="875" y="2162"/>
                      </a:lnTo>
                      <a:lnTo>
                        <a:pt x="867" y="2146"/>
                      </a:lnTo>
                      <a:lnTo>
                        <a:pt x="859" y="2131"/>
                      </a:lnTo>
                      <a:lnTo>
                        <a:pt x="852" y="2115"/>
                      </a:lnTo>
                      <a:lnTo>
                        <a:pt x="846" y="2101"/>
                      </a:lnTo>
                      <a:lnTo>
                        <a:pt x="838" y="2084"/>
                      </a:lnTo>
                      <a:lnTo>
                        <a:pt x="830" y="2072"/>
                      </a:lnTo>
                      <a:lnTo>
                        <a:pt x="848" y="2146"/>
                      </a:lnTo>
                      <a:lnTo>
                        <a:pt x="840" y="2129"/>
                      </a:lnTo>
                      <a:lnTo>
                        <a:pt x="832" y="2111"/>
                      </a:lnTo>
                      <a:lnTo>
                        <a:pt x="825" y="2093"/>
                      </a:lnTo>
                      <a:lnTo>
                        <a:pt x="819" y="2075"/>
                      </a:lnTo>
                      <a:lnTo>
                        <a:pt x="811" y="2057"/>
                      </a:lnTo>
                      <a:lnTo>
                        <a:pt x="805" y="2039"/>
                      </a:lnTo>
                      <a:lnTo>
                        <a:pt x="799" y="2021"/>
                      </a:lnTo>
                      <a:lnTo>
                        <a:pt x="792" y="2005"/>
                      </a:lnTo>
                      <a:lnTo>
                        <a:pt x="784" y="1987"/>
                      </a:lnTo>
                      <a:lnTo>
                        <a:pt x="778" y="1969"/>
                      </a:lnTo>
                      <a:lnTo>
                        <a:pt x="778" y="1987"/>
                      </a:lnTo>
                      <a:lnTo>
                        <a:pt x="780" y="2007"/>
                      </a:lnTo>
                      <a:lnTo>
                        <a:pt x="784" y="2027"/>
                      </a:lnTo>
                      <a:lnTo>
                        <a:pt x="790" y="2045"/>
                      </a:lnTo>
                      <a:lnTo>
                        <a:pt x="797" y="2064"/>
                      </a:lnTo>
                      <a:lnTo>
                        <a:pt x="805" y="2083"/>
                      </a:lnTo>
                      <a:lnTo>
                        <a:pt x="813" y="2102"/>
                      </a:lnTo>
                      <a:lnTo>
                        <a:pt x="821" y="2120"/>
                      </a:lnTo>
                      <a:lnTo>
                        <a:pt x="827" y="2140"/>
                      </a:lnTo>
                      <a:lnTo>
                        <a:pt x="832" y="2158"/>
                      </a:lnTo>
                      <a:lnTo>
                        <a:pt x="828" y="2156"/>
                      </a:lnTo>
                      <a:lnTo>
                        <a:pt x="823" y="2155"/>
                      </a:lnTo>
                      <a:lnTo>
                        <a:pt x="817" y="2151"/>
                      </a:lnTo>
                      <a:lnTo>
                        <a:pt x="813" y="2146"/>
                      </a:lnTo>
                      <a:lnTo>
                        <a:pt x="807" y="2142"/>
                      </a:lnTo>
                      <a:lnTo>
                        <a:pt x="803" y="2137"/>
                      </a:lnTo>
                      <a:lnTo>
                        <a:pt x="799" y="2129"/>
                      </a:lnTo>
                      <a:lnTo>
                        <a:pt x="794" y="2124"/>
                      </a:lnTo>
                      <a:lnTo>
                        <a:pt x="790" y="2119"/>
                      </a:lnTo>
                      <a:lnTo>
                        <a:pt x="786" y="2111"/>
                      </a:lnTo>
                      <a:lnTo>
                        <a:pt x="790" y="2110"/>
                      </a:lnTo>
                      <a:lnTo>
                        <a:pt x="790" y="2108"/>
                      </a:lnTo>
                      <a:lnTo>
                        <a:pt x="792" y="2106"/>
                      </a:lnTo>
                      <a:lnTo>
                        <a:pt x="790" y="2104"/>
                      </a:lnTo>
                      <a:lnTo>
                        <a:pt x="790" y="2101"/>
                      </a:lnTo>
                      <a:lnTo>
                        <a:pt x="788" y="2099"/>
                      </a:lnTo>
                      <a:lnTo>
                        <a:pt x="786" y="2097"/>
                      </a:lnTo>
                      <a:lnTo>
                        <a:pt x="784" y="2093"/>
                      </a:lnTo>
                      <a:lnTo>
                        <a:pt x="782" y="2092"/>
                      </a:lnTo>
                      <a:lnTo>
                        <a:pt x="782" y="2090"/>
                      </a:lnTo>
                      <a:lnTo>
                        <a:pt x="780" y="2090"/>
                      </a:lnTo>
                      <a:lnTo>
                        <a:pt x="780" y="2092"/>
                      </a:lnTo>
                      <a:lnTo>
                        <a:pt x="778" y="2092"/>
                      </a:lnTo>
                      <a:lnTo>
                        <a:pt x="778" y="2093"/>
                      </a:lnTo>
                      <a:lnTo>
                        <a:pt x="778" y="2095"/>
                      </a:lnTo>
                      <a:lnTo>
                        <a:pt x="778" y="2097"/>
                      </a:lnTo>
                      <a:lnTo>
                        <a:pt x="778" y="2099"/>
                      </a:lnTo>
                      <a:lnTo>
                        <a:pt x="778" y="2099"/>
                      </a:lnTo>
                      <a:lnTo>
                        <a:pt x="778" y="2101"/>
                      </a:lnTo>
                      <a:lnTo>
                        <a:pt x="778" y="2102"/>
                      </a:lnTo>
                      <a:lnTo>
                        <a:pt x="772" y="2083"/>
                      </a:lnTo>
                      <a:lnTo>
                        <a:pt x="765" y="2064"/>
                      </a:lnTo>
                      <a:lnTo>
                        <a:pt x="755" y="2045"/>
                      </a:lnTo>
                      <a:lnTo>
                        <a:pt x="747" y="2027"/>
                      </a:lnTo>
                      <a:lnTo>
                        <a:pt x="739" y="2007"/>
                      </a:lnTo>
                      <a:lnTo>
                        <a:pt x="734" y="1989"/>
                      </a:lnTo>
                      <a:lnTo>
                        <a:pt x="730" y="1969"/>
                      </a:lnTo>
                      <a:lnTo>
                        <a:pt x="732" y="1951"/>
                      </a:lnTo>
                      <a:lnTo>
                        <a:pt x="737" y="1933"/>
                      </a:lnTo>
                      <a:lnTo>
                        <a:pt x="749" y="1915"/>
                      </a:lnTo>
                      <a:lnTo>
                        <a:pt x="739" y="1904"/>
                      </a:lnTo>
                      <a:lnTo>
                        <a:pt x="720" y="1931"/>
                      </a:lnTo>
                      <a:lnTo>
                        <a:pt x="716" y="1927"/>
                      </a:lnTo>
                      <a:lnTo>
                        <a:pt x="714" y="1922"/>
                      </a:lnTo>
                      <a:lnTo>
                        <a:pt x="712" y="1917"/>
                      </a:lnTo>
                      <a:lnTo>
                        <a:pt x="710" y="1909"/>
                      </a:lnTo>
                      <a:lnTo>
                        <a:pt x="708" y="1902"/>
                      </a:lnTo>
                      <a:lnTo>
                        <a:pt x="706" y="1895"/>
                      </a:lnTo>
                      <a:lnTo>
                        <a:pt x="703" y="1888"/>
                      </a:lnTo>
                      <a:lnTo>
                        <a:pt x="699" y="1881"/>
                      </a:lnTo>
                      <a:lnTo>
                        <a:pt x="695" y="1875"/>
                      </a:lnTo>
                      <a:lnTo>
                        <a:pt x="687" y="1870"/>
                      </a:lnTo>
                      <a:lnTo>
                        <a:pt x="687" y="1877"/>
                      </a:lnTo>
                      <a:lnTo>
                        <a:pt x="687" y="1882"/>
                      </a:lnTo>
                      <a:lnTo>
                        <a:pt x="689" y="1890"/>
                      </a:lnTo>
                      <a:lnTo>
                        <a:pt x="691" y="1895"/>
                      </a:lnTo>
                      <a:lnTo>
                        <a:pt x="693" y="1902"/>
                      </a:lnTo>
                      <a:lnTo>
                        <a:pt x="697" y="1909"/>
                      </a:lnTo>
                      <a:lnTo>
                        <a:pt x="697" y="1915"/>
                      </a:lnTo>
                      <a:lnTo>
                        <a:pt x="697" y="1922"/>
                      </a:lnTo>
                      <a:lnTo>
                        <a:pt x="695" y="1929"/>
                      </a:lnTo>
                      <a:lnTo>
                        <a:pt x="691" y="1936"/>
                      </a:lnTo>
                      <a:lnTo>
                        <a:pt x="689" y="1931"/>
                      </a:lnTo>
                      <a:lnTo>
                        <a:pt x="687" y="1927"/>
                      </a:lnTo>
                      <a:lnTo>
                        <a:pt x="687" y="1922"/>
                      </a:lnTo>
                      <a:lnTo>
                        <a:pt x="685" y="1918"/>
                      </a:lnTo>
                      <a:lnTo>
                        <a:pt x="683" y="1913"/>
                      </a:lnTo>
                      <a:lnTo>
                        <a:pt x="681" y="1909"/>
                      </a:lnTo>
                      <a:lnTo>
                        <a:pt x="679" y="1904"/>
                      </a:lnTo>
                      <a:lnTo>
                        <a:pt x="677" y="1900"/>
                      </a:lnTo>
                      <a:lnTo>
                        <a:pt x="674" y="1895"/>
                      </a:lnTo>
                      <a:lnTo>
                        <a:pt x="672" y="1891"/>
                      </a:lnTo>
                      <a:lnTo>
                        <a:pt x="668" y="1899"/>
                      </a:lnTo>
                      <a:lnTo>
                        <a:pt x="668" y="1908"/>
                      </a:lnTo>
                      <a:lnTo>
                        <a:pt x="670" y="1915"/>
                      </a:lnTo>
                      <a:lnTo>
                        <a:pt x="672" y="1924"/>
                      </a:lnTo>
                      <a:lnTo>
                        <a:pt x="674" y="1931"/>
                      </a:lnTo>
                      <a:lnTo>
                        <a:pt x="675" y="1940"/>
                      </a:lnTo>
                      <a:lnTo>
                        <a:pt x="679" y="1947"/>
                      </a:lnTo>
                      <a:lnTo>
                        <a:pt x="681" y="1956"/>
                      </a:lnTo>
                      <a:lnTo>
                        <a:pt x="681" y="1964"/>
                      </a:lnTo>
                      <a:lnTo>
                        <a:pt x="681" y="1971"/>
                      </a:lnTo>
                      <a:lnTo>
                        <a:pt x="656" y="1911"/>
                      </a:lnTo>
                      <a:lnTo>
                        <a:pt x="654" y="1938"/>
                      </a:lnTo>
                      <a:lnTo>
                        <a:pt x="650" y="1933"/>
                      </a:lnTo>
                      <a:lnTo>
                        <a:pt x="648" y="1935"/>
                      </a:lnTo>
                      <a:lnTo>
                        <a:pt x="646" y="1938"/>
                      </a:lnTo>
                      <a:lnTo>
                        <a:pt x="645" y="1940"/>
                      </a:lnTo>
                      <a:lnTo>
                        <a:pt x="643" y="1942"/>
                      </a:lnTo>
                      <a:lnTo>
                        <a:pt x="643" y="1944"/>
                      </a:lnTo>
                      <a:lnTo>
                        <a:pt x="641" y="1946"/>
                      </a:lnTo>
                      <a:lnTo>
                        <a:pt x="639" y="1947"/>
                      </a:lnTo>
                      <a:lnTo>
                        <a:pt x="639" y="1949"/>
                      </a:lnTo>
                      <a:lnTo>
                        <a:pt x="639" y="1951"/>
                      </a:lnTo>
                      <a:lnTo>
                        <a:pt x="639" y="1955"/>
                      </a:lnTo>
                      <a:lnTo>
                        <a:pt x="627" y="1933"/>
                      </a:lnTo>
                      <a:lnTo>
                        <a:pt x="617" y="1913"/>
                      </a:lnTo>
                      <a:lnTo>
                        <a:pt x="608" y="1891"/>
                      </a:lnTo>
                      <a:lnTo>
                        <a:pt x="598" y="1870"/>
                      </a:lnTo>
                      <a:lnTo>
                        <a:pt x="590" y="1848"/>
                      </a:lnTo>
                      <a:lnTo>
                        <a:pt x="581" y="1827"/>
                      </a:lnTo>
                      <a:lnTo>
                        <a:pt x="573" y="1805"/>
                      </a:lnTo>
                      <a:lnTo>
                        <a:pt x="563" y="1785"/>
                      </a:lnTo>
                      <a:lnTo>
                        <a:pt x="553" y="1765"/>
                      </a:lnTo>
                      <a:lnTo>
                        <a:pt x="542" y="1745"/>
                      </a:lnTo>
                      <a:lnTo>
                        <a:pt x="548" y="1769"/>
                      </a:lnTo>
                      <a:lnTo>
                        <a:pt x="553" y="1792"/>
                      </a:lnTo>
                      <a:lnTo>
                        <a:pt x="561" y="1816"/>
                      </a:lnTo>
                      <a:lnTo>
                        <a:pt x="571" y="1841"/>
                      </a:lnTo>
                      <a:lnTo>
                        <a:pt x="581" y="1864"/>
                      </a:lnTo>
                      <a:lnTo>
                        <a:pt x="590" y="1888"/>
                      </a:lnTo>
                      <a:lnTo>
                        <a:pt x="600" y="1911"/>
                      </a:lnTo>
                      <a:lnTo>
                        <a:pt x="610" y="1936"/>
                      </a:lnTo>
                      <a:lnTo>
                        <a:pt x="619" y="1960"/>
                      </a:lnTo>
                      <a:lnTo>
                        <a:pt x="627" y="1983"/>
                      </a:lnTo>
                      <a:lnTo>
                        <a:pt x="614" y="1969"/>
                      </a:lnTo>
                      <a:lnTo>
                        <a:pt x="598" y="1951"/>
                      </a:lnTo>
                      <a:lnTo>
                        <a:pt x="584" y="1935"/>
                      </a:lnTo>
                      <a:lnTo>
                        <a:pt x="571" y="1917"/>
                      </a:lnTo>
                      <a:lnTo>
                        <a:pt x="557" y="1899"/>
                      </a:lnTo>
                      <a:lnTo>
                        <a:pt x="544" y="1879"/>
                      </a:lnTo>
                      <a:lnTo>
                        <a:pt x="530" y="1861"/>
                      </a:lnTo>
                      <a:lnTo>
                        <a:pt x="517" y="1843"/>
                      </a:lnTo>
                      <a:lnTo>
                        <a:pt x="501" y="1825"/>
                      </a:lnTo>
                      <a:lnTo>
                        <a:pt x="488" y="1807"/>
                      </a:lnTo>
                      <a:lnTo>
                        <a:pt x="486" y="1810"/>
                      </a:lnTo>
                      <a:lnTo>
                        <a:pt x="486" y="1816"/>
                      </a:lnTo>
                      <a:lnTo>
                        <a:pt x="488" y="1819"/>
                      </a:lnTo>
                      <a:lnTo>
                        <a:pt x="490" y="1825"/>
                      </a:lnTo>
                      <a:lnTo>
                        <a:pt x="493" y="1828"/>
                      </a:lnTo>
                      <a:lnTo>
                        <a:pt x="497" y="1834"/>
                      </a:lnTo>
                      <a:lnTo>
                        <a:pt x="499" y="1839"/>
                      </a:lnTo>
                      <a:lnTo>
                        <a:pt x="503" y="1845"/>
                      </a:lnTo>
                      <a:lnTo>
                        <a:pt x="505" y="1850"/>
                      </a:lnTo>
                      <a:lnTo>
                        <a:pt x="507" y="1855"/>
                      </a:lnTo>
                      <a:lnTo>
                        <a:pt x="495" y="1839"/>
                      </a:lnTo>
                      <a:lnTo>
                        <a:pt x="482" y="1823"/>
                      </a:lnTo>
                      <a:lnTo>
                        <a:pt x="468" y="1803"/>
                      </a:lnTo>
                      <a:lnTo>
                        <a:pt x="455" y="1783"/>
                      </a:lnTo>
                      <a:lnTo>
                        <a:pt x="443" y="1762"/>
                      </a:lnTo>
                      <a:lnTo>
                        <a:pt x="430" y="1740"/>
                      </a:lnTo>
                      <a:lnTo>
                        <a:pt x="416" y="1718"/>
                      </a:lnTo>
                      <a:lnTo>
                        <a:pt x="404" y="1695"/>
                      </a:lnTo>
                      <a:lnTo>
                        <a:pt x="393" y="1673"/>
                      </a:lnTo>
                      <a:lnTo>
                        <a:pt x="383" y="1652"/>
                      </a:lnTo>
                      <a:lnTo>
                        <a:pt x="385" y="1664"/>
                      </a:lnTo>
                      <a:lnTo>
                        <a:pt x="389" y="1679"/>
                      </a:lnTo>
                      <a:lnTo>
                        <a:pt x="393" y="1691"/>
                      </a:lnTo>
                      <a:lnTo>
                        <a:pt x="397" y="1706"/>
                      </a:lnTo>
                      <a:lnTo>
                        <a:pt x="402" y="1720"/>
                      </a:lnTo>
                      <a:lnTo>
                        <a:pt x="410" y="1733"/>
                      </a:lnTo>
                      <a:lnTo>
                        <a:pt x="418" y="1747"/>
                      </a:lnTo>
                      <a:lnTo>
                        <a:pt x="426" y="1760"/>
                      </a:lnTo>
                      <a:lnTo>
                        <a:pt x="433" y="1772"/>
                      </a:lnTo>
                      <a:lnTo>
                        <a:pt x="441" y="1785"/>
                      </a:lnTo>
                      <a:lnTo>
                        <a:pt x="381" y="1713"/>
                      </a:lnTo>
                      <a:lnTo>
                        <a:pt x="377" y="1717"/>
                      </a:lnTo>
                      <a:lnTo>
                        <a:pt x="366" y="1699"/>
                      </a:lnTo>
                      <a:lnTo>
                        <a:pt x="354" y="1679"/>
                      </a:lnTo>
                      <a:lnTo>
                        <a:pt x="341" y="1661"/>
                      </a:lnTo>
                      <a:lnTo>
                        <a:pt x="327" y="1641"/>
                      </a:lnTo>
                      <a:lnTo>
                        <a:pt x="313" y="1619"/>
                      </a:lnTo>
                      <a:lnTo>
                        <a:pt x="300" y="1599"/>
                      </a:lnTo>
                      <a:lnTo>
                        <a:pt x="286" y="1578"/>
                      </a:lnTo>
                      <a:lnTo>
                        <a:pt x="273" y="1556"/>
                      </a:lnTo>
                      <a:lnTo>
                        <a:pt x="259" y="1534"/>
                      </a:lnTo>
                      <a:lnTo>
                        <a:pt x="250" y="1513"/>
                      </a:lnTo>
                      <a:lnTo>
                        <a:pt x="244" y="1516"/>
                      </a:lnTo>
                      <a:lnTo>
                        <a:pt x="244" y="1506"/>
                      </a:lnTo>
                      <a:lnTo>
                        <a:pt x="242" y="1497"/>
                      </a:lnTo>
                      <a:lnTo>
                        <a:pt x="238" y="1489"/>
                      </a:lnTo>
                      <a:lnTo>
                        <a:pt x="232" y="1482"/>
                      </a:lnTo>
                      <a:lnTo>
                        <a:pt x="226" y="1475"/>
                      </a:lnTo>
                      <a:lnTo>
                        <a:pt x="219" y="1468"/>
                      </a:lnTo>
                      <a:lnTo>
                        <a:pt x="213" y="1461"/>
                      </a:lnTo>
                      <a:lnTo>
                        <a:pt x="205" y="1455"/>
                      </a:lnTo>
                      <a:lnTo>
                        <a:pt x="197" y="1448"/>
                      </a:lnTo>
                      <a:lnTo>
                        <a:pt x="191" y="1441"/>
                      </a:lnTo>
                      <a:lnTo>
                        <a:pt x="191" y="1441"/>
                      </a:lnTo>
                      <a:lnTo>
                        <a:pt x="189" y="1441"/>
                      </a:lnTo>
                      <a:lnTo>
                        <a:pt x="189" y="1441"/>
                      </a:lnTo>
                      <a:lnTo>
                        <a:pt x="188" y="1441"/>
                      </a:lnTo>
                      <a:lnTo>
                        <a:pt x="188" y="1441"/>
                      </a:lnTo>
                      <a:lnTo>
                        <a:pt x="188" y="1441"/>
                      </a:lnTo>
                      <a:lnTo>
                        <a:pt x="186" y="1443"/>
                      </a:lnTo>
                      <a:lnTo>
                        <a:pt x="186" y="1443"/>
                      </a:lnTo>
                      <a:lnTo>
                        <a:pt x="186" y="1443"/>
                      </a:lnTo>
                      <a:lnTo>
                        <a:pt x="184" y="1444"/>
                      </a:lnTo>
                      <a:lnTo>
                        <a:pt x="188" y="1448"/>
                      </a:lnTo>
                      <a:lnTo>
                        <a:pt x="191" y="1453"/>
                      </a:lnTo>
                      <a:lnTo>
                        <a:pt x="195" y="1459"/>
                      </a:lnTo>
                      <a:lnTo>
                        <a:pt x="199" y="1464"/>
                      </a:lnTo>
                      <a:lnTo>
                        <a:pt x="201" y="1471"/>
                      </a:lnTo>
                      <a:lnTo>
                        <a:pt x="203" y="1477"/>
                      </a:lnTo>
                      <a:lnTo>
                        <a:pt x="205" y="1482"/>
                      </a:lnTo>
                      <a:lnTo>
                        <a:pt x="203" y="1488"/>
                      </a:lnTo>
                      <a:lnTo>
                        <a:pt x="201" y="1495"/>
                      </a:lnTo>
                      <a:lnTo>
                        <a:pt x="197" y="1500"/>
                      </a:lnTo>
                      <a:lnTo>
                        <a:pt x="172" y="1475"/>
                      </a:lnTo>
                      <a:lnTo>
                        <a:pt x="147" y="1448"/>
                      </a:lnTo>
                      <a:lnTo>
                        <a:pt x="124" y="1421"/>
                      </a:lnTo>
                      <a:lnTo>
                        <a:pt x="102" y="1394"/>
                      </a:lnTo>
                      <a:lnTo>
                        <a:pt x="81" y="1365"/>
                      </a:lnTo>
                      <a:lnTo>
                        <a:pt x="62" y="1336"/>
                      </a:lnTo>
                      <a:lnTo>
                        <a:pt x="44" y="1306"/>
                      </a:lnTo>
                      <a:lnTo>
                        <a:pt x="29" y="1275"/>
                      </a:lnTo>
                      <a:lnTo>
                        <a:pt x="13" y="1246"/>
                      </a:lnTo>
                      <a:lnTo>
                        <a:pt x="0" y="1215"/>
                      </a:lnTo>
                      <a:lnTo>
                        <a:pt x="23" y="1181"/>
                      </a:lnTo>
                      <a:lnTo>
                        <a:pt x="48" y="1147"/>
                      </a:lnTo>
                      <a:lnTo>
                        <a:pt x="75" y="1113"/>
                      </a:lnTo>
                      <a:lnTo>
                        <a:pt x="102" y="1080"/>
                      </a:lnTo>
                      <a:lnTo>
                        <a:pt x="129" y="1048"/>
                      </a:lnTo>
                      <a:lnTo>
                        <a:pt x="157" y="1014"/>
                      </a:lnTo>
                      <a:lnTo>
                        <a:pt x="184" y="981"/>
                      </a:lnTo>
                      <a:lnTo>
                        <a:pt x="209" y="947"/>
                      </a:lnTo>
                      <a:lnTo>
                        <a:pt x="234" y="911"/>
                      </a:lnTo>
                      <a:lnTo>
                        <a:pt x="253" y="875"/>
                      </a:lnTo>
                      <a:lnTo>
                        <a:pt x="306" y="795"/>
                      </a:lnTo>
                      <a:lnTo>
                        <a:pt x="362" y="718"/>
                      </a:lnTo>
                      <a:lnTo>
                        <a:pt x="422" y="642"/>
                      </a:lnTo>
                      <a:lnTo>
                        <a:pt x="486" y="568"/>
                      </a:lnTo>
                      <a:lnTo>
                        <a:pt x="552" y="494"/>
                      </a:lnTo>
                      <a:lnTo>
                        <a:pt x="619" y="422"/>
                      </a:lnTo>
                      <a:lnTo>
                        <a:pt x="687" y="348"/>
                      </a:lnTo>
                      <a:lnTo>
                        <a:pt x="753" y="276"/>
                      </a:lnTo>
                      <a:lnTo>
                        <a:pt x="817" y="202"/>
                      </a:lnTo>
                      <a:lnTo>
                        <a:pt x="879" y="127"/>
                      </a:lnTo>
                      <a:lnTo>
                        <a:pt x="883" y="132"/>
                      </a:lnTo>
                      <a:lnTo>
                        <a:pt x="896" y="121"/>
                      </a:lnTo>
                      <a:lnTo>
                        <a:pt x="910" y="107"/>
                      </a:lnTo>
                      <a:lnTo>
                        <a:pt x="921" y="94"/>
                      </a:lnTo>
                      <a:lnTo>
                        <a:pt x="933" y="80"/>
                      </a:lnTo>
                      <a:lnTo>
                        <a:pt x="945" y="65"/>
                      </a:lnTo>
                      <a:lnTo>
                        <a:pt x="956" y="51"/>
                      </a:lnTo>
                      <a:lnTo>
                        <a:pt x="968" y="38"/>
                      </a:lnTo>
                      <a:lnTo>
                        <a:pt x="979" y="24"/>
                      </a:lnTo>
                      <a:lnTo>
                        <a:pt x="993" y="11"/>
                      </a:lnTo>
                      <a:lnTo>
                        <a:pt x="1009" y="0"/>
                      </a:lnTo>
                      <a:lnTo>
                        <a:pt x="1014" y="6"/>
                      </a:lnTo>
                      <a:lnTo>
                        <a:pt x="1014" y="6"/>
                      </a:lnTo>
                      <a:lnTo>
                        <a:pt x="1014" y="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482520" y="790560"/>
                  <a:ext cx="34200" cy="187560"/>
                </a:xfrm>
                <a:custGeom>
                  <a:avLst/>
                  <a:gdLst/>
                  <a:ahLst/>
                  <a:rect l="l" t="t" r="r" b="b"/>
                  <a:pathLst>
                    <a:path w="48" h="236">
                      <a:moveTo>
                        <a:pt x="25" y="42"/>
                      </a:moveTo>
                      <a:lnTo>
                        <a:pt x="25" y="63"/>
                      </a:lnTo>
                      <a:lnTo>
                        <a:pt x="25" y="85"/>
                      </a:lnTo>
                      <a:lnTo>
                        <a:pt x="25" y="105"/>
                      </a:lnTo>
                      <a:lnTo>
                        <a:pt x="27" y="123"/>
                      </a:lnTo>
                      <a:lnTo>
                        <a:pt x="29" y="143"/>
                      </a:lnTo>
                      <a:lnTo>
                        <a:pt x="32" y="161"/>
                      </a:lnTo>
                      <a:lnTo>
                        <a:pt x="36" y="180"/>
                      </a:lnTo>
                      <a:lnTo>
                        <a:pt x="40" y="198"/>
                      </a:lnTo>
                      <a:lnTo>
                        <a:pt x="44" y="218"/>
                      </a:lnTo>
                      <a:lnTo>
                        <a:pt x="48" y="236"/>
                      </a:lnTo>
                      <a:lnTo>
                        <a:pt x="48" y="235"/>
                      </a:lnTo>
                      <a:lnTo>
                        <a:pt x="46" y="231"/>
                      </a:lnTo>
                      <a:lnTo>
                        <a:pt x="46" y="227"/>
                      </a:lnTo>
                      <a:lnTo>
                        <a:pt x="44" y="222"/>
                      </a:lnTo>
                      <a:lnTo>
                        <a:pt x="42" y="215"/>
                      </a:lnTo>
                      <a:lnTo>
                        <a:pt x="38" y="209"/>
                      </a:lnTo>
                      <a:lnTo>
                        <a:pt x="36" y="204"/>
                      </a:lnTo>
                      <a:lnTo>
                        <a:pt x="31" y="198"/>
                      </a:lnTo>
                      <a:lnTo>
                        <a:pt x="27" y="197"/>
                      </a:lnTo>
                      <a:lnTo>
                        <a:pt x="19" y="195"/>
                      </a:lnTo>
                      <a:lnTo>
                        <a:pt x="17" y="175"/>
                      </a:lnTo>
                      <a:lnTo>
                        <a:pt x="13" y="155"/>
                      </a:lnTo>
                      <a:lnTo>
                        <a:pt x="7" y="134"/>
                      </a:lnTo>
                      <a:lnTo>
                        <a:pt x="3" y="112"/>
                      </a:lnTo>
                      <a:lnTo>
                        <a:pt x="1" y="90"/>
                      </a:lnTo>
                      <a:lnTo>
                        <a:pt x="0" y="69"/>
                      </a:lnTo>
                      <a:lnTo>
                        <a:pt x="1" y="49"/>
                      </a:lnTo>
                      <a:lnTo>
                        <a:pt x="7" y="31"/>
                      </a:lnTo>
                      <a:lnTo>
                        <a:pt x="19" y="15"/>
                      </a:lnTo>
                      <a:lnTo>
                        <a:pt x="34" y="0"/>
                      </a:lnTo>
                      <a:lnTo>
                        <a:pt x="36" y="6"/>
                      </a:lnTo>
                      <a:lnTo>
                        <a:pt x="36" y="9"/>
                      </a:lnTo>
                      <a:lnTo>
                        <a:pt x="36" y="13"/>
                      </a:lnTo>
                      <a:lnTo>
                        <a:pt x="34" y="18"/>
                      </a:lnTo>
                      <a:lnTo>
                        <a:pt x="31" y="22"/>
                      </a:lnTo>
                      <a:lnTo>
                        <a:pt x="29" y="25"/>
                      </a:lnTo>
                      <a:lnTo>
                        <a:pt x="27" y="29"/>
                      </a:lnTo>
                      <a:lnTo>
                        <a:pt x="25" y="33"/>
                      </a:lnTo>
                      <a:lnTo>
                        <a:pt x="25" y="38"/>
                      </a:lnTo>
                      <a:lnTo>
                        <a:pt x="27" y="43"/>
                      </a:lnTo>
                      <a:lnTo>
                        <a:pt x="27" y="43"/>
                      </a:lnTo>
                      <a:lnTo>
                        <a:pt x="25" y="4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936400" y="757440"/>
                  <a:ext cx="28800" cy="47520"/>
                </a:xfrm>
                <a:custGeom>
                  <a:avLst/>
                  <a:gdLst/>
                  <a:ahLst/>
                  <a:rect l="l" t="t" r="r" b="b"/>
                  <a:pathLst>
                    <a:path w="40" h="59">
                      <a:moveTo>
                        <a:pt x="40" y="0"/>
                      </a:moveTo>
                      <a:lnTo>
                        <a:pt x="0" y="59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197400" y="782640"/>
                  <a:ext cx="12960" cy="126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21760" y="816120"/>
                  <a:ext cx="11160" cy="61920"/>
                </a:xfrm>
                <a:custGeom>
                  <a:avLst/>
                  <a:gdLst/>
                  <a:ahLst/>
                  <a:rect l="l" t="t" r="r" b="b"/>
                  <a:pathLst>
                    <a:path w="15" h="77">
                      <a:moveTo>
                        <a:pt x="4" y="77"/>
                      </a:moveTo>
                      <a:lnTo>
                        <a:pt x="0" y="0"/>
                      </a:lnTo>
                      <a:lnTo>
                        <a:pt x="2" y="7"/>
                      </a:lnTo>
                      <a:lnTo>
                        <a:pt x="4" y="16"/>
                      </a:lnTo>
                      <a:lnTo>
                        <a:pt x="7" y="23"/>
                      </a:lnTo>
                      <a:lnTo>
                        <a:pt x="9" y="32"/>
                      </a:lnTo>
                      <a:lnTo>
                        <a:pt x="13" y="39"/>
                      </a:lnTo>
                      <a:lnTo>
                        <a:pt x="13" y="48"/>
                      </a:lnTo>
                      <a:lnTo>
                        <a:pt x="15" y="56"/>
                      </a:lnTo>
                      <a:lnTo>
                        <a:pt x="13" y="63"/>
                      </a:lnTo>
                      <a:lnTo>
                        <a:pt x="9" y="70"/>
                      </a:lnTo>
                      <a:lnTo>
                        <a:pt x="4" y="77"/>
                      </a:lnTo>
                      <a:lnTo>
                        <a:pt x="4" y="7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60280" y="820800"/>
                  <a:ext cx="31320" cy="42840"/>
                </a:xfrm>
                <a:custGeom>
                  <a:avLst/>
                  <a:gdLst/>
                  <a:ahLst/>
                  <a:rect l="l" t="t" r="r" b="b"/>
                  <a:pathLst>
                    <a:path w="45" h="52">
                      <a:moveTo>
                        <a:pt x="43" y="7"/>
                      </a:moveTo>
                      <a:lnTo>
                        <a:pt x="41" y="12"/>
                      </a:lnTo>
                      <a:lnTo>
                        <a:pt x="37" y="16"/>
                      </a:lnTo>
                      <a:lnTo>
                        <a:pt x="33" y="20"/>
                      </a:lnTo>
                      <a:lnTo>
                        <a:pt x="27" y="23"/>
                      </a:lnTo>
                      <a:lnTo>
                        <a:pt x="23" y="27"/>
                      </a:lnTo>
                      <a:lnTo>
                        <a:pt x="17" y="30"/>
                      </a:lnTo>
                      <a:lnTo>
                        <a:pt x="12" y="34"/>
                      </a:lnTo>
                      <a:lnTo>
                        <a:pt x="8" y="40"/>
                      </a:lnTo>
                      <a:lnTo>
                        <a:pt x="4" y="45"/>
                      </a:lnTo>
                      <a:lnTo>
                        <a:pt x="0" y="52"/>
                      </a:lnTo>
                      <a:lnTo>
                        <a:pt x="0" y="43"/>
                      </a:lnTo>
                      <a:lnTo>
                        <a:pt x="0" y="34"/>
                      </a:lnTo>
                      <a:lnTo>
                        <a:pt x="2" y="27"/>
                      </a:lnTo>
                      <a:lnTo>
                        <a:pt x="4" y="18"/>
                      </a:lnTo>
                      <a:lnTo>
                        <a:pt x="10" y="11"/>
                      </a:lnTo>
                      <a:lnTo>
                        <a:pt x="14" y="5"/>
                      </a:lnTo>
                      <a:lnTo>
                        <a:pt x="21" y="2"/>
                      </a:lnTo>
                      <a:lnTo>
                        <a:pt x="27" y="0"/>
                      </a:lnTo>
                      <a:lnTo>
                        <a:pt x="35" y="2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3" y="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117120" y="798480"/>
                  <a:ext cx="28440" cy="47880"/>
                </a:xfrm>
                <a:custGeom>
                  <a:avLst/>
                  <a:gdLst/>
                  <a:ahLst/>
                  <a:rect l="l" t="t" r="r" b="b"/>
                  <a:pathLst>
                    <a:path w="41" h="59">
                      <a:moveTo>
                        <a:pt x="0" y="58"/>
                      </a:moveTo>
                      <a:lnTo>
                        <a:pt x="41" y="0"/>
                      </a:lnTo>
                      <a:lnTo>
                        <a:pt x="14" y="56"/>
                      </a:lnTo>
                      <a:lnTo>
                        <a:pt x="0" y="59"/>
                      </a:lnTo>
                      <a:lnTo>
                        <a:pt x="0" y="59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86880" y="801720"/>
                  <a:ext cx="33120" cy="50760"/>
                </a:xfrm>
                <a:custGeom>
                  <a:avLst/>
                  <a:gdLst/>
                  <a:ahLst/>
                  <a:rect l="l" t="t" r="r" b="b"/>
                  <a:pathLst>
                    <a:path w="44" h="65">
                      <a:moveTo>
                        <a:pt x="0" y="65"/>
                      </a:moveTo>
                      <a:lnTo>
                        <a:pt x="44" y="0"/>
                      </a:lnTo>
                      <a:lnTo>
                        <a:pt x="23" y="45"/>
                      </a:lnTo>
                      <a:lnTo>
                        <a:pt x="2" y="65"/>
                      </a:lnTo>
                      <a:lnTo>
                        <a:pt x="2" y="65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812880"/>
                  <a:ext cx="41400" cy="28440"/>
                </a:xfrm>
                <a:custGeom>
                  <a:avLst/>
                  <a:gdLst/>
                  <a:ahLst/>
                  <a:rect l="l" t="t" r="r" b="b"/>
                  <a:pathLst>
                    <a:path w="58" h="36">
                      <a:moveTo>
                        <a:pt x="58" y="16"/>
                      </a:moveTo>
                      <a:lnTo>
                        <a:pt x="58" y="36"/>
                      </a:lnTo>
                      <a:lnTo>
                        <a:pt x="0" y="11"/>
                      </a:lnTo>
                      <a:lnTo>
                        <a:pt x="4" y="4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17" y="4"/>
                      </a:lnTo>
                      <a:lnTo>
                        <a:pt x="23" y="7"/>
                      </a:lnTo>
                      <a:lnTo>
                        <a:pt x="29" y="13"/>
                      </a:lnTo>
                      <a:lnTo>
                        <a:pt x="35" y="16"/>
                      </a:lnTo>
                      <a:lnTo>
                        <a:pt x="43" y="20"/>
                      </a:lnTo>
                      <a:lnTo>
                        <a:pt x="50" y="20"/>
                      </a:lnTo>
                      <a:lnTo>
                        <a:pt x="58" y="18"/>
                      </a:lnTo>
                      <a:lnTo>
                        <a:pt x="58" y="18"/>
                      </a:lnTo>
                      <a:lnTo>
                        <a:pt x="58" y="16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069600" y="808200"/>
                  <a:ext cx="18720" cy="3312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3" y="41"/>
                      </a:move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1" y="32"/>
                      </a:lnTo>
                      <a:lnTo>
                        <a:pt x="3" y="28"/>
                      </a:lnTo>
                      <a:lnTo>
                        <a:pt x="7" y="27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11" y="16"/>
                      </a:lnTo>
                      <a:lnTo>
                        <a:pt x="9" y="12"/>
                      </a:lnTo>
                      <a:lnTo>
                        <a:pt x="7" y="7"/>
                      </a:lnTo>
                      <a:lnTo>
                        <a:pt x="27" y="0"/>
                      </a:lnTo>
                      <a:lnTo>
                        <a:pt x="27" y="3"/>
                      </a:lnTo>
                      <a:lnTo>
                        <a:pt x="27" y="7"/>
                      </a:lnTo>
                      <a:lnTo>
                        <a:pt x="27" y="12"/>
                      </a:lnTo>
                      <a:lnTo>
                        <a:pt x="25" y="16"/>
                      </a:lnTo>
                      <a:lnTo>
                        <a:pt x="25" y="21"/>
                      </a:lnTo>
                      <a:lnTo>
                        <a:pt x="21" y="27"/>
                      </a:lnTo>
                      <a:lnTo>
                        <a:pt x="19" y="30"/>
                      </a:lnTo>
                      <a:lnTo>
                        <a:pt x="15" y="36"/>
                      </a:lnTo>
                      <a:lnTo>
                        <a:pt x="9" y="39"/>
                      </a:lnTo>
                      <a:lnTo>
                        <a:pt x="3" y="41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302160" y="851040"/>
                  <a:ext cx="24120" cy="3492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5" y="30"/>
                      </a:moveTo>
                      <a:lnTo>
                        <a:pt x="6" y="43"/>
                      </a:lnTo>
                      <a:lnTo>
                        <a:pt x="8" y="39"/>
                      </a:lnTo>
                      <a:lnTo>
                        <a:pt x="10" y="36"/>
                      </a:lnTo>
                      <a:lnTo>
                        <a:pt x="11" y="32"/>
                      </a:lnTo>
                      <a:lnTo>
                        <a:pt x="13" y="29"/>
                      </a:lnTo>
                      <a:lnTo>
                        <a:pt x="13" y="25"/>
                      </a:lnTo>
                      <a:lnTo>
                        <a:pt x="13" y="21"/>
                      </a:lnTo>
                      <a:lnTo>
                        <a:pt x="13" y="16"/>
                      </a:lnTo>
                      <a:lnTo>
                        <a:pt x="13" y="12"/>
                      </a:lnTo>
                      <a:lnTo>
                        <a:pt x="11" y="9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0" y="2"/>
                      </a:lnTo>
                      <a:lnTo>
                        <a:pt x="15" y="5"/>
                      </a:lnTo>
                      <a:lnTo>
                        <a:pt x="21" y="7"/>
                      </a:lnTo>
                      <a:lnTo>
                        <a:pt x="27" y="11"/>
                      </a:lnTo>
                      <a:lnTo>
                        <a:pt x="31" y="14"/>
                      </a:lnTo>
                      <a:lnTo>
                        <a:pt x="33" y="18"/>
                      </a:lnTo>
                      <a:lnTo>
                        <a:pt x="33" y="21"/>
                      </a:lnTo>
                      <a:lnTo>
                        <a:pt x="31" y="27"/>
                      </a:lnTo>
                      <a:lnTo>
                        <a:pt x="25" y="32"/>
                      </a:lnTo>
                      <a:lnTo>
                        <a:pt x="25" y="32"/>
                      </a:lnTo>
                      <a:lnTo>
                        <a:pt x="25" y="3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455520" y="866880"/>
                  <a:ext cx="55800" cy="272880"/>
                </a:xfrm>
                <a:custGeom>
                  <a:avLst/>
                  <a:gdLst/>
                  <a:ahLst/>
                  <a:rect l="l" t="t" r="r" b="b"/>
                  <a:pathLst>
                    <a:path w="77" h="342">
                      <a:moveTo>
                        <a:pt x="17" y="0"/>
                      </a:moveTo>
                      <a:lnTo>
                        <a:pt x="17" y="34"/>
                      </a:lnTo>
                      <a:lnTo>
                        <a:pt x="19" y="68"/>
                      </a:lnTo>
                      <a:lnTo>
                        <a:pt x="23" y="102"/>
                      </a:lnTo>
                      <a:lnTo>
                        <a:pt x="27" y="137"/>
                      </a:lnTo>
                      <a:lnTo>
                        <a:pt x="35" y="171"/>
                      </a:lnTo>
                      <a:lnTo>
                        <a:pt x="42" y="205"/>
                      </a:lnTo>
                      <a:lnTo>
                        <a:pt x="50" y="239"/>
                      </a:lnTo>
                      <a:lnTo>
                        <a:pt x="60" y="274"/>
                      </a:lnTo>
                      <a:lnTo>
                        <a:pt x="68" y="308"/>
                      </a:lnTo>
                      <a:lnTo>
                        <a:pt x="77" y="342"/>
                      </a:lnTo>
                      <a:lnTo>
                        <a:pt x="66" y="313"/>
                      </a:lnTo>
                      <a:lnTo>
                        <a:pt x="54" y="283"/>
                      </a:lnTo>
                      <a:lnTo>
                        <a:pt x="42" y="250"/>
                      </a:lnTo>
                      <a:lnTo>
                        <a:pt x="29" y="218"/>
                      </a:lnTo>
                      <a:lnTo>
                        <a:pt x="19" y="183"/>
                      </a:lnTo>
                      <a:lnTo>
                        <a:pt x="9" y="147"/>
                      </a:lnTo>
                      <a:lnTo>
                        <a:pt x="4" y="111"/>
                      </a:lnTo>
                      <a:lnTo>
                        <a:pt x="0" y="75"/>
                      </a:lnTo>
                      <a:lnTo>
                        <a:pt x="2" y="37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24720" y="8841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9" h="42">
                      <a:moveTo>
                        <a:pt x="37" y="38"/>
                      </a:moveTo>
                      <a:lnTo>
                        <a:pt x="33" y="42"/>
                      </a:lnTo>
                      <a:lnTo>
                        <a:pt x="27" y="40"/>
                      </a:lnTo>
                      <a:lnTo>
                        <a:pt x="21" y="38"/>
                      </a:lnTo>
                      <a:lnTo>
                        <a:pt x="17" y="36"/>
                      </a:lnTo>
                      <a:lnTo>
                        <a:pt x="14" y="31"/>
                      </a:lnTo>
                      <a:lnTo>
                        <a:pt x="10" y="25"/>
                      </a:lnTo>
                      <a:lnTo>
                        <a:pt x="6" y="20"/>
                      </a:lnTo>
                      <a:lnTo>
                        <a:pt x="4" y="13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8" y="6"/>
                      </a:lnTo>
                      <a:lnTo>
                        <a:pt x="14" y="9"/>
                      </a:lnTo>
                      <a:lnTo>
                        <a:pt x="16" y="13"/>
                      </a:lnTo>
                      <a:lnTo>
                        <a:pt x="19" y="18"/>
                      </a:lnTo>
                      <a:lnTo>
                        <a:pt x="23" y="22"/>
                      </a:lnTo>
                      <a:lnTo>
                        <a:pt x="27" y="25"/>
                      </a:lnTo>
                      <a:lnTo>
                        <a:pt x="31" y="31"/>
                      </a:lnTo>
                      <a:lnTo>
                        <a:pt x="35" y="34"/>
                      </a:lnTo>
                      <a:lnTo>
                        <a:pt x="39" y="40"/>
                      </a:lnTo>
                      <a:lnTo>
                        <a:pt x="39" y="40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356520" y="876240"/>
                  <a:ext cx="134640" cy="292320"/>
                </a:xfrm>
                <a:custGeom>
                  <a:avLst/>
                  <a:gdLst/>
                  <a:ahLst/>
                  <a:rect l="l" t="t" r="r" b="b"/>
                  <a:pathLst>
                    <a:path w="188" h="368">
                      <a:moveTo>
                        <a:pt x="126" y="190"/>
                      </a:moveTo>
                      <a:lnTo>
                        <a:pt x="138" y="195"/>
                      </a:lnTo>
                      <a:lnTo>
                        <a:pt x="146" y="200"/>
                      </a:lnTo>
                      <a:lnTo>
                        <a:pt x="147" y="206"/>
                      </a:lnTo>
                      <a:lnTo>
                        <a:pt x="147" y="213"/>
                      </a:lnTo>
                      <a:lnTo>
                        <a:pt x="147" y="218"/>
                      </a:lnTo>
                      <a:lnTo>
                        <a:pt x="146" y="226"/>
                      </a:lnTo>
                      <a:lnTo>
                        <a:pt x="144" y="235"/>
                      </a:lnTo>
                      <a:lnTo>
                        <a:pt x="142" y="242"/>
                      </a:lnTo>
                      <a:lnTo>
                        <a:pt x="142" y="253"/>
                      </a:lnTo>
                      <a:lnTo>
                        <a:pt x="146" y="262"/>
                      </a:lnTo>
                      <a:lnTo>
                        <a:pt x="188" y="368"/>
                      </a:lnTo>
                      <a:lnTo>
                        <a:pt x="175" y="354"/>
                      </a:lnTo>
                      <a:lnTo>
                        <a:pt x="163" y="337"/>
                      </a:lnTo>
                      <a:lnTo>
                        <a:pt x="153" y="319"/>
                      </a:lnTo>
                      <a:lnTo>
                        <a:pt x="144" y="303"/>
                      </a:lnTo>
                      <a:lnTo>
                        <a:pt x="136" y="285"/>
                      </a:lnTo>
                      <a:lnTo>
                        <a:pt x="130" y="267"/>
                      </a:lnTo>
                      <a:lnTo>
                        <a:pt x="122" y="247"/>
                      </a:lnTo>
                      <a:lnTo>
                        <a:pt x="115" y="229"/>
                      </a:lnTo>
                      <a:lnTo>
                        <a:pt x="107" y="211"/>
                      </a:lnTo>
                      <a:lnTo>
                        <a:pt x="99" y="193"/>
                      </a:lnTo>
                      <a:lnTo>
                        <a:pt x="91" y="193"/>
                      </a:lnTo>
                      <a:lnTo>
                        <a:pt x="91" y="209"/>
                      </a:lnTo>
                      <a:lnTo>
                        <a:pt x="93" y="224"/>
                      </a:lnTo>
                      <a:lnTo>
                        <a:pt x="97" y="240"/>
                      </a:lnTo>
                      <a:lnTo>
                        <a:pt x="103" y="256"/>
                      </a:lnTo>
                      <a:lnTo>
                        <a:pt x="109" y="271"/>
                      </a:lnTo>
                      <a:lnTo>
                        <a:pt x="115" y="287"/>
                      </a:lnTo>
                      <a:lnTo>
                        <a:pt x="122" y="301"/>
                      </a:lnTo>
                      <a:lnTo>
                        <a:pt x="128" y="318"/>
                      </a:lnTo>
                      <a:lnTo>
                        <a:pt x="134" y="334"/>
                      </a:lnTo>
                      <a:lnTo>
                        <a:pt x="140" y="348"/>
                      </a:lnTo>
                      <a:lnTo>
                        <a:pt x="138" y="350"/>
                      </a:lnTo>
                      <a:lnTo>
                        <a:pt x="138" y="350"/>
                      </a:lnTo>
                      <a:lnTo>
                        <a:pt x="136" y="348"/>
                      </a:lnTo>
                      <a:lnTo>
                        <a:pt x="134" y="346"/>
                      </a:lnTo>
                      <a:lnTo>
                        <a:pt x="132" y="346"/>
                      </a:lnTo>
                      <a:lnTo>
                        <a:pt x="128" y="345"/>
                      </a:lnTo>
                      <a:lnTo>
                        <a:pt x="126" y="345"/>
                      </a:lnTo>
                      <a:lnTo>
                        <a:pt x="124" y="345"/>
                      </a:lnTo>
                      <a:lnTo>
                        <a:pt x="122" y="346"/>
                      </a:lnTo>
                      <a:lnTo>
                        <a:pt x="120" y="350"/>
                      </a:lnTo>
                      <a:lnTo>
                        <a:pt x="111" y="332"/>
                      </a:lnTo>
                      <a:lnTo>
                        <a:pt x="103" y="312"/>
                      </a:lnTo>
                      <a:lnTo>
                        <a:pt x="95" y="292"/>
                      </a:lnTo>
                      <a:lnTo>
                        <a:pt x="89" y="271"/>
                      </a:lnTo>
                      <a:lnTo>
                        <a:pt x="82" y="251"/>
                      </a:lnTo>
                      <a:lnTo>
                        <a:pt x="76" y="231"/>
                      </a:lnTo>
                      <a:lnTo>
                        <a:pt x="68" y="211"/>
                      </a:lnTo>
                      <a:lnTo>
                        <a:pt x="60" y="193"/>
                      </a:lnTo>
                      <a:lnTo>
                        <a:pt x="51" y="173"/>
                      </a:lnTo>
                      <a:lnTo>
                        <a:pt x="41" y="155"/>
                      </a:lnTo>
                      <a:lnTo>
                        <a:pt x="41" y="177"/>
                      </a:lnTo>
                      <a:lnTo>
                        <a:pt x="45" y="197"/>
                      </a:lnTo>
                      <a:lnTo>
                        <a:pt x="49" y="217"/>
                      </a:lnTo>
                      <a:lnTo>
                        <a:pt x="55" y="236"/>
                      </a:lnTo>
                      <a:lnTo>
                        <a:pt x="60" y="258"/>
                      </a:lnTo>
                      <a:lnTo>
                        <a:pt x="68" y="278"/>
                      </a:lnTo>
                      <a:lnTo>
                        <a:pt x="76" y="298"/>
                      </a:lnTo>
                      <a:lnTo>
                        <a:pt x="84" y="318"/>
                      </a:lnTo>
                      <a:lnTo>
                        <a:pt x="89" y="337"/>
                      </a:lnTo>
                      <a:lnTo>
                        <a:pt x="95" y="359"/>
                      </a:lnTo>
                      <a:lnTo>
                        <a:pt x="87" y="341"/>
                      </a:lnTo>
                      <a:lnTo>
                        <a:pt x="80" y="323"/>
                      </a:lnTo>
                      <a:lnTo>
                        <a:pt x="70" y="305"/>
                      </a:lnTo>
                      <a:lnTo>
                        <a:pt x="62" y="285"/>
                      </a:lnTo>
                      <a:lnTo>
                        <a:pt x="55" y="264"/>
                      </a:lnTo>
                      <a:lnTo>
                        <a:pt x="47" y="244"/>
                      </a:lnTo>
                      <a:lnTo>
                        <a:pt x="37" y="222"/>
                      </a:lnTo>
                      <a:lnTo>
                        <a:pt x="27" y="200"/>
                      </a:lnTo>
                      <a:lnTo>
                        <a:pt x="18" y="181"/>
                      </a:lnTo>
                      <a:lnTo>
                        <a:pt x="8" y="161"/>
                      </a:lnTo>
                      <a:lnTo>
                        <a:pt x="0" y="161"/>
                      </a:lnTo>
                      <a:lnTo>
                        <a:pt x="0" y="148"/>
                      </a:lnTo>
                      <a:lnTo>
                        <a:pt x="4" y="148"/>
                      </a:lnTo>
                      <a:lnTo>
                        <a:pt x="10" y="148"/>
                      </a:lnTo>
                      <a:lnTo>
                        <a:pt x="14" y="146"/>
                      </a:lnTo>
                      <a:lnTo>
                        <a:pt x="18" y="143"/>
                      </a:lnTo>
                      <a:lnTo>
                        <a:pt x="20" y="139"/>
                      </a:lnTo>
                      <a:lnTo>
                        <a:pt x="24" y="136"/>
                      </a:lnTo>
                      <a:lnTo>
                        <a:pt x="26" y="134"/>
                      </a:lnTo>
                      <a:lnTo>
                        <a:pt x="27" y="130"/>
                      </a:lnTo>
                      <a:lnTo>
                        <a:pt x="27" y="128"/>
                      </a:lnTo>
                      <a:lnTo>
                        <a:pt x="26" y="128"/>
                      </a:lnTo>
                      <a:lnTo>
                        <a:pt x="26" y="130"/>
                      </a:lnTo>
                      <a:lnTo>
                        <a:pt x="26" y="134"/>
                      </a:lnTo>
                      <a:lnTo>
                        <a:pt x="26" y="136"/>
                      </a:lnTo>
                      <a:lnTo>
                        <a:pt x="26" y="137"/>
                      </a:lnTo>
                      <a:lnTo>
                        <a:pt x="26" y="139"/>
                      </a:lnTo>
                      <a:lnTo>
                        <a:pt x="26" y="143"/>
                      </a:lnTo>
                      <a:lnTo>
                        <a:pt x="27" y="145"/>
                      </a:lnTo>
                      <a:lnTo>
                        <a:pt x="27" y="146"/>
                      </a:lnTo>
                      <a:lnTo>
                        <a:pt x="29" y="148"/>
                      </a:lnTo>
                      <a:lnTo>
                        <a:pt x="31" y="150"/>
                      </a:lnTo>
                      <a:lnTo>
                        <a:pt x="41" y="143"/>
                      </a:lnTo>
                      <a:lnTo>
                        <a:pt x="47" y="134"/>
                      </a:lnTo>
                      <a:lnTo>
                        <a:pt x="51" y="123"/>
                      </a:lnTo>
                      <a:lnTo>
                        <a:pt x="51" y="110"/>
                      </a:lnTo>
                      <a:lnTo>
                        <a:pt x="53" y="98"/>
                      </a:lnTo>
                      <a:lnTo>
                        <a:pt x="53" y="85"/>
                      </a:lnTo>
                      <a:lnTo>
                        <a:pt x="53" y="72"/>
                      </a:lnTo>
                      <a:lnTo>
                        <a:pt x="55" y="60"/>
                      </a:lnTo>
                      <a:lnTo>
                        <a:pt x="56" y="49"/>
                      </a:lnTo>
                      <a:lnTo>
                        <a:pt x="64" y="40"/>
                      </a:lnTo>
                      <a:lnTo>
                        <a:pt x="80" y="42"/>
                      </a:lnTo>
                      <a:lnTo>
                        <a:pt x="78" y="51"/>
                      </a:lnTo>
                      <a:lnTo>
                        <a:pt x="74" y="62"/>
                      </a:lnTo>
                      <a:lnTo>
                        <a:pt x="72" y="72"/>
                      </a:lnTo>
                      <a:lnTo>
                        <a:pt x="70" y="85"/>
                      </a:lnTo>
                      <a:lnTo>
                        <a:pt x="68" y="96"/>
                      </a:lnTo>
                      <a:lnTo>
                        <a:pt x="68" y="107"/>
                      </a:lnTo>
                      <a:lnTo>
                        <a:pt x="68" y="119"/>
                      </a:lnTo>
                      <a:lnTo>
                        <a:pt x="70" y="130"/>
                      </a:lnTo>
                      <a:lnTo>
                        <a:pt x="74" y="139"/>
                      </a:lnTo>
                      <a:lnTo>
                        <a:pt x="78" y="150"/>
                      </a:lnTo>
                      <a:lnTo>
                        <a:pt x="89" y="146"/>
                      </a:lnTo>
                      <a:lnTo>
                        <a:pt x="95" y="141"/>
                      </a:lnTo>
                      <a:lnTo>
                        <a:pt x="99" y="134"/>
                      </a:lnTo>
                      <a:lnTo>
                        <a:pt x="99" y="127"/>
                      </a:lnTo>
                      <a:lnTo>
                        <a:pt x="99" y="118"/>
                      </a:lnTo>
                      <a:lnTo>
                        <a:pt x="97" y="110"/>
                      </a:lnTo>
                      <a:lnTo>
                        <a:pt x="95" y="101"/>
                      </a:lnTo>
                      <a:lnTo>
                        <a:pt x="93" y="92"/>
                      </a:lnTo>
                      <a:lnTo>
                        <a:pt x="93" y="83"/>
                      </a:lnTo>
                      <a:lnTo>
                        <a:pt x="93" y="76"/>
                      </a:lnTo>
                      <a:lnTo>
                        <a:pt x="118" y="0"/>
                      </a:lnTo>
                      <a:lnTo>
                        <a:pt x="113" y="20"/>
                      </a:lnTo>
                      <a:lnTo>
                        <a:pt x="111" y="40"/>
                      </a:lnTo>
                      <a:lnTo>
                        <a:pt x="109" y="60"/>
                      </a:lnTo>
                      <a:lnTo>
                        <a:pt x="109" y="78"/>
                      </a:lnTo>
                      <a:lnTo>
                        <a:pt x="111" y="98"/>
                      </a:lnTo>
                      <a:lnTo>
                        <a:pt x="115" y="116"/>
                      </a:lnTo>
                      <a:lnTo>
                        <a:pt x="118" y="136"/>
                      </a:lnTo>
                      <a:lnTo>
                        <a:pt x="122" y="154"/>
                      </a:lnTo>
                      <a:lnTo>
                        <a:pt x="126" y="172"/>
                      </a:lnTo>
                      <a:lnTo>
                        <a:pt x="128" y="191"/>
                      </a:lnTo>
                      <a:lnTo>
                        <a:pt x="128" y="191"/>
                      </a:lnTo>
                      <a:lnTo>
                        <a:pt x="126" y="19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64600" y="885960"/>
                  <a:ext cx="24120" cy="75960"/>
                </a:xfrm>
                <a:custGeom>
                  <a:avLst/>
                  <a:gdLst/>
                  <a:ahLst/>
                  <a:rect l="l" t="t" r="r" b="b"/>
                  <a:pathLst>
                    <a:path w="33" h="96">
                      <a:moveTo>
                        <a:pt x="33" y="96"/>
                      </a:moveTo>
                      <a:lnTo>
                        <a:pt x="29" y="90"/>
                      </a:lnTo>
                      <a:lnTo>
                        <a:pt x="25" y="81"/>
                      </a:lnTo>
                      <a:lnTo>
                        <a:pt x="17" y="72"/>
                      </a:lnTo>
                      <a:lnTo>
                        <a:pt x="11" y="61"/>
                      </a:lnTo>
                      <a:lnTo>
                        <a:pt x="6" y="50"/>
                      </a:lnTo>
                      <a:lnTo>
                        <a:pt x="2" y="40"/>
                      </a:lnTo>
                      <a:lnTo>
                        <a:pt x="0" y="29"/>
                      </a:lnTo>
                      <a:lnTo>
                        <a:pt x="2" y="18"/>
                      </a:lnTo>
                      <a:lnTo>
                        <a:pt x="8" y="7"/>
                      </a:lnTo>
                      <a:lnTo>
                        <a:pt x="17" y="0"/>
                      </a:lnTo>
                      <a:lnTo>
                        <a:pt x="11" y="9"/>
                      </a:lnTo>
                      <a:lnTo>
                        <a:pt x="9" y="20"/>
                      </a:lnTo>
                      <a:lnTo>
                        <a:pt x="9" y="29"/>
                      </a:lnTo>
                      <a:lnTo>
                        <a:pt x="11" y="40"/>
                      </a:lnTo>
                      <a:lnTo>
                        <a:pt x="15" y="49"/>
                      </a:lnTo>
                      <a:lnTo>
                        <a:pt x="19" y="58"/>
                      </a:lnTo>
                      <a:lnTo>
                        <a:pt x="23" y="67"/>
                      </a:lnTo>
                      <a:lnTo>
                        <a:pt x="27" y="77"/>
                      </a:lnTo>
                      <a:lnTo>
                        <a:pt x="31" y="86"/>
                      </a:lnTo>
                      <a:lnTo>
                        <a:pt x="33" y="96"/>
                      </a:lnTo>
                      <a:lnTo>
                        <a:pt x="33" y="96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90160" y="887400"/>
                  <a:ext cx="47160" cy="98640"/>
                </a:xfrm>
                <a:custGeom>
                  <a:avLst/>
                  <a:gdLst/>
                  <a:ahLst/>
                  <a:rect l="l" t="t" r="r" b="b"/>
                  <a:pathLst>
                    <a:path w="65" h="124">
                      <a:moveTo>
                        <a:pt x="40" y="88"/>
                      </a:moveTo>
                      <a:lnTo>
                        <a:pt x="44" y="92"/>
                      </a:lnTo>
                      <a:lnTo>
                        <a:pt x="48" y="95"/>
                      </a:lnTo>
                      <a:lnTo>
                        <a:pt x="50" y="99"/>
                      </a:lnTo>
                      <a:lnTo>
                        <a:pt x="54" y="101"/>
                      </a:lnTo>
                      <a:lnTo>
                        <a:pt x="58" y="104"/>
                      </a:lnTo>
                      <a:lnTo>
                        <a:pt x="60" y="108"/>
                      </a:lnTo>
                      <a:lnTo>
                        <a:pt x="64" y="112"/>
                      </a:lnTo>
                      <a:lnTo>
                        <a:pt x="65" y="115"/>
                      </a:lnTo>
                      <a:lnTo>
                        <a:pt x="65" y="121"/>
                      </a:lnTo>
                      <a:lnTo>
                        <a:pt x="65" y="124"/>
                      </a:lnTo>
                      <a:lnTo>
                        <a:pt x="50" y="119"/>
                      </a:lnTo>
                      <a:lnTo>
                        <a:pt x="38" y="113"/>
                      </a:lnTo>
                      <a:lnTo>
                        <a:pt x="29" y="104"/>
                      </a:lnTo>
                      <a:lnTo>
                        <a:pt x="23" y="94"/>
                      </a:lnTo>
                      <a:lnTo>
                        <a:pt x="17" y="83"/>
                      </a:lnTo>
                      <a:lnTo>
                        <a:pt x="13" y="70"/>
                      </a:lnTo>
                      <a:lnTo>
                        <a:pt x="9" y="57"/>
                      </a:lnTo>
                      <a:lnTo>
                        <a:pt x="5" y="45"/>
                      </a:lnTo>
                      <a:lnTo>
                        <a:pt x="3" y="32"/>
                      </a:lnTo>
                      <a:lnTo>
                        <a:pt x="0" y="20"/>
                      </a:lnTo>
                      <a:lnTo>
                        <a:pt x="15" y="0"/>
                      </a:lnTo>
                      <a:lnTo>
                        <a:pt x="17" y="9"/>
                      </a:lnTo>
                      <a:lnTo>
                        <a:pt x="21" y="18"/>
                      </a:lnTo>
                      <a:lnTo>
                        <a:pt x="25" y="27"/>
                      </a:lnTo>
                      <a:lnTo>
                        <a:pt x="29" y="36"/>
                      </a:lnTo>
                      <a:lnTo>
                        <a:pt x="33" y="45"/>
                      </a:lnTo>
                      <a:lnTo>
                        <a:pt x="38" y="52"/>
                      </a:lnTo>
                      <a:lnTo>
                        <a:pt x="40" y="61"/>
                      </a:lnTo>
                      <a:lnTo>
                        <a:pt x="42" y="70"/>
                      </a:lnTo>
                      <a:lnTo>
                        <a:pt x="42" y="79"/>
                      </a:lnTo>
                      <a:lnTo>
                        <a:pt x="42" y="88"/>
                      </a:lnTo>
                      <a:lnTo>
                        <a:pt x="42" y="88"/>
                      </a:lnTo>
                      <a:lnTo>
                        <a:pt x="40" y="88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300360" y="900000"/>
                  <a:ext cx="55800" cy="142920"/>
                </a:xfrm>
                <a:custGeom>
                  <a:avLst/>
                  <a:gdLst/>
                  <a:ahLst/>
                  <a:rect l="l" t="t" r="r" b="b"/>
                  <a:pathLst>
                    <a:path w="77" h="180">
                      <a:moveTo>
                        <a:pt x="54" y="171"/>
                      </a:moveTo>
                      <a:lnTo>
                        <a:pt x="44" y="180"/>
                      </a:lnTo>
                      <a:lnTo>
                        <a:pt x="37" y="49"/>
                      </a:lnTo>
                      <a:lnTo>
                        <a:pt x="33" y="52"/>
                      </a:lnTo>
                      <a:lnTo>
                        <a:pt x="31" y="52"/>
                      </a:lnTo>
                      <a:lnTo>
                        <a:pt x="27" y="52"/>
                      </a:lnTo>
                      <a:lnTo>
                        <a:pt x="25" y="50"/>
                      </a:lnTo>
                      <a:lnTo>
                        <a:pt x="21" y="50"/>
                      </a:lnTo>
                      <a:lnTo>
                        <a:pt x="17" y="49"/>
                      </a:lnTo>
                      <a:lnTo>
                        <a:pt x="15" y="49"/>
                      </a:lnTo>
                      <a:lnTo>
                        <a:pt x="13" y="49"/>
                      </a:lnTo>
                      <a:lnTo>
                        <a:pt x="10" y="52"/>
                      </a:lnTo>
                      <a:lnTo>
                        <a:pt x="8" y="56"/>
                      </a:lnTo>
                      <a:lnTo>
                        <a:pt x="2" y="52"/>
                      </a:lnTo>
                      <a:lnTo>
                        <a:pt x="0" y="49"/>
                      </a:lnTo>
                      <a:lnTo>
                        <a:pt x="2" y="45"/>
                      </a:lnTo>
                      <a:lnTo>
                        <a:pt x="8" y="41"/>
                      </a:lnTo>
                      <a:lnTo>
                        <a:pt x="15" y="40"/>
                      </a:lnTo>
                      <a:lnTo>
                        <a:pt x="23" y="36"/>
                      </a:lnTo>
                      <a:lnTo>
                        <a:pt x="33" y="32"/>
                      </a:lnTo>
                      <a:lnTo>
                        <a:pt x="42" y="29"/>
                      </a:lnTo>
                      <a:lnTo>
                        <a:pt x="50" y="23"/>
                      </a:lnTo>
                      <a:lnTo>
                        <a:pt x="56" y="20"/>
                      </a:lnTo>
                      <a:lnTo>
                        <a:pt x="77" y="0"/>
                      </a:lnTo>
                      <a:lnTo>
                        <a:pt x="70" y="14"/>
                      </a:lnTo>
                      <a:lnTo>
                        <a:pt x="66" y="31"/>
                      </a:lnTo>
                      <a:lnTo>
                        <a:pt x="62" y="47"/>
                      </a:lnTo>
                      <a:lnTo>
                        <a:pt x="60" y="65"/>
                      </a:lnTo>
                      <a:lnTo>
                        <a:pt x="60" y="81"/>
                      </a:lnTo>
                      <a:lnTo>
                        <a:pt x="60" y="99"/>
                      </a:lnTo>
                      <a:lnTo>
                        <a:pt x="58" y="117"/>
                      </a:lnTo>
                      <a:lnTo>
                        <a:pt x="58" y="135"/>
                      </a:lnTo>
                      <a:lnTo>
                        <a:pt x="56" y="153"/>
                      </a:lnTo>
                      <a:lnTo>
                        <a:pt x="54" y="171"/>
                      </a:lnTo>
                      <a:lnTo>
                        <a:pt x="54" y="171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372360" y="905040"/>
                  <a:ext cx="8280" cy="52200"/>
                </a:xfrm>
                <a:custGeom>
                  <a:avLst/>
                  <a:gdLst/>
                  <a:ahLst/>
                  <a:rect l="l" t="t" r="r" b="b"/>
                  <a:pathLst>
                    <a:path w="11" h="67">
                      <a:moveTo>
                        <a:pt x="4" y="0"/>
                      </a:moveTo>
                      <a:lnTo>
                        <a:pt x="11" y="2"/>
                      </a:lnTo>
                      <a:lnTo>
                        <a:pt x="5" y="67"/>
                      </a:lnTo>
                      <a:lnTo>
                        <a:pt x="0" y="67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24280" y="917640"/>
                  <a:ext cx="81720" cy="133200"/>
                </a:xfrm>
                <a:custGeom>
                  <a:avLst/>
                  <a:gdLst/>
                  <a:ahLst/>
                  <a:rect l="l" t="t" r="r" b="b"/>
                  <a:pathLst>
                    <a:path w="114" h="167">
                      <a:moveTo>
                        <a:pt x="114" y="165"/>
                      </a:moveTo>
                      <a:lnTo>
                        <a:pt x="106" y="156"/>
                      </a:lnTo>
                      <a:lnTo>
                        <a:pt x="98" y="147"/>
                      </a:lnTo>
                      <a:lnTo>
                        <a:pt x="91" y="137"/>
                      </a:lnTo>
                      <a:lnTo>
                        <a:pt x="85" y="126"/>
                      </a:lnTo>
                      <a:lnTo>
                        <a:pt x="79" y="117"/>
                      </a:lnTo>
                      <a:lnTo>
                        <a:pt x="73" y="106"/>
                      </a:lnTo>
                      <a:lnTo>
                        <a:pt x="65" y="95"/>
                      </a:lnTo>
                      <a:lnTo>
                        <a:pt x="60" y="86"/>
                      </a:lnTo>
                      <a:lnTo>
                        <a:pt x="50" y="77"/>
                      </a:lnTo>
                      <a:lnTo>
                        <a:pt x="42" y="70"/>
                      </a:lnTo>
                      <a:lnTo>
                        <a:pt x="36" y="81"/>
                      </a:lnTo>
                      <a:lnTo>
                        <a:pt x="34" y="92"/>
                      </a:lnTo>
                      <a:lnTo>
                        <a:pt x="38" y="101"/>
                      </a:lnTo>
                      <a:lnTo>
                        <a:pt x="42" y="111"/>
                      </a:lnTo>
                      <a:lnTo>
                        <a:pt x="50" y="120"/>
                      </a:lnTo>
                      <a:lnTo>
                        <a:pt x="58" y="129"/>
                      </a:lnTo>
                      <a:lnTo>
                        <a:pt x="65" y="138"/>
                      </a:lnTo>
                      <a:lnTo>
                        <a:pt x="71" y="147"/>
                      </a:lnTo>
                      <a:lnTo>
                        <a:pt x="73" y="156"/>
                      </a:lnTo>
                      <a:lnTo>
                        <a:pt x="71" y="167"/>
                      </a:lnTo>
                      <a:lnTo>
                        <a:pt x="62" y="155"/>
                      </a:lnTo>
                      <a:lnTo>
                        <a:pt x="52" y="142"/>
                      </a:lnTo>
                      <a:lnTo>
                        <a:pt x="42" y="128"/>
                      </a:lnTo>
                      <a:lnTo>
                        <a:pt x="33" y="111"/>
                      </a:lnTo>
                      <a:lnTo>
                        <a:pt x="23" y="95"/>
                      </a:lnTo>
                      <a:lnTo>
                        <a:pt x="15" y="79"/>
                      </a:lnTo>
                      <a:lnTo>
                        <a:pt x="7" y="61"/>
                      </a:lnTo>
                      <a:lnTo>
                        <a:pt x="2" y="43"/>
                      </a:lnTo>
                      <a:lnTo>
                        <a:pt x="0" y="25"/>
                      </a:lnTo>
                      <a:lnTo>
                        <a:pt x="0" y="7"/>
                      </a:lnTo>
                      <a:lnTo>
                        <a:pt x="23" y="0"/>
                      </a:lnTo>
                      <a:lnTo>
                        <a:pt x="33" y="16"/>
                      </a:lnTo>
                      <a:lnTo>
                        <a:pt x="40" y="32"/>
                      </a:lnTo>
                      <a:lnTo>
                        <a:pt x="50" y="48"/>
                      </a:lnTo>
                      <a:lnTo>
                        <a:pt x="60" y="65"/>
                      </a:lnTo>
                      <a:lnTo>
                        <a:pt x="67" y="81"/>
                      </a:lnTo>
                      <a:lnTo>
                        <a:pt x="77" y="99"/>
                      </a:lnTo>
                      <a:lnTo>
                        <a:pt x="87" y="115"/>
                      </a:lnTo>
                      <a:lnTo>
                        <a:pt x="96" y="133"/>
                      </a:lnTo>
                      <a:lnTo>
                        <a:pt x="106" y="149"/>
                      </a:lnTo>
                      <a:lnTo>
                        <a:pt x="114" y="167"/>
                      </a:lnTo>
                      <a:lnTo>
                        <a:pt x="114" y="167"/>
                      </a:lnTo>
                      <a:lnTo>
                        <a:pt x="114" y="16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224760" y="914400"/>
                  <a:ext cx="29880" cy="58680"/>
                </a:xfrm>
                <a:custGeom>
                  <a:avLst/>
                  <a:gdLst/>
                  <a:ahLst/>
                  <a:rect l="l" t="t" r="r" b="b"/>
                  <a:pathLst>
                    <a:path w="43" h="74">
                      <a:moveTo>
                        <a:pt x="0" y="74"/>
                      </a:moveTo>
                      <a:lnTo>
                        <a:pt x="0" y="65"/>
                      </a:lnTo>
                      <a:lnTo>
                        <a:pt x="0" y="58"/>
                      </a:lnTo>
                      <a:lnTo>
                        <a:pt x="2" y="49"/>
                      </a:lnTo>
                      <a:lnTo>
                        <a:pt x="6" y="41"/>
                      </a:lnTo>
                      <a:lnTo>
                        <a:pt x="10" y="32"/>
                      </a:lnTo>
                      <a:lnTo>
                        <a:pt x="16" y="25"/>
                      </a:lnTo>
                      <a:lnTo>
                        <a:pt x="22" y="18"/>
                      </a:lnTo>
                      <a:lnTo>
                        <a:pt x="29" y="13"/>
                      </a:lnTo>
                      <a:lnTo>
                        <a:pt x="35" y="5"/>
                      </a:lnTo>
                      <a:lnTo>
                        <a:pt x="43" y="0"/>
                      </a:lnTo>
                      <a:lnTo>
                        <a:pt x="39" y="7"/>
                      </a:lnTo>
                      <a:lnTo>
                        <a:pt x="35" y="14"/>
                      </a:lnTo>
                      <a:lnTo>
                        <a:pt x="31" y="23"/>
                      </a:lnTo>
                      <a:lnTo>
                        <a:pt x="27" y="31"/>
                      </a:lnTo>
                      <a:lnTo>
                        <a:pt x="24" y="40"/>
                      </a:lnTo>
                      <a:lnTo>
                        <a:pt x="20" y="47"/>
                      </a:lnTo>
                      <a:lnTo>
                        <a:pt x="16" y="54"/>
                      </a:lnTo>
                      <a:lnTo>
                        <a:pt x="12" y="61"/>
                      </a:lnTo>
                      <a:lnTo>
                        <a:pt x="6" y="69"/>
                      </a:lnTo>
                      <a:lnTo>
                        <a:pt x="0" y="74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743520" y="951120"/>
                  <a:ext cx="153360" cy="207720"/>
                </a:xfrm>
                <a:custGeom>
                  <a:avLst/>
                  <a:gdLst/>
                  <a:ahLst/>
                  <a:rect l="l" t="t" r="r" b="b"/>
                  <a:pathLst>
                    <a:path w="213" h="261">
                      <a:moveTo>
                        <a:pt x="213" y="261"/>
                      </a:moveTo>
                      <a:lnTo>
                        <a:pt x="207" y="254"/>
                      </a:lnTo>
                      <a:lnTo>
                        <a:pt x="199" y="243"/>
                      </a:lnTo>
                      <a:lnTo>
                        <a:pt x="189" y="232"/>
                      </a:lnTo>
                      <a:lnTo>
                        <a:pt x="180" y="218"/>
                      </a:lnTo>
                      <a:lnTo>
                        <a:pt x="170" y="205"/>
                      </a:lnTo>
                      <a:lnTo>
                        <a:pt x="160" y="193"/>
                      </a:lnTo>
                      <a:lnTo>
                        <a:pt x="149" y="180"/>
                      </a:lnTo>
                      <a:lnTo>
                        <a:pt x="135" y="169"/>
                      </a:lnTo>
                      <a:lnTo>
                        <a:pt x="122" y="160"/>
                      </a:lnTo>
                      <a:lnTo>
                        <a:pt x="108" y="155"/>
                      </a:lnTo>
                      <a:lnTo>
                        <a:pt x="0" y="0"/>
                      </a:lnTo>
                      <a:lnTo>
                        <a:pt x="17" y="31"/>
                      </a:lnTo>
                      <a:lnTo>
                        <a:pt x="38" y="56"/>
                      </a:lnTo>
                      <a:lnTo>
                        <a:pt x="62" y="81"/>
                      </a:lnTo>
                      <a:lnTo>
                        <a:pt x="87" y="106"/>
                      </a:lnTo>
                      <a:lnTo>
                        <a:pt x="112" y="128"/>
                      </a:lnTo>
                      <a:lnTo>
                        <a:pt x="137" y="153"/>
                      </a:lnTo>
                      <a:lnTo>
                        <a:pt x="160" y="177"/>
                      </a:lnTo>
                      <a:lnTo>
                        <a:pt x="182" y="202"/>
                      </a:lnTo>
                      <a:lnTo>
                        <a:pt x="199" y="231"/>
                      </a:lnTo>
                      <a:lnTo>
                        <a:pt x="213" y="261"/>
                      </a:lnTo>
                      <a:lnTo>
                        <a:pt x="213" y="261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896440" y="922320"/>
                  <a:ext cx="355320" cy="1181160"/>
                </a:xfrm>
                <a:custGeom>
                  <a:avLst/>
                  <a:gdLst/>
                  <a:ahLst/>
                  <a:rect l="l" t="t" r="r" b="b"/>
                  <a:pathLst>
                    <a:path w="496" h="1489">
                      <a:moveTo>
                        <a:pt x="419" y="74"/>
                      </a:moveTo>
                      <a:lnTo>
                        <a:pt x="415" y="101"/>
                      </a:lnTo>
                      <a:lnTo>
                        <a:pt x="413" y="128"/>
                      </a:lnTo>
                      <a:lnTo>
                        <a:pt x="409" y="155"/>
                      </a:lnTo>
                      <a:lnTo>
                        <a:pt x="409" y="182"/>
                      </a:lnTo>
                      <a:lnTo>
                        <a:pt x="407" y="207"/>
                      </a:lnTo>
                      <a:lnTo>
                        <a:pt x="407" y="234"/>
                      </a:lnTo>
                      <a:lnTo>
                        <a:pt x="407" y="261"/>
                      </a:lnTo>
                      <a:lnTo>
                        <a:pt x="407" y="288"/>
                      </a:lnTo>
                      <a:lnTo>
                        <a:pt x="409" y="314"/>
                      </a:lnTo>
                      <a:lnTo>
                        <a:pt x="409" y="341"/>
                      </a:lnTo>
                      <a:lnTo>
                        <a:pt x="415" y="341"/>
                      </a:lnTo>
                      <a:lnTo>
                        <a:pt x="434" y="103"/>
                      </a:lnTo>
                      <a:lnTo>
                        <a:pt x="452" y="87"/>
                      </a:lnTo>
                      <a:lnTo>
                        <a:pt x="454" y="94"/>
                      </a:lnTo>
                      <a:lnTo>
                        <a:pt x="456" y="103"/>
                      </a:lnTo>
                      <a:lnTo>
                        <a:pt x="456" y="114"/>
                      </a:lnTo>
                      <a:lnTo>
                        <a:pt x="456" y="126"/>
                      </a:lnTo>
                      <a:lnTo>
                        <a:pt x="456" y="139"/>
                      </a:lnTo>
                      <a:lnTo>
                        <a:pt x="456" y="151"/>
                      </a:lnTo>
                      <a:lnTo>
                        <a:pt x="457" y="162"/>
                      </a:lnTo>
                      <a:lnTo>
                        <a:pt x="461" y="173"/>
                      </a:lnTo>
                      <a:lnTo>
                        <a:pt x="467" y="180"/>
                      </a:lnTo>
                      <a:lnTo>
                        <a:pt x="477" y="188"/>
                      </a:lnTo>
                      <a:lnTo>
                        <a:pt x="481" y="178"/>
                      </a:lnTo>
                      <a:lnTo>
                        <a:pt x="481" y="169"/>
                      </a:lnTo>
                      <a:lnTo>
                        <a:pt x="481" y="159"/>
                      </a:lnTo>
                      <a:lnTo>
                        <a:pt x="481" y="150"/>
                      </a:lnTo>
                      <a:lnTo>
                        <a:pt x="479" y="139"/>
                      </a:lnTo>
                      <a:lnTo>
                        <a:pt x="479" y="128"/>
                      </a:lnTo>
                      <a:lnTo>
                        <a:pt x="479" y="119"/>
                      </a:lnTo>
                      <a:lnTo>
                        <a:pt x="479" y="110"/>
                      </a:lnTo>
                      <a:lnTo>
                        <a:pt x="481" y="103"/>
                      </a:lnTo>
                      <a:lnTo>
                        <a:pt x="485" y="97"/>
                      </a:lnTo>
                      <a:lnTo>
                        <a:pt x="483" y="117"/>
                      </a:lnTo>
                      <a:lnTo>
                        <a:pt x="483" y="135"/>
                      </a:lnTo>
                      <a:lnTo>
                        <a:pt x="485" y="155"/>
                      </a:lnTo>
                      <a:lnTo>
                        <a:pt x="486" y="173"/>
                      </a:lnTo>
                      <a:lnTo>
                        <a:pt x="488" y="191"/>
                      </a:lnTo>
                      <a:lnTo>
                        <a:pt x="492" y="209"/>
                      </a:lnTo>
                      <a:lnTo>
                        <a:pt x="494" y="227"/>
                      </a:lnTo>
                      <a:lnTo>
                        <a:pt x="496" y="243"/>
                      </a:lnTo>
                      <a:lnTo>
                        <a:pt x="496" y="260"/>
                      </a:lnTo>
                      <a:lnTo>
                        <a:pt x="494" y="276"/>
                      </a:lnTo>
                      <a:lnTo>
                        <a:pt x="490" y="267"/>
                      </a:lnTo>
                      <a:lnTo>
                        <a:pt x="488" y="260"/>
                      </a:lnTo>
                      <a:lnTo>
                        <a:pt x="486" y="251"/>
                      </a:lnTo>
                      <a:lnTo>
                        <a:pt x="486" y="242"/>
                      </a:lnTo>
                      <a:lnTo>
                        <a:pt x="486" y="233"/>
                      </a:lnTo>
                      <a:lnTo>
                        <a:pt x="485" y="225"/>
                      </a:lnTo>
                      <a:lnTo>
                        <a:pt x="485" y="216"/>
                      </a:lnTo>
                      <a:lnTo>
                        <a:pt x="483" y="209"/>
                      </a:lnTo>
                      <a:lnTo>
                        <a:pt x="481" y="200"/>
                      </a:lnTo>
                      <a:lnTo>
                        <a:pt x="477" y="193"/>
                      </a:lnTo>
                      <a:lnTo>
                        <a:pt x="465" y="215"/>
                      </a:lnTo>
                      <a:lnTo>
                        <a:pt x="463" y="211"/>
                      </a:lnTo>
                      <a:lnTo>
                        <a:pt x="463" y="207"/>
                      </a:lnTo>
                      <a:lnTo>
                        <a:pt x="461" y="206"/>
                      </a:lnTo>
                      <a:lnTo>
                        <a:pt x="461" y="202"/>
                      </a:lnTo>
                      <a:lnTo>
                        <a:pt x="461" y="198"/>
                      </a:lnTo>
                      <a:lnTo>
                        <a:pt x="461" y="195"/>
                      </a:lnTo>
                      <a:lnTo>
                        <a:pt x="461" y="193"/>
                      </a:lnTo>
                      <a:lnTo>
                        <a:pt x="459" y="191"/>
                      </a:lnTo>
                      <a:lnTo>
                        <a:pt x="456" y="191"/>
                      </a:lnTo>
                      <a:lnTo>
                        <a:pt x="450" y="191"/>
                      </a:lnTo>
                      <a:lnTo>
                        <a:pt x="448" y="193"/>
                      </a:lnTo>
                      <a:lnTo>
                        <a:pt x="446" y="193"/>
                      </a:lnTo>
                      <a:lnTo>
                        <a:pt x="444" y="195"/>
                      </a:lnTo>
                      <a:lnTo>
                        <a:pt x="444" y="197"/>
                      </a:lnTo>
                      <a:lnTo>
                        <a:pt x="444" y="200"/>
                      </a:lnTo>
                      <a:lnTo>
                        <a:pt x="444" y="202"/>
                      </a:lnTo>
                      <a:lnTo>
                        <a:pt x="444" y="204"/>
                      </a:lnTo>
                      <a:lnTo>
                        <a:pt x="444" y="207"/>
                      </a:lnTo>
                      <a:lnTo>
                        <a:pt x="444" y="209"/>
                      </a:lnTo>
                      <a:lnTo>
                        <a:pt x="442" y="213"/>
                      </a:lnTo>
                      <a:lnTo>
                        <a:pt x="444" y="211"/>
                      </a:lnTo>
                      <a:lnTo>
                        <a:pt x="444" y="209"/>
                      </a:lnTo>
                      <a:lnTo>
                        <a:pt x="442" y="207"/>
                      </a:lnTo>
                      <a:lnTo>
                        <a:pt x="442" y="206"/>
                      </a:lnTo>
                      <a:lnTo>
                        <a:pt x="440" y="204"/>
                      </a:lnTo>
                      <a:lnTo>
                        <a:pt x="440" y="204"/>
                      </a:lnTo>
                      <a:lnTo>
                        <a:pt x="438" y="202"/>
                      </a:lnTo>
                      <a:lnTo>
                        <a:pt x="436" y="200"/>
                      </a:lnTo>
                      <a:lnTo>
                        <a:pt x="436" y="198"/>
                      </a:lnTo>
                      <a:lnTo>
                        <a:pt x="434" y="197"/>
                      </a:lnTo>
                      <a:lnTo>
                        <a:pt x="428" y="215"/>
                      </a:lnTo>
                      <a:lnTo>
                        <a:pt x="425" y="231"/>
                      </a:lnTo>
                      <a:lnTo>
                        <a:pt x="425" y="245"/>
                      </a:lnTo>
                      <a:lnTo>
                        <a:pt x="426" y="261"/>
                      </a:lnTo>
                      <a:lnTo>
                        <a:pt x="430" y="276"/>
                      </a:lnTo>
                      <a:lnTo>
                        <a:pt x="434" y="290"/>
                      </a:lnTo>
                      <a:lnTo>
                        <a:pt x="438" y="305"/>
                      </a:lnTo>
                      <a:lnTo>
                        <a:pt x="440" y="319"/>
                      </a:lnTo>
                      <a:lnTo>
                        <a:pt x="440" y="335"/>
                      </a:lnTo>
                      <a:lnTo>
                        <a:pt x="438" y="350"/>
                      </a:lnTo>
                      <a:lnTo>
                        <a:pt x="450" y="377"/>
                      </a:lnTo>
                      <a:lnTo>
                        <a:pt x="446" y="371"/>
                      </a:lnTo>
                      <a:lnTo>
                        <a:pt x="444" y="366"/>
                      </a:lnTo>
                      <a:lnTo>
                        <a:pt x="440" y="362"/>
                      </a:lnTo>
                      <a:lnTo>
                        <a:pt x="436" y="357"/>
                      </a:lnTo>
                      <a:lnTo>
                        <a:pt x="432" y="353"/>
                      </a:lnTo>
                      <a:lnTo>
                        <a:pt x="428" y="350"/>
                      </a:lnTo>
                      <a:lnTo>
                        <a:pt x="423" y="348"/>
                      </a:lnTo>
                      <a:lnTo>
                        <a:pt x="419" y="348"/>
                      </a:lnTo>
                      <a:lnTo>
                        <a:pt x="411" y="350"/>
                      </a:lnTo>
                      <a:lnTo>
                        <a:pt x="405" y="353"/>
                      </a:lnTo>
                      <a:lnTo>
                        <a:pt x="397" y="334"/>
                      </a:lnTo>
                      <a:lnTo>
                        <a:pt x="394" y="316"/>
                      </a:lnTo>
                      <a:lnTo>
                        <a:pt x="392" y="296"/>
                      </a:lnTo>
                      <a:lnTo>
                        <a:pt x="390" y="274"/>
                      </a:lnTo>
                      <a:lnTo>
                        <a:pt x="390" y="254"/>
                      </a:lnTo>
                      <a:lnTo>
                        <a:pt x="390" y="234"/>
                      </a:lnTo>
                      <a:lnTo>
                        <a:pt x="390" y="215"/>
                      </a:lnTo>
                      <a:lnTo>
                        <a:pt x="390" y="195"/>
                      </a:lnTo>
                      <a:lnTo>
                        <a:pt x="388" y="177"/>
                      </a:lnTo>
                      <a:lnTo>
                        <a:pt x="386" y="160"/>
                      </a:lnTo>
                      <a:lnTo>
                        <a:pt x="384" y="178"/>
                      </a:lnTo>
                      <a:lnTo>
                        <a:pt x="380" y="198"/>
                      </a:lnTo>
                      <a:lnTo>
                        <a:pt x="378" y="216"/>
                      </a:lnTo>
                      <a:lnTo>
                        <a:pt x="376" y="236"/>
                      </a:lnTo>
                      <a:lnTo>
                        <a:pt x="374" y="256"/>
                      </a:lnTo>
                      <a:lnTo>
                        <a:pt x="372" y="276"/>
                      </a:lnTo>
                      <a:lnTo>
                        <a:pt x="372" y="296"/>
                      </a:lnTo>
                      <a:lnTo>
                        <a:pt x="374" y="316"/>
                      </a:lnTo>
                      <a:lnTo>
                        <a:pt x="376" y="334"/>
                      </a:lnTo>
                      <a:lnTo>
                        <a:pt x="382" y="352"/>
                      </a:lnTo>
                      <a:lnTo>
                        <a:pt x="376" y="355"/>
                      </a:lnTo>
                      <a:lnTo>
                        <a:pt x="372" y="359"/>
                      </a:lnTo>
                      <a:lnTo>
                        <a:pt x="368" y="362"/>
                      </a:lnTo>
                      <a:lnTo>
                        <a:pt x="365" y="368"/>
                      </a:lnTo>
                      <a:lnTo>
                        <a:pt x="361" y="373"/>
                      </a:lnTo>
                      <a:lnTo>
                        <a:pt x="357" y="380"/>
                      </a:lnTo>
                      <a:lnTo>
                        <a:pt x="355" y="386"/>
                      </a:lnTo>
                      <a:lnTo>
                        <a:pt x="353" y="393"/>
                      </a:lnTo>
                      <a:lnTo>
                        <a:pt x="351" y="398"/>
                      </a:lnTo>
                      <a:lnTo>
                        <a:pt x="349" y="406"/>
                      </a:lnTo>
                      <a:lnTo>
                        <a:pt x="347" y="402"/>
                      </a:lnTo>
                      <a:lnTo>
                        <a:pt x="345" y="398"/>
                      </a:lnTo>
                      <a:lnTo>
                        <a:pt x="345" y="395"/>
                      </a:lnTo>
                      <a:lnTo>
                        <a:pt x="347" y="389"/>
                      </a:lnTo>
                      <a:lnTo>
                        <a:pt x="347" y="384"/>
                      </a:lnTo>
                      <a:lnTo>
                        <a:pt x="347" y="379"/>
                      </a:lnTo>
                      <a:lnTo>
                        <a:pt x="347" y="375"/>
                      </a:lnTo>
                      <a:lnTo>
                        <a:pt x="345" y="371"/>
                      </a:lnTo>
                      <a:lnTo>
                        <a:pt x="341" y="370"/>
                      </a:lnTo>
                      <a:lnTo>
                        <a:pt x="334" y="370"/>
                      </a:lnTo>
                      <a:lnTo>
                        <a:pt x="328" y="377"/>
                      </a:lnTo>
                      <a:lnTo>
                        <a:pt x="324" y="384"/>
                      </a:lnTo>
                      <a:lnTo>
                        <a:pt x="322" y="393"/>
                      </a:lnTo>
                      <a:lnTo>
                        <a:pt x="322" y="400"/>
                      </a:lnTo>
                      <a:lnTo>
                        <a:pt x="322" y="409"/>
                      </a:lnTo>
                      <a:lnTo>
                        <a:pt x="324" y="418"/>
                      </a:lnTo>
                      <a:lnTo>
                        <a:pt x="326" y="425"/>
                      </a:lnTo>
                      <a:lnTo>
                        <a:pt x="328" y="434"/>
                      </a:lnTo>
                      <a:lnTo>
                        <a:pt x="328" y="442"/>
                      </a:lnTo>
                      <a:lnTo>
                        <a:pt x="328" y="451"/>
                      </a:lnTo>
                      <a:lnTo>
                        <a:pt x="326" y="447"/>
                      </a:lnTo>
                      <a:lnTo>
                        <a:pt x="324" y="442"/>
                      </a:lnTo>
                      <a:lnTo>
                        <a:pt x="324" y="438"/>
                      </a:lnTo>
                      <a:lnTo>
                        <a:pt x="322" y="434"/>
                      </a:lnTo>
                      <a:lnTo>
                        <a:pt x="320" y="429"/>
                      </a:lnTo>
                      <a:lnTo>
                        <a:pt x="318" y="424"/>
                      </a:lnTo>
                      <a:lnTo>
                        <a:pt x="316" y="420"/>
                      </a:lnTo>
                      <a:lnTo>
                        <a:pt x="314" y="415"/>
                      </a:lnTo>
                      <a:lnTo>
                        <a:pt x="312" y="411"/>
                      </a:lnTo>
                      <a:lnTo>
                        <a:pt x="312" y="406"/>
                      </a:lnTo>
                      <a:lnTo>
                        <a:pt x="303" y="415"/>
                      </a:lnTo>
                      <a:lnTo>
                        <a:pt x="299" y="424"/>
                      </a:lnTo>
                      <a:lnTo>
                        <a:pt x="295" y="433"/>
                      </a:lnTo>
                      <a:lnTo>
                        <a:pt x="297" y="443"/>
                      </a:lnTo>
                      <a:lnTo>
                        <a:pt x="297" y="454"/>
                      </a:lnTo>
                      <a:lnTo>
                        <a:pt x="301" y="465"/>
                      </a:lnTo>
                      <a:lnTo>
                        <a:pt x="304" y="476"/>
                      </a:lnTo>
                      <a:lnTo>
                        <a:pt x="308" y="487"/>
                      </a:lnTo>
                      <a:lnTo>
                        <a:pt x="312" y="498"/>
                      </a:lnTo>
                      <a:lnTo>
                        <a:pt x="314" y="508"/>
                      </a:lnTo>
                      <a:lnTo>
                        <a:pt x="312" y="501"/>
                      </a:lnTo>
                      <a:lnTo>
                        <a:pt x="308" y="496"/>
                      </a:lnTo>
                      <a:lnTo>
                        <a:pt x="306" y="490"/>
                      </a:lnTo>
                      <a:lnTo>
                        <a:pt x="304" y="485"/>
                      </a:lnTo>
                      <a:lnTo>
                        <a:pt x="301" y="478"/>
                      </a:lnTo>
                      <a:lnTo>
                        <a:pt x="299" y="472"/>
                      </a:lnTo>
                      <a:lnTo>
                        <a:pt x="295" y="467"/>
                      </a:lnTo>
                      <a:lnTo>
                        <a:pt x="291" y="462"/>
                      </a:lnTo>
                      <a:lnTo>
                        <a:pt x="289" y="458"/>
                      </a:lnTo>
                      <a:lnTo>
                        <a:pt x="285" y="453"/>
                      </a:lnTo>
                      <a:lnTo>
                        <a:pt x="275" y="462"/>
                      </a:lnTo>
                      <a:lnTo>
                        <a:pt x="274" y="460"/>
                      </a:lnTo>
                      <a:lnTo>
                        <a:pt x="274" y="458"/>
                      </a:lnTo>
                      <a:lnTo>
                        <a:pt x="274" y="454"/>
                      </a:lnTo>
                      <a:lnTo>
                        <a:pt x="272" y="453"/>
                      </a:lnTo>
                      <a:lnTo>
                        <a:pt x="272" y="449"/>
                      </a:lnTo>
                      <a:lnTo>
                        <a:pt x="272" y="447"/>
                      </a:lnTo>
                      <a:lnTo>
                        <a:pt x="270" y="445"/>
                      </a:lnTo>
                      <a:lnTo>
                        <a:pt x="268" y="443"/>
                      </a:lnTo>
                      <a:lnTo>
                        <a:pt x="266" y="443"/>
                      </a:lnTo>
                      <a:lnTo>
                        <a:pt x="262" y="443"/>
                      </a:lnTo>
                      <a:lnTo>
                        <a:pt x="258" y="460"/>
                      </a:lnTo>
                      <a:lnTo>
                        <a:pt x="254" y="476"/>
                      </a:lnTo>
                      <a:lnTo>
                        <a:pt x="252" y="492"/>
                      </a:lnTo>
                      <a:lnTo>
                        <a:pt x="250" y="508"/>
                      </a:lnTo>
                      <a:lnTo>
                        <a:pt x="252" y="525"/>
                      </a:lnTo>
                      <a:lnTo>
                        <a:pt x="256" y="539"/>
                      </a:lnTo>
                      <a:lnTo>
                        <a:pt x="260" y="555"/>
                      </a:lnTo>
                      <a:lnTo>
                        <a:pt x="268" y="570"/>
                      </a:lnTo>
                      <a:lnTo>
                        <a:pt x="275" y="586"/>
                      </a:lnTo>
                      <a:lnTo>
                        <a:pt x="287" y="600"/>
                      </a:lnTo>
                      <a:lnTo>
                        <a:pt x="285" y="622"/>
                      </a:lnTo>
                      <a:lnTo>
                        <a:pt x="237" y="541"/>
                      </a:lnTo>
                      <a:lnTo>
                        <a:pt x="231" y="546"/>
                      </a:lnTo>
                      <a:lnTo>
                        <a:pt x="227" y="552"/>
                      </a:lnTo>
                      <a:lnTo>
                        <a:pt x="225" y="559"/>
                      </a:lnTo>
                      <a:lnTo>
                        <a:pt x="227" y="566"/>
                      </a:lnTo>
                      <a:lnTo>
                        <a:pt x="227" y="575"/>
                      </a:lnTo>
                      <a:lnTo>
                        <a:pt x="231" y="582"/>
                      </a:lnTo>
                      <a:lnTo>
                        <a:pt x="235" y="591"/>
                      </a:lnTo>
                      <a:lnTo>
                        <a:pt x="239" y="600"/>
                      </a:lnTo>
                      <a:lnTo>
                        <a:pt x="243" y="608"/>
                      </a:lnTo>
                      <a:lnTo>
                        <a:pt x="246" y="615"/>
                      </a:lnTo>
                      <a:lnTo>
                        <a:pt x="244" y="617"/>
                      </a:lnTo>
                      <a:lnTo>
                        <a:pt x="243" y="615"/>
                      </a:lnTo>
                      <a:lnTo>
                        <a:pt x="241" y="611"/>
                      </a:lnTo>
                      <a:lnTo>
                        <a:pt x="239" y="608"/>
                      </a:lnTo>
                      <a:lnTo>
                        <a:pt x="239" y="602"/>
                      </a:lnTo>
                      <a:lnTo>
                        <a:pt x="235" y="599"/>
                      </a:lnTo>
                      <a:lnTo>
                        <a:pt x="233" y="593"/>
                      </a:lnTo>
                      <a:lnTo>
                        <a:pt x="231" y="588"/>
                      </a:lnTo>
                      <a:lnTo>
                        <a:pt x="229" y="582"/>
                      </a:lnTo>
                      <a:lnTo>
                        <a:pt x="225" y="579"/>
                      </a:lnTo>
                      <a:lnTo>
                        <a:pt x="217" y="582"/>
                      </a:lnTo>
                      <a:lnTo>
                        <a:pt x="212" y="586"/>
                      </a:lnTo>
                      <a:lnTo>
                        <a:pt x="210" y="590"/>
                      </a:lnTo>
                      <a:lnTo>
                        <a:pt x="210" y="595"/>
                      </a:lnTo>
                      <a:lnTo>
                        <a:pt x="210" y="600"/>
                      </a:lnTo>
                      <a:lnTo>
                        <a:pt x="212" y="606"/>
                      </a:lnTo>
                      <a:lnTo>
                        <a:pt x="213" y="611"/>
                      </a:lnTo>
                      <a:lnTo>
                        <a:pt x="213" y="618"/>
                      </a:lnTo>
                      <a:lnTo>
                        <a:pt x="213" y="624"/>
                      </a:lnTo>
                      <a:lnTo>
                        <a:pt x="212" y="631"/>
                      </a:lnTo>
                      <a:lnTo>
                        <a:pt x="210" y="627"/>
                      </a:lnTo>
                      <a:lnTo>
                        <a:pt x="210" y="626"/>
                      </a:lnTo>
                      <a:lnTo>
                        <a:pt x="208" y="622"/>
                      </a:lnTo>
                      <a:lnTo>
                        <a:pt x="208" y="618"/>
                      </a:lnTo>
                      <a:lnTo>
                        <a:pt x="206" y="615"/>
                      </a:lnTo>
                      <a:lnTo>
                        <a:pt x="204" y="611"/>
                      </a:lnTo>
                      <a:lnTo>
                        <a:pt x="202" y="608"/>
                      </a:lnTo>
                      <a:lnTo>
                        <a:pt x="200" y="606"/>
                      </a:lnTo>
                      <a:lnTo>
                        <a:pt x="198" y="604"/>
                      </a:lnTo>
                      <a:lnTo>
                        <a:pt x="194" y="602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0" y="606"/>
                      </a:lnTo>
                      <a:lnTo>
                        <a:pt x="190" y="608"/>
                      </a:lnTo>
                      <a:lnTo>
                        <a:pt x="190" y="608"/>
                      </a:lnTo>
                      <a:lnTo>
                        <a:pt x="190" y="609"/>
                      </a:lnTo>
                      <a:lnTo>
                        <a:pt x="188" y="611"/>
                      </a:lnTo>
                      <a:lnTo>
                        <a:pt x="188" y="613"/>
                      </a:lnTo>
                      <a:lnTo>
                        <a:pt x="188" y="615"/>
                      </a:lnTo>
                      <a:lnTo>
                        <a:pt x="188" y="615"/>
                      </a:lnTo>
                      <a:lnTo>
                        <a:pt x="188" y="613"/>
                      </a:lnTo>
                      <a:lnTo>
                        <a:pt x="186" y="611"/>
                      </a:lnTo>
                      <a:lnTo>
                        <a:pt x="186" y="608"/>
                      </a:lnTo>
                      <a:lnTo>
                        <a:pt x="184" y="606"/>
                      </a:lnTo>
                      <a:lnTo>
                        <a:pt x="183" y="602"/>
                      </a:lnTo>
                      <a:lnTo>
                        <a:pt x="183" y="599"/>
                      </a:lnTo>
                      <a:lnTo>
                        <a:pt x="181" y="597"/>
                      </a:lnTo>
                      <a:lnTo>
                        <a:pt x="177" y="593"/>
                      </a:lnTo>
                      <a:lnTo>
                        <a:pt x="175" y="591"/>
                      </a:lnTo>
                      <a:lnTo>
                        <a:pt x="171" y="590"/>
                      </a:lnTo>
                      <a:lnTo>
                        <a:pt x="171" y="611"/>
                      </a:lnTo>
                      <a:lnTo>
                        <a:pt x="173" y="633"/>
                      </a:lnTo>
                      <a:lnTo>
                        <a:pt x="179" y="654"/>
                      </a:lnTo>
                      <a:lnTo>
                        <a:pt x="186" y="676"/>
                      </a:lnTo>
                      <a:lnTo>
                        <a:pt x="196" y="698"/>
                      </a:lnTo>
                      <a:lnTo>
                        <a:pt x="206" y="718"/>
                      </a:lnTo>
                      <a:lnTo>
                        <a:pt x="217" y="737"/>
                      </a:lnTo>
                      <a:lnTo>
                        <a:pt x="227" y="759"/>
                      </a:lnTo>
                      <a:lnTo>
                        <a:pt x="235" y="781"/>
                      </a:lnTo>
                      <a:lnTo>
                        <a:pt x="241" y="800"/>
                      </a:lnTo>
                      <a:lnTo>
                        <a:pt x="239" y="788"/>
                      </a:lnTo>
                      <a:lnTo>
                        <a:pt x="233" y="777"/>
                      </a:lnTo>
                      <a:lnTo>
                        <a:pt x="227" y="768"/>
                      </a:lnTo>
                      <a:lnTo>
                        <a:pt x="219" y="759"/>
                      </a:lnTo>
                      <a:lnTo>
                        <a:pt x="213" y="750"/>
                      </a:lnTo>
                      <a:lnTo>
                        <a:pt x="206" y="741"/>
                      </a:lnTo>
                      <a:lnTo>
                        <a:pt x="198" y="732"/>
                      </a:lnTo>
                      <a:lnTo>
                        <a:pt x="192" y="723"/>
                      </a:lnTo>
                      <a:lnTo>
                        <a:pt x="188" y="710"/>
                      </a:lnTo>
                      <a:lnTo>
                        <a:pt x="186" y="698"/>
                      </a:lnTo>
                      <a:lnTo>
                        <a:pt x="181" y="698"/>
                      </a:lnTo>
                      <a:lnTo>
                        <a:pt x="175" y="696"/>
                      </a:lnTo>
                      <a:lnTo>
                        <a:pt x="173" y="692"/>
                      </a:lnTo>
                      <a:lnTo>
                        <a:pt x="171" y="687"/>
                      </a:lnTo>
                      <a:lnTo>
                        <a:pt x="171" y="681"/>
                      </a:lnTo>
                      <a:lnTo>
                        <a:pt x="169" y="674"/>
                      </a:lnTo>
                      <a:lnTo>
                        <a:pt x="171" y="669"/>
                      </a:lnTo>
                      <a:lnTo>
                        <a:pt x="169" y="662"/>
                      </a:lnTo>
                      <a:lnTo>
                        <a:pt x="169" y="654"/>
                      </a:lnTo>
                      <a:lnTo>
                        <a:pt x="167" y="649"/>
                      </a:lnTo>
                      <a:lnTo>
                        <a:pt x="169" y="647"/>
                      </a:lnTo>
                      <a:lnTo>
                        <a:pt x="169" y="645"/>
                      </a:lnTo>
                      <a:lnTo>
                        <a:pt x="169" y="645"/>
                      </a:lnTo>
                      <a:lnTo>
                        <a:pt x="167" y="644"/>
                      </a:lnTo>
                      <a:lnTo>
                        <a:pt x="167" y="642"/>
                      </a:lnTo>
                      <a:lnTo>
                        <a:pt x="165" y="640"/>
                      </a:lnTo>
                      <a:lnTo>
                        <a:pt x="163" y="640"/>
                      </a:lnTo>
                      <a:lnTo>
                        <a:pt x="163" y="638"/>
                      </a:lnTo>
                      <a:lnTo>
                        <a:pt x="161" y="636"/>
                      </a:lnTo>
                      <a:lnTo>
                        <a:pt x="161" y="635"/>
                      </a:lnTo>
                      <a:lnTo>
                        <a:pt x="157" y="640"/>
                      </a:lnTo>
                      <a:lnTo>
                        <a:pt x="155" y="645"/>
                      </a:lnTo>
                      <a:lnTo>
                        <a:pt x="152" y="649"/>
                      </a:lnTo>
                      <a:lnTo>
                        <a:pt x="148" y="653"/>
                      </a:lnTo>
                      <a:lnTo>
                        <a:pt x="144" y="658"/>
                      </a:lnTo>
                      <a:lnTo>
                        <a:pt x="142" y="662"/>
                      </a:lnTo>
                      <a:lnTo>
                        <a:pt x="138" y="667"/>
                      </a:lnTo>
                      <a:lnTo>
                        <a:pt x="136" y="672"/>
                      </a:lnTo>
                      <a:lnTo>
                        <a:pt x="136" y="678"/>
                      </a:lnTo>
                      <a:lnTo>
                        <a:pt x="138" y="685"/>
                      </a:lnTo>
                      <a:lnTo>
                        <a:pt x="136" y="755"/>
                      </a:lnTo>
                      <a:lnTo>
                        <a:pt x="132" y="743"/>
                      </a:lnTo>
                      <a:lnTo>
                        <a:pt x="130" y="730"/>
                      </a:lnTo>
                      <a:lnTo>
                        <a:pt x="126" y="716"/>
                      </a:lnTo>
                      <a:lnTo>
                        <a:pt x="124" y="701"/>
                      </a:lnTo>
                      <a:lnTo>
                        <a:pt x="122" y="685"/>
                      </a:lnTo>
                      <a:lnTo>
                        <a:pt x="121" y="671"/>
                      </a:lnTo>
                      <a:lnTo>
                        <a:pt x="121" y="656"/>
                      </a:lnTo>
                      <a:lnTo>
                        <a:pt x="121" y="640"/>
                      </a:lnTo>
                      <a:lnTo>
                        <a:pt x="121" y="626"/>
                      </a:lnTo>
                      <a:lnTo>
                        <a:pt x="124" y="611"/>
                      </a:lnTo>
                      <a:lnTo>
                        <a:pt x="122" y="609"/>
                      </a:lnTo>
                      <a:lnTo>
                        <a:pt x="122" y="609"/>
                      </a:lnTo>
                      <a:lnTo>
                        <a:pt x="121" y="608"/>
                      </a:lnTo>
                      <a:lnTo>
                        <a:pt x="121" y="606"/>
                      </a:lnTo>
                      <a:lnTo>
                        <a:pt x="119" y="606"/>
                      </a:lnTo>
                      <a:lnTo>
                        <a:pt x="117" y="604"/>
                      </a:lnTo>
                      <a:lnTo>
                        <a:pt x="117" y="602"/>
                      </a:lnTo>
                      <a:lnTo>
                        <a:pt x="115" y="602"/>
                      </a:lnTo>
                      <a:lnTo>
                        <a:pt x="113" y="602"/>
                      </a:lnTo>
                      <a:lnTo>
                        <a:pt x="111" y="602"/>
                      </a:lnTo>
                      <a:lnTo>
                        <a:pt x="105" y="609"/>
                      </a:lnTo>
                      <a:lnTo>
                        <a:pt x="103" y="615"/>
                      </a:lnTo>
                      <a:lnTo>
                        <a:pt x="99" y="620"/>
                      </a:lnTo>
                      <a:lnTo>
                        <a:pt x="99" y="627"/>
                      </a:lnTo>
                      <a:lnTo>
                        <a:pt x="99" y="633"/>
                      </a:lnTo>
                      <a:lnTo>
                        <a:pt x="97" y="640"/>
                      </a:lnTo>
                      <a:lnTo>
                        <a:pt x="97" y="647"/>
                      </a:lnTo>
                      <a:lnTo>
                        <a:pt x="97" y="654"/>
                      </a:lnTo>
                      <a:lnTo>
                        <a:pt x="97" y="662"/>
                      </a:lnTo>
                      <a:lnTo>
                        <a:pt x="95" y="671"/>
                      </a:lnTo>
                      <a:lnTo>
                        <a:pt x="117" y="914"/>
                      </a:lnTo>
                      <a:lnTo>
                        <a:pt x="113" y="901"/>
                      </a:lnTo>
                      <a:lnTo>
                        <a:pt x="111" y="889"/>
                      </a:lnTo>
                      <a:lnTo>
                        <a:pt x="109" y="876"/>
                      </a:lnTo>
                      <a:lnTo>
                        <a:pt x="109" y="864"/>
                      </a:lnTo>
                      <a:lnTo>
                        <a:pt x="109" y="851"/>
                      </a:lnTo>
                      <a:lnTo>
                        <a:pt x="109" y="836"/>
                      </a:lnTo>
                      <a:lnTo>
                        <a:pt x="107" y="824"/>
                      </a:lnTo>
                      <a:lnTo>
                        <a:pt x="105" y="811"/>
                      </a:lnTo>
                      <a:lnTo>
                        <a:pt x="101" y="800"/>
                      </a:lnTo>
                      <a:lnTo>
                        <a:pt x="97" y="788"/>
                      </a:lnTo>
                      <a:lnTo>
                        <a:pt x="86" y="800"/>
                      </a:lnTo>
                      <a:lnTo>
                        <a:pt x="90" y="831"/>
                      </a:lnTo>
                      <a:lnTo>
                        <a:pt x="93" y="864"/>
                      </a:lnTo>
                      <a:lnTo>
                        <a:pt x="95" y="896"/>
                      </a:lnTo>
                      <a:lnTo>
                        <a:pt x="97" y="928"/>
                      </a:lnTo>
                      <a:lnTo>
                        <a:pt x="99" y="963"/>
                      </a:lnTo>
                      <a:lnTo>
                        <a:pt x="101" y="995"/>
                      </a:lnTo>
                      <a:lnTo>
                        <a:pt x="101" y="1028"/>
                      </a:lnTo>
                      <a:lnTo>
                        <a:pt x="103" y="1062"/>
                      </a:lnTo>
                      <a:lnTo>
                        <a:pt x="105" y="1094"/>
                      </a:lnTo>
                      <a:lnTo>
                        <a:pt x="109" y="1127"/>
                      </a:lnTo>
                      <a:lnTo>
                        <a:pt x="105" y="1107"/>
                      </a:lnTo>
                      <a:lnTo>
                        <a:pt x="101" y="1087"/>
                      </a:lnTo>
                      <a:lnTo>
                        <a:pt x="99" y="1067"/>
                      </a:lnTo>
                      <a:lnTo>
                        <a:pt x="99" y="1047"/>
                      </a:lnTo>
                      <a:lnTo>
                        <a:pt x="97" y="1026"/>
                      </a:lnTo>
                      <a:lnTo>
                        <a:pt x="95" y="1006"/>
                      </a:lnTo>
                      <a:lnTo>
                        <a:pt x="95" y="986"/>
                      </a:lnTo>
                      <a:lnTo>
                        <a:pt x="93" y="966"/>
                      </a:lnTo>
                      <a:lnTo>
                        <a:pt x="90" y="946"/>
                      </a:lnTo>
                      <a:lnTo>
                        <a:pt x="86" y="927"/>
                      </a:lnTo>
                      <a:lnTo>
                        <a:pt x="76" y="927"/>
                      </a:lnTo>
                      <a:lnTo>
                        <a:pt x="55" y="667"/>
                      </a:lnTo>
                      <a:lnTo>
                        <a:pt x="49" y="667"/>
                      </a:lnTo>
                      <a:lnTo>
                        <a:pt x="43" y="723"/>
                      </a:lnTo>
                      <a:lnTo>
                        <a:pt x="41" y="777"/>
                      </a:lnTo>
                      <a:lnTo>
                        <a:pt x="45" y="829"/>
                      </a:lnTo>
                      <a:lnTo>
                        <a:pt x="51" y="880"/>
                      </a:lnTo>
                      <a:lnTo>
                        <a:pt x="59" y="930"/>
                      </a:lnTo>
                      <a:lnTo>
                        <a:pt x="68" y="981"/>
                      </a:lnTo>
                      <a:lnTo>
                        <a:pt x="78" y="1033"/>
                      </a:lnTo>
                      <a:lnTo>
                        <a:pt x="88" y="1083"/>
                      </a:lnTo>
                      <a:lnTo>
                        <a:pt x="93" y="1136"/>
                      </a:lnTo>
                      <a:lnTo>
                        <a:pt x="95" y="1192"/>
                      </a:lnTo>
                      <a:lnTo>
                        <a:pt x="97" y="1192"/>
                      </a:lnTo>
                      <a:lnTo>
                        <a:pt x="99" y="1193"/>
                      </a:lnTo>
                      <a:lnTo>
                        <a:pt x="99" y="1195"/>
                      </a:lnTo>
                      <a:lnTo>
                        <a:pt x="101" y="1197"/>
                      </a:lnTo>
                      <a:lnTo>
                        <a:pt x="103" y="1199"/>
                      </a:lnTo>
                      <a:lnTo>
                        <a:pt x="105" y="1201"/>
                      </a:lnTo>
                      <a:lnTo>
                        <a:pt x="107" y="1201"/>
                      </a:lnTo>
                      <a:lnTo>
                        <a:pt x="107" y="1201"/>
                      </a:lnTo>
                      <a:lnTo>
                        <a:pt x="111" y="1202"/>
                      </a:lnTo>
                      <a:lnTo>
                        <a:pt x="113" y="1201"/>
                      </a:lnTo>
                      <a:lnTo>
                        <a:pt x="119" y="1195"/>
                      </a:lnTo>
                      <a:lnTo>
                        <a:pt x="128" y="1233"/>
                      </a:lnTo>
                      <a:lnTo>
                        <a:pt x="132" y="1235"/>
                      </a:lnTo>
                      <a:lnTo>
                        <a:pt x="132" y="1235"/>
                      </a:lnTo>
                      <a:lnTo>
                        <a:pt x="130" y="1233"/>
                      </a:lnTo>
                      <a:lnTo>
                        <a:pt x="128" y="1233"/>
                      </a:lnTo>
                      <a:lnTo>
                        <a:pt x="126" y="1231"/>
                      </a:lnTo>
                      <a:lnTo>
                        <a:pt x="122" y="1231"/>
                      </a:lnTo>
                      <a:lnTo>
                        <a:pt x="119" y="1231"/>
                      </a:lnTo>
                      <a:lnTo>
                        <a:pt x="117" y="1233"/>
                      </a:lnTo>
                      <a:lnTo>
                        <a:pt x="115" y="1235"/>
                      </a:lnTo>
                      <a:lnTo>
                        <a:pt x="115" y="1238"/>
                      </a:lnTo>
                      <a:lnTo>
                        <a:pt x="119" y="1240"/>
                      </a:lnTo>
                      <a:lnTo>
                        <a:pt x="119" y="1253"/>
                      </a:lnTo>
                      <a:lnTo>
                        <a:pt x="115" y="1253"/>
                      </a:lnTo>
                      <a:lnTo>
                        <a:pt x="115" y="1253"/>
                      </a:lnTo>
                      <a:lnTo>
                        <a:pt x="115" y="1251"/>
                      </a:lnTo>
                      <a:lnTo>
                        <a:pt x="113" y="1249"/>
                      </a:lnTo>
                      <a:lnTo>
                        <a:pt x="113" y="1249"/>
                      </a:lnTo>
                      <a:lnTo>
                        <a:pt x="113" y="1247"/>
                      </a:lnTo>
                      <a:lnTo>
                        <a:pt x="111" y="1247"/>
                      </a:lnTo>
                      <a:lnTo>
                        <a:pt x="111" y="1246"/>
                      </a:lnTo>
                      <a:lnTo>
                        <a:pt x="111" y="1246"/>
                      </a:lnTo>
                      <a:lnTo>
                        <a:pt x="109" y="1244"/>
                      </a:lnTo>
                      <a:lnTo>
                        <a:pt x="109" y="1244"/>
                      </a:lnTo>
                      <a:lnTo>
                        <a:pt x="107" y="1244"/>
                      </a:lnTo>
                      <a:lnTo>
                        <a:pt x="103" y="1242"/>
                      </a:lnTo>
                      <a:lnTo>
                        <a:pt x="101" y="1244"/>
                      </a:lnTo>
                      <a:lnTo>
                        <a:pt x="99" y="1244"/>
                      </a:lnTo>
                      <a:lnTo>
                        <a:pt x="97" y="1246"/>
                      </a:lnTo>
                      <a:lnTo>
                        <a:pt x="95" y="1246"/>
                      </a:lnTo>
                      <a:lnTo>
                        <a:pt x="95" y="1249"/>
                      </a:lnTo>
                      <a:lnTo>
                        <a:pt x="93" y="1251"/>
                      </a:lnTo>
                      <a:lnTo>
                        <a:pt x="93" y="1253"/>
                      </a:lnTo>
                      <a:lnTo>
                        <a:pt x="95" y="1257"/>
                      </a:lnTo>
                      <a:lnTo>
                        <a:pt x="93" y="1269"/>
                      </a:lnTo>
                      <a:lnTo>
                        <a:pt x="86" y="1244"/>
                      </a:lnTo>
                      <a:lnTo>
                        <a:pt x="80" y="1217"/>
                      </a:lnTo>
                      <a:lnTo>
                        <a:pt x="74" y="1192"/>
                      </a:lnTo>
                      <a:lnTo>
                        <a:pt x="70" y="1165"/>
                      </a:lnTo>
                      <a:lnTo>
                        <a:pt x="66" y="1138"/>
                      </a:lnTo>
                      <a:lnTo>
                        <a:pt x="62" y="1109"/>
                      </a:lnTo>
                      <a:lnTo>
                        <a:pt x="59" y="1082"/>
                      </a:lnTo>
                      <a:lnTo>
                        <a:pt x="55" y="1055"/>
                      </a:lnTo>
                      <a:lnTo>
                        <a:pt x="51" y="1028"/>
                      </a:lnTo>
                      <a:lnTo>
                        <a:pt x="43" y="1001"/>
                      </a:lnTo>
                      <a:lnTo>
                        <a:pt x="41" y="1001"/>
                      </a:lnTo>
                      <a:lnTo>
                        <a:pt x="39" y="1001"/>
                      </a:lnTo>
                      <a:lnTo>
                        <a:pt x="37" y="1002"/>
                      </a:lnTo>
                      <a:lnTo>
                        <a:pt x="37" y="1002"/>
                      </a:lnTo>
                      <a:lnTo>
                        <a:pt x="35" y="1004"/>
                      </a:lnTo>
                      <a:lnTo>
                        <a:pt x="33" y="1004"/>
                      </a:lnTo>
                      <a:lnTo>
                        <a:pt x="33" y="1006"/>
                      </a:lnTo>
                      <a:lnTo>
                        <a:pt x="31" y="1008"/>
                      </a:lnTo>
                      <a:lnTo>
                        <a:pt x="31" y="1008"/>
                      </a:lnTo>
                      <a:lnTo>
                        <a:pt x="30" y="1010"/>
                      </a:lnTo>
                      <a:lnTo>
                        <a:pt x="64" y="1298"/>
                      </a:lnTo>
                      <a:lnTo>
                        <a:pt x="90" y="1318"/>
                      </a:lnTo>
                      <a:lnTo>
                        <a:pt x="138" y="1489"/>
                      </a:lnTo>
                      <a:lnTo>
                        <a:pt x="130" y="1476"/>
                      </a:lnTo>
                      <a:lnTo>
                        <a:pt x="124" y="1464"/>
                      </a:lnTo>
                      <a:lnTo>
                        <a:pt x="119" y="1449"/>
                      </a:lnTo>
                      <a:lnTo>
                        <a:pt x="115" y="1433"/>
                      </a:lnTo>
                      <a:lnTo>
                        <a:pt x="109" y="1417"/>
                      </a:lnTo>
                      <a:lnTo>
                        <a:pt x="105" y="1401"/>
                      </a:lnTo>
                      <a:lnTo>
                        <a:pt x="99" y="1384"/>
                      </a:lnTo>
                      <a:lnTo>
                        <a:pt x="93" y="1368"/>
                      </a:lnTo>
                      <a:lnTo>
                        <a:pt x="88" y="1352"/>
                      </a:lnTo>
                      <a:lnTo>
                        <a:pt x="78" y="1338"/>
                      </a:lnTo>
                      <a:lnTo>
                        <a:pt x="64" y="1341"/>
                      </a:lnTo>
                      <a:lnTo>
                        <a:pt x="57" y="1311"/>
                      </a:lnTo>
                      <a:lnTo>
                        <a:pt x="51" y="1280"/>
                      </a:lnTo>
                      <a:lnTo>
                        <a:pt x="47" y="1247"/>
                      </a:lnTo>
                      <a:lnTo>
                        <a:pt x="43" y="1215"/>
                      </a:lnTo>
                      <a:lnTo>
                        <a:pt x="39" y="1181"/>
                      </a:lnTo>
                      <a:lnTo>
                        <a:pt x="35" y="1148"/>
                      </a:lnTo>
                      <a:lnTo>
                        <a:pt x="33" y="1114"/>
                      </a:lnTo>
                      <a:lnTo>
                        <a:pt x="30" y="1082"/>
                      </a:lnTo>
                      <a:lnTo>
                        <a:pt x="26" y="1049"/>
                      </a:lnTo>
                      <a:lnTo>
                        <a:pt x="20" y="1017"/>
                      </a:lnTo>
                      <a:lnTo>
                        <a:pt x="18" y="1017"/>
                      </a:lnTo>
                      <a:lnTo>
                        <a:pt x="16" y="1017"/>
                      </a:lnTo>
                      <a:lnTo>
                        <a:pt x="16" y="1017"/>
                      </a:lnTo>
                      <a:lnTo>
                        <a:pt x="14" y="1017"/>
                      </a:lnTo>
                      <a:lnTo>
                        <a:pt x="12" y="1017"/>
                      </a:lnTo>
                      <a:lnTo>
                        <a:pt x="10" y="1017"/>
                      </a:lnTo>
                      <a:lnTo>
                        <a:pt x="8" y="1017"/>
                      </a:lnTo>
                      <a:lnTo>
                        <a:pt x="8" y="1019"/>
                      </a:lnTo>
                      <a:lnTo>
                        <a:pt x="6" y="1019"/>
                      </a:lnTo>
                      <a:lnTo>
                        <a:pt x="6" y="1020"/>
                      </a:lnTo>
                      <a:lnTo>
                        <a:pt x="4" y="1029"/>
                      </a:lnTo>
                      <a:lnTo>
                        <a:pt x="2" y="1026"/>
                      </a:lnTo>
                      <a:lnTo>
                        <a:pt x="2" y="1024"/>
                      </a:lnTo>
                      <a:lnTo>
                        <a:pt x="0" y="1020"/>
                      </a:lnTo>
                      <a:lnTo>
                        <a:pt x="0" y="1017"/>
                      </a:lnTo>
                      <a:lnTo>
                        <a:pt x="0" y="1013"/>
                      </a:lnTo>
                      <a:lnTo>
                        <a:pt x="0" y="1010"/>
                      </a:lnTo>
                      <a:lnTo>
                        <a:pt x="0" y="1004"/>
                      </a:lnTo>
                      <a:lnTo>
                        <a:pt x="2" y="1001"/>
                      </a:lnTo>
                      <a:lnTo>
                        <a:pt x="2" y="997"/>
                      </a:lnTo>
                      <a:lnTo>
                        <a:pt x="2" y="993"/>
                      </a:lnTo>
                      <a:lnTo>
                        <a:pt x="4" y="995"/>
                      </a:lnTo>
                      <a:lnTo>
                        <a:pt x="8" y="997"/>
                      </a:lnTo>
                      <a:lnTo>
                        <a:pt x="10" y="999"/>
                      </a:lnTo>
                      <a:lnTo>
                        <a:pt x="14" y="999"/>
                      </a:lnTo>
                      <a:lnTo>
                        <a:pt x="18" y="1001"/>
                      </a:lnTo>
                      <a:lnTo>
                        <a:pt x="22" y="1001"/>
                      </a:lnTo>
                      <a:lnTo>
                        <a:pt x="24" y="1001"/>
                      </a:lnTo>
                      <a:lnTo>
                        <a:pt x="28" y="1001"/>
                      </a:lnTo>
                      <a:lnTo>
                        <a:pt x="31" y="1001"/>
                      </a:lnTo>
                      <a:lnTo>
                        <a:pt x="33" y="1001"/>
                      </a:lnTo>
                      <a:lnTo>
                        <a:pt x="49" y="990"/>
                      </a:lnTo>
                      <a:lnTo>
                        <a:pt x="43" y="941"/>
                      </a:lnTo>
                      <a:lnTo>
                        <a:pt x="37" y="891"/>
                      </a:lnTo>
                      <a:lnTo>
                        <a:pt x="33" y="840"/>
                      </a:lnTo>
                      <a:lnTo>
                        <a:pt x="33" y="790"/>
                      </a:lnTo>
                      <a:lnTo>
                        <a:pt x="33" y="737"/>
                      </a:lnTo>
                      <a:lnTo>
                        <a:pt x="37" y="687"/>
                      </a:lnTo>
                      <a:lnTo>
                        <a:pt x="43" y="636"/>
                      </a:lnTo>
                      <a:lnTo>
                        <a:pt x="53" y="588"/>
                      </a:lnTo>
                      <a:lnTo>
                        <a:pt x="66" y="539"/>
                      </a:lnTo>
                      <a:lnTo>
                        <a:pt x="82" y="492"/>
                      </a:lnTo>
                      <a:lnTo>
                        <a:pt x="66" y="530"/>
                      </a:lnTo>
                      <a:lnTo>
                        <a:pt x="72" y="514"/>
                      </a:lnTo>
                      <a:lnTo>
                        <a:pt x="78" y="499"/>
                      </a:lnTo>
                      <a:lnTo>
                        <a:pt x="82" y="485"/>
                      </a:lnTo>
                      <a:lnTo>
                        <a:pt x="86" y="469"/>
                      </a:lnTo>
                      <a:lnTo>
                        <a:pt x="90" y="454"/>
                      </a:lnTo>
                      <a:lnTo>
                        <a:pt x="93" y="440"/>
                      </a:lnTo>
                      <a:lnTo>
                        <a:pt x="97" y="425"/>
                      </a:lnTo>
                      <a:lnTo>
                        <a:pt x="103" y="411"/>
                      </a:lnTo>
                      <a:lnTo>
                        <a:pt x="109" y="395"/>
                      </a:lnTo>
                      <a:lnTo>
                        <a:pt x="117" y="380"/>
                      </a:lnTo>
                      <a:lnTo>
                        <a:pt x="109" y="415"/>
                      </a:lnTo>
                      <a:lnTo>
                        <a:pt x="99" y="451"/>
                      </a:lnTo>
                      <a:lnTo>
                        <a:pt x="93" y="489"/>
                      </a:lnTo>
                      <a:lnTo>
                        <a:pt x="88" y="526"/>
                      </a:lnTo>
                      <a:lnTo>
                        <a:pt x="82" y="564"/>
                      </a:lnTo>
                      <a:lnTo>
                        <a:pt x="78" y="604"/>
                      </a:lnTo>
                      <a:lnTo>
                        <a:pt x="76" y="644"/>
                      </a:lnTo>
                      <a:lnTo>
                        <a:pt x="74" y="681"/>
                      </a:lnTo>
                      <a:lnTo>
                        <a:pt x="72" y="721"/>
                      </a:lnTo>
                      <a:lnTo>
                        <a:pt x="72" y="759"/>
                      </a:lnTo>
                      <a:lnTo>
                        <a:pt x="80" y="768"/>
                      </a:lnTo>
                      <a:lnTo>
                        <a:pt x="90" y="757"/>
                      </a:lnTo>
                      <a:lnTo>
                        <a:pt x="117" y="467"/>
                      </a:lnTo>
                      <a:lnTo>
                        <a:pt x="121" y="469"/>
                      </a:lnTo>
                      <a:lnTo>
                        <a:pt x="124" y="449"/>
                      </a:lnTo>
                      <a:lnTo>
                        <a:pt x="128" y="429"/>
                      </a:lnTo>
                      <a:lnTo>
                        <a:pt x="134" y="411"/>
                      </a:lnTo>
                      <a:lnTo>
                        <a:pt x="138" y="393"/>
                      </a:lnTo>
                      <a:lnTo>
                        <a:pt x="144" y="373"/>
                      </a:lnTo>
                      <a:lnTo>
                        <a:pt x="150" y="355"/>
                      </a:lnTo>
                      <a:lnTo>
                        <a:pt x="155" y="337"/>
                      </a:lnTo>
                      <a:lnTo>
                        <a:pt x="161" y="319"/>
                      </a:lnTo>
                      <a:lnTo>
                        <a:pt x="167" y="299"/>
                      </a:lnTo>
                      <a:lnTo>
                        <a:pt x="171" y="281"/>
                      </a:lnTo>
                      <a:lnTo>
                        <a:pt x="130" y="460"/>
                      </a:lnTo>
                      <a:lnTo>
                        <a:pt x="136" y="458"/>
                      </a:lnTo>
                      <a:lnTo>
                        <a:pt x="140" y="460"/>
                      </a:lnTo>
                      <a:lnTo>
                        <a:pt x="144" y="462"/>
                      </a:lnTo>
                      <a:lnTo>
                        <a:pt x="146" y="465"/>
                      </a:lnTo>
                      <a:lnTo>
                        <a:pt x="148" y="469"/>
                      </a:lnTo>
                      <a:lnTo>
                        <a:pt x="148" y="472"/>
                      </a:lnTo>
                      <a:lnTo>
                        <a:pt x="150" y="476"/>
                      </a:lnTo>
                      <a:lnTo>
                        <a:pt x="152" y="480"/>
                      </a:lnTo>
                      <a:lnTo>
                        <a:pt x="153" y="481"/>
                      </a:lnTo>
                      <a:lnTo>
                        <a:pt x="157" y="483"/>
                      </a:lnTo>
                      <a:lnTo>
                        <a:pt x="157" y="492"/>
                      </a:lnTo>
                      <a:lnTo>
                        <a:pt x="155" y="501"/>
                      </a:lnTo>
                      <a:lnTo>
                        <a:pt x="155" y="510"/>
                      </a:lnTo>
                      <a:lnTo>
                        <a:pt x="153" y="519"/>
                      </a:lnTo>
                      <a:lnTo>
                        <a:pt x="153" y="528"/>
                      </a:lnTo>
                      <a:lnTo>
                        <a:pt x="152" y="537"/>
                      </a:lnTo>
                      <a:lnTo>
                        <a:pt x="152" y="546"/>
                      </a:lnTo>
                      <a:lnTo>
                        <a:pt x="153" y="553"/>
                      </a:lnTo>
                      <a:lnTo>
                        <a:pt x="155" y="562"/>
                      </a:lnTo>
                      <a:lnTo>
                        <a:pt x="159" y="570"/>
                      </a:lnTo>
                      <a:lnTo>
                        <a:pt x="165" y="566"/>
                      </a:lnTo>
                      <a:lnTo>
                        <a:pt x="167" y="561"/>
                      </a:lnTo>
                      <a:lnTo>
                        <a:pt x="169" y="553"/>
                      </a:lnTo>
                      <a:lnTo>
                        <a:pt x="171" y="546"/>
                      </a:lnTo>
                      <a:lnTo>
                        <a:pt x="173" y="539"/>
                      </a:lnTo>
                      <a:lnTo>
                        <a:pt x="173" y="530"/>
                      </a:lnTo>
                      <a:lnTo>
                        <a:pt x="173" y="523"/>
                      </a:lnTo>
                      <a:lnTo>
                        <a:pt x="173" y="514"/>
                      </a:lnTo>
                      <a:lnTo>
                        <a:pt x="173" y="507"/>
                      </a:lnTo>
                      <a:lnTo>
                        <a:pt x="175" y="499"/>
                      </a:lnTo>
                      <a:lnTo>
                        <a:pt x="181" y="501"/>
                      </a:lnTo>
                      <a:lnTo>
                        <a:pt x="184" y="501"/>
                      </a:lnTo>
                      <a:lnTo>
                        <a:pt x="188" y="499"/>
                      </a:lnTo>
                      <a:lnTo>
                        <a:pt x="190" y="496"/>
                      </a:lnTo>
                      <a:lnTo>
                        <a:pt x="192" y="492"/>
                      </a:lnTo>
                      <a:lnTo>
                        <a:pt x="192" y="487"/>
                      </a:lnTo>
                      <a:lnTo>
                        <a:pt x="194" y="481"/>
                      </a:lnTo>
                      <a:lnTo>
                        <a:pt x="196" y="476"/>
                      </a:lnTo>
                      <a:lnTo>
                        <a:pt x="200" y="472"/>
                      </a:lnTo>
                      <a:lnTo>
                        <a:pt x="204" y="471"/>
                      </a:lnTo>
                      <a:lnTo>
                        <a:pt x="223" y="344"/>
                      </a:lnTo>
                      <a:lnTo>
                        <a:pt x="223" y="361"/>
                      </a:lnTo>
                      <a:lnTo>
                        <a:pt x="223" y="377"/>
                      </a:lnTo>
                      <a:lnTo>
                        <a:pt x="221" y="393"/>
                      </a:lnTo>
                      <a:lnTo>
                        <a:pt x="217" y="409"/>
                      </a:lnTo>
                      <a:lnTo>
                        <a:pt x="215" y="425"/>
                      </a:lnTo>
                      <a:lnTo>
                        <a:pt x="212" y="442"/>
                      </a:lnTo>
                      <a:lnTo>
                        <a:pt x="210" y="458"/>
                      </a:lnTo>
                      <a:lnTo>
                        <a:pt x="210" y="474"/>
                      </a:lnTo>
                      <a:lnTo>
                        <a:pt x="210" y="490"/>
                      </a:lnTo>
                      <a:lnTo>
                        <a:pt x="212" y="505"/>
                      </a:lnTo>
                      <a:lnTo>
                        <a:pt x="221" y="503"/>
                      </a:lnTo>
                      <a:lnTo>
                        <a:pt x="227" y="499"/>
                      </a:lnTo>
                      <a:lnTo>
                        <a:pt x="231" y="494"/>
                      </a:lnTo>
                      <a:lnTo>
                        <a:pt x="231" y="489"/>
                      </a:lnTo>
                      <a:lnTo>
                        <a:pt x="231" y="483"/>
                      </a:lnTo>
                      <a:lnTo>
                        <a:pt x="229" y="476"/>
                      </a:lnTo>
                      <a:lnTo>
                        <a:pt x="227" y="469"/>
                      </a:lnTo>
                      <a:lnTo>
                        <a:pt x="225" y="462"/>
                      </a:lnTo>
                      <a:lnTo>
                        <a:pt x="225" y="456"/>
                      </a:lnTo>
                      <a:lnTo>
                        <a:pt x="225" y="449"/>
                      </a:lnTo>
                      <a:lnTo>
                        <a:pt x="246" y="355"/>
                      </a:lnTo>
                      <a:lnTo>
                        <a:pt x="244" y="361"/>
                      </a:lnTo>
                      <a:lnTo>
                        <a:pt x="244" y="368"/>
                      </a:lnTo>
                      <a:lnTo>
                        <a:pt x="244" y="373"/>
                      </a:lnTo>
                      <a:lnTo>
                        <a:pt x="244" y="380"/>
                      </a:lnTo>
                      <a:lnTo>
                        <a:pt x="246" y="386"/>
                      </a:lnTo>
                      <a:lnTo>
                        <a:pt x="246" y="391"/>
                      </a:lnTo>
                      <a:lnTo>
                        <a:pt x="250" y="397"/>
                      </a:lnTo>
                      <a:lnTo>
                        <a:pt x="254" y="402"/>
                      </a:lnTo>
                      <a:lnTo>
                        <a:pt x="258" y="406"/>
                      </a:lnTo>
                      <a:lnTo>
                        <a:pt x="266" y="409"/>
                      </a:lnTo>
                      <a:lnTo>
                        <a:pt x="277" y="397"/>
                      </a:lnTo>
                      <a:lnTo>
                        <a:pt x="285" y="382"/>
                      </a:lnTo>
                      <a:lnTo>
                        <a:pt x="291" y="368"/>
                      </a:lnTo>
                      <a:lnTo>
                        <a:pt x="293" y="352"/>
                      </a:lnTo>
                      <a:lnTo>
                        <a:pt x="295" y="334"/>
                      </a:lnTo>
                      <a:lnTo>
                        <a:pt x="295" y="317"/>
                      </a:lnTo>
                      <a:lnTo>
                        <a:pt x="297" y="299"/>
                      </a:lnTo>
                      <a:lnTo>
                        <a:pt x="299" y="283"/>
                      </a:lnTo>
                      <a:lnTo>
                        <a:pt x="303" y="267"/>
                      </a:lnTo>
                      <a:lnTo>
                        <a:pt x="310" y="251"/>
                      </a:lnTo>
                      <a:lnTo>
                        <a:pt x="299" y="242"/>
                      </a:lnTo>
                      <a:lnTo>
                        <a:pt x="291" y="233"/>
                      </a:lnTo>
                      <a:lnTo>
                        <a:pt x="283" y="224"/>
                      </a:lnTo>
                      <a:lnTo>
                        <a:pt x="275" y="213"/>
                      </a:lnTo>
                      <a:lnTo>
                        <a:pt x="272" y="202"/>
                      </a:lnTo>
                      <a:lnTo>
                        <a:pt x="270" y="191"/>
                      </a:lnTo>
                      <a:lnTo>
                        <a:pt x="268" y="178"/>
                      </a:lnTo>
                      <a:lnTo>
                        <a:pt x="268" y="168"/>
                      </a:lnTo>
                      <a:lnTo>
                        <a:pt x="270" y="155"/>
                      </a:lnTo>
                      <a:lnTo>
                        <a:pt x="275" y="144"/>
                      </a:lnTo>
                      <a:lnTo>
                        <a:pt x="279" y="150"/>
                      </a:lnTo>
                      <a:lnTo>
                        <a:pt x="281" y="157"/>
                      </a:lnTo>
                      <a:lnTo>
                        <a:pt x="283" y="164"/>
                      </a:lnTo>
                      <a:lnTo>
                        <a:pt x="283" y="171"/>
                      </a:lnTo>
                      <a:lnTo>
                        <a:pt x="283" y="180"/>
                      </a:lnTo>
                      <a:lnTo>
                        <a:pt x="283" y="188"/>
                      </a:lnTo>
                      <a:lnTo>
                        <a:pt x="283" y="197"/>
                      </a:lnTo>
                      <a:lnTo>
                        <a:pt x="283" y="204"/>
                      </a:lnTo>
                      <a:lnTo>
                        <a:pt x="285" y="213"/>
                      </a:lnTo>
                      <a:lnTo>
                        <a:pt x="289" y="218"/>
                      </a:lnTo>
                      <a:lnTo>
                        <a:pt x="291" y="220"/>
                      </a:lnTo>
                      <a:lnTo>
                        <a:pt x="295" y="224"/>
                      </a:lnTo>
                      <a:lnTo>
                        <a:pt x="297" y="227"/>
                      </a:lnTo>
                      <a:lnTo>
                        <a:pt x="299" y="231"/>
                      </a:lnTo>
                      <a:lnTo>
                        <a:pt x="301" y="233"/>
                      </a:lnTo>
                      <a:lnTo>
                        <a:pt x="303" y="236"/>
                      </a:lnTo>
                      <a:lnTo>
                        <a:pt x="306" y="236"/>
                      </a:lnTo>
                      <a:lnTo>
                        <a:pt x="308" y="238"/>
                      </a:lnTo>
                      <a:lnTo>
                        <a:pt x="312" y="236"/>
                      </a:lnTo>
                      <a:lnTo>
                        <a:pt x="314" y="233"/>
                      </a:lnTo>
                      <a:lnTo>
                        <a:pt x="320" y="220"/>
                      </a:lnTo>
                      <a:lnTo>
                        <a:pt x="324" y="206"/>
                      </a:lnTo>
                      <a:lnTo>
                        <a:pt x="328" y="189"/>
                      </a:lnTo>
                      <a:lnTo>
                        <a:pt x="330" y="175"/>
                      </a:lnTo>
                      <a:lnTo>
                        <a:pt x="332" y="159"/>
                      </a:lnTo>
                      <a:lnTo>
                        <a:pt x="335" y="144"/>
                      </a:lnTo>
                      <a:lnTo>
                        <a:pt x="337" y="130"/>
                      </a:lnTo>
                      <a:lnTo>
                        <a:pt x="343" y="115"/>
                      </a:lnTo>
                      <a:lnTo>
                        <a:pt x="349" y="101"/>
                      </a:lnTo>
                      <a:lnTo>
                        <a:pt x="359" y="90"/>
                      </a:lnTo>
                      <a:lnTo>
                        <a:pt x="355" y="119"/>
                      </a:lnTo>
                      <a:lnTo>
                        <a:pt x="347" y="146"/>
                      </a:lnTo>
                      <a:lnTo>
                        <a:pt x="341" y="175"/>
                      </a:lnTo>
                      <a:lnTo>
                        <a:pt x="332" y="202"/>
                      </a:lnTo>
                      <a:lnTo>
                        <a:pt x="324" y="231"/>
                      </a:lnTo>
                      <a:lnTo>
                        <a:pt x="318" y="258"/>
                      </a:lnTo>
                      <a:lnTo>
                        <a:pt x="310" y="285"/>
                      </a:lnTo>
                      <a:lnTo>
                        <a:pt x="304" y="314"/>
                      </a:lnTo>
                      <a:lnTo>
                        <a:pt x="303" y="343"/>
                      </a:lnTo>
                      <a:lnTo>
                        <a:pt x="301" y="371"/>
                      </a:lnTo>
                      <a:lnTo>
                        <a:pt x="303" y="373"/>
                      </a:lnTo>
                      <a:lnTo>
                        <a:pt x="303" y="375"/>
                      </a:lnTo>
                      <a:lnTo>
                        <a:pt x="304" y="377"/>
                      </a:lnTo>
                      <a:lnTo>
                        <a:pt x="306" y="379"/>
                      </a:lnTo>
                      <a:lnTo>
                        <a:pt x="308" y="380"/>
                      </a:lnTo>
                      <a:lnTo>
                        <a:pt x="310" y="380"/>
                      </a:lnTo>
                      <a:lnTo>
                        <a:pt x="314" y="380"/>
                      </a:lnTo>
                      <a:lnTo>
                        <a:pt x="316" y="380"/>
                      </a:lnTo>
                      <a:lnTo>
                        <a:pt x="318" y="380"/>
                      </a:lnTo>
                      <a:lnTo>
                        <a:pt x="320" y="379"/>
                      </a:lnTo>
                      <a:lnTo>
                        <a:pt x="328" y="370"/>
                      </a:lnTo>
                      <a:lnTo>
                        <a:pt x="326" y="353"/>
                      </a:lnTo>
                      <a:lnTo>
                        <a:pt x="326" y="337"/>
                      </a:lnTo>
                      <a:lnTo>
                        <a:pt x="328" y="321"/>
                      </a:lnTo>
                      <a:lnTo>
                        <a:pt x="330" y="306"/>
                      </a:lnTo>
                      <a:lnTo>
                        <a:pt x="334" y="290"/>
                      </a:lnTo>
                      <a:lnTo>
                        <a:pt x="337" y="276"/>
                      </a:lnTo>
                      <a:lnTo>
                        <a:pt x="343" y="261"/>
                      </a:lnTo>
                      <a:lnTo>
                        <a:pt x="349" y="247"/>
                      </a:lnTo>
                      <a:lnTo>
                        <a:pt x="355" y="233"/>
                      </a:lnTo>
                      <a:lnTo>
                        <a:pt x="363" y="220"/>
                      </a:lnTo>
                      <a:lnTo>
                        <a:pt x="368" y="197"/>
                      </a:lnTo>
                      <a:lnTo>
                        <a:pt x="372" y="171"/>
                      </a:lnTo>
                      <a:lnTo>
                        <a:pt x="376" y="148"/>
                      </a:lnTo>
                      <a:lnTo>
                        <a:pt x="380" y="123"/>
                      </a:lnTo>
                      <a:lnTo>
                        <a:pt x="386" y="99"/>
                      </a:lnTo>
                      <a:lnTo>
                        <a:pt x="394" y="76"/>
                      </a:lnTo>
                      <a:lnTo>
                        <a:pt x="403" y="54"/>
                      </a:lnTo>
                      <a:lnTo>
                        <a:pt x="417" y="34"/>
                      </a:lnTo>
                      <a:lnTo>
                        <a:pt x="434" y="16"/>
                      </a:lnTo>
                      <a:lnTo>
                        <a:pt x="459" y="0"/>
                      </a:lnTo>
                      <a:lnTo>
                        <a:pt x="452" y="7"/>
                      </a:lnTo>
                      <a:lnTo>
                        <a:pt x="444" y="13"/>
                      </a:lnTo>
                      <a:lnTo>
                        <a:pt x="436" y="20"/>
                      </a:lnTo>
                      <a:lnTo>
                        <a:pt x="430" y="29"/>
                      </a:lnTo>
                      <a:lnTo>
                        <a:pt x="425" y="36"/>
                      </a:lnTo>
                      <a:lnTo>
                        <a:pt x="419" y="43"/>
                      </a:lnTo>
                      <a:lnTo>
                        <a:pt x="417" y="52"/>
                      </a:lnTo>
                      <a:lnTo>
                        <a:pt x="415" y="60"/>
                      </a:lnTo>
                      <a:lnTo>
                        <a:pt x="417" y="69"/>
                      </a:lnTo>
                      <a:lnTo>
                        <a:pt x="421" y="76"/>
                      </a:lnTo>
                      <a:lnTo>
                        <a:pt x="421" y="76"/>
                      </a:lnTo>
                      <a:lnTo>
                        <a:pt x="419" y="7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254640" y="924120"/>
                  <a:ext cx="12960" cy="316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37"/>
                      </a:moveTo>
                      <a:lnTo>
                        <a:pt x="17" y="0"/>
                      </a:lnTo>
                      <a:lnTo>
                        <a:pt x="6" y="34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709320" y="955800"/>
                  <a:ext cx="31320" cy="38160"/>
                </a:xfrm>
                <a:custGeom>
                  <a:avLst/>
                  <a:gdLst/>
                  <a:ahLst/>
                  <a:rect l="l" t="t" r="r" b="b"/>
                  <a:pathLst>
                    <a:path w="45" h="47">
                      <a:moveTo>
                        <a:pt x="0" y="0"/>
                      </a:moveTo>
                      <a:lnTo>
                        <a:pt x="45" y="47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289200" y="936720"/>
                  <a:ext cx="5760" cy="1728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6" y="23"/>
                      </a:lnTo>
                      <a:lnTo>
                        <a:pt x="0" y="22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01600" y="976320"/>
                  <a:ext cx="27000" cy="136440"/>
                </a:xfrm>
                <a:custGeom>
                  <a:avLst/>
                  <a:gdLst/>
                  <a:ahLst/>
                  <a:rect l="l" t="t" r="r" b="b"/>
                  <a:pathLst>
                    <a:path w="38" h="173">
                      <a:moveTo>
                        <a:pt x="27" y="135"/>
                      </a:moveTo>
                      <a:lnTo>
                        <a:pt x="29" y="138"/>
                      </a:lnTo>
                      <a:lnTo>
                        <a:pt x="29" y="142"/>
                      </a:lnTo>
                      <a:lnTo>
                        <a:pt x="31" y="146"/>
                      </a:lnTo>
                      <a:lnTo>
                        <a:pt x="31" y="149"/>
                      </a:lnTo>
                      <a:lnTo>
                        <a:pt x="33" y="153"/>
                      </a:lnTo>
                      <a:lnTo>
                        <a:pt x="35" y="156"/>
                      </a:lnTo>
                      <a:lnTo>
                        <a:pt x="35" y="160"/>
                      </a:lnTo>
                      <a:lnTo>
                        <a:pt x="36" y="165"/>
                      </a:lnTo>
                      <a:lnTo>
                        <a:pt x="36" y="169"/>
                      </a:lnTo>
                      <a:lnTo>
                        <a:pt x="38" y="173"/>
                      </a:lnTo>
                      <a:lnTo>
                        <a:pt x="36" y="167"/>
                      </a:lnTo>
                      <a:lnTo>
                        <a:pt x="35" y="162"/>
                      </a:lnTo>
                      <a:lnTo>
                        <a:pt x="33" y="153"/>
                      </a:lnTo>
                      <a:lnTo>
                        <a:pt x="31" y="144"/>
                      </a:lnTo>
                      <a:lnTo>
                        <a:pt x="29" y="135"/>
                      </a:lnTo>
                      <a:lnTo>
                        <a:pt x="25" y="124"/>
                      </a:lnTo>
                      <a:lnTo>
                        <a:pt x="21" y="115"/>
                      </a:lnTo>
                      <a:lnTo>
                        <a:pt x="17" y="104"/>
                      </a:lnTo>
                      <a:lnTo>
                        <a:pt x="11" y="97"/>
                      </a:lnTo>
                      <a:lnTo>
                        <a:pt x="4" y="90"/>
                      </a:lnTo>
                      <a:lnTo>
                        <a:pt x="0" y="0"/>
                      </a:lnTo>
                      <a:lnTo>
                        <a:pt x="4" y="14"/>
                      </a:lnTo>
                      <a:lnTo>
                        <a:pt x="7" y="27"/>
                      </a:lnTo>
                      <a:lnTo>
                        <a:pt x="13" y="41"/>
                      </a:lnTo>
                      <a:lnTo>
                        <a:pt x="19" y="54"/>
                      </a:lnTo>
                      <a:lnTo>
                        <a:pt x="25" y="66"/>
                      </a:lnTo>
                      <a:lnTo>
                        <a:pt x="29" y="81"/>
                      </a:lnTo>
                      <a:lnTo>
                        <a:pt x="31" y="93"/>
                      </a:lnTo>
                      <a:lnTo>
                        <a:pt x="33" y="108"/>
                      </a:lnTo>
                      <a:lnTo>
                        <a:pt x="31" y="120"/>
                      </a:lnTo>
                      <a:lnTo>
                        <a:pt x="27" y="135"/>
                      </a:lnTo>
                      <a:lnTo>
                        <a:pt x="27" y="13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161760" y="959040"/>
                  <a:ext cx="3960" cy="1260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0" y="16"/>
                      </a:moveTo>
                      <a:lnTo>
                        <a:pt x="6" y="0"/>
                      </a:lnTo>
                      <a:lnTo>
                        <a:pt x="2" y="4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300360" y="96840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686280" y="1003320"/>
                  <a:ext cx="105840" cy="123840"/>
                </a:xfrm>
                <a:custGeom>
                  <a:avLst/>
                  <a:gdLst/>
                  <a:ahLst/>
                  <a:rect l="l" t="t" r="r" b="b"/>
                  <a:pathLst>
                    <a:path w="149" h="157">
                      <a:moveTo>
                        <a:pt x="147" y="157"/>
                      </a:moveTo>
                      <a:lnTo>
                        <a:pt x="132" y="142"/>
                      </a:lnTo>
                      <a:lnTo>
                        <a:pt x="116" y="128"/>
                      </a:lnTo>
                      <a:lnTo>
                        <a:pt x="101" y="112"/>
                      </a:lnTo>
                      <a:lnTo>
                        <a:pt x="87" y="95"/>
                      </a:lnTo>
                      <a:lnTo>
                        <a:pt x="72" y="79"/>
                      </a:lnTo>
                      <a:lnTo>
                        <a:pt x="58" y="63"/>
                      </a:lnTo>
                      <a:lnTo>
                        <a:pt x="45" y="47"/>
                      </a:lnTo>
                      <a:lnTo>
                        <a:pt x="29" y="30"/>
                      </a:lnTo>
                      <a:lnTo>
                        <a:pt x="16" y="16"/>
                      </a:lnTo>
                      <a:lnTo>
                        <a:pt x="0" y="0"/>
                      </a:lnTo>
                      <a:lnTo>
                        <a:pt x="20" y="12"/>
                      </a:lnTo>
                      <a:lnTo>
                        <a:pt x="35" y="25"/>
                      </a:lnTo>
                      <a:lnTo>
                        <a:pt x="51" y="39"/>
                      </a:lnTo>
                      <a:lnTo>
                        <a:pt x="66" y="54"/>
                      </a:lnTo>
                      <a:lnTo>
                        <a:pt x="80" y="70"/>
                      </a:lnTo>
                      <a:lnTo>
                        <a:pt x="93" y="88"/>
                      </a:lnTo>
                      <a:lnTo>
                        <a:pt x="107" y="104"/>
                      </a:lnTo>
                      <a:lnTo>
                        <a:pt x="120" y="122"/>
                      </a:lnTo>
                      <a:lnTo>
                        <a:pt x="134" y="139"/>
                      </a:lnTo>
                      <a:lnTo>
                        <a:pt x="149" y="157"/>
                      </a:lnTo>
                      <a:lnTo>
                        <a:pt x="149" y="157"/>
                      </a:lnTo>
                      <a:lnTo>
                        <a:pt x="147" y="15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99280" y="995400"/>
                  <a:ext cx="2880" cy="2052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4" y="25"/>
                      </a:lnTo>
                      <a:lnTo>
                        <a:pt x="0" y="25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254640" y="995400"/>
                  <a:ext cx="11520" cy="58680"/>
                </a:xfrm>
                <a:custGeom>
                  <a:avLst/>
                  <a:gdLst/>
                  <a:ahLst/>
                  <a:rect l="l" t="t" r="r" b="b"/>
                  <a:pathLst>
                    <a:path w="15" h="74">
                      <a:moveTo>
                        <a:pt x="14" y="74"/>
                      </a:moveTo>
                      <a:lnTo>
                        <a:pt x="14" y="74"/>
                      </a:lnTo>
                      <a:lnTo>
                        <a:pt x="12" y="72"/>
                      </a:lnTo>
                      <a:lnTo>
                        <a:pt x="12" y="72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6" y="70"/>
                      </a:lnTo>
                      <a:lnTo>
                        <a:pt x="6" y="70"/>
                      </a:lnTo>
                      <a:lnTo>
                        <a:pt x="4" y="70"/>
                      </a:lnTo>
                      <a:lnTo>
                        <a:pt x="2" y="70"/>
                      </a:lnTo>
                      <a:lnTo>
                        <a:pt x="0" y="70"/>
                      </a:lnTo>
                      <a:lnTo>
                        <a:pt x="2" y="61"/>
                      </a:lnTo>
                      <a:lnTo>
                        <a:pt x="2" y="54"/>
                      </a:lnTo>
                      <a:lnTo>
                        <a:pt x="2" y="47"/>
                      </a:lnTo>
                      <a:lnTo>
                        <a:pt x="2" y="41"/>
                      </a:lnTo>
                      <a:lnTo>
                        <a:pt x="4" y="34"/>
                      </a:lnTo>
                      <a:lnTo>
                        <a:pt x="4" y="29"/>
                      </a:lnTo>
                      <a:lnTo>
                        <a:pt x="4" y="21"/>
                      </a:lnTo>
                      <a:lnTo>
                        <a:pt x="6" y="14"/>
                      </a:lnTo>
                      <a:lnTo>
                        <a:pt x="8" y="7"/>
                      </a:lnTo>
                      <a:lnTo>
                        <a:pt x="10" y="0"/>
                      </a:lnTo>
                      <a:lnTo>
                        <a:pt x="10" y="7"/>
                      </a:lnTo>
                      <a:lnTo>
                        <a:pt x="12" y="14"/>
                      </a:lnTo>
                      <a:lnTo>
                        <a:pt x="14" y="21"/>
                      </a:lnTo>
                      <a:lnTo>
                        <a:pt x="14" y="29"/>
                      </a:lnTo>
                      <a:lnTo>
                        <a:pt x="15" y="36"/>
                      </a:lnTo>
                      <a:lnTo>
                        <a:pt x="15" y="45"/>
                      </a:lnTo>
                      <a:lnTo>
                        <a:pt x="15" y="52"/>
                      </a:lnTo>
                      <a:lnTo>
                        <a:pt x="15" y="59"/>
                      </a:lnTo>
                      <a:lnTo>
                        <a:pt x="15" y="66"/>
                      </a:lnTo>
                      <a:lnTo>
                        <a:pt x="14" y="74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32920" y="1015920"/>
                  <a:ext cx="128880" cy="211320"/>
                </a:xfrm>
                <a:custGeom>
                  <a:avLst/>
                  <a:gdLst/>
                  <a:ahLst/>
                  <a:rect l="l" t="t" r="r" b="b"/>
                  <a:pathLst>
                    <a:path w="180" h="265">
                      <a:moveTo>
                        <a:pt x="178" y="263"/>
                      </a:moveTo>
                      <a:lnTo>
                        <a:pt x="167" y="254"/>
                      </a:lnTo>
                      <a:lnTo>
                        <a:pt x="153" y="242"/>
                      </a:lnTo>
                      <a:lnTo>
                        <a:pt x="142" y="229"/>
                      </a:lnTo>
                      <a:lnTo>
                        <a:pt x="130" y="215"/>
                      </a:lnTo>
                      <a:lnTo>
                        <a:pt x="120" y="200"/>
                      </a:lnTo>
                      <a:lnTo>
                        <a:pt x="109" y="186"/>
                      </a:lnTo>
                      <a:lnTo>
                        <a:pt x="99" y="171"/>
                      </a:lnTo>
                      <a:lnTo>
                        <a:pt x="89" y="157"/>
                      </a:lnTo>
                      <a:lnTo>
                        <a:pt x="80" y="144"/>
                      </a:lnTo>
                      <a:lnTo>
                        <a:pt x="70" y="130"/>
                      </a:lnTo>
                      <a:lnTo>
                        <a:pt x="58" y="139"/>
                      </a:lnTo>
                      <a:lnTo>
                        <a:pt x="54" y="126"/>
                      </a:lnTo>
                      <a:lnTo>
                        <a:pt x="51" y="114"/>
                      </a:lnTo>
                      <a:lnTo>
                        <a:pt x="43" y="101"/>
                      </a:lnTo>
                      <a:lnTo>
                        <a:pt x="37" y="88"/>
                      </a:lnTo>
                      <a:lnTo>
                        <a:pt x="29" y="74"/>
                      </a:lnTo>
                      <a:lnTo>
                        <a:pt x="22" y="61"/>
                      </a:lnTo>
                      <a:lnTo>
                        <a:pt x="14" y="47"/>
                      </a:lnTo>
                      <a:lnTo>
                        <a:pt x="8" y="31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6" y="31"/>
                      </a:lnTo>
                      <a:lnTo>
                        <a:pt x="20" y="59"/>
                      </a:lnTo>
                      <a:lnTo>
                        <a:pt x="37" y="85"/>
                      </a:lnTo>
                      <a:lnTo>
                        <a:pt x="56" y="110"/>
                      </a:lnTo>
                      <a:lnTo>
                        <a:pt x="80" y="133"/>
                      </a:lnTo>
                      <a:lnTo>
                        <a:pt x="103" y="157"/>
                      </a:lnTo>
                      <a:lnTo>
                        <a:pt x="124" y="182"/>
                      </a:lnTo>
                      <a:lnTo>
                        <a:pt x="145" y="207"/>
                      </a:lnTo>
                      <a:lnTo>
                        <a:pt x="165" y="234"/>
                      </a:lnTo>
                      <a:lnTo>
                        <a:pt x="180" y="265"/>
                      </a:lnTo>
                      <a:lnTo>
                        <a:pt x="180" y="265"/>
                      </a:lnTo>
                      <a:lnTo>
                        <a:pt x="178" y="263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639120" y="1023840"/>
                  <a:ext cx="37080" cy="36720"/>
                </a:xfrm>
                <a:custGeom>
                  <a:avLst/>
                  <a:gdLst/>
                  <a:ahLst/>
                  <a:rect l="l" t="t" r="r" b="b"/>
                  <a:pathLst>
                    <a:path w="53" h="47">
                      <a:moveTo>
                        <a:pt x="51" y="47"/>
                      </a:moveTo>
                      <a:lnTo>
                        <a:pt x="0" y="0"/>
                      </a:lnTo>
                      <a:lnTo>
                        <a:pt x="35" y="29"/>
                      </a:lnTo>
                      <a:lnTo>
                        <a:pt x="53" y="47"/>
                      </a:lnTo>
                      <a:lnTo>
                        <a:pt x="53" y="47"/>
                      </a:lnTo>
                      <a:lnTo>
                        <a:pt x="51" y="4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279120" y="1001880"/>
                  <a:ext cx="15840" cy="128520"/>
                </a:xfrm>
                <a:custGeom>
                  <a:avLst/>
                  <a:gdLst/>
                  <a:ahLst/>
                  <a:rect l="l" t="t" r="r" b="b"/>
                  <a:pathLst>
                    <a:path w="21" h="162">
                      <a:moveTo>
                        <a:pt x="19" y="162"/>
                      </a:moveTo>
                      <a:lnTo>
                        <a:pt x="15" y="146"/>
                      </a:lnTo>
                      <a:lnTo>
                        <a:pt x="12" y="132"/>
                      </a:lnTo>
                      <a:lnTo>
                        <a:pt x="8" y="115"/>
                      </a:lnTo>
                      <a:lnTo>
                        <a:pt x="4" y="99"/>
                      </a:lnTo>
                      <a:lnTo>
                        <a:pt x="2" y="83"/>
                      </a:lnTo>
                      <a:lnTo>
                        <a:pt x="2" y="67"/>
                      </a:lnTo>
                      <a:lnTo>
                        <a:pt x="0" y="50"/>
                      </a:lnTo>
                      <a:lnTo>
                        <a:pt x="0" y="34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21" y="162"/>
                      </a:lnTo>
                      <a:lnTo>
                        <a:pt x="21" y="162"/>
                      </a:lnTo>
                      <a:lnTo>
                        <a:pt x="19" y="16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315120" y="1014480"/>
                  <a:ext cx="1080" cy="27000"/>
                </a:xfrm>
                <a:custGeom>
                  <a:avLst/>
                  <a:gdLst/>
                  <a:ahLst/>
                  <a:rect l="l" t="t" r="r" b="b"/>
                  <a:pathLst>
                    <a:path w="2" h="34">
                      <a:moveTo>
                        <a:pt x="2" y="34"/>
                      </a:moveTo>
                      <a:lnTo>
                        <a:pt x="0" y="0"/>
                      </a:lnTo>
                      <a:lnTo>
                        <a:pt x="2" y="22"/>
                      </a:lnTo>
                      <a:lnTo>
                        <a:pt x="2" y="34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353640" y="1023840"/>
                  <a:ext cx="46800" cy="133560"/>
                </a:xfrm>
                <a:custGeom>
                  <a:avLst/>
                  <a:gdLst/>
                  <a:ahLst/>
                  <a:rect l="l" t="t" r="r" b="b"/>
                  <a:pathLst>
                    <a:path w="66" h="167">
                      <a:moveTo>
                        <a:pt x="66" y="167"/>
                      </a:moveTo>
                      <a:lnTo>
                        <a:pt x="59" y="157"/>
                      </a:lnTo>
                      <a:lnTo>
                        <a:pt x="53" y="144"/>
                      </a:lnTo>
                      <a:lnTo>
                        <a:pt x="45" y="130"/>
                      </a:lnTo>
                      <a:lnTo>
                        <a:pt x="37" y="117"/>
                      </a:lnTo>
                      <a:lnTo>
                        <a:pt x="31" y="103"/>
                      </a:lnTo>
                      <a:lnTo>
                        <a:pt x="26" y="88"/>
                      </a:lnTo>
                      <a:lnTo>
                        <a:pt x="22" y="76"/>
                      </a:lnTo>
                      <a:lnTo>
                        <a:pt x="18" y="61"/>
                      </a:lnTo>
                      <a:lnTo>
                        <a:pt x="16" y="45"/>
                      </a:lnTo>
                      <a:lnTo>
                        <a:pt x="14" y="30"/>
                      </a:lnTo>
                      <a:lnTo>
                        <a:pt x="8" y="30"/>
                      </a:lnTo>
                      <a:lnTo>
                        <a:pt x="6" y="27"/>
                      </a:lnTo>
                      <a:lnTo>
                        <a:pt x="2" y="25"/>
                      </a:lnTo>
                      <a:lnTo>
                        <a:pt x="2" y="21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66" y="167"/>
                      </a:lnTo>
                      <a:lnTo>
                        <a:pt x="66" y="16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784480" y="996840"/>
                  <a:ext cx="157680" cy="241560"/>
                </a:xfrm>
                <a:custGeom>
                  <a:avLst/>
                  <a:gdLst/>
                  <a:ahLst/>
                  <a:rect l="l" t="t" r="r" b="b"/>
                  <a:pathLst>
                    <a:path w="218" h="302">
                      <a:moveTo>
                        <a:pt x="13" y="295"/>
                      </a:moveTo>
                      <a:lnTo>
                        <a:pt x="15" y="297"/>
                      </a:lnTo>
                      <a:lnTo>
                        <a:pt x="15" y="299"/>
                      </a:lnTo>
                      <a:lnTo>
                        <a:pt x="15" y="299"/>
                      </a:lnTo>
                      <a:lnTo>
                        <a:pt x="15" y="299"/>
                      </a:lnTo>
                      <a:lnTo>
                        <a:pt x="15" y="297"/>
                      </a:lnTo>
                      <a:lnTo>
                        <a:pt x="15" y="295"/>
                      </a:lnTo>
                      <a:lnTo>
                        <a:pt x="15" y="293"/>
                      </a:lnTo>
                      <a:lnTo>
                        <a:pt x="13" y="292"/>
                      </a:lnTo>
                      <a:lnTo>
                        <a:pt x="13" y="290"/>
                      </a:lnTo>
                      <a:lnTo>
                        <a:pt x="11" y="290"/>
                      </a:lnTo>
                      <a:lnTo>
                        <a:pt x="0" y="302"/>
                      </a:lnTo>
                      <a:lnTo>
                        <a:pt x="17" y="268"/>
                      </a:lnTo>
                      <a:lnTo>
                        <a:pt x="34" y="236"/>
                      </a:lnTo>
                      <a:lnTo>
                        <a:pt x="54" y="205"/>
                      </a:lnTo>
                      <a:lnTo>
                        <a:pt x="73" y="173"/>
                      </a:lnTo>
                      <a:lnTo>
                        <a:pt x="94" y="142"/>
                      </a:lnTo>
                      <a:lnTo>
                        <a:pt x="118" y="111"/>
                      </a:lnTo>
                      <a:lnTo>
                        <a:pt x="141" y="82"/>
                      </a:lnTo>
                      <a:lnTo>
                        <a:pt x="166" y="54"/>
                      </a:lnTo>
                      <a:lnTo>
                        <a:pt x="193" y="27"/>
                      </a:lnTo>
                      <a:lnTo>
                        <a:pt x="218" y="0"/>
                      </a:lnTo>
                      <a:lnTo>
                        <a:pt x="195" y="28"/>
                      </a:lnTo>
                      <a:lnTo>
                        <a:pt x="172" y="55"/>
                      </a:lnTo>
                      <a:lnTo>
                        <a:pt x="149" y="86"/>
                      </a:lnTo>
                      <a:lnTo>
                        <a:pt x="127" y="115"/>
                      </a:lnTo>
                      <a:lnTo>
                        <a:pt x="106" y="146"/>
                      </a:lnTo>
                      <a:lnTo>
                        <a:pt x="87" y="174"/>
                      </a:lnTo>
                      <a:lnTo>
                        <a:pt x="67" y="205"/>
                      </a:lnTo>
                      <a:lnTo>
                        <a:pt x="48" y="236"/>
                      </a:lnTo>
                      <a:lnTo>
                        <a:pt x="31" y="265"/>
                      </a:lnTo>
                      <a:lnTo>
                        <a:pt x="15" y="295"/>
                      </a:lnTo>
                      <a:lnTo>
                        <a:pt x="15" y="295"/>
                      </a:lnTo>
                      <a:lnTo>
                        <a:pt x="13" y="29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43080" y="1057320"/>
                  <a:ext cx="45720" cy="50760"/>
                </a:xfrm>
                <a:custGeom>
                  <a:avLst/>
                  <a:gdLst/>
                  <a:ahLst/>
                  <a:rect l="l" t="t" r="r" b="b"/>
                  <a:pathLst>
                    <a:path w="64" h="63">
                      <a:moveTo>
                        <a:pt x="64" y="62"/>
                      </a:moveTo>
                      <a:lnTo>
                        <a:pt x="0" y="0"/>
                      </a:lnTo>
                      <a:lnTo>
                        <a:pt x="43" y="40"/>
                      </a:lnTo>
                      <a:lnTo>
                        <a:pt x="64" y="63"/>
                      </a:lnTo>
                      <a:lnTo>
                        <a:pt x="64" y="63"/>
                      </a:lnTo>
                      <a:lnTo>
                        <a:pt x="64" y="6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70960" y="1081080"/>
                  <a:ext cx="83160" cy="144360"/>
                </a:xfrm>
                <a:custGeom>
                  <a:avLst/>
                  <a:gdLst/>
                  <a:ahLst/>
                  <a:rect l="l" t="t" r="r" b="b"/>
                  <a:pathLst>
                    <a:path w="116" h="180">
                      <a:moveTo>
                        <a:pt x="116" y="180"/>
                      </a:moveTo>
                      <a:lnTo>
                        <a:pt x="0" y="0"/>
                      </a:lnTo>
                      <a:lnTo>
                        <a:pt x="97" y="137"/>
                      </a:lnTo>
                      <a:lnTo>
                        <a:pt x="116" y="180"/>
                      </a:lnTo>
                      <a:lnTo>
                        <a:pt x="116" y="18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629040" y="1079640"/>
                  <a:ext cx="48600" cy="57240"/>
                </a:xfrm>
                <a:custGeom>
                  <a:avLst/>
                  <a:gdLst/>
                  <a:ahLst/>
                  <a:rect l="l" t="t" r="r" b="b"/>
                  <a:pathLst>
                    <a:path w="68" h="72">
                      <a:moveTo>
                        <a:pt x="68" y="72"/>
                      </a:moveTo>
                      <a:lnTo>
                        <a:pt x="0" y="0"/>
                      </a:lnTo>
                      <a:lnTo>
                        <a:pt x="52" y="38"/>
                      </a:lnTo>
                      <a:lnTo>
                        <a:pt x="68" y="72"/>
                      </a:lnTo>
                      <a:lnTo>
                        <a:pt x="68" y="7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266520" y="1068480"/>
                  <a:ext cx="3960" cy="22320"/>
                </a:xfrm>
                <a:custGeom>
                  <a:avLst/>
                  <a:gdLst/>
                  <a:ahLst/>
                  <a:rect l="l" t="t" r="r" b="b"/>
                  <a:pathLst>
                    <a:path w="6" h="27">
                      <a:moveTo>
                        <a:pt x="2" y="0"/>
                      </a:moveTo>
                      <a:lnTo>
                        <a:pt x="6" y="2"/>
                      </a:lnTo>
                      <a:lnTo>
                        <a:pt x="4" y="27"/>
                      </a:lnTo>
                      <a:lnTo>
                        <a:pt x="0" y="27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05040" y="1092240"/>
                  <a:ext cx="33840" cy="88920"/>
                </a:xfrm>
                <a:custGeom>
                  <a:avLst/>
                  <a:gdLst/>
                  <a:ahLst/>
                  <a:rect l="l" t="t" r="r" b="b"/>
                  <a:pathLst>
                    <a:path w="46" h="111">
                      <a:moveTo>
                        <a:pt x="9" y="0"/>
                      </a:moveTo>
                      <a:lnTo>
                        <a:pt x="11" y="12"/>
                      </a:lnTo>
                      <a:lnTo>
                        <a:pt x="15" y="25"/>
                      </a:lnTo>
                      <a:lnTo>
                        <a:pt x="19" y="36"/>
                      </a:lnTo>
                      <a:lnTo>
                        <a:pt x="25" y="46"/>
                      </a:lnTo>
                      <a:lnTo>
                        <a:pt x="33" y="57"/>
                      </a:lnTo>
                      <a:lnTo>
                        <a:pt x="36" y="68"/>
                      </a:lnTo>
                      <a:lnTo>
                        <a:pt x="42" y="79"/>
                      </a:lnTo>
                      <a:lnTo>
                        <a:pt x="44" y="90"/>
                      </a:lnTo>
                      <a:lnTo>
                        <a:pt x="46" y="101"/>
                      </a:lnTo>
                      <a:lnTo>
                        <a:pt x="44" y="111"/>
                      </a:lnTo>
                      <a:lnTo>
                        <a:pt x="38" y="102"/>
                      </a:lnTo>
                      <a:lnTo>
                        <a:pt x="33" y="90"/>
                      </a:lnTo>
                      <a:lnTo>
                        <a:pt x="29" y="79"/>
                      </a:lnTo>
                      <a:lnTo>
                        <a:pt x="27" y="66"/>
                      </a:lnTo>
                      <a:lnTo>
                        <a:pt x="25" y="55"/>
                      </a:lnTo>
                      <a:lnTo>
                        <a:pt x="21" y="43"/>
                      </a:lnTo>
                      <a:lnTo>
                        <a:pt x="19" y="32"/>
                      </a:lnTo>
                      <a:lnTo>
                        <a:pt x="15" y="19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617520" y="1119240"/>
                  <a:ext cx="32760" cy="47520"/>
                </a:xfrm>
                <a:custGeom>
                  <a:avLst/>
                  <a:gdLst/>
                  <a:ahLst/>
                  <a:rect l="l" t="t" r="r" b="b"/>
                  <a:pathLst>
                    <a:path w="47" h="59">
                      <a:moveTo>
                        <a:pt x="0" y="0"/>
                      </a:moveTo>
                      <a:lnTo>
                        <a:pt x="47" y="59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214680" y="1100160"/>
                  <a:ext cx="3960" cy="41400"/>
                </a:xfrm>
                <a:custGeom>
                  <a:avLst/>
                  <a:gdLst/>
                  <a:ahLst/>
                  <a:rect l="l" t="t" r="r" b="b"/>
                  <a:pathLst>
                    <a:path w="6" h="53">
                      <a:moveTo>
                        <a:pt x="0" y="0"/>
                      </a:moveTo>
                      <a:lnTo>
                        <a:pt x="6" y="53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076800" y="1103400"/>
                  <a:ext cx="19800" cy="39600"/>
                </a:xfrm>
                <a:custGeom>
                  <a:avLst/>
                  <a:gdLst/>
                  <a:ahLst/>
                  <a:rect l="l" t="t" r="r" b="b"/>
                  <a:pathLst>
                    <a:path w="29" h="50">
                      <a:moveTo>
                        <a:pt x="27" y="50"/>
                      </a:moveTo>
                      <a:lnTo>
                        <a:pt x="0" y="0"/>
                      </a:lnTo>
                      <a:lnTo>
                        <a:pt x="29" y="41"/>
                      </a:lnTo>
                      <a:lnTo>
                        <a:pt x="29" y="50"/>
                      </a:lnTo>
                      <a:lnTo>
                        <a:pt x="29" y="50"/>
                      </a:lnTo>
                      <a:lnTo>
                        <a:pt x="27" y="5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365160" y="1127160"/>
                  <a:ext cx="38520" cy="93600"/>
                </a:xfrm>
                <a:custGeom>
                  <a:avLst/>
                  <a:gdLst/>
                  <a:ahLst/>
                  <a:rect l="l" t="t" r="r" b="b"/>
                  <a:pathLst>
                    <a:path w="54" h="117">
                      <a:moveTo>
                        <a:pt x="54" y="115"/>
                      </a:moveTo>
                      <a:lnTo>
                        <a:pt x="46" y="110"/>
                      </a:lnTo>
                      <a:lnTo>
                        <a:pt x="41" y="102"/>
                      </a:lnTo>
                      <a:lnTo>
                        <a:pt x="35" y="95"/>
                      </a:lnTo>
                      <a:lnTo>
                        <a:pt x="29" y="86"/>
                      </a:lnTo>
                      <a:lnTo>
                        <a:pt x="23" y="77"/>
                      </a:lnTo>
                      <a:lnTo>
                        <a:pt x="19" y="68"/>
                      </a:lnTo>
                      <a:lnTo>
                        <a:pt x="15" y="59"/>
                      </a:lnTo>
                      <a:lnTo>
                        <a:pt x="12" y="50"/>
                      </a:lnTo>
                      <a:lnTo>
                        <a:pt x="6" y="39"/>
                      </a:lnTo>
                      <a:lnTo>
                        <a:pt x="2" y="32"/>
                      </a:lnTo>
                      <a:lnTo>
                        <a:pt x="0" y="0"/>
                      </a:lnTo>
                      <a:lnTo>
                        <a:pt x="54" y="117"/>
                      </a:lnTo>
                      <a:lnTo>
                        <a:pt x="54" y="117"/>
                      </a:lnTo>
                      <a:lnTo>
                        <a:pt x="54" y="11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756480" y="1155600"/>
                  <a:ext cx="45720" cy="76320"/>
                </a:xfrm>
                <a:custGeom>
                  <a:avLst/>
                  <a:gdLst/>
                  <a:ahLst/>
                  <a:rect l="l" t="t" r="r" b="b"/>
                  <a:pathLst>
                    <a:path w="64" h="95">
                      <a:moveTo>
                        <a:pt x="0" y="0"/>
                      </a:moveTo>
                      <a:lnTo>
                        <a:pt x="64" y="9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825240" y="116856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37" y="52"/>
                      </a:move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9" y="9"/>
                      </a:lnTo>
                      <a:lnTo>
                        <a:pt x="13" y="14"/>
                      </a:lnTo>
                      <a:lnTo>
                        <a:pt x="17" y="20"/>
                      </a:lnTo>
                      <a:lnTo>
                        <a:pt x="23" y="25"/>
                      </a:lnTo>
                      <a:lnTo>
                        <a:pt x="25" y="31"/>
                      </a:lnTo>
                      <a:lnTo>
                        <a:pt x="29" y="36"/>
                      </a:lnTo>
                      <a:lnTo>
                        <a:pt x="33" y="41"/>
                      </a:lnTo>
                      <a:lnTo>
                        <a:pt x="35" y="47"/>
                      </a:lnTo>
                      <a:lnTo>
                        <a:pt x="39" y="52"/>
                      </a:lnTo>
                      <a:lnTo>
                        <a:pt x="39" y="52"/>
                      </a:lnTo>
                      <a:lnTo>
                        <a:pt x="37" y="5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564600" y="1154160"/>
                  <a:ext cx="56880" cy="69840"/>
                </a:xfrm>
                <a:custGeom>
                  <a:avLst/>
                  <a:gdLst/>
                  <a:ahLst/>
                  <a:rect l="l" t="t" r="r" b="b"/>
                  <a:pathLst>
                    <a:path w="79" h="88">
                      <a:moveTo>
                        <a:pt x="31" y="34"/>
                      </a:moveTo>
                      <a:lnTo>
                        <a:pt x="37" y="33"/>
                      </a:lnTo>
                      <a:lnTo>
                        <a:pt x="79" y="88"/>
                      </a:lnTo>
                      <a:lnTo>
                        <a:pt x="66" y="87"/>
                      </a:lnTo>
                      <a:lnTo>
                        <a:pt x="56" y="85"/>
                      </a:lnTo>
                      <a:lnTo>
                        <a:pt x="46" y="79"/>
                      </a:lnTo>
                      <a:lnTo>
                        <a:pt x="38" y="74"/>
                      </a:lnTo>
                      <a:lnTo>
                        <a:pt x="31" y="67"/>
                      </a:lnTo>
                      <a:lnTo>
                        <a:pt x="25" y="60"/>
                      </a:lnTo>
                      <a:lnTo>
                        <a:pt x="19" y="51"/>
                      </a:lnTo>
                      <a:lnTo>
                        <a:pt x="13" y="42"/>
                      </a:lnTo>
                      <a:lnTo>
                        <a:pt x="6" y="33"/>
                      </a:lnTo>
                      <a:lnTo>
                        <a:pt x="0" y="25"/>
                      </a:lnTo>
                      <a:lnTo>
                        <a:pt x="6" y="0"/>
                      </a:lnTo>
                      <a:lnTo>
                        <a:pt x="8" y="4"/>
                      </a:lnTo>
                      <a:lnTo>
                        <a:pt x="9" y="7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17" y="18"/>
                      </a:lnTo>
                      <a:lnTo>
                        <a:pt x="19" y="22"/>
                      </a:lnTo>
                      <a:lnTo>
                        <a:pt x="23" y="25"/>
                      </a:lnTo>
                      <a:lnTo>
                        <a:pt x="25" y="29"/>
                      </a:lnTo>
                      <a:lnTo>
                        <a:pt x="29" y="33"/>
                      </a:lnTo>
                      <a:lnTo>
                        <a:pt x="33" y="36"/>
                      </a:lnTo>
                      <a:lnTo>
                        <a:pt x="33" y="36"/>
                      </a:lnTo>
                      <a:lnTo>
                        <a:pt x="31" y="3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49320" y="1139760"/>
                  <a:ext cx="6840" cy="34920"/>
                </a:xfrm>
                <a:custGeom>
                  <a:avLst/>
                  <a:gdLst/>
                  <a:ahLst/>
                  <a:rect l="l" t="t" r="r" b="b"/>
                  <a:pathLst>
                    <a:path w="9" h="45">
                      <a:moveTo>
                        <a:pt x="0" y="0"/>
                      </a:moveTo>
                      <a:lnTo>
                        <a:pt x="9" y="4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025320" y="1122480"/>
                  <a:ext cx="15480" cy="122040"/>
                </a:xfrm>
                <a:custGeom>
                  <a:avLst/>
                  <a:gdLst/>
                  <a:ahLst/>
                  <a:rect l="l" t="t" r="r" b="b"/>
                  <a:pathLst>
                    <a:path w="23" h="155">
                      <a:moveTo>
                        <a:pt x="0" y="154"/>
                      </a:moveTo>
                      <a:lnTo>
                        <a:pt x="2" y="143"/>
                      </a:lnTo>
                      <a:lnTo>
                        <a:pt x="2" y="128"/>
                      </a:lnTo>
                      <a:lnTo>
                        <a:pt x="3" y="112"/>
                      </a:lnTo>
                      <a:lnTo>
                        <a:pt x="5" y="98"/>
                      </a:lnTo>
                      <a:lnTo>
                        <a:pt x="7" y="82"/>
                      </a:lnTo>
                      <a:lnTo>
                        <a:pt x="9" y="64"/>
                      </a:lnTo>
                      <a:lnTo>
                        <a:pt x="11" y="47"/>
                      </a:lnTo>
                      <a:lnTo>
                        <a:pt x="15" y="31"/>
                      </a:lnTo>
                      <a:lnTo>
                        <a:pt x="19" y="15"/>
                      </a:lnTo>
                      <a:lnTo>
                        <a:pt x="23" y="0"/>
                      </a:lnTo>
                      <a:lnTo>
                        <a:pt x="2" y="155"/>
                      </a:lnTo>
                      <a:lnTo>
                        <a:pt x="2" y="155"/>
                      </a:lnTo>
                      <a:lnTo>
                        <a:pt x="0" y="15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049800" y="1123920"/>
                  <a:ext cx="9720" cy="33480"/>
                </a:xfrm>
                <a:custGeom>
                  <a:avLst/>
                  <a:gdLst/>
                  <a:ahLst/>
                  <a:rect l="l" t="t" r="r" b="b"/>
                  <a:pathLst>
                    <a:path w="14" h="43">
                      <a:moveTo>
                        <a:pt x="0" y="42"/>
                      </a:moveTo>
                      <a:lnTo>
                        <a:pt x="10" y="0"/>
                      </a:lnTo>
                      <a:lnTo>
                        <a:pt x="14" y="4"/>
                      </a:lnTo>
                      <a:lnTo>
                        <a:pt x="14" y="9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10" y="22"/>
                      </a:lnTo>
                      <a:lnTo>
                        <a:pt x="8" y="25"/>
                      </a:lnTo>
                      <a:lnTo>
                        <a:pt x="6" y="29"/>
                      </a:lnTo>
                      <a:lnTo>
                        <a:pt x="4" y="34"/>
                      </a:lnTo>
                      <a:lnTo>
                        <a:pt x="2" y="38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90640" y="1143000"/>
                  <a:ext cx="39960" cy="76320"/>
                </a:xfrm>
                <a:custGeom>
                  <a:avLst/>
                  <a:gdLst/>
                  <a:ahLst/>
                  <a:rect l="l" t="t" r="r" b="b"/>
                  <a:pathLst>
                    <a:path w="57" h="96">
                      <a:moveTo>
                        <a:pt x="35" y="24"/>
                      </a:moveTo>
                      <a:lnTo>
                        <a:pt x="57" y="96"/>
                      </a:lnTo>
                      <a:lnTo>
                        <a:pt x="53" y="91"/>
                      </a:lnTo>
                      <a:lnTo>
                        <a:pt x="49" y="82"/>
                      </a:lnTo>
                      <a:lnTo>
                        <a:pt x="45" y="74"/>
                      </a:lnTo>
                      <a:lnTo>
                        <a:pt x="41" y="65"/>
                      </a:lnTo>
                      <a:lnTo>
                        <a:pt x="37" y="56"/>
                      </a:lnTo>
                      <a:lnTo>
                        <a:pt x="33" y="49"/>
                      </a:lnTo>
                      <a:lnTo>
                        <a:pt x="28" y="44"/>
                      </a:lnTo>
                      <a:lnTo>
                        <a:pt x="20" y="40"/>
                      </a:lnTo>
                      <a:lnTo>
                        <a:pt x="12" y="40"/>
                      </a:lnTo>
                      <a:lnTo>
                        <a:pt x="0" y="44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6" y="8"/>
                      </a:lnTo>
                      <a:lnTo>
                        <a:pt x="10" y="11"/>
                      </a:lnTo>
                      <a:lnTo>
                        <a:pt x="14" y="13"/>
                      </a:lnTo>
                      <a:lnTo>
                        <a:pt x="18" y="17"/>
                      </a:lnTo>
                      <a:lnTo>
                        <a:pt x="22" y="18"/>
                      </a:lnTo>
                      <a:lnTo>
                        <a:pt x="26" y="18"/>
                      </a:lnTo>
                      <a:lnTo>
                        <a:pt x="29" y="20"/>
                      </a:lnTo>
                      <a:lnTo>
                        <a:pt x="33" y="22"/>
                      </a:lnTo>
                      <a:lnTo>
                        <a:pt x="35" y="24"/>
                      </a:lnTo>
                      <a:lnTo>
                        <a:pt x="35" y="2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061320" y="1144800"/>
                  <a:ext cx="14040" cy="41040"/>
                </a:xfrm>
                <a:custGeom>
                  <a:avLst/>
                  <a:gdLst/>
                  <a:ahLst/>
                  <a:rect l="l" t="t" r="r" b="b"/>
                  <a:pathLst>
                    <a:path w="19" h="53">
                      <a:moveTo>
                        <a:pt x="15" y="53"/>
                      </a:moveTo>
                      <a:lnTo>
                        <a:pt x="4" y="38"/>
                      </a:lnTo>
                      <a:lnTo>
                        <a:pt x="0" y="42"/>
                      </a:lnTo>
                      <a:lnTo>
                        <a:pt x="10" y="0"/>
                      </a:lnTo>
                      <a:lnTo>
                        <a:pt x="15" y="4"/>
                      </a:lnTo>
                      <a:lnTo>
                        <a:pt x="17" y="7"/>
                      </a:lnTo>
                      <a:lnTo>
                        <a:pt x="19" y="13"/>
                      </a:lnTo>
                      <a:lnTo>
                        <a:pt x="19" y="16"/>
                      </a:lnTo>
                      <a:lnTo>
                        <a:pt x="19" y="24"/>
                      </a:lnTo>
                      <a:lnTo>
                        <a:pt x="17" y="29"/>
                      </a:lnTo>
                      <a:lnTo>
                        <a:pt x="17" y="35"/>
                      </a:lnTo>
                      <a:lnTo>
                        <a:pt x="15" y="42"/>
                      </a:lnTo>
                      <a:lnTo>
                        <a:pt x="15" y="47"/>
                      </a:lnTo>
                      <a:lnTo>
                        <a:pt x="15" y="53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865560" y="1201680"/>
                  <a:ext cx="80280" cy="123840"/>
                </a:xfrm>
                <a:custGeom>
                  <a:avLst/>
                  <a:gdLst/>
                  <a:ahLst/>
                  <a:rect l="l" t="t" r="r" b="b"/>
                  <a:pathLst>
                    <a:path w="110" h="155">
                      <a:moveTo>
                        <a:pt x="110" y="155"/>
                      </a:moveTo>
                      <a:lnTo>
                        <a:pt x="0" y="0"/>
                      </a:lnTo>
                      <a:lnTo>
                        <a:pt x="103" y="137"/>
                      </a:lnTo>
                      <a:lnTo>
                        <a:pt x="110" y="155"/>
                      </a:lnTo>
                      <a:lnTo>
                        <a:pt x="110" y="15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257520" y="116856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7" y="20"/>
                      </a:moveTo>
                      <a:lnTo>
                        <a:pt x="8" y="22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8" y="6"/>
                      </a:lnTo>
                      <a:lnTo>
                        <a:pt x="11" y="6"/>
                      </a:lnTo>
                      <a:lnTo>
                        <a:pt x="15" y="6"/>
                      </a:lnTo>
                      <a:lnTo>
                        <a:pt x="19" y="6"/>
                      </a:lnTo>
                      <a:lnTo>
                        <a:pt x="21" y="6"/>
                      </a:lnTo>
                      <a:lnTo>
                        <a:pt x="23" y="7"/>
                      </a:lnTo>
                      <a:lnTo>
                        <a:pt x="25" y="9"/>
                      </a:lnTo>
                      <a:lnTo>
                        <a:pt x="27" y="15"/>
                      </a:lnTo>
                      <a:lnTo>
                        <a:pt x="27" y="20"/>
                      </a:lnTo>
                      <a:lnTo>
                        <a:pt x="27" y="2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227640" y="1170000"/>
                  <a:ext cx="12600" cy="1764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14" y="12"/>
                      </a:moveTo>
                      <a:lnTo>
                        <a:pt x="18" y="16"/>
                      </a:lnTo>
                      <a:lnTo>
                        <a:pt x="0" y="2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9"/>
                      </a:lnTo>
                      <a:lnTo>
                        <a:pt x="14" y="12"/>
                      </a:lnTo>
                      <a:lnTo>
                        <a:pt x="14" y="1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702120" y="1214640"/>
                  <a:ext cx="9720" cy="108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2" y="12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862680" y="1227240"/>
                  <a:ext cx="83160" cy="135000"/>
                </a:xfrm>
                <a:custGeom>
                  <a:avLst/>
                  <a:gdLst/>
                  <a:ahLst/>
                  <a:rect l="l" t="t" r="r" b="b"/>
                  <a:pathLst>
                    <a:path w="116" h="171">
                      <a:moveTo>
                        <a:pt x="116" y="171"/>
                      </a:moveTo>
                      <a:lnTo>
                        <a:pt x="0" y="0"/>
                      </a:lnTo>
                      <a:lnTo>
                        <a:pt x="109" y="155"/>
                      </a:lnTo>
                      <a:lnTo>
                        <a:pt x="116" y="171"/>
                      </a:lnTo>
                      <a:lnTo>
                        <a:pt x="116" y="171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759720" y="1220760"/>
                  <a:ext cx="32760" cy="76320"/>
                </a:xfrm>
                <a:custGeom>
                  <a:avLst/>
                  <a:gdLst/>
                  <a:ahLst/>
                  <a:rect l="l" t="t" r="r" b="b"/>
                  <a:pathLst>
                    <a:path w="46" h="95">
                      <a:moveTo>
                        <a:pt x="46" y="95"/>
                      </a:moveTo>
                      <a:lnTo>
                        <a:pt x="42" y="90"/>
                      </a:lnTo>
                      <a:lnTo>
                        <a:pt x="37" y="83"/>
                      </a:lnTo>
                      <a:lnTo>
                        <a:pt x="31" y="74"/>
                      </a:lnTo>
                      <a:lnTo>
                        <a:pt x="25" y="65"/>
                      </a:lnTo>
                      <a:lnTo>
                        <a:pt x="19" y="54"/>
                      </a:lnTo>
                      <a:lnTo>
                        <a:pt x="13" y="45"/>
                      </a:lnTo>
                      <a:lnTo>
                        <a:pt x="10" y="34"/>
                      </a:lnTo>
                      <a:lnTo>
                        <a:pt x="6" y="23"/>
                      </a:lnTo>
                      <a:lnTo>
                        <a:pt x="2" y="12"/>
                      </a:lnTo>
                      <a:lnTo>
                        <a:pt x="0" y="0"/>
                      </a:lnTo>
                      <a:lnTo>
                        <a:pt x="11" y="9"/>
                      </a:lnTo>
                      <a:lnTo>
                        <a:pt x="19" y="18"/>
                      </a:lnTo>
                      <a:lnTo>
                        <a:pt x="23" y="27"/>
                      </a:lnTo>
                      <a:lnTo>
                        <a:pt x="27" y="36"/>
                      </a:lnTo>
                      <a:lnTo>
                        <a:pt x="27" y="47"/>
                      </a:lnTo>
                      <a:lnTo>
                        <a:pt x="29" y="56"/>
                      </a:lnTo>
                      <a:lnTo>
                        <a:pt x="31" y="66"/>
                      </a:lnTo>
                      <a:lnTo>
                        <a:pt x="33" y="76"/>
                      </a:lnTo>
                      <a:lnTo>
                        <a:pt x="39" y="86"/>
                      </a:lnTo>
                      <a:lnTo>
                        <a:pt x="46" y="95"/>
                      </a:lnTo>
                      <a:lnTo>
                        <a:pt x="46" y="9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042600" y="1216080"/>
                  <a:ext cx="799560" cy="920880"/>
                </a:xfrm>
                <a:custGeom>
                  <a:avLst/>
                  <a:gdLst/>
                  <a:ahLst/>
                  <a:rect l="l" t="t" r="r" b="b"/>
                  <a:pathLst>
                    <a:path w="1115" h="1160">
                      <a:moveTo>
                        <a:pt x="724" y="36"/>
                      </a:moveTo>
                      <a:lnTo>
                        <a:pt x="730" y="36"/>
                      </a:lnTo>
                      <a:lnTo>
                        <a:pt x="734" y="35"/>
                      </a:lnTo>
                      <a:lnTo>
                        <a:pt x="737" y="31"/>
                      </a:lnTo>
                      <a:lnTo>
                        <a:pt x="739" y="29"/>
                      </a:lnTo>
                      <a:lnTo>
                        <a:pt x="741" y="26"/>
                      </a:lnTo>
                      <a:lnTo>
                        <a:pt x="743" y="22"/>
                      </a:lnTo>
                      <a:lnTo>
                        <a:pt x="743" y="18"/>
                      </a:lnTo>
                      <a:lnTo>
                        <a:pt x="743" y="15"/>
                      </a:lnTo>
                      <a:lnTo>
                        <a:pt x="739" y="11"/>
                      </a:lnTo>
                      <a:lnTo>
                        <a:pt x="737" y="8"/>
                      </a:lnTo>
                      <a:lnTo>
                        <a:pt x="734" y="4"/>
                      </a:lnTo>
                      <a:lnTo>
                        <a:pt x="741" y="8"/>
                      </a:lnTo>
                      <a:lnTo>
                        <a:pt x="749" y="15"/>
                      </a:lnTo>
                      <a:lnTo>
                        <a:pt x="755" y="24"/>
                      </a:lnTo>
                      <a:lnTo>
                        <a:pt x="763" y="33"/>
                      </a:lnTo>
                      <a:lnTo>
                        <a:pt x="770" y="42"/>
                      </a:lnTo>
                      <a:lnTo>
                        <a:pt x="778" y="51"/>
                      </a:lnTo>
                      <a:lnTo>
                        <a:pt x="788" y="56"/>
                      </a:lnTo>
                      <a:lnTo>
                        <a:pt x="796" y="58"/>
                      </a:lnTo>
                      <a:lnTo>
                        <a:pt x="807" y="54"/>
                      </a:lnTo>
                      <a:lnTo>
                        <a:pt x="817" y="47"/>
                      </a:lnTo>
                      <a:lnTo>
                        <a:pt x="819" y="45"/>
                      </a:lnTo>
                      <a:lnTo>
                        <a:pt x="819" y="44"/>
                      </a:lnTo>
                      <a:lnTo>
                        <a:pt x="819" y="42"/>
                      </a:lnTo>
                      <a:lnTo>
                        <a:pt x="817" y="40"/>
                      </a:lnTo>
                      <a:lnTo>
                        <a:pt x="817" y="38"/>
                      </a:lnTo>
                      <a:lnTo>
                        <a:pt x="815" y="36"/>
                      </a:lnTo>
                      <a:lnTo>
                        <a:pt x="815" y="35"/>
                      </a:lnTo>
                      <a:lnTo>
                        <a:pt x="813" y="35"/>
                      </a:lnTo>
                      <a:lnTo>
                        <a:pt x="811" y="33"/>
                      </a:lnTo>
                      <a:lnTo>
                        <a:pt x="811" y="31"/>
                      </a:lnTo>
                      <a:lnTo>
                        <a:pt x="817" y="27"/>
                      </a:lnTo>
                      <a:lnTo>
                        <a:pt x="825" y="29"/>
                      </a:lnTo>
                      <a:lnTo>
                        <a:pt x="832" y="35"/>
                      </a:lnTo>
                      <a:lnTo>
                        <a:pt x="840" y="44"/>
                      </a:lnTo>
                      <a:lnTo>
                        <a:pt x="850" y="53"/>
                      </a:lnTo>
                      <a:lnTo>
                        <a:pt x="859" y="62"/>
                      </a:lnTo>
                      <a:lnTo>
                        <a:pt x="869" y="69"/>
                      </a:lnTo>
                      <a:lnTo>
                        <a:pt x="881" y="76"/>
                      </a:lnTo>
                      <a:lnTo>
                        <a:pt x="892" y="80"/>
                      </a:lnTo>
                      <a:lnTo>
                        <a:pt x="904" y="80"/>
                      </a:lnTo>
                      <a:lnTo>
                        <a:pt x="935" y="105"/>
                      </a:lnTo>
                      <a:lnTo>
                        <a:pt x="964" y="132"/>
                      </a:lnTo>
                      <a:lnTo>
                        <a:pt x="989" y="164"/>
                      </a:lnTo>
                      <a:lnTo>
                        <a:pt x="1010" y="197"/>
                      </a:lnTo>
                      <a:lnTo>
                        <a:pt x="1032" y="233"/>
                      </a:lnTo>
                      <a:lnTo>
                        <a:pt x="1049" y="271"/>
                      </a:lnTo>
                      <a:lnTo>
                        <a:pt x="1067" y="309"/>
                      </a:lnTo>
                      <a:lnTo>
                        <a:pt x="1082" y="347"/>
                      </a:lnTo>
                      <a:lnTo>
                        <a:pt x="1100" y="383"/>
                      </a:lnTo>
                      <a:lnTo>
                        <a:pt x="1115" y="419"/>
                      </a:lnTo>
                      <a:lnTo>
                        <a:pt x="1103" y="428"/>
                      </a:lnTo>
                      <a:lnTo>
                        <a:pt x="1098" y="438"/>
                      </a:lnTo>
                      <a:lnTo>
                        <a:pt x="1096" y="449"/>
                      </a:lnTo>
                      <a:lnTo>
                        <a:pt x="1098" y="462"/>
                      </a:lnTo>
                      <a:lnTo>
                        <a:pt x="1101" y="474"/>
                      </a:lnTo>
                      <a:lnTo>
                        <a:pt x="1107" y="487"/>
                      </a:lnTo>
                      <a:lnTo>
                        <a:pt x="1113" y="502"/>
                      </a:lnTo>
                      <a:lnTo>
                        <a:pt x="1115" y="516"/>
                      </a:lnTo>
                      <a:lnTo>
                        <a:pt x="1115" y="529"/>
                      </a:lnTo>
                      <a:lnTo>
                        <a:pt x="1111" y="543"/>
                      </a:lnTo>
                      <a:lnTo>
                        <a:pt x="1069" y="637"/>
                      </a:lnTo>
                      <a:lnTo>
                        <a:pt x="1053" y="637"/>
                      </a:lnTo>
                      <a:lnTo>
                        <a:pt x="1041" y="642"/>
                      </a:lnTo>
                      <a:lnTo>
                        <a:pt x="1032" y="651"/>
                      </a:lnTo>
                      <a:lnTo>
                        <a:pt x="1024" y="662"/>
                      </a:lnTo>
                      <a:lnTo>
                        <a:pt x="1016" y="675"/>
                      </a:lnTo>
                      <a:lnTo>
                        <a:pt x="1010" y="689"/>
                      </a:lnTo>
                      <a:lnTo>
                        <a:pt x="1005" y="702"/>
                      </a:lnTo>
                      <a:lnTo>
                        <a:pt x="997" y="716"/>
                      </a:lnTo>
                      <a:lnTo>
                        <a:pt x="987" y="727"/>
                      </a:lnTo>
                      <a:lnTo>
                        <a:pt x="976" y="736"/>
                      </a:lnTo>
                      <a:lnTo>
                        <a:pt x="974" y="738"/>
                      </a:lnTo>
                      <a:lnTo>
                        <a:pt x="974" y="741"/>
                      </a:lnTo>
                      <a:lnTo>
                        <a:pt x="974" y="745"/>
                      </a:lnTo>
                      <a:lnTo>
                        <a:pt x="976" y="747"/>
                      </a:lnTo>
                      <a:lnTo>
                        <a:pt x="978" y="749"/>
                      </a:lnTo>
                      <a:lnTo>
                        <a:pt x="979" y="752"/>
                      </a:lnTo>
                      <a:lnTo>
                        <a:pt x="981" y="754"/>
                      </a:lnTo>
                      <a:lnTo>
                        <a:pt x="983" y="758"/>
                      </a:lnTo>
                      <a:lnTo>
                        <a:pt x="987" y="759"/>
                      </a:lnTo>
                      <a:lnTo>
                        <a:pt x="989" y="761"/>
                      </a:lnTo>
                      <a:lnTo>
                        <a:pt x="1014" y="741"/>
                      </a:lnTo>
                      <a:lnTo>
                        <a:pt x="1012" y="743"/>
                      </a:lnTo>
                      <a:lnTo>
                        <a:pt x="1012" y="743"/>
                      </a:lnTo>
                      <a:lnTo>
                        <a:pt x="1012" y="745"/>
                      </a:lnTo>
                      <a:lnTo>
                        <a:pt x="1012" y="745"/>
                      </a:lnTo>
                      <a:lnTo>
                        <a:pt x="1014" y="747"/>
                      </a:lnTo>
                      <a:lnTo>
                        <a:pt x="1014" y="747"/>
                      </a:lnTo>
                      <a:lnTo>
                        <a:pt x="1014" y="749"/>
                      </a:lnTo>
                      <a:lnTo>
                        <a:pt x="1016" y="749"/>
                      </a:lnTo>
                      <a:lnTo>
                        <a:pt x="1016" y="750"/>
                      </a:lnTo>
                      <a:lnTo>
                        <a:pt x="1016" y="750"/>
                      </a:lnTo>
                      <a:lnTo>
                        <a:pt x="1030" y="739"/>
                      </a:lnTo>
                      <a:lnTo>
                        <a:pt x="1041" y="727"/>
                      </a:lnTo>
                      <a:lnTo>
                        <a:pt x="1053" y="712"/>
                      </a:lnTo>
                      <a:lnTo>
                        <a:pt x="1061" y="698"/>
                      </a:lnTo>
                      <a:lnTo>
                        <a:pt x="1069" y="682"/>
                      </a:lnTo>
                      <a:lnTo>
                        <a:pt x="1074" y="666"/>
                      </a:lnTo>
                      <a:lnTo>
                        <a:pt x="1082" y="649"/>
                      </a:lnTo>
                      <a:lnTo>
                        <a:pt x="1090" y="635"/>
                      </a:lnTo>
                      <a:lnTo>
                        <a:pt x="1098" y="619"/>
                      </a:lnTo>
                      <a:lnTo>
                        <a:pt x="1107" y="604"/>
                      </a:lnTo>
                      <a:lnTo>
                        <a:pt x="1105" y="630"/>
                      </a:lnTo>
                      <a:lnTo>
                        <a:pt x="1101" y="655"/>
                      </a:lnTo>
                      <a:lnTo>
                        <a:pt x="1098" y="676"/>
                      </a:lnTo>
                      <a:lnTo>
                        <a:pt x="1094" y="698"/>
                      </a:lnTo>
                      <a:lnTo>
                        <a:pt x="1088" y="718"/>
                      </a:lnTo>
                      <a:lnTo>
                        <a:pt x="1082" y="739"/>
                      </a:lnTo>
                      <a:lnTo>
                        <a:pt x="1074" y="759"/>
                      </a:lnTo>
                      <a:lnTo>
                        <a:pt x="1065" y="781"/>
                      </a:lnTo>
                      <a:lnTo>
                        <a:pt x="1055" y="803"/>
                      </a:lnTo>
                      <a:lnTo>
                        <a:pt x="1043" y="826"/>
                      </a:lnTo>
                      <a:lnTo>
                        <a:pt x="1043" y="821"/>
                      </a:lnTo>
                      <a:lnTo>
                        <a:pt x="1045" y="813"/>
                      </a:lnTo>
                      <a:lnTo>
                        <a:pt x="1049" y="806"/>
                      </a:lnTo>
                      <a:lnTo>
                        <a:pt x="1053" y="799"/>
                      </a:lnTo>
                      <a:lnTo>
                        <a:pt x="1057" y="794"/>
                      </a:lnTo>
                      <a:lnTo>
                        <a:pt x="1059" y="786"/>
                      </a:lnTo>
                      <a:lnTo>
                        <a:pt x="1061" y="781"/>
                      </a:lnTo>
                      <a:lnTo>
                        <a:pt x="1061" y="776"/>
                      </a:lnTo>
                      <a:lnTo>
                        <a:pt x="1057" y="770"/>
                      </a:lnTo>
                      <a:lnTo>
                        <a:pt x="1049" y="765"/>
                      </a:lnTo>
                      <a:lnTo>
                        <a:pt x="929" y="931"/>
                      </a:lnTo>
                      <a:lnTo>
                        <a:pt x="923" y="927"/>
                      </a:lnTo>
                      <a:lnTo>
                        <a:pt x="910" y="949"/>
                      </a:lnTo>
                      <a:lnTo>
                        <a:pt x="894" y="967"/>
                      </a:lnTo>
                      <a:lnTo>
                        <a:pt x="877" y="985"/>
                      </a:lnTo>
                      <a:lnTo>
                        <a:pt x="859" y="1001"/>
                      </a:lnTo>
                      <a:lnTo>
                        <a:pt x="840" y="1015"/>
                      </a:lnTo>
                      <a:lnTo>
                        <a:pt x="819" y="1032"/>
                      </a:lnTo>
                      <a:lnTo>
                        <a:pt x="799" y="1048"/>
                      </a:lnTo>
                      <a:lnTo>
                        <a:pt x="778" y="1064"/>
                      </a:lnTo>
                      <a:lnTo>
                        <a:pt x="759" y="1082"/>
                      </a:lnTo>
                      <a:lnTo>
                        <a:pt x="737" y="1102"/>
                      </a:lnTo>
                      <a:lnTo>
                        <a:pt x="747" y="1111"/>
                      </a:lnTo>
                      <a:lnTo>
                        <a:pt x="778" y="1091"/>
                      </a:lnTo>
                      <a:lnTo>
                        <a:pt x="757" y="1100"/>
                      </a:lnTo>
                      <a:lnTo>
                        <a:pt x="737" y="1109"/>
                      </a:lnTo>
                      <a:lnTo>
                        <a:pt x="716" y="1118"/>
                      </a:lnTo>
                      <a:lnTo>
                        <a:pt x="695" y="1125"/>
                      </a:lnTo>
                      <a:lnTo>
                        <a:pt x="674" y="1132"/>
                      </a:lnTo>
                      <a:lnTo>
                        <a:pt x="652" y="1136"/>
                      </a:lnTo>
                      <a:lnTo>
                        <a:pt x="631" y="1138"/>
                      </a:lnTo>
                      <a:lnTo>
                        <a:pt x="610" y="1138"/>
                      </a:lnTo>
                      <a:lnTo>
                        <a:pt x="586" y="1134"/>
                      </a:lnTo>
                      <a:lnTo>
                        <a:pt x="565" y="1127"/>
                      </a:lnTo>
                      <a:lnTo>
                        <a:pt x="563" y="1131"/>
                      </a:lnTo>
                      <a:lnTo>
                        <a:pt x="561" y="1132"/>
                      </a:lnTo>
                      <a:lnTo>
                        <a:pt x="559" y="1134"/>
                      </a:lnTo>
                      <a:lnTo>
                        <a:pt x="557" y="1136"/>
                      </a:lnTo>
                      <a:lnTo>
                        <a:pt x="557" y="1138"/>
                      </a:lnTo>
                      <a:lnTo>
                        <a:pt x="555" y="1140"/>
                      </a:lnTo>
                      <a:lnTo>
                        <a:pt x="554" y="1141"/>
                      </a:lnTo>
                      <a:lnTo>
                        <a:pt x="554" y="1143"/>
                      </a:lnTo>
                      <a:lnTo>
                        <a:pt x="554" y="1147"/>
                      </a:lnTo>
                      <a:lnTo>
                        <a:pt x="554" y="1149"/>
                      </a:lnTo>
                      <a:lnTo>
                        <a:pt x="563" y="1158"/>
                      </a:lnTo>
                      <a:lnTo>
                        <a:pt x="554" y="1160"/>
                      </a:lnTo>
                      <a:lnTo>
                        <a:pt x="548" y="1160"/>
                      </a:lnTo>
                      <a:lnTo>
                        <a:pt x="544" y="1158"/>
                      </a:lnTo>
                      <a:lnTo>
                        <a:pt x="542" y="1156"/>
                      </a:lnTo>
                      <a:lnTo>
                        <a:pt x="540" y="1152"/>
                      </a:lnTo>
                      <a:lnTo>
                        <a:pt x="540" y="1149"/>
                      </a:lnTo>
                      <a:lnTo>
                        <a:pt x="538" y="1143"/>
                      </a:lnTo>
                      <a:lnTo>
                        <a:pt x="538" y="1140"/>
                      </a:lnTo>
                      <a:lnTo>
                        <a:pt x="536" y="1134"/>
                      </a:lnTo>
                      <a:lnTo>
                        <a:pt x="532" y="1131"/>
                      </a:lnTo>
                      <a:lnTo>
                        <a:pt x="524" y="1125"/>
                      </a:lnTo>
                      <a:lnTo>
                        <a:pt x="515" y="1120"/>
                      </a:lnTo>
                      <a:lnTo>
                        <a:pt x="507" y="1113"/>
                      </a:lnTo>
                      <a:lnTo>
                        <a:pt x="499" y="1107"/>
                      </a:lnTo>
                      <a:lnTo>
                        <a:pt x="492" y="1102"/>
                      </a:lnTo>
                      <a:lnTo>
                        <a:pt x="484" y="1096"/>
                      </a:lnTo>
                      <a:lnTo>
                        <a:pt x="476" y="1091"/>
                      </a:lnTo>
                      <a:lnTo>
                        <a:pt x="468" y="1086"/>
                      </a:lnTo>
                      <a:lnTo>
                        <a:pt x="461" y="1078"/>
                      </a:lnTo>
                      <a:lnTo>
                        <a:pt x="453" y="1073"/>
                      </a:lnTo>
                      <a:lnTo>
                        <a:pt x="451" y="1095"/>
                      </a:lnTo>
                      <a:lnTo>
                        <a:pt x="447" y="1091"/>
                      </a:lnTo>
                      <a:lnTo>
                        <a:pt x="443" y="1086"/>
                      </a:lnTo>
                      <a:lnTo>
                        <a:pt x="437" y="1082"/>
                      </a:lnTo>
                      <a:lnTo>
                        <a:pt x="433" y="1078"/>
                      </a:lnTo>
                      <a:lnTo>
                        <a:pt x="430" y="1075"/>
                      </a:lnTo>
                      <a:lnTo>
                        <a:pt x="424" y="1071"/>
                      </a:lnTo>
                      <a:lnTo>
                        <a:pt x="420" y="1066"/>
                      </a:lnTo>
                      <a:lnTo>
                        <a:pt x="416" y="1062"/>
                      </a:lnTo>
                      <a:lnTo>
                        <a:pt x="412" y="1057"/>
                      </a:lnTo>
                      <a:lnTo>
                        <a:pt x="408" y="1053"/>
                      </a:lnTo>
                      <a:lnTo>
                        <a:pt x="408" y="1053"/>
                      </a:lnTo>
                      <a:lnTo>
                        <a:pt x="410" y="1055"/>
                      </a:lnTo>
                      <a:lnTo>
                        <a:pt x="412" y="1057"/>
                      </a:lnTo>
                      <a:lnTo>
                        <a:pt x="414" y="1059"/>
                      </a:lnTo>
                      <a:lnTo>
                        <a:pt x="416" y="1059"/>
                      </a:lnTo>
                      <a:lnTo>
                        <a:pt x="418" y="1060"/>
                      </a:lnTo>
                      <a:lnTo>
                        <a:pt x="420" y="1060"/>
                      </a:lnTo>
                      <a:lnTo>
                        <a:pt x="422" y="1060"/>
                      </a:lnTo>
                      <a:lnTo>
                        <a:pt x="422" y="1062"/>
                      </a:lnTo>
                      <a:lnTo>
                        <a:pt x="424" y="1062"/>
                      </a:lnTo>
                      <a:lnTo>
                        <a:pt x="426" y="1053"/>
                      </a:lnTo>
                      <a:lnTo>
                        <a:pt x="408" y="1042"/>
                      </a:lnTo>
                      <a:lnTo>
                        <a:pt x="391" y="1032"/>
                      </a:lnTo>
                      <a:lnTo>
                        <a:pt x="373" y="1019"/>
                      </a:lnTo>
                      <a:lnTo>
                        <a:pt x="358" y="1006"/>
                      </a:lnTo>
                      <a:lnTo>
                        <a:pt x="341" y="994"/>
                      </a:lnTo>
                      <a:lnTo>
                        <a:pt x="325" y="981"/>
                      </a:lnTo>
                      <a:lnTo>
                        <a:pt x="310" y="968"/>
                      </a:lnTo>
                      <a:lnTo>
                        <a:pt x="292" y="956"/>
                      </a:lnTo>
                      <a:lnTo>
                        <a:pt x="275" y="945"/>
                      </a:lnTo>
                      <a:lnTo>
                        <a:pt x="257" y="934"/>
                      </a:lnTo>
                      <a:lnTo>
                        <a:pt x="162" y="819"/>
                      </a:lnTo>
                      <a:lnTo>
                        <a:pt x="168" y="821"/>
                      </a:lnTo>
                      <a:lnTo>
                        <a:pt x="174" y="822"/>
                      </a:lnTo>
                      <a:lnTo>
                        <a:pt x="180" y="828"/>
                      </a:lnTo>
                      <a:lnTo>
                        <a:pt x="186" y="835"/>
                      </a:lnTo>
                      <a:lnTo>
                        <a:pt x="189" y="840"/>
                      </a:lnTo>
                      <a:lnTo>
                        <a:pt x="195" y="848"/>
                      </a:lnTo>
                      <a:lnTo>
                        <a:pt x="201" y="851"/>
                      </a:lnTo>
                      <a:lnTo>
                        <a:pt x="209" y="855"/>
                      </a:lnTo>
                      <a:lnTo>
                        <a:pt x="215" y="855"/>
                      </a:lnTo>
                      <a:lnTo>
                        <a:pt x="220" y="851"/>
                      </a:lnTo>
                      <a:lnTo>
                        <a:pt x="217" y="844"/>
                      </a:lnTo>
                      <a:lnTo>
                        <a:pt x="215" y="839"/>
                      </a:lnTo>
                      <a:lnTo>
                        <a:pt x="211" y="831"/>
                      </a:lnTo>
                      <a:lnTo>
                        <a:pt x="209" y="824"/>
                      </a:lnTo>
                      <a:lnTo>
                        <a:pt x="207" y="819"/>
                      </a:lnTo>
                      <a:lnTo>
                        <a:pt x="203" y="813"/>
                      </a:lnTo>
                      <a:lnTo>
                        <a:pt x="199" y="808"/>
                      </a:lnTo>
                      <a:lnTo>
                        <a:pt x="193" y="804"/>
                      </a:lnTo>
                      <a:lnTo>
                        <a:pt x="184" y="804"/>
                      </a:lnTo>
                      <a:lnTo>
                        <a:pt x="174" y="804"/>
                      </a:lnTo>
                      <a:lnTo>
                        <a:pt x="160" y="792"/>
                      </a:lnTo>
                      <a:lnTo>
                        <a:pt x="147" y="781"/>
                      </a:lnTo>
                      <a:lnTo>
                        <a:pt x="135" y="768"/>
                      </a:lnTo>
                      <a:lnTo>
                        <a:pt x="124" y="754"/>
                      </a:lnTo>
                      <a:lnTo>
                        <a:pt x="114" y="741"/>
                      </a:lnTo>
                      <a:lnTo>
                        <a:pt x="104" y="727"/>
                      </a:lnTo>
                      <a:lnTo>
                        <a:pt x="95" y="712"/>
                      </a:lnTo>
                      <a:lnTo>
                        <a:pt x="87" y="698"/>
                      </a:lnTo>
                      <a:lnTo>
                        <a:pt x="81" y="684"/>
                      </a:lnTo>
                      <a:lnTo>
                        <a:pt x="77" y="667"/>
                      </a:lnTo>
                      <a:lnTo>
                        <a:pt x="89" y="682"/>
                      </a:lnTo>
                      <a:lnTo>
                        <a:pt x="100" y="698"/>
                      </a:lnTo>
                      <a:lnTo>
                        <a:pt x="110" y="712"/>
                      </a:lnTo>
                      <a:lnTo>
                        <a:pt x="124" y="727"/>
                      </a:lnTo>
                      <a:lnTo>
                        <a:pt x="135" y="743"/>
                      </a:lnTo>
                      <a:lnTo>
                        <a:pt x="149" y="758"/>
                      </a:lnTo>
                      <a:lnTo>
                        <a:pt x="160" y="770"/>
                      </a:lnTo>
                      <a:lnTo>
                        <a:pt x="174" y="785"/>
                      </a:lnTo>
                      <a:lnTo>
                        <a:pt x="188" y="797"/>
                      </a:lnTo>
                      <a:lnTo>
                        <a:pt x="201" y="810"/>
                      </a:lnTo>
                      <a:lnTo>
                        <a:pt x="203" y="808"/>
                      </a:lnTo>
                      <a:lnTo>
                        <a:pt x="207" y="806"/>
                      </a:lnTo>
                      <a:lnTo>
                        <a:pt x="209" y="804"/>
                      </a:lnTo>
                      <a:lnTo>
                        <a:pt x="209" y="803"/>
                      </a:lnTo>
                      <a:lnTo>
                        <a:pt x="211" y="801"/>
                      </a:lnTo>
                      <a:lnTo>
                        <a:pt x="211" y="799"/>
                      </a:lnTo>
                      <a:lnTo>
                        <a:pt x="213" y="795"/>
                      </a:lnTo>
                      <a:lnTo>
                        <a:pt x="213" y="794"/>
                      </a:lnTo>
                      <a:lnTo>
                        <a:pt x="213" y="792"/>
                      </a:lnTo>
                      <a:lnTo>
                        <a:pt x="213" y="788"/>
                      </a:lnTo>
                      <a:lnTo>
                        <a:pt x="207" y="785"/>
                      </a:lnTo>
                      <a:lnTo>
                        <a:pt x="203" y="781"/>
                      </a:lnTo>
                      <a:lnTo>
                        <a:pt x="199" y="779"/>
                      </a:lnTo>
                      <a:lnTo>
                        <a:pt x="193" y="776"/>
                      </a:lnTo>
                      <a:lnTo>
                        <a:pt x="189" y="772"/>
                      </a:lnTo>
                      <a:lnTo>
                        <a:pt x="186" y="768"/>
                      </a:lnTo>
                      <a:lnTo>
                        <a:pt x="180" y="765"/>
                      </a:lnTo>
                      <a:lnTo>
                        <a:pt x="176" y="761"/>
                      </a:lnTo>
                      <a:lnTo>
                        <a:pt x="172" y="756"/>
                      </a:lnTo>
                      <a:lnTo>
                        <a:pt x="168" y="752"/>
                      </a:lnTo>
                      <a:lnTo>
                        <a:pt x="170" y="750"/>
                      </a:lnTo>
                      <a:lnTo>
                        <a:pt x="172" y="750"/>
                      </a:lnTo>
                      <a:lnTo>
                        <a:pt x="176" y="750"/>
                      </a:lnTo>
                      <a:lnTo>
                        <a:pt x="178" y="749"/>
                      </a:lnTo>
                      <a:lnTo>
                        <a:pt x="180" y="747"/>
                      </a:lnTo>
                      <a:lnTo>
                        <a:pt x="182" y="745"/>
                      </a:lnTo>
                      <a:lnTo>
                        <a:pt x="184" y="743"/>
                      </a:lnTo>
                      <a:lnTo>
                        <a:pt x="186" y="743"/>
                      </a:lnTo>
                      <a:lnTo>
                        <a:pt x="188" y="741"/>
                      </a:lnTo>
                      <a:lnTo>
                        <a:pt x="189" y="739"/>
                      </a:lnTo>
                      <a:lnTo>
                        <a:pt x="188" y="732"/>
                      </a:lnTo>
                      <a:lnTo>
                        <a:pt x="186" y="727"/>
                      </a:lnTo>
                      <a:lnTo>
                        <a:pt x="182" y="723"/>
                      </a:lnTo>
                      <a:lnTo>
                        <a:pt x="178" y="721"/>
                      </a:lnTo>
                      <a:lnTo>
                        <a:pt x="172" y="720"/>
                      </a:lnTo>
                      <a:lnTo>
                        <a:pt x="166" y="718"/>
                      </a:lnTo>
                      <a:lnTo>
                        <a:pt x="160" y="716"/>
                      </a:lnTo>
                      <a:lnTo>
                        <a:pt x="157" y="712"/>
                      </a:lnTo>
                      <a:lnTo>
                        <a:pt x="153" y="709"/>
                      </a:lnTo>
                      <a:lnTo>
                        <a:pt x="149" y="703"/>
                      </a:lnTo>
                      <a:lnTo>
                        <a:pt x="129" y="684"/>
                      </a:lnTo>
                      <a:lnTo>
                        <a:pt x="114" y="664"/>
                      </a:lnTo>
                      <a:lnTo>
                        <a:pt x="100" y="644"/>
                      </a:lnTo>
                      <a:lnTo>
                        <a:pt x="89" y="622"/>
                      </a:lnTo>
                      <a:lnTo>
                        <a:pt x="81" y="601"/>
                      </a:lnTo>
                      <a:lnTo>
                        <a:pt x="73" y="579"/>
                      </a:lnTo>
                      <a:lnTo>
                        <a:pt x="69" y="556"/>
                      </a:lnTo>
                      <a:lnTo>
                        <a:pt x="68" y="532"/>
                      </a:lnTo>
                      <a:lnTo>
                        <a:pt x="68" y="509"/>
                      </a:lnTo>
                      <a:lnTo>
                        <a:pt x="68" y="485"/>
                      </a:lnTo>
                      <a:lnTo>
                        <a:pt x="62" y="478"/>
                      </a:lnTo>
                      <a:lnTo>
                        <a:pt x="58" y="473"/>
                      </a:lnTo>
                      <a:lnTo>
                        <a:pt x="56" y="469"/>
                      </a:lnTo>
                      <a:lnTo>
                        <a:pt x="56" y="464"/>
                      </a:lnTo>
                      <a:lnTo>
                        <a:pt x="56" y="458"/>
                      </a:lnTo>
                      <a:lnTo>
                        <a:pt x="56" y="455"/>
                      </a:lnTo>
                      <a:lnTo>
                        <a:pt x="60" y="449"/>
                      </a:lnTo>
                      <a:lnTo>
                        <a:pt x="62" y="444"/>
                      </a:lnTo>
                      <a:lnTo>
                        <a:pt x="64" y="438"/>
                      </a:lnTo>
                      <a:lnTo>
                        <a:pt x="66" y="431"/>
                      </a:lnTo>
                      <a:lnTo>
                        <a:pt x="0" y="294"/>
                      </a:lnTo>
                      <a:lnTo>
                        <a:pt x="7" y="305"/>
                      </a:lnTo>
                      <a:lnTo>
                        <a:pt x="13" y="316"/>
                      </a:lnTo>
                      <a:lnTo>
                        <a:pt x="19" y="328"/>
                      </a:lnTo>
                      <a:lnTo>
                        <a:pt x="25" y="339"/>
                      </a:lnTo>
                      <a:lnTo>
                        <a:pt x="31" y="352"/>
                      </a:lnTo>
                      <a:lnTo>
                        <a:pt x="35" y="363"/>
                      </a:lnTo>
                      <a:lnTo>
                        <a:pt x="42" y="374"/>
                      </a:lnTo>
                      <a:lnTo>
                        <a:pt x="48" y="384"/>
                      </a:lnTo>
                      <a:lnTo>
                        <a:pt x="58" y="393"/>
                      </a:lnTo>
                      <a:lnTo>
                        <a:pt x="68" y="401"/>
                      </a:lnTo>
                      <a:lnTo>
                        <a:pt x="71" y="384"/>
                      </a:lnTo>
                      <a:lnTo>
                        <a:pt x="77" y="368"/>
                      </a:lnTo>
                      <a:lnTo>
                        <a:pt x="85" y="354"/>
                      </a:lnTo>
                      <a:lnTo>
                        <a:pt x="93" y="339"/>
                      </a:lnTo>
                      <a:lnTo>
                        <a:pt x="100" y="325"/>
                      </a:lnTo>
                      <a:lnTo>
                        <a:pt x="106" y="309"/>
                      </a:lnTo>
                      <a:lnTo>
                        <a:pt x="112" y="294"/>
                      </a:lnTo>
                      <a:lnTo>
                        <a:pt x="114" y="280"/>
                      </a:lnTo>
                      <a:lnTo>
                        <a:pt x="114" y="264"/>
                      </a:lnTo>
                      <a:lnTo>
                        <a:pt x="110" y="246"/>
                      </a:lnTo>
                      <a:lnTo>
                        <a:pt x="112" y="246"/>
                      </a:lnTo>
                      <a:lnTo>
                        <a:pt x="116" y="247"/>
                      </a:lnTo>
                      <a:lnTo>
                        <a:pt x="118" y="249"/>
                      </a:lnTo>
                      <a:lnTo>
                        <a:pt x="120" y="251"/>
                      </a:lnTo>
                      <a:lnTo>
                        <a:pt x="122" y="253"/>
                      </a:lnTo>
                      <a:lnTo>
                        <a:pt x="124" y="256"/>
                      </a:lnTo>
                      <a:lnTo>
                        <a:pt x="126" y="258"/>
                      </a:lnTo>
                      <a:lnTo>
                        <a:pt x="129" y="258"/>
                      </a:lnTo>
                      <a:lnTo>
                        <a:pt x="131" y="260"/>
                      </a:lnTo>
                      <a:lnTo>
                        <a:pt x="135" y="260"/>
                      </a:lnTo>
                      <a:lnTo>
                        <a:pt x="145" y="251"/>
                      </a:lnTo>
                      <a:lnTo>
                        <a:pt x="149" y="240"/>
                      </a:lnTo>
                      <a:lnTo>
                        <a:pt x="151" y="231"/>
                      </a:lnTo>
                      <a:lnTo>
                        <a:pt x="151" y="220"/>
                      </a:lnTo>
                      <a:lnTo>
                        <a:pt x="149" y="209"/>
                      </a:lnTo>
                      <a:lnTo>
                        <a:pt x="149" y="200"/>
                      </a:lnTo>
                      <a:lnTo>
                        <a:pt x="151" y="191"/>
                      </a:lnTo>
                      <a:lnTo>
                        <a:pt x="155" y="182"/>
                      </a:lnTo>
                      <a:lnTo>
                        <a:pt x="162" y="175"/>
                      </a:lnTo>
                      <a:lnTo>
                        <a:pt x="176" y="170"/>
                      </a:lnTo>
                      <a:lnTo>
                        <a:pt x="176" y="157"/>
                      </a:lnTo>
                      <a:lnTo>
                        <a:pt x="203" y="155"/>
                      </a:lnTo>
                      <a:lnTo>
                        <a:pt x="207" y="152"/>
                      </a:lnTo>
                      <a:lnTo>
                        <a:pt x="209" y="148"/>
                      </a:lnTo>
                      <a:lnTo>
                        <a:pt x="209" y="145"/>
                      </a:lnTo>
                      <a:lnTo>
                        <a:pt x="209" y="141"/>
                      </a:lnTo>
                      <a:lnTo>
                        <a:pt x="209" y="137"/>
                      </a:lnTo>
                      <a:lnTo>
                        <a:pt x="209" y="134"/>
                      </a:lnTo>
                      <a:lnTo>
                        <a:pt x="207" y="130"/>
                      </a:lnTo>
                      <a:lnTo>
                        <a:pt x="207" y="127"/>
                      </a:lnTo>
                      <a:lnTo>
                        <a:pt x="205" y="123"/>
                      </a:lnTo>
                      <a:lnTo>
                        <a:pt x="203" y="121"/>
                      </a:lnTo>
                      <a:lnTo>
                        <a:pt x="205" y="119"/>
                      </a:lnTo>
                      <a:lnTo>
                        <a:pt x="209" y="119"/>
                      </a:lnTo>
                      <a:lnTo>
                        <a:pt x="213" y="121"/>
                      </a:lnTo>
                      <a:lnTo>
                        <a:pt x="219" y="123"/>
                      </a:lnTo>
                      <a:lnTo>
                        <a:pt x="224" y="125"/>
                      </a:lnTo>
                      <a:lnTo>
                        <a:pt x="228" y="127"/>
                      </a:lnTo>
                      <a:lnTo>
                        <a:pt x="234" y="127"/>
                      </a:lnTo>
                      <a:lnTo>
                        <a:pt x="238" y="125"/>
                      </a:lnTo>
                      <a:lnTo>
                        <a:pt x="242" y="121"/>
                      </a:lnTo>
                      <a:lnTo>
                        <a:pt x="246" y="114"/>
                      </a:lnTo>
                      <a:lnTo>
                        <a:pt x="246" y="112"/>
                      </a:lnTo>
                      <a:lnTo>
                        <a:pt x="246" y="110"/>
                      </a:lnTo>
                      <a:lnTo>
                        <a:pt x="246" y="109"/>
                      </a:lnTo>
                      <a:lnTo>
                        <a:pt x="244" y="107"/>
                      </a:lnTo>
                      <a:lnTo>
                        <a:pt x="244" y="105"/>
                      </a:lnTo>
                      <a:lnTo>
                        <a:pt x="242" y="103"/>
                      </a:lnTo>
                      <a:lnTo>
                        <a:pt x="240" y="101"/>
                      </a:lnTo>
                      <a:lnTo>
                        <a:pt x="240" y="100"/>
                      </a:lnTo>
                      <a:lnTo>
                        <a:pt x="238" y="98"/>
                      </a:lnTo>
                      <a:lnTo>
                        <a:pt x="238" y="96"/>
                      </a:lnTo>
                      <a:lnTo>
                        <a:pt x="248" y="96"/>
                      </a:lnTo>
                      <a:lnTo>
                        <a:pt x="257" y="94"/>
                      </a:lnTo>
                      <a:lnTo>
                        <a:pt x="265" y="91"/>
                      </a:lnTo>
                      <a:lnTo>
                        <a:pt x="275" y="87"/>
                      </a:lnTo>
                      <a:lnTo>
                        <a:pt x="282" y="83"/>
                      </a:lnTo>
                      <a:lnTo>
                        <a:pt x="292" y="82"/>
                      </a:lnTo>
                      <a:lnTo>
                        <a:pt x="300" y="82"/>
                      </a:lnTo>
                      <a:lnTo>
                        <a:pt x="308" y="85"/>
                      </a:lnTo>
                      <a:lnTo>
                        <a:pt x="315" y="91"/>
                      </a:lnTo>
                      <a:lnTo>
                        <a:pt x="323" y="101"/>
                      </a:lnTo>
                      <a:lnTo>
                        <a:pt x="327" y="103"/>
                      </a:lnTo>
                      <a:lnTo>
                        <a:pt x="331" y="103"/>
                      </a:lnTo>
                      <a:lnTo>
                        <a:pt x="333" y="103"/>
                      </a:lnTo>
                      <a:lnTo>
                        <a:pt x="335" y="101"/>
                      </a:lnTo>
                      <a:lnTo>
                        <a:pt x="337" y="100"/>
                      </a:lnTo>
                      <a:lnTo>
                        <a:pt x="339" y="98"/>
                      </a:lnTo>
                      <a:lnTo>
                        <a:pt x="341" y="96"/>
                      </a:lnTo>
                      <a:lnTo>
                        <a:pt x="341" y="94"/>
                      </a:lnTo>
                      <a:lnTo>
                        <a:pt x="342" y="92"/>
                      </a:lnTo>
                      <a:lnTo>
                        <a:pt x="344" y="91"/>
                      </a:lnTo>
                      <a:lnTo>
                        <a:pt x="288" y="22"/>
                      </a:lnTo>
                      <a:lnTo>
                        <a:pt x="302" y="33"/>
                      </a:lnTo>
                      <a:lnTo>
                        <a:pt x="315" y="45"/>
                      </a:lnTo>
                      <a:lnTo>
                        <a:pt x="327" y="56"/>
                      </a:lnTo>
                      <a:lnTo>
                        <a:pt x="341" y="65"/>
                      </a:lnTo>
                      <a:lnTo>
                        <a:pt x="354" y="76"/>
                      </a:lnTo>
                      <a:lnTo>
                        <a:pt x="368" y="85"/>
                      </a:lnTo>
                      <a:lnTo>
                        <a:pt x="383" y="96"/>
                      </a:lnTo>
                      <a:lnTo>
                        <a:pt x="397" y="105"/>
                      </a:lnTo>
                      <a:lnTo>
                        <a:pt x="410" y="112"/>
                      </a:lnTo>
                      <a:lnTo>
                        <a:pt x="426" y="121"/>
                      </a:lnTo>
                      <a:lnTo>
                        <a:pt x="428" y="121"/>
                      </a:lnTo>
                      <a:lnTo>
                        <a:pt x="430" y="121"/>
                      </a:lnTo>
                      <a:lnTo>
                        <a:pt x="432" y="123"/>
                      </a:lnTo>
                      <a:lnTo>
                        <a:pt x="433" y="123"/>
                      </a:lnTo>
                      <a:lnTo>
                        <a:pt x="435" y="123"/>
                      </a:lnTo>
                      <a:lnTo>
                        <a:pt x="437" y="123"/>
                      </a:lnTo>
                      <a:lnTo>
                        <a:pt x="439" y="123"/>
                      </a:lnTo>
                      <a:lnTo>
                        <a:pt x="441" y="125"/>
                      </a:lnTo>
                      <a:lnTo>
                        <a:pt x="443" y="127"/>
                      </a:lnTo>
                      <a:lnTo>
                        <a:pt x="445" y="128"/>
                      </a:lnTo>
                      <a:lnTo>
                        <a:pt x="430" y="130"/>
                      </a:lnTo>
                      <a:lnTo>
                        <a:pt x="416" y="134"/>
                      </a:lnTo>
                      <a:lnTo>
                        <a:pt x="402" y="139"/>
                      </a:lnTo>
                      <a:lnTo>
                        <a:pt x="387" y="145"/>
                      </a:lnTo>
                      <a:lnTo>
                        <a:pt x="375" y="152"/>
                      </a:lnTo>
                      <a:lnTo>
                        <a:pt x="362" y="157"/>
                      </a:lnTo>
                      <a:lnTo>
                        <a:pt x="348" y="161"/>
                      </a:lnTo>
                      <a:lnTo>
                        <a:pt x="337" y="163"/>
                      </a:lnTo>
                      <a:lnTo>
                        <a:pt x="323" y="163"/>
                      </a:lnTo>
                      <a:lnTo>
                        <a:pt x="311" y="157"/>
                      </a:lnTo>
                      <a:lnTo>
                        <a:pt x="292" y="168"/>
                      </a:lnTo>
                      <a:lnTo>
                        <a:pt x="273" y="179"/>
                      </a:lnTo>
                      <a:lnTo>
                        <a:pt x="255" y="191"/>
                      </a:lnTo>
                      <a:lnTo>
                        <a:pt x="238" y="206"/>
                      </a:lnTo>
                      <a:lnTo>
                        <a:pt x="220" y="222"/>
                      </a:lnTo>
                      <a:lnTo>
                        <a:pt x="205" y="237"/>
                      </a:lnTo>
                      <a:lnTo>
                        <a:pt x="191" y="255"/>
                      </a:lnTo>
                      <a:lnTo>
                        <a:pt x="176" y="271"/>
                      </a:lnTo>
                      <a:lnTo>
                        <a:pt x="164" y="287"/>
                      </a:lnTo>
                      <a:lnTo>
                        <a:pt x="151" y="303"/>
                      </a:lnTo>
                      <a:lnTo>
                        <a:pt x="160" y="305"/>
                      </a:lnTo>
                      <a:lnTo>
                        <a:pt x="170" y="301"/>
                      </a:lnTo>
                      <a:lnTo>
                        <a:pt x="178" y="296"/>
                      </a:lnTo>
                      <a:lnTo>
                        <a:pt x="186" y="289"/>
                      </a:lnTo>
                      <a:lnTo>
                        <a:pt x="193" y="282"/>
                      </a:lnTo>
                      <a:lnTo>
                        <a:pt x="201" y="273"/>
                      </a:lnTo>
                      <a:lnTo>
                        <a:pt x="209" y="265"/>
                      </a:lnTo>
                      <a:lnTo>
                        <a:pt x="219" y="260"/>
                      </a:lnTo>
                      <a:lnTo>
                        <a:pt x="228" y="256"/>
                      </a:lnTo>
                      <a:lnTo>
                        <a:pt x="238" y="256"/>
                      </a:lnTo>
                      <a:lnTo>
                        <a:pt x="244" y="253"/>
                      </a:lnTo>
                      <a:lnTo>
                        <a:pt x="248" y="247"/>
                      </a:lnTo>
                      <a:lnTo>
                        <a:pt x="251" y="242"/>
                      </a:lnTo>
                      <a:lnTo>
                        <a:pt x="255" y="238"/>
                      </a:lnTo>
                      <a:lnTo>
                        <a:pt x="259" y="235"/>
                      </a:lnTo>
                      <a:lnTo>
                        <a:pt x="263" y="229"/>
                      </a:lnTo>
                      <a:lnTo>
                        <a:pt x="267" y="226"/>
                      </a:lnTo>
                      <a:lnTo>
                        <a:pt x="273" y="222"/>
                      </a:lnTo>
                      <a:lnTo>
                        <a:pt x="277" y="220"/>
                      </a:lnTo>
                      <a:lnTo>
                        <a:pt x="284" y="217"/>
                      </a:lnTo>
                      <a:lnTo>
                        <a:pt x="292" y="220"/>
                      </a:lnTo>
                      <a:lnTo>
                        <a:pt x="302" y="222"/>
                      </a:lnTo>
                      <a:lnTo>
                        <a:pt x="311" y="220"/>
                      </a:lnTo>
                      <a:lnTo>
                        <a:pt x="321" y="217"/>
                      </a:lnTo>
                      <a:lnTo>
                        <a:pt x="333" y="211"/>
                      </a:lnTo>
                      <a:lnTo>
                        <a:pt x="344" y="208"/>
                      </a:lnTo>
                      <a:lnTo>
                        <a:pt x="354" y="206"/>
                      </a:lnTo>
                      <a:lnTo>
                        <a:pt x="366" y="204"/>
                      </a:lnTo>
                      <a:lnTo>
                        <a:pt x="375" y="206"/>
                      </a:lnTo>
                      <a:lnTo>
                        <a:pt x="385" y="211"/>
                      </a:lnTo>
                      <a:lnTo>
                        <a:pt x="395" y="204"/>
                      </a:lnTo>
                      <a:lnTo>
                        <a:pt x="406" y="199"/>
                      </a:lnTo>
                      <a:lnTo>
                        <a:pt x="420" y="193"/>
                      </a:lnTo>
                      <a:lnTo>
                        <a:pt x="432" y="188"/>
                      </a:lnTo>
                      <a:lnTo>
                        <a:pt x="445" y="184"/>
                      </a:lnTo>
                      <a:lnTo>
                        <a:pt x="455" y="177"/>
                      </a:lnTo>
                      <a:lnTo>
                        <a:pt x="464" y="172"/>
                      </a:lnTo>
                      <a:lnTo>
                        <a:pt x="470" y="163"/>
                      </a:lnTo>
                      <a:lnTo>
                        <a:pt x="472" y="154"/>
                      </a:lnTo>
                      <a:lnTo>
                        <a:pt x="470" y="143"/>
                      </a:lnTo>
                      <a:lnTo>
                        <a:pt x="495" y="121"/>
                      </a:lnTo>
                      <a:lnTo>
                        <a:pt x="428" y="35"/>
                      </a:lnTo>
                      <a:lnTo>
                        <a:pt x="437" y="27"/>
                      </a:lnTo>
                      <a:lnTo>
                        <a:pt x="443" y="35"/>
                      </a:lnTo>
                      <a:lnTo>
                        <a:pt x="449" y="44"/>
                      </a:lnTo>
                      <a:lnTo>
                        <a:pt x="455" y="51"/>
                      </a:lnTo>
                      <a:lnTo>
                        <a:pt x="463" y="58"/>
                      </a:lnTo>
                      <a:lnTo>
                        <a:pt x="472" y="65"/>
                      </a:lnTo>
                      <a:lnTo>
                        <a:pt x="480" y="71"/>
                      </a:lnTo>
                      <a:lnTo>
                        <a:pt x="490" y="74"/>
                      </a:lnTo>
                      <a:lnTo>
                        <a:pt x="499" y="78"/>
                      </a:lnTo>
                      <a:lnTo>
                        <a:pt x="509" y="80"/>
                      </a:lnTo>
                      <a:lnTo>
                        <a:pt x="517" y="80"/>
                      </a:lnTo>
                      <a:lnTo>
                        <a:pt x="544" y="42"/>
                      </a:lnTo>
                      <a:lnTo>
                        <a:pt x="555" y="49"/>
                      </a:lnTo>
                      <a:lnTo>
                        <a:pt x="565" y="58"/>
                      </a:lnTo>
                      <a:lnTo>
                        <a:pt x="577" y="65"/>
                      </a:lnTo>
                      <a:lnTo>
                        <a:pt x="588" y="74"/>
                      </a:lnTo>
                      <a:lnTo>
                        <a:pt x="602" y="80"/>
                      </a:lnTo>
                      <a:lnTo>
                        <a:pt x="614" y="87"/>
                      </a:lnTo>
                      <a:lnTo>
                        <a:pt x="627" y="91"/>
                      </a:lnTo>
                      <a:lnTo>
                        <a:pt x="639" y="92"/>
                      </a:lnTo>
                      <a:lnTo>
                        <a:pt x="652" y="92"/>
                      </a:lnTo>
                      <a:lnTo>
                        <a:pt x="666" y="91"/>
                      </a:lnTo>
                      <a:lnTo>
                        <a:pt x="670" y="83"/>
                      </a:lnTo>
                      <a:lnTo>
                        <a:pt x="674" y="78"/>
                      </a:lnTo>
                      <a:lnTo>
                        <a:pt x="679" y="72"/>
                      </a:lnTo>
                      <a:lnTo>
                        <a:pt x="685" y="67"/>
                      </a:lnTo>
                      <a:lnTo>
                        <a:pt x="689" y="62"/>
                      </a:lnTo>
                      <a:lnTo>
                        <a:pt x="695" y="56"/>
                      </a:lnTo>
                      <a:lnTo>
                        <a:pt x="701" y="51"/>
                      </a:lnTo>
                      <a:lnTo>
                        <a:pt x="705" y="45"/>
                      </a:lnTo>
                      <a:lnTo>
                        <a:pt x="706" y="38"/>
                      </a:lnTo>
                      <a:lnTo>
                        <a:pt x="708" y="31"/>
                      </a:lnTo>
                      <a:lnTo>
                        <a:pt x="681" y="0"/>
                      </a:lnTo>
                      <a:lnTo>
                        <a:pt x="724" y="38"/>
                      </a:lnTo>
                      <a:lnTo>
                        <a:pt x="724" y="38"/>
                      </a:lnTo>
                      <a:lnTo>
                        <a:pt x="724" y="36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01600" y="1216080"/>
                  <a:ext cx="21240" cy="27000"/>
                </a:xfrm>
                <a:custGeom>
                  <a:avLst/>
                  <a:gdLst/>
                  <a:ahLst/>
                  <a:rect l="l" t="t" r="r" b="b"/>
                  <a:pathLst>
                    <a:path w="31" h="35">
                      <a:moveTo>
                        <a:pt x="0" y="0"/>
                      </a:moveTo>
                      <a:lnTo>
                        <a:pt x="31" y="35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798240" y="1273320"/>
                  <a:ext cx="101520" cy="169920"/>
                </a:xfrm>
                <a:custGeom>
                  <a:avLst/>
                  <a:gdLst/>
                  <a:ahLst/>
                  <a:rect l="l" t="t" r="r" b="b"/>
                  <a:pathLst>
                    <a:path w="141" h="213">
                      <a:moveTo>
                        <a:pt x="141" y="213"/>
                      </a:moveTo>
                      <a:lnTo>
                        <a:pt x="132" y="197"/>
                      </a:lnTo>
                      <a:lnTo>
                        <a:pt x="122" y="181"/>
                      </a:lnTo>
                      <a:lnTo>
                        <a:pt x="112" y="163"/>
                      </a:lnTo>
                      <a:lnTo>
                        <a:pt x="105" y="147"/>
                      </a:lnTo>
                      <a:lnTo>
                        <a:pt x="95" y="128"/>
                      </a:lnTo>
                      <a:lnTo>
                        <a:pt x="85" y="112"/>
                      </a:lnTo>
                      <a:lnTo>
                        <a:pt x="76" y="96"/>
                      </a:lnTo>
                      <a:lnTo>
                        <a:pt x="62" y="82"/>
                      </a:lnTo>
                      <a:lnTo>
                        <a:pt x="47" y="69"/>
                      </a:lnTo>
                      <a:lnTo>
                        <a:pt x="29" y="58"/>
                      </a:lnTo>
                      <a:lnTo>
                        <a:pt x="0" y="0"/>
                      </a:lnTo>
                      <a:lnTo>
                        <a:pt x="16" y="22"/>
                      </a:lnTo>
                      <a:lnTo>
                        <a:pt x="33" y="42"/>
                      </a:lnTo>
                      <a:lnTo>
                        <a:pt x="50" y="64"/>
                      </a:lnTo>
                      <a:lnTo>
                        <a:pt x="70" y="83"/>
                      </a:lnTo>
                      <a:lnTo>
                        <a:pt x="89" y="103"/>
                      </a:lnTo>
                      <a:lnTo>
                        <a:pt x="107" y="123"/>
                      </a:lnTo>
                      <a:lnTo>
                        <a:pt x="120" y="145"/>
                      </a:lnTo>
                      <a:lnTo>
                        <a:pt x="132" y="166"/>
                      </a:lnTo>
                      <a:lnTo>
                        <a:pt x="139" y="190"/>
                      </a:lnTo>
                      <a:lnTo>
                        <a:pt x="141" y="213"/>
                      </a:lnTo>
                      <a:lnTo>
                        <a:pt x="141" y="213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973200" y="1298520"/>
                  <a:ext cx="43920" cy="93960"/>
                </a:xfrm>
                <a:custGeom>
                  <a:avLst/>
                  <a:gdLst/>
                  <a:ahLst/>
                  <a:rect l="l" t="t" r="r" b="b"/>
                  <a:pathLst>
                    <a:path w="62" h="117">
                      <a:moveTo>
                        <a:pt x="62" y="115"/>
                      </a:moveTo>
                      <a:lnTo>
                        <a:pt x="0" y="0"/>
                      </a:lnTo>
                      <a:lnTo>
                        <a:pt x="62" y="108"/>
                      </a:lnTo>
                      <a:lnTo>
                        <a:pt x="62" y="117"/>
                      </a:lnTo>
                      <a:lnTo>
                        <a:pt x="62" y="117"/>
                      </a:lnTo>
                      <a:lnTo>
                        <a:pt x="62" y="11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879960" y="1295640"/>
                  <a:ext cx="22680" cy="33120"/>
                </a:xfrm>
                <a:custGeom>
                  <a:avLst/>
                  <a:gdLst/>
                  <a:ahLst/>
                  <a:rect l="l" t="t" r="r" b="b"/>
                  <a:pathLst>
                    <a:path w="31" h="43">
                      <a:moveTo>
                        <a:pt x="0" y="0"/>
                      </a:moveTo>
                      <a:lnTo>
                        <a:pt x="31" y="43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773760" y="1298520"/>
                  <a:ext cx="82800" cy="158760"/>
                </a:xfrm>
                <a:custGeom>
                  <a:avLst/>
                  <a:gdLst/>
                  <a:ahLst/>
                  <a:rect l="l" t="t" r="r" b="b"/>
                  <a:pathLst>
                    <a:path w="116" h="200">
                      <a:moveTo>
                        <a:pt x="114" y="198"/>
                      </a:moveTo>
                      <a:lnTo>
                        <a:pt x="103" y="182"/>
                      </a:lnTo>
                      <a:lnTo>
                        <a:pt x="89" y="164"/>
                      </a:lnTo>
                      <a:lnTo>
                        <a:pt x="78" y="144"/>
                      </a:lnTo>
                      <a:lnTo>
                        <a:pt x="66" y="125"/>
                      </a:lnTo>
                      <a:lnTo>
                        <a:pt x="56" y="103"/>
                      </a:lnTo>
                      <a:lnTo>
                        <a:pt x="45" y="83"/>
                      </a:lnTo>
                      <a:lnTo>
                        <a:pt x="35" y="61"/>
                      </a:lnTo>
                      <a:lnTo>
                        <a:pt x="23" y="42"/>
                      </a:lnTo>
                      <a:lnTo>
                        <a:pt x="12" y="20"/>
                      </a:lnTo>
                      <a:lnTo>
                        <a:pt x="0" y="0"/>
                      </a:lnTo>
                      <a:lnTo>
                        <a:pt x="116" y="200"/>
                      </a:lnTo>
                      <a:lnTo>
                        <a:pt x="116" y="200"/>
                      </a:lnTo>
                      <a:lnTo>
                        <a:pt x="114" y="198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021360" y="1251000"/>
                  <a:ext cx="3960" cy="25560"/>
                </a:xfrm>
                <a:custGeom>
                  <a:avLst/>
                  <a:gdLst/>
                  <a:ahLst/>
                  <a:rect l="l" t="t" r="r" b="b"/>
                  <a:pathLst>
                    <a:path w="6" h="32">
                      <a:moveTo>
                        <a:pt x="2" y="0"/>
                      </a:moveTo>
                      <a:lnTo>
                        <a:pt x="6" y="1"/>
                      </a:lnTo>
                      <a:lnTo>
                        <a:pt x="4" y="32"/>
                      </a:lnTo>
                      <a:lnTo>
                        <a:pt x="0" y="3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865560" y="1314360"/>
                  <a:ext cx="214560" cy="817560"/>
                </a:xfrm>
                <a:custGeom>
                  <a:avLst/>
                  <a:gdLst/>
                  <a:ahLst/>
                  <a:rect l="l" t="t" r="r" b="b"/>
                  <a:pathLst>
                    <a:path w="298" h="1029">
                      <a:moveTo>
                        <a:pt x="23" y="45"/>
                      </a:moveTo>
                      <a:lnTo>
                        <a:pt x="43" y="63"/>
                      </a:lnTo>
                      <a:lnTo>
                        <a:pt x="58" y="83"/>
                      </a:lnTo>
                      <a:lnTo>
                        <a:pt x="72" y="103"/>
                      </a:lnTo>
                      <a:lnTo>
                        <a:pt x="83" y="122"/>
                      </a:lnTo>
                      <a:lnTo>
                        <a:pt x="95" y="142"/>
                      </a:lnTo>
                      <a:lnTo>
                        <a:pt x="105" y="164"/>
                      </a:lnTo>
                      <a:lnTo>
                        <a:pt x="116" y="184"/>
                      </a:lnTo>
                      <a:lnTo>
                        <a:pt x="126" y="203"/>
                      </a:lnTo>
                      <a:lnTo>
                        <a:pt x="137" y="225"/>
                      </a:lnTo>
                      <a:lnTo>
                        <a:pt x="149" y="245"/>
                      </a:lnTo>
                      <a:lnTo>
                        <a:pt x="174" y="234"/>
                      </a:lnTo>
                      <a:lnTo>
                        <a:pt x="197" y="277"/>
                      </a:lnTo>
                      <a:lnTo>
                        <a:pt x="217" y="324"/>
                      </a:lnTo>
                      <a:lnTo>
                        <a:pt x="230" y="373"/>
                      </a:lnTo>
                      <a:lnTo>
                        <a:pt x="242" y="422"/>
                      </a:lnTo>
                      <a:lnTo>
                        <a:pt x="252" y="470"/>
                      </a:lnTo>
                      <a:lnTo>
                        <a:pt x="259" y="521"/>
                      </a:lnTo>
                      <a:lnTo>
                        <a:pt x="267" y="571"/>
                      </a:lnTo>
                      <a:lnTo>
                        <a:pt x="273" y="622"/>
                      </a:lnTo>
                      <a:lnTo>
                        <a:pt x="281" y="672"/>
                      </a:lnTo>
                      <a:lnTo>
                        <a:pt x="290" y="721"/>
                      </a:lnTo>
                      <a:lnTo>
                        <a:pt x="287" y="735"/>
                      </a:lnTo>
                      <a:lnTo>
                        <a:pt x="283" y="748"/>
                      </a:lnTo>
                      <a:lnTo>
                        <a:pt x="283" y="762"/>
                      </a:lnTo>
                      <a:lnTo>
                        <a:pt x="285" y="777"/>
                      </a:lnTo>
                      <a:lnTo>
                        <a:pt x="287" y="791"/>
                      </a:lnTo>
                      <a:lnTo>
                        <a:pt x="290" y="804"/>
                      </a:lnTo>
                      <a:lnTo>
                        <a:pt x="292" y="818"/>
                      </a:lnTo>
                      <a:lnTo>
                        <a:pt x="294" y="833"/>
                      </a:lnTo>
                      <a:lnTo>
                        <a:pt x="296" y="847"/>
                      </a:lnTo>
                      <a:lnTo>
                        <a:pt x="298" y="861"/>
                      </a:lnTo>
                      <a:lnTo>
                        <a:pt x="288" y="878"/>
                      </a:lnTo>
                      <a:lnTo>
                        <a:pt x="279" y="896"/>
                      </a:lnTo>
                      <a:lnTo>
                        <a:pt x="269" y="912"/>
                      </a:lnTo>
                      <a:lnTo>
                        <a:pt x="259" y="928"/>
                      </a:lnTo>
                      <a:lnTo>
                        <a:pt x="250" y="946"/>
                      </a:lnTo>
                      <a:lnTo>
                        <a:pt x="240" y="962"/>
                      </a:lnTo>
                      <a:lnTo>
                        <a:pt x="230" y="979"/>
                      </a:lnTo>
                      <a:lnTo>
                        <a:pt x="221" y="995"/>
                      </a:lnTo>
                      <a:lnTo>
                        <a:pt x="209" y="1013"/>
                      </a:lnTo>
                      <a:lnTo>
                        <a:pt x="197" y="1029"/>
                      </a:lnTo>
                      <a:lnTo>
                        <a:pt x="288" y="870"/>
                      </a:lnTo>
                      <a:lnTo>
                        <a:pt x="290" y="865"/>
                      </a:lnTo>
                      <a:lnTo>
                        <a:pt x="290" y="860"/>
                      </a:lnTo>
                      <a:lnTo>
                        <a:pt x="288" y="856"/>
                      </a:lnTo>
                      <a:lnTo>
                        <a:pt x="287" y="852"/>
                      </a:lnTo>
                      <a:lnTo>
                        <a:pt x="285" y="849"/>
                      </a:lnTo>
                      <a:lnTo>
                        <a:pt x="283" y="847"/>
                      </a:lnTo>
                      <a:lnTo>
                        <a:pt x="283" y="843"/>
                      </a:lnTo>
                      <a:lnTo>
                        <a:pt x="285" y="842"/>
                      </a:lnTo>
                      <a:lnTo>
                        <a:pt x="288" y="838"/>
                      </a:lnTo>
                      <a:lnTo>
                        <a:pt x="296" y="836"/>
                      </a:lnTo>
                      <a:lnTo>
                        <a:pt x="285" y="791"/>
                      </a:lnTo>
                      <a:lnTo>
                        <a:pt x="277" y="744"/>
                      </a:lnTo>
                      <a:lnTo>
                        <a:pt x="271" y="697"/>
                      </a:lnTo>
                      <a:lnTo>
                        <a:pt x="267" y="651"/>
                      </a:lnTo>
                      <a:lnTo>
                        <a:pt x="263" y="604"/>
                      </a:lnTo>
                      <a:lnTo>
                        <a:pt x="257" y="557"/>
                      </a:lnTo>
                      <a:lnTo>
                        <a:pt x="252" y="512"/>
                      </a:lnTo>
                      <a:lnTo>
                        <a:pt x="242" y="465"/>
                      </a:lnTo>
                      <a:lnTo>
                        <a:pt x="232" y="422"/>
                      </a:lnTo>
                      <a:lnTo>
                        <a:pt x="217" y="378"/>
                      </a:lnTo>
                      <a:lnTo>
                        <a:pt x="209" y="387"/>
                      </a:lnTo>
                      <a:lnTo>
                        <a:pt x="217" y="436"/>
                      </a:lnTo>
                      <a:lnTo>
                        <a:pt x="223" y="486"/>
                      </a:lnTo>
                      <a:lnTo>
                        <a:pt x="230" y="537"/>
                      </a:lnTo>
                      <a:lnTo>
                        <a:pt x="238" y="587"/>
                      </a:lnTo>
                      <a:lnTo>
                        <a:pt x="244" y="638"/>
                      </a:lnTo>
                      <a:lnTo>
                        <a:pt x="248" y="690"/>
                      </a:lnTo>
                      <a:lnTo>
                        <a:pt x="248" y="741"/>
                      </a:lnTo>
                      <a:lnTo>
                        <a:pt x="246" y="793"/>
                      </a:lnTo>
                      <a:lnTo>
                        <a:pt x="240" y="845"/>
                      </a:lnTo>
                      <a:lnTo>
                        <a:pt x="230" y="898"/>
                      </a:lnTo>
                      <a:lnTo>
                        <a:pt x="228" y="872"/>
                      </a:lnTo>
                      <a:lnTo>
                        <a:pt x="228" y="847"/>
                      </a:lnTo>
                      <a:lnTo>
                        <a:pt x="226" y="822"/>
                      </a:lnTo>
                      <a:lnTo>
                        <a:pt x="226" y="797"/>
                      </a:lnTo>
                      <a:lnTo>
                        <a:pt x="226" y="771"/>
                      </a:lnTo>
                      <a:lnTo>
                        <a:pt x="228" y="746"/>
                      </a:lnTo>
                      <a:lnTo>
                        <a:pt x="228" y="721"/>
                      </a:lnTo>
                      <a:lnTo>
                        <a:pt x="228" y="694"/>
                      </a:lnTo>
                      <a:lnTo>
                        <a:pt x="230" y="669"/>
                      </a:lnTo>
                      <a:lnTo>
                        <a:pt x="230" y="643"/>
                      </a:lnTo>
                      <a:lnTo>
                        <a:pt x="221" y="643"/>
                      </a:lnTo>
                      <a:lnTo>
                        <a:pt x="211" y="611"/>
                      </a:lnTo>
                      <a:lnTo>
                        <a:pt x="203" y="577"/>
                      </a:lnTo>
                      <a:lnTo>
                        <a:pt x="196" y="542"/>
                      </a:lnTo>
                      <a:lnTo>
                        <a:pt x="188" y="508"/>
                      </a:lnTo>
                      <a:lnTo>
                        <a:pt x="180" y="472"/>
                      </a:lnTo>
                      <a:lnTo>
                        <a:pt x="172" y="438"/>
                      </a:lnTo>
                      <a:lnTo>
                        <a:pt x="166" y="402"/>
                      </a:lnTo>
                      <a:lnTo>
                        <a:pt x="159" y="366"/>
                      </a:lnTo>
                      <a:lnTo>
                        <a:pt x="153" y="331"/>
                      </a:lnTo>
                      <a:lnTo>
                        <a:pt x="145" y="297"/>
                      </a:lnTo>
                      <a:lnTo>
                        <a:pt x="137" y="292"/>
                      </a:lnTo>
                      <a:lnTo>
                        <a:pt x="132" y="286"/>
                      </a:lnTo>
                      <a:lnTo>
                        <a:pt x="124" y="279"/>
                      </a:lnTo>
                      <a:lnTo>
                        <a:pt x="120" y="272"/>
                      </a:lnTo>
                      <a:lnTo>
                        <a:pt x="114" y="265"/>
                      </a:lnTo>
                      <a:lnTo>
                        <a:pt x="110" y="256"/>
                      </a:lnTo>
                      <a:lnTo>
                        <a:pt x="106" y="247"/>
                      </a:lnTo>
                      <a:lnTo>
                        <a:pt x="103" y="240"/>
                      </a:lnTo>
                      <a:lnTo>
                        <a:pt x="99" y="231"/>
                      </a:lnTo>
                      <a:lnTo>
                        <a:pt x="95" y="223"/>
                      </a:lnTo>
                      <a:lnTo>
                        <a:pt x="97" y="229"/>
                      </a:lnTo>
                      <a:lnTo>
                        <a:pt x="101" y="236"/>
                      </a:lnTo>
                      <a:lnTo>
                        <a:pt x="105" y="241"/>
                      </a:lnTo>
                      <a:lnTo>
                        <a:pt x="108" y="249"/>
                      </a:lnTo>
                      <a:lnTo>
                        <a:pt x="112" y="254"/>
                      </a:lnTo>
                      <a:lnTo>
                        <a:pt x="116" y="259"/>
                      </a:lnTo>
                      <a:lnTo>
                        <a:pt x="122" y="267"/>
                      </a:lnTo>
                      <a:lnTo>
                        <a:pt x="126" y="272"/>
                      </a:lnTo>
                      <a:lnTo>
                        <a:pt x="132" y="277"/>
                      </a:lnTo>
                      <a:lnTo>
                        <a:pt x="137" y="283"/>
                      </a:lnTo>
                      <a:lnTo>
                        <a:pt x="155" y="276"/>
                      </a:lnTo>
                      <a:lnTo>
                        <a:pt x="166" y="306"/>
                      </a:lnTo>
                      <a:lnTo>
                        <a:pt x="174" y="339"/>
                      </a:lnTo>
                      <a:lnTo>
                        <a:pt x="178" y="371"/>
                      </a:lnTo>
                      <a:lnTo>
                        <a:pt x="182" y="405"/>
                      </a:lnTo>
                      <a:lnTo>
                        <a:pt x="184" y="440"/>
                      </a:lnTo>
                      <a:lnTo>
                        <a:pt x="188" y="472"/>
                      </a:lnTo>
                      <a:lnTo>
                        <a:pt x="192" y="505"/>
                      </a:lnTo>
                      <a:lnTo>
                        <a:pt x="199" y="537"/>
                      </a:lnTo>
                      <a:lnTo>
                        <a:pt x="209" y="568"/>
                      </a:lnTo>
                      <a:lnTo>
                        <a:pt x="225" y="596"/>
                      </a:lnTo>
                      <a:lnTo>
                        <a:pt x="230" y="584"/>
                      </a:lnTo>
                      <a:lnTo>
                        <a:pt x="232" y="573"/>
                      </a:lnTo>
                      <a:lnTo>
                        <a:pt x="232" y="560"/>
                      </a:lnTo>
                      <a:lnTo>
                        <a:pt x="230" y="550"/>
                      </a:lnTo>
                      <a:lnTo>
                        <a:pt x="226" y="537"/>
                      </a:lnTo>
                      <a:lnTo>
                        <a:pt x="223" y="524"/>
                      </a:lnTo>
                      <a:lnTo>
                        <a:pt x="219" y="512"/>
                      </a:lnTo>
                      <a:lnTo>
                        <a:pt x="215" y="499"/>
                      </a:lnTo>
                      <a:lnTo>
                        <a:pt x="211" y="486"/>
                      </a:lnTo>
                      <a:lnTo>
                        <a:pt x="209" y="474"/>
                      </a:lnTo>
                      <a:lnTo>
                        <a:pt x="209" y="450"/>
                      </a:lnTo>
                      <a:lnTo>
                        <a:pt x="207" y="427"/>
                      </a:lnTo>
                      <a:lnTo>
                        <a:pt x="203" y="404"/>
                      </a:lnTo>
                      <a:lnTo>
                        <a:pt x="199" y="380"/>
                      </a:lnTo>
                      <a:lnTo>
                        <a:pt x="194" y="357"/>
                      </a:lnTo>
                      <a:lnTo>
                        <a:pt x="190" y="333"/>
                      </a:lnTo>
                      <a:lnTo>
                        <a:pt x="184" y="310"/>
                      </a:lnTo>
                      <a:lnTo>
                        <a:pt x="180" y="286"/>
                      </a:lnTo>
                      <a:lnTo>
                        <a:pt x="176" y="265"/>
                      </a:lnTo>
                      <a:lnTo>
                        <a:pt x="172" y="243"/>
                      </a:lnTo>
                      <a:lnTo>
                        <a:pt x="170" y="241"/>
                      </a:lnTo>
                      <a:lnTo>
                        <a:pt x="168" y="241"/>
                      </a:lnTo>
                      <a:lnTo>
                        <a:pt x="166" y="241"/>
                      </a:lnTo>
                      <a:lnTo>
                        <a:pt x="166" y="243"/>
                      </a:lnTo>
                      <a:lnTo>
                        <a:pt x="165" y="243"/>
                      </a:lnTo>
                      <a:lnTo>
                        <a:pt x="163" y="245"/>
                      </a:lnTo>
                      <a:lnTo>
                        <a:pt x="163" y="245"/>
                      </a:lnTo>
                      <a:lnTo>
                        <a:pt x="161" y="247"/>
                      </a:lnTo>
                      <a:lnTo>
                        <a:pt x="159" y="249"/>
                      </a:lnTo>
                      <a:lnTo>
                        <a:pt x="157" y="249"/>
                      </a:lnTo>
                      <a:lnTo>
                        <a:pt x="157" y="258"/>
                      </a:lnTo>
                      <a:lnTo>
                        <a:pt x="137" y="232"/>
                      </a:lnTo>
                      <a:lnTo>
                        <a:pt x="122" y="207"/>
                      </a:lnTo>
                      <a:lnTo>
                        <a:pt x="105" y="182"/>
                      </a:lnTo>
                      <a:lnTo>
                        <a:pt x="89" y="157"/>
                      </a:lnTo>
                      <a:lnTo>
                        <a:pt x="74" y="130"/>
                      </a:lnTo>
                      <a:lnTo>
                        <a:pt x="58" y="104"/>
                      </a:lnTo>
                      <a:lnTo>
                        <a:pt x="43" y="77"/>
                      </a:lnTo>
                      <a:lnTo>
                        <a:pt x="29" y="52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6" y="2"/>
                      </a:lnTo>
                      <a:lnTo>
                        <a:pt x="12" y="3"/>
                      </a:lnTo>
                      <a:lnTo>
                        <a:pt x="15" y="7"/>
                      </a:lnTo>
                      <a:lnTo>
                        <a:pt x="17" y="12"/>
                      </a:lnTo>
                      <a:lnTo>
                        <a:pt x="19" y="18"/>
                      </a:lnTo>
                      <a:lnTo>
                        <a:pt x="21" y="23"/>
                      </a:lnTo>
                      <a:lnTo>
                        <a:pt x="21" y="29"/>
                      </a:lnTo>
                      <a:lnTo>
                        <a:pt x="21" y="34"/>
                      </a:lnTo>
                      <a:lnTo>
                        <a:pt x="23" y="39"/>
                      </a:lnTo>
                      <a:lnTo>
                        <a:pt x="25" y="45"/>
                      </a:lnTo>
                      <a:lnTo>
                        <a:pt x="25" y="45"/>
                      </a:lnTo>
                      <a:lnTo>
                        <a:pt x="23" y="4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24280" y="1312920"/>
                  <a:ext cx="256680" cy="230040"/>
                </a:xfrm>
                <a:custGeom>
                  <a:avLst/>
                  <a:gdLst/>
                  <a:ahLst/>
                  <a:rect l="l" t="t" r="r" b="b"/>
                  <a:pathLst>
                    <a:path w="358" h="288">
                      <a:moveTo>
                        <a:pt x="282" y="72"/>
                      </a:moveTo>
                      <a:lnTo>
                        <a:pt x="288" y="81"/>
                      </a:lnTo>
                      <a:lnTo>
                        <a:pt x="294" y="88"/>
                      </a:lnTo>
                      <a:lnTo>
                        <a:pt x="302" y="96"/>
                      </a:lnTo>
                      <a:lnTo>
                        <a:pt x="309" y="101"/>
                      </a:lnTo>
                      <a:lnTo>
                        <a:pt x="317" y="106"/>
                      </a:lnTo>
                      <a:lnTo>
                        <a:pt x="325" y="112"/>
                      </a:lnTo>
                      <a:lnTo>
                        <a:pt x="335" y="115"/>
                      </a:lnTo>
                      <a:lnTo>
                        <a:pt x="342" y="121"/>
                      </a:lnTo>
                      <a:lnTo>
                        <a:pt x="350" y="124"/>
                      </a:lnTo>
                      <a:lnTo>
                        <a:pt x="358" y="130"/>
                      </a:lnTo>
                      <a:lnTo>
                        <a:pt x="356" y="139"/>
                      </a:lnTo>
                      <a:lnTo>
                        <a:pt x="350" y="148"/>
                      </a:lnTo>
                      <a:lnTo>
                        <a:pt x="344" y="155"/>
                      </a:lnTo>
                      <a:lnTo>
                        <a:pt x="338" y="164"/>
                      </a:lnTo>
                      <a:lnTo>
                        <a:pt x="331" y="171"/>
                      </a:lnTo>
                      <a:lnTo>
                        <a:pt x="325" y="180"/>
                      </a:lnTo>
                      <a:lnTo>
                        <a:pt x="319" y="187"/>
                      </a:lnTo>
                      <a:lnTo>
                        <a:pt x="317" y="196"/>
                      </a:lnTo>
                      <a:lnTo>
                        <a:pt x="317" y="207"/>
                      </a:lnTo>
                      <a:lnTo>
                        <a:pt x="319" y="218"/>
                      </a:lnTo>
                      <a:lnTo>
                        <a:pt x="309" y="225"/>
                      </a:lnTo>
                      <a:lnTo>
                        <a:pt x="317" y="236"/>
                      </a:lnTo>
                      <a:lnTo>
                        <a:pt x="304" y="247"/>
                      </a:lnTo>
                      <a:lnTo>
                        <a:pt x="304" y="247"/>
                      </a:lnTo>
                      <a:lnTo>
                        <a:pt x="302" y="245"/>
                      </a:lnTo>
                      <a:lnTo>
                        <a:pt x="302" y="245"/>
                      </a:lnTo>
                      <a:lnTo>
                        <a:pt x="302" y="245"/>
                      </a:lnTo>
                      <a:lnTo>
                        <a:pt x="300" y="243"/>
                      </a:lnTo>
                      <a:lnTo>
                        <a:pt x="300" y="243"/>
                      </a:lnTo>
                      <a:lnTo>
                        <a:pt x="298" y="243"/>
                      </a:lnTo>
                      <a:lnTo>
                        <a:pt x="298" y="243"/>
                      </a:lnTo>
                      <a:lnTo>
                        <a:pt x="296" y="243"/>
                      </a:lnTo>
                      <a:lnTo>
                        <a:pt x="294" y="243"/>
                      </a:lnTo>
                      <a:lnTo>
                        <a:pt x="292" y="265"/>
                      </a:lnTo>
                      <a:lnTo>
                        <a:pt x="280" y="260"/>
                      </a:lnTo>
                      <a:lnTo>
                        <a:pt x="273" y="258"/>
                      </a:lnTo>
                      <a:lnTo>
                        <a:pt x="263" y="260"/>
                      </a:lnTo>
                      <a:lnTo>
                        <a:pt x="257" y="263"/>
                      </a:lnTo>
                      <a:lnTo>
                        <a:pt x="249" y="269"/>
                      </a:lnTo>
                      <a:lnTo>
                        <a:pt x="244" y="274"/>
                      </a:lnTo>
                      <a:lnTo>
                        <a:pt x="236" y="279"/>
                      </a:lnTo>
                      <a:lnTo>
                        <a:pt x="228" y="281"/>
                      </a:lnTo>
                      <a:lnTo>
                        <a:pt x="218" y="279"/>
                      </a:lnTo>
                      <a:lnTo>
                        <a:pt x="209" y="276"/>
                      </a:lnTo>
                      <a:lnTo>
                        <a:pt x="209" y="276"/>
                      </a:lnTo>
                      <a:lnTo>
                        <a:pt x="211" y="278"/>
                      </a:lnTo>
                      <a:lnTo>
                        <a:pt x="211" y="278"/>
                      </a:lnTo>
                      <a:lnTo>
                        <a:pt x="211" y="279"/>
                      </a:lnTo>
                      <a:lnTo>
                        <a:pt x="213" y="281"/>
                      </a:lnTo>
                      <a:lnTo>
                        <a:pt x="213" y="283"/>
                      </a:lnTo>
                      <a:lnTo>
                        <a:pt x="211" y="285"/>
                      </a:lnTo>
                      <a:lnTo>
                        <a:pt x="211" y="285"/>
                      </a:lnTo>
                      <a:lnTo>
                        <a:pt x="211" y="287"/>
                      </a:lnTo>
                      <a:lnTo>
                        <a:pt x="211" y="288"/>
                      </a:lnTo>
                      <a:lnTo>
                        <a:pt x="195" y="287"/>
                      </a:lnTo>
                      <a:lnTo>
                        <a:pt x="178" y="285"/>
                      </a:lnTo>
                      <a:lnTo>
                        <a:pt x="158" y="285"/>
                      </a:lnTo>
                      <a:lnTo>
                        <a:pt x="139" y="285"/>
                      </a:lnTo>
                      <a:lnTo>
                        <a:pt x="120" y="283"/>
                      </a:lnTo>
                      <a:lnTo>
                        <a:pt x="98" y="281"/>
                      </a:lnTo>
                      <a:lnTo>
                        <a:pt x="79" y="279"/>
                      </a:lnTo>
                      <a:lnTo>
                        <a:pt x="60" y="276"/>
                      </a:lnTo>
                      <a:lnTo>
                        <a:pt x="40" y="270"/>
                      </a:lnTo>
                      <a:lnTo>
                        <a:pt x="23" y="263"/>
                      </a:lnTo>
                      <a:lnTo>
                        <a:pt x="7" y="254"/>
                      </a:lnTo>
                      <a:lnTo>
                        <a:pt x="0" y="243"/>
                      </a:lnTo>
                      <a:lnTo>
                        <a:pt x="2" y="234"/>
                      </a:lnTo>
                      <a:lnTo>
                        <a:pt x="5" y="224"/>
                      </a:lnTo>
                      <a:lnTo>
                        <a:pt x="13" y="213"/>
                      </a:lnTo>
                      <a:lnTo>
                        <a:pt x="23" y="202"/>
                      </a:lnTo>
                      <a:lnTo>
                        <a:pt x="29" y="193"/>
                      </a:lnTo>
                      <a:lnTo>
                        <a:pt x="31" y="182"/>
                      </a:lnTo>
                      <a:lnTo>
                        <a:pt x="29" y="173"/>
                      </a:lnTo>
                      <a:lnTo>
                        <a:pt x="17" y="164"/>
                      </a:lnTo>
                      <a:lnTo>
                        <a:pt x="40" y="162"/>
                      </a:lnTo>
                      <a:lnTo>
                        <a:pt x="38" y="157"/>
                      </a:lnTo>
                      <a:lnTo>
                        <a:pt x="34" y="151"/>
                      </a:lnTo>
                      <a:lnTo>
                        <a:pt x="31" y="148"/>
                      </a:lnTo>
                      <a:lnTo>
                        <a:pt x="29" y="142"/>
                      </a:lnTo>
                      <a:lnTo>
                        <a:pt x="27" y="139"/>
                      </a:lnTo>
                      <a:lnTo>
                        <a:pt x="25" y="135"/>
                      </a:lnTo>
                      <a:lnTo>
                        <a:pt x="25" y="130"/>
                      </a:lnTo>
                      <a:lnTo>
                        <a:pt x="27" y="126"/>
                      </a:lnTo>
                      <a:lnTo>
                        <a:pt x="31" y="124"/>
                      </a:lnTo>
                      <a:lnTo>
                        <a:pt x="36" y="121"/>
                      </a:lnTo>
                      <a:lnTo>
                        <a:pt x="60" y="141"/>
                      </a:lnTo>
                      <a:lnTo>
                        <a:pt x="64" y="135"/>
                      </a:lnTo>
                      <a:lnTo>
                        <a:pt x="65" y="130"/>
                      </a:lnTo>
                      <a:lnTo>
                        <a:pt x="64" y="123"/>
                      </a:lnTo>
                      <a:lnTo>
                        <a:pt x="62" y="117"/>
                      </a:lnTo>
                      <a:lnTo>
                        <a:pt x="58" y="112"/>
                      </a:lnTo>
                      <a:lnTo>
                        <a:pt x="54" y="106"/>
                      </a:lnTo>
                      <a:lnTo>
                        <a:pt x="54" y="101"/>
                      </a:lnTo>
                      <a:lnTo>
                        <a:pt x="54" y="96"/>
                      </a:lnTo>
                      <a:lnTo>
                        <a:pt x="60" y="92"/>
                      </a:lnTo>
                      <a:lnTo>
                        <a:pt x="69" y="88"/>
                      </a:lnTo>
                      <a:lnTo>
                        <a:pt x="77" y="81"/>
                      </a:lnTo>
                      <a:lnTo>
                        <a:pt x="87" y="79"/>
                      </a:lnTo>
                      <a:lnTo>
                        <a:pt x="96" y="83"/>
                      </a:lnTo>
                      <a:lnTo>
                        <a:pt x="106" y="90"/>
                      </a:lnTo>
                      <a:lnTo>
                        <a:pt x="116" y="99"/>
                      </a:lnTo>
                      <a:lnTo>
                        <a:pt x="124" y="106"/>
                      </a:lnTo>
                      <a:lnTo>
                        <a:pt x="131" y="110"/>
                      </a:lnTo>
                      <a:lnTo>
                        <a:pt x="137" y="108"/>
                      </a:lnTo>
                      <a:lnTo>
                        <a:pt x="141" y="99"/>
                      </a:lnTo>
                      <a:lnTo>
                        <a:pt x="143" y="81"/>
                      </a:lnTo>
                      <a:lnTo>
                        <a:pt x="145" y="79"/>
                      </a:lnTo>
                      <a:lnTo>
                        <a:pt x="145" y="79"/>
                      </a:lnTo>
                      <a:lnTo>
                        <a:pt x="147" y="77"/>
                      </a:lnTo>
                      <a:lnTo>
                        <a:pt x="149" y="77"/>
                      </a:lnTo>
                      <a:lnTo>
                        <a:pt x="149" y="77"/>
                      </a:lnTo>
                      <a:lnTo>
                        <a:pt x="151" y="77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6" y="77"/>
                      </a:lnTo>
                      <a:lnTo>
                        <a:pt x="156" y="77"/>
                      </a:lnTo>
                      <a:lnTo>
                        <a:pt x="156" y="79"/>
                      </a:lnTo>
                      <a:lnTo>
                        <a:pt x="156" y="83"/>
                      </a:lnTo>
                      <a:lnTo>
                        <a:pt x="156" y="85"/>
                      </a:lnTo>
                      <a:lnTo>
                        <a:pt x="158" y="86"/>
                      </a:lnTo>
                      <a:lnTo>
                        <a:pt x="158" y="88"/>
                      </a:lnTo>
                      <a:lnTo>
                        <a:pt x="160" y="92"/>
                      </a:lnTo>
                      <a:lnTo>
                        <a:pt x="160" y="94"/>
                      </a:lnTo>
                      <a:lnTo>
                        <a:pt x="162" y="96"/>
                      </a:lnTo>
                      <a:lnTo>
                        <a:pt x="164" y="97"/>
                      </a:lnTo>
                      <a:lnTo>
                        <a:pt x="164" y="99"/>
                      </a:lnTo>
                      <a:lnTo>
                        <a:pt x="166" y="97"/>
                      </a:lnTo>
                      <a:lnTo>
                        <a:pt x="168" y="96"/>
                      </a:lnTo>
                      <a:lnTo>
                        <a:pt x="170" y="94"/>
                      </a:lnTo>
                      <a:lnTo>
                        <a:pt x="170" y="92"/>
                      </a:lnTo>
                      <a:lnTo>
                        <a:pt x="172" y="90"/>
                      </a:lnTo>
                      <a:lnTo>
                        <a:pt x="172" y="86"/>
                      </a:lnTo>
                      <a:lnTo>
                        <a:pt x="172" y="85"/>
                      </a:lnTo>
                      <a:lnTo>
                        <a:pt x="174" y="83"/>
                      </a:lnTo>
                      <a:lnTo>
                        <a:pt x="174" y="79"/>
                      </a:lnTo>
                      <a:lnTo>
                        <a:pt x="176" y="77"/>
                      </a:lnTo>
                      <a:lnTo>
                        <a:pt x="182" y="77"/>
                      </a:lnTo>
                      <a:lnTo>
                        <a:pt x="186" y="79"/>
                      </a:lnTo>
                      <a:lnTo>
                        <a:pt x="187" y="81"/>
                      </a:lnTo>
                      <a:lnTo>
                        <a:pt x="189" y="85"/>
                      </a:lnTo>
                      <a:lnTo>
                        <a:pt x="189" y="88"/>
                      </a:lnTo>
                      <a:lnTo>
                        <a:pt x="189" y="92"/>
                      </a:lnTo>
                      <a:lnTo>
                        <a:pt x="189" y="96"/>
                      </a:lnTo>
                      <a:lnTo>
                        <a:pt x="189" y="99"/>
                      </a:lnTo>
                      <a:lnTo>
                        <a:pt x="191" y="103"/>
                      </a:lnTo>
                      <a:lnTo>
                        <a:pt x="193" y="106"/>
                      </a:lnTo>
                      <a:lnTo>
                        <a:pt x="195" y="103"/>
                      </a:lnTo>
                      <a:lnTo>
                        <a:pt x="197" y="99"/>
                      </a:lnTo>
                      <a:lnTo>
                        <a:pt x="197" y="96"/>
                      </a:lnTo>
                      <a:lnTo>
                        <a:pt x="199" y="92"/>
                      </a:lnTo>
                      <a:lnTo>
                        <a:pt x="199" y="88"/>
                      </a:lnTo>
                      <a:lnTo>
                        <a:pt x="201" y="85"/>
                      </a:lnTo>
                      <a:lnTo>
                        <a:pt x="203" y="81"/>
                      </a:lnTo>
                      <a:lnTo>
                        <a:pt x="205" y="79"/>
                      </a:lnTo>
                      <a:lnTo>
                        <a:pt x="209" y="77"/>
                      </a:lnTo>
                      <a:lnTo>
                        <a:pt x="213" y="77"/>
                      </a:lnTo>
                      <a:lnTo>
                        <a:pt x="220" y="121"/>
                      </a:lnTo>
                      <a:lnTo>
                        <a:pt x="222" y="117"/>
                      </a:lnTo>
                      <a:lnTo>
                        <a:pt x="224" y="112"/>
                      </a:lnTo>
                      <a:lnTo>
                        <a:pt x="226" y="108"/>
                      </a:lnTo>
                      <a:lnTo>
                        <a:pt x="230" y="103"/>
                      </a:lnTo>
                      <a:lnTo>
                        <a:pt x="232" y="97"/>
                      </a:lnTo>
                      <a:lnTo>
                        <a:pt x="234" y="94"/>
                      </a:lnTo>
                      <a:lnTo>
                        <a:pt x="236" y="90"/>
                      </a:lnTo>
                      <a:lnTo>
                        <a:pt x="240" y="90"/>
                      </a:lnTo>
                      <a:lnTo>
                        <a:pt x="244" y="90"/>
                      </a:lnTo>
                      <a:lnTo>
                        <a:pt x="249" y="92"/>
                      </a:lnTo>
                      <a:lnTo>
                        <a:pt x="247" y="96"/>
                      </a:lnTo>
                      <a:lnTo>
                        <a:pt x="246" y="101"/>
                      </a:lnTo>
                      <a:lnTo>
                        <a:pt x="244" y="105"/>
                      </a:lnTo>
                      <a:lnTo>
                        <a:pt x="244" y="110"/>
                      </a:lnTo>
                      <a:lnTo>
                        <a:pt x="242" y="114"/>
                      </a:lnTo>
                      <a:lnTo>
                        <a:pt x="240" y="117"/>
                      </a:lnTo>
                      <a:lnTo>
                        <a:pt x="240" y="123"/>
                      </a:lnTo>
                      <a:lnTo>
                        <a:pt x="240" y="126"/>
                      </a:lnTo>
                      <a:lnTo>
                        <a:pt x="240" y="132"/>
                      </a:lnTo>
                      <a:lnTo>
                        <a:pt x="242" y="135"/>
                      </a:lnTo>
                      <a:lnTo>
                        <a:pt x="246" y="133"/>
                      </a:lnTo>
                      <a:lnTo>
                        <a:pt x="247" y="132"/>
                      </a:lnTo>
                      <a:lnTo>
                        <a:pt x="249" y="130"/>
                      </a:lnTo>
                      <a:lnTo>
                        <a:pt x="249" y="128"/>
                      </a:lnTo>
                      <a:lnTo>
                        <a:pt x="251" y="124"/>
                      </a:lnTo>
                      <a:lnTo>
                        <a:pt x="253" y="123"/>
                      </a:lnTo>
                      <a:lnTo>
                        <a:pt x="253" y="121"/>
                      </a:lnTo>
                      <a:lnTo>
                        <a:pt x="255" y="119"/>
                      </a:lnTo>
                      <a:lnTo>
                        <a:pt x="255" y="115"/>
                      </a:lnTo>
                      <a:lnTo>
                        <a:pt x="257" y="114"/>
                      </a:lnTo>
                      <a:lnTo>
                        <a:pt x="267" y="115"/>
                      </a:lnTo>
                      <a:lnTo>
                        <a:pt x="269" y="119"/>
                      </a:lnTo>
                      <a:lnTo>
                        <a:pt x="269" y="123"/>
                      </a:lnTo>
                      <a:lnTo>
                        <a:pt x="267" y="128"/>
                      </a:lnTo>
                      <a:lnTo>
                        <a:pt x="263" y="132"/>
                      </a:lnTo>
                      <a:lnTo>
                        <a:pt x="259" y="137"/>
                      </a:lnTo>
                      <a:lnTo>
                        <a:pt x="257" y="141"/>
                      </a:lnTo>
                      <a:lnTo>
                        <a:pt x="255" y="142"/>
                      </a:lnTo>
                      <a:lnTo>
                        <a:pt x="255" y="146"/>
                      </a:lnTo>
                      <a:lnTo>
                        <a:pt x="259" y="148"/>
                      </a:lnTo>
                      <a:lnTo>
                        <a:pt x="269" y="150"/>
                      </a:lnTo>
                      <a:lnTo>
                        <a:pt x="271" y="146"/>
                      </a:lnTo>
                      <a:lnTo>
                        <a:pt x="273" y="144"/>
                      </a:lnTo>
                      <a:lnTo>
                        <a:pt x="275" y="141"/>
                      </a:lnTo>
                      <a:lnTo>
                        <a:pt x="277" y="137"/>
                      </a:lnTo>
                      <a:lnTo>
                        <a:pt x="278" y="135"/>
                      </a:lnTo>
                      <a:lnTo>
                        <a:pt x="280" y="132"/>
                      </a:lnTo>
                      <a:lnTo>
                        <a:pt x="282" y="130"/>
                      </a:lnTo>
                      <a:lnTo>
                        <a:pt x="286" y="128"/>
                      </a:lnTo>
                      <a:lnTo>
                        <a:pt x="288" y="128"/>
                      </a:lnTo>
                      <a:lnTo>
                        <a:pt x="292" y="130"/>
                      </a:lnTo>
                      <a:lnTo>
                        <a:pt x="292" y="130"/>
                      </a:lnTo>
                      <a:lnTo>
                        <a:pt x="292" y="132"/>
                      </a:lnTo>
                      <a:lnTo>
                        <a:pt x="292" y="133"/>
                      </a:lnTo>
                      <a:lnTo>
                        <a:pt x="292" y="135"/>
                      </a:lnTo>
                      <a:lnTo>
                        <a:pt x="292" y="137"/>
                      </a:lnTo>
                      <a:lnTo>
                        <a:pt x="294" y="139"/>
                      </a:lnTo>
                      <a:lnTo>
                        <a:pt x="294" y="139"/>
                      </a:lnTo>
                      <a:lnTo>
                        <a:pt x="296" y="141"/>
                      </a:lnTo>
                      <a:lnTo>
                        <a:pt x="296" y="141"/>
                      </a:lnTo>
                      <a:lnTo>
                        <a:pt x="298" y="142"/>
                      </a:lnTo>
                      <a:lnTo>
                        <a:pt x="300" y="142"/>
                      </a:lnTo>
                      <a:lnTo>
                        <a:pt x="302" y="142"/>
                      </a:lnTo>
                      <a:lnTo>
                        <a:pt x="302" y="142"/>
                      </a:lnTo>
                      <a:lnTo>
                        <a:pt x="304" y="142"/>
                      </a:lnTo>
                      <a:lnTo>
                        <a:pt x="306" y="141"/>
                      </a:lnTo>
                      <a:lnTo>
                        <a:pt x="307" y="141"/>
                      </a:lnTo>
                      <a:lnTo>
                        <a:pt x="307" y="139"/>
                      </a:lnTo>
                      <a:lnTo>
                        <a:pt x="309" y="137"/>
                      </a:lnTo>
                      <a:lnTo>
                        <a:pt x="311" y="137"/>
                      </a:lnTo>
                      <a:lnTo>
                        <a:pt x="311" y="135"/>
                      </a:lnTo>
                      <a:lnTo>
                        <a:pt x="300" y="119"/>
                      </a:lnTo>
                      <a:lnTo>
                        <a:pt x="284" y="105"/>
                      </a:lnTo>
                      <a:lnTo>
                        <a:pt x="269" y="88"/>
                      </a:lnTo>
                      <a:lnTo>
                        <a:pt x="251" y="76"/>
                      </a:lnTo>
                      <a:lnTo>
                        <a:pt x="234" y="65"/>
                      </a:lnTo>
                      <a:lnTo>
                        <a:pt x="215" y="54"/>
                      </a:lnTo>
                      <a:lnTo>
                        <a:pt x="195" y="49"/>
                      </a:lnTo>
                      <a:lnTo>
                        <a:pt x="174" y="43"/>
                      </a:lnTo>
                      <a:lnTo>
                        <a:pt x="151" y="41"/>
                      </a:lnTo>
                      <a:lnTo>
                        <a:pt x="127" y="45"/>
                      </a:lnTo>
                      <a:lnTo>
                        <a:pt x="122" y="47"/>
                      </a:lnTo>
                      <a:lnTo>
                        <a:pt x="116" y="49"/>
                      </a:lnTo>
                      <a:lnTo>
                        <a:pt x="108" y="49"/>
                      </a:lnTo>
                      <a:lnTo>
                        <a:pt x="102" y="50"/>
                      </a:lnTo>
                      <a:lnTo>
                        <a:pt x="96" y="50"/>
                      </a:lnTo>
                      <a:lnTo>
                        <a:pt x="89" y="50"/>
                      </a:lnTo>
                      <a:lnTo>
                        <a:pt x="83" y="50"/>
                      </a:lnTo>
                      <a:lnTo>
                        <a:pt x="75" y="50"/>
                      </a:lnTo>
                      <a:lnTo>
                        <a:pt x="69" y="50"/>
                      </a:lnTo>
                      <a:lnTo>
                        <a:pt x="62" y="49"/>
                      </a:lnTo>
                      <a:lnTo>
                        <a:pt x="60" y="47"/>
                      </a:lnTo>
                      <a:lnTo>
                        <a:pt x="58" y="43"/>
                      </a:lnTo>
                      <a:lnTo>
                        <a:pt x="56" y="41"/>
                      </a:lnTo>
                      <a:lnTo>
                        <a:pt x="54" y="38"/>
                      </a:lnTo>
                      <a:lnTo>
                        <a:pt x="52" y="36"/>
                      </a:lnTo>
                      <a:lnTo>
                        <a:pt x="50" y="32"/>
                      </a:lnTo>
                      <a:lnTo>
                        <a:pt x="48" y="31"/>
                      </a:lnTo>
                      <a:lnTo>
                        <a:pt x="46" y="27"/>
                      </a:lnTo>
                      <a:lnTo>
                        <a:pt x="44" y="25"/>
                      </a:lnTo>
                      <a:lnTo>
                        <a:pt x="40" y="22"/>
                      </a:lnTo>
                      <a:lnTo>
                        <a:pt x="54" y="13"/>
                      </a:lnTo>
                      <a:lnTo>
                        <a:pt x="67" y="5"/>
                      </a:lnTo>
                      <a:lnTo>
                        <a:pt x="83" y="2"/>
                      </a:lnTo>
                      <a:lnTo>
                        <a:pt x="98" y="0"/>
                      </a:lnTo>
                      <a:lnTo>
                        <a:pt x="114" y="0"/>
                      </a:lnTo>
                      <a:lnTo>
                        <a:pt x="131" y="0"/>
                      </a:lnTo>
                      <a:lnTo>
                        <a:pt x="147" y="2"/>
                      </a:lnTo>
                      <a:lnTo>
                        <a:pt x="164" y="5"/>
                      </a:lnTo>
                      <a:lnTo>
                        <a:pt x="180" y="7"/>
                      </a:lnTo>
                      <a:lnTo>
                        <a:pt x="195" y="11"/>
                      </a:lnTo>
                      <a:lnTo>
                        <a:pt x="203" y="18"/>
                      </a:lnTo>
                      <a:lnTo>
                        <a:pt x="211" y="25"/>
                      </a:lnTo>
                      <a:lnTo>
                        <a:pt x="218" y="32"/>
                      </a:lnTo>
                      <a:lnTo>
                        <a:pt x="228" y="38"/>
                      </a:lnTo>
                      <a:lnTo>
                        <a:pt x="236" y="43"/>
                      </a:lnTo>
                      <a:lnTo>
                        <a:pt x="246" y="50"/>
                      </a:lnTo>
                      <a:lnTo>
                        <a:pt x="255" y="56"/>
                      </a:lnTo>
                      <a:lnTo>
                        <a:pt x="265" y="61"/>
                      </a:lnTo>
                      <a:lnTo>
                        <a:pt x="275" y="67"/>
                      </a:lnTo>
                      <a:lnTo>
                        <a:pt x="284" y="72"/>
                      </a:lnTo>
                      <a:lnTo>
                        <a:pt x="284" y="72"/>
                      </a:lnTo>
                      <a:lnTo>
                        <a:pt x="282" y="72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951240" y="1335240"/>
                  <a:ext cx="39960" cy="54000"/>
                </a:xfrm>
                <a:custGeom>
                  <a:avLst/>
                  <a:gdLst/>
                  <a:ahLst/>
                  <a:rect l="l" t="t" r="r" b="b"/>
                  <a:pathLst>
                    <a:path w="54" h="69">
                      <a:moveTo>
                        <a:pt x="54" y="69"/>
                      </a:moveTo>
                      <a:lnTo>
                        <a:pt x="46" y="67"/>
                      </a:lnTo>
                      <a:lnTo>
                        <a:pt x="41" y="61"/>
                      </a:lnTo>
                      <a:lnTo>
                        <a:pt x="35" y="56"/>
                      </a:lnTo>
                      <a:lnTo>
                        <a:pt x="29" y="49"/>
                      </a:lnTo>
                      <a:lnTo>
                        <a:pt x="23" y="41"/>
                      </a:lnTo>
                      <a:lnTo>
                        <a:pt x="19" y="32"/>
                      </a:lnTo>
                      <a:lnTo>
                        <a:pt x="14" y="25"/>
                      </a:lnTo>
                      <a:lnTo>
                        <a:pt x="10" y="16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8" y="7"/>
                      </a:lnTo>
                      <a:lnTo>
                        <a:pt x="15" y="13"/>
                      </a:lnTo>
                      <a:lnTo>
                        <a:pt x="23" y="18"/>
                      </a:lnTo>
                      <a:lnTo>
                        <a:pt x="29" y="23"/>
                      </a:lnTo>
                      <a:lnTo>
                        <a:pt x="37" y="29"/>
                      </a:lnTo>
                      <a:lnTo>
                        <a:pt x="43" y="36"/>
                      </a:lnTo>
                      <a:lnTo>
                        <a:pt x="46" y="43"/>
                      </a:lnTo>
                      <a:lnTo>
                        <a:pt x="50" y="50"/>
                      </a:lnTo>
                      <a:lnTo>
                        <a:pt x="52" y="59"/>
                      </a:lnTo>
                      <a:lnTo>
                        <a:pt x="54" y="69"/>
                      </a:lnTo>
                      <a:lnTo>
                        <a:pt x="54" y="69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842520" y="1370160"/>
                  <a:ext cx="44280" cy="95040"/>
                </a:xfrm>
                <a:custGeom>
                  <a:avLst/>
                  <a:gdLst/>
                  <a:ahLst/>
                  <a:rect l="l" t="t" r="r" b="b"/>
                  <a:pathLst>
                    <a:path w="62" h="121">
                      <a:moveTo>
                        <a:pt x="60" y="121"/>
                      </a:moveTo>
                      <a:lnTo>
                        <a:pt x="0" y="0"/>
                      </a:lnTo>
                      <a:lnTo>
                        <a:pt x="62" y="107"/>
                      </a:lnTo>
                      <a:lnTo>
                        <a:pt x="60" y="121"/>
                      </a:lnTo>
                      <a:lnTo>
                        <a:pt x="60" y="121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954480" y="1378080"/>
                  <a:ext cx="68760" cy="141120"/>
                </a:xfrm>
                <a:custGeom>
                  <a:avLst/>
                  <a:gdLst/>
                  <a:ahLst/>
                  <a:rect l="l" t="t" r="r" b="b"/>
                  <a:pathLst>
                    <a:path w="95" h="179">
                      <a:moveTo>
                        <a:pt x="95" y="166"/>
                      </a:moveTo>
                      <a:lnTo>
                        <a:pt x="85" y="179"/>
                      </a:lnTo>
                      <a:lnTo>
                        <a:pt x="83" y="157"/>
                      </a:lnTo>
                      <a:lnTo>
                        <a:pt x="77" y="137"/>
                      </a:lnTo>
                      <a:lnTo>
                        <a:pt x="70" y="119"/>
                      </a:lnTo>
                      <a:lnTo>
                        <a:pt x="58" y="103"/>
                      </a:lnTo>
                      <a:lnTo>
                        <a:pt x="46" y="87"/>
                      </a:lnTo>
                      <a:lnTo>
                        <a:pt x="35" y="70"/>
                      </a:lnTo>
                      <a:lnTo>
                        <a:pt x="23" y="56"/>
                      </a:lnTo>
                      <a:lnTo>
                        <a:pt x="13" y="38"/>
                      </a:lnTo>
                      <a:lnTo>
                        <a:pt x="6" y="20"/>
                      </a:lnTo>
                      <a:lnTo>
                        <a:pt x="0" y="0"/>
                      </a:lnTo>
                      <a:lnTo>
                        <a:pt x="11" y="15"/>
                      </a:lnTo>
                      <a:lnTo>
                        <a:pt x="23" y="31"/>
                      </a:lnTo>
                      <a:lnTo>
                        <a:pt x="35" y="47"/>
                      </a:lnTo>
                      <a:lnTo>
                        <a:pt x="44" y="63"/>
                      </a:lnTo>
                      <a:lnTo>
                        <a:pt x="54" y="81"/>
                      </a:lnTo>
                      <a:lnTo>
                        <a:pt x="62" y="97"/>
                      </a:lnTo>
                      <a:lnTo>
                        <a:pt x="72" y="114"/>
                      </a:lnTo>
                      <a:lnTo>
                        <a:pt x="79" y="132"/>
                      </a:lnTo>
                      <a:lnTo>
                        <a:pt x="87" y="150"/>
                      </a:lnTo>
                      <a:lnTo>
                        <a:pt x="95" y="166"/>
                      </a:lnTo>
                      <a:lnTo>
                        <a:pt x="95" y="166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989680" y="1314360"/>
                  <a:ext cx="8280" cy="9684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12" y="115"/>
                      </a:moveTo>
                      <a:lnTo>
                        <a:pt x="8" y="121"/>
                      </a:lnTo>
                      <a:lnTo>
                        <a:pt x="6" y="110"/>
                      </a:lnTo>
                      <a:lnTo>
                        <a:pt x="4" y="97"/>
                      </a:lnTo>
                      <a:lnTo>
                        <a:pt x="2" y="86"/>
                      </a:lnTo>
                      <a:lnTo>
                        <a:pt x="0" y="74"/>
                      </a:lnTo>
                      <a:lnTo>
                        <a:pt x="0" y="61"/>
                      </a:lnTo>
                      <a:lnTo>
                        <a:pt x="0" y="48"/>
                      </a:lnTo>
                      <a:lnTo>
                        <a:pt x="0" y="36"/>
                      </a:lnTo>
                      <a:lnTo>
                        <a:pt x="2" y="23"/>
                      </a:lnTo>
                      <a:lnTo>
                        <a:pt x="4" y="12"/>
                      </a:lnTo>
                      <a:lnTo>
                        <a:pt x="8" y="0"/>
                      </a:lnTo>
                      <a:lnTo>
                        <a:pt x="8" y="11"/>
                      </a:lnTo>
                      <a:lnTo>
                        <a:pt x="8" y="21"/>
                      </a:lnTo>
                      <a:lnTo>
                        <a:pt x="10" y="34"/>
                      </a:lnTo>
                      <a:lnTo>
                        <a:pt x="10" y="47"/>
                      </a:lnTo>
                      <a:lnTo>
                        <a:pt x="10" y="59"/>
                      </a:lnTo>
                      <a:lnTo>
                        <a:pt x="12" y="72"/>
                      </a:lnTo>
                      <a:lnTo>
                        <a:pt x="12" y="83"/>
                      </a:lnTo>
                      <a:lnTo>
                        <a:pt x="12" y="95"/>
                      </a:lnTo>
                      <a:lnTo>
                        <a:pt x="12" y="106"/>
                      </a:lnTo>
                      <a:lnTo>
                        <a:pt x="14" y="117"/>
                      </a:lnTo>
                      <a:lnTo>
                        <a:pt x="14" y="117"/>
                      </a:lnTo>
                      <a:lnTo>
                        <a:pt x="12" y="115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026120" y="1413000"/>
                  <a:ext cx="19800" cy="52200"/>
                </a:xfrm>
                <a:custGeom>
                  <a:avLst/>
                  <a:gdLst/>
                  <a:ahLst/>
                  <a:rect l="l" t="t" r="r" b="b"/>
                  <a:pathLst>
                    <a:path w="29" h="67">
                      <a:moveTo>
                        <a:pt x="0" y="0"/>
                      </a:moveTo>
                      <a:lnTo>
                        <a:pt x="29" y="6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537880" y="1320840"/>
                  <a:ext cx="21600" cy="65160"/>
                </a:xfrm>
                <a:custGeom>
                  <a:avLst/>
                  <a:gdLst/>
                  <a:ahLst/>
                  <a:rect l="l" t="t" r="r" b="b"/>
                  <a:pathLst>
                    <a:path w="31" h="81">
                      <a:moveTo>
                        <a:pt x="0" y="81"/>
                      </a:moveTo>
                      <a:lnTo>
                        <a:pt x="2" y="74"/>
                      </a:lnTo>
                      <a:lnTo>
                        <a:pt x="2" y="65"/>
                      </a:lnTo>
                      <a:lnTo>
                        <a:pt x="4" y="58"/>
                      </a:lnTo>
                      <a:lnTo>
                        <a:pt x="8" y="49"/>
                      </a:lnTo>
                      <a:lnTo>
                        <a:pt x="12" y="41"/>
                      </a:lnTo>
                      <a:lnTo>
                        <a:pt x="15" y="32"/>
                      </a:lnTo>
                      <a:lnTo>
                        <a:pt x="19" y="25"/>
                      </a:lnTo>
                      <a:lnTo>
                        <a:pt x="23" y="16"/>
                      </a:lnTo>
                      <a:lnTo>
                        <a:pt x="27" y="9"/>
                      </a:lnTo>
                      <a:lnTo>
                        <a:pt x="31" y="0"/>
                      </a:lnTo>
                      <a:lnTo>
                        <a:pt x="29" y="9"/>
                      </a:lnTo>
                      <a:lnTo>
                        <a:pt x="27" y="18"/>
                      </a:lnTo>
                      <a:lnTo>
                        <a:pt x="25" y="27"/>
                      </a:lnTo>
                      <a:lnTo>
                        <a:pt x="21" y="34"/>
                      </a:lnTo>
                      <a:lnTo>
                        <a:pt x="17" y="43"/>
                      </a:lnTo>
                      <a:lnTo>
                        <a:pt x="15" y="50"/>
                      </a:lnTo>
                      <a:lnTo>
                        <a:pt x="12" y="58"/>
                      </a:lnTo>
                      <a:lnTo>
                        <a:pt x="8" y="67"/>
                      </a:lnTo>
                      <a:lnTo>
                        <a:pt x="4" y="74"/>
                      </a:lnTo>
                      <a:lnTo>
                        <a:pt x="2" y="81"/>
                      </a:lnTo>
                      <a:lnTo>
                        <a:pt x="2" y="8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813720" y="1414440"/>
                  <a:ext cx="9720" cy="30240"/>
                </a:xfrm>
                <a:custGeom>
                  <a:avLst/>
                  <a:gdLst/>
                  <a:ahLst/>
                  <a:rect l="l" t="t" r="r" b="b"/>
                  <a:pathLst>
                    <a:path w="16" h="38">
                      <a:moveTo>
                        <a:pt x="14" y="38"/>
                      </a:moveTo>
                      <a:lnTo>
                        <a:pt x="0" y="0"/>
                      </a:lnTo>
                      <a:lnTo>
                        <a:pt x="16" y="29"/>
                      </a:lnTo>
                      <a:lnTo>
                        <a:pt x="14" y="38"/>
                      </a:lnTo>
                      <a:lnTo>
                        <a:pt x="14" y="38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457600" y="1333440"/>
                  <a:ext cx="77400" cy="212760"/>
                </a:xfrm>
                <a:custGeom>
                  <a:avLst/>
                  <a:gdLst/>
                  <a:ahLst/>
                  <a:rect l="l" t="t" r="r" b="b"/>
                  <a:pathLst>
                    <a:path w="108" h="267">
                      <a:moveTo>
                        <a:pt x="29" y="175"/>
                      </a:moveTo>
                      <a:lnTo>
                        <a:pt x="9" y="267"/>
                      </a:lnTo>
                      <a:lnTo>
                        <a:pt x="0" y="267"/>
                      </a:lnTo>
                      <a:lnTo>
                        <a:pt x="2" y="251"/>
                      </a:lnTo>
                      <a:lnTo>
                        <a:pt x="4" y="235"/>
                      </a:lnTo>
                      <a:lnTo>
                        <a:pt x="7" y="218"/>
                      </a:lnTo>
                      <a:lnTo>
                        <a:pt x="11" y="202"/>
                      </a:lnTo>
                      <a:lnTo>
                        <a:pt x="17" y="186"/>
                      </a:lnTo>
                      <a:lnTo>
                        <a:pt x="23" y="170"/>
                      </a:lnTo>
                      <a:lnTo>
                        <a:pt x="29" y="153"/>
                      </a:lnTo>
                      <a:lnTo>
                        <a:pt x="36" y="139"/>
                      </a:lnTo>
                      <a:lnTo>
                        <a:pt x="42" y="123"/>
                      </a:lnTo>
                      <a:lnTo>
                        <a:pt x="50" y="108"/>
                      </a:lnTo>
                      <a:lnTo>
                        <a:pt x="50" y="110"/>
                      </a:lnTo>
                      <a:lnTo>
                        <a:pt x="50" y="110"/>
                      </a:lnTo>
                      <a:lnTo>
                        <a:pt x="50" y="112"/>
                      </a:lnTo>
                      <a:lnTo>
                        <a:pt x="50" y="114"/>
                      </a:lnTo>
                      <a:lnTo>
                        <a:pt x="50" y="114"/>
                      </a:lnTo>
                      <a:lnTo>
                        <a:pt x="50" y="116"/>
                      </a:lnTo>
                      <a:lnTo>
                        <a:pt x="52" y="116"/>
                      </a:lnTo>
                      <a:lnTo>
                        <a:pt x="52" y="117"/>
                      </a:lnTo>
                      <a:lnTo>
                        <a:pt x="52" y="117"/>
                      </a:lnTo>
                      <a:lnTo>
                        <a:pt x="54" y="117"/>
                      </a:lnTo>
                      <a:lnTo>
                        <a:pt x="108" y="0"/>
                      </a:lnTo>
                      <a:lnTo>
                        <a:pt x="44" y="195"/>
                      </a:lnTo>
                      <a:lnTo>
                        <a:pt x="29" y="177"/>
                      </a:lnTo>
                      <a:lnTo>
                        <a:pt x="29" y="177"/>
                      </a:lnTo>
                      <a:lnTo>
                        <a:pt x="29" y="175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142680" y="1401840"/>
                  <a:ext cx="237960" cy="177840"/>
                </a:xfrm>
                <a:custGeom>
                  <a:avLst/>
                  <a:gdLst/>
                  <a:ahLst/>
                  <a:rect l="l" t="t" r="r" b="b"/>
                  <a:pathLst>
                    <a:path w="331" h="223">
                      <a:moveTo>
                        <a:pt x="236" y="0"/>
                      </a:moveTo>
                      <a:lnTo>
                        <a:pt x="236" y="3"/>
                      </a:lnTo>
                      <a:lnTo>
                        <a:pt x="236" y="7"/>
                      </a:lnTo>
                      <a:lnTo>
                        <a:pt x="234" y="12"/>
                      </a:lnTo>
                      <a:lnTo>
                        <a:pt x="234" y="16"/>
                      </a:lnTo>
                      <a:lnTo>
                        <a:pt x="233" y="21"/>
                      </a:lnTo>
                      <a:lnTo>
                        <a:pt x="233" y="27"/>
                      </a:lnTo>
                      <a:lnTo>
                        <a:pt x="233" y="32"/>
                      </a:lnTo>
                      <a:lnTo>
                        <a:pt x="234" y="36"/>
                      </a:lnTo>
                      <a:lnTo>
                        <a:pt x="236" y="41"/>
                      </a:lnTo>
                      <a:lnTo>
                        <a:pt x="242" y="45"/>
                      </a:lnTo>
                      <a:lnTo>
                        <a:pt x="246" y="43"/>
                      </a:lnTo>
                      <a:lnTo>
                        <a:pt x="248" y="39"/>
                      </a:lnTo>
                      <a:lnTo>
                        <a:pt x="252" y="38"/>
                      </a:lnTo>
                      <a:lnTo>
                        <a:pt x="254" y="34"/>
                      </a:lnTo>
                      <a:lnTo>
                        <a:pt x="256" y="30"/>
                      </a:lnTo>
                      <a:lnTo>
                        <a:pt x="256" y="29"/>
                      </a:lnTo>
                      <a:lnTo>
                        <a:pt x="258" y="25"/>
                      </a:lnTo>
                      <a:lnTo>
                        <a:pt x="260" y="23"/>
                      </a:lnTo>
                      <a:lnTo>
                        <a:pt x="263" y="21"/>
                      </a:lnTo>
                      <a:lnTo>
                        <a:pt x="267" y="20"/>
                      </a:lnTo>
                      <a:lnTo>
                        <a:pt x="269" y="56"/>
                      </a:lnTo>
                      <a:lnTo>
                        <a:pt x="283" y="52"/>
                      </a:lnTo>
                      <a:lnTo>
                        <a:pt x="285" y="66"/>
                      </a:lnTo>
                      <a:lnTo>
                        <a:pt x="293" y="79"/>
                      </a:lnTo>
                      <a:lnTo>
                        <a:pt x="300" y="93"/>
                      </a:lnTo>
                      <a:lnTo>
                        <a:pt x="310" y="106"/>
                      </a:lnTo>
                      <a:lnTo>
                        <a:pt x="320" y="119"/>
                      </a:lnTo>
                      <a:lnTo>
                        <a:pt x="327" y="131"/>
                      </a:lnTo>
                      <a:lnTo>
                        <a:pt x="331" y="144"/>
                      </a:lnTo>
                      <a:lnTo>
                        <a:pt x="331" y="158"/>
                      </a:lnTo>
                      <a:lnTo>
                        <a:pt x="325" y="171"/>
                      </a:lnTo>
                      <a:lnTo>
                        <a:pt x="310" y="184"/>
                      </a:lnTo>
                      <a:lnTo>
                        <a:pt x="294" y="194"/>
                      </a:lnTo>
                      <a:lnTo>
                        <a:pt x="279" y="203"/>
                      </a:lnTo>
                      <a:lnTo>
                        <a:pt x="260" y="209"/>
                      </a:lnTo>
                      <a:lnTo>
                        <a:pt x="242" y="211"/>
                      </a:lnTo>
                      <a:lnTo>
                        <a:pt x="223" y="212"/>
                      </a:lnTo>
                      <a:lnTo>
                        <a:pt x="203" y="214"/>
                      </a:lnTo>
                      <a:lnTo>
                        <a:pt x="184" y="214"/>
                      </a:lnTo>
                      <a:lnTo>
                        <a:pt x="165" y="216"/>
                      </a:lnTo>
                      <a:lnTo>
                        <a:pt x="145" y="218"/>
                      </a:lnTo>
                      <a:lnTo>
                        <a:pt x="128" y="223"/>
                      </a:lnTo>
                      <a:lnTo>
                        <a:pt x="118" y="220"/>
                      </a:lnTo>
                      <a:lnTo>
                        <a:pt x="107" y="220"/>
                      </a:lnTo>
                      <a:lnTo>
                        <a:pt x="97" y="220"/>
                      </a:lnTo>
                      <a:lnTo>
                        <a:pt x="87" y="221"/>
                      </a:lnTo>
                      <a:lnTo>
                        <a:pt x="80" y="223"/>
                      </a:lnTo>
                      <a:lnTo>
                        <a:pt x="72" y="223"/>
                      </a:lnTo>
                      <a:lnTo>
                        <a:pt x="64" y="221"/>
                      </a:lnTo>
                      <a:lnTo>
                        <a:pt x="58" y="218"/>
                      </a:lnTo>
                      <a:lnTo>
                        <a:pt x="54" y="209"/>
                      </a:lnTo>
                      <a:lnTo>
                        <a:pt x="52" y="196"/>
                      </a:lnTo>
                      <a:lnTo>
                        <a:pt x="49" y="198"/>
                      </a:lnTo>
                      <a:lnTo>
                        <a:pt x="45" y="198"/>
                      </a:lnTo>
                      <a:lnTo>
                        <a:pt x="39" y="200"/>
                      </a:lnTo>
                      <a:lnTo>
                        <a:pt x="35" y="202"/>
                      </a:lnTo>
                      <a:lnTo>
                        <a:pt x="31" y="205"/>
                      </a:lnTo>
                      <a:lnTo>
                        <a:pt x="25" y="207"/>
                      </a:lnTo>
                      <a:lnTo>
                        <a:pt x="21" y="209"/>
                      </a:lnTo>
                      <a:lnTo>
                        <a:pt x="16" y="209"/>
                      </a:lnTo>
                      <a:lnTo>
                        <a:pt x="12" y="211"/>
                      </a:lnTo>
                      <a:lnTo>
                        <a:pt x="6" y="211"/>
                      </a:lnTo>
                      <a:lnTo>
                        <a:pt x="6" y="207"/>
                      </a:lnTo>
                      <a:lnTo>
                        <a:pt x="8" y="202"/>
                      </a:lnTo>
                      <a:lnTo>
                        <a:pt x="12" y="200"/>
                      </a:lnTo>
                      <a:lnTo>
                        <a:pt x="16" y="196"/>
                      </a:lnTo>
                      <a:lnTo>
                        <a:pt x="20" y="194"/>
                      </a:lnTo>
                      <a:lnTo>
                        <a:pt x="23" y="193"/>
                      </a:lnTo>
                      <a:lnTo>
                        <a:pt x="29" y="191"/>
                      </a:lnTo>
                      <a:lnTo>
                        <a:pt x="33" y="187"/>
                      </a:lnTo>
                      <a:lnTo>
                        <a:pt x="37" y="185"/>
                      </a:lnTo>
                      <a:lnTo>
                        <a:pt x="41" y="184"/>
                      </a:lnTo>
                      <a:lnTo>
                        <a:pt x="4" y="176"/>
                      </a:lnTo>
                      <a:lnTo>
                        <a:pt x="16" y="171"/>
                      </a:lnTo>
                      <a:lnTo>
                        <a:pt x="20" y="166"/>
                      </a:lnTo>
                      <a:lnTo>
                        <a:pt x="20" y="160"/>
                      </a:lnTo>
                      <a:lnTo>
                        <a:pt x="18" y="155"/>
                      </a:lnTo>
                      <a:lnTo>
                        <a:pt x="12" y="149"/>
                      </a:lnTo>
                      <a:lnTo>
                        <a:pt x="8" y="144"/>
                      </a:lnTo>
                      <a:lnTo>
                        <a:pt x="2" y="139"/>
                      </a:lnTo>
                      <a:lnTo>
                        <a:pt x="0" y="133"/>
                      </a:lnTo>
                      <a:lnTo>
                        <a:pt x="2" y="126"/>
                      </a:lnTo>
                      <a:lnTo>
                        <a:pt x="8" y="121"/>
                      </a:lnTo>
                      <a:lnTo>
                        <a:pt x="10" y="112"/>
                      </a:lnTo>
                      <a:lnTo>
                        <a:pt x="50" y="110"/>
                      </a:lnTo>
                      <a:lnTo>
                        <a:pt x="20" y="95"/>
                      </a:lnTo>
                      <a:lnTo>
                        <a:pt x="21" y="86"/>
                      </a:lnTo>
                      <a:lnTo>
                        <a:pt x="23" y="83"/>
                      </a:lnTo>
                      <a:lnTo>
                        <a:pt x="27" y="81"/>
                      </a:lnTo>
                      <a:lnTo>
                        <a:pt x="31" y="81"/>
                      </a:lnTo>
                      <a:lnTo>
                        <a:pt x="35" y="81"/>
                      </a:lnTo>
                      <a:lnTo>
                        <a:pt x="41" y="83"/>
                      </a:lnTo>
                      <a:lnTo>
                        <a:pt x="47" y="84"/>
                      </a:lnTo>
                      <a:lnTo>
                        <a:pt x="52" y="84"/>
                      </a:lnTo>
                      <a:lnTo>
                        <a:pt x="56" y="84"/>
                      </a:lnTo>
                      <a:lnTo>
                        <a:pt x="62" y="81"/>
                      </a:lnTo>
                      <a:lnTo>
                        <a:pt x="58" y="79"/>
                      </a:lnTo>
                      <a:lnTo>
                        <a:pt x="56" y="77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8"/>
                      </a:lnTo>
                      <a:lnTo>
                        <a:pt x="54" y="65"/>
                      </a:lnTo>
                      <a:lnTo>
                        <a:pt x="54" y="61"/>
                      </a:lnTo>
                      <a:lnTo>
                        <a:pt x="56" y="59"/>
                      </a:lnTo>
                      <a:lnTo>
                        <a:pt x="58" y="56"/>
                      </a:lnTo>
                      <a:lnTo>
                        <a:pt x="60" y="54"/>
                      </a:lnTo>
                      <a:lnTo>
                        <a:pt x="62" y="54"/>
                      </a:lnTo>
                      <a:lnTo>
                        <a:pt x="64" y="54"/>
                      </a:lnTo>
                      <a:lnTo>
                        <a:pt x="66" y="54"/>
                      </a:lnTo>
                      <a:lnTo>
                        <a:pt x="68" y="54"/>
                      </a:lnTo>
                      <a:lnTo>
                        <a:pt x="70" y="54"/>
                      </a:lnTo>
                      <a:lnTo>
                        <a:pt x="72" y="56"/>
                      </a:lnTo>
                      <a:lnTo>
                        <a:pt x="74" y="56"/>
                      </a:lnTo>
                      <a:lnTo>
                        <a:pt x="76" y="56"/>
                      </a:lnTo>
                      <a:lnTo>
                        <a:pt x="76" y="57"/>
                      </a:lnTo>
                      <a:lnTo>
                        <a:pt x="78" y="61"/>
                      </a:lnTo>
                      <a:lnTo>
                        <a:pt x="80" y="56"/>
                      </a:lnTo>
                      <a:lnTo>
                        <a:pt x="83" y="52"/>
                      </a:lnTo>
                      <a:lnTo>
                        <a:pt x="87" y="48"/>
                      </a:lnTo>
                      <a:lnTo>
                        <a:pt x="91" y="45"/>
                      </a:lnTo>
                      <a:lnTo>
                        <a:pt x="95" y="41"/>
                      </a:lnTo>
                      <a:lnTo>
                        <a:pt x="99" y="39"/>
                      </a:lnTo>
                      <a:lnTo>
                        <a:pt x="105" y="39"/>
                      </a:lnTo>
                      <a:lnTo>
                        <a:pt x="109" y="41"/>
                      </a:lnTo>
                      <a:lnTo>
                        <a:pt x="112" y="43"/>
                      </a:lnTo>
                      <a:lnTo>
                        <a:pt x="116" y="48"/>
                      </a:lnTo>
                      <a:lnTo>
                        <a:pt x="120" y="47"/>
                      </a:lnTo>
                      <a:lnTo>
                        <a:pt x="122" y="43"/>
                      </a:lnTo>
                      <a:lnTo>
                        <a:pt x="122" y="41"/>
                      </a:lnTo>
                      <a:lnTo>
                        <a:pt x="122" y="38"/>
                      </a:lnTo>
                      <a:lnTo>
                        <a:pt x="122" y="34"/>
                      </a:lnTo>
                      <a:lnTo>
                        <a:pt x="122" y="30"/>
                      </a:lnTo>
                      <a:lnTo>
                        <a:pt x="124" y="27"/>
                      </a:lnTo>
                      <a:lnTo>
                        <a:pt x="126" y="25"/>
                      </a:lnTo>
                      <a:lnTo>
                        <a:pt x="128" y="23"/>
                      </a:lnTo>
                      <a:lnTo>
                        <a:pt x="132" y="21"/>
                      </a:lnTo>
                      <a:lnTo>
                        <a:pt x="136" y="23"/>
                      </a:lnTo>
                      <a:lnTo>
                        <a:pt x="138" y="25"/>
                      </a:lnTo>
                      <a:lnTo>
                        <a:pt x="140" y="29"/>
                      </a:lnTo>
                      <a:lnTo>
                        <a:pt x="143" y="30"/>
                      </a:lnTo>
                      <a:lnTo>
                        <a:pt x="145" y="34"/>
                      </a:lnTo>
                      <a:lnTo>
                        <a:pt x="149" y="38"/>
                      </a:lnTo>
                      <a:lnTo>
                        <a:pt x="151" y="39"/>
                      </a:lnTo>
                      <a:lnTo>
                        <a:pt x="155" y="43"/>
                      </a:lnTo>
                      <a:lnTo>
                        <a:pt x="159" y="45"/>
                      </a:lnTo>
                      <a:lnTo>
                        <a:pt x="163" y="48"/>
                      </a:lnTo>
                      <a:lnTo>
                        <a:pt x="165" y="43"/>
                      </a:lnTo>
                      <a:lnTo>
                        <a:pt x="167" y="39"/>
                      </a:lnTo>
                      <a:lnTo>
                        <a:pt x="167" y="36"/>
                      </a:lnTo>
                      <a:lnTo>
                        <a:pt x="169" y="32"/>
                      </a:lnTo>
                      <a:lnTo>
                        <a:pt x="169" y="27"/>
                      </a:lnTo>
                      <a:lnTo>
                        <a:pt x="169" y="23"/>
                      </a:lnTo>
                      <a:lnTo>
                        <a:pt x="169" y="20"/>
                      </a:lnTo>
                      <a:lnTo>
                        <a:pt x="171" y="14"/>
                      </a:lnTo>
                      <a:lnTo>
                        <a:pt x="172" y="11"/>
                      </a:lnTo>
                      <a:lnTo>
                        <a:pt x="174" y="5"/>
                      </a:lnTo>
                      <a:lnTo>
                        <a:pt x="178" y="7"/>
                      </a:lnTo>
                      <a:lnTo>
                        <a:pt x="180" y="11"/>
                      </a:lnTo>
                      <a:lnTo>
                        <a:pt x="182" y="16"/>
                      </a:lnTo>
                      <a:lnTo>
                        <a:pt x="184" y="20"/>
                      </a:lnTo>
                      <a:lnTo>
                        <a:pt x="188" y="25"/>
                      </a:lnTo>
                      <a:lnTo>
                        <a:pt x="190" y="30"/>
                      </a:lnTo>
                      <a:lnTo>
                        <a:pt x="192" y="36"/>
                      </a:lnTo>
                      <a:lnTo>
                        <a:pt x="196" y="39"/>
                      </a:lnTo>
                      <a:lnTo>
                        <a:pt x="200" y="45"/>
                      </a:lnTo>
                      <a:lnTo>
                        <a:pt x="203" y="47"/>
                      </a:lnTo>
                      <a:lnTo>
                        <a:pt x="209" y="43"/>
                      </a:lnTo>
                      <a:lnTo>
                        <a:pt x="213" y="38"/>
                      </a:lnTo>
                      <a:lnTo>
                        <a:pt x="215" y="32"/>
                      </a:lnTo>
                      <a:lnTo>
                        <a:pt x="217" y="25"/>
                      </a:lnTo>
                      <a:lnTo>
                        <a:pt x="219" y="20"/>
                      </a:lnTo>
                      <a:lnTo>
                        <a:pt x="221" y="14"/>
                      </a:lnTo>
                      <a:lnTo>
                        <a:pt x="223" y="9"/>
                      </a:lnTo>
                      <a:lnTo>
                        <a:pt x="227" y="5"/>
                      </a:lnTo>
                      <a:lnTo>
                        <a:pt x="231" y="2"/>
                      </a:lnTo>
                      <a:lnTo>
                        <a:pt x="236" y="0"/>
                      </a:lnTo>
                      <a:lnTo>
                        <a:pt x="236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547320" y="1432080"/>
                  <a:ext cx="160560" cy="75960"/>
                </a:xfrm>
                <a:custGeom>
                  <a:avLst/>
                  <a:gdLst/>
                  <a:ahLst/>
                  <a:rect l="l" t="t" r="r" b="b"/>
                  <a:pathLst>
                    <a:path w="224" h="95">
                      <a:moveTo>
                        <a:pt x="224" y="59"/>
                      </a:moveTo>
                      <a:lnTo>
                        <a:pt x="220" y="66"/>
                      </a:lnTo>
                      <a:lnTo>
                        <a:pt x="216" y="70"/>
                      </a:lnTo>
                      <a:lnTo>
                        <a:pt x="211" y="74"/>
                      </a:lnTo>
                      <a:lnTo>
                        <a:pt x="205" y="77"/>
                      </a:lnTo>
                      <a:lnTo>
                        <a:pt x="199" y="81"/>
                      </a:lnTo>
                      <a:lnTo>
                        <a:pt x="193" y="83"/>
                      </a:lnTo>
                      <a:lnTo>
                        <a:pt x="187" y="84"/>
                      </a:lnTo>
                      <a:lnTo>
                        <a:pt x="182" y="86"/>
                      </a:lnTo>
                      <a:lnTo>
                        <a:pt x="176" y="88"/>
                      </a:lnTo>
                      <a:lnTo>
                        <a:pt x="170" y="90"/>
                      </a:lnTo>
                      <a:lnTo>
                        <a:pt x="172" y="83"/>
                      </a:lnTo>
                      <a:lnTo>
                        <a:pt x="172" y="75"/>
                      </a:lnTo>
                      <a:lnTo>
                        <a:pt x="172" y="66"/>
                      </a:lnTo>
                      <a:lnTo>
                        <a:pt x="172" y="57"/>
                      </a:lnTo>
                      <a:lnTo>
                        <a:pt x="170" y="48"/>
                      </a:lnTo>
                      <a:lnTo>
                        <a:pt x="168" y="39"/>
                      </a:lnTo>
                      <a:lnTo>
                        <a:pt x="164" y="30"/>
                      </a:lnTo>
                      <a:lnTo>
                        <a:pt x="158" y="23"/>
                      </a:lnTo>
                      <a:lnTo>
                        <a:pt x="151" y="16"/>
                      </a:lnTo>
                      <a:lnTo>
                        <a:pt x="143" y="10"/>
                      </a:lnTo>
                      <a:lnTo>
                        <a:pt x="129" y="9"/>
                      </a:lnTo>
                      <a:lnTo>
                        <a:pt x="116" y="7"/>
                      </a:lnTo>
                      <a:lnTo>
                        <a:pt x="104" y="9"/>
                      </a:lnTo>
                      <a:lnTo>
                        <a:pt x="93" y="10"/>
                      </a:lnTo>
                      <a:lnTo>
                        <a:pt x="81" y="16"/>
                      </a:lnTo>
                      <a:lnTo>
                        <a:pt x="71" y="21"/>
                      </a:lnTo>
                      <a:lnTo>
                        <a:pt x="62" y="28"/>
                      </a:lnTo>
                      <a:lnTo>
                        <a:pt x="52" y="37"/>
                      </a:lnTo>
                      <a:lnTo>
                        <a:pt x="46" y="46"/>
                      </a:lnTo>
                      <a:lnTo>
                        <a:pt x="38" y="57"/>
                      </a:lnTo>
                      <a:lnTo>
                        <a:pt x="40" y="95"/>
                      </a:lnTo>
                      <a:lnTo>
                        <a:pt x="0" y="70"/>
                      </a:lnTo>
                      <a:lnTo>
                        <a:pt x="15" y="50"/>
                      </a:lnTo>
                      <a:lnTo>
                        <a:pt x="36" y="32"/>
                      </a:lnTo>
                      <a:lnTo>
                        <a:pt x="62" y="18"/>
                      </a:lnTo>
                      <a:lnTo>
                        <a:pt x="87" y="7"/>
                      </a:lnTo>
                      <a:lnTo>
                        <a:pt x="114" y="1"/>
                      </a:lnTo>
                      <a:lnTo>
                        <a:pt x="141" y="0"/>
                      </a:lnTo>
                      <a:lnTo>
                        <a:pt x="166" y="5"/>
                      </a:lnTo>
                      <a:lnTo>
                        <a:pt x="189" y="16"/>
                      </a:lnTo>
                      <a:lnTo>
                        <a:pt x="209" y="34"/>
                      </a:lnTo>
                      <a:lnTo>
                        <a:pt x="224" y="59"/>
                      </a:lnTo>
                      <a:lnTo>
                        <a:pt x="224" y="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829920" y="1449360"/>
                  <a:ext cx="16920" cy="39960"/>
                </a:xfrm>
                <a:custGeom>
                  <a:avLst/>
                  <a:gdLst/>
                  <a:ahLst/>
                  <a:rect l="l" t="t" r="r" b="b"/>
                  <a:pathLst>
                    <a:path w="23" h="51">
                      <a:moveTo>
                        <a:pt x="0" y="0"/>
                      </a:moveTo>
                      <a:lnTo>
                        <a:pt x="23" y="5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067880" y="1487520"/>
                  <a:ext cx="2520" cy="1440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2" y="16"/>
                      </a:moveTo>
                      <a:lnTo>
                        <a:pt x="0" y="0"/>
                      </a:lnTo>
                      <a:lnTo>
                        <a:pt x="4" y="5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93040" y="1463760"/>
                  <a:ext cx="54360" cy="4608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26" y="54"/>
                      </a:moveTo>
                      <a:lnTo>
                        <a:pt x="33" y="56"/>
                      </a:lnTo>
                      <a:lnTo>
                        <a:pt x="37" y="56"/>
                      </a:lnTo>
                      <a:lnTo>
                        <a:pt x="43" y="56"/>
                      </a:lnTo>
                      <a:lnTo>
                        <a:pt x="47" y="56"/>
                      </a:lnTo>
                      <a:lnTo>
                        <a:pt x="53" y="54"/>
                      </a:lnTo>
                      <a:lnTo>
                        <a:pt x="57" y="53"/>
                      </a:lnTo>
                      <a:lnTo>
                        <a:pt x="61" y="49"/>
                      </a:lnTo>
                      <a:lnTo>
                        <a:pt x="64" y="47"/>
                      </a:lnTo>
                      <a:lnTo>
                        <a:pt x="68" y="44"/>
                      </a:lnTo>
                      <a:lnTo>
                        <a:pt x="70" y="40"/>
                      </a:lnTo>
                      <a:lnTo>
                        <a:pt x="64" y="2"/>
                      </a:lnTo>
                      <a:lnTo>
                        <a:pt x="66" y="6"/>
                      </a:lnTo>
                      <a:lnTo>
                        <a:pt x="70" y="9"/>
                      </a:lnTo>
                      <a:lnTo>
                        <a:pt x="72" y="13"/>
                      </a:lnTo>
                      <a:lnTo>
                        <a:pt x="74" y="16"/>
                      </a:lnTo>
                      <a:lnTo>
                        <a:pt x="76" y="22"/>
                      </a:lnTo>
                      <a:lnTo>
                        <a:pt x="76" y="25"/>
                      </a:lnTo>
                      <a:lnTo>
                        <a:pt x="76" y="31"/>
                      </a:lnTo>
                      <a:lnTo>
                        <a:pt x="76" y="36"/>
                      </a:lnTo>
                      <a:lnTo>
                        <a:pt x="76" y="40"/>
                      </a:lnTo>
                      <a:lnTo>
                        <a:pt x="74" y="45"/>
                      </a:lnTo>
                      <a:lnTo>
                        <a:pt x="68" y="53"/>
                      </a:lnTo>
                      <a:lnTo>
                        <a:pt x="62" y="56"/>
                      </a:lnTo>
                      <a:lnTo>
                        <a:pt x="55" y="58"/>
                      </a:lnTo>
                      <a:lnTo>
                        <a:pt x="49" y="58"/>
                      </a:lnTo>
                      <a:lnTo>
                        <a:pt x="41" y="58"/>
                      </a:lnTo>
                      <a:lnTo>
                        <a:pt x="33" y="56"/>
                      </a:lnTo>
                      <a:lnTo>
                        <a:pt x="28" y="54"/>
                      </a:lnTo>
                      <a:lnTo>
                        <a:pt x="20" y="53"/>
                      </a:lnTo>
                      <a:lnTo>
                        <a:pt x="12" y="51"/>
                      </a:lnTo>
                      <a:lnTo>
                        <a:pt x="4" y="49"/>
                      </a:lnTo>
                      <a:lnTo>
                        <a:pt x="2" y="45"/>
                      </a:lnTo>
                      <a:lnTo>
                        <a:pt x="2" y="40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2" y="22"/>
                      </a:lnTo>
                      <a:lnTo>
                        <a:pt x="2" y="16"/>
                      </a:lnTo>
                      <a:lnTo>
                        <a:pt x="6" y="13"/>
                      </a:lnTo>
                      <a:lnTo>
                        <a:pt x="8" y="9"/>
                      </a:lnTo>
                      <a:lnTo>
                        <a:pt x="14" y="6"/>
                      </a:lnTo>
                      <a:lnTo>
                        <a:pt x="31" y="0"/>
                      </a:lnTo>
                      <a:lnTo>
                        <a:pt x="33" y="6"/>
                      </a:lnTo>
                      <a:lnTo>
                        <a:pt x="33" y="13"/>
                      </a:lnTo>
                      <a:lnTo>
                        <a:pt x="31" y="18"/>
                      </a:lnTo>
                      <a:lnTo>
                        <a:pt x="28" y="24"/>
                      </a:lnTo>
                      <a:lnTo>
                        <a:pt x="24" y="29"/>
                      </a:lnTo>
                      <a:lnTo>
                        <a:pt x="22" y="35"/>
                      </a:lnTo>
                      <a:lnTo>
                        <a:pt x="20" y="40"/>
                      </a:lnTo>
                      <a:lnTo>
                        <a:pt x="20" y="44"/>
                      </a:lnTo>
                      <a:lnTo>
                        <a:pt x="22" y="49"/>
                      </a:lnTo>
                      <a:lnTo>
                        <a:pt x="28" y="56"/>
                      </a:lnTo>
                      <a:lnTo>
                        <a:pt x="28" y="56"/>
                      </a:lnTo>
                      <a:lnTo>
                        <a:pt x="26" y="5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093440" y="1497240"/>
                  <a:ext cx="25560" cy="80640"/>
                </a:xfrm>
                <a:custGeom>
                  <a:avLst/>
                  <a:gdLst/>
                  <a:ahLst/>
                  <a:rect l="l" t="t" r="r" b="b"/>
                  <a:pathLst>
                    <a:path w="35" h="102">
                      <a:moveTo>
                        <a:pt x="0" y="0"/>
                      </a:moveTo>
                      <a:lnTo>
                        <a:pt x="35" y="10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073280" y="1509840"/>
                  <a:ext cx="80280" cy="477720"/>
                </a:xfrm>
                <a:custGeom>
                  <a:avLst/>
                  <a:gdLst/>
                  <a:ahLst/>
                  <a:rect l="l" t="t" r="r" b="b"/>
                  <a:pathLst>
                    <a:path w="113" h="602">
                      <a:moveTo>
                        <a:pt x="109" y="470"/>
                      </a:moveTo>
                      <a:lnTo>
                        <a:pt x="103" y="483"/>
                      </a:lnTo>
                      <a:lnTo>
                        <a:pt x="97" y="496"/>
                      </a:lnTo>
                      <a:lnTo>
                        <a:pt x="93" y="508"/>
                      </a:lnTo>
                      <a:lnTo>
                        <a:pt x="90" y="523"/>
                      </a:lnTo>
                      <a:lnTo>
                        <a:pt x="86" y="535"/>
                      </a:lnTo>
                      <a:lnTo>
                        <a:pt x="82" y="550"/>
                      </a:lnTo>
                      <a:lnTo>
                        <a:pt x="78" y="562"/>
                      </a:lnTo>
                      <a:lnTo>
                        <a:pt x="74" y="575"/>
                      </a:lnTo>
                      <a:lnTo>
                        <a:pt x="70" y="589"/>
                      </a:lnTo>
                      <a:lnTo>
                        <a:pt x="66" y="602"/>
                      </a:lnTo>
                      <a:lnTo>
                        <a:pt x="64" y="589"/>
                      </a:lnTo>
                      <a:lnTo>
                        <a:pt x="64" y="575"/>
                      </a:lnTo>
                      <a:lnTo>
                        <a:pt x="66" y="561"/>
                      </a:lnTo>
                      <a:lnTo>
                        <a:pt x="68" y="548"/>
                      </a:lnTo>
                      <a:lnTo>
                        <a:pt x="70" y="534"/>
                      </a:lnTo>
                      <a:lnTo>
                        <a:pt x="74" y="519"/>
                      </a:lnTo>
                      <a:lnTo>
                        <a:pt x="74" y="505"/>
                      </a:lnTo>
                      <a:lnTo>
                        <a:pt x="74" y="490"/>
                      </a:lnTo>
                      <a:lnTo>
                        <a:pt x="70" y="478"/>
                      </a:lnTo>
                      <a:lnTo>
                        <a:pt x="64" y="465"/>
                      </a:lnTo>
                      <a:lnTo>
                        <a:pt x="37" y="252"/>
                      </a:lnTo>
                      <a:lnTo>
                        <a:pt x="43" y="274"/>
                      </a:lnTo>
                      <a:lnTo>
                        <a:pt x="49" y="294"/>
                      </a:lnTo>
                      <a:lnTo>
                        <a:pt x="53" y="315"/>
                      </a:lnTo>
                      <a:lnTo>
                        <a:pt x="57" y="337"/>
                      </a:lnTo>
                      <a:lnTo>
                        <a:pt x="59" y="359"/>
                      </a:lnTo>
                      <a:lnTo>
                        <a:pt x="62" y="380"/>
                      </a:lnTo>
                      <a:lnTo>
                        <a:pt x="64" y="402"/>
                      </a:lnTo>
                      <a:lnTo>
                        <a:pt x="68" y="424"/>
                      </a:lnTo>
                      <a:lnTo>
                        <a:pt x="72" y="443"/>
                      </a:lnTo>
                      <a:lnTo>
                        <a:pt x="78" y="465"/>
                      </a:lnTo>
                      <a:lnTo>
                        <a:pt x="80" y="465"/>
                      </a:lnTo>
                      <a:lnTo>
                        <a:pt x="84" y="465"/>
                      </a:lnTo>
                      <a:lnTo>
                        <a:pt x="88" y="465"/>
                      </a:lnTo>
                      <a:lnTo>
                        <a:pt x="90" y="465"/>
                      </a:lnTo>
                      <a:lnTo>
                        <a:pt x="93" y="463"/>
                      </a:lnTo>
                      <a:lnTo>
                        <a:pt x="95" y="461"/>
                      </a:lnTo>
                      <a:lnTo>
                        <a:pt x="97" y="460"/>
                      </a:lnTo>
                      <a:lnTo>
                        <a:pt x="99" y="458"/>
                      </a:lnTo>
                      <a:lnTo>
                        <a:pt x="101" y="456"/>
                      </a:lnTo>
                      <a:lnTo>
                        <a:pt x="101" y="452"/>
                      </a:lnTo>
                      <a:lnTo>
                        <a:pt x="101" y="438"/>
                      </a:lnTo>
                      <a:lnTo>
                        <a:pt x="99" y="425"/>
                      </a:lnTo>
                      <a:lnTo>
                        <a:pt x="97" y="411"/>
                      </a:lnTo>
                      <a:lnTo>
                        <a:pt x="93" y="398"/>
                      </a:lnTo>
                      <a:lnTo>
                        <a:pt x="90" y="384"/>
                      </a:lnTo>
                      <a:lnTo>
                        <a:pt x="86" y="371"/>
                      </a:lnTo>
                      <a:lnTo>
                        <a:pt x="86" y="357"/>
                      </a:lnTo>
                      <a:lnTo>
                        <a:pt x="86" y="344"/>
                      </a:lnTo>
                      <a:lnTo>
                        <a:pt x="88" y="332"/>
                      </a:lnTo>
                      <a:lnTo>
                        <a:pt x="93" y="319"/>
                      </a:lnTo>
                      <a:lnTo>
                        <a:pt x="82" y="287"/>
                      </a:lnTo>
                      <a:lnTo>
                        <a:pt x="72" y="256"/>
                      </a:lnTo>
                      <a:lnTo>
                        <a:pt x="62" y="223"/>
                      </a:lnTo>
                      <a:lnTo>
                        <a:pt x="53" y="191"/>
                      </a:lnTo>
                      <a:lnTo>
                        <a:pt x="43" y="160"/>
                      </a:lnTo>
                      <a:lnTo>
                        <a:pt x="35" y="128"/>
                      </a:lnTo>
                      <a:lnTo>
                        <a:pt x="28" y="95"/>
                      </a:lnTo>
                      <a:lnTo>
                        <a:pt x="18" y="63"/>
                      </a:lnTo>
                      <a:lnTo>
                        <a:pt x="10" y="32"/>
                      </a:lnTo>
                      <a:lnTo>
                        <a:pt x="0" y="0"/>
                      </a:lnTo>
                      <a:lnTo>
                        <a:pt x="20" y="45"/>
                      </a:lnTo>
                      <a:lnTo>
                        <a:pt x="37" y="90"/>
                      </a:lnTo>
                      <a:lnTo>
                        <a:pt x="55" y="137"/>
                      </a:lnTo>
                      <a:lnTo>
                        <a:pt x="70" y="184"/>
                      </a:lnTo>
                      <a:lnTo>
                        <a:pt x="84" y="231"/>
                      </a:lnTo>
                      <a:lnTo>
                        <a:pt x="95" y="278"/>
                      </a:lnTo>
                      <a:lnTo>
                        <a:pt x="105" y="326"/>
                      </a:lnTo>
                      <a:lnTo>
                        <a:pt x="111" y="373"/>
                      </a:lnTo>
                      <a:lnTo>
                        <a:pt x="113" y="422"/>
                      </a:lnTo>
                      <a:lnTo>
                        <a:pt x="109" y="470"/>
                      </a:lnTo>
                      <a:lnTo>
                        <a:pt x="109" y="47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908400" y="1508040"/>
                  <a:ext cx="18360" cy="41400"/>
                </a:xfrm>
                <a:custGeom>
                  <a:avLst/>
                  <a:gdLst/>
                  <a:ahLst/>
                  <a:rect l="l" t="t" r="r" b="b"/>
                  <a:pathLst>
                    <a:path w="25" h="52">
                      <a:moveTo>
                        <a:pt x="23" y="52"/>
                      </a:moveTo>
                      <a:lnTo>
                        <a:pt x="0" y="0"/>
                      </a:lnTo>
                      <a:lnTo>
                        <a:pt x="25" y="43"/>
                      </a:lnTo>
                      <a:lnTo>
                        <a:pt x="23" y="52"/>
                      </a:lnTo>
                      <a:lnTo>
                        <a:pt x="23" y="5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97400" y="1473120"/>
                  <a:ext cx="80280" cy="71640"/>
                </a:xfrm>
                <a:custGeom>
                  <a:avLst/>
                  <a:gdLst/>
                  <a:ahLst/>
                  <a:rect l="l" t="t" r="r" b="b"/>
                  <a:pathLst>
                    <a:path w="112" h="90">
                      <a:moveTo>
                        <a:pt x="110" y="0"/>
                      </a:moveTo>
                      <a:lnTo>
                        <a:pt x="110" y="5"/>
                      </a:lnTo>
                      <a:lnTo>
                        <a:pt x="108" y="7"/>
                      </a:lnTo>
                      <a:lnTo>
                        <a:pt x="106" y="9"/>
                      </a:lnTo>
                      <a:lnTo>
                        <a:pt x="102" y="9"/>
                      </a:lnTo>
                      <a:lnTo>
                        <a:pt x="100" y="9"/>
                      </a:lnTo>
                      <a:lnTo>
                        <a:pt x="96" y="9"/>
                      </a:lnTo>
                      <a:lnTo>
                        <a:pt x="93" y="9"/>
                      </a:lnTo>
                      <a:lnTo>
                        <a:pt x="89" y="9"/>
                      </a:lnTo>
                      <a:lnTo>
                        <a:pt x="87" y="9"/>
                      </a:lnTo>
                      <a:lnTo>
                        <a:pt x="83" y="13"/>
                      </a:lnTo>
                      <a:lnTo>
                        <a:pt x="75" y="18"/>
                      </a:lnTo>
                      <a:lnTo>
                        <a:pt x="69" y="25"/>
                      </a:lnTo>
                      <a:lnTo>
                        <a:pt x="62" y="31"/>
                      </a:lnTo>
                      <a:lnTo>
                        <a:pt x="58" y="38"/>
                      </a:lnTo>
                      <a:lnTo>
                        <a:pt x="52" y="45"/>
                      </a:lnTo>
                      <a:lnTo>
                        <a:pt x="48" y="54"/>
                      </a:lnTo>
                      <a:lnTo>
                        <a:pt x="46" y="63"/>
                      </a:lnTo>
                      <a:lnTo>
                        <a:pt x="44" y="72"/>
                      </a:lnTo>
                      <a:lnTo>
                        <a:pt x="44" y="81"/>
                      </a:lnTo>
                      <a:lnTo>
                        <a:pt x="44" y="90"/>
                      </a:lnTo>
                      <a:lnTo>
                        <a:pt x="40" y="87"/>
                      </a:lnTo>
                      <a:lnTo>
                        <a:pt x="36" y="85"/>
                      </a:lnTo>
                      <a:lnTo>
                        <a:pt x="31" y="83"/>
                      </a:lnTo>
                      <a:lnTo>
                        <a:pt x="25" y="81"/>
                      </a:lnTo>
                      <a:lnTo>
                        <a:pt x="21" y="79"/>
                      </a:lnTo>
                      <a:lnTo>
                        <a:pt x="15" y="78"/>
                      </a:lnTo>
                      <a:lnTo>
                        <a:pt x="9" y="76"/>
                      </a:lnTo>
                      <a:lnTo>
                        <a:pt x="5" y="74"/>
                      </a:lnTo>
                      <a:lnTo>
                        <a:pt x="2" y="70"/>
                      </a:lnTo>
                      <a:lnTo>
                        <a:pt x="0" y="67"/>
                      </a:lnTo>
                      <a:lnTo>
                        <a:pt x="5" y="58"/>
                      </a:lnTo>
                      <a:lnTo>
                        <a:pt x="9" y="51"/>
                      </a:lnTo>
                      <a:lnTo>
                        <a:pt x="13" y="42"/>
                      </a:lnTo>
                      <a:lnTo>
                        <a:pt x="19" y="34"/>
                      </a:lnTo>
                      <a:lnTo>
                        <a:pt x="25" y="27"/>
                      </a:lnTo>
                      <a:lnTo>
                        <a:pt x="31" y="22"/>
                      </a:lnTo>
                      <a:lnTo>
                        <a:pt x="38" y="14"/>
                      </a:lnTo>
                      <a:lnTo>
                        <a:pt x="46" y="9"/>
                      </a:lnTo>
                      <a:lnTo>
                        <a:pt x="56" y="5"/>
                      </a:lnTo>
                      <a:lnTo>
                        <a:pt x="65" y="2"/>
                      </a:lnTo>
                      <a:lnTo>
                        <a:pt x="71" y="4"/>
                      </a:lnTo>
                      <a:lnTo>
                        <a:pt x="75" y="4"/>
                      </a:lnTo>
                      <a:lnTo>
                        <a:pt x="79" y="4"/>
                      </a:lnTo>
                      <a:lnTo>
                        <a:pt x="85" y="2"/>
                      </a:lnTo>
                      <a:lnTo>
                        <a:pt x="89" y="2"/>
                      </a:lnTo>
                      <a:lnTo>
                        <a:pt x="93" y="0"/>
                      </a:lnTo>
                      <a:lnTo>
                        <a:pt x="96" y="0"/>
                      </a:lnTo>
                      <a:lnTo>
                        <a:pt x="100" y="0"/>
                      </a:lnTo>
                      <a:lnTo>
                        <a:pt x="106" y="0"/>
                      </a:lnTo>
                      <a:lnTo>
                        <a:pt x="112" y="2"/>
                      </a:lnTo>
                      <a:lnTo>
                        <a:pt x="112" y="2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284880" y="1473120"/>
                  <a:ext cx="78480" cy="69840"/>
                </a:xfrm>
                <a:custGeom>
                  <a:avLst/>
                  <a:gdLst/>
                  <a:ahLst/>
                  <a:rect l="l" t="t" r="r" b="b"/>
                  <a:pathLst>
                    <a:path w="110" h="86">
                      <a:moveTo>
                        <a:pt x="67" y="11"/>
                      </a:moveTo>
                      <a:lnTo>
                        <a:pt x="71" y="18"/>
                      </a:lnTo>
                      <a:lnTo>
                        <a:pt x="77" y="23"/>
                      </a:lnTo>
                      <a:lnTo>
                        <a:pt x="81" y="29"/>
                      </a:lnTo>
                      <a:lnTo>
                        <a:pt x="85" y="34"/>
                      </a:lnTo>
                      <a:lnTo>
                        <a:pt x="91" y="40"/>
                      </a:lnTo>
                      <a:lnTo>
                        <a:pt x="95" y="45"/>
                      </a:lnTo>
                      <a:lnTo>
                        <a:pt x="98" y="50"/>
                      </a:lnTo>
                      <a:lnTo>
                        <a:pt x="104" y="56"/>
                      </a:lnTo>
                      <a:lnTo>
                        <a:pt x="108" y="61"/>
                      </a:lnTo>
                      <a:lnTo>
                        <a:pt x="110" y="67"/>
                      </a:lnTo>
                      <a:lnTo>
                        <a:pt x="73" y="86"/>
                      </a:lnTo>
                      <a:lnTo>
                        <a:pt x="71" y="76"/>
                      </a:lnTo>
                      <a:lnTo>
                        <a:pt x="69" y="67"/>
                      </a:lnTo>
                      <a:lnTo>
                        <a:pt x="65" y="56"/>
                      </a:lnTo>
                      <a:lnTo>
                        <a:pt x="62" y="47"/>
                      </a:lnTo>
                      <a:lnTo>
                        <a:pt x="58" y="38"/>
                      </a:lnTo>
                      <a:lnTo>
                        <a:pt x="52" y="29"/>
                      </a:lnTo>
                      <a:lnTo>
                        <a:pt x="44" y="20"/>
                      </a:lnTo>
                      <a:lnTo>
                        <a:pt x="36" y="12"/>
                      </a:lnTo>
                      <a:lnTo>
                        <a:pt x="27" y="7"/>
                      </a:lnTo>
                      <a:lnTo>
                        <a:pt x="17" y="2"/>
                      </a:lnTo>
                      <a:lnTo>
                        <a:pt x="0" y="0"/>
                      </a:lnTo>
                      <a:lnTo>
                        <a:pt x="67" y="12"/>
                      </a:lnTo>
                      <a:lnTo>
                        <a:pt x="67" y="12"/>
                      </a:lnTo>
                      <a:lnTo>
                        <a:pt x="67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27360" y="1425600"/>
                  <a:ext cx="48600" cy="168480"/>
                </a:xfrm>
                <a:custGeom>
                  <a:avLst/>
                  <a:gdLst/>
                  <a:ahLst/>
                  <a:rect l="l" t="t" r="r" b="b"/>
                  <a:pathLst>
                    <a:path w="70" h="212">
                      <a:moveTo>
                        <a:pt x="6" y="212"/>
                      </a:moveTo>
                      <a:lnTo>
                        <a:pt x="0" y="212"/>
                      </a:lnTo>
                      <a:lnTo>
                        <a:pt x="2" y="191"/>
                      </a:lnTo>
                      <a:lnTo>
                        <a:pt x="6" y="167"/>
                      </a:lnTo>
                      <a:lnTo>
                        <a:pt x="10" y="146"/>
                      </a:lnTo>
                      <a:lnTo>
                        <a:pt x="16" y="124"/>
                      </a:lnTo>
                      <a:lnTo>
                        <a:pt x="21" y="102"/>
                      </a:lnTo>
                      <a:lnTo>
                        <a:pt x="31" y="81"/>
                      </a:lnTo>
                      <a:lnTo>
                        <a:pt x="39" y="61"/>
                      </a:lnTo>
                      <a:lnTo>
                        <a:pt x="48" y="39"/>
                      </a:lnTo>
                      <a:lnTo>
                        <a:pt x="58" y="19"/>
                      </a:lnTo>
                      <a:lnTo>
                        <a:pt x="70" y="0"/>
                      </a:lnTo>
                      <a:lnTo>
                        <a:pt x="62" y="21"/>
                      </a:lnTo>
                      <a:lnTo>
                        <a:pt x="54" y="43"/>
                      </a:lnTo>
                      <a:lnTo>
                        <a:pt x="47" y="63"/>
                      </a:lnTo>
                      <a:lnTo>
                        <a:pt x="37" y="84"/>
                      </a:lnTo>
                      <a:lnTo>
                        <a:pt x="29" y="104"/>
                      </a:lnTo>
                      <a:lnTo>
                        <a:pt x="21" y="126"/>
                      </a:lnTo>
                      <a:lnTo>
                        <a:pt x="14" y="147"/>
                      </a:lnTo>
                      <a:lnTo>
                        <a:pt x="10" y="169"/>
                      </a:lnTo>
                      <a:lnTo>
                        <a:pt x="8" y="191"/>
                      </a:lnTo>
                      <a:lnTo>
                        <a:pt x="6" y="212"/>
                      </a:lnTo>
                      <a:lnTo>
                        <a:pt x="6" y="212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874200" y="1527120"/>
                  <a:ext cx="18720" cy="82800"/>
                </a:xfrm>
                <a:custGeom>
                  <a:avLst/>
                  <a:gdLst/>
                  <a:ahLst/>
                  <a:rect l="l" t="t" r="r" b="b"/>
                  <a:pathLst>
                    <a:path w="25" h="104">
                      <a:moveTo>
                        <a:pt x="9" y="0"/>
                      </a:moveTo>
                      <a:lnTo>
                        <a:pt x="11" y="10"/>
                      </a:lnTo>
                      <a:lnTo>
                        <a:pt x="13" y="21"/>
                      </a:lnTo>
                      <a:lnTo>
                        <a:pt x="15" y="30"/>
                      </a:lnTo>
                      <a:lnTo>
                        <a:pt x="17" y="41"/>
                      </a:lnTo>
                      <a:lnTo>
                        <a:pt x="19" y="52"/>
                      </a:lnTo>
                      <a:lnTo>
                        <a:pt x="21" y="61"/>
                      </a:lnTo>
                      <a:lnTo>
                        <a:pt x="23" y="72"/>
                      </a:lnTo>
                      <a:lnTo>
                        <a:pt x="25" y="82"/>
                      </a:lnTo>
                      <a:lnTo>
                        <a:pt x="25" y="93"/>
                      </a:lnTo>
                      <a:lnTo>
                        <a:pt x="25" y="10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870520" y="1473120"/>
                  <a:ext cx="12960" cy="39960"/>
                </a:xfrm>
                <a:custGeom>
                  <a:avLst/>
                  <a:gdLst/>
                  <a:ahLst/>
                  <a:rect l="l" t="t" r="r" b="b"/>
                  <a:pathLst>
                    <a:path w="17" h="49">
                      <a:moveTo>
                        <a:pt x="17" y="0"/>
                      </a:moveTo>
                      <a:lnTo>
                        <a:pt x="0" y="49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900120" y="1552680"/>
                  <a:ext cx="6840" cy="41400"/>
                </a:xfrm>
                <a:custGeom>
                  <a:avLst/>
                  <a:gdLst/>
                  <a:ahLst/>
                  <a:rect l="l" t="t" r="r" b="b"/>
                  <a:pathLst>
                    <a:path w="10" h="52">
                      <a:moveTo>
                        <a:pt x="10" y="50"/>
                      </a:moveTo>
                      <a:lnTo>
                        <a:pt x="0" y="0"/>
                      </a:lnTo>
                      <a:lnTo>
                        <a:pt x="10" y="45"/>
                      </a:lnTo>
                      <a:lnTo>
                        <a:pt x="10" y="52"/>
                      </a:lnTo>
                      <a:lnTo>
                        <a:pt x="10" y="52"/>
                      </a:lnTo>
                      <a:lnTo>
                        <a:pt x="10" y="5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057800" y="1563840"/>
                  <a:ext cx="21240" cy="55440"/>
                </a:xfrm>
                <a:custGeom>
                  <a:avLst/>
                  <a:gdLst/>
                  <a:ahLst/>
                  <a:rect l="l" t="t" r="r" b="b"/>
                  <a:pathLst>
                    <a:path w="29" h="71">
                      <a:moveTo>
                        <a:pt x="0" y="0"/>
                      </a:moveTo>
                      <a:lnTo>
                        <a:pt x="29" y="7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282000" y="151596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3" y="36"/>
                      </a:moveTo>
                      <a:lnTo>
                        <a:pt x="0" y="38"/>
                      </a:lnTo>
                      <a:lnTo>
                        <a:pt x="8" y="38"/>
                      </a:lnTo>
                      <a:lnTo>
                        <a:pt x="13" y="36"/>
                      </a:lnTo>
                      <a:lnTo>
                        <a:pt x="17" y="33"/>
                      </a:lnTo>
                      <a:lnTo>
                        <a:pt x="21" y="29"/>
                      </a:lnTo>
                      <a:lnTo>
                        <a:pt x="23" y="25"/>
                      </a:lnTo>
                      <a:lnTo>
                        <a:pt x="25" y="20"/>
                      </a:lnTo>
                      <a:lnTo>
                        <a:pt x="27" y="15"/>
                      </a:lnTo>
                      <a:lnTo>
                        <a:pt x="29" y="9"/>
                      </a:lnTo>
                      <a:lnTo>
                        <a:pt x="31" y="6"/>
                      </a:lnTo>
                      <a:lnTo>
                        <a:pt x="33" y="0"/>
                      </a:lnTo>
                      <a:lnTo>
                        <a:pt x="33" y="4"/>
                      </a:lnTo>
                      <a:lnTo>
                        <a:pt x="33" y="7"/>
                      </a:lnTo>
                      <a:lnTo>
                        <a:pt x="35" y="11"/>
                      </a:lnTo>
                      <a:lnTo>
                        <a:pt x="37" y="15"/>
                      </a:lnTo>
                      <a:lnTo>
                        <a:pt x="39" y="18"/>
                      </a:lnTo>
                      <a:lnTo>
                        <a:pt x="39" y="22"/>
                      </a:lnTo>
                      <a:lnTo>
                        <a:pt x="39" y="25"/>
                      </a:lnTo>
                      <a:lnTo>
                        <a:pt x="39" y="29"/>
                      </a:lnTo>
                      <a:lnTo>
                        <a:pt x="37" y="33"/>
                      </a:lnTo>
                      <a:lnTo>
                        <a:pt x="33" y="36"/>
                      </a:lnTo>
                      <a:lnTo>
                        <a:pt x="33" y="36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254640" y="1515960"/>
                  <a:ext cx="6840" cy="2556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12" y="31"/>
                      </a:moveTo>
                      <a:lnTo>
                        <a:pt x="10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6" y="29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2" y="25"/>
                      </a:lnTo>
                      <a:lnTo>
                        <a:pt x="2" y="23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4" y="22"/>
                      </a:lnTo>
                      <a:lnTo>
                        <a:pt x="6" y="25"/>
                      </a:lnTo>
                      <a:lnTo>
                        <a:pt x="10" y="29"/>
                      </a:lnTo>
                      <a:lnTo>
                        <a:pt x="12" y="31"/>
                      </a:lnTo>
                      <a:lnTo>
                        <a:pt x="12" y="31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025320" y="1501920"/>
                  <a:ext cx="24120" cy="109440"/>
                </a:xfrm>
                <a:custGeom>
                  <a:avLst/>
                  <a:gdLst/>
                  <a:ahLst/>
                  <a:rect l="l" t="t" r="r" b="b"/>
                  <a:pathLst>
                    <a:path w="34" h="137">
                      <a:moveTo>
                        <a:pt x="31" y="137"/>
                      </a:moveTo>
                      <a:lnTo>
                        <a:pt x="0" y="0"/>
                      </a:lnTo>
                      <a:lnTo>
                        <a:pt x="34" y="101"/>
                      </a:lnTo>
                      <a:lnTo>
                        <a:pt x="32" y="137"/>
                      </a:lnTo>
                      <a:lnTo>
                        <a:pt x="32" y="137"/>
                      </a:lnTo>
                      <a:lnTo>
                        <a:pt x="31" y="13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845400" y="1560600"/>
                  <a:ext cx="24120" cy="141120"/>
                </a:xfrm>
                <a:custGeom>
                  <a:avLst/>
                  <a:gdLst/>
                  <a:ahLst/>
                  <a:rect l="l" t="t" r="r" b="b"/>
                  <a:pathLst>
                    <a:path w="35" h="176">
                      <a:moveTo>
                        <a:pt x="23" y="175"/>
                      </a:moveTo>
                      <a:lnTo>
                        <a:pt x="19" y="158"/>
                      </a:lnTo>
                      <a:lnTo>
                        <a:pt x="15" y="142"/>
                      </a:lnTo>
                      <a:lnTo>
                        <a:pt x="15" y="124"/>
                      </a:lnTo>
                      <a:lnTo>
                        <a:pt x="15" y="106"/>
                      </a:lnTo>
                      <a:lnTo>
                        <a:pt x="15" y="88"/>
                      </a:lnTo>
                      <a:lnTo>
                        <a:pt x="15" y="70"/>
                      </a:lnTo>
                      <a:lnTo>
                        <a:pt x="15" y="52"/>
                      </a:lnTo>
                      <a:lnTo>
                        <a:pt x="12" y="34"/>
                      </a:lnTo>
                      <a:lnTo>
                        <a:pt x="8" y="16"/>
                      </a:lnTo>
                      <a:lnTo>
                        <a:pt x="0" y="0"/>
                      </a:lnTo>
                      <a:lnTo>
                        <a:pt x="6" y="16"/>
                      </a:lnTo>
                      <a:lnTo>
                        <a:pt x="12" y="32"/>
                      </a:lnTo>
                      <a:lnTo>
                        <a:pt x="17" y="49"/>
                      </a:lnTo>
                      <a:lnTo>
                        <a:pt x="23" y="67"/>
                      </a:lnTo>
                      <a:lnTo>
                        <a:pt x="29" y="85"/>
                      </a:lnTo>
                      <a:lnTo>
                        <a:pt x="33" y="101"/>
                      </a:lnTo>
                      <a:lnTo>
                        <a:pt x="35" y="119"/>
                      </a:lnTo>
                      <a:lnTo>
                        <a:pt x="33" y="139"/>
                      </a:lnTo>
                      <a:lnTo>
                        <a:pt x="31" y="157"/>
                      </a:lnTo>
                      <a:lnTo>
                        <a:pt x="25" y="176"/>
                      </a:lnTo>
                      <a:lnTo>
                        <a:pt x="25" y="176"/>
                      </a:lnTo>
                      <a:lnTo>
                        <a:pt x="23" y="175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045920" y="1585800"/>
                  <a:ext cx="4320" cy="162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0" y="0"/>
                      </a:moveTo>
                      <a:lnTo>
                        <a:pt x="5" y="2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894640" y="1530360"/>
                  <a:ext cx="4320" cy="22320"/>
                </a:xfrm>
                <a:custGeom>
                  <a:avLst/>
                  <a:gdLst/>
                  <a:ahLst/>
                  <a:rect l="l" t="t" r="r" b="b"/>
                  <a:pathLst>
                    <a:path w="5" h="27">
                      <a:moveTo>
                        <a:pt x="1" y="0"/>
                      </a:moveTo>
                      <a:lnTo>
                        <a:pt x="5" y="2"/>
                      </a:lnTo>
                      <a:lnTo>
                        <a:pt x="3" y="27"/>
                      </a:lnTo>
                      <a:lnTo>
                        <a:pt x="0" y="27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68520" y="1612800"/>
                  <a:ext cx="12960" cy="651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18" y="83"/>
                      </a:moveTo>
                      <a:lnTo>
                        <a:pt x="18" y="81"/>
                      </a:lnTo>
                      <a:lnTo>
                        <a:pt x="16" y="75"/>
                      </a:lnTo>
                      <a:lnTo>
                        <a:pt x="14" y="68"/>
                      </a:lnTo>
                      <a:lnTo>
                        <a:pt x="12" y="59"/>
                      </a:lnTo>
                      <a:lnTo>
                        <a:pt x="10" y="50"/>
                      </a:lnTo>
                      <a:lnTo>
                        <a:pt x="8" y="39"/>
                      </a:lnTo>
                      <a:lnTo>
                        <a:pt x="6" y="29"/>
                      </a:lnTo>
                      <a:lnTo>
                        <a:pt x="4" y="18"/>
                      </a:lnTo>
                      <a:lnTo>
                        <a:pt x="2" y="9"/>
                      </a:lnTo>
                      <a:lnTo>
                        <a:pt x="0" y="0"/>
                      </a:lnTo>
                      <a:lnTo>
                        <a:pt x="18" y="83"/>
                      </a:lnTo>
                      <a:lnTo>
                        <a:pt x="18" y="83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51240" y="1612800"/>
                  <a:ext cx="29880" cy="173160"/>
                </a:xfrm>
                <a:custGeom>
                  <a:avLst/>
                  <a:gdLst/>
                  <a:ahLst/>
                  <a:rect l="l" t="t" r="r" b="b"/>
                  <a:pathLst>
                    <a:path w="41" h="218">
                      <a:moveTo>
                        <a:pt x="0" y="0"/>
                      </a:moveTo>
                      <a:lnTo>
                        <a:pt x="41" y="218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058880" y="1625760"/>
                  <a:ext cx="27000" cy="118800"/>
                </a:xfrm>
                <a:custGeom>
                  <a:avLst/>
                  <a:gdLst/>
                  <a:ahLst/>
                  <a:rect l="l" t="t" r="r" b="b"/>
                  <a:pathLst>
                    <a:path w="39" h="150">
                      <a:moveTo>
                        <a:pt x="39" y="148"/>
                      </a:moveTo>
                      <a:lnTo>
                        <a:pt x="0" y="0"/>
                      </a:lnTo>
                      <a:lnTo>
                        <a:pt x="4" y="14"/>
                      </a:lnTo>
                      <a:lnTo>
                        <a:pt x="8" y="31"/>
                      </a:lnTo>
                      <a:lnTo>
                        <a:pt x="14" y="45"/>
                      </a:lnTo>
                      <a:lnTo>
                        <a:pt x="18" y="59"/>
                      </a:lnTo>
                      <a:lnTo>
                        <a:pt x="21" y="74"/>
                      </a:lnTo>
                      <a:lnTo>
                        <a:pt x="27" y="88"/>
                      </a:lnTo>
                      <a:lnTo>
                        <a:pt x="31" y="105"/>
                      </a:lnTo>
                      <a:lnTo>
                        <a:pt x="33" y="119"/>
                      </a:lnTo>
                      <a:lnTo>
                        <a:pt x="37" y="133"/>
                      </a:lnTo>
                      <a:lnTo>
                        <a:pt x="39" y="150"/>
                      </a:lnTo>
                      <a:lnTo>
                        <a:pt x="39" y="150"/>
                      </a:lnTo>
                      <a:lnTo>
                        <a:pt x="39" y="148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082280" y="1630440"/>
                  <a:ext cx="9720" cy="3168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0" y="0"/>
                      </a:moveTo>
                      <a:lnTo>
                        <a:pt x="16" y="4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004080" y="1557360"/>
                  <a:ext cx="3960" cy="36720"/>
                </a:xfrm>
                <a:custGeom>
                  <a:avLst/>
                  <a:gdLst/>
                  <a:ahLst/>
                  <a:rect l="l" t="t" r="r" b="b"/>
                  <a:pathLst>
                    <a:path w="5" h="47">
                      <a:moveTo>
                        <a:pt x="0" y="0"/>
                      </a:moveTo>
                      <a:lnTo>
                        <a:pt x="5" y="4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857560" y="154800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0" y="0"/>
                      </a:moveTo>
                      <a:lnTo>
                        <a:pt x="6" y="1"/>
                      </a:lnTo>
                      <a:lnTo>
                        <a:pt x="6" y="19"/>
                      </a:lnTo>
                      <a:lnTo>
                        <a:pt x="0" y="19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919920" y="1625760"/>
                  <a:ext cx="6840" cy="2052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8" y="25"/>
                      </a:moveTo>
                      <a:lnTo>
                        <a:pt x="0" y="0"/>
                      </a:lnTo>
                      <a:lnTo>
                        <a:pt x="10" y="20"/>
                      </a:lnTo>
                      <a:lnTo>
                        <a:pt x="10" y="27"/>
                      </a:lnTo>
                      <a:lnTo>
                        <a:pt x="10" y="27"/>
                      </a:lnTo>
                      <a:lnTo>
                        <a:pt x="8" y="2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986800" y="1575000"/>
                  <a:ext cx="16920" cy="145800"/>
                </a:xfrm>
                <a:custGeom>
                  <a:avLst/>
                  <a:gdLst/>
                  <a:ahLst/>
                  <a:rect l="l" t="t" r="r" b="b"/>
                  <a:pathLst>
                    <a:path w="26" h="184">
                      <a:moveTo>
                        <a:pt x="24" y="184"/>
                      </a:moveTo>
                      <a:lnTo>
                        <a:pt x="24" y="166"/>
                      </a:lnTo>
                      <a:lnTo>
                        <a:pt x="24" y="148"/>
                      </a:lnTo>
                      <a:lnTo>
                        <a:pt x="22" y="130"/>
                      </a:lnTo>
                      <a:lnTo>
                        <a:pt x="18" y="112"/>
                      </a:lnTo>
                      <a:lnTo>
                        <a:pt x="14" y="94"/>
                      </a:lnTo>
                      <a:lnTo>
                        <a:pt x="10" y="76"/>
                      </a:lnTo>
                      <a:lnTo>
                        <a:pt x="6" y="58"/>
                      </a:lnTo>
                      <a:lnTo>
                        <a:pt x="4" y="38"/>
                      </a:lnTo>
                      <a:lnTo>
                        <a:pt x="2" y="20"/>
                      </a:lnTo>
                      <a:lnTo>
                        <a:pt x="0" y="0"/>
                      </a:lnTo>
                      <a:lnTo>
                        <a:pt x="6" y="18"/>
                      </a:lnTo>
                      <a:lnTo>
                        <a:pt x="10" y="36"/>
                      </a:lnTo>
                      <a:lnTo>
                        <a:pt x="14" y="54"/>
                      </a:lnTo>
                      <a:lnTo>
                        <a:pt x="18" y="74"/>
                      </a:lnTo>
                      <a:lnTo>
                        <a:pt x="20" y="92"/>
                      </a:lnTo>
                      <a:lnTo>
                        <a:pt x="24" y="112"/>
                      </a:lnTo>
                      <a:lnTo>
                        <a:pt x="26" y="130"/>
                      </a:lnTo>
                      <a:lnTo>
                        <a:pt x="26" y="149"/>
                      </a:lnTo>
                      <a:lnTo>
                        <a:pt x="26" y="168"/>
                      </a:lnTo>
                      <a:lnTo>
                        <a:pt x="24" y="184"/>
                      </a:lnTo>
                      <a:lnTo>
                        <a:pt x="24" y="18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892920" y="1641600"/>
                  <a:ext cx="38520" cy="164880"/>
                </a:xfrm>
                <a:custGeom>
                  <a:avLst/>
                  <a:gdLst/>
                  <a:ahLst/>
                  <a:rect l="l" t="t" r="r" b="b"/>
                  <a:pathLst>
                    <a:path w="54" h="207">
                      <a:moveTo>
                        <a:pt x="29" y="63"/>
                      </a:moveTo>
                      <a:lnTo>
                        <a:pt x="42" y="65"/>
                      </a:lnTo>
                      <a:lnTo>
                        <a:pt x="44" y="77"/>
                      </a:lnTo>
                      <a:lnTo>
                        <a:pt x="46" y="92"/>
                      </a:lnTo>
                      <a:lnTo>
                        <a:pt x="48" y="106"/>
                      </a:lnTo>
                      <a:lnTo>
                        <a:pt x="52" y="122"/>
                      </a:lnTo>
                      <a:lnTo>
                        <a:pt x="54" y="137"/>
                      </a:lnTo>
                      <a:lnTo>
                        <a:pt x="54" y="151"/>
                      </a:lnTo>
                      <a:lnTo>
                        <a:pt x="54" y="166"/>
                      </a:lnTo>
                      <a:lnTo>
                        <a:pt x="52" y="180"/>
                      </a:lnTo>
                      <a:lnTo>
                        <a:pt x="48" y="194"/>
                      </a:lnTo>
                      <a:lnTo>
                        <a:pt x="42" y="207"/>
                      </a:lnTo>
                      <a:lnTo>
                        <a:pt x="42" y="202"/>
                      </a:lnTo>
                      <a:lnTo>
                        <a:pt x="42" y="194"/>
                      </a:lnTo>
                      <a:lnTo>
                        <a:pt x="44" y="189"/>
                      </a:lnTo>
                      <a:lnTo>
                        <a:pt x="42" y="184"/>
                      </a:lnTo>
                      <a:lnTo>
                        <a:pt x="42" y="178"/>
                      </a:lnTo>
                      <a:lnTo>
                        <a:pt x="40" y="175"/>
                      </a:lnTo>
                      <a:lnTo>
                        <a:pt x="38" y="169"/>
                      </a:lnTo>
                      <a:lnTo>
                        <a:pt x="35" y="166"/>
                      </a:lnTo>
                      <a:lnTo>
                        <a:pt x="31" y="164"/>
                      </a:lnTo>
                      <a:lnTo>
                        <a:pt x="25" y="162"/>
                      </a:lnTo>
                      <a:lnTo>
                        <a:pt x="27" y="146"/>
                      </a:lnTo>
                      <a:lnTo>
                        <a:pt x="27" y="130"/>
                      </a:lnTo>
                      <a:lnTo>
                        <a:pt x="25" y="115"/>
                      </a:lnTo>
                      <a:lnTo>
                        <a:pt x="23" y="101"/>
                      </a:lnTo>
                      <a:lnTo>
                        <a:pt x="21" y="85"/>
                      </a:lnTo>
                      <a:lnTo>
                        <a:pt x="17" y="70"/>
                      </a:lnTo>
                      <a:lnTo>
                        <a:pt x="13" y="56"/>
                      </a:lnTo>
                      <a:lnTo>
                        <a:pt x="9" y="41"/>
                      </a:lnTo>
                      <a:lnTo>
                        <a:pt x="6" y="27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11" y="7"/>
                      </a:lnTo>
                      <a:lnTo>
                        <a:pt x="13" y="12"/>
                      </a:lnTo>
                      <a:lnTo>
                        <a:pt x="13" y="20"/>
                      </a:lnTo>
                      <a:lnTo>
                        <a:pt x="15" y="25"/>
                      </a:lnTo>
                      <a:lnTo>
                        <a:pt x="17" y="32"/>
                      </a:lnTo>
                      <a:lnTo>
                        <a:pt x="19" y="38"/>
                      </a:lnTo>
                      <a:lnTo>
                        <a:pt x="21" y="45"/>
                      </a:lnTo>
                      <a:lnTo>
                        <a:pt x="23" y="50"/>
                      </a:lnTo>
                      <a:lnTo>
                        <a:pt x="27" y="57"/>
                      </a:lnTo>
                      <a:lnTo>
                        <a:pt x="29" y="63"/>
                      </a:lnTo>
                      <a:lnTo>
                        <a:pt x="29" y="63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889240" y="1577880"/>
                  <a:ext cx="2880" cy="25560"/>
                </a:xfrm>
                <a:custGeom>
                  <a:avLst/>
                  <a:gdLst/>
                  <a:ahLst/>
                  <a:rect l="l" t="t" r="r" b="b"/>
                  <a:pathLst>
                    <a:path w="4" h="31">
                      <a:moveTo>
                        <a:pt x="0" y="0"/>
                      </a:moveTo>
                      <a:lnTo>
                        <a:pt x="4" y="3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94880" y="1673280"/>
                  <a:ext cx="4320" cy="1440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4" y="18"/>
                      </a:lnTo>
                      <a:lnTo>
                        <a:pt x="0" y="18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356520" y="1631880"/>
                  <a:ext cx="73080" cy="74880"/>
                </a:xfrm>
                <a:custGeom>
                  <a:avLst/>
                  <a:gdLst/>
                  <a:ahLst/>
                  <a:rect l="l" t="t" r="r" b="b"/>
                  <a:pathLst>
                    <a:path w="103" h="96">
                      <a:moveTo>
                        <a:pt x="41" y="0"/>
                      </a:moveTo>
                      <a:lnTo>
                        <a:pt x="39" y="9"/>
                      </a:lnTo>
                      <a:lnTo>
                        <a:pt x="37" y="16"/>
                      </a:lnTo>
                      <a:lnTo>
                        <a:pt x="33" y="25"/>
                      </a:lnTo>
                      <a:lnTo>
                        <a:pt x="29" y="33"/>
                      </a:lnTo>
                      <a:lnTo>
                        <a:pt x="26" y="40"/>
                      </a:lnTo>
                      <a:lnTo>
                        <a:pt x="24" y="47"/>
                      </a:lnTo>
                      <a:lnTo>
                        <a:pt x="26" y="54"/>
                      </a:lnTo>
                      <a:lnTo>
                        <a:pt x="27" y="61"/>
                      </a:lnTo>
                      <a:lnTo>
                        <a:pt x="35" y="69"/>
                      </a:lnTo>
                      <a:lnTo>
                        <a:pt x="45" y="76"/>
                      </a:lnTo>
                      <a:lnTo>
                        <a:pt x="95" y="38"/>
                      </a:lnTo>
                      <a:lnTo>
                        <a:pt x="97" y="40"/>
                      </a:lnTo>
                      <a:lnTo>
                        <a:pt x="99" y="42"/>
                      </a:lnTo>
                      <a:lnTo>
                        <a:pt x="101" y="45"/>
                      </a:lnTo>
                      <a:lnTo>
                        <a:pt x="101" y="49"/>
                      </a:lnTo>
                      <a:lnTo>
                        <a:pt x="103" y="51"/>
                      </a:lnTo>
                      <a:lnTo>
                        <a:pt x="103" y="54"/>
                      </a:lnTo>
                      <a:lnTo>
                        <a:pt x="103" y="58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7"/>
                      </a:lnTo>
                      <a:lnTo>
                        <a:pt x="89" y="65"/>
                      </a:lnTo>
                      <a:lnTo>
                        <a:pt x="82" y="67"/>
                      </a:lnTo>
                      <a:lnTo>
                        <a:pt x="76" y="70"/>
                      </a:lnTo>
                      <a:lnTo>
                        <a:pt x="72" y="76"/>
                      </a:lnTo>
                      <a:lnTo>
                        <a:pt x="68" y="83"/>
                      </a:lnTo>
                      <a:lnTo>
                        <a:pt x="64" y="88"/>
                      </a:lnTo>
                      <a:lnTo>
                        <a:pt x="58" y="94"/>
                      </a:lnTo>
                      <a:lnTo>
                        <a:pt x="53" y="96"/>
                      </a:lnTo>
                      <a:lnTo>
                        <a:pt x="45" y="96"/>
                      </a:lnTo>
                      <a:lnTo>
                        <a:pt x="35" y="92"/>
                      </a:lnTo>
                      <a:lnTo>
                        <a:pt x="31" y="87"/>
                      </a:lnTo>
                      <a:lnTo>
                        <a:pt x="27" y="81"/>
                      </a:lnTo>
                      <a:lnTo>
                        <a:pt x="22" y="76"/>
                      </a:lnTo>
                      <a:lnTo>
                        <a:pt x="14" y="72"/>
                      </a:lnTo>
                      <a:lnTo>
                        <a:pt x="8" y="67"/>
                      </a:lnTo>
                      <a:lnTo>
                        <a:pt x="4" y="63"/>
                      </a:lnTo>
                      <a:lnTo>
                        <a:pt x="0" y="58"/>
                      </a:lnTo>
                      <a:lnTo>
                        <a:pt x="0" y="52"/>
                      </a:lnTo>
                      <a:lnTo>
                        <a:pt x="2" y="45"/>
                      </a:lnTo>
                      <a:lnTo>
                        <a:pt x="8" y="38"/>
                      </a:lnTo>
                      <a:lnTo>
                        <a:pt x="12" y="34"/>
                      </a:lnTo>
                      <a:lnTo>
                        <a:pt x="14" y="31"/>
                      </a:lnTo>
                      <a:lnTo>
                        <a:pt x="16" y="25"/>
                      </a:lnTo>
                      <a:lnTo>
                        <a:pt x="18" y="20"/>
                      </a:lnTo>
                      <a:lnTo>
                        <a:pt x="20" y="15"/>
                      </a:lnTo>
                      <a:lnTo>
                        <a:pt x="24" y="11"/>
                      </a:lnTo>
                      <a:lnTo>
                        <a:pt x="26" y="6"/>
                      </a:lnTo>
                      <a:lnTo>
                        <a:pt x="29" y="4"/>
                      </a:lnTo>
                      <a:lnTo>
                        <a:pt x="35" y="2"/>
                      </a:lnTo>
                      <a:lnTo>
                        <a:pt x="4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934320" y="1676520"/>
                  <a:ext cx="16560" cy="137880"/>
                </a:xfrm>
                <a:custGeom>
                  <a:avLst/>
                  <a:gdLst/>
                  <a:ahLst/>
                  <a:rect l="l" t="t" r="r" b="b"/>
                  <a:pathLst>
                    <a:path w="25" h="175">
                      <a:moveTo>
                        <a:pt x="0" y="0"/>
                      </a:moveTo>
                      <a:lnTo>
                        <a:pt x="25" y="17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461280" y="1647720"/>
                  <a:ext cx="67320" cy="52560"/>
                </a:xfrm>
                <a:custGeom>
                  <a:avLst/>
                  <a:gdLst/>
                  <a:ahLst/>
                  <a:rect l="l" t="t" r="r" b="b"/>
                  <a:pathLst>
                    <a:path w="94" h="65">
                      <a:moveTo>
                        <a:pt x="92" y="25"/>
                      </a:moveTo>
                      <a:lnTo>
                        <a:pt x="94" y="32"/>
                      </a:lnTo>
                      <a:lnTo>
                        <a:pt x="94" y="38"/>
                      </a:lnTo>
                      <a:lnTo>
                        <a:pt x="92" y="41"/>
                      </a:lnTo>
                      <a:lnTo>
                        <a:pt x="91" y="45"/>
                      </a:lnTo>
                      <a:lnTo>
                        <a:pt x="87" y="48"/>
                      </a:lnTo>
                      <a:lnTo>
                        <a:pt x="85" y="52"/>
                      </a:lnTo>
                      <a:lnTo>
                        <a:pt x="81" y="54"/>
                      </a:lnTo>
                      <a:lnTo>
                        <a:pt x="77" y="57"/>
                      </a:lnTo>
                      <a:lnTo>
                        <a:pt x="73" y="61"/>
                      </a:lnTo>
                      <a:lnTo>
                        <a:pt x="71" y="65"/>
                      </a:lnTo>
                      <a:lnTo>
                        <a:pt x="65" y="61"/>
                      </a:lnTo>
                      <a:lnTo>
                        <a:pt x="60" y="57"/>
                      </a:lnTo>
                      <a:lnTo>
                        <a:pt x="54" y="54"/>
                      </a:lnTo>
                      <a:lnTo>
                        <a:pt x="46" y="50"/>
                      </a:lnTo>
                      <a:lnTo>
                        <a:pt x="40" y="47"/>
                      </a:lnTo>
                      <a:lnTo>
                        <a:pt x="32" y="45"/>
                      </a:lnTo>
                      <a:lnTo>
                        <a:pt x="27" y="41"/>
                      </a:lnTo>
                      <a:lnTo>
                        <a:pt x="19" y="39"/>
                      </a:lnTo>
                      <a:lnTo>
                        <a:pt x="11" y="36"/>
                      </a:lnTo>
                      <a:lnTo>
                        <a:pt x="3" y="34"/>
                      </a:lnTo>
                      <a:lnTo>
                        <a:pt x="3" y="34"/>
                      </a:lnTo>
                      <a:lnTo>
                        <a:pt x="3" y="32"/>
                      </a:lnTo>
                      <a:lnTo>
                        <a:pt x="1" y="32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5" y="21"/>
                      </a:lnTo>
                      <a:lnTo>
                        <a:pt x="9" y="18"/>
                      </a:lnTo>
                      <a:lnTo>
                        <a:pt x="13" y="18"/>
                      </a:lnTo>
                      <a:lnTo>
                        <a:pt x="17" y="18"/>
                      </a:lnTo>
                      <a:lnTo>
                        <a:pt x="21" y="20"/>
                      </a:lnTo>
                      <a:lnTo>
                        <a:pt x="27" y="21"/>
                      </a:lnTo>
                      <a:lnTo>
                        <a:pt x="31" y="23"/>
                      </a:lnTo>
                      <a:lnTo>
                        <a:pt x="34" y="25"/>
                      </a:lnTo>
                      <a:lnTo>
                        <a:pt x="38" y="25"/>
                      </a:lnTo>
                      <a:lnTo>
                        <a:pt x="42" y="23"/>
                      </a:lnTo>
                      <a:lnTo>
                        <a:pt x="63" y="47"/>
                      </a:lnTo>
                      <a:lnTo>
                        <a:pt x="67" y="41"/>
                      </a:lnTo>
                      <a:lnTo>
                        <a:pt x="71" y="34"/>
                      </a:lnTo>
                      <a:lnTo>
                        <a:pt x="73" y="25"/>
                      </a:lnTo>
                      <a:lnTo>
                        <a:pt x="77" y="16"/>
                      </a:lnTo>
                      <a:lnTo>
                        <a:pt x="79" y="7"/>
                      </a:lnTo>
                      <a:lnTo>
                        <a:pt x="81" y="2"/>
                      </a:lnTo>
                      <a:lnTo>
                        <a:pt x="85" y="0"/>
                      </a:lnTo>
                      <a:lnTo>
                        <a:pt x="87" y="2"/>
                      </a:lnTo>
                      <a:lnTo>
                        <a:pt x="91" y="11"/>
                      </a:lnTo>
                      <a:lnTo>
                        <a:pt x="94" y="27"/>
                      </a:lnTo>
                      <a:lnTo>
                        <a:pt x="94" y="27"/>
                      </a:lnTo>
                      <a:lnTo>
                        <a:pt x="92" y="25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847480" y="1621080"/>
                  <a:ext cx="15480" cy="68040"/>
                </a:xfrm>
                <a:custGeom>
                  <a:avLst/>
                  <a:gdLst/>
                  <a:ahLst/>
                  <a:rect l="l" t="t" r="r" b="b"/>
                  <a:pathLst>
                    <a:path w="23" h="84">
                      <a:moveTo>
                        <a:pt x="0" y="84"/>
                      </a:moveTo>
                      <a:lnTo>
                        <a:pt x="4" y="77"/>
                      </a:lnTo>
                      <a:lnTo>
                        <a:pt x="6" y="70"/>
                      </a:lnTo>
                      <a:lnTo>
                        <a:pt x="7" y="61"/>
                      </a:lnTo>
                      <a:lnTo>
                        <a:pt x="7" y="52"/>
                      </a:lnTo>
                      <a:lnTo>
                        <a:pt x="9" y="43"/>
                      </a:lnTo>
                      <a:lnTo>
                        <a:pt x="9" y="34"/>
                      </a:lnTo>
                      <a:lnTo>
                        <a:pt x="11" y="25"/>
                      </a:lnTo>
                      <a:lnTo>
                        <a:pt x="13" y="16"/>
                      </a:lnTo>
                      <a:lnTo>
                        <a:pt x="17" y="7"/>
                      </a:lnTo>
                      <a:lnTo>
                        <a:pt x="23" y="0"/>
                      </a:lnTo>
                      <a:lnTo>
                        <a:pt x="2" y="84"/>
                      </a:lnTo>
                      <a:lnTo>
                        <a:pt x="2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894640" y="1646280"/>
                  <a:ext cx="4320" cy="19080"/>
                </a:xfrm>
                <a:custGeom>
                  <a:avLst/>
                  <a:gdLst/>
                  <a:ahLst/>
                  <a:rect l="l" t="t" r="r" b="b"/>
                  <a:pathLst>
                    <a:path w="5" h="23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3" y="23"/>
                      </a:lnTo>
                      <a:lnTo>
                        <a:pt x="0" y="2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36840" y="1658880"/>
                  <a:ext cx="12960" cy="27000"/>
                </a:xfrm>
                <a:custGeom>
                  <a:avLst/>
                  <a:gdLst/>
                  <a:ahLst/>
                  <a:rect l="l" t="t" r="r" b="b"/>
                  <a:pathLst>
                    <a:path w="17" h="35">
                      <a:moveTo>
                        <a:pt x="12" y="35"/>
                      </a:move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4" y="8"/>
                      </a:lnTo>
                      <a:lnTo>
                        <a:pt x="6" y="11"/>
                      </a:lnTo>
                      <a:lnTo>
                        <a:pt x="10" y="15"/>
                      </a:lnTo>
                      <a:lnTo>
                        <a:pt x="14" y="18"/>
                      </a:lnTo>
                      <a:lnTo>
                        <a:pt x="15" y="20"/>
                      </a:lnTo>
                      <a:lnTo>
                        <a:pt x="17" y="24"/>
                      </a:lnTo>
                      <a:lnTo>
                        <a:pt x="17" y="27"/>
                      </a:lnTo>
                      <a:lnTo>
                        <a:pt x="15" y="31"/>
                      </a:lnTo>
                      <a:lnTo>
                        <a:pt x="12" y="35"/>
                      </a:lnTo>
                      <a:lnTo>
                        <a:pt x="12" y="3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067880" y="1739880"/>
                  <a:ext cx="5400" cy="34920"/>
                </a:xfrm>
                <a:custGeom>
                  <a:avLst/>
                  <a:gdLst/>
                  <a:ahLst/>
                  <a:rect l="l" t="t" r="r" b="b"/>
                  <a:pathLst>
                    <a:path w="7" h="43">
                      <a:moveTo>
                        <a:pt x="6" y="43"/>
                      </a:moveTo>
                      <a:lnTo>
                        <a:pt x="0" y="0"/>
                      </a:lnTo>
                      <a:lnTo>
                        <a:pt x="7" y="31"/>
                      </a:lnTo>
                      <a:lnTo>
                        <a:pt x="7" y="43"/>
                      </a:lnTo>
                      <a:lnTo>
                        <a:pt x="7" y="43"/>
                      </a:lnTo>
                      <a:lnTo>
                        <a:pt x="6" y="43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892920" y="1730520"/>
                  <a:ext cx="3960" cy="31680"/>
                </a:xfrm>
                <a:custGeom>
                  <a:avLst/>
                  <a:gdLst/>
                  <a:ahLst/>
                  <a:rect l="l" t="t" r="r" b="b"/>
                  <a:pathLst>
                    <a:path w="6" h="39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866200" y="1662120"/>
                  <a:ext cx="15840" cy="98640"/>
                </a:xfrm>
                <a:custGeom>
                  <a:avLst/>
                  <a:gdLst/>
                  <a:ahLst/>
                  <a:rect l="l" t="t" r="r" b="b"/>
                  <a:pathLst>
                    <a:path w="21" h="124">
                      <a:moveTo>
                        <a:pt x="13" y="124"/>
                      </a:moveTo>
                      <a:lnTo>
                        <a:pt x="11" y="112"/>
                      </a:lnTo>
                      <a:lnTo>
                        <a:pt x="10" y="101"/>
                      </a:lnTo>
                      <a:lnTo>
                        <a:pt x="8" y="90"/>
                      </a:lnTo>
                      <a:lnTo>
                        <a:pt x="6" y="78"/>
                      </a:lnTo>
                      <a:lnTo>
                        <a:pt x="4" y="67"/>
                      </a:lnTo>
                      <a:lnTo>
                        <a:pt x="2" y="56"/>
                      </a:lnTo>
                      <a:lnTo>
                        <a:pt x="0" y="45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0" y="7"/>
                      </a:lnTo>
                      <a:lnTo>
                        <a:pt x="15" y="0"/>
                      </a:lnTo>
                      <a:lnTo>
                        <a:pt x="19" y="11"/>
                      </a:lnTo>
                      <a:lnTo>
                        <a:pt x="21" y="23"/>
                      </a:lnTo>
                      <a:lnTo>
                        <a:pt x="21" y="38"/>
                      </a:lnTo>
                      <a:lnTo>
                        <a:pt x="21" y="52"/>
                      </a:lnTo>
                      <a:lnTo>
                        <a:pt x="19" y="67"/>
                      </a:lnTo>
                      <a:lnTo>
                        <a:pt x="19" y="79"/>
                      </a:lnTo>
                      <a:lnTo>
                        <a:pt x="17" y="94"/>
                      </a:lnTo>
                      <a:lnTo>
                        <a:pt x="15" y="106"/>
                      </a:lnTo>
                      <a:lnTo>
                        <a:pt x="13" y="115"/>
                      </a:lnTo>
                      <a:lnTo>
                        <a:pt x="13" y="124"/>
                      </a:lnTo>
                      <a:lnTo>
                        <a:pt x="13" y="12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838840" y="1662120"/>
                  <a:ext cx="5760" cy="14400"/>
                </a:xfrm>
                <a:custGeom>
                  <a:avLst/>
                  <a:gdLst/>
                  <a:ahLst/>
                  <a:rect l="l" t="t" r="r" b="b"/>
                  <a:pathLst>
                    <a:path w="8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722280" y="1747800"/>
                  <a:ext cx="39960" cy="73080"/>
                </a:xfrm>
                <a:custGeom>
                  <a:avLst/>
                  <a:gdLst/>
                  <a:ahLst/>
                  <a:rect l="l" t="t" r="r" b="b"/>
                  <a:pathLst>
                    <a:path w="56" h="92">
                      <a:moveTo>
                        <a:pt x="56" y="0"/>
                      </a:moveTo>
                      <a:lnTo>
                        <a:pt x="52" y="11"/>
                      </a:lnTo>
                      <a:lnTo>
                        <a:pt x="46" y="22"/>
                      </a:lnTo>
                      <a:lnTo>
                        <a:pt x="42" y="31"/>
                      </a:lnTo>
                      <a:lnTo>
                        <a:pt x="36" y="40"/>
                      </a:lnTo>
                      <a:lnTo>
                        <a:pt x="31" y="47"/>
                      </a:lnTo>
                      <a:lnTo>
                        <a:pt x="25" y="56"/>
                      </a:lnTo>
                      <a:lnTo>
                        <a:pt x="19" y="65"/>
                      </a:lnTo>
                      <a:lnTo>
                        <a:pt x="13" y="72"/>
                      </a:lnTo>
                      <a:lnTo>
                        <a:pt x="5" y="81"/>
                      </a:lnTo>
                      <a:lnTo>
                        <a:pt x="0" y="92"/>
                      </a:lnTo>
                      <a:lnTo>
                        <a:pt x="2" y="81"/>
                      </a:lnTo>
                      <a:lnTo>
                        <a:pt x="5" y="72"/>
                      </a:lnTo>
                      <a:lnTo>
                        <a:pt x="9" y="61"/>
                      </a:lnTo>
                      <a:lnTo>
                        <a:pt x="13" y="52"/>
                      </a:lnTo>
                      <a:lnTo>
                        <a:pt x="19" y="41"/>
                      </a:lnTo>
                      <a:lnTo>
                        <a:pt x="27" y="32"/>
                      </a:lnTo>
                      <a:lnTo>
                        <a:pt x="32" y="23"/>
                      </a:lnTo>
                      <a:lnTo>
                        <a:pt x="40" y="14"/>
                      </a:lnTo>
                      <a:lnTo>
                        <a:pt x="48" y="7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849720" y="1755720"/>
                  <a:ext cx="1440" cy="20880"/>
                </a:xfrm>
                <a:custGeom>
                  <a:avLst/>
                  <a:gdLst/>
                  <a:ahLst/>
                  <a:rect l="l" t="t" r="r" b="b"/>
                  <a:pathLst>
                    <a:path w="2" h="25">
                      <a:moveTo>
                        <a:pt x="0" y="0"/>
                      </a:moveTo>
                      <a:lnTo>
                        <a:pt x="2" y="2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983920" y="1695600"/>
                  <a:ext cx="6840" cy="90360"/>
                </a:xfrm>
                <a:custGeom>
                  <a:avLst/>
                  <a:gdLst/>
                  <a:ahLst/>
                  <a:rect l="l" t="t" r="r" b="b"/>
                  <a:pathLst>
                    <a:path w="10" h="114">
                      <a:moveTo>
                        <a:pt x="8" y="112"/>
                      </a:moveTo>
                      <a:lnTo>
                        <a:pt x="6" y="103"/>
                      </a:lnTo>
                      <a:lnTo>
                        <a:pt x="4" y="92"/>
                      </a:lnTo>
                      <a:lnTo>
                        <a:pt x="2" y="80"/>
                      </a:lnTo>
                      <a:lnTo>
                        <a:pt x="0" y="69"/>
                      </a:lnTo>
                      <a:lnTo>
                        <a:pt x="0" y="56"/>
                      </a:lnTo>
                      <a:lnTo>
                        <a:pt x="0" y="45"/>
                      </a:lnTo>
                      <a:lnTo>
                        <a:pt x="0" y="35"/>
                      </a:lnTo>
                      <a:lnTo>
                        <a:pt x="0" y="22"/>
                      </a:lnTo>
                      <a:lnTo>
                        <a:pt x="2" y="11"/>
                      </a:lnTo>
                      <a:lnTo>
                        <a:pt x="2" y="0"/>
                      </a:lnTo>
                      <a:lnTo>
                        <a:pt x="6" y="11"/>
                      </a:lnTo>
                      <a:lnTo>
                        <a:pt x="8" y="22"/>
                      </a:lnTo>
                      <a:lnTo>
                        <a:pt x="10" y="33"/>
                      </a:lnTo>
                      <a:lnTo>
                        <a:pt x="10" y="45"/>
                      </a:lnTo>
                      <a:lnTo>
                        <a:pt x="10" y="56"/>
                      </a:lnTo>
                      <a:lnTo>
                        <a:pt x="8" y="69"/>
                      </a:lnTo>
                      <a:lnTo>
                        <a:pt x="8" y="80"/>
                      </a:lnTo>
                      <a:lnTo>
                        <a:pt x="8" y="92"/>
                      </a:lnTo>
                      <a:lnTo>
                        <a:pt x="8" y="103"/>
                      </a:lnTo>
                      <a:lnTo>
                        <a:pt x="8" y="114"/>
                      </a:lnTo>
                      <a:lnTo>
                        <a:pt x="8" y="114"/>
                      </a:lnTo>
                      <a:lnTo>
                        <a:pt x="8" y="11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606000" y="1741680"/>
                  <a:ext cx="22680" cy="44280"/>
                </a:xfrm>
                <a:custGeom>
                  <a:avLst/>
                  <a:gdLst/>
                  <a:ahLst/>
                  <a:rect l="l" t="t" r="r" b="b"/>
                  <a:pathLst>
                    <a:path w="31" h="56">
                      <a:moveTo>
                        <a:pt x="19" y="56"/>
                      </a:moveTo>
                      <a:lnTo>
                        <a:pt x="19" y="52"/>
                      </a:lnTo>
                      <a:lnTo>
                        <a:pt x="17" y="49"/>
                      </a:lnTo>
                      <a:lnTo>
                        <a:pt x="15" y="43"/>
                      </a:lnTo>
                      <a:lnTo>
                        <a:pt x="13" y="40"/>
                      </a:lnTo>
                      <a:lnTo>
                        <a:pt x="11" y="34"/>
                      </a:lnTo>
                      <a:lnTo>
                        <a:pt x="10" y="29"/>
                      </a:lnTo>
                      <a:lnTo>
                        <a:pt x="8" y="23"/>
                      </a:lnTo>
                      <a:lnTo>
                        <a:pt x="4" y="18"/>
                      </a:lnTo>
                      <a:lnTo>
                        <a:pt x="2" y="14"/>
                      </a:lnTo>
                      <a:lnTo>
                        <a:pt x="0" y="9"/>
                      </a:lnTo>
                      <a:lnTo>
                        <a:pt x="8" y="0"/>
                      </a:lnTo>
                      <a:lnTo>
                        <a:pt x="10" y="5"/>
                      </a:lnTo>
                      <a:lnTo>
                        <a:pt x="13" y="13"/>
                      </a:lnTo>
                      <a:lnTo>
                        <a:pt x="17" y="18"/>
                      </a:lnTo>
                      <a:lnTo>
                        <a:pt x="21" y="23"/>
                      </a:lnTo>
                      <a:lnTo>
                        <a:pt x="25" y="29"/>
                      </a:lnTo>
                      <a:lnTo>
                        <a:pt x="29" y="34"/>
                      </a:lnTo>
                      <a:lnTo>
                        <a:pt x="31" y="40"/>
                      </a:lnTo>
                      <a:lnTo>
                        <a:pt x="29" y="45"/>
                      </a:lnTo>
                      <a:lnTo>
                        <a:pt x="27" y="50"/>
                      </a:lnTo>
                      <a:lnTo>
                        <a:pt x="19" y="56"/>
                      </a:lnTo>
                      <a:lnTo>
                        <a:pt x="19" y="56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005160" y="1712880"/>
                  <a:ext cx="126000" cy="433440"/>
                </a:xfrm>
                <a:custGeom>
                  <a:avLst/>
                  <a:gdLst/>
                  <a:ahLst/>
                  <a:rect l="l" t="t" r="r" b="b"/>
                  <a:pathLst>
                    <a:path w="177" h="546">
                      <a:moveTo>
                        <a:pt x="64" y="223"/>
                      </a:moveTo>
                      <a:lnTo>
                        <a:pt x="74" y="234"/>
                      </a:lnTo>
                      <a:lnTo>
                        <a:pt x="82" y="243"/>
                      </a:lnTo>
                      <a:lnTo>
                        <a:pt x="90" y="256"/>
                      </a:lnTo>
                      <a:lnTo>
                        <a:pt x="93" y="269"/>
                      </a:lnTo>
                      <a:lnTo>
                        <a:pt x="97" y="281"/>
                      </a:lnTo>
                      <a:lnTo>
                        <a:pt x="101" y="294"/>
                      </a:lnTo>
                      <a:lnTo>
                        <a:pt x="105" y="306"/>
                      </a:lnTo>
                      <a:lnTo>
                        <a:pt x="109" y="319"/>
                      </a:lnTo>
                      <a:lnTo>
                        <a:pt x="113" y="332"/>
                      </a:lnTo>
                      <a:lnTo>
                        <a:pt x="117" y="344"/>
                      </a:lnTo>
                      <a:lnTo>
                        <a:pt x="105" y="337"/>
                      </a:lnTo>
                      <a:lnTo>
                        <a:pt x="95" y="326"/>
                      </a:lnTo>
                      <a:lnTo>
                        <a:pt x="90" y="312"/>
                      </a:lnTo>
                      <a:lnTo>
                        <a:pt x="84" y="297"/>
                      </a:lnTo>
                      <a:lnTo>
                        <a:pt x="80" y="281"/>
                      </a:lnTo>
                      <a:lnTo>
                        <a:pt x="76" y="263"/>
                      </a:lnTo>
                      <a:lnTo>
                        <a:pt x="70" y="247"/>
                      </a:lnTo>
                      <a:lnTo>
                        <a:pt x="64" y="231"/>
                      </a:lnTo>
                      <a:lnTo>
                        <a:pt x="55" y="216"/>
                      </a:lnTo>
                      <a:lnTo>
                        <a:pt x="43" y="204"/>
                      </a:lnTo>
                      <a:lnTo>
                        <a:pt x="33" y="213"/>
                      </a:lnTo>
                      <a:lnTo>
                        <a:pt x="41" y="236"/>
                      </a:lnTo>
                      <a:lnTo>
                        <a:pt x="49" y="260"/>
                      </a:lnTo>
                      <a:lnTo>
                        <a:pt x="55" y="281"/>
                      </a:lnTo>
                      <a:lnTo>
                        <a:pt x="62" y="305"/>
                      </a:lnTo>
                      <a:lnTo>
                        <a:pt x="68" y="328"/>
                      </a:lnTo>
                      <a:lnTo>
                        <a:pt x="76" y="351"/>
                      </a:lnTo>
                      <a:lnTo>
                        <a:pt x="84" y="375"/>
                      </a:lnTo>
                      <a:lnTo>
                        <a:pt x="93" y="397"/>
                      </a:lnTo>
                      <a:lnTo>
                        <a:pt x="105" y="418"/>
                      </a:lnTo>
                      <a:lnTo>
                        <a:pt x="119" y="440"/>
                      </a:lnTo>
                      <a:lnTo>
                        <a:pt x="142" y="427"/>
                      </a:lnTo>
                      <a:lnTo>
                        <a:pt x="146" y="433"/>
                      </a:lnTo>
                      <a:lnTo>
                        <a:pt x="148" y="440"/>
                      </a:lnTo>
                      <a:lnTo>
                        <a:pt x="150" y="445"/>
                      </a:lnTo>
                      <a:lnTo>
                        <a:pt x="151" y="451"/>
                      </a:lnTo>
                      <a:lnTo>
                        <a:pt x="155" y="456"/>
                      </a:lnTo>
                      <a:lnTo>
                        <a:pt x="159" y="461"/>
                      </a:lnTo>
                      <a:lnTo>
                        <a:pt x="163" y="467"/>
                      </a:lnTo>
                      <a:lnTo>
                        <a:pt x="167" y="472"/>
                      </a:lnTo>
                      <a:lnTo>
                        <a:pt x="171" y="478"/>
                      </a:lnTo>
                      <a:lnTo>
                        <a:pt x="177" y="481"/>
                      </a:lnTo>
                      <a:lnTo>
                        <a:pt x="173" y="479"/>
                      </a:lnTo>
                      <a:lnTo>
                        <a:pt x="169" y="478"/>
                      </a:lnTo>
                      <a:lnTo>
                        <a:pt x="167" y="474"/>
                      </a:lnTo>
                      <a:lnTo>
                        <a:pt x="163" y="470"/>
                      </a:lnTo>
                      <a:lnTo>
                        <a:pt x="159" y="469"/>
                      </a:lnTo>
                      <a:lnTo>
                        <a:pt x="155" y="465"/>
                      </a:lnTo>
                      <a:lnTo>
                        <a:pt x="151" y="463"/>
                      </a:lnTo>
                      <a:lnTo>
                        <a:pt x="148" y="463"/>
                      </a:lnTo>
                      <a:lnTo>
                        <a:pt x="144" y="463"/>
                      </a:lnTo>
                      <a:lnTo>
                        <a:pt x="140" y="467"/>
                      </a:lnTo>
                      <a:lnTo>
                        <a:pt x="177" y="546"/>
                      </a:lnTo>
                      <a:lnTo>
                        <a:pt x="155" y="532"/>
                      </a:lnTo>
                      <a:lnTo>
                        <a:pt x="140" y="515"/>
                      </a:lnTo>
                      <a:lnTo>
                        <a:pt x="126" y="497"/>
                      </a:lnTo>
                      <a:lnTo>
                        <a:pt x="119" y="478"/>
                      </a:lnTo>
                      <a:lnTo>
                        <a:pt x="111" y="460"/>
                      </a:lnTo>
                      <a:lnTo>
                        <a:pt x="105" y="440"/>
                      </a:lnTo>
                      <a:lnTo>
                        <a:pt x="99" y="420"/>
                      </a:lnTo>
                      <a:lnTo>
                        <a:pt x="91" y="400"/>
                      </a:lnTo>
                      <a:lnTo>
                        <a:pt x="82" y="384"/>
                      </a:lnTo>
                      <a:lnTo>
                        <a:pt x="70" y="366"/>
                      </a:lnTo>
                      <a:lnTo>
                        <a:pt x="62" y="351"/>
                      </a:lnTo>
                      <a:lnTo>
                        <a:pt x="55" y="335"/>
                      </a:lnTo>
                      <a:lnTo>
                        <a:pt x="51" y="319"/>
                      </a:lnTo>
                      <a:lnTo>
                        <a:pt x="47" y="303"/>
                      </a:lnTo>
                      <a:lnTo>
                        <a:pt x="41" y="287"/>
                      </a:lnTo>
                      <a:lnTo>
                        <a:pt x="37" y="270"/>
                      </a:lnTo>
                      <a:lnTo>
                        <a:pt x="31" y="254"/>
                      </a:lnTo>
                      <a:lnTo>
                        <a:pt x="24" y="240"/>
                      </a:lnTo>
                      <a:lnTo>
                        <a:pt x="14" y="227"/>
                      </a:lnTo>
                      <a:lnTo>
                        <a:pt x="0" y="216"/>
                      </a:lnTo>
                      <a:lnTo>
                        <a:pt x="4" y="211"/>
                      </a:lnTo>
                      <a:lnTo>
                        <a:pt x="10" y="209"/>
                      </a:lnTo>
                      <a:lnTo>
                        <a:pt x="14" y="207"/>
                      </a:lnTo>
                      <a:lnTo>
                        <a:pt x="20" y="209"/>
                      </a:lnTo>
                      <a:lnTo>
                        <a:pt x="24" y="209"/>
                      </a:lnTo>
                      <a:lnTo>
                        <a:pt x="30" y="209"/>
                      </a:lnTo>
                      <a:lnTo>
                        <a:pt x="33" y="209"/>
                      </a:lnTo>
                      <a:lnTo>
                        <a:pt x="37" y="207"/>
                      </a:lnTo>
                      <a:lnTo>
                        <a:pt x="41" y="204"/>
                      </a:lnTo>
                      <a:lnTo>
                        <a:pt x="43" y="196"/>
                      </a:lnTo>
                      <a:lnTo>
                        <a:pt x="37" y="177"/>
                      </a:lnTo>
                      <a:lnTo>
                        <a:pt x="33" y="159"/>
                      </a:lnTo>
                      <a:lnTo>
                        <a:pt x="31" y="139"/>
                      </a:lnTo>
                      <a:lnTo>
                        <a:pt x="28" y="119"/>
                      </a:lnTo>
                      <a:lnTo>
                        <a:pt x="26" y="99"/>
                      </a:lnTo>
                      <a:lnTo>
                        <a:pt x="24" y="79"/>
                      </a:lnTo>
                      <a:lnTo>
                        <a:pt x="22" y="59"/>
                      </a:lnTo>
                      <a:lnTo>
                        <a:pt x="20" y="40"/>
                      </a:lnTo>
                      <a:lnTo>
                        <a:pt x="20" y="20"/>
                      </a:lnTo>
                      <a:lnTo>
                        <a:pt x="18" y="0"/>
                      </a:lnTo>
                      <a:lnTo>
                        <a:pt x="26" y="20"/>
                      </a:lnTo>
                      <a:lnTo>
                        <a:pt x="31" y="41"/>
                      </a:lnTo>
                      <a:lnTo>
                        <a:pt x="37" y="63"/>
                      </a:lnTo>
                      <a:lnTo>
                        <a:pt x="43" y="86"/>
                      </a:lnTo>
                      <a:lnTo>
                        <a:pt x="47" y="108"/>
                      </a:lnTo>
                      <a:lnTo>
                        <a:pt x="49" y="132"/>
                      </a:lnTo>
                      <a:lnTo>
                        <a:pt x="53" y="155"/>
                      </a:lnTo>
                      <a:lnTo>
                        <a:pt x="57" y="178"/>
                      </a:lnTo>
                      <a:lnTo>
                        <a:pt x="60" y="200"/>
                      </a:lnTo>
                      <a:lnTo>
                        <a:pt x="64" y="223"/>
                      </a:lnTo>
                      <a:lnTo>
                        <a:pt x="64" y="223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282000" y="1746360"/>
                  <a:ext cx="325440" cy="84240"/>
                </a:xfrm>
                <a:custGeom>
                  <a:avLst/>
                  <a:gdLst/>
                  <a:ahLst/>
                  <a:rect l="l" t="t" r="r" b="b"/>
                  <a:pathLst>
                    <a:path w="455" h="107">
                      <a:moveTo>
                        <a:pt x="224" y="35"/>
                      </a:moveTo>
                      <a:lnTo>
                        <a:pt x="232" y="33"/>
                      </a:lnTo>
                      <a:lnTo>
                        <a:pt x="238" y="33"/>
                      </a:lnTo>
                      <a:lnTo>
                        <a:pt x="244" y="31"/>
                      </a:lnTo>
                      <a:lnTo>
                        <a:pt x="250" y="31"/>
                      </a:lnTo>
                      <a:lnTo>
                        <a:pt x="255" y="31"/>
                      </a:lnTo>
                      <a:lnTo>
                        <a:pt x="261" y="29"/>
                      </a:lnTo>
                      <a:lnTo>
                        <a:pt x="265" y="29"/>
                      </a:lnTo>
                      <a:lnTo>
                        <a:pt x="271" y="26"/>
                      </a:lnTo>
                      <a:lnTo>
                        <a:pt x="275" y="22"/>
                      </a:lnTo>
                      <a:lnTo>
                        <a:pt x="279" y="17"/>
                      </a:lnTo>
                      <a:lnTo>
                        <a:pt x="288" y="22"/>
                      </a:lnTo>
                      <a:lnTo>
                        <a:pt x="298" y="26"/>
                      </a:lnTo>
                      <a:lnTo>
                        <a:pt x="308" y="31"/>
                      </a:lnTo>
                      <a:lnTo>
                        <a:pt x="319" y="36"/>
                      </a:lnTo>
                      <a:lnTo>
                        <a:pt x="329" y="42"/>
                      </a:lnTo>
                      <a:lnTo>
                        <a:pt x="339" y="45"/>
                      </a:lnTo>
                      <a:lnTo>
                        <a:pt x="348" y="49"/>
                      </a:lnTo>
                      <a:lnTo>
                        <a:pt x="360" y="53"/>
                      </a:lnTo>
                      <a:lnTo>
                        <a:pt x="370" y="53"/>
                      </a:lnTo>
                      <a:lnTo>
                        <a:pt x="379" y="51"/>
                      </a:lnTo>
                      <a:lnTo>
                        <a:pt x="433" y="15"/>
                      </a:lnTo>
                      <a:lnTo>
                        <a:pt x="433" y="18"/>
                      </a:lnTo>
                      <a:lnTo>
                        <a:pt x="435" y="24"/>
                      </a:lnTo>
                      <a:lnTo>
                        <a:pt x="439" y="27"/>
                      </a:lnTo>
                      <a:lnTo>
                        <a:pt x="443" y="31"/>
                      </a:lnTo>
                      <a:lnTo>
                        <a:pt x="449" y="35"/>
                      </a:lnTo>
                      <a:lnTo>
                        <a:pt x="451" y="38"/>
                      </a:lnTo>
                      <a:lnTo>
                        <a:pt x="453" y="42"/>
                      </a:lnTo>
                      <a:lnTo>
                        <a:pt x="455" y="45"/>
                      </a:lnTo>
                      <a:lnTo>
                        <a:pt x="453" y="51"/>
                      </a:lnTo>
                      <a:lnTo>
                        <a:pt x="449" y="56"/>
                      </a:lnTo>
                      <a:lnTo>
                        <a:pt x="443" y="54"/>
                      </a:lnTo>
                      <a:lnTo>
                        <a:pt x="437" y="51"/>
                      </a:lnTo>
                      <a:lnTo>
                        <a:pt x="432" y="51"/>
                      </a:lnTo>
                      <a:lnTo>
                        <a:pt x="428" y="49"/>
                      </a:lnTo>
                      <a:lnTo>
                        <a:pt x="422" y="49"/>
                      </a:lnTo>
                      <a:lnTo>
                        <a:pt x="416" y="47"/>
                      </a:lnTo>
                      <a:lnTo>
                        <a:pt x="412" y="49"/>
                      </a:lnTo>
                      <a:lnTo>
                        <a:pt x="406" y="51"/>
                      </a:lnTo>
                      <a:lnTo>
                        <a:pt x="403" y="53"/>
                      </a:lnTo>
                      <a:lnTo>
                        <a:pt x="397" y="56"/>
                      </a:lnTo>
                      <a:lnTo>
                        <a:pt x="389" y="63"/>
                      </a:lnTo>
                      <a:lnTo>
                        <a:pt x="379" y="69"/>
                      </a:lnTo>
                      <a:lnTo>
                        <a:pt x="368" y="74"/>
                      </a:lnTo>
                      <a:lnTo>
                        <a:pt x="356" y="76"/>
                      </a:lnTo>
                      <a:lnTo>
                        <a:pt x="344" y="80"/>
                      </a:lnTo>
                      <a:lnTo>
                        <a:pt x="331" y="82"/>
                      </a:lnTo>
                      <a:lnTo>
                        <a:pt x="319" y="83"/>
                      </a:lnTo>
                      <a:lnTo>
                        <a:pt x="306" y="87"/>
                      </a:lnTo>
                      <a:lnTo>
                        <a:pt x="294" y="91"/>
                      </a:lnTo>
                      <a:lnTo>
                        <a:pt x="282" y="96"/>
                      </a:lnTo>
                      <a:lnTo>
                        <a:pt x="271" y="103"/>
                      </a:lnTo>
                      <a:lnTo>
                        <a:pt x="259" y="107"/>
                      </a:lnTo>
                      <a:lnTo>
                        <a:pt x="248" y="107"/>
                      </a:lnTo>
                      <a:lnTo>
                        <a:pt x="236" y="105"/>
                      </a:lnTo>
                      <a:lnTo>
                        <a:pt x="224" y="101"/>
                      </a:lnTo>
                      <a:lnTo>
                        <a:pt x="211" y="98"/>
                      </a:lnTo>
                      <a:lnTo>
                        <a:pt x="197" y="94"/>
                      </a:lnTo>
                      <a:lnTo>
                        <a:pt x="184" y="92"/>
                      </a:lnTo>
                      <a:lnTo>
                        <a:pt x="170" y="91"/>
                      </a:lnTo>
                      <a:lnTo>
                        <a:pt x="157" y="92"/>
                      </a:lnTo>
                      <a:lnTo>
                        <a:pt x="145" y="89"/>
                      </a:lnTo>
                      <a:lnTo>
                        <a:pt x="133" y="87"/>
                      </a:lnTo>
                      <a:lnTo>
                        <a:pt x="122" y="85"/>
                      </a:lnTo>
                      <a:lnTo>
                        <a:pt x="108" y="85"/>
                      </a:lnTo>
                      <a:lnTo>
                        <a:pt x="97" y="83"/>
                      </a:lnTo>
                      <a:lnTo>
                        <a:pt x="85" y="82"/>
                      </a:lnTo>
                      <a:lnTo>
                        <a:pt x="73" y="80"/>
                      </a:lnTo>
                      <a:lnTo>
                        <a:pt x="62" y="76"/>
                      </a:lnTo>
                      <a:lnTo>
                        <a:pt x="52" y="71"/>
                      </a:lnTo>
                      <a:lnTo>
                        <a:pt x="42" y="63"/>
                      </a:lnTo>
                      <a:lnTo>
                        <a:pt x="8" y="83"/>
                      </a:lnTo>
                      <a:lnTo>
                        <a:pt x="4" y="78"/>
                      </a:lnTo>
                      <a:lnTo>
                        <a:pt x="0" y="72"/>
                      </a:lnTo>
                      <a:lnTo>
                        <a:pt x="0" y="67"/>
                      </a:lnTo>
                      <a:lnTo>
                        <a:pt x="0" y="60"/>
                      </a:lnTo>
                      <a:lnTo>
                        <a:pt x="2" y="54"/>
                      </a:lnTo>
                      <a:lnTo>
                        <a:pt x="6" y="49"/>
                      </a:lnTo>
                      <a:lnTo>
                        <a:pt x="9" y="44"/>
                      </a:lnTo>
                      <a:lnTo>
                        <a:pt x="17" y="40"/>
                      </a:lnTo>
                      <a:lnTo>
                        <a:pt x="23" y="38"/>
                      </a:lnTo>
                      <a:lnTo>
                        <a:pt x="31" y="36"/>
                      </a:lnTo>
                      <a:lnTo>
                        <a:pt x="39" y="51"/>
                      </a:lnTo>
                      <a:lnTo>
                        <a:pt x="42" y="49"/>
                      </a:lnTo>
                      <a:lnTo>
                        <a:pt x="46" y="45"/>
                      </a:lnTo>
                      <a:lnTo>
                        <a:pt x="48" y="44"/>
                      </a:lnTo>
                      <a:lnTo>
                        <a:pt x="48" y="40"/>
                      </a:lnTo>
                      <a:lnTo>
                        <a:pt x="50" y="36"/>
                      </a:lnTo>
                      <a:lnTo>
                        <a:pt x="50" y="33"/>
                      </a:lnTo>
                      <a:lnTo>
                        <a:pt x="52" y="29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4" y="26"/>
                      </a:lnTo>
                      <a:lnTo>
                        <a:pt x="60" y="31"/>
                      </a:lnTo>
                      <a:lnTo>
                        <a:pt x="60" y="38"/>
                      </a:lnTo>
                      <a:lnTo>
                        <a:pt x="62" y="44"/>
                      </a:lnTo>
                      <a:lnTo>
                        <a:pt x="64" y="49"/>
                      </a:lnTo>
                      <a:lnTo>
                        <a:pt x="68" y="54"/>
                      </a:lnTo>
                      <a:lnTo>
                        <a:pt x="73" y="58"/>
                      </a:lnTo>
                      <a:lnTo>
                        <a:pt x="79" y="62"/>
                      </a:lnTo>
                      <a:lnTo>
                        <a:pt x="85" y="65"/>
                      </a:lnTo>
                      <a:lnTo>
                        <a:pt x="91" y="69"/>
                      </a:lnTo>
                      <a:lnTo>
                        <a:pt x="99" y="71"/>
                      </a:lnTo>
                      <a:lnTo>
                        <a:pt x="110" y="67"/>
                      </a:lnTo>
                      <a:lnTo>
                        <a:pt x="124" y="62"/>
                      </a:lnTo>
                      <a:lnTo>
                        <a:pt x="137" y="58"/>
                      </a:lnTo>
                      <a:lnTo>
                        <a:pt x="151" y="53"/>
                      </a:lnTo>
                      <a:lnTo>
                        <a:pt x="162" y="45"/>
                      </a:lnTo>
                      <a:lnTo>
                        <a:pt x="174" y="38"/>
                      </a:lnTo>
                      <a:lnTo>
                        <a:pt x="186" y="31"/>
                      </a:lnTo>
                      <a:lnTo>
                        <a:pt x="195" y="22"/>
                      </a:lnTo>
                      <a:lnTo>
                        <a:pt x="203" y="11"/>
                      </a:lnTo>
                      <a:lnTo>
                        <a:pt x="211" y="0"/>
                      </a:lnTo>
                      <a:lnTo>
                        <a:pt x="213" y="4"/>
                      </a:lnTo>
                      <a:lnTo>
                        <a:pt x="215" y="8"/>
                      </a:lnTo>
                      <a:lnTo>
                        <a:pt x="217" y="11"/>
                      </a:lnTo>
                      <a:lnTo>
                        <a:pt x="217" y="15"/>
                      </a:lnTo>
                      <a:lnTo>
                        <a:pt x="217" y="18"/>
                      </a:lnTo>
                      <a:lnTo>
                        <a:pt x="217" y="22"/>
                      </a:lnTo>
                      <a:lnTo>
                        <a:pt x="217" y="26"/>
                      </a:lnTo>
                      <a:lnTo>
                        <a:pt x="219" y="29"/>
                      </a:lnTo>
                      <a:lnTo>
                        <a:pt x="221" y="33"/>
                      </a:lnTo>
                      <a:lnTo>
                        <a:pt x="224" y="36"/>
                      </a:lnTo>
                      <a:lnTo>
                        <a:pt x="224" y="36"/>
                      </a:lnTo>
                      <a:lnTo>
                        <a:pt x="224" y="35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076160" y="17985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lnTo>
                        <a:pt x="6" y="2"/>
                      </a:lnTo>
                      <a:lnTo>
                        <a:pt x="6" y="18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6920" y="1800360"/>
                  <a:ext cx="4320" cy="96840"/>
                </a:xfrm>
                <a:custGeom>
                  <a:avLst/>
                  <a:gdLst/>
                  <a:ahLst/>
                  <a:rect l="l" t="t" r="r" b="b"/>
                  <a:pathLst>
                    <a:path w="6" h="122">
                      <a:moveTo>
                        <a:pt x="2" y="0"/>
                      </a:moveTo>
                      <a:lnTo>
                        <a:pt x="6" y="13"/>
                      </a:lnTo>
                      <a:lnTo>
                        <a:pt x="6" y="25"/>
                      </a:lnTo>
                      <a:lnTo>
                        <a:pt x="6" y="36"/>
                      </a:lnTo>
                      <a:lnTo>
                        <a:pt x="6" y="49"/>
                      </a:lnTo>
                      <a:lnTo>
                        <a:pt x="6" y="61"/>
                      </a:lnTo>
                      <a:lnTo>
                        <a:pt x="4" y="74"/>
                      </a:lnTo>
                      <a:lnTo>
                        <a:pt x="2" y="85"/>
                      </a:lnTo>
                      <a:lnTo>
                        <a:pt x="2" y="97"/>
                      </a:lnTo>
                      <a:lnTo>
                        <a:pt x="0" y="11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814720" y="1733760"/>
                  <a:ext cx="9720" cy="101520"/>
                </a:xfrm>
                <a:custGeom>
                  <a:avLst/>
                  <a:gdLst/>
                  <a:ahLst/>
                  <a:rect l="l" t="t" r="r" b="b"/>
                  <a:pathLst>
                    <a:path w="16" h="130">
                      <a:moveTo>
                        <a:pt x="6" y="130"/>
                      </a:moveTo>
                      <a:lnTo>
                        <a:pt x="2" y="119"/>
                      </a:lnTo>
                      <a:lnTo>
                        <a:pt x="0" y="107"/>
                      </a:lnTo>
                      <a:lnTo>
                        <a:pt x="0" y="94"/>
                      </a:lnTo>
                      <a:lnTo>
                        <a:pt x="0" y="79"/>
                      </a:lnTo>
                      <a:lnTo>
                        <a:pt x="4" y="67"/>
                      </a:lnTo>
                      <a:lnTo>
                        <a:pt x="6" y="54"/>
                      </a:lnTo>
                      <a:lnTo>
                        <a:pt x="10" y="40"/>
                      </a:lnTo>
                      <a:lnTo>
                        <a:pt x="12" y="27"/>
                      </a:lnTo>
                      <a:lnTo>
                        <a:pt x="16" y="15"/>
                      </a:lnTo>
                      <a:lnTo>
                        <a:pt x="16" y="0"/>
                      </a:lnTo>
                      <a:lnTo>
                        <a:pt x="6" y="130"/>
                      </a:lnTo>
                      <a:lnTo>
                        <a:pt x="6" y="13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915600" y="1819440"/>
                  <a:ext cx="15840" cy="36360"/>
                </a:xfrm>
                <a:custGeom>
                  <a:avLst/>
                  <a:gdLst/>
                  <a:ahLst/>
                  <a:rect l="l" t="t" r="r" b="b"/>
                  <a:pathLst>
                    <a:path w="21" h="47">
                      <a:moveTo>
                        <a:pt x="19" y="31"/>
                      </a:move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2" y="36"/>
                      </a:lnTo>
                      <a:lnTo>
                        <a:pt x="2" y="31"/>
                      </a:lnTo>
                      <a:lnTo>
                        <a:pt x="4" y="26"/>
                      </a:lnTo>
                      <a:lnTo>
                        <a:pt x="4" y="20"/>
                      </a:lnTo>
                      <a:lnTo>
                        <a:pt x="5" y="15"/>
                      </a:lnTo>
                      <a:lnTo>
                        <a:pt x="7" y="11"/>
                      </a:lnTo>
                      <a:lnTo>
                        <a:pt x="9" y="8"/>
                      </a:lnTo>
                      <a:lnTo>
                        <a:pt x="13" y="4"/>
                      </a:lnTo>
                      <a:lnTo>
                        <a:pt x="17" y="0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1" y="9"/>
                      </a:lnTo>
                      <a:lnTo>
                        <a:pt x="21" y="13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22"/>
                      </a:lnTo>
                      <a:lnTo>
                        <a:pt x="19" y="26"/>
                      </a:lnTo>
                      <a:lnTo>
                        <a:pt x="19" y="29"/>
                      </a:lnTo>
                      <a:lnTo>
                        <a:pt x="19" y="31"/>
                      </a:lnTo>
                      <a:lnTo>
                        <a:pt x="19" y="31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970320" y="1825560"/>
                  <a:ext cx="5400" cy="27000"/>
                </a:xfrm>
                <a:custGeom>
                  <a:avLst/>
                  <a:gdLst/>
                  <a:ahLst/>
                  <a:rect l="l" t="t" r="r" b="b"/>
                  <a:pathLst>
                    <a:path w="8" h="35">
                      <a:moveTo>
                        <a:pt x="0" y="0"/>
                      </a:moveTo>
                      <a:lnTo>
                        <a:pt x="8" y="3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840280" y="1747800"/>
                  <a:ext cx="27000" cy="189000"/>
                </a:xfrm>
                <a:custGeom>
                  <a:avLst/>
                  <a:gdLst/>
                  <a:ahLst/>
                  <a:rect l="l" t="t" r="r" b="b"/>
                  <a:pathLst>
                    <a:path w="39" h="238">
                      <a:moveTo>
                        <a:pt x="8" y="27"/>
                      </a:moveTo>
                      <a:lnTo>
                        <a:pt x="27" y="20"/>
                      </a:lnTo>
                      <a:lnTo>
                        <a:pt x="29" y="42"/>
                      </a:lnTo>
                      <a:lnTo>
                        <a:pt x="33" y="63"/>
                      </a:lnTo>
                      <a:lnTo>
                        <a:pt x="35" y="85"/>
                      </a:lnTo>
                      <a:lnTo>
                        <a:pt x="37" y="107"/>
                      </a:lnTo>
                      <a:lnTo>
                        <a:pt x="39" y="128"/>
                      </a:lnTo>
                      <a:lnTo>
                        <a:pt x="39" y="152"/>
                      </a:lnTo>
                      <a:lnTo>
                        <a:pt x="39" y="173"/>
                      </a:lnTo>
                      <a:lnTo>
                        <a:pt x="39" y="195"/>
                      </a:lnTo>
                      <a:lnTo>
                        <a:pt x="37" y="217"/>
                      </a:lnTo>
                      <a:lnTo>
                        <a:pt x="35" y="238"/>
                      </a:lnTo>
                      <a:lnTo>
                        <a:pt x="12" y="54"/>
                      </a:lnTo>
                      <a:lnTo>
                        <a:pt x="6" y="49"/>
                      </a:lnTo>
                      <a:lnTo>
                        <a:pt x="4" y="45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6" y="25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8" y="2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514840" y="1735200"/>
                  <a:ext cx="27000" cy="98280"/>
                </a:xfrm>
                <a:custGeom>
                  <a:avLst/>
                  <a:gdLst/>
                  <a:ahLst/>
                  <a:rect l="l" t="t" r="r" b="b"/>
                  <a:pathLst>
                    <a:path w="39" h="122">
                      <a:moveTo>
                        <a:pt x="29" y="52"/>
                      </a:moveTo>
                      <a:lnTo>
                        <a:pt x="39" y="43"/>
                      </a:lnTo>
                      <a:lnTo>
                        <a:pt x="39" y="50"/>
                      </a:lnTo>
                      <a:lnTo>
                        <a:pt x="39" y="59"/>
                      </a:lnTo>
                      <a:lnTo>
                        <a:pt x="39" y="66"/>
                      </a:lnTo>
                      <a:lnTo>
                        <a:pt x="37" y="75"/>
                      </a:lnTo>
                      <a:lnTo>
                        <a:pt x="35" y="83"/>
                      </a:lnTo>
                      <a:lnTo>
                        <a:pt x="33" y="92"/>
                      </a:lnTo>
                      <a:lnTo>
                        <a:pt x="29" y="99"/>
                      </a:lnTo>
                      <a:lnTo>
                        <a:pt x="27" y="106"/>
                      </a:lnTo>
                      <a:lnTo>
                        <a:pt x="23" y="113"/>
                      </a:lnTo>
                      <a:lnTo>
                        <a:pt x="19" y="122"/>
                      </a:lnTo>
                      <a:lnTo>
                        <a:pt x="6" y="121"/>
                      </a:lnTo>
                      <a:lnTo>
                        <a:pt x="8" y="115"/>
                      </a:lnTo>
                      <a:lnTo>
                        <a:pt x="10" y="108"/>
                      </a:lnTo>
                      <a:lnTo>
                        <a:pt x="12" y="101"/>
                      </a:lnTo>
                      <a:lnTo>
                        <a:pt x="14" y="94"/>
                      </a:lnTo>
                      <a:lnTo>
                        <a:pt x="16" y="86"/>
                      </a:lnTo>
                      <a:lnTo>
                        <a:pt x="17" y="79"/>
                      </a:lnTo>
                      <a:lnTo>
                        <a:pt x="16" y="74"/>
                      </a:lnTo>
                      <a:lnTo>
                        <a:pt x="14" y="70"/>
                      </a:lnTo>
                      <a:lnTo>
                        <a:pt x="8" y="68"/>
                      </a:lnTo>
                      <a:lnTo>
                        <a:pt x="0" y="68"/>
                      </a:lnTo>
                      <a:lnTo>
                        <a:pt x="2" y="61"/>
                      </a:lnTo>
                      <a:lnTo>
                        <a:pt x="4" y="54"/>
                      </a:lnTo>
                      <a:lnTo>
                        <a:pt x="4" y="47"/>
                      </a:lnTo>
                      <a:lnTo>
                        <a:pt x="6" y="38"/>
                      </a:lnTo>
                      <a:lnTo>
                        <a:pt x="8" y="30"/>
                      </a:lnTo>
                      <a:lnTo>
                        <a:pt x="10" y="23"/>
                      </a:lnTo>
                      <a:lnTo>
                        <a:pt x="12" y="16"/>
                      </a:lnTo>
                      <a:lnTo>
                        <a:pt x="16" y="11"/>
                      </a:lnTo>
                      <a:lnTo>
                        <a:pt x="19" y="3"/>
                      </a:lnTo>
                      <a:lnTo>
                        <a:pt x="25" y="0"/>
                      </a:lnTo>
                      <a:lnTo>
                        <a:pt x="31" y="52"/>
                      </a:lnTo>
                      <a:lnTo>
                        <a:pt x="31" y="52"/>
                      </a:lnTo>
                      <a:lnTo>
                        <a:pt x="29" y="52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955920" y="1836720"/>
                  <a:ext cx="3960" cy="41400"/>
                </a:xfrm>
                <a:custGeom>
                  <a:avLst/>
                  <a:gdLst/>
                  <a:ahLst/>
                  <a:rect l="l" t="t" r="r" b="b"/>
                  <a:pathLst>
                    <a:path w="6" h="50">
                      <a:moveTo>
                        <a:pt x="0" y="0"/>
                      </a:moveTo>
                      <a:lnTo>
                        <a:pt x="6" y="5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35760" y="1849680"/>
                  <a:ext cx="14040" cy="50760"/>
                </a:xfrm>
                <a:custGeom>
                  <a:avLst/>
                  <a:gdLst/>
                  <a:ahLst/>
                  <a:rect l="l" t="t" r="r" b="b"/>
                  <a:pathLst>
                    <a:path w="19" h="65">
                      <a:moveTo>
                        <a:pt x="0" y="63"/>
                      </a:moveTo>
                      <a:lnTo>
                        <a:pt x="6" y="0"/>
                      </a:lnTo>
                      <a:lnTo>
                        <a:pt x="19" y="65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89240" y="1774800"/>
                  <a:ext cx="15480" cy="174600"/>
                </a:xfrm>
                <a:custGeom>
                  <a:avLst/>
                  <a:gdLst/>
                  <a:ahLst/>
                  <a:rect l="l" t="t" r="r" b="b"/>
                  <a:pathLst>
                    <a:path w="21" h="220">
                      <a:moveTo>
                        <a:pt x="0" y="0"/>
                      </a:moveTo>
                      <a:lnTo>
                        <a:pt x="21" y="22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005960" y="1863720"/>
                  <a:ext cx="5760" cy="33480"/>
                </a:xfrm>
                <a:custGeom>
                  <a:avLst/>
                  <a:gdLst/>
                  <a:ahLst/>
                  <a:rect l="l" t="t" r="r" b="b"/>
                  <a:pathLst>
                    <a:path w="7" h="43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3" y="43"/>
                      </a:lnTo>
                      <a:lnTo>
                        <a:pt x="0" y="43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400800" y="1838520"/>
                  <a:ext cx="136080" cy="61920"/>
                </a:xfrm>
                <a:custGeom>
                  <a:avLst/>
                  <a:gdLst/>
                  <a:ahLst/>
                  <a:rect l="l" t="t" r="r" b="b"/>
                  <a:pathLst>
                    <a:path w="190" h="77">
                      <a:moveTo>
                        <a:pt x="188" y="0"/>
                      </a:moveTo>
                      <a:lnTo>
                        <a:pt x="190" y="5"/>
                      </a:lnTo>
                      <a:lnTo>
                        <a:pt x="190" y="9"/>
                      </a:lnTo>
                      <a:lnTo>
                        <a:pt x="188" y="12"/>
                      </a:lnTo>
                      <a:lnTo>
                        <a:pt x="184" y="16"/>
                      </a:lnTo>
                      <a:lnTo>
                        <a:pt x="180" y="18"/>
                      </a:lnTo>
                      <a:lnTo>
                        <a:pt x="176" y="19"/>
                      </a:lnTo>
                      <a:lnTo>
                        <a:pt x="171" y="23"/>
                      </a:lnTo>
                      <a:lnTo>
                        <a:pt x="167" y="25"/>
                      </a:lnTo>
                      <a:lnTo>
                        <a:pt x="163" y="28"/>
                      </a:lnTo>
                      <a:lnTo>
                        <a:pt x="159" y="32"/>
                      </a:lnTo>
                      <a:lnTo>
                        <a:pt x="186" y="46"/>
                      </a:lnTo>
                      <a:lnTo>
                        <a:pt x="182" y="54"/>
                      </a:lnTo>
                      <a:lnTo>
                        <a:pt x="176" y="55"/>
                      </a:lnTo>
                      <a:lnTo>
                        <a:pt x="171" y="57"/>
                      </a:lnTo>
                      <a:lnTo>
                        <a:pt x="163" y="57"/>
                      </a:lnTo>
                      <a:lnTo>
                        <a:pt x="155" y="55"/>
                      </a:lnTo>
                      <a:lnTo>
                        <a:pt x="149" y="55"/>
                      </a:lnTo>
                      <a:lnTo>
                        <a:pt x="142" y="54"/>
                      </a:lnTo>
                      <a:lnTo>
                        <a:pt x="134" y="54"/>
                      </a:lnTo>
                      <a:lnTo>
                        <a:pt x="126" y="54"/>
                      </a:lnTo>
                      <a:lnTo>
                        <a:pt x="118" y="57"/>
                      </a:lnTo>
                      <a:lnTo>
                        <a:pt x="43" y="77"/>
                      </a:lnTo>
                      <a:lnTo>
                        <a:pt x="55" y="57"/>
                      </a:lnTo>
                      <a:lnTo>
                        <a:pt x="49" y="54"/>
                      </a:lnTo>
                      <a:lnTo>
                        <a:pt x="41" y="52"/>
                      </a:lnTo>
                      <a:lnTo>
                        <a:pt x="33" y="50"/>
                      </a:lnTo>
                      <a:lnTo>
                        <a:pt x="27" y="48"/>
                      </a:lnTo>
                      <a:lnTo>
                        <a:pt x="20" y="46"/>
                      </a:lnTo>
                      <a:lnTo>
                        <a:pt x="14" y="45"/>
                      </a:lnTo>
                      <a:lnTo>
                        <a:pt x="8" y="41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3"/>
                      </a:lnTo>
                      <a:lnTo>
                        <a:pt x="6" y="19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25" y="19"/>
                      </a:lnTo>
                      <a:lnTo>
                        <a:pt x="31" y="21"/>
                      </a:lnTo>
                      <a:lnTo>
                        <a:pt x="39" y="23"/>
                      </a:lnTo>
                      <a:lnTo>
                        <a:pt x="47" y="25"/>
                      </a:lnTo>
                      <a:lnTo>
                        <a:pt x="53" y="27"/>
                      </a:lnTo>
                      <a:lnTo>
                        <a:pt x="60" y="27"/>
                      </a:lnTo>
                      <a:lnTo>
                        <a:pt x="66" y="27"/>
                      </a:lnTo>
                      <a:lnTo>
                        <a:pt x="80" y="30"/>
                      </a:lnTo>
                      <a:lnTo>
                        <a:pt x="91" y="30"/>
                      </a:lnTo>
                      <a:lnTo>
                        <a:pt x="105" y="30"/>
                      </a:lnTo>
                      <a:lnTo>
                        <a:pt x="116" y="27"/>
                      </a:lnTo>
                      <a:lnTo>
                        <a:pt x="130" y="23"/>
                      </a:lnTo>
                      <a:lnTo>
                        <a:pt x="142" y="19"/>
                      </a:lnTo>
                      <a:lnTo>
                        <a:pt x="153" y="14"/>
                      </a:lnTo>
                      <a:lnTo>
                        <a:pt x="165" y="9"/>
                      </a:lnTo>
                      <a:lnTo>
                        <a:pt x="176" y="5"/>
                      </a:lnTo>
                      <a:lnTo>
                        <a:pt x="188" y="0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902640" y="1893960"/>
                  <a:ext cx="9720" cy="71280"/>
                </a:xfrm>
                <a:custGeom>
                  <a:avLst/>
                  <a:gdLst/>
                  <a:ahLst/>
                  <a:rect l="l" t="t" r="r" b="b"/>
                  <a:pathLst>
                    <a:path w="16" h="92">
                      <a:moveTo>
                        <a:pt x="16" y="0"/>
                      </a:moveTo>
                      <a:lnTo>
                        <a:pt x="0" y="92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090560" y="1913040"/>
                  <a:ext cx="3960" cy="11160"/>
                </a:xfrm>
                <a:custGeom>
                  <a:avLst/>
                  <a:gdLst/>
                  <a:ahLst/>
                  <a:rect l="l" t="t" r="r" b="b"/>
                  <a:pathLst>
                    <a:path w="5" h="15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819040" y="184968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" h="27">
                      <a:moveTo>
                        <a:pt x="0" y="27"/>
                      </a:moveTo>
                      <a:lnTo>
                        <a:pt x="0" y="0"/>
                      </a:lnTo>
                      <a:lnTo>
                        <a:pt x="2" y="13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000200" y="1935360"/>
                  <a:ext cx="6840" cy="60120"/>
                </a:xfrm>
                <a:custGeom>
                  <a:avLst/>
                  <a:gdLst/>
                  <a:ahLst/>
                  <a:rect l="l" t="t" r="r" b="b"/>
                  <a:pathLst>
                    <a:path w="9" h="78">
                      <a:moveTo>
                        <a:pt x="4" y="0"/>
                      </a:moveTo>
                      <a:lnTo>
                        <a:pt x="9" y="0"/>
                      </a:lnTo>
                      <a:lnTo>
                        <a:pt x="4" y="78"/>
                      </a:lnTo>
                      <a:lnTo>
                        <a:pt x="0" y="78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526360" y="1833480"/>
                  <a:ext cx="18360" cy="367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4" y="45"/>
                      </a:moveTo>
                      <a:lnTo>
                        <a:pt x="2" y="42"/>
                      </a:lnTo>
                      <a:lnTo>
                        <a:pt x="0" y="38"/>
                      </a:lnTo>
                      <a:lnTo>
                        <a:pt x="2" y="33"/>
                      </a:lnTo>
                      <a:lnTo>
                        <a:pt x="4" y="29"/>
                      </a:lnTo>
                      <a:lnTo>
                        <a:pt x="8" y="24"/>
                      </a:lnTo>
                      <a:lnTo>
                        <a:pt x="12" y="20"/>
                      </a:lnTo>
                      <a:lnTo>
                        <a:pt x="16" y="15"/>
                      </a:lnTo>
                      <a:lnTo>
                        <a:pt x="20" y="11"/>
                      </a:lnTo>
                      <a:lnTo>
                        <a:pt x="24" y="6"/>
                      </a:lnTo>
                      <a:lnTo>
                        <a:pt x="26" y="0"/>
                      </a:lnTo>
                      <a:lnTo>
                        <a:pt x="26" y="6"/>
                      </a:lnTo>
                      <a:lnTo>
                        <a:pt x="26" y="9"/>
                      </a:lnTo>
                      <a:lnTo>
                        <a:pt x="26" y="15"/>
                      </a:lnTo>
                      <a:lnTo>
                        <a:pt x="24" y="20"/>
                      </a:lnTo>
                      <a:lnTo>
                        <a:pt x="22" y="24"/>
                      </a:lnTo>
                      <a:lnTo>
                        <a:pt x="18" y="29"/>
                      </a:lnTo>
                      <a:lnTo>
                        <a:pt x="16" y="35"/>
                      </a:lnTo>
                      <a:lnTo>
                        <a:pt x="12" y="38"/>
                      </a:lnTo>
                      <a:lnTo>
                        <a:pt x="8" y="44"/>
                      </a:lnTo>
                      <a:lnTo>
                        <a:pt x="4" y="47"/>
                      </a:lnTo>
                      <a:lnTo>
                        <a:pt x="4" y="47"/>
                      </a:lnTo>
                      <a:lnTo>
                        <a:pt x="4" y="45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41520" y="1947960"/>
                  <a:ext cx="35640" cy="119160"/>
                </a:xfrm>
                <a:custGeom>
                  <a:avLst/>
                  <a:gdLst/>
                  <a:ahLst/>
                  <a:rect l="l" t="t" r="r" b="b"/>
                  <a:pathLst>
                    <a:path w="50" h="151">
                      <a:moveTo>
                        <a:pt x="0" y="151"/>
                      </a:moveTo>
                      <a:lnTo>
                        <a:pt x="3" y="135"/>
                      </a:lnTo>
                      <a:lnTo>
                        <a:pt x="9" y="120"/>
                      </a:lnTo>
                      <a:lnTo>
                        <a:pt x="13" y="104"/>
                      </a:lnTo>
                      <a:lnTo>
                        <a:pt x="15" y="88"/>
                      </a:lnTo>
                      <a:lnTo>
                        <a:pt x="19" y="73"/>
                      </a:lnTo>
                      <a:lnTo>
                        <a:pt x="25" y="57"/>
                      </a:lnTo>
                      <a:lnTo>
                        <a:pt x="29" y="43"/>
                      </a:lnTo>
                      <a:lnTo>
                        <a:pt x="34" y="27"/>
                      </a:lnTo>
                      <a:lnTo>
                        <a:pt x="42" y="12"/>
                      </a:lnTo>
                      <a:lnTo>
                        <a:pt x="50" y="0"/>
                      </a:lnTo>
                      <a:lnTo>
                        <a:pt x="48" y="16"/>
                      </a:lnTo>
                      <a:lnTo>
                        <a:pt x="44" y="32"/>
                      </a:lnTo>
                      <a:lnTo>
                        <a:pt x="42" y="48"/>
                      </a:lnTo>
                      <a:lnTo>
                        <a:pt x="38" y="64"/>
                      </a:lnTo>
                      <a:lnTo>
                        <a:pt x="34" y="79"/>
                      </a:lnTo>
                      <a:lnTo>
                        <a:pt x="30" y="95"/>
                      </a:lnTo>
                      <a:lnTo>
                        <a:pt x="25" y="110"/>
                      </a:lnTo>
                      <a:lnTo>
                        <a:pt x="19" y="124"/>
                      </a:lnTo>
                      <a:lnTo>
                        <a:pt x="9" y="138"/>
                      </a:lnTo>
                      <a:lnTo>
                        <a:pt x="0" y="151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984720" y="1947960"/>
                  <a:ext cx="5400" cy="30240"/>
                </a:xfrm>
                <a:custGeom>
                  <a:avLst/>
                  <a:gdLst/>
                  <a:ahLst/>
                  <a:rect l="l" t="t" r="r" b="b"/>
                  <a:pathLst>
                    <a:path w="7" h="37">
                      <a:moveTo>
                        <a:pt x="7" y="0"/>
                      </a:moveTo>
                      <a:lnTo>
                        <a:pt x="0" y="3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882840" y="1951200"/>
                  <a:ext cx="64080" cy="203040"/>
                </a:xfrm>
                <a:custGeom>
                  <a:avLst/>
                  <a:gdLst/>
                  <a:ahLst/>
                  <a:rect l="l" t="t" r="r" b="b"/>
                  <a:pathLst>
                    <a:path w="89" h="254">
                      <a:moveTo>
                        <a:pt x="35" y="204"/>
                      </a:moveTo>
                      <a:lnTo>
                        <a:pt x="45" y="214"/>
                      </a:lnTo>
                      <a:lnTo>
                        <a:pt x="41" y="218"/>
                      </a:lnTo>
                      <a:lnTo>
                        <a:pt x="37" y="224"/>
                      </a:lnTo>
                      <a:lnTo>
                        <a:pt x="33" y="227"/>
                      </a:lnTo>
                      <a:lnTo>
                        <a:pt x="29" y="231"/>
                      </a:lnTo>
                      <a:lnTo>
                        <a:pt x="23" y="234"/>
                      </a:lnTo>
                      <a:lnTo>
                        <a:pt x="20" y="240"/>
                      </a:lnTo>
                      <a:lnTo>
                        <a:pt x="14" y="243"/>
                      </a:lnTo>
                      <a:lnTo>
                        <a:pt x="8" y="247"/>
                      </a:lnTo>
                      <a:lnTo>
                        <a:pt x="4" y="251"/>
                      </a:lnTo>
                      <a:lnTo>
                        <a:pt x="0" y="254"/>
                      </a:lnTo>
                      <a:lnTo>
                        <a:pt x="10" y="245"/>
                      </a:lnTo>
                      <a:lnTo>
                        <a:pt x="18" y="234"/>
                      </a:lnTo>
                      <a:lnTo>
                        <a:pt x="21" y="222"/>
                      </a:lnTo>
                      <a:lnTo>
                        <a:pt x="25" y="211"/>
                      </a:lnTo>
                      <a:lnTo>
                        <a:pt x="29" y="198"/>
                      </a:lnTo>
                      <a:lnTo>
                        <a:pt x="31" y="187"/>
                      </a:lnTo>
                      <a:lnTo>
                        <a:pt x="33" y="175"/>
                      </a:lnTo>
                      <a:lnTo>
                        <a:pt x="37" y="164"/>
                      </a:lnTo>
                      <a:lnTo>
                        <a:pt x="43" y="151"/>
                      </a:lnTo>
                      <a:lnTo>
                        <a:pt x="51" y="141"/>
                      </a:lnTo>
                      <a:lnTo>
                        <a:pt x="89" y="0"/>
                      </a:lnTo>
                      <a:lnTo>
                        <a:pt x="85" y="22"/>
                      </a:lnTo>
                      <a:lnTo>
                        <a:pt x="80" y="41"/>
                      </a:lnTo>
                      <a:lnTo>
                        <a:pt x="76" y="61"/>
                      </a:lnTo>
                      <a:lnTo>
                        <a:pt x="70" y="83"/>
                      </a:lnTo>
                      <a:lnTo>
                        <a:pt x="64" y="103"/>
                      </a:lnTo>
                      <a:lnTo>
                        <a:pt x="58" y="123"/>
                      </a:lnTo>
                      <a:lnTo>
                        <a:pt x="52" y="142"/>
                      </a:lnTo>
                      <a:lnTo>
                        <a:pt x="47" y="164"/>
                      </a:lnTo>
                      <a:lnTo>
                        <a:pt x="41" y="184"/>
                      </a:lnTo>
                      <a:lnTo>
                        <a:pt x="37" y="205"/>
                      </a:lnTo>
                      <a:lnTo>
                        <a:pt x="37" y="205"/>
                      </a:lnTo>
                      <a:lnTo>
                        <a:pt x="35" y="204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834520" y="1876320"/>
                  <a:ext cx="19800" cy="78120"/>
                </a:xfrm>
                <a:custGeom>
                  <a:avLst/>
                  <a:gdLst/>
                  <a:ahLst/>
                  <a:rect l="l" t="t" r="r" b="b"/>
                  <a:pathLst>
                    <a:path w="27" h="100">
                      <a:moveTo>
                        <a:pt x="27" y="83"/>
                      </a:moveTo>
                      <a:lnTo>
                        <a:pt x="25" y="83"/>
                      </a:lnTo>
                      <a:lnTo>
                        <a:pt x="24" y="83"/>
                      </a:lnTo>
                      <a:lnTo>
                        <a:pt x="22" y="83"/>
                      </a:lnTo>
                      <a:lnTo>
                        <a:pt x="20" y="83"/>
                      </a:lnTo>
                      <a:lnTo>
                        <a:pt x="18" y="83"/>
                      </a:lnTo>
                      <a:lnTo>
                        <a:pt x="16" y="85"/>
                      </a:lnTo>
                      <a:lnTo>
                        <a:pt x="16" y="87"/>
                      </a:lnTo>
                      <a:lnTo>
                        <a:pt x="14" y="87"/>
                      </a:lnTo>
                      <a:lnTo>
                        <a:pt x="12" y="89"/>
                      </a:lnTo>
                      <a:lnTo>
                        <a:pt x="10" y="91"/>
                      </a:lnTo>
                      <a:lnTo>
                        <a:pt x="10" y="100"/>
                      </a:lnTo>
                      <a:lnTo>
                        <a:pt x="6" y="87"/>
                      </a:lnTo>
                      <a:lnTo>
                        <a:pt x="4" y="76"/>
                      </a:lnTo>
                      <a:lnTo>
                        <a:pt x="2" y="67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2" y="29"/>
                      </a:lnTo>
                      <a:lnTo>
                        <a:pt x="4" y="20"/>
                      </a:lnTo>
                      <a:lnTo>
                        <a:pt x="10" y="11"/>
                      </a:lnTo>
                      <a:lnTo>
                        <a:pt x="16" y="0"/>
                      </a:lnTo>
                      <a:lnTo>
                        <a:pt x="27" y="83"/>
                      </a:lnTo>
                      <a:lnTo>
                        <a:pt x="27" y="83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299920" y="1843200"/>
                  <a:ext cx="48600" cy="79200"/>
                </a:xfrm>
                <a:custGeom>
                  <a:avLst/>
                  <a:gdLst/>
                  <a:ahLst/>
                  <a:rect l="l" t="t" r="r" b="b"/>
                  <a:pathLst>
                    <a:path w="68" h="101">
                      <a:moveTo>
                        <a:pt x="66" y="99"/>
                      </a:moveTo>
                      <a:lnTo>
                        <a:pt x="0" y="0"/>
                      </a:lnTo>
                      <a:lnTo>
                        <a:pt x="68" y="83"/>
                      </a:lnTo>
                      <a:lnTo>
                        <a:pt x="66" y="101"/>
                      </a:lnTo>
                      <a:lnTo>
                        <a:pt x="66" y="101"/>
                      </a:lnTo>
                      <a:lnTo>
                        <a:pt x="66" y="9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050600" y="197172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15"/>
                      </a:moveTo>
                      <a:lnTo>
                        <a:pt x="4" y="24"/>
                      </a:lnTo>
                      <a:lnTo>
                        <a:pt x="0" y="22"/>
                      </a:lnTo>
                      <a:lnTo>
                        <a:pt x="2" y="0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8" y="9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086880" y="1913040"/>
                  <a:ext cx="96120" cy="210960"/>
                </a:xfrm>
                <a:custGeom>
                  <a:avLst/>
                  <a:gdLst/>
                  <a:ahLst/>
                  <a:rect l="l" t="t" r="r" b="b"/>
                  <a:pathLst>
                    <a:path w="133" h="265">
                      <a:moveTo>
                        <a:pt x="133" y="265"/>
                      </a:moveTo>
                      <a:lnTo>
                        <a:pt x="129" y="260"/>
                      </a:lnTo>
                      <a:lnTo>
                        <a:pt x="124" y="254"/>
                      </a:lnTo>
                      <a:lnTo>
                        <a:pt x="118" y="247"/>
                      </a:lnTo>
                      <a:lnTo>
                        <a:pt x="112" y="238"/>
                      </a:lnTo>
                      <a:lnTo>
                        <a:pt x="104" y="229"/>
                      </a:lnTo>
                      <a:lnTo>
                        <a:pt x="95" y="220"/>
                      </a:lnTo>
                      <a:lnTo>
                        <a:pt x="87" y="211"/>
                      </a:lnTo>
                      <a:lnTo>
                        <a:pt x="77" y="202"/>
                      </a:lnTo>
                      <a:lnTo>
                        <a:pt x="69" y="191"/>
                      </a:lnTo>
                      <a:lnTo>
                        <a:pt x="60" y="182"/>
                      </a:lnTo>
                      <a:lnTo>
                        <a:pt x="58" y="164"/>
                      </a:lnTo>
                      <a:lnTo>
                        <a:pt x="52" y="145"/>
                      </a:lnTo>
                      <a:lnTo>
                        <a:pt x="44" y="128"/>
                      </a:lnTo>
                      <a:lnTo>
                        <a:pt x="36" y="110"/>
                      </a:lnTo>
                      <a:lnTo>
                        <a:pt x="27" y="92"/>
                      </a:lnTo>
                      <a:lnTo>
                        <a:pt x="19" y="76"/>
                      </a:lnTo>
                      <a:lnTo>
                        <a:pt x="11" y="58"/>
                      </a:lnTo>
                      <a:lnTo>
                        <a:pt x="6" y="40"/>
                      </a:lnTo>
                      <a:lnTo>
                        <a:pt x="2" y="20"/>
                      </a:lnTo>
                      <a:lnTo>
                        <a:pt x="0" y="0"/>
                      </a:lnTo>
                      <a:lnTo>
                        <a:pt x="11" y="27"/>
                      </a:lnTo>
                      <a:lnTo>
                        <a:pt x="23" y="54"/>
                      </a:lnTo>
                      <a:lnTo>
                        <a:pt x="33" y="83"/>
                      </a:lnTo>
                      <a:lnTo>
                        <a:pt x="42" y="110"/>
                      </a:lnTo>
                      <a:lnTo>
                        <a:pt x="54" y="139"/>
                      </a:lnTo>
                      <a:lnTo>
                        <a:pt x="66" y="166"/>
                      </a:lnTo>
                      <a:lnTo>
                        <a:pt x="79" y="193"/>
                      </a:lnTo>
                      <a:lnTo>
                        <a:pt x="93" y="218"/>
                      </a:lnTo>
                      <a:lnTo>
                        <a:pt x="112" y="242"/>
                      </a:lnTo>
                      <a:lnTo>
                        <a:pt x="133" y="265"/>
                      </a:lnTo>
                      <a:lnTo>
                        <a:pt x="133" y="26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994000" y="1913040"/>
                  <a:ext cx="18360" cy="68400"/>
                </a:xfrm>
                <a:custGeom>
                  <a:avLst/>
                  <a:gdLst/>
                  <a:ahLst/>
                  <a:rect l="l" t="t" r="r" b="b"/>
                  <a:pathLst>
                    <a:path w="27" h="85">
                      <a:moveTo>
                        <a:pt x="0" y="0"/>
                      </a:moveTo>
                      <a:lnTo>
                        <a:pt x="27" y="8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882040" y="1911240"/>
                  <a:ext cx="5400" cy="25560"/>
                </a:xfrm>
                <a:custGeom>
                  <a:avLst/>
                  <a:gdLst/>
                  <a:ahLst/>
                  <a:rect l="l" t="t" r="r" b="b"/>
                  <a:pathLst>
                    <a:path w="8" h="33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6" y="33"/>
                      </a:lnTo>
                      <a:lnTo>
                        <a:pt x="0" y="3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044840" y="2000160"/>
                  <a:ext cx="48600" cy="98640"/>
                </a:xfrm>
                <a:custGeom>
                  <a:avLst/>
                  <a:gdLst/>
                  <a:ahLst/>
                  <a:rect l="l" t="t" r="r" b="b"/>
                  <a:pathLst>
                    <a:path w="67" h="125">
                      <a:moveTo>
                        <a:pt x="0" y="125"/>
                      </a:moveTo>
                      <a:lnTo>
                        <a:pt x="67" y="0"/>
                      </a:lnTo>
                      <a:lnTo>
                        <a:pt x="15" y="114"/>
                      </a:lnTo>
                      <a:lnTo>
                        <a:pt x="2" y="125"/>
                      </a:lnTo>
                      <a:lnTo>
                        <a:pt x="2" y="125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12360" y="1924200"/>
                  <a:ext cx="41400" cy="135000"/>
                </a:xfrm>
                <a:custGeom>
                  <a:avLst/>
                  <a:gdLst/>
                  <a:ahLst/>
                  <a:rect l="l" t="t" r="r" b="b"/>
                  <a:pathLst>
                    <a:path w="58" h="169">
                      <a:moveTo>
                        <a:pt x="56" y="169"/>
                      </a:moveTo>
                      <a:lnTo>
                        <a:pt x="49" y="155"/>
                      </a:lnTo>
                      <a:lnTo>
                        <a:pt x="41" y="137"/>
                      </a:lnTo>
                      <a:lnTo>
                        <a:pt x="35" y="120"/>
                      </a:lnTo>
                      <a:lnTo>
                        <a:pt x="31" y="104"/>
                      </a:lnTo>
                      <a:lnTo>
                        <a:pt x="25" y="86"/>
                      </a:lnTo>
                      <a:lnTo>
                        <a:pt x="21" y="68"/>
                      </a:lnTo>
                      <a:lnTo>
                        <a:pt x="18" y="52"/>
                      </a:lnTo>
                      <a:lnTo>
                        <a:pt x="12" y="34"/>
                      </a:lnTo>
                      <a:lnTo>
                        <a:pt x="8" y="18"/>
                      </a:lnTo>
                      <a:lnTo>
                        <a:pt x="0" y="0"/>
                      </a:lnTo>
                      <a:lnTo>
                        <a:pt x="6" y="18"/>
                      </a:lnTo>
                      <a:lnTo>
                        <a:pt x="12" y="34"/>
                      </a:lnTo>
                      <a:lnTo>
                        <a:pt x="18" y="50"/>
                      </a:lnTo>
                      <a:lnTo>
                        <a:pt x="23" y="68"/>
                      </a:lnTo>
                      <a:lnTo>
                        <a:pt x="29" y="84"/>
                      </a:lnTo>
                      <a:lnTo>
                        <a:pt x="37" y="101"/>
                      </a:lnTo>
                      <a:lnTo>
                        <a:pt x="43" y="119"/>
                      </a:lnTo>
                      <a:lnTo>
                        <a:pt x="49" y="135"/>
                      </a:lnTo>
                      <a:lnTo>
                        <a:pt x="52" y="153"/>
                      </a:lnTo>
                      <a:lnTo>
                        <a:pt x="58" y="169"/>
                      </a:lnTo>
                      <a:lnTo>
                        <a:pt x="58" y="169"/>
                      </a:lnTo>
                      <a:lnTo>
                        <a:pt x="56" y="169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979600" y="1925640"/>
                  <a:ext cx="39960" cy="141480"/>
                </a:xfrm>
                <a:custGeom>
                  <a:avLst/>
                  <a:gdLst/>
                  <a:ahLst/>
                  <a:rect l="l" t="t" r="r" b="b"/>
                  <a:pathLst>
                    <a:path w="56" h="178">
                      <a:moveTo>
                        <a:pt x="0" y="0"/>
                      </a:moveTo>
                      <a:lnTo>
                        <a:pt x="56" y="17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727240" y="1916280"/>
                  <a:ext cx="9720" cy="61920"/>
                </a:xfrm>
                <a:custGeom>
                  <a:avLst/>
                  <a:gdLst/>
                  <a:ahLst/>
                  <a:rect l="l" t="t" r="r" b="b"/>
                  <a:pathLst>
                    <a:path w="16" h="77">
                      <a:moveTo>
                        <a:pt x="12" y="77"/>
                      </a:moveTo>
                      <a:lnTo>
                        <a:pt x="0" y="0"/>
                      </a:lnTo>
                      <a:lnTo>
                        <a:pt x="6" y="5"/>
                      </a:lnTo>
                      <a:lnTo>
                        <a:pt x="10" y="11"/>
                      </a:lnTo>
                      <a:lnTo>
                        <a:pt x="12" y="18"/>
                      </a:lnTo>
                      <a:lnTo>
                        <a:pt x="14" y="27"/>
                      </a:lnTo>
                      <a:lnTo>
                        <a:pt x="16" y="34"/>
                      </a:lnTo>
                      <a:lnTo>
                        <a:pt x="16" y="43"/>
                      </a:lnTo>
                      <a:lnTo>
                        <a:pt x="16" y="52"/>
                      </a:lnTo>
                      <a:lnTo>
                        <a:pt x="14" y="61"/>
                      </a:lnTo>
                      <a:lnTo>
                        <a:pt x="14" y="68"/>
                      </a:lnTo>
                      <a:lnTo>
                        <a:pt x="12" y="77"/>
                      </a:lnTo>
                      <a:lnTo>
                        <a:pt x="12" y="7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963120" y="2006640"/>
                  <a:ext cx="22680" cy="60480"/>
                </a:xfrm>
                <a:custGeom>
                  <a:avLst/>
                  <a:gdLst/>
                  <a:ahLst/>
                  <a:rect l="l" t="t" r="r" b="b"/>
                  <a:pathLst>
                    <a:path w="31" h="76">
                      <a:moveTo>
                        <a:pt x="2" y="76"/>
                      </a:moveTo>
                      <a:lnTo>
                        <a:pt x="0" y="71"/>
                      </a:lnTo>
                      <a:lnTo>
                        <a:pt x="2" y="64"/>
                      </a:lnTo>
                      <a:lnTo>
                        <a:pt x="4" y="56"/>
                      </a:lnTo>
                      <a:lnTo>
                        <a:pt x="8" y="49"/>
                      </a:lnTo>
                      <a:lnTo>
                        <a:pt x="12" y="42"/>
                      </a:lnTo>
                      <a:lnTo>
                        <a:pt x="18" y="33"/>
                      </a:lnTo>
                      <a:lnTo>
                        <a:pt x="22" y="26"/>
                      </a:lnTo>
                      <a:lnTo>
                        <a:pt x="26" y="17"/>
                      </a:lnTo>
                      <a:lnTo>
                        <a:pt x="30" y="9"/>
                      </a:lnTo>
                      <a:lnTo>
                        <a:pt x="31" y="0"/>
                      </a:lnTo>
                      <a:lnTo>
                        <a:pt x="31" y="9"/>
                      </a:lnTo>
                      <a:lnTo>
                        <a:pt x="31" y="18"/>
                      </a:lnTo>
                      <a:lnTo>
                        <a:pt x="28" y="26"/>
                      </a:lnTo>
                      <a:lnTo>
                        <a:pt x="26" y="33"/>
                      </a:lnTo>
                      <a:lnTo>
                        <a:pt x="22" y="40"/>
                      </a:lnTo>
                      <a:lnTo>
                        <a:pt x="18" y="47"/>
                      </a:lnTo>
                      <a:lnTo>
                        <a:pt x="12" y="55"/>
                      </a:lnTo>
                      <a:lnTo>
                        <a:pt x="8" y="62"/>
                      </a:lnTo>
                      <a:lnTo>
                        <a:pt x="6" y="69"/>
                      </a:lnTo>
                      <a:lnTo>
                        <a:pt x="2" y="76"/>
                      </a:lnTo>
                      <a:lnTo>
                        <a:pt x="2" y="76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079040" y="2014560"/>
                  <a:ext cx="28440" cy="61920"/>
                </a:xfrm>
                <a:custGeom>
                  <a:avLst/>
                  <a:gdLst/>
                  <a:ahLst/>
                  <a:rect l="l" t="t" r="r" b="b"/>
                  <a:pathLst>
                    <a:path w="41" h="78">
                      <a:moveTo>
                        <a:pt x="33" y="69"/>
                      </a:moveTo>
                      <a:lnTo>
                        <a:pt x="23" y="78"/>
                      </a:lnTo>
                      <a:lnTo>
                        <a:pt x="23" y="76"/>
                      </a:lnTo>
                      <a:lnTo>
                        <a:pt x="23" y="74"/>
                      </a:lnTo>
                      <a:lnTo>
                        <a:pt x="23" y="72"/>
                      </a:lnTo>
                      <a:lnTo>
                        <a:pt x="23" y="71"/>
                      </a:lnTo>
                      <a:lnTo>
                        <a:pt x="23" y="71"/>
                      </a:lnTo>
                      <a:lnTo>
                        <a:pt x="23" y="69"/>
                      </a:lnTo>
                      <a:lnTo>
                        <a:pt x="21" y="67"/>
                      </a:lnTo>
                      <a:lnTo>
                        <a:pt x="21" y="67"/>
                      </a:lnTo>
                      <a:lnTo>
                        <a:pt x="20" y="65"/>
                      </a:lnTo>
                      <a:lnTo>
                        <a:pt x="18" y="65"/>
                      </a:lnTo>
                      <a:lnTo>
                        <a:pt x="16" y="63"/>
                      </a:lnTo>
                      <a:lnTo>
                        <a:pt x="14" y="63"/>
                      </a:lnTo>
                      <a:lnTo>
                        <a:pt x="12" y="63"/>
                      </a:lnTo>
                      <a:lnTo>
                        <a:pt x="10" y="63"/>
                      </a:lnTo>
                      <a:lnTo>
                        <a:pt x="8" y="65"/>
                      </a:lnTo>
                      <a:lnTo>
                        <a:pt x="8" y="65"/>
                      </a:lnTo>
                      <a:lnTo>
                        <a:pt x="6" y="67"/>
                      </a:lnTo>
                      <a:lnTo>
                        <a:pt x="4" y="69"/>
                      </a:lnTo>
                      <a:lnTo>
                        <a:pt x="2" y="69"/>
                      </a:lnTo>
                      <a:lnTo>
                        <a:pt x="0" y="71"/>
                      </a:lnTo>
                      <a:lnTo>
                        <a:pt x="33" y="0"/>
                      </a:lnTo>
                      <a:lnTo>
                        <a:pt x="37" y="6"/>
                      </a:lnTo>
                      <a:lnTo>
                        <a:pt x="39" y="13"/>
                      </a:lnTo>
                      <a:lnTo>
                        <a:pt x="41" y="18"/>
                      </a:lnTo>
                      <a:lnTo>
                        <a:pt x="41" y="26"/>
                      </a:lnTo>
                      <a:lnTo>
                        <a:pt x="41" y="35"/>
                      </a:lnTo>
                      <a:lnTo>
                        <a:pt x="41" y="42"/>
                      </a:lnTo>
                      <a:lnTo>
                        <a:pt x="39" y="49"/>
                      </a:lnTo>
                      <a:lnTo>
                        <a:pt x="37" y="56"/>
                      </a:lnTo>
                      <a:lnTo>
                        <a:pt x="35" y="63"/>
                      </a:lnTo>
                      <a:lnTo>
                        <a:pt x="33" y="69"/>
                      </a:lnTo>
                      <a:lnTo>
                        <a:pt x="33" y="69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383080" y="1908360"/>
                  <a:ext cx="2880" cy="17280"/>
                </a:xfrm>
                <a:custGeom>
                  <a:avLst/>
                  <a:gdLst/>
                  <a:ahLst/>
                  <a:rect l="l" t="t" r="r" b="b"/>
                  <a:pathLst>
                    <a:path w="6" h="24">
                      <a:moveTo>
                        <a:pt x="4" y="22"/>
                      </a:moveTo>
                      <a:lnTo>
                        <a:pt x="0" y="0"/>
                      </a:lnTo>
                      <a:lnTo>
                        <a:pt x="6" y="2"/>
                      </a:lnTo>
                      <a:lnTo>
                        <a:pt x="4" y="24"/>
                      </a:lnTo>
                      <a:lnTo>
                        <a:pt x="4" y="24"/>
                      </a:lnTo>
                      <a:lnTo>
                        <a:pt x="4" y="22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857560" y="1959120"/>
                  <a:ext cx="58680" cy="176040"/>
                </a:xfrm>
                <a:custGeom>
                  <a:avLst/>
                  <a:gdLst/>
                  <a:ahLst/>
                  <a:rect l="l" t="t" r="r" b="b"/>
                  <a:pathLst>
                    <a:path w="84" h="222">
                      <a:moveTo>
                        <a:pt x="82" y="200"/>
                      </a:moveTo>
                      <a:lnTo>
                        <a:pt x="80" y="195"/>
                      </a:lnTo>
                      <a:lnTo>
                        <a:pt x="72" y="222"/>
                      </a:lnTo>
                      <a:lnTo>
                        <a:pt x="68" y="202"/>
                      </a:lnTo>
                      <a:lnTo>
                        <a:pt x="60" y="180"/>
                      </a:lnTo>
                      <a:lnTo>
                        <a:pt x="53" y="159"/>
                      </a:lnTo>
                      <a:lnTo>
                        <a:pt x="43" y="137"/>
                      </a:lnTo>
                      <a:lnTo>
                        <a:pt x="33" y="115"/>
                      </a:lnTo>
                      <a:lnTo>
                        <a:pt x="24" y="94"/>
                      </a:lnTo>
                      <a:lnTo>
                        <a:pt x="16" y="70"/>
                      </a:lnTo>
                      <a:lnTo>
                        <a:pt x="8" y="47"/>
                      </a:lnTo>
                      <a:lnTo>
                        <a:pt x="2" y="25"/>
                      </a:lnTo>
                      <a:lnTo>
                        <a:pt x="0" y="0"/>
                      </a:lnTo>
                      <a:lnTo>
                        <a:pt x="8" y="22"/>
                      </a:lnTo>
                      <a:lnTo>
                        <a:pt x="16" y="41"/>
                      </a:lnTo>
                      <a:lnTo>
                        <a:pt x="24" y="61"/>
                      </a:lnTo>
                      <a:lnTo>
                        <a:pt x="33" y="79"/>
                      </a:lnTo>
                      <a:lnTo>
                        <a:pt x="41" y="99"/>
                      </a:lnTo>
                      <a:lnTo>
                        <a:pt x="51" y="119"/>
                      </a:lnTo>
                      <a:lnTo>
                        <a:pt x="58" y="139"/>
                      </a:lnTo>
                      <a:lnTo>
                        <a:pt x="66" y="159"/>
                      </a:lnTo>
                      <a:lnTo>
                        <a:pt x="76" y="180"/>
                      </a:lnTo>
                      <a:lnTo>
                        <a:pt x="84" y="202"/>
                      </a:lnTo>
                      <a:lnTo>
                        <a:pt x="84" y="202"/>
                      </a:lnTo>
                      <a:lnTo>
                        <a:pt x="82" y="20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390280" y="1928880"/>
                  <a:ext cx="14040" cy="31680"/>
                </a:xfrm>
                <a:custGeom>
                  <a:avLst/>
                  <a:gdLst/>
                  <a:ahLst/>
                  <a:rect l="l" t="t" r="r" b="b"/>
                  <a:pathLst>
                    <a:path w="19" h="40">
                      <a:moveTo>
                        <a:pt x="11" y="40"/>
                      </a:moveTo>
                      <a:lnTo>
                        <a:pt x="9" y="40"/>
                      </a:lnTo>
                      <a:lnTo>
                        <a:pt x="7" y="40"/>
                      </a:lnTo>
                      <a:lnTo>
                        <a:pt x="7" y="40"/>
                      </a:lnTo>
                      <a:lnTo>
                        <a:pt x="6" y="38"/>
                      </a:lnTo>
                      <a:lnTo>
                        <a:pt x="4" y="38"/>
                      </a:lnTo>
                      <a:lnTo>
                        <a:pt x="4" y="36"/>
                      </a:lnTo>
                      <a:lnTo>
                        <a:pt x="2" y="34"/>
                      </a:lnTo>
                      <a:lnTo>
                        <a:pt x="2" y="33"/>
                      </a:lnTo>
                      <a:lnTo>
                        <a:pt x="0" y="33"/>
                      </a:lnTo>
                      <a:lnTo>
                        <a:pt x="0" y="31"/>
                      </a:lnTo>
                      <a:lnTo>
                        <a:pt x="6" y="0"/>
                      </a:lnTo>
                      <a:lnTo>
                        <a:pt x="9" y="2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17" y="15"/>
                      </a:lnTo>
                      <a:lnTo>
                        <a:pt x="17" y="18"/>
                      </a:lnTo>
                      <a:lnTo>
                        <a:pt x="19" y="24"/>
                      </a:lnTo>
                      <a:lnTo>
                        <a:pt x="17" y="27"/>
                      </a:lnTo>
                      <a:lnTo>
                        <a:pt x="17" y="33"/>
                      </a:lnTo>
                      <a:lnTo>
                        <a:pt x="15" y="36"/>
                      </a:lnTo>
                      <a:lnTo>
                        <a:pt x="11" y="40"/>
                      </a:lnTo>
                      <a:lnTo>
                        <a:pt x="11" y="4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851160" y="2038320"/>
                  <a:ext cx="18360" cy="38160"/>
                </a:xfrm>
                <a:custGeom>
                  <a:avLst/>
                  <a:gdLst/>
                  <a:ahLst/>
                  <a:rect l="l" t="t" r="r" b="b"/>
                  <a:pathLst>
                    <a:path w="27" h="49">
                      <a:moveTo>
                        <a:pt x="0" y="47"/>
                      </a:moveTo>
                      <a:lnTo>
                        <a:pt x="0" y="45"/>
                      </a:lnTo>
                      <a:lnTo>
                        <a:pt x="0" y="42"/>
                      </a:lnTo>
                      <a:lnTo>
                        <a:pt x="2" y="36"/>
                      </a:lnTo>
                      <a:lnTo>
                        <a:pt x="4" y="31"/>
                      </a:lnTo>
                      <a:lnTo>
                        <a:pt x="5" y="25"/>
                      </a:lnTo>
                      <a:lnTo>
                        <a:pt x="9" y="20"/>
                      </a:lnTo>
                      <a:lnTo>
                        <a:pt x="13" y="15"/>
                      </a:lnTo>
                      <a:lnTo>
                        <a:pt x="17" y="11"/>
                      </a:lnTo>
                      <a:lnTo>
                        <a:pt x="23" y="6"/>
                      </a:lnTo>
                      <a:lnTo>
                        <a:pt x="27" y="0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977800" y="1984320"/>
                  <a:ext cx="5760" cy="1908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0" y="0"/>
                      </a:moveTo>
                      <a:lnTo>
                        <a:pt x="7" y="2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905520" y="2057400"/>
                  <a:ext cx="86040" cy="104760"/>
                </a:xfrm>
                <a:custGeom>
                  <a:avLst/>
                  <a:gdLst/>
                  <a:ahLst/>
                  <a:rect l="l" t="t" r="r" b="b"/>
                  <a:pathLst>
                    <a:path w="120" h="132">
                      <a:moveTo>
                        <a:pt x="41" y="128"/>
                      </a:moveTo>
                      <a:lnTo>
                        <a:pt x="39" y="132"/>
                      </a:lnTo>
                      <a:lnTo>
                        <a:pt x="35" y="132"/>
                      </a:lnTo>
                      <a:lnTo>
                        <a:pt x="29" y="132"/>
                      </a:lnTo>
                      <a:lnTo>
                        <a:pt x="25" y="132"/>
                      </a:lnTo>
                      <a:lnTo>
                        <a:pt x="21" y="132"/>
                      </a:lnTo>
                      <a:lnTo>
                        <a:pt x="18" y="132"/>
                      </a:lnTo>
                      <a:lnTo>
                        <a:pt x="14" y="132"/>
                      </a:lnTo>
                      <a:lnTo>
                        <a:pt x="10" y="132"/>
                      </a:lnTo>
                      <a:lnTo>
                        <a:pt x="4" y="132"/>
                      </a:lnTo>
                      <a:lnTo>
                        <a:pt x="0" y="130"/>
                      </a:lnTo>
                      <a:lnTo>
                        <a:pt x="25" y="107"/>
                      </a:lnTo>
                      <a:lnTo>
                        <a:pt x="35" y="118"/>
                      </a:lnTo>
                      <a:lnTo>
                        <a:pt x="47" y="109"/>
                      </a:lnTo>
                      <a:lnTo>
                        <a:pt x="58" y="98"/>
                      </a:lnTo>
                      <a:lnTo>
                        <a:pt x="66" y="87"/>
                      </a:lnTo>
                      <a:lnTo>
                        <a:pt x="74" y="76"/>
                      </a:lnTo>
                      <a:lnTo>
                        <a:pt x="81" y="63"/>
                      </a:lnTo>
                      <a:lnTo>
                        <a:pt x="87" y="51"/>
                      </a:lnTo>
                      <a:lnTo>
                        <a:pt x="93" y="38"/>
                      </a:lnTo>
                      <a:lnTo>
                        <a:pt x="99" y="26"/>
                      </a:lnTo>
                      <a:lnTo>
                        <a:pt x="107" y="13"/>
                      </a:lnTo>
                      <a:lnTo>
                        <a:pt x="114" y="0"/>
                      </a:lnTo>
                      <a:lnTo>
                        <a:pt x="120" y="15"/>
                      </a:lnTo>
                      <a:lnTo>
                        <a:pt x="120" y="29"/>
                      </a:lnTo>
                      <a:lnTo>
                        <a:pt x="116" y="44"/>
                      </a:lnTo>
                      <a:lnTo>
                        <a:pt x="109" y="56"/>
                      </a:lnTo>
                      <a:lnTo>
                        <a:pt x="99" y="69"/>
                      </a:lnTo>
                      <a:lnTo>
                        <a:pt x="85" y="81"/>
                      </a:lnTo>
                      <a:lnTo>
                        <a:pt x="74" y="94"/>
                      </a:lnTo>
                      <a:lnTo>
                        <a:pt x="60" y="107"/>
                      </a:lnTo>
                      <a:lnTo>
                        <a:pt x="51" y="118"/>
                      </a:lnTo>
                      <a:lnTo>
                        <a:pt x="41" y="130"/>
                      </a:lnTo>
                      <a:lnTo>
                        <a:pt x="41" y="130"/>
                      </a:lnTo>
                      <a:lnTo>
                        <a:pt x="41" y="128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409000" y="1954440"/>
                  <a:ext cx="3960" cy="17280"/>
                </a:xfrm>
                <a:custGeom>
                  <a:avLst/>
                  <a:gdLst/>
                  <a:ahLst/>
                  <a:rect l="l" t="t" r="r" b="b"/>
                  <a:pathLst>
                    <a:path w="6" h="21">
                      <a:moveTo>
                        <a:pt x="4" y="0"/>
                      </a:moveTo>
                      <a:lnTo>
                        <a:pt x="0" y="2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606000" y="2051280"/>
                  <a:ext cx="31320" cy="23760"/>
                </a:xfrm>
                <a:custGeom>
                  <a:avLst/>
                  <a:gdLst/>
                  <a:ahLst/>
                  <a:rect l="l" t="t" r="r" b="b"/>
                  <a:pathLst>
                    <a:path w="42" h="31">
                      <a:moveTo>
                        <a:pt x="0" y="31"/>
                      </a:moveTo>
                      <a:lnTo>
                        <a:pt x="41" y="0"/>
                      </a:lnTo>
                      <a:lnTo>
                        <a:pt x="42" y="8"/>
                      </a:lnTo>
                      <a:lnTo>
                        <a:pt x="41" y="13"/>
                      </a:lnTo>
                      <a:lnTo>
                        <a:pt x="37" y="15"/>
                      </a:lnTo>
                      <a:lnTo>
                        <a:pt x="31" y="17"/>
                      </a:lnTo>
                      <a:lnTo>
                        <a:pt x="27" y="18"/>
                      </a:lnTo>
                      <a:lnTo>
                        <a:pt x="19" y="18"/>
                      </a:lnTo>
                      <a:lnTo>
                        <a:pt x="13" y="20"/>
                      </a:lnTo>
                      <a:lnTo>
                        <a:pt x="8" y="22"/>
                      </a:lnTo>
                      <a:lnTo>
                        <a:pt x="4" y="26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416200" y="1967040"/>
                  <a:ext cx="11160" cy="30240"/>
                </a:xfrm>
                <a:custGeom>
                  <a:avLst/>
                  <a:gdLst/>
                  <a:ahLst/>
                  <a:rect l="l" t="t" r="r" b="b"/>
                  <a:pathLst>
                    <a:path w="17" h="38">
                      <a:moveTo>
                        <a:pt x="11" y="30"/>
                      </a:moveTo>
                      <a:lnTo>
                        <a:pt x="11" y="38"/>
                      </a:lnTo>
                      <a:lnTo>
                        <a:pt x="3" y="34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3" y="14"/>
                      </a:lnTo>
                      <a:lnTo>
                        <a:pt x="5" y="11"/>
                      </a:lnTo>
                      <a:lnTo>
                        <a:pt x="5" y="5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9" y="7"/>
                      </a:lnTo>
                      <a:lnTo>
                        <a:pt x="11" y="11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7" y="20"/>
                      </a:lnTo>
                      <a:lnTo>
                        <a:pt x="17" y="23"/>
                      </a:lnTo>
                      <a:lnTo>
                        <a:pt x="15" y="27"/>
                      </a:lnTo>
                      <a:lnTo>
                        <a:pt x="13" y="29"/>
                      </a:lnTo>
                      <a:lnTo>
                        <a:pt x="11" y="32"/>
                      </a:lnTo>
                      <a:lnTo>
                        <a:pt x="11" y="32"/>
                      </a:lnTo>
                      <a:lnTo>
                        <a:pt x="11" y="3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869880" y="2073240"/>
                  <a:ext cx="3960" cy="11160"/>
                </a:xfrm>
                <a:custGeom>
                  <a:avLst/>
                  <a:gdLst/>
                  <a:ahLst/>
                  <a:rect l="l" t="t" r="r" b="b"/>
                  <a:pathLst>
                    <a:path w="6" h="15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4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847480" y="2003400"/>
                  <a:ext cx="42840" cy="112680"/>
                </a:xfrm>
                <a:custGeom>
                  <a:avLst/>
                  <a:gdLst/>
                  <a:ahLst/>
                  <a:rect l="l" t="t" r="r" b="b"/>
                  <a:pathLst>
                    <a:path w="60" h="142">
                      <a:moveTo>
                        <a:pt x="58" y="142"/>
                      </a:moveTo>
                      <a:lnTo>
                        <a:pt x="50" y="131"/>
                      </a:lnTo>
                      <a:lnTo>
                        <a:pt x="42" y="121"/>
                      </a:lnTo>
                      <a:lnTo>
                        <a:pt x="37" y="106"/>
                      </a:lnTo>
                      <a:lnTo>
                        <a:pt x="31" y="92"/>
                      </a:lnTo>
                      <a:lnTo>
                        <a:pt x="25" y="77"/>
                      </a:lnTo>
                      <a:lnTo>
                        <a:pt x="21" y="61"/>
                      </a:lnTo>
                      <a:lnTo>
                        <a:pt x="15" y="45"/>
                      </a:lnTo>
                      <a:lnTo>
                        <a:pt x="11" y="31"/>
                      </a:lnTo>
                      <a:lnTo>
                        <a:pt x="6" y="14"/>
                      </a:lnTo>
                      <a:lnTo>
                        <a:pt x="0" y="0"/>
                      </a:lnTo>
                      <a:lnTo>
                        <a:pt x="60" y="142"/>
                      </a:lnTo>
                      <a:lnTo>
                        <a:pt x="60" y="142"/>
                      </a:lnTo>
                      <a:lnTo>
                        <a:pt x="58" y="142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904720" y="2017800"/>
                  <a:ext cx="33120" cy="85680"/>
                </a:xfrm>
                <a:custGeom>
                  <a:avLst/>
                  <a:gdLst/>
                  <a:ahLst/>
                  <a:rect l="l" t="t" r="r" b="b"/>
                  <a:pathLst>
                    <a:path w="47" h="108">
                      <a:moveTo>
                        <a:pt x="45" y="106"/>
                      </a:moveTo>
                      <a:lnTo>
                        <a:pt x="37" y="101"/>
                      </a:lnTo>
                      <a:lnTo>
                        <a:pt x="29" y="94"/>
                      </a:lnTo>
                      <a:lnTo>
                        <a:pt x="23" y="83"/>
                      </a:lnTo>
                      <a:lnTo>
                        <a:pt x="18" y="74"/>
                      </a:lnTo>
                      <a:lnTo>
                        <a:pt x="12" y="61"/>
                      </a:lnTo>
                      <a:lnTo>
                        <a:pt x="8" y="50"/>
                      </a:lnTo>
                      <a:lnTo>
                        <a:pt x="6" y="38"/>
                      </a:lnTo>
                      <a:lnTo>
                        <a:pt x="2" y="25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6" y="9"/>
                      </a:lnTo>
                      <a:lnTo>
                        <a:pt x="12" y="20"/>
                      </a:lnTo>
                      <a:lnTo>
                        <a:pt x="16" y="31"/>
                      </a:lnTo>
                      <a:lnTo>
                        <a:pt x="19" y="41"/>
                      </a:lnTo>
                      <a:lnTo>
                        <a:pt x="23" y="52"/>
                      </a:lnTo>
                      <a:lnTo>
                        <a:pt x="27" y="65"/>
                      </a:lnTo>
                      <a:lnTo>
                        <a:pt x="31" y="76"/>
                      </a:lnTo>
                      <a:lnTo>
                        <a:pt x="35" y="86"/>
                      </a:lnTo>
                      <a:lnTo>
                        <a:pt x="41" y="97"/>
                      </a:lnTo>
                      <a:lnTo>
                        <a:pt x="47" y="108"/>
                      </a:lnTo>
                      <a:lnTo>
                        <a:pt x="47" y="108"/>
                      </a:lnTo>
                      <a:lnTo>
                        <a:pt x="45" y="106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975720" y="2111400"/>
                  <a:ext cx="23040" cy="2844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0" y="36"/>
                      </a:moveTo>
                      <a:lnTo>
                        <a:pt x="33" y="0"/>
                      </a:lnTo>
                      <a:lnTo>
                        <a:pt x="12" y="27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09000" y="2009880"/>
                  <a:ext cx="5400" cy="14400"/>
                </a:xfrm>
                <a:custGeom>
                  <a:avLst/>
                  <a:gdLst/>
                  <a:ahLst/>
                  <a:rect l="l" t="t" r="r" b="b"/>
                  <a:pathLst>
                    <a:path w="8" h="18">
                      <a:moveTo>
                        <a:pt x="0" y="0"/>
                      </a:moveTo>
                      <a:lnTo>
                        <a:pt x="8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996880" y="2052720"/>
                  <a:ext cx="28440" cy="84240"/>
                </a:xfrm>
                <a:custGeom>
                  <a:avLst/>
                  <a:gdLst/>
                  <a:ahLst/>
                  <a:rect l="l" t="t" r="r" b="b"/>
                  <a:pathLst>
                    <a:path w="39" h="107">
                      <a:moveTo>
                        <a:pt x="35" y="107"/>
                      </a:moveTo>
                      <a:lnTo>
                        <a:pt x="0" y="0"/>
                      </a:lnTo>
                      <a:lnTo>
                        <a:pt x="39" y="101"/>
                      </a:lnTo>
                      <a:lnTo>
                        <a:pt x="35" y="107"/>
                      </a:lnTo>
                      <a:lnTo>
                        <a:pt x="35" y="107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451840" y="2016360"/>
                  <a:ext cx="24120" cy="48960"/>
                </a:xfrm>
                <a:custGeom>
                  <a:avLst/>
                  <a:gdLst/>
                  <a:ahLst/>
                  <a:rect l="l" t="t" r="r" b="b"/>
                  <a:pathLst>
                    <a:path w="35" h="61">
                      <a:moveTo>
                        <a:pt x="33" y="61"/>
                      </a:moveTo>
                      <a:lnTo>
                        <a:pt x="31" y="58"/>
                      </a:lnTo>
                      <a:lnTo>
                        <a:pt x="25" y="54"/>
                      </a:lnTo>
                      <a:lnTo>
                        <a:pt x="19" y="49"/>
                      </a:lnTo>
                      <a:lnTo>
                        <a:pt x="15" y="43"/>
                      </a:lnTo>
                      <a:lnTo>
                        <a:pt x="10" y="36"/>
                      </a:lnTo>
                      <a:lnTo>
                        <a:pt x="6" y="31"/>
                      </a:lnTo>
                      <a:lnTo>
                        <a:pt x="2" y="24"/>
                      </a:lnTo>
                      <a:lnTo>
                        <a:pt x="0" y="16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35" y="61"/>
                      </a:lnTo>
                      <a:lnTo>
                        <a:pt x="35" y="61"/>
                      </a:lnTo>
                      <a:lnTo>
                        <a:pt x="33" y="6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937840" y="2057400"/>
                  <a:ext cx="50040" cy="93600"/>
                </a:xfrm>
                <a:custGeom>
                  <a:avLst/>
                  <a:gdLst/>
                  <a:ahLst/>
                  <a:rect l="l" t="t" r="r" b="b"/>
                  <a:pathLst>
                    <a:path w="69" h="118">
                      <a:moveTo>
                        <a:pt x="69" y="118"/>
                      </a:moveTo>
                      <a:lnTo>
                        <a:pt x="60" y="107"/>
                      </a:lnTo>
                      <a:lnTo>
                        <a:pt x="52" y="96"/>
                      </a:lnTo>
                      <a:lnTo>
                        <a:pt x="42" y="85"/>
                      </a:lnTo>
                      <a:lnTo>
                        <a:pt x="34" y="74"/>
                      </a:lnTo>
                      <a:lnTo>
                        <a:pt x="27" y="62"/>
                      </a:lnTo>
                      <a:lnTo>
                        <a:pt x="19" y="51"/>
                      </a:lnTo>
                      <a:lnTo>
                        <a:pt x="13" y="38"/>
                      </a:lnTo>
                      <a:lnTo>
                        <a:pt x="7" y="26"/>
                      </a:lnTo>
                      <a:lnTo>
                        <a:pt x="3" y="13"/>
                      </a:lnTo>
                      <a:lnTo>
                        <a:pt x="0" y="0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23" y="35"/>
                      </a:lnTo>
                      <a:lnTo>
                        <a:pt x="31" y="47"/>
                      </a:lnTo>
                      <a:lnTo>
                        <a:pt x="38" y="58"/>
                      </a:lnTo>
                      <a:lnTo>
                        <a:pt x="46" y="71"/>
                      </a:lnTo>
                      <a:lnTo>
                        <a:pt x="52" y="83"/>
                      </a:lnTo>
                      <a:lnTo>
                        <a:pt x="60" y="94"/>
                      </a:lnTo>
                      <a:lnTo>
                        <a:pt x="65" y="107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637680" y="2114640"/>
                  <a:ext cx="5400" cy="25200"/>
                </a:xfrm>
                <a:custGeom>
                  <a:avLst/>
                  <a:gdLst/>
                  <a:ahLst/>
                  <a:rect l="l" t="t" r="r" b="b"/>
                  <a:pathLst>
                    <a:path w="8" h="31">
                      <a:moveTo>
                        <a:pt x="4" y="31"/>
                      </a:moveTo>
                      <a:lnTo>
                        <a:pt x="0" y="0"/>
                      </a:lnTo>
                      <a:lnTo>
                        <a:pt x="8" y="19"/>
                      </a:lnTo>
                      <a:lnTo>
                        <a:pt x="4" y="31"/>
                      </a:lnTo>
                      <a:lnTo>
                        <a:pt x="4" y="31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754240" y="2060640"/>
                  <a:ext cx="12960" cy="47520"/>
                </a:xfrm>
                <a:custGeom>
                  <a:avLst/>
                  <a:gdLst/>
                  <a:ahLst/>
                  <a:rect l="l" t="t" r="r" b="b"/>
                  <a:pathLst>
                    <a:path w="17" h="59">
                      <a:moveTo>
                        <a:pt x="14" y="59"/>
                      </a:moveTo>
                      <a:lnTo>
                        <a:pt x="8" y="54"/>
                      </a:lnTo>
                      <a:lnTo>
                        <a:pt x="2" y="50"/>
                      </a:lnTo>
                      <a:lnTo>
                        <a:pt x="0" y="45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2" y="20"/>
                      </a:lnTo>
                      <a:lnTo>
                        <a:pt x="2" y="13"/>
                      </a:lnTo>
                      <a:lnTo>
                        <a:pt x="4" y="7"/>
                      </a:lnTo>
                      <a:lnTo>
                        <a:pt x="2" y="0"/>
                      </a:lnTo>
                      <a:lnTo>
                        <a:pt x="6" y="5"/>
                      </a:lnTo>
                      <a:lnTo>
                        <a:pt x="8" y="11"/>
                      </a:lnTo>
                      <a:lnTo>
                        <a:pt x="10" y="16"/>
                      </a:lnTo>
                      <a:lnTo>
                        <a:pt x="14" y="22"/>
                      </a:lnTo>
                      <a:lnTo>
                        <a:pt x="15" y="29"/>
                      </a:lnTo>
                      <a:lnTo>
                        <a:pt x="15" y="34"/>
                      </a:lnTo>
                      <a:lnTo>
                        <a:pt x="17" y="41"/>
                      </a:lnTo>
                      <a:lnTo>
                        <a:pt x="17" y="47"/>
                      </a:lnTo>
                      <a:lnTo>
                        <a:pt x="15" y="54"/>
                      </a:lnTo>
                      <a:lnTo>
                        <a:pt x="14" y="59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458040" y="2125800"/>
                  <a:ext cx="151920" cy="187200"/>
                </a:xfrm>
                <a:custGeom>
                  <a:avLst/>
                  <a:gdLst/>
                  <a:ahLst/>
                  <a:rect l="l" t="t" r="r" b="b"/>
                  <a:pathLst>
                    <a:path w="213" h="234">
                      <a:moveTo>
                        <a:pt x="100" y="92"/>
                      </a:moveTo>
                      <a:lnTo>
                        <a:pt x="114" y="90"/>
                      </a:lnTo>
                      <a:lnTo>
                        <a:pt x="126" y="85"/>
                      </a:lnTo>
                      <a:lnTo>
                        <a:pt x="135" y="79"/>
                      </a:lnTo>
                      <a:lnTo>
                        <a:pt x="145" y="70"/>
                      </a:lnTo>
                      <a:lnTo>
                        <a:pt x="155" y="63"/>
                      </a:lnTo>
                      <a:lnTo>
                        <a:pt x="162" y="54"/>
                      </a:lnTo>
                      <a:lnTo>
                        <a:pt x="172" y="45"/>
                      </a:lnTo>
                      <a:lnTo>
                        <a:pt x="182" y="36"/>
                      </a:lnTo>
                      <a:lnTo>
                        <a:pt x="193" y="29"/>
                      </a:lnTo>
                      <a:lnTo>
                        <a:pt x="207" y="22"/>
                      </a:lnTo>
                      <a:lnTo>
                        <a:pt x="211" y="38"/>
                      </a:lnTo>
                      <a:lnTo>
                        <a:pt x="213" y="56"/>
                      </a:lnTo>
                      <a:lnTo>
                        <a:pt x="211" y="74"/>
                      </a:lnTo>
                      <a:lnTo>
                        <a:pt x="209" y="90"/>
                      </a:lnTo>
                      <a:lnTo>
                        <a:pt x="207" y="108"/>
                      </a:lnTo>
                      <a:lnTo>
                        <a:pt x="203" y="126"/>
                      </a:lnTo>
                      <a:lnTo>
                        <a:pt x="201" y="146"/>
                      </a:lnTo>
                      <a:lnTo>
                        <a:pt x="201" y="164"/>
                      </a:lnTo>
                      <a:lnTo>
                        <a:pt x="203" y="182"/>
                      </a:lnTo>
                      <a:lnTo>
                        <a:pt x="207" y="200"/>
                      </a:lnTo>
                      <a:lnTo>
                        <a:pt x="187" y="207"/>
                      </a:lnTo>
                      <a:lnTo>
                        <a:pt x="168" y="216"/>
                      </a:lnTo>
                      <a:lnTo>
                        <a:pt x="147" y="222"/>
                      </a:lnTo>
                      <a:lnTo>
                        <a:pt x="126" y="227"/>
                      </a:lnTo>
                      <a:lnTo>
                        <a:pt x="104" y="231"/>
                      </a:lnTo>
                      <a:lnTo>
                        <a:pt x="83" y="234"/>
                      </a:lnTo>
                      <a:lnTo>
                        <a:pt x="62" y="234"/>
                      </a:lnTo>
                      <a:lnTo>
                        <a:pt x="40" y="231"/>
                      </a:lnTo>
                      <a:lnTo>
                        <a:pt x="19" y="227"/>
                      </a:lnTo>
                      <a:lnTo>
                        <a:pt x="0" y="220"/>
                      </a:lnTo>
                      <a:lnTo>
                        <a:pt x="38" y="88"/>
                      </a:lnTo>
                      <a:lnTo>
                        <a:pt x="52" y="83"/>
                      </a:lnTo>
                      <a:lnTo>
                        <a:pt x="66" y="77"/>
                      </a:lnTo>
                      <a:lnTo>
                        <a:pt x="79" y="74"/>
                      </a:lnTo>
                      <a:lnTo>
                        <a:pt x="95" y="68"/>
                      </a:lnTo>
                      <a:lnTo>
                        <a:pt x="108" y="63"/>
                      </a:lnTo>
                      <a:lnTo>
                        <a:pt x="122" y="58"/>
                      </a:lnTo>
                      <a:lnTo>
                        <a:pt x="135" y="52"/>
                      </a:lnTo>
                      <a:lnTo>
                        <a:pt x="149" y="45"/>
                      </a:lnTo>
                      <a:lnTo>
                        <a:pt x="160" y="38"/>
                      </a:lnTo>
                      <a:lnTo>
                        <a:pt x="172" y="29"/>
                      </a:lnTo>
                      <a:lnTo>
                        <a:pt x="135" y="34"/>
                      </a:lnTo>
                      <a:lnTo>
                        <a:pt x="203" y="0"/>
                      </a:lnTo>
                      <a:lnTo>
                        <a:pt x="197" y="11"/>
                      </a:lnTo>
                      <a:lnTo>
                        <a:pt x="187" y="20"/>
                      </a:lnTo>
                      <a:lnTo>
                        <a:pt x="178" y="27"/>
                      </a:lnTo>
                      <a:lnTo>
                        <a:pt x="166" y="36"/>
                      </a:lnTo>
                      <a:lnTo>
                        <a:pt x="155" y="45"/>
                      </a:lnTo>
                      <a:lnTo>
                        <a:pt x="143" y="52"/>
                      </a:lnTo>
                      <a:lnTo>
                        <a:pt x="131" y="61"/>
                      </a:lnTo>
                      <a:lnTo>
                        <a:pt x="120" y="72"/>
                      </a:lnTo>
                      <a:lnTo>
                        <a:pt x="110" y="81"/>
                      </a:lnTo>
                      <a:lnTo>
                        <a:pt x="102" y="94"/>
                      </a:lnTo>
                      <a:lnTo>
                        <a:pt x="102" y="94"/>
                      </a:lnTo>
                      <a:lnTo>
                        <a:pt x="100" y="92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614640" y="2127240"/>
                  <a:ext cx="15840" cy="93600"/>
                </a:xfrm>
                <a:custGeom>
                  <a:avLst/>
                  <a:gdLst/>
                  <a:ahLst/>
                  <a:rect l="l" t="t" r="r" b="b"/>
                  <a:pathLst>
                    <a:path w="22" h="117">
                      <a:moveTo>
                        <a:pt x="4" y="117"/>
                      </a:moveTo>
                      <a:lnTo>
                        <a:pt x="4" y="104"/>
                      </a:lnTo>
                      <a:lnTo>
                        <a:pt x="4" y="93"/>
                      </a:lnTo>
                      <a:lnTo>
                        <a:pt x="2" y="81"/>
                      </a:lnTo>
                      <a:lnTo>
                        <a:pt x="0" y="70"/>
                      </a:lnTo>
                      <a:lnTo>
                        <a:pt x="0" y="57"/>
                      </a:lnTo>
                      <a:lnTo>
                        <a:pt x="0" y="47"/>
                      </a:lnTo>
                      <a:lnTo>
                        <a:pt x="2" y="36"/>
                      </a:lnTo>
                      <a:lnTo>
                        <a:pt x="4" y="23"/>
                      </a:lnTo>
                      <a:lnTo>
                        <a:pt x="8" y="12"/>
                      </a:lnTo>
                      <a:lnTo>
                        <a:pt x="12" y="0"/>
                      </a:lnTo>
                      <a:lnTo>
                        <a:pt x="14" y="11"/>
                      </a:lnTo>
                      <a:lnTo>
                        <a:pt x="16" y="23"/>
                      </a:lnTo>
                      <a:lnTo>
                        <a:pt x="18" y="36"/>
                      </a:lnTo>
                      <a:lnTo>
                        <a:pt x="20" y="48"/>
                      </a:lnTo>
                      <a:lnTo>
                        <a:pt x="22" y="59"/>
                      </a:lnTo>
                      <a:lnTo>
                        <a:pt x="22" y="72"/>
                      </a:lnTo>
                      <a:lnTo>
                        <a:pt x="20" y="84"/>
                      </a:lnTo>
                      <a:lnTo>
                        <a:pt x="16" y="95"/>
                      </a:lnTo>
                      <a:lnTo>
                        <a:pt x="12" y="106"/>
                      </a:lnTo>
                      <a:lnTo>
                        <a:pt x="4" y="117"/>
                      </a:lnTo>
                      <a:lnTo>
                        <a:pt x="4" y="117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52080" y="2139840"/>
                  <a:ext cx="2880" cy="25560"/>
                </a:xfrm>
                <a:custGeom>
                  <a:avLst/>
                  <a:gdLst/>
                  <a:ahLst/>
                  <a:rect l="l" t="t" r="r" b="b"/>
                  <a:pathLst>
                    <a:path w="4" h="31">
                      <a:moveTo>
                        <a:pt x="2" y="29"/>
                      </a:move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2" y="29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069600" y="2102040"/>
                  <a:ext cx="75960" cy="87120"/>
                </a:xfrm>
                <a:custGeom>
                  <a:avLst/>
                  <a:gdLst/>
                  <a:ahLst/>
                  <a:rect l="l" t="t" r="r" b="b"/>
                  <a:pathLst>
                    <a:path w="106" h="110">
                      <a:moveTo>
                        <a:pt x="104" y="110"/>
                      </a:moveTo>
                      <a:lnTo>
                        <a:pt x="92" y="103"/>
                      </a:lnTo>
                      <a:lnTo>
                        <a:pt x="77" y="96"/>
                      </a:lnTo>
                      <a:lnTo>
                        <a:pt x="60" y="87"/>
                      </a:lnTo>
                      <a:lnTo>
                        <a:pt x="44" y="78"/>
                      </a:lnTo>
                      <a:lnTo>
                        <a:pt x="29" y="69"/>
                      </a:lnTo>
                      <a:lnTo>
                        <a:pt x="15" y="56"/>
                      </a:lnTo>
                      <a:lnTo>
                        <a:pt x="5" y="45"/>
                      </a:lnTo>
                      <a:lnTo>
                        <a:pt x="0" y="31"/>
                      </a:lnTo>
                      <a:lnTo>
                        <a:pt x="0" y="16"/>
                      </a:lnTo>
                      <a:lnTo>
                        <a:pt x="7" y="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4" y="11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39120" y="2146320"/>
                  <a:ext cx="8640" cy="5256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6" y="65"/>
                      </a:lnTo>
                      <a:lnTo>
                        <a:pt x="0" y="65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654960" y="2151000"/>
                  <a:ext cx="45720" cy="109800"/>
                </a:xfrm>
                <a:custGeom>
                  <a:avLst/>
                  <a:gdLst/>
                  <a:ahLst/>
                  <a:rect l="l" t="t" r="r" b="b"/>
                  <a:pathLst>
                    <a:path w="64" h="138">
                      <a:moveTo>
                        <a:pt x="42" y="63"/>
                      </a:moveTo>
                      <a:lnTo>
                        <a:pt x="56" y="64"/>
                      </a:lnTo>
                      <a:lnTo>
                        <a:pt x="54" y="70"/>
                      </a:lnTo>
                      <a:lnTo>
                        <a:pt x="50" y="77"/>
                      </a:lnTo>
                      <a:lnTo>
                        <a:pt x="46" y="81"/>
                      </a:lnTo>
                      <a:lnTo>
                        <a:pt x="38" y="86"/>
                      </a:lnTo>
                      <a:lnTo>
                        <a:pt x="33" y="91"/>
                      </a:lnTo>
                      <a:lnTo>
                        <a:pt x="27" y="95"/>
                      </a:lnTo>
                      <a:lnTo>
                        <a:pt x="23" y="100"/>
                      </a:lnTo>
                      <a:lnTo>
                        <a:pt x="21" y="104"/>
                      </a:lnTo>
                      <a:lnTo>
                        <a:pt x="23" y="110"/>
                      </a:lnTo>
                      <a:lnTo>
                        <a:pt x="29" y="115"/>
                      </a:lnTo>
                      <a:lnTo>
                        <a:pt x="38" y="106"/>
                      </a:lnTo>
                      <a:lnTo>
                        <a:pt x="38" y="111"/>
                      </a:lnTo>
                      <a:lnTo>
                        <a:pt x="36" y="117"/>
                      </a:lnTo>
                      <a:lnTo>
                        <a:pt x="34" y="120"/>
                      </a:lnTo>
                      <a:lnTo>
                        <a:pt x="31" y="122"/>
                      </a:lnTo>
                      <a:lnTo>
                        <a:pt x="27" y="126"/>
                      </a:lnTo>
                      <a:lnTo>
                        <a:pt x="23" y="128"/>
                      </a:lnTo>
                      <a:lnTo>
                        <a:pt x="19" y="129"/>
                      </a:lnTo>
                      <a:lnTo>
                        <a:pt x="15" y="133"/>
                      </a:lnTo>
                      <a:lnTo>
                        <a:pt x="11" y="135"/>
                      </a:lnTo>
                      <a:lnTo>
                        <a:pt x="7" y="138"/>
                      </a:lnTo>
                      <a:lnTo>
                        <a:pt x="0" y="138"/>
                      </a:lnTo>
                      <a:lnTo>
                        <a:pt x="4" y="124"/>
                      </a:lnTo>
                      <a:lnTo>
                        <a:pt x="9" y="110"/>
                      </a:lnTo>
                      <a:lnTo>
                        <a:pt x="15" y="95"/>
                      </a:lnTo>
                      <a:lnTo>
                        <a:pt x="21" y="81"/>
                      </a:lnTo>
                      <a:lnTo>
                        <a:pt x="29" y="68"/>
                      </a:lnTo>
                      <a:lnTo>
                        <a:pt x="34" y="54"/>
                      </a:lnTo>
                      <a:lnTo>
                        <a:pt x="40" y="41"/>
                      </a:lnTo>
                      <a:lnTo>
                        <a:pt x="46" y="27"/>
                      </a:lnTo>
                      <a:lnTo>
                        <a:pt x="50" y="12"/>
                      </a:lnTo>
                      <a:lnTo>
                        <a:pt x="52" y="0"/>
                      </a:lnTo>
                      <a:lnTo>
                        <a:pt x="58" y="3"/>
                      </a:lnTo>
                      <a:lnTo>
                        <a:pt x="62" y="10"/>
                      </a:lnTo>
                      <a:lnTo>
                        <a:pt x="64" y="16"/>
                      </a:lnTo>
                      <a:lnTo>
                        <a:pt x="64" y="23"/>
                      </a:lnTo>
                      <a:lnTo>
                        <a:pt x="64" y="30"/>
                      </a:lnTo>
                      <a:lnTo>
                        <a:pt x="60" y="39"/>
                      </a:lnTo>
                      <a:lnTo>
                        <a:pt x="56" y="46"/>
                      </a:lnTo>
                      <a:lnTo>
                        <a:pt x="52" y="52"/>
                      </a:lnTo>
                      <a:lnTo>
                        <a:pt x="48" y="59"/>
                      </a:lnTo>
                      <a:lnTo>
                        <a:pt x="42" y="63"/>
                      </a:lnTo>
                      <a:lnTo>
                        <a:pt x="42" y="63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863320" y="2168640"/>
                  <a:ext cx="1826280" cy="3660840"/>
                </a:xfrm>
                <a:custGeom>
                  <a:avLst/>
                  <a:gdLst/>
                  <a:ahLst/>
                  <a:rect l="l" t="t" r="r" b="b"/>
                  <a:pathLst>
                    <a:path w="2546" h="4611">
                      <a:moveTo>
                        <a:pt x="1381" y="1224"/>
                      </a:moveTo>
                      <a:lnTo>
                        <a:pt x="1379" y="1237"/>
                      </a:lnTo>
                      <a:lnTo>
                        <a:pt x="1377" y="1249"/>
                      </a:lnTo>
                      <a:lnTo>
                        <a:pt x="1377" y="1262"/>
                      </a:lnTo>
                      <a:lnTo>
                        <a:pt x="1377" y="1274"/>
                      </a:lnTo>
                      <a:lnTo>
                        <a:pt x="1377" y="1289"/>
                      </a:lnTo>
                      <a:lnTo>
                        <a:pt x="1379" y="1302"/>
                      </a:lnTo>
                      <a:lnTo>
                        <a:pt x="1381" y="1314"/>
                      </a:lnTo>
                      <a:lnTo>
                        <a:pt x="1384" y="1327"/>
                      </a:lnTo>
                      <a:lnTo>
                        <a:pt x="1388" y="1338"/>
                      </a:lnTo>
                      <a:lnTo>
                        <a:pt x="1392" y="1348"/>
                      </a:lnTo>
                      <a:lnTo>
                        <a:pt x="1386" y="1354"/>
                      </a:lnTo>
                      <a:lnTo>
                        <a:pt x="1382" y="1359"/>
                      </a:lnTo>
                      <a:lnTo>
                        <a:pt x="1379" y="1366"/>
                      </a:lnTo>
                      <a:lnTo>
                        <a:pt x="1375" y="1372"/>
                      </a:lnTo>
                      <a:lnTo>
                        <a:pt x="1373" y="1379"/>
                      </a:lnTo>
                      <a:lnTo>
                        <a:pt x="1371" y="1386"/>
                      </a:lnTo>
                      <a:lnTo>
                        <a:pt x="1369" y="1393"/>
                      </a:lnTo>
                      <a:lnTo>
                        <a:pt x="1367" y="1401"/>
                      </a:lnTo>
                      <a:lnTo>
                        <a:pt x="1365" y="1408"/>
                      </a:lnTo>
                      <a:lnTo>
                        <a:pt x="1363" y="1415"/>
                      </a:lnTo>
                      <a:lnTo>
                        <a:pt x="1363" y="1411"/>
                      </a:lnTo>
                      <a:lnTo>
                        <a:pt x="1363" y="1408"/>
                      </a:lnTo>
                      <a:lnTo>
                        <a:pt x="1365" y="1402"/>
                      </a:lnTo>
                      <a:lnTo>
                        <a:pt x="1365" y="1399"/>
                      </a:lnTo>
                      <a:lnTo>
                        <a:pt x="1367" y="1395"/>
                      </a:lnTo>
                      <a:lnTo>
                        <a:pt x="1369" y="1392"/>
                      </a:lnTo>
                      <a:lnTo>
                        <a:pt x="1371" y="1388"/>
                      </a:lnTo>
                      <a:lnTo>
                        <a:pt x="1373" y="1386"/>
                      </a:lnTo>
                      <a:lnTo>
                        <a:pt x="1375" y="1383"/>
                      </a:lnTo>
                      <a:lnTo>
                        <a:pt x="1377" y="1379"/>
                      </a:lnTo>
                      <a:lnTo>
                        <a:pt x="1367" y="1368"/>
                      </a:lnTo>
                      <a:lnTo>
                        <a:pt x="1361" y="1374"/>
                      </a:lnTo>
                      <a:lnTo>
                        <a:pt x="1355" y="1381"/>
                      </a:lnTo>
                      <a:lnTo>
                        <a:pt x="1348" y="1388"/>
                      </a:lnTo>
                      <a:lnTo>
                        <a:pt x="1344" y="1395"/>
                      </a:lnTo>
                      <a:lnTo>
                        <a:pt x="1338" y="1402"/>
                      </a:lnTo>
                      <a:lnTo>
                        <a:pt x="1332" y="1411"/>
                      </a:lnTo>
                      <a:lnTo>
                        <a:pt x="1326" y="1419"/>
                      </a:lnTo>
                      <a:lnTo>
                        <a:pt x="1322" y="1426"/>
                      </a:lnTo>
                      <a:lnTo>
                        <a:pt x="1319" y="1435"/>
                      </a:lnTo>
                      <a:lnTo>
                        <a:pt x="1315" y="1442"/>
                      </a:lnTo>
                      <a:lnTo>
                        <a:pt x="1317" y="1448"/>
                      </a:lnTo>
                      <a:lnTo>
                        <a:pt x="1320" y="1451"/>
                      </a:lnTo>
                      <a:lnTo>
                        <a:pt x="1324" y="1453"/>
                      </a:lnTo>
                      <a:lnTo>
                        <a:pt x="1328" y="1453"/>
                      </a:lnTo>
                      <a:lnTo>
                        <a:pt x="1332" y="1451"/>
                      </a:lnTo>
                      <a:lnTo>
                        <a:pt x="1336" y="1449"/>
                      </a:lnTo>
                      <a:lnTo>
                        <a:pt x="1340" y="1448"/>
                      </a:lnTo>
                      <a:lnTo>
                        <a:pt x="1346" y="1448"/>
                      </a:lnTo>
                      <a:lnTo>
                        <a:pt x="1350" y="1446"/>
                      </a:lnTo>
                      <a:lnTo>
                        <a:pt x="1353" y="1446"/>
                      </a:lnTo>
                      <a:lnTo>
                        <a:pt x="1357" y="1439"/>
                      </a:lnTo>
                      <a:lnTo>
                        <a:pt x="1359" y="1435"/>
                      </a:lnTo>
                      <a:lnTo>
                        <a:pt x="1363" y="1431"/>
                      </a:lnTo>
                      <a:lnTo>
                        <a:pt x="1367" y="1431"/>
                      </a:lnTo>
                      <a:lnTo>
                        <a:pt x="1371" y="1431"/>
                      </a:lnTo>
                      <a:lnTo>
                        <a:pt x="1375" y="1430"/>
                      </a:lnTo>
                      <a:lnTo>
                        <a:pt x="1381" y="1430"/>
                      </a:lnTo>
                      <a:lnTo>
                        <a:pt x="1384" y="1428"/>
                      </a:lnTo>
                      <a:lnTo>
                        <a:pt x="1388" y="1424"/>
                      </a:lnTo>
                      <a:lnTo>
                        <a:pt x="1392" y="1417"/>
                      </a:lnTo>
                      <a:lnTo>
                        <a:pt x="1394" y="1444"/>
                      </a:lnTo>
                      <a:lnTo>
                        <a:pt x="1396" y="1471"/>
                      </a:lnTo>
                      <a:lnTo>
                        <a:pt x="1396" y="1496"/>
                      </a:lnTo>
                      <a:lnTo>
                        <a:pt x="1396" y="1523"/>
                      </a:lnTo>
                      <a:lnTo>
                        <a:pt x="1394" y="1550"/>
                      </a:lnTo>
                      <a:lnTo>
                        <a:pt x="1390" y="1577"/>
                      </a:lnTo>
                      <a:lnTo>
                        <a:pt x="1386" y="1603"/>
                      </a:lnTo>
                      <a:lnTo>
                        <a:pt x="1382" y="1630"/>
                      </a:lnTo>
                      <a:lnTo>
                        <a:pt x="1377" y="1657"/>
                      </a:lnTo>
                      <a:lnTo>
                        <a:pt x="1373" y="1685"/>
                      </a:lnTo>
                      <a:lnTo>
                        <a:pt x="1375" y="1691"/>
                      </a:lnTo>
                      <a:lnTo>
                        <a:pt x="1384" y="1675"/>
                      </a:lnTo>
                      <a:lnTo>
                        <a:pt x="1392" y="1658"/>
                      </a:lnTo>
                      <a:lnTo>
                        <a:pt x="1398" y="1642"/>
                      </a:lnTo>
                      <a:lnTo>
                        <a:pt x="1402" y="1622"/>
                      </a:lnTo>
                      <a:lnTo>
                        <a:pt x="1404" y="1604"/>
                      </a:lnTo>
                      <a:lnTo>
                        <a:pt x="1408" y="1585"/>
                      </a:lnTo>
                      <a:lnTo>
                        <a:pt x="1410" y="1565"/>
                      </a:lnTo>
                      <a:lnTo>
                        <a:pt x="1410" y="1545"/>
                      </a:lnTo>
                      <a:lnTo>
                        <a:pt x="1411" y="1525"/>
                      </a:lnTo>
                      <a:lnTo>
                        <a:pt x="1413" y="1505"/>
                      </a:lnTo>
                      <a:lnTo>
                        <a:pt x="1413" y="1493"/>
                      </a:lnTo>
                      <a:lnTo>
                        <a:pt x="1421" y="1520"/>
                      </a:lnTo>
                      <a:lnTo>
                        <a:pt x="1419" y="1547"/>
                      </a:lnTo>
                      <a:lnTo>
                        <a:pt x="1417" y="1576"/>
                      </a:lnTo>
                      <a:lnTo>
                        <a:pt x="1415" y="1603"/>
                      </a:lnTo>
                      <a:lnTo>
                        <a:pt x="1413" y="1630"/>
                      </a:lnTo>
                      <a:lnTo>
                        <a:pt x="1410" y="1657"/>
                      </a:lnTo>
                      <a:lnTo>
                        <a:pt x="1404" y="1684"/>
                      </a:lnTo>
                      <a:lnTo>
                        <a:pt x="1396" y="1707"/>
                      </a:lnTo>
                      <a:lnTo>
                        <a:pt x="1384" y="1731"/>
                      </a:lnTo>
                      <a:lnTo>
                        <a:pt x="1367" y="1752"/>
                      </a:lnTo>
                      <a:lnTo>
                        <a:pt x="1346" y="1770"/>
                      </a:lnTo>
                      <a:lnTo>
                        <a:pt x="1361" y="1759"/>
                      </a:lnTo>
                      <a:lnTo>
                        <a:pt x="1375" y="1747"/>
                      </a:lnTo>
                      <a:lnTo>
                        <a:pt x="1386" y="1734"/>
                      </a:lnTo>
                      <a:lnTo>
                        <a:pt x="1398" y="1722"/>
                      </a:lnTo>
                      <a:lnTo>
                        <a:pt x="1410" y="1709"/>
                      </a:lnTo>
                      <a:lnTo>
                        <a:pt x="1419" y="1695"/>
                      </a:lnTo>
                      <a:lnTo>
                        <a:pt x="1431" y="1680"/>
                      </a:lnTo>
                      <a:lnTo>
                        <a:pt x="1441" y="1666"/>
                      </a:lnTo>
                      <a:lnTo>
                        <a:pt x="1452" y="1653"/>
                      </a:lnTo>
                      <a:lnTo>
                        <a:pt x="1464" y="1639"/>
                      </a:lnTo>
                      <a:lnTo>
                        <a:pt x="1472" y="1648"/>
                      </a:lnTo>
                      <a:lnTo>
                        <a:pt x="1462" y="1660"/>
                      </a:lnTo>
                      <a:lnTo>
                        <a:pt x="1454" y="1673"/>
                      </a:lnTo>
                      <a:lnTo>
                        <a:pt x="1444" y="1685"/>
                      </a:lnTo>
                      <a:lnTo>
                        <a:pt x="1435" y="1698"/>
                      </a:lnTo>
                      <a:lnTo>
                        <a:pt x="1425" y="1711"/>
                      </a:lnTo>
                      <a:lnTo>
                        <a:pt x="1415" y="1723"/>
                      </a:lnTo>
                      <a:lnTo>
                        <a:pt x="1408" y="1736"/>
                      </a:lnTo>
                      <a:lnTo>
                        <a:pt x="1398" y="1747"/>
                      </a:lnTo>
                      <a:lnTo>
                        <a:pt x="1388" y="1759"/>
                      </a:lnTo>
                      <a:lnTo>
                        <a:pt x="1379" y="1772"/>
                      </a:lnTo>
                      <a:lnTo>
                        <a:pt x="1390" y="1765"/>
                      </a:lnTo>
                      <a:lnTo>
                        <a:pt x="1400" y="1758"/>
                      </a:lnTo>
                      <a:lnTo>
                        <a:pt x="1410" y="1749"/>
                      </a:lnTo>
                      <a:lnTo>
                        <a:pt x="1419" y="1738"/>
                      </a:lnTo>
                      <a:lnTo>
                        <a:pt x="1429" y="1727"/>
                      </a:lnTo>
                      <a:lnTo>
                        <a:pt x="1439" y="1714"/>
                      </a:lnTo>
                      <a:lnTo>
                        <a:pt x="1448" y="1704"/>
                      </a:lnTo>
                      <a:lnTo>
                        <a:pt x="1458" y="1691"/>
                      </a:lnTo>
                      <a:lnTo>
                        <a:pt x="1470" y="1680"/>
                      </a:lnTo>
                      <a:lnTo>
                        <a:pt x="1479" y="1671"/>
                      </a:lnTo>
                      <a:lnTo>
                        <a:pt x="1483" y="1676"/>
                      </a:lnTo>
                      <a:lnTo>
                        <a:pt x="1472" y="1696"/>
                      </a:lnTo>
                      <a:lnTo>
                        <a:pt x="1458" y="1716"/>
                      </a:lnTo>
                      <a:lnTo>
                        <a:pt x="1446" y="1736"/>
                      </a:lnTo>
                      <a:lnTo>
                        <a:pt x="1433" y="1758"/>
                      </a:lnTo>
                      <a:lnTo>
                        <a:pt x="1419" y="1777"/>
                      </a:lnTo>
                      <a:lnTo>
                        <a:pt x="1404" y="1797"/>
                      </a:lnTo>
                      <a:lnTo>
                        <a:pt x="1390" y="1815"/>
                      </a:lnTo>
                      <a:lnTo>
                        <a:pt x="1375" y="1832"/>
                      </a:lnTo>
                      <a:lnTo>
                        <a:pt x="1357" y="1848"/>
                      </a:lnTo>
                      <a:lnTo>
                        <a:pt x="1340" y="1862"/>
                      </a:lnTo>
                      <a:lnTo>
                        <a:pt x="1334" y="1866"/>
                      </a:lnTo>
                      <a:lnTo>
                        <a:pt x="1328" y="1871"/>
                      </a:lnTo>
                      <a:lnTo>
                        <a:pt x="1326" y="1877"/>
                      </a:lnTo>
                      <a:lnTo>
                        <a:pt x="1322" y="1882"/>
                      </a:lnTo>
                      <a:lnTo>
                        <a:pt x="1320" y="1889"/>
                      </a:lnTo>
                      <a:lnTo>
                        <a:pt x="1319" y="1895"/>
                      </a:lnTo>
                      <a:lnTo>
                        <a:pt x="1317" y="1902"/>
                      </a:lnTo>
                      <a:lnTo>
                        <a:pt x="1317" y="1907"/>
                      </a:lnTo>
                      <a:lnTo>
                        <a:pt x="1315" y="1913"/>
                      </a:lnTo>
                      <a:lnTo>
                        <a:pt x="1313" y="1916"/>
                      </a:lnTo>
                      <a:lnTo>
                        <a:pt x="1317" y="1914"/>
                      </a:lnTo>
                      <a:lnTo>
                        <a:pt x="1322" y="1913"/>
                      </a:lnTo>
                      <a:lnTo>
                        <a:pt x="1326" y="1911"/>
                      </a:lnTo>
                      <a:lnTo>
                        <a:pt x="1328" y="1907"/>
                      </a:lnTo>
                      <a:lnTo>
                        <a:pt x="1332" y="1902"/>
                      </a:lnTo>
                      <a:lnTo>
                        <a:pt x="1336" y="1898"/>
                      </a:lnTo>
                      <a:lnTo>
                        <a:pt x="1338" y="1895"/>
                      </a:lnTo>
                      <a:lnTo>
                        <a:pt x="1342" y="1889"/>
                      </a:lnTo>
                      <a:lnTo>
                        <a:pt x="1346" y="1887"/>
                      </a:lnTo>
                      <a:lnTo>
                        <a:pt x="1351" y="1884"/>
                      </a:lnTo>
                      <a:lnTo>
                        <a:pt x="1350" y="1886"/>
                      </a:lnTo>
                      <a:lnTo>
                        <a:pt x="1348" y="1887"/>
                      </a:lnTo>
                      <a:lnTo>
                        <a:pt x="1348" y="1887"/>
                      </a:lnTo>
                      <a:lnTo>
                        <a:pt x="1346" y="1889"/>
                      </a:lnTo>
                      <a:lnTo>
                        <a:pt x="1346" y="1891"/>
                      </a:lnTo>
                      <a:lnTo>
                        <a:pt x="1346" y="1893"/>
                      </a:lnTo>
                      <a:lnTo>
                        <a:pt x="1344" y="1895"/>
                      </a:lnTo>
                      <a:lnTo>
                        <a:pt x="1344" y="1896"/>
                      </a:lnTo>
                      <a:lnTo>
                        <a:pt x="1344" y="1898"/>
                      </a:lnTo>
                      <a:lnTo>
                        <a:pt x="1342" y="1900"/>
                      </a:lnTo>
                      <a:lnTo>
                        <a:pt x="1350" y="1909"/>
                      </a:lnTo>
                      <a:lnTo>
                        <a:pt x="1367" y="1893"/>
                      </a:lnTo>
                      <a:lnTo>
                        <a:pt x="1367" y="1895"/>
                      </a:lnTo>
                      <a:lnTo>
                        <a:pt x="1365" y="1896"/>
                      </a:lnTo>
                      <a:lnTo>
                        <a:pt x="1365" y="1898"/>
                      </a:lnTo>
                      <a:lnTo>
                        <a:pt x="1365" y="1898"/>
                      </a:lnTo>
                      <a:lnTo>
                        <a:pt x="1365" y="1900"/>
                      </a:lnTo>
                      <a:lnTo>
                        <a:pt x="1365" y="1902"/>
                      </a:lnTo>
                      <a:lnTo>
                        <a:pt x="1365" y="1904"/>
                      </a:lnTo>
                      <a:lnTo>
                        <a:pt x="1367" y="1905"/>
                      </a:lnTo>
                      <a:lnTo>
                        <a:pt x="1367" y="1905"/>
                      </a:lnTo>
                      <a:lnTo>
                        <a:pt x="1369" y="1907"/>
                      </a:lnTo>
                      <a:lnTo>
                        <a:pt x="1375" y="1907"/>
                      </a:lnTo>
                      <a:lnTo>
                        <a:pt x="1379" y="1907"/>
                      </a:lnTo>
                      <a:lnTo>
                        <a:pt x="1382" y="1905"/>
                      </a:lnTo>
                      <a:lnTo>
                        <a:pt x="1384" y="1902"/>
                      </a:lnTo>
                      <a:lnTo>
                        <a:pt x="1388" y="1898"/>
                      </a:lnTo>
                      <a:lnTo>
                        <a:pt x="1390" y="1895"/>
                      </a:lnTo>
                      <a:lnTo>
                        <a:pt x="1392" y="1891"/>
                      </a:lnTo>
                      <a:lnTo>
                        <a:pt x="1394" y="1887"/>
                      </a:lnTo>
                      <a:lnTo>
                        <a:pt x="1396" y="1886"/>
                      </a:lnTo>
                      <a:lnTo>
                        <a:pt x="1398" y="1882"/>
                      </a:lnTo>
                      <a:lnTo>
                        <a:pt x="1398" y="1878"/>
                      </a:lnTo>
                      <a:lnTo>
                        <a:pt x="1375" y="1880"/>
                      </a:lnTo>
                      <a:lnTo>
                        <a:pt x="1379" y="1877"/>
                      </a:lnTo>
                      <a:lnTo>
                        <a:pt x="1384" y="1871"/>
                      </a:lnTo>
                      <a:lnTo>
                        <a:pt x="1390" y="1866"/>
                      </a:lnTo>
                      <a:lnTo>
                        <a:pt x="1394" y="1860"/>
                      </a:lnTo>
                      <a:lnTo>
                        <a:pt x="1398" y="1855"/>
                      </a:lnTo>
                      <a:lnTo>
                        <a:pt x="1402" y="1850"/>
                      </a:lnTo>
                      <a:lnTo>
                        <a:pt x="1406" y="1844"/>
                      </a:lnTo>
                      <a:lnTo>
                        <a:pt x="1408" y="1839"/>
                      </a:lnTo>
                      <a:lnTo>
                        <a:pt x="1408" y="1833"/>
                      </a:lnTo>
                      <a:lnTo>
                        <a:pt x="1408" y="1826"/>
                      </a:lnTo>
                      <a:lnTo>
                        <a:pt x="1394" y="1844"/>
                      </a:lnTo>
                      <a:lnTo>
                        <a:pt x="1400" y="1830"/>
                      </a:lnTo>
                      <a:lnTo>
                        <a:pt x="1408" y="1817"/>
                      </a:lnTo>
                      <a:lnTo>
                        <a:pt x="1415" y="1803"/>
                      </a:lnTo>
                      <a:lnTo>
                        <a:pt x="1423" y="1788"/>
                      </a:lnTo>
                      <a:lnTo>
                        <a:pt x="1433" y="1776"/>
                      </a:lnTo>
                      <a:lnTo>
                        <a:pt x="1444" y="1761"/>
                      </a:lnTo>
                      <a:lnTo>
                        <a:pt x="1454" y="1749"/>
                      </a:lnTo>
                      <a:lnTo>
                        <a:pt x="1466" y="1736"/>
                      </a:lnTo>
                      <a:lnTo>
                        <a:pt x="1475" y="1723"/>
                      </a:lnTo>
                      <a:lnTo>
                        <a:pt x="1487" y="1711"/>
                      </a:lnTo>
                      <a:lnTo>
                        <a:pt x="1408" y="1826"/>
                      </a:lnTo>
                      <a:lnTo>
                        <a:pt x="1417" y="1828"/>
                      </a:lnTo>
                      <a:lnTo>
                        <a:pt x="1499" y="1723"/>
                      </a:lnTo>
                      <a:lnTo>
                        <a:pt x="1493" y="1734"/>
                      </a:lnTo>
                      <a:lnTo>
                        <a:pt x="1487" y="1743"/>
                      </a:lnTo>
                      <a:lnTo>
                        <a:pt x="1479" y="1754"/>
                      </a:lnTo>
                      <a:lnTo>
                        <a:pt x="1473" y="1763"/>
                      </a:lnTo>
                      <a:lnTo>
                        <a:pt x="1468" y="1774"/>
                      </a:lnTo>
                      <a:lnTo>
                        <a:pt x="1462" y="1785"/>
                      </a:lnTo>
                      <a:lnTo>
                        <a:pt x="1454" y="1794"/>
                      </a:lnTo>
                      <a:lnTo>
                        <a:pt x="1448" y="1804"/>
                      </a:lnTo>
                      <a:lnTo>
                        <a:pt x="1442" y="1815"/>
                      </a:lnTo>
                      <a:lnTo>
                        <a:pt x="1435" y="1824"/>
                      </a:lnTo>
                      <a:lnTo>
                        <a:pt x="1441" y="1822"/>
                      </a:lnTo>
                      <a:lnTo>
                        <a:pt x="1446" y="1819"/>
                      </a:lnTo>
                      <a:lnTo>
                        <a:pt x="1452" y="1815"/>
                      </a:lnTo>
                      <a:lnTo>
                        <a:pt x="1460" y="1810"/>
                      </a:lnTo>
                      <a:lnTo>
                        <a:pt x="1466" y="1804"/>
                      </a:lnTo>
                      <a:lnTo>
                        <a:pt x="1472" y="1797"/>
                      </a:lnTo>
                      <a:lnTo>
                        <a:pt x="1477" y="1790"/>
                      </a:lnTo>
                      <a:lnTo>
                        <a:pt x="1483" y="1785"/>
                      </a:lnTo>
                      <a:lnTo>
                        <a:pt x="1487" y="1777"/>
                      </a:lnTo>
                      <a:lnTo>
                        <a:pt x="1491" y="1770"/>
                      </a:lnTo>
                      <a:lnTo>
                        <a:pt x="1485" y="1783"/>
                      </a:lnTo>
                      <a:lnTo>
                        <a:pt x="1479" y="1794"/>
                      </a:lnTo>
                      <a:lnTo>
                        <a:pt x="1472" y="1806"/>
                      </a:lnTo>
                      <a:lnTo>
                        <a:pt x="1464" y="1817"/>
                      </a:lnTo>
                      <a:lnTo>
                        <a:pt x="1456" y="1828"/>
                      </a:lnTo>
                      <a:lnTo>
                        <a:pt x="1448" y="1839"/>
                      </a:lnTo>
                      <a:lnTo>
                        <a:pt x="1441" y="1851"/>
                      </a:lnTo>
                      <a:lnTo>
                        <a:pt x="1433" y="1862"/>
                      </a:lnTo>
                      <a:lnTo>
                        <a:pt x="1425" y="1873"/>
                      </a:lnTo>
                      <a:lnTo>
                        <a:pt x="1417" y="1884"/>
                      </a:lnTo>
                      <a:lnTo>
                        <a:pt x="1421" y="1889"/>
                      </a:lnTo>
                      <a:lnTo>
                        <a:pt x="1431" y="1880"/>
                      </a:lnTo>
                      <a:lnTo>
                        <a:pt x="1441" y="1869"/>
                      </a:lnTo>
                      <a:lnTo>
                        <a:pt x="1450" y="1859"/>
                      </a:lnTo>
                      <a:lnTo>
                        <a:pt x="1460" y="1846"/>
                      </a:lnTo>
                      <a:lnTo>
                        <a:pt x="1468" y="1835"/>
                      </a:lnTo>
                      <a:lnTo>
                        <a:pt x="1477" y="1822"/>
                      </a:lnTo>
                      <a:lnTo>
                        <a:pt x="1485" y="1812"/>
                      </a:lnTo>
                      <a:lnTo>
                        <a:pt x="1495" y="1799"/>
                      </a:lnTo>
                      <a:lnTo>
                        <a:pt x="1504" y="1788"/>
                      </a:lnTo>
                      <a:lnTo>
                        <a:pt x="1514" y="1777"/>
                      </a:lnTo>
                      <a:lnTo>
                        <a:pt x="1516" y="1786"/>
                      </a:lnTo>
                      <a:lnTo>
                        <a:pt x="1518" y="1795"/>
                      </a:lnTo>
                      <a:lnTo>
                        <a:pt x="1520" y="1804"/>
                      </a:lnTo>
                      <a:lnTo>
                        <a:pt x="1522" y="1815"/>
                      </a:lnTo>
                      <a:lnTo>
                        <a:pt x="1524" y="1824"/>
                      </a:lnTo>
                      <a:lnTo>
                        <a:pt x="1524" y="1835"/>
                      </a:lnTo>
                      <a:lnTo>
                        <a:pt x="1522" y="1844"/>
                      </a:lnTo>
                      <a:lnTo>
                        <a:pt x="1522" y="1855"/>
                      </a:lnTo>
                      <a:lnTo>
                        <a:pt x="1518" y="1864"/>
                      </a:lnTo>
                      <a:lnTo>
                        <a:pt x="1516" y="1873"/>
                      </a:lnTo>
                      <a:lnTo>
                        <a:pt x="1495" y="1882"/>
                      </a:lnTo>
                      <a:lnTo>
                        <a:pt x="1475" y="1889"/>
                      </a:lnTo>
                      <a:lnTo>
                        <a:pt x="1454" y="1895"/>
                      </a:lnTo>
                      <a:lnTo>
                        <a:pt x="1433" y="1900"/>
                      </a:lnTo>
                      <a:lnTo>
                        <a:pt x="1411" y="1905"/>
                      </a:lnTo>
                      <a:lnTo>
                        <a:pt x="1392" y="1913"/>
                      </a:lnTo>
                      <a:lnTo>
                        <a:pt x="1371" y="1920"/>
                      </a:lnTo>
                      <a:lnTo>
                        <a:pt x="1351" y="1927"/>
                      </a:lnTo>
                      <a:lnTo>
                        <a:pt x="1332" y="1938"/>
                      </a:lnTo>
                      <a:lnTo>
                        <a:pt x="1315" y="1950"/>
                      </a:lnTo>
                      <a:lnTo>
                        <a:pt x="1315" y="1963"/>
                      </a:lnTo>
                      <a:lnTo>
                        <a:pt x="1322" y="1963"/>
                      </a:lnTo>
                      <a:lnTo>
                        <a:pt x="1330" y="1963"/>
                      </a:lnTo>
                      <a:lnTo>
                        <a:pt x="1338" y="1961"/>
                      </a:lnTo>
                      <a:lnTo>
                        <a:pt x="1346" y="1960"/>
                      </a:lnTo>
                      <a:lnTo>
                        <a:pt x="1355" y="1958"/>
                      </a:lnTo>
                      <a:lnTo>
                        <a:pt x="1363" y="1956"/>
                      </a:lnTo>
                      <a:lnTo>
                        <a:pt x="1373" y="1954"/>
                      </a:lnTo>
                      <a:lnTo>
                        <a:pt x="1381" y="1950"/>
                      </a:lnTo>
                      <a:lnTo>
                        <a:pt x="1390" y="1949"/>
                      </a:lnTo>
                      <a:lnTo>
                        <a:pt x="1400" y="1947"/>
                      </a:lnTo>
                      <a:lnTo>
                        <a:pt x="1394" y="1958"/>
                      </a:lnTo>
                      <a:lnTo>
                        <a:pt x="1388" y="1967"/>
                      </a:lnTo>
                      <a:lnTo>
                        <a:pt x="1382" y="1976"/>
                      </a:lnTo>
                      <a:lnTo>
                        <a:pt x="1375" y="1985"/>
                      </a:lnTo>
                      <a:lnTo>
                        <a:pt x="1367" y="1994"/>
                      </a:lnTo>
                      <a:lnTo>
                        <a:pt x="1359" y="2003"/>
                      </a:lnTo>
                      <a:lnTo>
                        <a:pt x="1355" y="2014"/>
                      </a:lnTo>
                      <a:lnTo>
                        <a:pt x="1350" y="2023"/>
                      </a:lnTo>
                      <a:lnTo>
                        <a:pt x="1348" y="2033"/>
                      </a:lnTo>
                      <a:lnTo>
                        <a:pt x="1350" y="2042"/>
                      </a:lnTo>
                      <a:lnTo>
                        <a:pt x="1355" y="2037"/>
                      </a:lnTo>
                      <a:lnTo>
                        <a:pt x="1363" y="2030"/>
                      </a:lnTo>
                      <a:lnTo>
                        <a:pt x="1369" y="2021"/>
                      </a:lnTo>
                      <a:lnTo>
                        <a:pt x="1373" y="2014"/>
                      </a:lnTo>
                      <a:lnTo>
                        <a:pt x="1379" y="2005"/>
                      </a:lnTo>
                      <a:lnTo>
                        <a:pt x="1384" y="1996"/>
                      </a:lnTo>
                      <a:lnTo>
                        <a:pt x="1390" y="1987"/>
                      </a:lnTo>
                      <a:lnTo>
                        <a:pt x="1396" y="1978"/>
                      </a:lnTo>
                      <a:lnTo>
                        <a:pt x="1402" y="1969"/>
                      </a:lnTo>
                      <a:lnTo>
                        <a:pt x="1408" y="1960"/>
                      </a:lnTo>
                      <a:lnTo>
                        <a:pt x="1439" y="1918"/>
                      </a:lnTo>
                      <a:lnTo>
                        <a:pt x="1431" y="1931"/>
                      </a:lnTo>
                      <a:lnTo>
                        <a:pt x="1423" y="1943"/>
                      </a:lnTo>
                      <a:lnTo>
                        <a:pt x="1415" y="1956"/>
                      </a:lnTo>
                      <a:lnTo>
                        <a:pt x="1406" y="1969"/>
                      </a:lnTo>
                      <a:lnTo>
                        <a:pt x="1398" y="1983"/>
                      </a:lnTo>
                      <a:lnTo>
                        <a:pt x="1390" y="1997"/>
                      </a:lnTo>
                      <a:lnTo>
                        <a:pt x="1382" y="2012"/>
                      </a:lnTo>
                      <a:lnTo>
                        <a:pt x="1379" y="2028"/>
                      </a:lnTo>
                      <a:lnTo>
                        <a:pt x="1377" y="2044"/>
                      </a:lnTo>
                      <a:lnTo>
                        <a:pt x="1377" y="2059"/>
                      </a:lnTo>
                      <a:lnTo>
                        <a:pt x="1375" y="2062"/>
                      </a:lnTo>
                      <a:lnTo>
                        <a:pt x="1373" y="2066"/>
                      </a:lnTo>
                      <a:lnTo>
                        <a:pt x="1371" y="2069"/>
                      </a:lnTo>
                      <a:lnTo>
                        <a:pt x="1367" y="2071"/>
                      </a:lnTo>
                      <a:lnTo>
                        <a:pt x="1365" y="2075"/>
                      </a:lnTo>
                      <a:lnTo>
                        <a:pt x="1363" y="2078"/>
                      </a:lnTo>
                      <a:lnTo>
                        <a:pt x="1361" y="2082"/>
                      </a:lnTo>
                      <a:lnTo>
                        <a:pt x="1361" y="2086"/>
                      </a:lnTo>
                      <a:lnTo>
                        <a:pt x="1361" y="2089"/>
                      </a:lnTo>
                      <a:lnTo>
                        <a:pt x="1365" y="2093"/>
                      </a:lnTo>
                      <a:lnTo>
                        <a:pt x="1379" y="2075"/>
                      </a:lnTo>
                      <a:lnTo>
                        <a:pt x="1390" y="2055"/>
                      </a:lnTo>
                      <a:lnTo>
                        <a:pt x="1400" y="2035"/>
                      </a:lnTo>
                      <a:lnTo>
                        <a:pt x="1410" y="2015"/>
                      </a:lnTo>
                      <a:lnTo>
                        <a:pt x="1417" y="1996"/>
                      </a:lnTo>
                      <a:lnTo>
                        <a:pt x="1425" y="1978"/>
                      </a:lnTo>
                      <a:lnTo>
                        <a:pt x="1435" y="1958"/>
                      </a:lnTo>
                      <a:lnTo>
                        <a:pt x="1446" y="1941"/>
                      </a:lnTo>
                      <a:lnTo>
                        <a:pt x="1460" y="1923"/>
                      </a:lnTo>
                      <a:lnTo>
                        <a:pt x="1475" y="1909"/>
                      </a:lnTo>
                      <a:lnTo>
                        <a:pt x="1472" y="1922"/>
                      </a:lnTo>
                      <a:lnTo>
                        <a:pt x="1466" y="1936"/>
                      </a:lnTo>
                      <a:lnTo>
                        <a:pt x="1460" y="1952"/>
                      </a:lnTo>
                      <a:lnTo>
                        <a:pt x="1452" y="1967"/>
                      </a:lnTo>
                      <a:lnTo>
                        <a:pt x="1442" y="1981"/>
                      </a:lnTo>
                      <a:lnTo>
                        <a:pt x="1435" y="1997"/>
                      </a:lnTo>
                      <a:lnTo>
                        <a:pt x="1429" y="2012"/>
                      </a:lnTo>
                      <a:lnTo>
                        <a:pt x="1423" y="2028"/>
                      </a:lnTo>
                      <a:lnTo>
                        <a:pt x="1419" y="2042"/>
                      </a:lnTo>
                      <a:lnTo>
                        <a:pt x="1417" y="2057"/>
                      </a:lnTo>
                      <a:lnTo>
                        <a:pt x="1501" y="1898"/>
                      </a:lnTo>
                      <a:lnTo>
                        <a:pt x="1491" y="1940"/>
                      </a:lnTo>
                      <a:lnTo>
                        <a:pt x="1481" y="1981"/>
                      </a:lnTo>
                      <a:lnTo>
                        <a:pt x="1466" y="2024"/>
                      </a:lnTo>
                      <a:lnTo>
                        <a:pt x="1450" y="2066"/>
                      </a:lnTo>
                      <a:lnTo>
                        <a:pt x="1435" y="2109"/>
                      </a:lnTo>
                      <a:lnTo>
                        <a:pt x="1417" y="2152"/>
                      </a:lnTo>
                      <a:lnTo>
                        <a:pt x="1400" y="2196"/>
                      </a:lnTo>
                      <a:lnTo>
                        <a:pt x="1382" y="2237"/>
                      </a:lnTo>
                      <a:lnTo>
                        <a:pt x="1367" y="2280"/>
                      </a:lnTo>
                      <a:lnTo>
                        <a:pt x="1351" y="2322"/>
                      </a:lnTo>
                      <a:lnTo>
                        <a:pt x="1357" y="2318"/>
                      </a:lnTo>
                      <a:lnTo>
                        <a:pt x="1361" y="2315"/>
                      </a:lnTo>
                      <a:lnTo>
                        <a:pt x="1365" y="2311"/>
                      </a:lnTo>
                      <a:lnTo>
                        <a:pt x="1369" y="2306"/>
                      </a:lnTo>
                      <a:lnTo>
                        <a:pt x="1371" y="2300"/>
                      </a:lnTo>
                      <a:lnTo>
                        <a:pt x="1375" y="2295"/>
                      </a:lnTo>
                      <a:lnTo>
                        <a:pt x="1377" y="2288"/>
                      </a:lnTo>
                      <a:lnTo>
                        <a:pt x="1379" y="2282"/>
                      </a:lnTo>
                      <a:lnTo>
                        <a:pt x="1381" y="2277"/>
                      </a:lnTo>
                      <a:lnTo>
                        <a:pt x="1384" y="2271"/>
                      </a:lnTo>
                      <a:lnTo>
                        <a:pt x="1384" y="2275"/>
                      </a:lnTo>
                      <a:lnTo>
                        <a:pt x="1386" y="2280"/>
                      </a:lnTo>
                      <a:lnTo>
                        <a:pt x="1386" y="2286"/>
                      </a:lnTo>
                      <a:lnTo>
                        <a:pt x="1388" y="2293"/>
                      </a:lnTo>
                      <a:lnTo>
                        <a:pt x="1388" y="2300"/>
                      </a:lnTo>
                      <a:lnTo>
                        <a:pt x="1388" y="2307"/>
                      </a:lnTo>
                      <a:lnTo>
                        <a:pt x="1388" y="2315"/>
                      </a:lnTo>
                      <a:lnTo>
                        <a:pt x="1386" y="2322"/>
                      </a:lnTo>
                      <a:lnTo>
                        <a:pt x="1382" y="2329"/>
                      </a:lnTo>
                      <a:lnTo>
                        <a:pt x="1379" y="2336"/>
                      </a:lnTo>
                      <a:lnTo>
                        <a:pt x="1396" y="2343"/>
                      </a:lnTo>
                      <a:lnTo>
                        <a:pt x="1404" y="2367"/>
                      </a:lnTo>
                      <a:lnTo>
                        <a:pt x="1404" y="2389"/>
                      </a:lnTo>
                      <a:lnTo>
                        <a:pt x="1398" y="2410"/>
                      </a:lnTo>
                      <a:lnTo>
                        <a:pt x="1388" y="2430"/>
                      </a:lnTo>
                      <a:lnTo>
                        <a:pt x="1379" y="2448"/>
                      </a:lnTo>
                      <a:lnTo>
                        <a:pt x="1365" y="2468"/>
                      </a:lnTo>
                      <a:lnTo>
                        <a:pt x="1353" y="2486"/>
                      </a:lnTo>
                      <a:lnTo>
                        <a:pt x="1342" y="2506"/>
                      </a:lnTo>
                      <a:lnTo>
                        <a:pt x="1334" y="2526"/>
                      </a:lnTo>
                      <a:lnTo>
                        <a:pt x="1330" y="2545"/>
                      </a:lnTo>
                      <a:lnTo>
                        <a:pt x="1340" y="2538"/>
                      </a:lnTo>
                      <a:lnTo>
                        <a:pt x="1348" y="2529"/>
                      </a:lnTo>
                      <a:lnTo>
                        <a:pt x="1353" y="2520"/>
                      </a:lnTo>
                      <a:lnTo>
                        <a:pt x="1361" y="2511"/>
                      </a:lnTo>
                      <a:lnTo>
                        <a:pt x="1367" y="2500"/>
                      </a:lnTo>
                      <a:lnTo>
                        <a:pt x="1373" y="2489"/>
                      </a:lnTo>
                      <a:lnTo>
                        <a:pt x="1379" y="2479"/>
                      </a:lnTo>
                      <a:lnTo>
                        <a:pt x="1384" y="2468"/>
                      </a:lnTo>
                      <a:lnTo>
                        <a:pt x="1390" y="2457"/>
                      </a:lnTo>
                      <a:lnTo>
                        <a:pt x="1394" y="2446"/>
                      </a:lnTo>
                      <a:lnTo>
                        <a:pt x="1392" y="2464"/>
                      </a:lnTo>
                      <a:lnTo>
                        <a:pt x="1386" y="2480"/>
                      </a:lnTo>
                      <a:lnTo>
                        <a:pt x="1379" y="2497"/>
                      </a:lnTo>
                      <a:lnTo>
                        <a:pt x="1371" y="2513"/>
                      </a:lnTo>
                      <a:lnTo>
                        <a:pt x="1361" y="2527"/>
                      </a:lnTo>
                      <a:lnTo>
                        <a:pt x="1351" y="2544"/>
                      </a:lnTo>
                      <a:lnTo>
                        <a:pt x="1344" y="2558"/>
                      </a:lnTo>
                      <a:lnTo>
                        <a:pt x="1336" y="2574"/>
                      </a:lnTo>
                      <a:lnTo>
                        <a:pt x="1332" y="2589"/>
                      </a:lnTo>
                      <a:lnTo>
                        <a:pt x="1330" y="2607"/>
                      </a:lnTo>
                      <a:lnTo>
                        <a:pt x="1371" y="2553"/>
                      </a:lnTo>
                      <a:lnTo>
                        <a:pt x="1377" y="2560"/>
                      </a:lnTo>
                      <a:lnTo>
                        <a:pt x="1381" y="2571"/>
                      </a:lnTo>
                      <a:lnTo>
                        <a:pt x="1382" y="2580"/>
                      </a:lnTo>
                      <a:lnTo>
                        <a:pt x="1384" y="2590"/>
                      </a:lnTo>
                      <a:lnTo>
                        <a:pt x="1386" y="2601"/>
                      </a:lnTo>
                      <a:lnTo>
                        <a:pt x="1388" y="2610"/>
                      </a:lnTo>
                      <a:lnTo>
                        <a:pt x="1392" y="2617"/>
                      </a:lnTo>
                      <a:lnTo>
                        <a:pt x="1396" y="2623"/>
                      </a:lnTo>
                      <a:lnTo>
                        <a:pt x="1404" y="2626"/>
                      </a:lnTo>
                      <a:lnTo>
                        <a:pt x="1411" y="2626"/>
                      </a:lnTo>
                      <a:lnTo>
                        <a:pt x="1411" y="2617"/>
                      </a:lnTo>
                      <a:lnTo>
                        <a:pt x="1411" y="2612"/>
                      </a:lnTo>
                      <a:lnTo>
                        <a:pt x="1410" y="2605"/>
                      </a:lnTo>
                      <a:lnTo>
                        <a:pt x="1408" y="2598"/>
                      </a:lnTo>
                      <a:lnTo>
                        <a:pt x="1406" y="2590"/>
                      </a:lnTo>
                      <a:lnTo>
                        <a:pt x="1404" y="2585"/>
                      </a:lnTo>
                      <a:lnTo>
                        <a:pt x="1402" y="2578"/>
                      </a:lnTo>
                      <a:lnTo>
                        <a:pt x="1402" y="2571"/>
                      </a:lnTo>
                      <a:lnTo>
                        <a:pt x="1402" y="2563"/>
                      </a:lnTo>
                      <a:lnTo>
                        <a:pt x="1404" y="2554"/>
                      </a:lnTo>
                      <a:lnTo>
                        <a:pt x="1404" y="2556"/>
                      </a:lnTo>
                      <a:lnTo>
                        <a:pt x="1404" y="2558"/>
                      </a:lnTo>
                      <a:lnTo>
                        <a:pt x="1404" y="2560"/>
                      </a:lnTo>
                      <a:lnTo>
                        <a:pt x="1404" y="2562"/>
                      </a:lnTo>
                      <a:lnTo>
                        <a:pt x="1404" y="2562"/>
                      </a:lnTo>
                      <a:lnTo>
                        <a:pt x="1404" y="2563"/>
                      </a:lnTo>
                      <a:lnTo>
                        <a:pt x="1406" y="2565"/>
                      </a:lnTo>
                      <a:lnTo>
                        <a:pt x="1406" y="2565"/>
                      </a:lnTo>
                      <a:lnTo>
                        <a:pt x="1408" y="2567"/>
                      </a:lnTo>
                      <a:lnTo>
                        <a:pt x="1410" y="2567"/>
                      </a:lnTo>
                      <a:lnTo>
                        <a:pt x="1413" y="2567"/>
                      </a:lnTo>
                      <a:lnTo>
                        <a:pt x="1415" y="2560"/>
                      </a:lnTo>
                      <a:lnTo>
                        <a:pt x="1415" y="2551"/>
                      </a:lnTo>
                      <a:lnTo>
                        <a:pt x="1415" y="2542"/>
                      </a:lnTo>
                      <a:lnTo>
                        <a:pt x="1413" y="2533"/>
                      </a:lnTo>
                      <a:lnTo>
                        <a:pt x="1411" y="2524"/>
                      </a:lnTo>
                      <a:lnTo>
                        <a:pt x="1410" y="2515"/>
                      </a:lnTo>
                      <a:lnTo>
                        <a:pt x="1408" y="2506"/>
                      </a:lnTo>
                      <a:lnTo>
                        <a:pt x="1406" y="2497"/>
                      </a:lnTo>
                      <a:lnTo>
                        <a:pt x="1406" y="2486"/>
                      </a:lnTo>
                      <a:lnTo>
                        <a:pt x="1406" y="2477"/>
                      </a:lnTo>
                      <a:lnTo>
                        <a:pt x="1417" y="2257"/>
                      </a:lnTo>
                      <a:lnTo>
                        <a:pt x="1415" y="2255"/>
                      </a:lnTo>
                      <a:lnTo>
                        <a:pt x="1411" y="2252"/>
                      </a:lnTo>
                      <a:lnTo>
                        <a:pt x="1410" y="2250"/>
                      </a:lnTo>
                      <a:lnTo>
                        <a:pt x="1408" y="2246"/>
                      </a:lnTo>
                      <a:lnTo>
                        <a:pt x="1406" y="2244"/>
                      </a:lnTo>
                      <a:lnTo>
                        <a:pt x="1404" y="2243"/>
                      </a:lnTo>
                      <a:lnTo>
                        <a:pt x="1402" y="2239"/>
                      </a:lnTo>
                      <a:lnTo>
                        <a:pt x="1400" y="2235"/>
                      </a:lnTo>
                      <a:lnTo>
                        <a:pt x="1400" y="2234"/>
                      </a:lnTo>
                      <a:lnTo>
                        <a:pt x="1402" y="2230"/>
                      </a:lnTo>
                      <a:lnTo>
                        <a:pt x="1442" y="2232"/>
                      </a:lnTo>
                      <a:lnTo>
                        <a:pt x="1437" y="2237"/>
                      </a:lnTo>
                      <a:lnTo>
                        <a:pt x="1439" y="2241"/>
                      </a:lnTo>
                      <a:lnTo>
                        <a:pt x="1441" y="2243"/>
                      </a:lnTo>
                      <a:lnTo>
                        <a:pt x="1444" y="2243"/>
                      </a:lnTo>
                      <a:lnTo>
                        <a:pt x="1446" y="2244"/>
                      </a:lnTo>
                      <a:lnTo>
                        <a:pt x="1448" y="2243"/>
                      </a:lnTo>
                      <a:lnTo>
                        <a:pt x="1450" y="2243"/>
                      </a:lnTo>
                      <a:lnTo>
                        <a:pt x="1452" y="2241"/>
                      </a:lnTo>
                      <a:lnTo>
                        <a:pt x="1454" y="2241"/>
                      </a:lnTo>
                      <a:lnTo>
                        <a:pt x="1458" y="2239"/>
                      </a:lnTo>
                      <a:lnTo>
                        <a:pt x="1460" y="2239"/>
                      </a:lnTo>
                      <a:lnTo>
                        <a:pt x="1462" y="2239"/>
                      </a:lnTo>
                      <a:lnTo>
                        <a:pt x="1462" y="2239"/>
                      </a:lnTo>
                      <a:lnTo>
                        <a:pt x="1460" y="2241"/>
                      </a:lnTo>
                      <a:lnTo>
                        <a:pt x="1458" y="2243"/>
                      </a:lnTo>
                      <a:lnTo>
                        <a:pt x="1456" y="2246"/>
                      </a:lnTo>
                      <a:lnTo>
                        <a:pt x="1456" y="2248"/>
                      </a:lnTo>
                      <a:lnTo>
                        <a:pt x="1454" y="2252"/>
                      </a:lnTo>
                      <a:lnTo>
                        <a:pt x="1456" y="2255"/>
                      </a:lnTo>
                      <a:lnTo>
                        <a:pt x="1458" y="2259"/>
                      </a:lnTo>
                      <a:lnTo>
                        <a:pt x="1464" y="2261"/>
                      </a:lnTo>
                      <a:lnTo>
                        <a:pt x="1473" y="2262"/>
                      </a:lnTo>
                      <a:lnTo>
                        <a:pt x="1483" y="2261"/>
                      </a:lnTo>
                      <a:lnTo>
                        <a:pt x="1491" y="2255"/>
                      </a:lnTo>
                      <a:lnTo>
                        <a:pt x="1495" y="2248"/>
                      </a:lnTo>
                      <a:lnTo>
                        <a:pt x="1501" y="2241"/>
                      </a:lnTo>
                      <a:lnTo>
                        <a:pt x="1504" y="2232"/>
                      </a:lnTo>
                      <a:lnTo>
                        <a:pt x="1510" y="2226"/>
                      </a:lnTo>
                      <a:lnTo>
                        <a:pt x="1514" y="2223"/>
                      </a:lnTo>
                      <a:lnTo>
                        <a:pt x="1522" y="2221"/>
                      </a:lnTo>
                      <a:lnTo>
                        <a:pt x="1532" y="2224"/>
                      </a:lnTo>
                      <a:lnTo>
                        <a:pt x="1599" y="2190"/>
                      </a:lnTo>
                      <a:lnTo>
                        <a:pt x="1605" y="2215"/>
                      </a:lnTo>
                      <a:lnTo>
                        <a:pt x="1607" y="2241"/>
                      </a:lnTo>
                      <a:lnTo>
                        <a:pt x="1607" y="2268"/>
                      </a:lnTo>
                      <a:lnTo>
                        <a:pt x="1607" y="2295"/>
                      </a:lnTo>
                      <a:lnTo>
                        <a:pt x="1603" y="2324"/>
                      </a:lnTo>
                      <a:lnTo>
                        <a:pt x="1601" y="2351"/>
                      </a:lnTo>
                      <a:lnTo>
                        <a:pt x="1599" y="2380"/>
                      </a:lnTo>
                      <a:lnTo>
                        <a:pt x="1595" y="2407"/>
                      </a:lnTo>
                      <a:lnTo>
                        <a:pt x="1594" y="2432"/>
                      </a:lnTo>
                      <a:lnTo>
                        <a:pt x="1594" y="2459"/>
                      </a:lnTo>
                      <a:lnTo>
                        <a:pt x="1624" y="2279"/>
                      </a:lnTo>
                      <a:lnTo>
                        <a:pt x="1623" y="2307"/>
                      </a:lnTo>
                      <a:lnTo>
                        <a:pt x="1621" y="2336"/>
                      </a:lnTo>
                      <a:lnTo>
                        <a:pt x="1623" y="2365"/>
                      </a:lnTo>
                      <a:lnTo>
                        <a:pt x="1624" y="2394"/>
                      </a:lnTo>
                      <a:lnTo>
                        <a:pt x="1628" y="2423"/>
                      </a:lnTo>
                      <a:lnTo>
                        <a:pt x="1632" y="2450"/>
                      </a:lnTo>
                      <a:lnTo>
                        <a:pt x="1634" y="2479"/>
                      </a:lnTo>
                      <a:lnTo>
                        <a:pt x="1634" y="2508"/>
                      </a:lnTo>
                      <a:lnTo>
                        <a:pt x="1634" y="2536"/>
                      </a:lnTo>
                      <a:lnTo>
                        <a:pt x="1632" y="2565"/>
                      </a:lnTo>
                      <a:lnTo>
                        <a:pt x="1634" y="2581"/>
                      </a:lnTo>
                      <a:lnTo>
                        <a:pt x="1636" y="2596"/>
                      </a:lnTo>
                      <a:lnTo>
                        <a:pt x="1636" y="2612"/>
                      </a:lnTo>
                      <a:lnTo>
                        <a:pt x="1638" y="2628"/>
                      </a:lnTo>
                      <a:lnTo>
                        <a:pt x="1638" y="2645"/>
                      </a:lnTo>
                      <a:lnTo>
                        <a:pt x="1638" y="2661"/>
                      </a:lnTo>
                      <a:lnTo>
                        <a:pt x="1638" y="2677"/>
                      </a:lnTo>
                      <a:lnTo>
                        <a:pt x="1636" y="2693"/>
                      </a:lnTo>
                      <a:lnTo>
                        <a:pt x="1636" y="2709"/>
                      </a:lnTo>
                      <a:lnTo>
                        <a:pt x="1634" y="2727"/>
                      </a:lnTo>
                      <a:lnTo>
                        <a:pt x="1632" y="2744"/>
                      </a:lnTo>
                      <a:lnTo>
                        <a:pt x="1630" y="2742"/>
                      </a:lnTo>
                      <a:lnTo>
                        <a:pt x="1628" y="2740"/>
                      </a:lnTo>
                      <a:lnTo>
                        <a:pt x="1628" y="2738"/>
                      </a:lnTo>
                      <a:lnTo>
                        <a:pt x="1628" y="2736"/>
                      </a:lnTo>
                      <a:lnTo>
                        <a:pt x="1626" y="2735"/>
                      </a:lnTo>
                      <a:lnTo>
                        <a:pt x="1626" y="2733"/>
                      </a:lnTo>
                      <a:lnTo>
                        <a:pt x="1624" y="2731"/>
                      </a:lnTo>
                      <a:lnTo>
                        <a:pt x="1624" y="2729"/>
                      </a:lnTo>
                      <a:lnTo>
                        <a:pt x="1623" y="2729"/>
                      </a:lnTo>
                      <a:lnTo>
                        <a:pt x="1621" y="2729"/>
                      </a:lnTo>
                      <a:lnTo>
                        <a:pt x="1621" y="2745"/>
                      </a:lnTo>
                      <a:lnTo>
                        <a:pt x="1621" y="2764"/>
                      </a:lnTo>
                      <a:lnTo>
                        <a:pt x="1617" y="2780"/>
                      </a:lnTo>
                      <a:lnTo>
                        <a:pt x="1613" y="2796"/>
                      </a:lnTo>
                      <a:lnTo>
                        <a:pt x="1609" y="2812"/>
                      </a:lnTo>
                      <a:lnTo>
                        <a:pt x="1603" y="2828"/>
                      </a:lnTo>
                      <a:lnTo>
                        <a:pt x="1601" y="2846"/>
                      </a:lnTo>
                      <a:lnTo>
                        <a:pt x="1597" y="2863"/>
                      </a:lnTo>
                      <a:lnTo>
                        <a:pt x="1599" y="2881"/>
                      </a:lnTo>
                      <a:lnTo>
                        <a:pt x="1601" y="2899"/>
                      </a:lnTo>
                      <a:lnTo>
                        <a:pt x="1607" y="2891"/>
                      </a:lnTo>
                      <a:lnTo>
                        <a:pt x="1611" y="2882"/>
                      </a:lnTo>
                      <a:lnTo>
                        <a:pt x="1613" y="2873"/>
                      </a:lnTo>
                      <a:lnTo>
                        <a:pt x="1615" y="2864"/>
                      </a:lnTo>
                      <a:lnTo>
                        <a:pt x="1615" y="2855"/>
                      </a:lnTo>
                      <a:lnTo>
                        <a:pt x="1615" y="2846"/>
                      </a:lnTo>
                      <a:lnTo>
                        <a:pt x="1617" y="2837"/>
                      </a:lnTo>
                      <a:lnTo>
                        <a:pt x="1619" y="2828"/>
                      </a:lnTo>
                      <a:lnTo>
                        <a:pt x="1621" y="2821"/>
                      </a:lnTo>
                      <a:lnTo>
                        <a:pt x="1623" y="2812"/>
                      </a:lnTo>
                      <a:lnTo>
                        <a:pt x="1636" y="2818"/>
                      </a:lnTo>
                      <a:lnTo>
                        <a:pt x="1636" y="2814"/>
                      </a:lnTo>
                      <a:lnTo>
                        <a:pt x="1628" y="3099"/>
                      </a:lnTo>
                      <a:lnTo>
                        <a:pt x="1628" y="3102"/>
                      </a:lnTo>
                      <a:lnTo>
                        <a:pt x="1626" y="3088"/>
                      </a:lnTo>
                      <a:lnTo>
                        <a:pt x="1626" y="3074"/>
                      </a:lnTo>
                      <a:lnTo>
                        <a:pt x="1626" y="3057"/>
                      </a:lnTo>
                      <a:lnTo>
                        <a:pt x="1628" y="3043"/>
                      </a:lnTo>
                      <a:lnTo>
                        <a:pt x="1630" y="3027"/>
                      </a:lnTo>
                      <a:lnTo>
                        <a:pt x="1632" y="3010"/>
                      </a:lnTo>
                      <a:lnTo>
                        <a:pt x="1632" y="2994"/>
                      </a:lnTo>
                      <a:lnTo>
                        <a:pt x="1630" y="2978"/>
                      </a:lnTo>
                      <a:lnTo>
                        <a:pt x="1624" y="2964"/>
                      </a:lnTo>
                      <a:lnTo>
                        <a:pt x="1617" y="2949"/>
                      </a:lnTo>
                      <a:lnTo>
                        <a:pt x="1607" y="2947"/>
                      </a:lnTo>
                      <a:lnTo>
                        <a:pt x="1599" y="2949"/>
                      </a:lnTo>
                      <a:lnTo>
                        <a:pt x="1595" y="2953"/>
                      </a:lnTo>
                      <a:lnTo>
                        <a:pt x="1592" y="2960"/>
                      </a:lnTo>
                      <a:lnTo>
                        <a:pt x="1590" y="2967"/>
                      </a:lnTo>
                      <a:lnTo>
                        <a:pt x="1590" y="2976"/>
                      </a:lnTo>
                      <a:lnTo>
                        <a:pt x="1590" y="2985"/>
                      </a:lnTo>
                      <a:lnTo>
                        <a:pt x="1588" y="2994"/>
                      </a:lnTo>
                      <a:lnTo>
                        <a:pt x="1588" y="3003"/>
                      </a:lnTo>
                      <a:lnTo>
                        <a:pt x="1586" y="3009"/>
                      </a:lnTo>
                      <a:lnTo>
                        <a:pt x="1584" y="3010"/>
                      </a:lnTo>
                      <a:lnTo>
                        <a:pt x="1584" y="3010"/>
                      </a:lnTo>
                      <a:lnTo>
                        <a:pt x="1584" y="3012"/>
                      </a:lnTo>
                      <a:lnTo>
                        <a:pt x="1584" y="3014"/>
                      </a:lnTo>
                      <a:lnTo>
                        <a:pt x="1586" y="3014"/>
                      </a:lnTo>
                      <a:lnTo>
                        <a:pt x="1586" y="3016"/>
                      </a:lnTo>
                      <a:lnTo>
                        <a:pt x="1586" y="3016"/>
                      </a:lnTo>
                      <a:lnTo>
                        <a:pt x="1588" y="3018"/>
                      </a:lnTo>
                      <a:lnTo>
                        <a:pt x="1588" y="3018"/>
                      </a:lnTo>
                      <a:lnTo>
                        <a:pt x="1588" y="3018"/>
                      </a:lnTo>
                      <a:lnTo>
                        <a:pt x="1611" y="2980"/>
                      </a:lnTo>
                      <a:lnTo>
                        <a:pt x="1615" y="2998"/>
                      </a:lnTo>
                      <a:lnTo>
                        <a:pt x="1615" y="3016"/>
                      </a:lnTo>
                      <a:lnTo>
                        <a:pt x="1615" y="3036"/>
                      </a:lnTo>
                      <a:lnTo>
                        <a:pt x="1615" y="3057"/>
                      </a:lnTo>
                      <a:lnTo>
                        <a:pt x="1613" y="3079"/>
                      </a:lnTo>
                      <a:lnTo>
                        <a:pt x="1613" y="3101"/>
                      </a:lnTo>
                      <a:lnTo>
                        <a:pt x="1615" y="3122"/>
                      </a:lnTo>
                      <a:lnTo>
                        <a:pt x="1617" y="3144"/>
                      </a:lnTo>
                      <a:lnTo>
                        <a:pt x="1623" y="3166"/>
                      </a:lnTo>
                      <a:lnTo>
                        <a:pt x="1632" y="3185"/>
                      </a:lnTo>
                      <a:lnTo>
                        <a:pt x="1634" y="3227"/>
                      </a:lnTo>
                      <a:lnTo>
                        <a:pt x="1638" y="3270"/>
                      </a:lnTo>
                      <a:lnTo>
                        <a:pt x="1640" y="3312"/>
                      </a:lnTo>
                      <a:lnTo>
                        <a:pt x="1642" y="3355"/>
                      </a:lnTo>
                      <a:lnTo>
                        <a:pt x="1644" y="3396"/>
                      </a:lnTo>
                      <a:lnTo>
                        <a:pt x="1646" y="3440"/>
                      </a:lnTo>
                      <a:lnTo>
                        <a:pt x="1648" y="3481"/>
                      </a:lnTo>
                      <a:lnTo>
                        <a:pt x="1652" y="3524"/>
                      </a:lnTo>
                      <a:lnTo>
                        <a:pt x="1654" y="3566"/>
                      </a:lnTo>
                      <a:lnTo>
                        <a:pt x="1657" y="3609"/>
                      </a:lnTo>
                      <a:lnTo>
                        <a:pt x="1669" y="3674"/>
                      </a:lnTo>
                      <a:lnTo>
                        <a:pt x="1683" y="3739"/>
                      </a:lnTo>
                      <a:lnTo>
                        <a:pt x="1696" y="3805"/>
                      </a:lnTo>
                      <a:lnTo>
                        <a:pt x="1708" y="3870"/>
                      </a:lnTo>
                      <a:lnTo>
                        <a:pt x="1721" y="3937"/>
                      </a:lnTo>
                      <a:lnTo>
                        <a:pt x="1735" y="4002"/>
                      </a:lnTo>
                      <a:lnTo>
                        <a:pt x="1748" y="4067"/>
                      </a:lnTo>
                      <a:lnTo>
                        <a:pt x="1764" y="4134"/>
                      </a:lnTo>
                      <a:lnTo>
                        <a:pt x="1777" y="4198"/>
                      </a:lnTo>
                      <a:lnTo>
                        <a:pt x="1793" y="4262"/>
                      </a:lnTo>
                      <a:lnTo>
                        <a:pt x="1700" y="4281"/>
                      </a:lnTo>
                      <a:lnTo>
                        <a:pt x="1611" y="4312"/>
                      </a:lnTo>
                      <a:lnTo>
                        <a:pt x="1520" y="4350"/>
                      </a:lnTo>
                      <a:lnTo>
                        <a:pt x="1431" y="4393"/>
                      </a:lnTo>
                      <a:lnTo>
                        <a:pt x="1344" y="4438"/>
                      </a:lnTo>
                      <a:lnTo>
                        <a:pt x="1255" y="4483"/>
                      </a:lnTo>
                      <a:lnTo>
                        <a:pt x="1164" y="4527"/>
                      </a:lnTo>
                      <a:lnTo>
                        <a:pt x="1071" y="4563"/>
                      </a:lnTo>
                      <a:lnTo>
                        <a:pt x="976" y="4591"/>
                      </a:lnTo>
                      <a:lnTo>
                        <a:pt x="877" y="4608"/>
                      </a:lnTo>
                      <a:lnTo>
                        <a:pt x="854" y="4606"/>
                      </a:lnTo>
                      <a:lnTo>
                        <a:pt x="854" y="4604"/>
                      </a:lnTo>
                      <a:lnTo>
                        <a:pt x="856" y="4600"/>
                      </a:lnTo>
                      <a:lnTo>
                        <a:pt x="856" y="4599"/>
                      </a:lnTo>
                      <a:lnTo>
                        <a:pt x="854" y="4597"/>
                      </a:lnTo>
                      <a:lnTo>
                        <a:pt x="854" y="4595"/>
                      </a:lnTo>
                      <a:lnTo>
                        <a:pt x="852" y="4593"/>
                      </a:lnTo>
                      <a:lnTo>
                        <a:pt x="850" y="4591"/>
                      </a:lnTo>
                      <a:lnTo>
                        <a:pt x="848" y="4591"/>
                      </a:lnTo>
                      <a:lnTo>
                        <a:pt x="848" y="4590"/>
                      </a:lnTo>
                      <a:lnTo>
                        <a:pt x="846" y="4588"/>
                      </a:lnTo>
                      <a:lnTo>
                        <a:pt x="802" y="4600"/>
                      </a:lnTo>
                      <a:lnTo>
                        <a:pt x="757" y="4608"/>
                      </a:lnTo>
                      <a:lnTo>
                        <a:pt x="713" y="4611"/>
                      </a:lnTo>
                      <a:lnTo>
                        <a:pt x="666" y="4611"/>
                      </a:lnTo>
                      <a:lnTo>
                        <a:pt x="620" y="4608"/>
                      </a:lnTo>
                      <a:lnTo>
                        <a:pt x="571" y="4602"/>
                      </a:lnTo>
                      <a:lnTo>
                        <a:pt x="525" y="4595"/>
                      </a:lnTo>
                      <a:lnTo>
                        <a:pt x="480" y="4586"/>
                      </a:lnTo>
                      <a:lnTo>
                        <a:pt x="434" y="4579"/>
                      </a:lnTo>
                      <a:lnTo>
                        <a:pt x="391" y="4570"/>
                      </a:lnTo>
                      <a:lnTo>
                        <a:pt x="383" y="4548"/>
                      </a:lnTo>
                      <a:lnTo>
                        <a:pt x="381" y="4548"/>
                      </a:lnTo>
                      <a:lnTo>
                        <a:pt x="379" y="4548"/>
                      </a:lnTo>
                      <a:lnTo>
                        <a:pt x="378" y="4548"/>
                      </a:lnTo>
                      <a:lnTo>
                        <a:pt x="378" y="4550"/>
                      </a:lnTo>
                      <a:lnTo>
                        <a:pt x="376" y="4550"/>
                      </a:lnTo>
                      <a:lnTo>
                        <a:pt x="374" y="4552"/>
                      </a:lnTo>
                      <a:lnTo>
                        <a:pt x="374" y="4554"/>
                      </a:lnTo>
                      <a:lnTo>
                        <a:pt x="372" y="4554"/>
                      </a:lnTo>
                      <a:lnTo>
                        <a:pt x="370" y="4555"/>
                      </a:lnTo>
                      <a:lnTo>
                        <a:pt x="368" y="4557"/>
                      </a:lnTo>
                      <a:lnTo>
                        <a:pt x="368" y="4566"/>
                      </a:lnTo>
                      <a:lnTo>
                        <a:pt x="366" y="4564"/>
                      </a:lnTo>
                      <a:lnTo>
                        <a:pt x="362" y="4563"/>
                      </a:lnTo>
                      <a:lnTo>
                        <a:pt x="360" y="4561"/>
                      </a:lnTo>
                      <a:lnTo>
                        <a:pt x="358" y="4559"/>
                      </a:lnTo>
                      <a:lnTo>
                        <a:pt x="356" y="4557"/>
                      </a:lnTo>
                      <a:lnTo>
                        <a:pt x="352" y="4555"/>
                      </a:lnTo>
                      <a:lnTo>
                        <a:pt x="350" y="4555"/>
                      </a:lnTo>
                      <a:lnTo>
                        <a:pt x="348" y="4555"/>
                      </a:lnTo>
                      <a:lnTo>
                        <a:pt x="345" y="4554"/>
                      </a:lnTo>
                      <a:lnTo>
                        <a:pt x="341" y="4555"/>
                      </a:lnTo>
                      <a:lnTo>
                        <a:pt x="343" y="4552"/>
                      </a:lnTo>
                      <a:lnTo>
                        <a:pt x="345" y="4550"/>
                      </a:lnTo>
                      <a:lnTo>
                        <a:pt x="345" y="4548"/>
                      </a:lnTo>
                      <a:lnTo>
                        <a:pt x="347" y="4545"/>
                      </a:lnTo>
                      <a:lnTo>
                        <a:pt x="347" y="4543"/>
                      </a:lnTo>
                      <a:lnTo>
                        <a:pt x="347" y="4539"/>
                      </a:lnTo>
                      <a:lnTo>
                        <a:pt x="347" y="4537"/>
                      </a:lnTo>
                      <a:lnTo>
                        <a:pt x="347" y="4534"/>
                      </a:lnTo>
                      <a:lnTo>
                        <a:pt x="347" y="4532"/>
                      </a:lnTo>
                      <a:lnTo>
                        <a:pt x="347" y="4530"/>
                      </a:lnTo>
                      <a:lnTo>
                        <a:pt x="343" y="4525"/>
                      </a:lnTo>
                      <a:lnTo>
                        <a:pt x="337" y="4530"/>
                      </a:lnTo>
                      <a:lnTo>
                        <a:pt x="331" y="4534"/>
                      </a:lnTo>
                      <a:lnTo>
                        <a:pt x="325" y="4539"/>
                      </a:lnTo>
                      <a:lnTo>
                        <a:pt x="319" y="4541"/>
                      </a:lnTo>
                      <a:lnTo>
                        <a:pt x="316" y="4543"/>
                      </a:lnTo>
                      <a:lnTo>
                        <a:pt x="310" y="4545"/>
                      </a:lnTo>
                      <a:lnTo>
                        <a:pt x="304" y="4543"/>
                      </a:lnTo>
                      <a:lnTo>
                        <a:pt x="298" y="4541"/>
                      </a:lnTo>
                      <a:lnTo>
                        <a:pt x="290" y="4537"/>
                      </a:lnTo>
                      <a:lnTo>
                        <a:pt x="283" y="4532"/>
                      </a:lnTo>
                      <a:lnTo>
                        <a:pt x="279" y="4528"/>
                      </a:lnTo>
                      <a:lnTo>
                        <a:pt x="279" y="4523"/>
                      </a:lnTo>
                      <a:lnTo>
                        <a:pt x="279" y="4516"/>
                      </a:lnTo>
                      <a:lnTo>
                        <a:pt x="281" y="4510"/>
                      </a:lnTo>
                      <a:lnTo>
                        <a:pt x="283" y="4503"/>
                      </a:lnTo>
                      <a:lnTo>
                        <a:pt x="285" y="4498"/>
                      </a:lnTo>
                      <a:lnTo>
                        <a:pt x="287" y="4492"/>
                      </a:lnTo>
                      <a:lnTo>
                        <a:pt x="287" y="4487"/>
                      </a:lnTo>
                      <a:lnTo>
                        <a:pt x="285" y="4481"/>
                      </a:lnTo>
                      <a:lnTo>
                        <a:pt x="281" y="4476"/>
                      </a:lnTo>
                      <a:lnTo>
                        <a:pt x="252" y="4514"/>
                      </a:lnTo>
                      <a:lnTo>
                        <a:pt x="252" y="4510"/>
                      </a:lnTo>
                      <a:lnTo>
                        <a:pt x="254" y="4505"/>
                      </a:lnTo>
                      <a:lnTo>
                        <a:pt x="256" y="4499"/>
                      </a:lnTo>
                      <a:lnTo>
                        <a:pt x="259" y="4494"/>
                      </a:lnTo>
                      <a:lnTo>
                        <a:pt x="261" y="4490"/>
                      </a:lnTo>
                      <a:lnTo>
                        <a:pt x="263" y="4485"/>
                      </a:lnTo>
                      <a:lnTo>
                        <a:pt x="263" y="4480"/>
                      </a:lnTo>
                      <a:lnTo>
                        <a:pt x="261" y="4476"/>
                      </a:lnTo>
                      <a:lnTo>
                        <a:pt x="259" y="4471"/>
                      </a:lnTo>
                      <a:lnTo>
                        <a:pt x="256" y="4465"/>
                      </a:lnTo>
                      <a:lnTo>
                        <a:pt x="250" y="4469"/>
                      </a:lnTo>
                      <a:lnTo>
                        <a:pt x="246" y="4472"/>
                      </a:lnTo>
                      <a:lnTo>
                        <a:pt x="244" y="4476"/>
                      </a:lnTo>
                      <a:lnTo>
                        <a:pt x="242" y="4481"/>
                      </a:lnTo>
                      <a:lnTo>
                        <a:pt x="240" y="4487"/>
                      </a:lnTo>
                      <a:lnTo>
                        <a:pt x="240" y="4490"/>
                      </a:lnTo>
                      <a:lnTo>
                        <a:pt x="236" y="4494"/>
                      </a:lnTo>
                      <a:lnTo>
                        <a:pt x="234" y="4498"/>
                      </a:lnTo>
                      <a:lnTo>
                        <a:pt x="228" y="4499"/>
                      </a:lnTo>
                      <a:lnTo>
                        <a:pt x="223" y="4499"/>
                      </a:lnTo>
                      <a:lnTo>
                        <a:pt x="219" y="4492"/>
                      </a:lnTo>
                      <a:lnTo>
                        <a:pt x="219" y="4483"/>
                      </a:lnTo>
                      <a:lnTo>
                        <a:pt x="221" y="4476"/>
                      </a:lnTo>
                      <a:lnTo>
                        <a:pt x="223" y="4471"/>
                      </a:lnTo>
                      <a:lnTo>
                        <a:pt x="227" y="4463"/>
                      </a:lnTo>
                      <a:lnTo>
                        <a:pt x="230" y="4456"/>
                      </a:lnTo>
                      <a:lnTo>
                        <a:pt x="232" y="4449"/>
                      </a:lnTo>
                      <a:lnTo>
                        <a:pt x="234" y="4442"/>
                      </a:lnTo>
                      <a:lnTo>
                        <a:pt x="232" y="4435"/>
                      </a:lnTo>
                      <a:lnTo>
                        <a:pt x="228" y="4426"/>
                      </a:lnTo>
                      <a:lnTo>
                        <a:pt x="223" y="4429"/>
                      </a:lnTo>
                      <a:lnTo>
                        <a:pt x="219" y="4435"/>
                      </a:lnTo>
                      <a:lnTo>
                        <a:pt x="215" y="4442"/>
                      </a:lnTo>
                      <a:lnTo>
                        <a:pt x="213" y="4449"/>
                      </a:lnTo>
                      <a:lnTo>
                        <a:pt x="209" y="4456"/>
                      </a:lnTo>
                      <a:lnTo>
                        <a:pt x="205" y="4462"/>
                      </a:lnTo>
                      <a:lnTo>
                        <a:pt x="201" y="4469"/>
                      </a:lnTo>
                      <a:lnTo>
                        <a:pt x="196" y="4472"/>
                      </a:lnTo>
                      <a:lnTo>
                        <a:pt x="188" y="4476"/>
                      </a:lnTo>
                      <a:lnTo>
                        <a:pt x="178" y="4476"/>
                      </a:lnTo>
                      <a:lnTo>
                        <a:pt x="182" y="4467"/>
                      </a:lnTo>
                      <a:lnTo>
                        <a:pt x="186" y="4456"/>
                      </a:lnTo>
                      <a:lnTo>
                        <a:pt x="190" y="4447"/>
                      </a:lnTo>
                      <a:lnTo>
                        <a:pt x="194" y="4438"/>
                      </a:lnTo>
                      <a:lnTo>
                        <a:pt x="197" y="4429"/>
                      </a:lnTo>
                      <a:lnTo>
                        <a:pt x="201" y="4420"/>
                      </a:lnTo>
                      <a:lnTo>
                        <a:pt x="203" y="4411"/>
                      </a:lnTo>
                      <a:lnTo>
                        <a:pt x="205" y="4402"/>
                      </a:lnTo>
                      <a:lnTo>
                        <a:pt x="203" y="4393"/>
                      </a:lnTo>
                      <a:lnTo>
                        <a:pt x="201" y="4384"/>
                      </a:lnTo>
                      <a:lnTo>
                        <a:pt x="163" y="4456"/>
                      </a:lnTo>
                      <a:lnTo>
                        <a:pt x="155" y="4451"/>
                      </a:lnTo>
                      <a:lnTo>
                        <a:pt x="149" y="4445"/>
                      </a:lnTo>
                      <a:lnTo>
                        <a:pt x="147" y="4438"/>
                      </a:lnTo>
                      <a:lnTo>
                        <a:pt x="147" y="4431"/>
                      </a:lnTo>
                      <a:lnTo>
                        <a:pt x="151" y="4424"/>
                      </a:lnTo>
                      <a:lnTo>
                        <a:pt x="153" y="4417"/>
                      </a:lnTo>
                      <a:lnTo>
                        <a:pt x="157" y="4409"/>
                      </a:lnTo>
                      <a:lnTo>
                        <a:pt x="161" y="4402"/>
                      </a:lnTo>
                      <a:lnTo>
                        <a:pt x="165" y="4395"/>
                      </a:lnTo>
                      <a:lnTo>
                        <a:pt x="168" y="4388"/>
                      </a:lnTo>
                      <a:lnTo>
                        <a:pt x="166" y="4382"/>
                      </a:lnTo>
                      <a:lnTo>
                        <a:pt x="168" y="4379"/>
                      </a:lnTo>
                      <a:lnTo>
                        <a:pt x="170" y="4373"/>
                      </a:lnTo>
                      <a:lnTo>
                        <a:pt x="172" y="4370"/>
                      </a:lnTo>
                      <a:lnTo>
                        <a:pt x="174" y="4366"/>
                      </a:lnTo>
                      <a:lnTo>
                        <a:pt x="176" y="4362"/>
                      </a:lnTo>
                      <a:lnTo>
                        <a:pt x="178" y="4359"/>
                      </a:lnTo>
                      <a:lnTo>
                        <a:pt x="178" y="4353"/>
                      </a:lnTo>
                      <a:lnTo>
                        <a:pt x="178" y="4350"/>
                      </a:lnTo>
                      <a:lnTo>
                        <a:pt x="174" y="4344"/>
                      </a:lnTo>
                      <a:lnTo>
                        <a:pt x="168" y="4352"/>
                      </a:lnTo>
                      <a:lnTo>
                        <a:pt x="161" y="4359"/>
                      </a:lnTo>
                      <a:lnTo>
                        <a:pt x="157" y="4366"/>
                      </a:lnTo>
                      <a:lnTo>
                        <a:pt x="151" y="4375"/>
                      </a:lnTo>
                      <a:lnTo>
                        <a:pt x="147" y="4384"/>
                      </a:lnTo>
                      <a:lnTo>
                        <a:pt x="143" y="4393"/>
                      </a:lnTo>
                      <a:lnTo>
                        <a:pt x="141" y="4402"/>
                      </a:lnTo>
                      <a:lnTo>
                        <a:pt x="139" y="4413"/>
                      </a:lnTo>
                      <a:lnTo>
                        <a:pt x="137" y="4422"/>
                      </a:lnTo>
                      <a:lnTo>
                        <a:pt x="135" y="4433"/>
                      </a:lnTo>
                      <a:lnTo>
                        <a:pt x="122" y="4413"/>
                      </a:lnTo>
                      <a:lnTo>
                        <a:pt x="124" y="4399"/>
                      </a:lnTo>
                      <a:lnTo>
                        <a:pt x="126" y="4384"/>
                      </a:lnTo>
                      <a:lnTo>
                        <a:pt x="130" y="4370"/>
                      </a:lnTo>
                      <a:lnTo>
                        <a:pt x="135" y="4355"/>
                      </a:lnTo>
                      <a:lnTo>
                        <a:pt x="139" y="4341"/>
                      </a:lnTo>
                      <a:lnTo>
                        <a:pt x="145" y="4326"/>
                      </a:lnTo>
                      <a:lnTo>
                        <a:pt x="151" y="4314"/>
                      </a:lnTo>
                      <a:lnTo>
                        <a:pt x="155" y="4301"/>
                      </a:lnTo>
                      <a:lnTo>
                        <a:pt x="159" y="4287"/>
                      </a:lnTo>
                      <a:lnTo>
                        <a:pt x="163" y="4274"/>
                      </a:lnTo>
                      <a:lnTo>
                        <a:pt x="126" y="4323"/>
                      </a:lnTo>
                      <a:lnTo>
                        <a:pt x="124" y="4317"/>
                      </a:lnTo>
                      <a:lnTo>
                        <a:pt x="122" y="4310"/>
                      </a:lnTo>
                      <a:lnTo>
                        <a:pt x="122" y="4303"/>
                      </a:lnTo>
                      <a:lnTo>
                        <a:pt x="124" y="4296"/>
                      </a:lnTo>
                      <a:lnTo>
                        <a:pt x="126" y="4287"/>
                      </a:lnTo>
                      <a:lnTo>
                        <a:pt x="128" y="4280"/>
                      </a:lnTo>
                      <a:lnTo>
                        <a:pt x="130" y="4272"/>
                      </a:lnTo>
                      <a:lnTo>
                        <a:pt x="132" y="4263"/>
                      </a:lnTo>
                      <a:lnTo>
                        <a:pt x="132" y="4256"/>
                      </a:lnTo>
                      <a:lnTo>
                        <a:pt x="132" y="4251"/>
                      </a:lnTo>
                      <a:lnTo>
                        <a:pt x="110" y="4283"/>
                      </a:lnTo>
                      <a:lnTo>
                        <a:pt x="101" y="4271"/>
                      </a:lnTo>
                      <a:lnTo>
                        <a:pt x="97" y="4258"/>
                      </a:lnTo>
                      <a:lnTo>
                        <a:pt x="97" y="4245"/>
                      </a:lnTo>
                      <a:lnTo>
                        <a:pt x="99" y="4233"/>
                      </a:lnTo>
                      <a:lnTo>
                        <a:pt x="103" y="4220"/>
                      </a:lnTo>
                      <a:lnTo>
                        <a:pt x="105" y="4207"/>
                      </a:lnTo>
                      <a:lnTo>
                        <a:pt x="108" y="4195"/>
                      </a:lnTo>
                      <a:lnTo>
                        <a:pt x="108" y="4182"/>
                      </a:lnTo>
                      <a:lnTo>
                        <a:pt x="106" y="4170"/>
                      </a:lnTo>
                      <a:lnTo>
                        <a:pt x="101" y="4157"/>
                      </a:lnTo>
                      <a:lnTo>
                        <a:pt x="108" y="4137"/>
                      </a:lnTo>
                      <a:lnTo>
                        <a:pt x="116" y="4116"/>
                      </a:lnTo>
                      <a:lnTo>
                        <a:pt x="122" y="4092"/>
                      </a:lnTo>
                      <a:lnTo>
                        <a:pt x="130" y="4070"/>
                      </a:lnTo>
                      <a:lnTo>
                        <a:pt x="135" y="4049"/>
                      </a:lnTo>
                      <a:lnTo>
                        <a:pt x="141" y="4027"/>
                      </a:lnTo>
                      <a:lnTo>
                        <a:pt x="145" y="4004"/>
                      </a:lnTo>
                      <a:lnTo>
                        <a:pt x="151" y="3982"/>
                      </a:lnTo>
                      <a:lnTo>
                        <a:pt x="155" y="3960"/>
                      </a:lnTo>
                      <a:lnTo>
                        <a:pt x="159" y="3939"/>
                      </a:lnTo>
                      <a:lnTo>
                        <a:pt x="149" y="3960"/>
                      </a:lnTo>
                      <a:lnTo>
                        <a:pt x="139" y="3984"/>
                      </a:lnTo>
                      <a:lnTo>
                        <a:pt x="132" y="4006"/>
                      </a:lnTo>
                      <a:lnTo>
                        <a:pt x="126" y="4029"/>
                      </a:lnTo>
                      <a:lnTo>
                        <a:pt x="118" y="4052"/>
                      </a:lnTo>
                      <a:lnTo>
                        <a:pt x="110" y="4076"/>
                      </a:lnTo>
                      <a:lnTo>
                        <a:pt x="103" y="4099"/>
                      </a:lnTo>
                      <a:lnTo>
                        <a:pt x="93" y="4121"/>
                      </a:lnTo>
                      <a:lnTo>
                        <a:pt x="83" y="4143"/>
                      </a:lnTo>
                      <a:lnTo>
                        <a:pt x="72" y="4164"/>
                      </a:lnTo>
                      <a:lnTo>
                        <a:pt x="68" y="4159"/>
                      </a:lnTo>
                      <a:lnTo>
                        <a:pt x="68" y="4155"/>
                      </a:lnTo>
                      <a:lnTo>
                        <a:pt x="68" y="4150"/>
                      </a:lnTo>
                      <a:lnTo>
                        <a:pt x="70" y="4148"/>
                      </a:lnTo>
                      <a:lnTo>
                        <a:pt x="74" y="4144"/>
                      </a:lnTo>
                      <a:lnTo>
                        <a:pt x="75" y="4141"/>
                      </a:lnTo>
                      <a:lnTo>
                        <a:pt x="79" y="4139"/>
                      </a:lnTo>
                      <a:lnTo>
                        <a:pt x="81" y="4135"/>
                      </a:lnTo>
                      <a:lnTo>
                        <a:pt x="83" y="4130"/>
                      </a:lnTo>
                      <a:lnTo>
                        <a:pt x="85" y="4126"/>
                      </a:lnTo>
                      <a:lnTo>
                        <a:pt x="91" y="4099"/>
                      </a:lnTo>
                      <a:lnTo>
                        <a:pt x="99" y="4072"/>
                      </a:lnTo>
                      <a:lnTo>
                        <a:pt x="106" y="4047"/>
                      </a:lnTo>
                      <a:lnTo>
                        <a:pt x="116" y="4022"/>
                      </a:lnTo>
                      <a:lnTo>
                        <a:pt x="124" y="3995"/>
                      </a:lnTo>
                      <a:lnTo>
                        <a:pt x="134" y="3970"/>
                      </a:lnTo>
                      <a:lnTo>
                        <a:pt x="143" y="3944"/>
                      </a:lnTo>
                      <a:lnTo>
                        <a:pt x="151" y="3919"/>
                      </a:lnTo>
                      <a:lnTo>
                        <a:pt x="161" y="3894"/>
                      </a:lnTo>
                      <a:lnTo>
                        <a:pt x="170" y="3867"/>
                      </a:lnTo>
                      <a:lnTo>
                        <a:pt x="165" y="3861"/>
                      </a:lnTo>
                      <a:lnTo>
                        <a:pt x="151" y="3885"/>
                      </a:lnTo>
                      <a:lnTo>
                        <a:pt x="139" y="3908"/>
                      </a:lnTo>
                      <a:lnTo>
                        <a:pt x="130" y="3932"/>
                      </a:lnTo>
                      <a:lnTo>
                        <a:pt x="120" y="3957"/>
                      </a:lnTo>
                      <a:lnTo>
                        <a:pt x="112" y="3982"/>
                      </a:lnTo>
                      <a:lnTo>
                        <a:pt x="103" y="4007"/>
                      </a:lnTo>
                      <a:lnTo>
                        <a:pt x="93" y="4033"/>
                      </a:lnTo>
                      <a:lnTo>
                        <a:pt x="85" y="4058"/>
                      </a:lnTo>
                      <a:lnTo>
                        <a:pt x="74" y="4083"/>
                      </a:lnTo>
                      <a:lnTo>
                        <a:pt x="62" y="4107"/>
                      </a:lnTo>
                      <a:lnTo>
                        <a:pt x="52" y="4107"/>
                      </a:lnTo>
                      <a:lnTo>
                        <a:pt x="52" y="4101"/>
                      </a:lnTo>
                      <a:lnTo>
                        <a:pt x="52" y="4099"/>
                      </a:lnTo>
                      <a:lnTo>
                        <a:pt x="52" y="4097"/>
                      </a:lnTo>
                      <a:lnTo>
                        <a:pt x="52" y="4096"/>
                      </a:lnTo>
                      <a:lnTo>
                        <a:pt x="54" y="4096"/>
                      </a:lnTo>
                      <a:lnTo>
                        <a:pt x="54" y="4094"/>
                      </a:lnTo>
                      <a:lnTo>
                        <a:pt x="56" y="4092"/>
                      </a:lnTo>
                      <a:lnTo>
                        <a:pt x="56" y="4090"/>
                      </a:lnTo>
                      <a:lnTo>
                        <a:pt x="58" y="4088"/>
                      </a:lnTo>
                      <a:lnTo>
                        <a:pt x="60" y="4085"/>
                      </a:lnTo>
                      <a:lnTo>
                        <a:pt x="62" y="4085"/>
                      </a:lnTo>
                      <a:lnTo>
                        <a:pt x="64" y="4085"/>
                      </a:lnTo>
                      <a:lnTo>
                        <a:pt x="66" y="4085"/>
                      </a:lnTo>
                      <a:lnTo>
                        <a:pt x="68" y="4085"/>
                      </a:lnTo>
                      <a:lnTo>
                        <a:pt x="70" y="4087"/>
                      </a:lnTo>
                      <a:lnTo>
                        <a:pt x="72" y="4087"/>
                      </a:lnTo>
                      <a:lnTo>
                        <a:pt x="74" y="4085"/>
                      </a:lnTo>
                      <a:lnTo>
                        <a:pt x="75" y="4085"/>
                      </a:lnTo>
                      <a:lnTo>
                        <a:pt x="77" y="4083"/>
                      </a:lnTo>
                      <a:lnTo>
                        <a:pt x="77" y="4081"/>
                      </a:lnTo>
                      <a:lnTo>
                        <a:pt x="66" y="4060"/>
                      </a:lnTo>
                      <a:lnTo>
                        <a:pt x="75" y="4034"/>
                      </a:lnTo>
                      <a:lnTo>
                        <a:pt x="85" y="4009"/>
                      </a:lnTo>
                      <a:lnTo>
                        <a:pt x="95" y="3986"/>
                      </a:lnTo>
                      <a:lnTo>
                        <a:pt x="105" y="3960"/>
                      </a:lnTo>
                      <a:lnTo>
                        <a:pt x="114" y="3935"/>
                      </a:lnTo>
                      <a:lnTo>
                        <a:pt x="124" y="3912"/>
                      </a:lnTo>
                      <a:lnTo>
                        <a:pt x="134" y="3887"/>
                      </a:lnTo>
                      <a:lnTo>
                        <a:pt x="143" y="3863"/>
                      </a:lnTo>
                      <a:lnTo>
                        <a:pt x="153" y="3838"/>
                      </a:lnTo>
                      <a:lnTo>
                        <a:pt x="165" y="3814"/>
                      </a:lnTo>
                      <a:lnTo>
                        <a:pt x="155" y="3805"/>
                      </a:lnTo>
                      <a:lnTo>
                        <a:pt x="141" y="3829"/>
                      </a:lnTo>
                      <a:lnTo>
                        <a:pt x="130" y="3852"/>
                      </a:lnTo>
                      <a:lnTo>
                        <a:pt x="120" y="3878"/>
                      </a:lnTo>
                      <a:lnTo>
                        <a:pt x="110" y="3901"/>
                      </a:lnTo>
                      <a:lnTo>
                        <a:pt x="103" y="3926"/>
                      </a:lnTo>
                      <a:lnTo>
                        <a:pt x="93" y="3951"/>
                      </a:lnTo>
                      <a:lnTo>
                        <a:pt x="85" y="3977"/>
                      </a:lnTo>
                      <a:lnTo>
                        <a:pt x="75" y="4002"/>
                      </a:lnTo>
                      <a:lnTo>
                        <a:pt x="64" y="4025"/>
                      </a:lnTo>
                      <a:lnTo>
                        <a:pt x="52" y="4049"/>
                      </a:lnTo>
                      <a:lnTo>
                        <a:pt x="56" y="4027"/>
                      </a:lnTo>
                      <a:lnTo>
                        <a:pt x="62" y="4006"/>
                      </a:lnTo>
                      <a:lnTo>
                        <a:pt x="70" y="3984"/>
                      </a:lnTo>
                      <a:lnTo>
                        <a:pt x="77" y="3964"/>
                      </a:lnTo>
                      <a:lnTo>
                        <a:pt x="87" y="3942"/>
                      </a:lnTo>
                      <a:lnTo>
                        <a:pt x="95" y="3923"/>
                      </a:lnTo>
                      <a:lnTo>
                        <a:pt x="105" y="3903"/>
                      </a:lnTo>
                      <a:lnTo>
                        <a:pt x="112" y="3883"/>
                      </a:lnTo>
                      <a:lnTo>
                        <a:pt x="120" y="3863"/>
                      </a:lnTo>
                      <a:lnTo>
                        <a:pt x="126" y="3843"/>
                      </a:lnTo>
                      <a:lnTo>
                        <a:pt x="116" y="3842"/>
                      </a:lnTo>
                      <a:lnTo>
                        <a:pt x="52" y="3984"/>
                      </a:lnTo>
                      <a:lnTo>
                        <a:pt x="48" y="3932"/>
                      </a:lnTo>
                      <a:lnTo>
                        <a:pt x="66" y="3910"/>
                      </a:lnTo>
                      <a:lnTo>
                        <a:pt x="83" y="3887"/>
                      </a:lnTo>
                      <a:lnTo>
                        <a:pt x="99" y="3865"/>
                      </a:lnTo>
                      <a:lnTo>
                        <a:pt x="116" y="3842"/>
                      </a:lnTo>
                      <a:lnTo>
                        <a:pt x="132" y="3818"/>
                      </a:lnTo>
                      <a:lnTo>
                        <a:pt x="149" y="3793"/>
                      </a:lnTo>
                      <a:lnTo>
                        <a:pt x="165" y="3769"/>
                      </a:lnTo>
                      <a:lnTo>
                        <a:pt x="180" y="3744"/>
                      </a:lnTo>
                      <a:lnTo>
                        <a:pt x="196" y="3721"/>
                      </a:lnTo>
                      <a:lnTo>
                        <a:pt x="209" y="3697"/>
                      </a:lnTo>
                      <a:lnTo>
                        <a:pt x="207" y="3692"/>
                      </a:lnTo>
                      <a:lnTo>
                        <a:pt x="72" y="3869"/>
                      </a:lnTo>
                      <a:lnTo>
                        <a:pt x="68" y="3856"/>
                      </a:lnTo>
                      <a:lnTo>
                        <a:pt x="75" y="3838"/>
                      </a:lnTo>
                      <a:lnTo>
                        <a:pt x="85" y="3822"/>
                      </a:lnTo>
                      <a:lnTo>
                        <a:pt x="97" y="3805"/>
                      </a:lnTo>
                      <a:lnTo>
                        <a:pt x="108" y="3789"/>
                      </a:lnTo>
                      <a:lnTo>
                        <a:pt x="120" y="3773"/>
                      </a:lnTo>
                      <a:lnTo>
                        <a:pt x="132" y="3757"/>
                      </a:lnTo>
                      <a:lnTo>
                        <a:pt x="145" y="3741"/>
                      </a:lnTo>
                      <a:lnTo>
                        <a:pt x="157" y="3723"/>
                      </a:lnTo>
                      <a:lnTo>
                        <a:pt x="166" y="3706"/>
                      </a:lnTo>
                      <a:lnTo>
                        <a:pt x="178" y="3688"/>
                      </a:lnTo>
                      <a:lnTo>
                        <a:pt x="174" y="3685"/>
                      </a:lnTo>
                      <a:lnTo>
                        <a:pt x="91" y="3787"/>
                      </a:lnTo>
                      <a:lnTo>
                        <a:pt x="89" y="3777"/>
                      </a:lnTo>
                      <a:lnTo>
                        <a:pt x="89" y="3766"/>
                      </a:lnTo>
                      <a:lnTo>
                        <a:pt x="93" y="3753"/>
                      </a:lnTo>
                      <a:lnTo>
                        <a:pt x="97" y="3742"/>
                      </a:lnTo>
                      <a:lnTo>
                        <a:pt x="101" y="3732"/>
                      </a:lnTo>
                      <a:lnTo>
                        <a:pt x="105" y="3721"/>
                      </a:lnTo>
                      <a:lnTo>
                        <a:pt x="106" y="3708"/>
                      </a:lnTo>
                      <a:lnTo>
                        <a:pt x="108" y="3697"/>
                      </a:lnTo>
                      <a:lnTo>
                        <a:pt x="108" y="3686"/>
                      </a:lnTo>
                      <a:lnTo>
                        <a:pt x="105" y="3676"/>
                      </a:lnTo>
                      <a:lnTo>
                        <a:pt x="91" y="3701"/>
                      </a:lnTo>
                      <a:lnTo>
                        <a:pt x="79" y="3728"/>
                      </a:lnTo>
                      <a:lnTo>
                        <a:pt x="72" y="3757"/>
                      </a:lnTo>
                      <a:lnTo>
                        <a:pt x="62" y="3786"/>
                      </a:lnTo>
                      <a:lnTo>
                        <a:pt x="56" y="3814"/>
                      </a:lnTo>
                      <a:lnTo>
                        <a:pt x="48" y="3843"/>
                      </a:lnTo>
                      <a:lnTo>
                        <a:pt x="41" y="3872"/>
                      </a:lnTo>
                      <a:lnTo>
                        <a:pt x="33" y="3901"/>
                      </a:lnTo>
                      <a:lnTo>
                        <a:pt x="25" y="3930"/>
                      </a:lnTo>
                      <a:lnTo>
                        <a:pt x="14" y="3957"/>
                      </a:lnTo>
                      <a:lnTo>
                        <a:pt x="0" y="3950"/>
                      </a:lnTo>
                      <a:lnTo>
                        <a:pt x="33" y="3861"/>
                      </a:lnTo>
                      <a:lnTo>
                        <a:pt x="64" y="3773"/>
                      </a:lnTo>
                      <a:lnTo>
                        <a:pt x="93" y="3685"/>
                      </a:lnTo>
                      <a:lnTo>
                        <a:pt x="120" y="3595"/>
                      </a:lnTo>
                      <a:lnTo>
                        <a:pt x="145" y="3506"/>
                      </a:lnTo>
                      <a:lnTo>
                        <a:pt x="170" y="3414"/>
                      </a:lnTo>
                      <a:lnTo>
                        <a:pt x="192" y="3324"/>
                      </a:lnTo>
                      <a:lnTo>
                        <a:pt x="215" y="3232"/>
                      </a:lnTo>
                      <a:lnTo>
                        <a:pt x="234" y="3138"/>
                      </a:lnTo>
                      <a:lnTo>
                        <a:pt x="256" y="3043"/>
                      </a:lnTo>
                      <a:lnTo>
                        <a:pt x="257" y="3088"/>
                      </a:lnTo>
                      <a:lnTo>
                        <a:pt x="259" y="3135"/>
                      </a:lnTo>
                      <a:lnTo>
                        <a:pt x="261" y="3180"/>
                      </a:lnTo>
                      <a:lnTo>
                        <a:pt x="263" y="3225"/>
                      </a:lnTo>
                      <a:lnTo>
                        <a:pt x="265" y="3270"/>
                      </a:lnTo>
                      <a:lnTo>
                        <a:pt x="265" y="3317"/>
                      </a:lnTo>
                      <a:lnTo>
                        <a:pt x="263" y="3362"/>
                      </a:lnTo>
                      <a:lnTo>
                        <a:pt x="261" y="3407"/>
                      </a:lnTo>
                      <a:lnTo>
                        <a:pt x="257" y="3454"/>
                      </a:lnTo>
                      <a:lnTo>
                        <a:pt x="252" y="3499"/>
                      </a:lnTo>
                      <a:lnTo>
                        <a:pt x="254" y="3499"/>
                      </a:lnTo>
                      <a:lnTo>
                        <a:pt x="256" y="3499"/>
                      </a:lnTo>
                      <a:lnTo>
                        <a:pt x="259" y="3497"/>
                      </a:lnTo>
                      <a:lnTo>
                        <a:pt x="261" y="3497"/>
                      </a:lnTo>
                      <a:lnTo>
                        <a:pt x="263" y="3495"/>
                      </a:lnTo>
                      <a:lnTo>
                        <a:pt x="265" y="3495"/>
                      </a:lnTo>
                      <a:lnTo>
                        <a:pt x="265" y="3494"/>
                      </a:lnTo>
                      <a:lnTo>
                        <a:pt x="267" y="3492"/>
                      </a:lnTo>
                      <a:lnTo>
                        <a:pt x="267" y="3490"/>
                      </a:lnTo>
                      <a:lnTo>
                        <a:pt x="269" y="3486"/>
                      </a:lnTo>
                      <a:lnTo>
                        <a:pt x="271" y="3452"/>
                      </a:lnTo>
                      <a:lnTo>
                        <a:pt x="273" y="3416"/>
                      </a:lnTo>
                      <a:lnTo>
                        <a:pt x="275" y="3382"/>
                      </a:lnTo>
                      <a:lnTo>
                        <a:pt x="277" y="3348"/>
                      </a:lnTo>
                      <a:lnTo>
                        <a:pt x="279" y="3312"/>
                      </a:lnTo>
                      <a:lnTo>
                        <a:pt x="281" y="3277"/>
                      </a:lnTo>
                      <a:lnTo>
                        <a:pt x="281" y="3243"/>
                      </a:lnTo>
                      <a:lnTo>
                        <a:pt x="279" y="3209"/>
                      </a:lnTo>
                      <a:lnTo>
                        <a:pt x="277" y="3175"/>
                      </a:lnTo>
                      <a:lnTo>
                        <a:pt x="275" y="3140"/>
                      </a:lnTo>
                      <a:lnTo>
                        <a:pt x="283" y="3122"/>
                      </a:lnTo>
                      <a:lnTo>
                        <a:pt x="292" y="3104"/>
                      </a:lnTo>
                      <a:lnTo>
                        <a:pt x="306" y="3088"/>
                      </a:lnTo>
                      <a:lnTo>
                        <a:pt x="319" y="3072"/>
                      </a:lnTo>
                      <a:lnTo>
                        <a:pt x="335" y="3057"/>
                      </a:lnTo>
                      <a:lnTo>
                        <a:pt x="350" y="3043"/>
                      </a:lnTo>
                      <a:lnTo>
                        <a:pt x="368" y="3027"/>
                      </a:lnTo>
                      <a:lnTo>
                        <a:pt x="381" y="3012"/>
                      </a:lnTo>
                      <a:lnTo>
                        <a:pt x="395" y="2996"/>
                      </a:lnTo>
                      <a:lnTo>
                        <a:pt x="407" y="2980"/>
                      </a:lnTo>
                      <a:lnTo>
                        <a:pt x="403" y="2976"/>
                      </a:lnTo>
                      <a:lnTo>
                        <a:pt x="275" y="3097"/>
                      </a:lnTo>
                      <a:lnTo>
                        <a:pt x="275" y="3086"/>
                      </a:lnTo>
                      <a:lnTo>
                        <a:pt x="273" y="3075"/>
                      </a:lnTo>
                      <a:lnTo>
                        <a:pt x="273" y="3065"/>
                      </a:lnTo>
                      <a:lnTo>
                        <a:pt x="271" y="3052"/>
                      </a:lnTo>
                      <a:lnTo>
                        <a:pt x="269" y="3039"/>
                      </a:lnTo>
                      <a:lnTo>
                        <a:pt x="269" y="3025"/>
                      </a:lnTo>
                      <a:lnTo>
                        <a:pt x="271" y="3012"/>
                      </a:lnTo>
                      <a:lnTo>
                        <a:pt x="275" y="3000"/>
                      </a:lnTo>
                      <a:lnTo>
                        <a:pt x="281" y="2989"/>
                      </a:lnTo>
                      <a:lnTo>
                        <a:pt x="290" y="2978"/>
                      </a:lnTo>
                      <a:lnTo>
                        <a:pt x="327" y="2946"/>
                      </a:lnTo>
                      <a:lnTo>
                        <a:pt x="323" y="2956"/>
                      </a:lnTo>
                      <a:lnTo>
                        <a:pt x="319" y="2965"/>
                      </a:lnTo>
                      <a:lnTo>
                        <a:pt x="314" y="2974"/>
                      </a:lnTo>
                      <a:lnTo>
                        <a:pt x="306" y="2983"/>
                      </a:lnTo>
                      <a:lnTo>
                        <a:pt x="298" y="2992"/>
                      </a:lnTo>
                      <a:lnTo>
                        <a:pt x="290" y="3001"/>
                      </a:lnTo>
                      <a:lnTo>
                        <a:pt x="283" y="3009"/>
                      </a:lnTo>
                      <a:lnTo>
                        <a:pt x="277" y="3018"/>
                      </a:lnTo>
                      <a:lnTo>
                        <a:pt x="275" y="3027"/>
                      </a:lnTo>
                      <a:lnTo>
                        <a:pt x="273" y="3036"/>
                      </a:lnTo>
                      <a:lnTo>
                        <a:pt x="294" y="3019"/>
                      </a:lnTo>
                      <a:lnTo>
                        <a:pt x="316" y="3001"/>
                      </a:lnTo>
                      <a:lnTo>
                        <a:pt x="333" y="2982"/>
                      </a:lnTo>
                      <a:lnTo>
                        <a:pt x="352" y="2960"/>
                      </a:lnTo>
                      <a:lnTo>
                        <a:pt x="370" y="2940"/>
                      </a:lnTo>
                      <a:lnTo>
                        <a:pt x="387" y="2919"/>
                      </a:lnTo>
                      <a:lnTo>
                        <a:pt x="407" y="2897"/>
                      </a:lnTo>
                      <a:lnTo>
                        <a:pt x="426" y="2877"/>
                      </a:lnTo>
                      <a:lnTo>
                        <a:pt x="447" y="2857"/>
                      </a:lnTo>
                      <a:lnTo>
                        <a:pt x="470" y="2841"/>
                      </a:lnTo>
                      <a:lnTo>
                        <a:pt x="465" y="2837"/>
                      </a:lnTo>
                      <a:lnTo>
                        <a:pt x="451" y="2843"/>
                      </a:lnTo>
                      <a:lnTo>
                        <a:pt x="439" y="2850"/>
                      </a:lnTo>
                      <a:lnTo>
                        <a:pt x="428" y="2859"/>
                      </a:lnTo>
                      <a:lnTo>
                        <a:pt x="416" y="2868"/>
                      </a:lnTo>
                      <a:lnTo>
                        <a:pt x="405" y="2879"/>
                      </a:lnTo>
                      <a:lnTo>
                        <a:pt x="393" y="2890"/>
                      </a:lnTo>
                      <a:lnTo>
                        <a:pt x="381" y="2901"/>
                      </a:lnTo>
                      <a:lnTo>
                        <a:pt x="372" y="2911"/>
                      </a:lnTo>
                      <a:lnTo>
                        <a:pt x="360" y="2922"/>
                      </a:lnTo>
                      <a:lnTo>
                        <a:pt x="350" y="2933"/>
                      </a:lnTo>
                      <a:lnTo>
                        <a:pt x="354" y="2919"/>
                      </a:lnTo>
                      <a:lnTo>
                        <a:pt x="362" y="2904"/>
                      </a:lnTo>
                      <a:lnTo>
                        <a:pt x="370" y="2891"/>
                      </a:lnTo>
                      <a:lnTo>
                        <a:pt x="379" y="2879"/>
                      </a:lnTo>
                      <a:lnTo>
                        <a:pt x="391" y="2868"/>
                      </a:lnTo>
                      <a:lnTo>
                        <a:pt x="403" y="2855"/>
                      </a:lnTo>
                      <a:lnTo>
                        <a:pt x="414" y="2845"/>
                      </a:lnTo>
                      <a:lnTo>
                        <a:pt x="426" y="2834"/>
                      </a:lnTo>
                      <a:lnTo>
                        <a:pt x="438" y="2825"/>
                      </a:lnTo>
                      <a:lnTo>
                        <a:pt x="449" y="2814"/>
                      </a:lnTo>
                      <a:lnTo>
                        <a:pt x="439" y="2805"/>
                      </a:lnTo>
                      <a:lnTo>
                        <a:pt x="364" y="2877"/>
                      </a:lnTo>
                      <a:lnTo>
                        <a:pt x="368" y="2863"/>
                      </a:lnTo>
                      <a:lnTo>
                        <a:pt x="372" y="2850"/>
                      </a:lnTo>
                      <a:lnTo>
                        <a:pt x="376" y="2837"/>
                      </a:lnTo>
                      <a:lnTo>
                        <a:pt x="379" y="2823"/>
                      </a:lnTo>
                      <a:lnTo>
                        <a:pt x="385" y="2810"/>
                      </a:lnTo>
                      <a:lnTo>
                        <a:pt x="391" y="2798"/>
                      </a:lnTo>
                      <a:lnTo>
                        <a:pt x="395" y="2785"/>
                      </a:lnTo>
                      <a:lnTo>
                        <a:pt x="401" y="2773"/>
                      </a:lnTo>
                      <a:lnTo>
                        <a:pt x="407" y="2760"/>
                      </a:lnTo>
                      <a:lnTo>
                        <a:pt x="410" y="2747"/>
                      </a:lnTo>
                      <a:lnTo>
                        <a:pt x="412" y="2751"/>
                      </a:lnTo>
                      <a:lnTo>
                        <a:pt x="414" y="2756"/>
                      </a:lnTo>
                      <a:lnTo>
                        <a:pt x="414" y="2762"/>
                      </a:lnTo>
                      <a:lnTo>
                        <a:pt x="414" y="2767"/>
                      </a:lnTo>
                      <a:lnTo>
                        <a:pt x="416" y="2771"/>
                      </a:lnTo>
                      <a:lnTo>
                        <a:pt x="418" y="2776"/>
                      </a:lnTo>
                      <a:lnTo>
                        <a:pt x="418" y="2782"/>
                      </a:lnTo>
                      <a:lnTo>
                        <a:pt x="420" y="2785"/>
                      </a:lnTo>
                      <a:lnTo>
                        <a:pt x="424" y="2789"/>
                      </a:lnTo>
                      <a:lnTo>
                        <a:pt x="428" y="2791"/>
                      </a:lnTo>
                      <a:lnTo>
                        <a:pt x="428" y="2780"/>
                      </a:lnTo>
                      <a:lnTo>
                        <a:pt x="428" y="2769"/>
                      </a:lnTo>
                      <a:lnTo>
                        <a:pt x="430" y="2756"/>
                      </a:lnTo>
                      <a:lnTo>
                        <a:pt x="430" y="2744"/>
                      </a:lnTo>
                      <a:lnTo>
                        <a:pt x="432" y="2731"/>
                      </a:lnTo>
                      <a:lnTo>
                        <a:pt x="434" y="2718"/>
                      </a:lnTo>
                      <a:lnTo>
                        <a:pt x="434" y="2706"/>
                      </a:lnTo>
                      <a:lnTo>
                        <a:pt x="432" y="2695"/>
                      </a:lnTo>
                      <a:lnTo>
                        <a:pt x="430" y="2684"/>
                      </a:lnTo>
                      <a:lnTo>
                        <a:pt x="426" y="2673"/>
                      </a:lnTo>
                      <a:lnTo>
                        <a:pt x="424" y="2682"/>
                      </a:lnTo>
                      <a:lnTo>
                        <a:pt x="420" y="2690"/>
                      </a:lnTo>
                      <a:lnTo>
                        <a:pt x="416" y="2697"/>
                      </a:lnTo>
                      <a:lnTo>
                        <a:pt x="412" y="2702"/>
                      </a:lnTo>
                      <a:lnTo>
                        <a:pt x="409" y="2709"/>
                      </a:lnTo>
                      <a:lnTo>
                        <a:pt x="405" y="2715"/>
                      </a:lnTo>
                      <a:lnTo>
                        <a:pt x="399" y="2720"/>
                      </a:lnTo>
                      <a:lnTo>
                        <a:pt x="395" y="2727"/>
                      </a:lnTo>
                      <a:lnTo>
                        <a:pt x="389" y="2733"/>
                      </a:lnTo>
                      <a:lnTo>
                        <a:pt x="385" y="2740"/>
                      </a:lnTo>
                      <a:lnTo>
                        <a:pt x="383" y="2733"/>
                      </a:lnTo>
                      <a:lnTo>
                        <a:pt x="385" y="2727"/>
                      </a:lnTo>
                      <a:lnTo>
                        <a:pt x="389" y="2718"/>
                      </a:lnTo>
                      <a:lnTo>
                        <a:pt x="395" y="2709"/>
                      </a:lnTo>
                      <a:lnTo>
                        <a:pt x="399" y="2700"/>
                      </a:lnTo>
                      <a:lnTo>
                        <a:pt x="405" y="2691"/>
                      </a:lnTo>
                      <a:lnTo>
                        <a:pt x="407" y="2684"/>
                      </a:lnTo>
                      <a:lnTo>
                        <a:pt x="409" y="2675"/>
                      </a:lnTo>
                      <a:lnTo>
                        <a:pt x="407" y="2668"/>
                      </a:lnTo>
                      <a:lnTo>
                        <a:pt x="401" y="2663"/>
                      </a:lnTo>
                      <a:lnTo>
                        <a:pt x="368" y="2695"/>
                      </a:lnTo>
                      <a:lnTo>
                        <a:pt x="368" y="2695"/>
                      </a:lnTo>
                      <a:lnTo>
                        <a:pt x="368" y="2695"/>
                      </a:lnTo>
                      <a:lnTo>
                        <a:pt x="368" y="2693"/>
                      </a:lnTo>
                      <a:lnTo>
                        <a:pt x="370" y="2691"/>
                      </a:lnTo>
                      <a:lnTo>
                        <a:pt x="372" y="2688"/>
                      </a:lnTo>
                      <a:lnTo>
                        <a:pt x="374" y="2684"/>
                      </a:lnTo>
                      <a:lnTo>
                        <a:pt x="376" y="2679"/>
                      </a:lnTo>
                      <a:lnTo>
                        <a:pt x="378" y="2675"/>
                      </a:lnTo>
                      <a:lnTo>
                        <a:pt x="378" y="2672"/>
                      </a:lnTo>
                      <a:lnTo>
                        <a:pt x="376" y="2666"/>
                      </a:lnTo>
                      <a:lnTo>
                        <a:pt x="372" y="2661"/>
                      </a:lnTo>
                      <a:lnTo>
                        <a:pt x="360" y="2679"/>
                      </a:lnTo>
                      <a:lnTo>
                        <a:pt x="348" y="2697"/>
                      </a:lnTo>
                      <a:lnTo>
                        <a:pt x="337" y="2717"/>
                      </a:lnTo>
                      <a:lnTo>
                        <a:pt x="327" y="2736"/>
                      </a:lnTo>
                      <a:lnTo>
                        <a:pt x="316" y="2756"/>
                      </a:lnTo>
                      <a:lnTo>
                        <a:pt x="306" y="2776"/>
                      </a:lnTo>
                      <a:lnTo>
                        <a:pt x="292" y="2794"/>
                      </a:lnTo>
                      <a:lnTo>
                        <a:pt x="279" y="2814"/>
                      </a:lnTo>
                      <a:lnTo>
                        <a:pt x="263" y="2832"/>
                      </a:lnTo>
                      <a:lnTo>
                        <a:pt x="246" y="2848"/>
                      </a:lnTo>
                      <a:lnTo>
                        <a:pt x="254" y="2830"/>
                      </a:lnTo>
                      <a:lnTo>
                        <a:pt x="263" y="2812"/>
                      </a:lnTo>
                      <a:lnTo>
                        <a:pt x="275" y="2794"/>
                      </a:lnTo>
                      <a:lnTo>
                        <a:pt x="287" y="2776"/>
                      </a:lnTo>
                      <a:lnTo>
                        <a:pt x="300" y="2758"/>
                      </a:lnTo>
                      <a:lnTo>
                        <a:pt x="312" y="2738"/>
                      </a:lnTo>
                      <a:lnTo>
                        <a:pt x="325" y="2720"/>
                      </a:lnTo>
                      <a:lnTo>
                        <a:pt x="335" y="2700"/>
                      </a:lnTo>
                      <a:lnTo>
                        <a:pt x="347" y="2681"/>
                      </a:lnTo>
                      <a:lnTo>
                        <a:pt x="354" y="2659"/>
                      </a:lnTo>
                      <a:lnTo>
                        <a:pt x="345" y="2650"/>
                      </a:lnTo>
                      <a:lnTo>
                        <a:pt x="335" y="2668"/>
                      </a:lnTo>
                      <a:lnTo>
                        <a:pt x="323" y="2688"/>
                      </a:lnTo>
                      <a:lnTo>
                        <a:pt x="312" y="2706"/>
                      </a:lnTo>
                      <a:lnTo>
                        <a:pt x="302" y="2724"/>
                      </a:lnTo>
                      <a:lnTo>
                        <a:pt x="290" y="2742"/>
                      </a:lnTo>
                      <a:lnTo>
                        <a:pt x="279" y="2760"/>
                      </a:lnTo>
                      <a:lnTo>
                        <a:pt x="265" y="2776"/>
                      </a:lnTo>
                      <a:lnTo>
                        <a:pt x="254" y="2794"/>
                      </a:lnTo>
                      <a:lnTo>
                        <a:pt x="240" y="2810"/>
                      </a:lnTo>
                      <a:lnTo>
                        <a:pt x="225" y="2825"/>
                      </a:lnTo>
                      <a:lnTo>
                        <a:pt x="227" y="2803"/>
                      </a:lnTo>
                      <a:lnTo>
                        <a:pt x="232" y="2785"/>
                      </a:lnTo>
                      <a:lnTo>
                        <a:pt x="240" y="2767"/>
                      </a:lnTo>
                      <a:lnTo>
                        <a:pt x="252" y="2749"/>
                      </a:lnTo>
                      <a:lnTo>
                        <a:pt x="263" y="2733"/>
                      </a:lnTo>
                      <a:lnTo>
                        <a:pt x="277" y="2718"/>
                      </a:lnTo>
                      <a:lnTo>
                        <a:pt x="288" y="2702"/>
                      </a:lnTo>
                      <a:lnTo>
                        <a:pt x="302" y="2686"/>
                      </a:lnTo>
                      <a:lnTo>
                        <a:pt x="312" y="2670"/>
                      </a:lnTo>
                      <a:lnTo>
                        <a:pt x="321" y="2654"/>
                      </a:lnTo>
                      <a:lnTo>
                        <a:pt x="318" y="2648"/>
                      </a:lnTo>
                      <a:lnTo>
                        <a:pt x="312" y="2646"/>
                      </a:lnTo>
                      <a:lnTo>
                        <a:pt x="308" y="2646"/>
                      </a:lnTo>
                      <a:lnTo>
                        <a:pt x="302" y="2646"/>
                      </a:lnTo>
                      <a:lnTo>
                        <a:pt x="298" y="2650"/>
                      </a:lnTo>
                      <a:lnTo>
                        <a:pt x="292" y="2652"/>
                      </a:lnTo>
                      <a:lnTo>
                        <a:pt x="288" y="2655"/>
                      </a:lnTo>
                      <a:lnTo>
                        <a:pt x="283" y="2659"/>
                      </a:lnTo>
                      <a:lnTo>
                        <a:pt x="279" y="2663"/>
                      </a:lnTo>
                      <a:lnTo>
                        <a:pt x="273" y="2664"/>
                      </a:lnTo>
                      <a:lnTo>
                        <a:pt x="267" y="2666"/>
                      </a:lnTo>
                      <a:lnTo>
                        <a:pt x="269" y="2659"/>
                      </a:lnTo>
                      <a:lnTo>
                        <a:pt x="269" y="2650"/>
                      </a:lnTo>
                      <a:lnTo>
                        <a:pt x="271" y="2641"/>
                      </a:lnTo>
                      <a:lnTo>
                        <a:pt x="271" y="2632"/>
                      </a:lnTo>
                      <a:lnTo>
                        <a:pt x="273" y="2621"/>
                      </a:lnTo>
                      <a:lnTo>
                        <a:pt x="277" y="2610"/>
                      </a:lnTo>
                      <a:lnTo>
                        <a:pt x="279" y="2601"/>
                      </a:lnTo>
                      <a:lnTo>
                        <a:pt x="283" y="2590"/>
                      </a:lnTo>
                      <a:lnTo>
                        <a:pt x="288" y="2581"/>
                      </a:lnTo>
                      <a:lnTo>
                        <a:pt x="294" y="2574"/>
                      </a:lnTo>
                      <a:lnTo>
                        <a:pt x="288" y="2567"/>
                      </a:lnTo>
                      <a:lnTo>
                        <a:pt x="285" y="2560"/>
                      </a:lnTo>
                      <a:lnTo>
                        <a:pt x="283" y="2553"/>
                      </a:lnTo>
                      <a:lnTo>
                        <a:pt x="281" y="2544"/>
                      </a:lnTo>
                      <a:lnTo>
                        <a:pt x="279" y="2536"/>
                      </a:lnTo>
                      <a:lnTo>
                        <a:pt x="277" y="2527"/>
                      </a:lnTo>
                      <a:lnTo>
                        <a:pt x="275" y="2518"/>
                      </a:lnTo>
                      <a:lnTo>
                        <a:pt x="273" y="2509"/>
                      </a:lnTo>
                      <a:lnTo>
                        <a:pt x="271" y="2502"/>
                      </a:lnTo>
                      <a:lnTo>
                        <a:pt x="267" y="2493"/>
                      </a:lnTo>
                      <a:lnTo>
                        <a:pt x="267" y="2484"/>
                      </a:lnTo>
                      <a:lnTo>
                        <a:pt x="269" y="2477"/>
                      </a:lnTo>
                      <a:lnTo>
                        <a:pt x="269" y="2468"/>
                      </a:lnTo>
                      <a:lnTo>
                        <a:pt x="271" y="2459"/>
                      </a:lnTo>
                      <a:lnTo>
                        <a:pt x="273" y="2452"/>
                      </a:lnTo>
                      <a:lnTo>
                        <a:pt x="275" y="2444"/>
                      </a:lnTo>
                      <a:lnTo>
                        <a:pt x="277" y="2435"/>
                      </a:lnTo>
                      <a:lnTo>
                        <a:pt x="281" y="2428"/>
                      </a:lnTo>
                      <a:lnTo>
                        <a:pt x="283" y="2421"/>
                      </a:lnTo>
                      <a:lnTo>
                        <a:pt x="287" y="2414"/>
                      </a:lnTo>
                      <a:lnTo>
                        <a:pt x="273" y="2412"/>
                      </a:lnTo>
                      <a:lnTo>
                        <a:pt x="273" y="2407"/>
                      </a:lnTo>
                      <a:lnTo>
                        <a:pt x="275" y="2401"/>
                      </a:lnTo>
                      <a:lnTo>
                        <a:pt x="279" y="2398"/>
                      </a:lnTo>
                      <a:lnTo>
                        <a:pt x="283" y="2392"/>
                      </a:lnTo>
                      <a:lnTo>
                        <a:pt x="287" y="2387"/>
                      </a:lnTo>
                      <a:lnTo>
                        <a:pt x="288" y="2383"/>
                      </a:lnTo>
                      <a:lnTo>
                        <a:pt x="290" y="2380"/>
                      </a:lnTo>
                      <a:lnTo>
                        <a:pt x="288" y="2376"/>
                      </a:lnTo>
                      <a:lnTo>
                        <a:pt x="285" y="2372"/>
                      </a:lnTo>
                      <a:lnTo>
                        <a:pt x="277" y="2369"/>
                      </a:lnTo>
                      <a:lnTo>
                        <a:pt x="273" y="2372"/>
                      </a:lnTo>
                      <a:lnTo>
                        <a:pt x="273" y="2360"/>
                      </a:lnTo>
                      <a:lnTo>
                        <a:pt x="275" y="2349"/>
                      </a:lnTo>
                      <a:lnTo>
                        <a:pt x="279" y="2338"/>
                      </a:lnTo>
                      <a:lnTo>
                        <a:pt x="283" y="2327"/>
                      </a:lnTo>
                      <a:lnTo>
                        <a:pt x="287" y="2318"/>
                      </a:lnTo>
                      <a:lnTo>
                        <a:pt x="290" y="2307"/>
                      </a:lnTo>
                      <a:lnTo>
                        <a:pt x="294" y="2298"/>
                      </a:lnTo>
                      <a:lnTo>
                        <a:pt x="294" y="2289"/>
                      </a:lnTo>
                      <a:lnTo>
                        <a:pt x="294" y="2280"/>
                      </a:lnTo>
                      <a:lnTo>
                        <a:pt x="290" y="2271"/>
                      </a:lnTo>
                      <a:lnTo>
                        <a:pt x="296" y="2266"/>
                      </a:lnTo>
                      <a:lnTo>
                        <a:pt x="298" y="2262"/>
                      </a:lnTo>
                      <a:lnTo>
                        <a:pt x="300" y="2257"/>
                      </a:lnTo>
                      <a:lnTo>
                        <a:pt x="298" y="2252"/>
                      </a:lnTo>
                      <a:lnTo>
                        <a:pt x="296" y="2248"/>
                      </a:lnTo>
                      <a:lnTo>
                        <a:pt x="292" y="2243"/>
                      </a:lnTo>
                      <a:lnTo>
                        <a:pt x="290" y="2237"/>
                      </a:lnTo>
                      <a:lnTo>
                        <a:pt x="288" y="2232"/>
                      </a:lnTo>
                      <a:lnTo>
                        <a:pt x="287" y="2226"/>
                      </a:lnTo>
                      <a:lnTo>
                        <a:pt x="288" y="2221"/>
                      </a:lnTo>
                      <a:lnTo>
                        <a:pt x="290" y="2215"/>
                      </a:lnTo>
                      <a:lnTo>
                        <a:pt x="294" y="2208"/>
                      </a:lnTo>
                      <a:lnTo>
                        <a:pt x="298" y="2203"/>
                      </a:lnTo>
                      <a:lnTo>
                        <a:pt x="302" y="2197"/>
                      </a:lnTo>
                      <a:lnTo>
                        <a:pt x="306" y="2190"/>
                      </a:lnTo>
                      <a:lnTo>
                        <a:pt x="312" y="2185"/>
                      </a:lnTo>
                      <a:lnTo>
                        <a:pt x="316" y="2179"/>
                      </a:lnTo>
                      <a:lnTo>
                        <a:pt x="321" y="2174"/>
                      </a:lnTo>
                      <a:lnTo>
                        <a:pt x="327" y="2170"/>
                      </a:lnTo>
                      <a:lnTo>
                        <a:pt x="335" y="2165"/>
                      </a:lnTo>
                      <a:lnTo>
                        <a:pt x="325" y="2156"/>
                      </a:lnTo>
                      <a:lnTo>
                        <a:pt x="277" y="2196"/>
                      </a:lnTo>
                      <a:lnTo>
                        <a:pt x="281" y="2185"/>
                      </a:lnTo>
                      <a:lnTo>
                        <a:pt x="288" y="2174"/>
                      </a:lnTo>
                      <a:lnTo>
                        <a:pt x="294" y="2163"/>
                      </a:lnTo>
                      <a:lnTo>
                        <a:pt x="302" y="2151"/>
                      </a:lnTo>
                      <a:lnTo>
                        <a:pt x="310" y="2140"/>
                      </a:lnTo>
                      <a:lnTo>
                        <a:pt x="319" y="2129"/>
                      </a:lnTo>
                      <a:lnTo>
                        <a:pt x="329" y="2120"/>
                      </a:lnTo>
                      <a:lnTo>
                        <a:pt x="341" y="2113"/>
                      </a:lnTo>
                      <a:lnTo>
                        <a:pt x="352" y="2106"/>
                      </a:lnTo>
                      <a:lnTo>
                        <a:pt x="366" y="2102"/>
                      </a:lnTo>
                      <a:lnTo>
                        <a:pt x="379" y="2109"/>
                      </a:lnTo>
                      <a:lnTo>
                        <a:pt x="393" y="2116"/>
                      </a:lnTo>
                      <a:lnTo>
                        <a:pt x="407" y="2124"/>
                      </a:lnTo>
                      <a:lnTo>
                        <a:pt x="420" y="2133"/>
                      </a:lnTo>
                      <a:lnTo>
                        <a:pt x="434" y="2142"/>
                      </a:lnTo>
                      <a:lnTo>
                        <a:pt x="449" y="2151"/>
                      </a:lnTo>
                      <a:lnTo>
                        <a:pt x="463" y="2160"/>
                      </a:lnTo>
                      <a:lnTo>
                        <a:pt x="478" y="2167"/>
                      </a:lnTo>
                      <a:lnTo>
                        <a:pt x="494" y="2174"/>
                      </a:lnTo>
                      <a:lnTo>
                        <a:pt x="509" y="2179"/>
                      </a:lnTo>
                      <a:lnTo>
                        <a:pt x="540" y="2185"/>
                      </a:lnTo>
                      <a:lnTo>
                        <a:pt x="573" y="2190"/>
                      </a:lnTo>
                      <a:lnTo>
                        <a:pt x="608" y="2194"/>
                      </a:lnTo>
                      <a:lnTo>
                        <a:pt x="643" y="2199"/>
                      </a:lnTo>
                      <a:lnTo>
                        <a:pt x="680" y="2201"/>
                      </a:lnTo>
                      <a:lnTo>
                        <a:pt x="714" y="2203"/>
                      </a:lnTo>
                      <a:lnTo>
                        <a:pt x="749" y="2203"/>
                      </a:lnTo>
                      <a:lnTo>
                        <a:pt x="784" y="2201"/>
                      </a:lnTo>
                      <a:lnTo>
                        <a:pt x="817" y="2197"/>
                      </a:lnTo>
                      <a:lnTo>
                        <a:pt x="848" y="2190"/>
                      </a:lnTo>
                      <a:lnTo>
                        <a:pt x="850" y="2181"/>
                      </a:lnTo>
                      <a:lnTo>
                        <a:pt x="833" y="2176"/>
                      </a:lnTo>
                      <a:lnTo>
                        <a:pt x="817" y="2176"/>
                      </a:lnTo>
                      <a:lnTo>
                        <a:pt x="800" y="2176"/>
                      </a:lnTo>
                      <a:lnTo>
                        <a:pt x="784" y="2179"/>
                      </a:lnTo>
                      <a:lnTo>
                        <a:pt x="767" y="2181"/>
                      </a:lnTo>
                      <a:lnTo>
                        <a:pt x="751" y="2185"/>
                      </a:lnTo>
                      <a:lnTo>
                        <a:pt x="734" y="2187"/>
                      </a:lnTo>
                      <a:lnTo>
                        <a:pt x="718" y="2187"/>
                      </a:lnTo>
                      <a:lnTo>
                        <a:pt x="701" y="2185"/>
                      </a:lnTo>
                      <a:lnTo>
                        <a:pt x="683" y="2179"/>
                      </a:lnTo>
                      <a:lnTo>
                        <a:pt x="693" y="2178"/>
                      </a:lnTo>
                      <a:lnTo>
                        <a:pt x="705" y="2178"/>
                      </a:lnTo>
                      <a:lnTo>
                        <a:pt x="714" y="2178"/>
                      </a:lnTo>
                      <a:lnTo>
                        <a:pt x="726" y="2176"/>
                      </a:lnTo>
                      <a:lnTo>
                        <a:pt x="738" y="2176"/>
                      </a:lnTo>
                      <a:lnTo>
                        <a:pt x="749" y="2176"/>
                      </a:lnTo>
                      <a:lnTo>
                        <a:pt x="759" y="2174"/>
                      </a:lnTo>
                      <a:lnTo>
                        <a:pt x="769" y="2172"/>
                      </a:lnTo>
                      <a:lnTo>
                        <a:pt x="778" y="2169"/>
                      </a:lnTo>
                      <a:lnTo>
                        <a:pt x="786" y="2163"/>
                      </a:lnTo>
                      <a:lnTo>
                        <a:pt x="563" y="2131"/>
                      </a:lnTo>
                      <a:lnTo>
                        <a:pt x="563" y="2125"/>
                      </a:lnTo>
                      <a:lnTo>
                        <a:pt x="563" y="2118"/>
                      </a:lnTo>
                      <a:lnTo>
                        <a:pt x="565" y="2113"/>
                      </a:lnTo>
                      <a:lnTo>
                        <a:pt x="567" y="2107"/>
                      </a:lnTo>
                      <a:lnTo>
                        <a:pt x="569" y="2100"/>
                      </a:lnTo>
                      <a:lnTo>
                        <a:pt x="571" y="2095"/>
                      </a:lnTo>
                      <a:lnTo>
                        <a:pt x="573" y="2091"/>
                      </a:lnTo>
                      <a:lnTo>
                        <a:pt x="573" y="2086"/>
                      </a:lnTo>
                      <a:lnTo>
                        <a:pt x="571" y="2080"/>
                      </a:lnTo>
                      <a:lnTo>
                        <a:pt x="569" y="2075"/>
                      </a:lnTo>
                      <a:lnTo>
                        <a:pt x="542" y="2116"/>
                      </a:lnTo>
                      <a:lnTo>
                        <a:pt x="540" y="2113"/>
                      </a:lnTo>
                      <a:lnTo>
                        <a:pt x="540" y="2107"/>
                      </a:lnTo>
                      <a:lnTo>
                        <a:pt x="542" y="2102"/>
                      </a:lnTo>
                      <a:lnTo>
                        <a:pt x="544" y="2097"/>
                      </a:lnTo>
                      <a:lnTo>
                        <a:pt x="546" y="2089"/>
                      </a:lnTo>
                      <a:lnTo>
                        <a:pt x="548" y="2084"/>
                      </a:lnTo>
                      <a:lnTo>
                        <a:pt x="550" y="2078"/>
                      </a:lnTo>
                      <a:lnTo>
                        <a:pt x="548" y="2071"/>
                      </a:lnTo>
                      <a:lnTo>
                        <a:pt x="546" y="2066"/>
                      </a:lnTo>
                      <a:lnTo>
                        <a:pt x="542" y="2060"/>
                      </a:lnTo>
                      <a:lnTo>
                        <a:pt x="538" y="2066"/>
                      </a:lnTo>
                      <a:lnTo>
                        <a:pt x="534" y="2071"/>
                      </a:lnTo>
                      <a:lnTo>
                        <a:pt x="530" y="2077"/>
                      </a:lnTo>
                      <a:lnTo>
                        <a:pt x="529" y="2084"/>
                      </a:lnTo>
                      <a:lnTo>
                        <a:pt x="527" y="2089"/>
                      </a:lnTo>
                      <a:lnTo>
                        <a:pt x="523" y="2095"/>
                      </a:lnTo>
                      <a:lnTo>
                        <a:pt x="521" y="2100"/>
                      </a:lnTo>
                      <a:lnTo>
                        <a:pt x="515" y="2104"/>
                      </a:lnTo>
                      <a:lnTo>
                        <a:pt x="509" y="2106"/>
                      </a:lnTo>
                      <a:lnTo>
                        <a:pt x="501" y="2106"/>
                      </a:lnTo>
                      <a:lnTo>
                        <a:pt x="500" y="2097"/>
                      </a:lnTo>
                      <a:lnTo>
                        <a:pt x="501" y="2087"/>
                      </a:lnTo>
                      <a:lnTo>
                        <a:pt x="503" y="2078"/>
                      </a:lnTo>
                      <a:lnTo>
                        <a:pt x="507" y="2069"/>
                      </a:lnTo>
                      <a:lnTo>
                        <a:pt x="511" y="2062"/>
                      </a:lnTo>
                      <a:lnTo>
                        <a:pt x="513" y="2053"/>
                      </a:lnTo>
                      <a:lnTo>
                        <a:pt x="517" y="2044"/>
                      </a:lnTo>
                      <a:lnTo>
                        <a:pt x="517" y="2035"/>
                      </a:lnTo>
                      <a:lnTo>
                        <a:pt x="515" y="2028"/>
                      </a:lnTo>
                      <a:lnTo>
                        <a:pt x="509" y="2019"/>
                      </a:lnTo>
                      <a:lnTo>
                        <a:pt x="474" y="2095"/>
                      </a:lnTo>
                      <a:lnTo>
                        <a:pt x="457" y="2089"/>
                      </a:lnTo>
                      <a:lnTo>
                        <a:pt x="465" y="2071"/>
                      </a:lnTo>
                      <a:lnTo>
                        <a:pt x="472" y="2051"/>
                      </a:lnTo>
                      <a:lnTo>
                        <a:pt x="484" y="2035"/>
                      </a:lnTo>
                      <a:lnTo>
                        <a:pt x="494" y="2017"/>
                      </a:lnTo>
                      <a:lnTo>
                        <a:pt x="505" y="1999"/>
                      </a:lnTo>
                      <a:lnTo>
                        <a:pt x="517" y="1983"/>
                      </a:lnTo>
                      <a:lnTo>
                        <a:pt x="529" y="1967"/>
                      </a:lnTo>
                      <a:lnTo>
                        <a:pt x="540" y="1949"/>
                      </a:lnTo>
                      <a:lnTo>
                        <a:pt x="552" y="1932"/>
                      </a:lnTo>
                      <a:lnTo>
                        <a:pt x="563" y="1914"/>
                      </a:lnTo>
                      <a:lnTo>
                        <a:pt x="604" y="1927"/>
                      </a:lnTo>
                      <a:lnTo>
                        <a:pt x="647" y="1940"/>
                      </a:lnTo>
                      <a:lnTo>
                        <a:pt x="687" y="1950"/>
                      </a:lnTo>
                      <a:lnTo>
                        <a:pt x="730" y="1961"/>
                      </a:lnTo>
                      <a:lnTo>
                        <a:pt x="773" y="1969"/>
                      </a:lnTo>
                      <a:lnTo>
                        <a:pt x="815" y="1978"/>
                      </a:lnTo>
                      <a:lnTo>
                        <a:pt x="858" y="1983"/>
                      </a:lnTo>
                      <a:lnTo>
                        <a:pt x="902" y="1987"/>
                      </a:lnTo>
                      <a:lnTo>
                        <a:pt x="947" y="1990"/>
                      </a:lnTo>
                      <a:lnTo>
                        <a:pt x="993" y="1992"/>
                      </a:lnTo>
                      <a:lnTo>
                        <a:pt x="1024" y="1996"/>
                      </a:lnTo>
                      <a:lnTo>
                        <a:pt x="1053" y="1997"/>
                      </a:lnTo>
                      <a:lnTo>
                        <a:pt x="1082" y="1997"/>
                      </a:lnTo>
                      <a:lnTo>
                        <a:pt x="1113" y="1996"/>
                      </a:lnTo>
                      <a:lnTo>
                        <a:pt x="1142" y="1996"/>
                      </a:lnTo>
                      <a:lnTo>
                        <a:pt x="1173" y="1992"/>
                      </a:lnTo>
                      <a:lnTo>
                        <a:pt x="1204" y="1990"/>
                      </a:lnTo>
                      <a:lnTo>
                        <a:pt x="1235" y="1988"/>
                      </a:lnTo>
                      <a:lnTo>
                        <a:pt x="1266" y="1985"/>
                      </a:lnTo>
                      <a:lnTo>
                        <a:pt x="1297" y="1985"/>
                      </a:lnTo>
                      <a:lnTo>
                        <a:pt x="1299" y="1983"/>
                      </a:lnTo>
                      <a:lnTo>
                        <a:pt x="1299" y="1983"/>
                      </a:lnTo>
                      <a:lnTo>
                        <a:pt x="1301" y="1983"/>
                      </a:lnTo>
                      <a:lnTo>
                        <a:pt x="1301" y="1981"/>
                      </a:lnTo>
                      <a:lnTo>
                        <a:pt x="1301" y="1981"/>
                      </a:lnTo>
                      <a:lnTo>
                        <a:pt x="1303" y="1979"/>
                      </a:lnTo>
                      <a:lnTo>
                        <a:pt x="1303" y="1979"/>
                      </a:lnTo>
                      <a:lnTo>
                        <a:pt x="1303" y="1978"/>
                      </a:lnTo>
                      <a:lnTo>
                        <a:pt x="1303" y="1978"/>
                      </a:lnTo>
                      <a:lnTo>
                        <a:pt x="1303" y="1976"/>
                      </a:lnTo>
                      <a:lnTo>
                        <a:pt x="1257" y="1972"/>
                      </a:lnTo>
                      <a:lnTo>
                        <a:pt x="1262" y="1970"/>
                      </a:lnTo>
                      <a:lnTo>
                        <a:pt x="1268" y="1970"/>
                      </a:lnTo>
                      <a:lnTo>
                        <a:pt x="1274" y="1970"/>
                      </a:lnTo>
                      <a:lnTo>
                        <a:pt x="1280" y="1969"/>
                      </a:lnTo>
                      <a:lnTo>
                        <a:pt x="1286" y="1969"/>
                      </a:lnTo>
                      <a:lnTo>
                        <a:pt x="1291" y="1967"/>
                      </a:lnTo>
                      <a:lnTo>
                        <a:pt x="1297" y="1965"/>
                      </a:lnTo>
                      <a:lnTo>
                        <a:pt x="1301" y="1961"/>
                      </a:lnTo>
                      <a:lnTo>
                        <a:pt x="1307" y="1958"/>
                      </a:lnTo>
                      <a:lnTo>
                        <a:pt x="1309" y="1954"/>
                      </a:lnTo>
                      <a:lnTo>
                        <a:pt x="1293" y="1954"/>
                      </a:lnTo>
                      <a:lnTo>
                        <a:pt x="1276" y="1954"/>
                      </a:lnTo>
                      <a:lnTo>
                        <a:pt x="1260" y="1954"/>
                      </a:lnTo>
                      <a:lnTo>
                        <a:pt x="1243" y="1956"/>
                      </a:lnTo>
                      <a:lnTo>
                        <a:pt x="1226" y="1958"/>
                      </a:lnTo>
                      <a:lnTo>
                        <a:pt x="1208" y="1960"/>
                      </a:lnTo>
                      <a:lnTo>
                        <a:pt x="1191" y="1961"/>
                      </a:lnTo>
                      <a:lnTo>
                        <a:pt x="1173" y="1961"/>
                      </a:lnTo>
                      <a:lnTo>
                        <a:pt x="1154" y="1961"/>
                      </a:lnTo>
                      <a:lnTo>
                        <a:pt x="1137" y="1961"/>
                      </a:lnTo>
                      <a:lnTo>
                        <a:pt x="1111" y="1981"/>
                      </a:lnTo>
                      <a:lnTo>
                        <a:pt x="1040" y="1978"/>
                      </a:lnTo>
                      <a:lnTo>
                        <a:pt x="970" y="1972"/>
                      </a:lnTo>
                      <a:lnTo>
                        <a:pt x="902" y="1965"/>
                      </a:lnTo>
                      <a:lnTo>
                        <a:pt x="836" y="1954"/>
                      </a:lnTo>
                      <a:lnTo>
                        <a:pt x="773" y="1943"/>
                      </a:lnTo>
                      <a:lnTo>
                        <a:pt x="711" y="1929"/>
                      </a:lnTo>
                      <a:lnTo>
                        <a:pt x="651" y="1913"/>
                      </a:lnTo>
                      <a:lnTo>
                        <a:pt x="589" y="1893"/>
                      </a:lnTo>
                      <a:lnTo>
                        <a:pt x="529" y="1871"/>
                      </a:lnTo>
                      <a:lnTo>
                        <a:pt x="469" y="1848"/>
                      </a:lnTo>
                      <a:lnTo>
                        <a:pt x="478" y="1857"/>
                      </a:lnTo>
                      <a:lnTo>
                        <a:pt x="488" y="1862"/>
                      </a:lnTo>
                      <a:lnTo>
                        <a:pt x="500" y="1864"/>
                      </a:lnTo>
                      <a:lnTo>
                        <a:pt x="509" y="1866"/>
                      </a:lnTo>
                      <a:lnTo>
                        <a:pt x="521" y="1868"/>
                      </a:lnTo>
                      <a:lnTo>
                        <a:pt x="532" y="1869"/>
                      </a:lnTo>
                      <a:lnTo>
                        <a:pt x="544" y="1871"/>
                      </a:lnTo>
                      <a:lnTo>
                        <a:pt x="554" y="1873"/>
                      </a:lnTo>
                      <a:lnTo>
                        <a:pt x="565" y="1878"/>
                      </a:lnTo>
                      <a:lnTo>
                        <a:pt x="575" y="1884"/>
                      </a:lnTo>
                      <a:lnTo>
                        <a:pt x="579" y="1880"/>
                      </a:lnTo>
                      <a:lnTo>
                        <a:pt x="577" y="1877"/>
                      </a:lnTo>
                      <a:lnTo>
                        <a:pt x="573" y="1871"/>
                      </a:lnTo>
                      <a:lnTo>
                        <a:pt x="569" y="1869"/>
                      </a:lnTo>
                      <a:lnTo>
                        <a:pt x="563" y="1866"/>
                      </a:lnTo>
                      <a:lnTo>
                        <a:pt x="560" y="1864"/>
                      </a:lnTo>
                      <a:lnTo>
                        <a:pt x="554" y="1862"/>
                      </a:lnTo>
                      <a:lnTo>
                        <a:pt x="548" y="1860"/>
                      </a:lnTo>
                      <a:lnTo>
                        <a:pt x="542" y="1860"/>
                      </a:lnTo>
                      <a:lnTo>
                        <a:pt x="536" y="1859"/>
                      </a:lnTo>
                      <a:lnTo>
                        <a:pt x="530" y="1857"/>
                      </a:lnTo>
                      <a:lnTo>
                        <a:pt x="532" y="1835"/>
                      </a:lnTo>
                      <a:lnTo>
                        <a:pt x="544" y="1819"/>
                      </a:lnTo>
                      <a:lnTo>
                        <a:pt x="556" y="1803"/>
                      </a:lnTo>
                      <a:lnTo>
                        <a:pt x="569" y="1786"/>
                      </a:lnTo>
                      <a:lnTo>
                        <a:pt x="583" y="1770"/>
                      </a:lnTo>
                      <a:lnTo>
                        <a:pt x="596" y="1754"/>
                      </a:lnTo>
                      <a:lnTo>
                        <a:pt x="610" y="1740"/>
                      </a:lnTo>
                      <a:lnTo>
                        <a:pt x="623" y="1723"/>
                      </a:lnTo>
                      <a:lnTo>
                        <a:pt x="635" y="1707"/>
                      </a:lnTo>
                      <a:lnTo>
                        <a:pt x="649" y="1691"/>
                      </a:lnTo>
                      <a:lnTo>
                        <a:pt x="660" y="1673"/>
                      </a:lnTo>
                      <a:lnTo>
                        <a:pt x="647" y="1680"/>
                      </a:lnTo>
                      <a:lnTo>
                        <a:pt x="635" y="1689"/>
                      </a:lnTo>
                      <a:lnTo>
                        <a:pt x="622" y="1700"/>
                      </a:lnTo>
                      <a:lnTo>
                        <a:pt x="610" y="1711"/>
                      </a:lnTo>
                      <a:lnTo>
                        <a:pt x="600" y="1723"/>
                      </a:lnTo>
                      <a:lnTo>
                        <a:pt x="589" y="1736"/>
                      </a:lnTo>
                      <a:lnTo>
                        <a:pt x="579" y="1750"/>
                      </a:lnTo>
                      <a:lnTo>
                        <a:pt x="569" y="1763"/>
                      </a:lnTo>
                      <a:lnTo>
                        <a:pt x="560" y="1776"/>
                      </a:lnTo>
                      <a:lnTo>
                        <a:pt x="550" y="1788"/>
                      </a:lnTo>
                      <a:lnTo>
                        <a:pt x="548" y="1783"/>
                      </a:lnTo>
                      <a:lnTo>
                        <a:pt x="548" y="1777"/>
                      </a:lnTo>
                      <a:lnTo>
                        <a:pt x="552" y="1772"/>
                      </a:lnTo>
                      <a:lnTo>
                        <a:pt x="554" y="1765"/>
                      </a:lnTo>
                      <a:lnTo>
                        <a:pt x="558" y="1759"/>
                      </a:lnTo>
                      <a:lnTo>
                        <a:pt x="563" y="1754"/>
                      </a:lnTo>
                      <a:lnTo>
                        <a:pt x="567" y="1747"/>
                      </a:lnTo>
                      <a:lnTo>
                        <a:pt x="573" y="1741"/>
                      </a:lnTo>
                      <a:lnTo>
                        <a:pt x="577" y="1736"/>
                      </a:lnTo>
                      <a:lnTo>
                        <a:pt x="581" y="1729"/>
                      </a:lnTo>
                      <a:lnTo>
                        <a:pt x="575" y="1729"/>
                      </a:lnTo>
                      <a:lnTo>
                        <a:pt x="571" y="1731"/>
                      </a:lnTo>
                      <a:lnTo>
                        <a:pt x="567" y="1732"/>
                      </a:lnTo>
                      <a:lnTo>
                        <a:pt x="563" y="1736"/>
                      </a:lnTo>
                      <a:lnTo>
                        <a:pt x="560" y="1740"/>
                      </a:lnTo>
                      <a:lnTo>
                        <a:pt x="556" y="1745"/>
                      </a:lnTo>
                      <a:lnTo>
                        <a:pt x="554" y="1749"/>
                      </a:lnTo>
                      <a:lnTo>
                        <a:pt x="550" y="1754"/>
                      </a:lnTo>
                      <a:lnTo>
                        <a:pt x="546" y="1758"/>
                      </a:lnTo>
                      <a:lnTo>
                        <a:pt x="542" y="1761"/>
                      </a:lnTo>
                      <a:lnTo>
                        <a:pt x="542" y="1745"/>
                      </a:lnTo>
                      <a:lnTo>
                        <a:pt x="546" y="1729"/>
                      </a:lnTo>
                      <a:lnTo>
                        <a:pt x="552" y="1714"/>
                      </a:lnTo>
                      <a:lnTo>
                        <a:pt x="561" y="1700"/>
                      </a:lnTo>
                      <a:lnTo>
                        <a:pt x="573" y="1687"/>
                      </a:lnTo>
                      <a:lnTo>
                        <a:pt x="585" y="1675"/>
                      </a:lnTo>
                      <a:lnTo>
                        <a:pt x="596" y="1662"/>
                      </a:lnTo>
                      <a:lnTo>
                        <a:pt x="610" y="1649"/>
                      </a:lnTo>
                      <a:lnTo>
                        <a:pt x="622" y="1637"/>
                      </a:lnTo>
                      <a:lnTo>
                        <a:pt x="631" y="1624"/>
                      </a:lnTo>
                      <a:lnTo>
                        <a:pt x="620" y="1628"/>
                      </a:lnTo>
                      <a:lnTo>
                        <a:pt x="610" y="1633"/>
                      </a:lnTo>
                      <a:lnTo>
                        <a:pt x="600" y="1640"/>
                      </a:lnTo>
                      <a:lnTo>
                        <a:pt x="591" y="1649"/>
                      </a:lnTo>
                      <a:lnTo>
                        <a:pt x="583" y="1658"/>
                      </a:lnTo>
                      <a:lnTo>
                        <a:pt x="573" y="1667"/>
                      </a:lnTo>
                      <a:lnTo>
                        <a:pt x="563" y="1678"/>
                      </a:lnTo>
                      <a:lnTo>
                        <a:pt x="556" y="1687"/>
                      </a:lnTo>
                      <a:lnTo>
                        <a:pt x="546" y="1696"/>
                      </a:lnTo>
                      <a:lnTo>
                        <a:pt x="536" y="1705"/>
                      </a:lnTo>
                      <a:lnTo>
                        <a:pt x="540" y="1693"/>
                      </a:lnTo>
                      <a:lnTo>
                        <a:pt x="546" y="1682"/>
                      </a:lnTo>
                      <a:lnTo>
                        <a:pt x="554" y="1671"/>
                      </a:lnTo>
                      <a:lnTo>
                        <a:pt x="563" y="1662"/>
                      </a:lnTo>
                      <a:lnTo>
                        <a:pt x="573" y="1651"/>
                      </a:lnTo>
                      <a:lnTo>
                        <a:pt x="581" y="1642"/>
                      </a:lnTo>
                      <a:lnTo>
                        <a:pt x="589" y="1631"/>
                      </a:lnTo>
                      <a:lnTo>
                        <a:pt x="596" y="1622"/>
                      </a:lnTo>
                      <a:lnTo>
                        <a:pt x="602" y="1612"/>
                      </a:lnTo>
                      <a:lnTo>
                        <a:pt x="604" y="1601"/>
                      </a:lnTo>
                      <a:lnTo>
                        <a:pt x="534" y="1666"/>
                      </a:lnTo>
                      <a:lnTo>
                        <a:pt x="540" y="1657"/>
                      </a:lnTo>
                      <a:lnTo>
                        <a:pt x="546" y="1649"/>
                      </a:lnTo>
                      <a:lnTo>
                        <a:pt x="554" y="1642"/>
                      </a:lnTo>
                      <a:lnTo>
                        <a:pt x="560" y="1633"/>
                      </a:lnTo>
                      <a:lnTo>
                        <a:pt x="567" y="1626"/>
                      </a:lnTo>
                      <a:lnTo>
                        <a:pt x="573" y="1619"/>
                      </a:lnTo>
                      <a:lnTo>
                        <a:pt x="577" y="1612"/>
                      </a:lnTo>
                      <a:lnTo>
                        <a:pt x="581" y="1603"/>
                      </a:lnTo>
                      <a:lnTo>
                        <a:pt x="581" y="1595"/>
                      </a:lnTo>
                      <a:lnTo>
                        <a:pt x="577" y="1586"/>
                      </a:lnTo>
                      <a:lnTo>
                        <a:pt x="513" y="1651"/>
                      </a:lnTo>
                      <a:lnTo>
                        <a:pt x="513" y="1644"/>
                      </a:lnTo>
                      <a:lnTo>
                        <a:pt x="513" y="1639"/>
                      </a:lnTo>
                      <a:lnTo>
                        <a:pt x="517" y="1633"/>
                      </a:lnTo>
                      <a:lnTo>
                        <a:pt x="521" y="1628"/>
                      </a:lnTo>
                      <a:lnTo>
                        <a:pt x="523" y="1622"/>
                      </a:lnTo>
                      <a:lnTo>
                        <a:pt x="527" y="1617"/>
                      </a:lnTo>
                      <a:lnTo>
                        <a:pt x="529" y="1613"/>
                      </a:lnTo>
                      <a:lnTo>
                        <a:pt x="529" y="1608"/>
                      </a:lnTo>
                      <a:lnTo>
                        <a:pt x="527" y="1604"/>
                      </a:lnTo>
                      <a:lnTo>
                        <a:pt x="521" y="1599"/>
                      </a:lnTo>
                      <a:lnTo>
                        <a:pt x="511" y="1608"/>
                      </a:lnTo>
                      <a:lnTo>
                        <a:pt x="577" y="1556"/>
                      </a:lnTo>
                      <a:lnTo>
                        <a:pt x="569" y="1554"/>
                      </a:lnTo>
                      <a:lnTo>
                        <a:pt x="563" y="1554"/>
                      </a:lnTo>
                      <a:lnTo>
                        <a:pt x="556" y="1556"/>
                      </a:lnTo>
                      <a:lnTo>
                        <a:pt x="548" y="1559"/>
                      </a:lnTo>
                      <a:lnTo>
                        <a:pt x="542" y="1565"/>
                      </a:lnTo>
                      <a:lnTo>
                        <a:pt x="534" y="1568"/>
                      </a:lnTo>
                      <a:lnTo>
                        <a:pt x="529" y="1572"/>
                      </a:lnTo>
                      <a:lnTo>
                        <a:pt x="523" y="1576"/>
                      </a:lnTo>
                      <a:lnTo>
                        <a:pt x="517" y="1577"/>
                      </a:lnTo>
                      <a:lnTo>
                        <a:pt x="513" y="1577"/>
                      </a:lnTo>
                      <a:lnTo>
                        <a:pt x="519" y="1567"/>
                      </a:lnTo>
                      <a:lnTo>
                        <a:pt x="525" y="1558"/>
                      </a:lnTo>
                      <a:lnTo>
                        <a:pt x="534" y="1548"/>
                      </a:lnTo>
                      <a:lnTo>
                        <a:pt x="544" y="1539"/>
                      </a:lnTo>
                      <a:lnTo>
                        <a:pt x="556" y="1532"/>
                      </a:lnTo>
                      <a:lnTo>
                        <a:pt x="567" y="1525"/>
                      </a:lnTo>
                      <a:lnTo>
                        <a:pt x="579" y="1518"/>
                      </a:lnTo>
                      <a:lnTo>
                        <a:pt x="591" y="1511"/>
                      </a:lnTo>
                      <a:lnTo>
                        <a:pt x="602" y="1503"/>
                      </a:lnTo>
                      <a:lnTo>
                        <a:pt x="612" y="1496"/>
                      </a:lnTo>
                      <a:lnTo>
                        <a:pt x="604" y="1484"/>
                      </a:lnTo>
                      <a:lnTo>
                        <a:pt x="594" y="1487"/>
                      </a:lnTo>
                      <a:lnTo>
                        <a:pt x="585" y="1493"/>
                      </a:lnTo>
                      <a:lnTo>
                        <a:pt x="575" y="1498"/>
                      </a:lnTo>
                      <a:lnTo>
                        <a:pt x="567" y="1505"/>
                      </a:lnTo>
                      <a:lnTo>
                        <a:pt x="558" y="1511"/>
                      </a:lnTo>
                      <a:lnTo>
                        <a:pt x="548" y="1518"/>
                      </a:lnTo>
                      <a:lnTo>
                        <a:pt x="540" y="1523"/>
                      </a:lnTo>
                      <a:lnTo>
                        <a:pt x="530" y="1529"/>
                      </a:lnTo>
                      <a:lnTo>
                        <a:pt x="521" y="1534"/>
                      </a:lnTo>
                      <a:lnTo>
                        <a:pt x="511" y="1539"/>
                      </a:lnTo>
                      <a:lnTo>
                        <a:pt x="517" y="1525"/>
                      </a:lnTo>
                      <a:lnTo>
                        <a:pt x="525" y="1512"/>
                      </a:lnTo>
                      <a:lnTo>
                        <a:pt x="534" y="1500"/>
                      </a:lnTo>
                      <a:lnTo>
                        <a:pt x="546" y="1491"/>
                      </a:lnTo>
                      <a:lnTo>
                        <a:pt x="560" y="1480"/>
                      </a:lnTo>
                      <a:lnTo>
                        <a:pt x="571" y="1473"/>
                      </a:lnTo>
                      <a:lnTo>
                        <a:pt x="585" y="1464"/>
                      </a:lnTo>
                      <a:lnTo>
                        <a:pt x="598" y="1455"/>
                      </a:lnTo>
                      <a:lnTo>
                        <a:pt x="612" y="1446"/>
                      </a:lnTo>
                      <a:lnTo>
                        <a:pt x="622" y="1437"/>
                      </a:lnTo>
                      <a:lnTo>
                        <a:pt x="629" y="1439"/>
                      </a:lnTo>
                      <a:lnTo>
                        <a:pt x="637" y="1439"/>
                      </a:lnTo>
                      <a:lnTo>
                        <a:pt x="643" y="1435"/>
                      </a:lnTo>
                      <a:lnTo>
                        <a:pt x="649" y="1433"/>
                      </a:lnTo>
                      <a:lnTo>
                        <a:pt x="654" y="1430"/>
                      </a:lnTo>
                      <a:lnTo>
                        <a:pt x="660" y="1424"/>
                      </a:lnTo>
                      <a:lnTo>
                        <a:pt x="666" y="1420"/>
                      </a:lnTo>
                      <a:lnTo>
                        <a:pt x="672" y="1417"/>
                      </a:lnTo>
                      <a:lnTo>
                        <a:pt x="678" y="1415"/>
                      </a:lnTo>
                      <a:lnTo>
                        <a:pt x="683" y="1415"/>
                      </a:lnTo>
                      <a:lnTo>
                        <a:pt x="682" y="1410"/>
                      </a:lnTo>
                      <a:lnTo>
                        <a:pt x="678" y="1404"/>
                      </a:lnTo>
                      <a:lnTo>
                        <a:pt x="676" y="1399"/>
                      </a:lnTo>
                      <a:lnTo>
                        <a:pt x="674" y="1393"/>
                      </a:lnTo>
                      <a:lnTo>
                        <a:pt x="672" y="1388"/>
                      </a:lnTo>
                      <a:lnTo>
                        <a:pt x="670" y="1383"/>
                      </a:lnTo>
                      <a:lnTo>
                        <a:pt x="668" y="1377"/>
                      </a:lnTo>
                      <a:lnTo>
                        <a:pt x="662" y="1374"/>
                      </a:lnTo>
                      <a:lnTo>
                        <a:pt x="658" y="1370"/>
                      </a:lnTo>
                      <a:lnTo>
                        <a:pt x="651" y="1368"/>
                      </a:lnTo>
                      <a:lnTo>
                        <a:pt x="649" y="1384"/>
                      </a:lnTo>
                      <a:lnTo>
                        <a:pt x="641" y="1399"/>
                      </a:lnTo>
                      <a:lnTo>
                        <a:pt x="629" y="1411"/>
                      </a:lnTo>
                      <a:lnTo>
                        <a:pt x="616" y="1424"/>
                      </a:lnTo>
                      <a:lnTo>
                        <a:pt x="600" y="1433"/>
                      </a:lnTo>
                      <a:lnTo>
                        <a:pt x="581" y="1444"/>
                      </a:lnTo>
                      <a:lnTo>
                        <a:pt x="563" y="1455"/>
                      </a:lnTo>
                      <a:lnTo>
                        <a:pt x="546" y="1466"/>
                      </a:lnTo>
                      <a:lnTo>
                        <a:pt x="529" y="1476"/>
                      </a:lnTo>
                      <a:lnTo>
                        <a:pt x="515" y="1491"/>
                      </a:lnTo>
                      <a:lnTo>
                        <a:pt x="505" y="1433"/>
                      </a:lnTo>
                      <a:lnTo>
                        <a:pt x="498" y="1439"/>
                      </a:lnTo>
                      <a:lnTo>
                        <a:pt x="494" y="1446"/>
                      </a:lnTo>
                      <a:lnTo>
                        <a:pt x="492" y="1453"/>
                      </a:lnTo>
                      <a:lnTo>
                        <a:pt x="490" y="1460"/>
                      </a:lnTo>
                      <a:lnTo>
                        <a:pt x="492" y="1469"/>
                      </a:lnTo>
                      <a:lnTo>
                        <a:pt x="492" y="1478"/>
                      </a:lnTo>
                      <a:lnTo>
                        <a:pt x="494" y="1487"/>
                      </a:lnTo>
                      <a:lnTo>
                        <a:pt x="494" y="1496"/>
                      </a:lnTo>
                      <a:lnTo>
                        <a:pt x="494" y="1503"/>
                      </a:lnTo>
                      <a:lnTo>
                        <a:pt x="490" y="1511"/>
                      </a:lnTo>
                      <a:lnTo>
                        <a:pt x="486" y="1511"/>
                      </a:lnTo>
                      <a:lnTo>
                        <a:pt x="492" y="1503"/>
                      </a:lnTo>
                      <a:lnTo>
                        <a:pt x="484" y="1498"/>
                      </a:lnTo>
                      <a:lnTo>
                        <a:pt x="480" y="1493"/>
                      </a:lnTo>
                      <a:lnTo>
                        <a:pt x="478" y="1484"/>
                      </a:lnTo>
                      <a:lnTo>
                        <a:pt x="478" y="1475"/>
                      </a:lnTo>
                      <a:lnTo>
                        <a:pt x="478" y="1464"/>
                      </a:lnTo>
                      <a:lnTo>
                        <a:pt x="480" y="1453"/>
                      </a:lnTo>
                      <a:lnTo>
                        <a:pt x="482" y="1442"/>
                      </a:lnTo>
                      <a:lnTo>
                        <a:pt x="482" y="1431"/>
                      </a:lnTo>
                      <a:lnTo>
                        <a:pt x="480" y="1420"/>
                      </a:lnTo>
                      <a:lnTo>
                        <a:pt x="478" y="1410"/>
                      </a:lnTo>
                      <a:lnTo>
                        <a:pt x="480" y="1413"/>
                      </a:lnTo>
                      <a:lnTo>
                        <a:pt x="482" y="1417"/>
                      </a:lnTo>
                      <a:lnTo>
                        <a:pt x="486" y="1419"/>
                      </a:lnTo>
                      <a:lnTo>
                        <a:pt x="490" y="1420"/>
                      </a:lnTo>
                      <a:lnTo>
                        <a:pt x="494" y="1420"/>
                      </a:lnTo>
                      <a:lnTo>
                        <a:pt x="498" y="1420"/>
                      </a:lnTo>
                      <a:lnTo>
                        <a:pt x="501" y="1420"/>
                      </a:lnTo>
                      <a:lnTo>
                        <a:pt x="505" y="1420"/>
                      </a:lnTo>
                      <a:lnTo>
                        <a:pt x="507" y="1419"/>
                      </a:lnTo>
                      <a:lnTo>
                        <a:pt x="511" y="1417"/>
                      </a:lnTo>
                      <a:lnTo>
                        <a:pt x="513" y="1420"/>
                      </a:lnTo>
                      <a:lnTo>
                        <a:pt x="513" y="1422"/>
                      </a:lnTo>
                      <a:lnTo>
                        <a:pt x="515" y="1424"/>
                      </a:lnTo>
                      <a:lnTo>
                        <a:pt x="515" y="1428"/>
                      </a:lnTo>
                      <a:lnTo>
                        <a:pt x="517" y="1430"/>
                      </a:lnTo>
                      <a:lnTo>
                        <a:pt x="517" y="1431"/>
                      </a:lnTo>
                      <a:lnTo>
                        <a:pt x="519" y="1435"/>
                      </a:lnTo>
                      <a:lnTo>
                        <a:pt x="519" y="1437"/>
                      </a:lnTo>
                      <a:lnTo>
                        <a:pt x="521" y="1439"/>
                      </a:lnTo>
                      <a:lnTo>
                        <a:pt x="523" y="1440"/>
                      </a:lnTo>
                      <a:lnTo>
                        <a:pt x="525" y="1440"/>
                      </a:lnTo>
                      <a:lnTo>
                        <a:pt x="529" y="1440"/>
                      </a:lnTo>
                      <a:lnTo>
                        <a:pt x="530" y="1440"/>
                      </a:lnTo>
                      <a:lnTo>
                        <a:pt x="532" y="1439"/>
                      </a:lnTo>
                      <a:lnTo>
                        <a:pt x="534" y="1439"/>
                      </a:lnTo>
                      <a:lnTo>
                        <a:pt x="536" y="1437"/>
                      </a:lnTo>
                      <a:lnTo>
                        <a:pt x="538" y="1437"/>
                      </a:lnTo>
                      <a:lnTo>
                        <a:pt x="540" y="1435"/>
                      </a:lnTo>
                      <a:lnTo>
                        <a:pt x="540" y="1433"/>
                      </a:lnTo>
                      <a:lnTo>
                        <a:pt x="542" y="1433"/>
                      </a:lnTo>
                      <a:lnTo>
                        <a:pt x="542" y="1428"/>
                      </a:lnTo>
                      <a:lnTo>
                        <a:pt x="542" y="1422"/>
                      </a:lnTo>
                      <a:lnTo>
                        <a:pt x="540" y="1417"/>
                      </a:lnTo>
                      <a:lnTo>
                        <a:pt x="538" y="1411"/>
                      </a:lnTo>
                      <a:lnTo>
                        <a:pt x="536" y="1408"/>
                      </a:lnTo>
                      <a:lnTo>
                        <a:pt x="532" y="1402"/>
                      </a:lnTo>
                      <a:lnTo>
                        <a:pt x="530" y="1399"/>
                      </a:lnTo>
                      <a:lnTo>
                        <a:pt x="527" y="1395"/>
                      </a:lnTo>
                      <a:lnTo>
                        <a:pt x="523" y="1392"/>
                      </a:lnTo>
                      <a:lnTo>
                        <a:pt x="519" y="1388"/>
                      </a:lnTo>
                      <a:lnTo>
                        <a:pt x="519" y="1388"/>
                      </a:lnTo>
                      <a:lnTo>
                        <a:pt x="517" y="1388"/>
                      </a:lnTo>
                      <a:lnTo>
                        <a:pt x="517" y="1390"/>
                      </a:lnTo>
                      <a:lnTo>
                        <a:pt x="515" y="1390"/>
                      </a:lnTo>
                      <a:lnTo>
                        <a:pt x="515" y="1390"/>
                      </a:lnTo>
                      <a:lnTo>
                        <a:pt x="513" y="1392"/>
                      </a:lnTo>
                      <a:lnTo>
                        <a:pt x="513" y="1392"/>
                      </a:lnTo>
                      <a:lnTo>
                        <a:pt x="513" y="1393"/>
                      </a:lnTo>
                      <a:lnTo>
                        <a:pt x="513" y="1395"/>
                      </a:lnTo>
                      <a:lnTo>
                        <a:pt x="513" y="1395"/>
                      </a:lnTo>
                      <a:lnTo>
                        <a:pt x="507" y="1395"/>
                      </a:lnTo>
                      <a:lnTo>
                        <a:pt x="503" y="1392"/>
                      </a:lnTo>
                      <a:lnTo>
                        <a:pt x="501" y="1390"/>
                      </a:lnTo>
                      <a:lnTo>
                        <a:pt x="501" y="1386"/>
                      </a:lnTo>
                      <a:lnTo>
                        <a:pt x="501" y="1383"/>
                      </a:lnTo>
                      <a:lnTo>
                        <a:pt x="500" y="1379"/>
                      </a:lnTo>
                      <a:lnTo>
                        <a:pt x="500" y="1375"/>
                      </a:lnTo>
                      <a:lnTo>
                        <a:pt x="500" y="1372"/>
                      </a:lnTo>
                      <a:lnTo>
                        <a:pt x="500" y="1368"/>
                      </a:lnTo>
                      <a:lnTo>
                        <a:pt x="498" y="1365"/>
                      </a:lnTo>
                      <a:lnTo>
                        <a:pt x="500" y="1361"/>
                      </a:lnTo>
                      <a:lnTo>
                        <a:pt x="501" y="1359"/>
                      </a:lnTo>
                      <a:lnTo>
                        <a:pt x="501" y="1356"/>
                      </a:lnTo>
                      <a:lnTo>
                        <a:pt x="503" y="1354"/>
                      </a:lnTo>
                      <a:lnTo>
                        <a:pt x="503" y="1350"/>
                      </a:lnTo>
                      <a:lnTo>
                        <a:pt x="505" y="1347"/>
                      </a:lnTo>
                      <a:lnTo>
                        <a:pt x="505" y="1343"/>
                      </a:lnTo>
                      <a:lnTo>
                        <a:pt x="505" y="1341"/>
                      </a:lnTo>
                      <a:lnTo>
                        <a:pt x="507" y="1338"/>
                      </a:lnTo>
                      <a:lnTo>
                        <a:pt x="507" y="1334"/>
                      </a:lnTo>
                      <a:lnTo>
                        <a:pt x="509" y="1336"/>
                      </a:lnTo>
                      <a:lnTo>
                        <a:pt x="511" y="1338"/>
                      </a:lnTo>
                      <a:lnTo>
                        <a:pt x="513" y="1341"/>
                      </a:lnTo>
                      <a:lnTo>
                        <a:pt x="517" y="1343"/>
                      </a:lnTo>
                      <a:lnTo>
                        <a:pt x="519" y="1345"/>
                      </a:lnTo>
                      <a:lnTo>
                        <a:pt x="523" y="1348"/>
                      </a:lnTo>
                      <a:lnTo>
                        <a:pt x="525" y="1348"/>
                      </a:lnTo>
                      <a:lnTo>
                        <a:pt x="529" y="1348"/>
                      </a:lnTo>
                      <a:lnTo>
                        <a:pt x="532" y="1348"/>
                      </a:lnTo>
                      <a:lnTo>
                        <a:pt x="536" y="1345"/>
                      </a:lnTo>
                      <a:lnTo>
                        <a:pt x="546" y="1338"/>
                      </a:lnTo>
                      <a:lnTo>
                        <a:pt x="550" y="1339"/>
                      </a:lnTo>
                      <a:lnTo>
                        <a:pt x="554" y="1345"/>
                      </a:lnTo>
                      <a:lnTo>
                        <a:pt x="558" y="1352"/>
                      </a:lnTo>
                      <a:lnTo>
                        <a:pt x="561" y="1359"/>
                      </a:lnTo>
                      <a:lnTo>
                        <a:pt x="565" y="1366"/>
                      </a:lnTo>
                      <a:lnTo>
                        <a:pt x="571" y="1374"/>
                      </a:lnTo>
                      <a:lnTo>
                        <a:pt x="577" y="1379"/>
                      </a:lnTo>
                      <a:lnTo>
                        <a:pt x="583" y="1381"/>
                      </a:lnTo>
                      <a:lnTo>
                        <a:pt x="591" y="1381"/>
                      </a:lnTo>
                      <a:lnTo>
                        <a:pt x="598" y="1374"/>
                      </a:lnTo>
                      <a:lnTo>
                        <a:pt x="600" y="1377"/>
                      </a:lnTo>
                      <a:lnTo>
                        <a:pt x="604" y="1381"/>
                      </a:lnTo>
                      <a:lnTo>
                        <a:pt x="606" y="1383"/>
                      </a:lnTo>
                      <a:lnTo>
                        <a:pt x="610" y="1386"/>
                      </a:lnTo>
                      <a:lnTo>
                        <a:pt x="614" y="1388"/>
                      </a:lnTo>
                      <a:lnTo>
                        <a:pt x="616" y="1390"/>
                      </a:lnTo>
                      <a:lnTo>
                        <a:pt x="620" y="1392"/>
                      </a:lnTo>
                      <a:lnTo>
                        <a:pt x="623" y="1392"/>
                      </a:lnTo>
                      <a:lnTo>
                        <a:pt x="627" y="1392"/>
                      </a:lnTo>
                      <a:lnTo>
                        <a:pt x="629" y="1390"/>
                      </a:lnTo>
                      <a:lnTo>
                        <a:pt x="639" y="1383"/>
                      </a:lnTo>
                      <a:lnTo>
                        <a:pt x="637" y="1282"/>
                      </a:lnTo>
                      <a:lnTo>
                        <a:pt x="641" y="1285"/>
                      </a:lnTo>
                      <a:lnTo>
                        <a:pt x="645" y="1289"/>
                      </a:lnTo>
                      <a:lnTo>
                        <a:pt x="651" y="1291"/>
                      </a:lnTo>
                      <a:lnTo>
                        <a:pt x="654" y="1291"/>
                      </a:lnTo>
                      <a:lnTo>
                        <a:pt x="658" y="1293"/>
                      </a:lnTo>
                      <a:lnTo>
                        <a:pt x="662" y="1293"/>
                      </a:lnTo>
                      <a:lnTo>
                        <a:pt x="666" y="1293"/>
                      </a:lnTo>
                      <a:lnTo>
                        <a:pt x="672" y="1293"/>
                      </a:lnTo>
                      <a:lnTo>
                        <a:pt x="676" y="1293"/>
                      </a:lnTo>
                      <a:lnTo>
                        <a:pt x="680" y="1293"/>
                      </a:lnTo>
                      <a:lnTo>
                        <a:pt x="670" y="1280"/>
                      </a:lnTo>
                      <a:lnTo>
                        <a:pt x="662" y="1265"/>
                      </a:lnTo>
                      <a:lnTo>
                        <a:pt x="652" y="1253"/>
                      </a:lnTo>
                      <a:lnTo>
                        <a:pt x="645" y="1238"/>
                      </a:lnTo>
                      <a:lnTo>
                        <a:pt x="637" y="1224"/>
                      </a:lnTo>
                      <a:lnTo>
                        <a:pt x="629" y="1211"/>
                      </a:lnTo>
                      <a:lnTo>
                        <a:pt x="622" y="1197"/>
                      </a:lnTo>
                      <a:lnTo>
                        <a:pt x="614" y="1183"/>
                      </a:lnTo>
                      <a:lnTo>
                        <a:pt x="608" y="1168"/>
                      </a:lnTo>
                      <a:lnTo>
                        <a:pt x="600" y="1154"/>
                      </a:lnTo>
                      <a:lnTo>
                        <a:pt x="610" y="1161"/>
                      </a:lnTo>
                      <a:lnTo>
                        <a:pt x="620" y="1170"/>
                      </a:lnTo>
                      <a:lnTo>
                        <a:pt x="629" y="1179"/>
                      </a:lnTo>
                      <a:lnTo>
                        <a:pt x="637" y="1190"/>
                      </a:lnTo>
                      <a:lnTo>
                        <a:pt x="645" y="1202"/>
                      </a:lnTo>
                      <a:lnTo>
                        <a:pt x="652" y="1213"/>
                      </a:lnTo>
                      <a:lnTo>
                        <a:pt x="658" y="1226"/>
                      </a:lnTo>
                      <a:lnTo>
                        <a:pt x="664" y="1238"/>
                      </a:lnTo>
                      <a:lnTo>
                        <a:pt x="670" y="1251"/>
                      </a:lnTo>
                      <a:lnTo>
                        <a:pt x="676" y="1262"/>
                      </a:lnTo>
                      <a:lnTo>
                        <a:pt x="680" y="1264"/>
                      </a:lnTo>
                      <a:lnTo>
                        <a:pt x="682" y="1264"/>
                      </a:lnTo>
                      <a:lnTo>
                        <a:pt x="683" y="1264"/>
                      </a:lnTo>
                      <a:lnTo>
                        <a:pt x="685" y="1264"/>
                      </a:lnTo>
                      <a:lnTo>
                        <a:pt x="687" y="1262"/>
                      </a:lnTo>
                      <a:lnTo>
                        <a:pt x="689" y="1260"/>
                      </a:lnTo>
                      <a:lnTo>
                        <a:pt x="691" y="1260"/>
                      </a:lnTo>
                      <a:lnTo>
                        <a:pt x="693" y="1258"/>
                      </a:lnTo>
                      <a:lnTo>
                        <a:pt x="693" y="1256"/>
                      </a:lnTo>
                      <a:lnTo>
                        <a:pt x="695" y="1256"/>
                      </a:lnTo>
                      <a:lnTo>
                        <a:pt x="689" y="1242"/>
                      </a:lnTo>
                      <a:lnTo>
                        <a:pt x="683" y="1229"/>
                      </a:lnTo>
                      <a:lnTo>
                        <a:pt x="678" y="1215"/>
                      </a:lnTo>
                      <a:lnTo>
                        <a:pt x="670" y="1201"/>
                      </a:lnTo>
                      <a:lnTo>
                        <a:pt x="664" y="1186"/>
                      </a:lnTo>
                      <a:lnTo>
                        <a:pt x="656" y="1174"/>
                      </a:lnTo>
                      <a:lnTo>
                        <a:pt x="649" y="1161"/>
                      </a:lnTo>
                      <a:lnTo>
                        <a:pt x="639" y="1148"/>
                      </a:lnTo>
                      <a:lnTo>
                        <a:pt x="627" y="1137"/>
                      </a:lnTo>
                      <a:lnTo>
                        <a:pt x="616" y="1128"/>
                      </a:lnTo>
                      <a:lnTo>
                        <a:pt x="620" y="1116"/>
                      </a:lnTo>
                      <a:lnTo>
                        <a:pt x="622" y="1103"/>
                      </a:lnTo>
                      <a:lnTo>
                        <a:pt x="623" y="1089"/>
                      </a:lnTo>
                      <a:lnTo>
                        <a:pt x="623" y="1074"/>
                      </a:lnTo>
                      <a:lnTo>
                        <a:pt x="623" y="1060"/>
                      </a:lnTo>
                      <a:lnTo>
                        <a:pt x="625" y="1047"/>
                      </a:lnTo>
                      <a:lnTo>
                        <a:pt x="631" y="1035"/>
                      </a:lnTo>
                      <a:lnTo>
                        <a:pt x="637" y="1026"/>
                      </a:lnTo>
                      <a:lnTo>
                        <a:pt x="649" y="1018"/>
                      </a:lnTo>
                      <a:lnTo>
                        <a:pt x="664" y="1015"/>
                      </a:lnTo>
                      <a:lnTo>
                        <a:pt x="666" y="1006"/>
                      </a:lnTo>
                      <a:lnTo>
                        <a:pt x="672" y="995"/>
                      </a:lnTo>
                      <a:lnTo>
                        <a:pt x="680" y="988"/>
                      </a:lnTo>
                      <a:lnTo>
                        <a:pt x="687" y="979"/>
                      </a:lnTo>
                      <a:lnTo>
                        <a:pt x="695" y="972"/>
                      </a:lnTo>
                      <a:lnTo>
                        <a:pt x="705" y="963"/>
                      </a:lnTo>
                      <a:lnTo>
                        <a:pt x="711" y="955"/>
                      </a:lnTo>
                      <a:lnTo>
                        <a:pt x="716" y="946"/>
                      </a:lnTo>
                      <a:lnTo>
                        <a:pt x="720" y="937"/>
                      </a:lnTo>
                      <a:lnTo>
                        <a:pt x="720" y="927"/>
                      </a:lnTo>
                      <a:lnTo>
                        <a:pt x="713" y="930"/>
                      </a:lnTo>
                      <a:lnTo>
                        <a:pt x="705" y="934"/>
                      </a:lnTo>
                      <a:lnTo>
                        <a:pt x="697" y="939"/>
                      </a:lnTo>
                      <a:lnTo>
                        <a:pt x="691" y="945"/>
                      </a:lnTo>
                      <a:lnTo>
                        <a:pt x="683" y="950"/>
                      </a:lnTo>
                      <a:lnTo>
                        <a:pt x="678" y="957"/>
                      </a:lnTo>
                      <a:lnTo>
                        <a:pt x="672" y="963"/>
                      </a:lnTo>
                      <a:lnTo>
                        <a:pt x="666" y="968"/>
                      </a:lnTo>
                      <a:lnTo>
                        <a:pt x="658" y="972"/>
                      </a:lnTo>
                      <a:lnTo>
                        <a:pt x="651" y="975"/>
                      </a:lnTo>
                      <a:lnTo>
                        <a:pt x="654" y="966"/>
                      </a:lnTo>
                      <a:lnTo>
                        <a:pt x="658" y="959"/>
                      </a:lnTo>
                      <a:lnTo>
                        <a:pt x="664" y="952"/>
                      </a:lnTo>
                      <a:lnTo>
                        <a:pt x="672" y="946"/>
                      </a:lnTo>
                      <a:lnTo>
                        <a:pt x="678" y="941"/>
                      </a:lnTo>
                      <a:lnTo>
                        <a:pt x="683" y="934"/>
                      </a:lnTo>
                      <a:lnTo>
                        <a:pt x="687" y="928"/>
                      </a:lnTo>
                      <a:lnTo>
                        <a:pt x="691" y="921"/>
                      </a:lnTo>
                      <a:lnTo>
                        <a:pt x="691" y="912"/>
                      </a:lnTo>
                      <a:lnTo>
                        <a:pt x="689" y="903"/>
                      </a:lnTo>
                      <a:lnTo>
                        <a:pt x="666" y="914"/>
                      </a:lnTo>
                      <a:lnTo>
                        <a:pt x="666" y="914"/>
                      </a:lnTo>
                      <a:lnTo>
                        <a:pt x="666" y="912"/>
                      </a:lnTo>
                      <a:lnTo>
                        <a:pt x="666" y="912"/>
                      </a:lnTo>
                      <a:lnTo>
                        <a:pt x="666" y="910"/>
                      </a:lnTo>
                      <a:lnTo>
                        <a:pt x="666" y="910"/>
                      </a:lnTo>
                      <a:lnTo>
                        <a:pt x="664" y="910"/>
                      </a:lnTo>
                      <a:lnTo>
                        <a:pt x="664" y="909"/>
                      </a:lnTo>
                      <a:lnTo>
                        <a:pt x="664" y="909"/>
                      </a:lnTo>
                      <a:lnTo>
                        <a:pt x="662" y="907"/>
                      </a:lnTo>
                      <a:lnTo>
                        <a:pt x="662" y="907"/>
                      </a:lnTo>
                      <a:lnTo>
                        <a:pt x="658" y="907"/>
                      </a:lnTo>
                      <a:lnTo>
                        <a:pt x="654" y="907"/>
                      </a:lnTo>
                      <a:lnTo>
                        <a:pt x="651" y="907"/>
                      </a:lnTo>
                      <a:lnTo>
                        <a:pt x="647" y="910"/>
                      </a:lnTo>
                      <a:lnTo>
                        <a:pt x="643" y="912"/>
                      </a:lnTo>
                      <a:lnTo>
                        <a:pt x="639" y="914"/>
                      </a:lnTo>
                      <a:lnTo>
                        <a:pt x="637" y="918"/>
                      </a:lnTo>
                      <a:lnTo>
                        <a:pt x="633" y="921"/>
                      </a:lnTo>
                      <a:lnTo>
                        <a:pt x="631" y="923"/>
                      </a:lnTo>
                      <a:lnTo>
                        <a:pt x="627" y="927"/>
                      </a:lnTo>
                      <a:lnTo>
                        <a:pt x="625" y="921"/>
                      </a:lnTo>
                      <a:lnTo>
                        <a:pt x="623" y="916"/>
                      </a:lnTo>
                      <a:lnTo>
                        <a:pt x="622" y="910"/>
                      </a:lnTo>
                      <a:lnTo>
                        <a:pt x="620" y="907"/>
                      </a:lnTo>
                      <a:lnTo>
                        <a:pt x="616" y="903"/>
                      </a:lnTo>
                      <a:lnTo>
                        <a:pt x="614" y="900"/>
                      </a:lnTo>
                      <a:lnTo>
                        <a:pt x="610" y="896"/>
                      </a:lnTo>
                      <a:lnTo>
                        <a:pt x="606" y="892"/>
                      </a:lnTo>
                      <a:lnTo>
                        <a:pt x="602" y="889"/>
                      </a:lnTo>
                      <a:lnTo>
                        <a:pt x="598" y="885"/>
                      </a:lnTo>
                      <a:lnTo>
                        <a:pt x="594" y="889"/>
                      </a:lnTo>
                      <a:lnTo>
                        <a:pt x="592" y="894"/>
                      </a:lnTo>
                      <a:lnTo>
                        <a:pt x="592" y="900"/>
                      </a:lnTo>
                      <a:lnTo>
                        <a:pt x="592" y="903"/>
                      </a:lnTo>
                      <a:lnTo>
                        <a:pt x="594" y="909"/>
                      </a:lnTo>
                      <a:lnTo>
                        <a:pt x="596" y="916"/>
                      </a:lnTo>
                      <a:lnTo>
                        <a:pt x="600" y="921"/>
                      </a:lnTo>
                      <a:lnTo>
                        <a:pt x="602" y="927"/>
                      </a:lnTo>
                      <a:lnTo>
                        <a:pt x="606" y="932"/>
                      </a:lnTo>
                      <a:lnTo>
                        <a:pt x="608" y="937"/>
                      </a:lnTo>
                      <a:lnTo>
                        <a:pt x="604" y="921"/>
                      </a:lnTo>
                      <a:lnTo>
                        <a:pt x="596" y="905"/>
                      </a:lnTo>
                      <a:lnTo>
                        <a:pt x="585" y="891"/>
                      </a:lnTo>
                      <a:lnTo>
                        <a:pt x="571" y="876"/>
                      </a:lnTo>
                      <a:lnTo>
                        <a:pt x="556" y="862"/>
                      </a:lnTo>
                      <a:lnTo>
                        <a:pt x="540" y="847"/>
                      </a:lnTo>
                      <a:lnTo>
                        <a:pt x="525" y="833"/>
                      </a:lnTo>
                      <a:lnTo>
                        <a:pt x="509" y="818"/>
                      </a:lnTo>
                      <a:lnTo>
                        <a:pt x="496" y="804"/>
                      </a:lnTo>
                      <a:lnTo>
                        <a:pt x="484" y="791"/>
                      </a:lnTo>
                      <a:lnTo>
                        <a:pt x="478" y="793"/>
                      </a:lnTo>
                      <a:lnTo>
                        <a:pt x="480" y="790"/>
                      </a:lnTo>
                      <a:lnTo>
                        <a:pt x="478" y="784"/>
                      </a:lnTo>
                      <a:lnTo>
                        <a:pt x="478" y="781"/>
                      </a:lnTo>
                      <a:lnTo>
                        <a:pt x="476" y="777"/>
                      </a:lnTo>
                      <a:lnTo>
                        <a:pt x="474" y="773"/>
                      </a:lnTo>
                      <a:lnTo>
                        <a:pt x="472" y="770"/>
                      </a:lnTo>
                      <a:lnTo>
                        <a:pt x="470" y="766"/>
                      </a:lnTo>
                      <a:lnTo>
                        <a:pt x="469" y="763"/>
                      </a:lnTo>
                      <a:lnTo>
                        <a:pt x="465" y="759"/>
                      </a:lnTo>
                      <a:lnTo>
                        <a:pt x="465" y="755"/>
                      </a:lnTo>
                      <a:lnTo>
                        <a:pt x="463" y="768"/>
                      </a:lnTo>
                      <a:lnTo>
                        <a:pt x="461" y="781"/>
                      </a:lnTo>
                      <a:lnTo>
                        <a:pt x="455" y="791"/>
                      </a:lnTo>
                      <a:lnTo>
                        <a:pt x="447" y="804"/>
                      </a:lnTo>
                      <a:lnTo>
                        <a:pt x="441" y="815"/>
                      </a:lnTo>
                      <a:lnTo>
                        <a:pt x="434" y="827"/>
                      </a:lnTo>
                      <a:lnTo>
                        <a:pt x="428" y="838"/>
                      </a:lnTo>
                      <a:lnTo>
                        <a:pt x="422" y="851"/>
                      </a:lnTo>
                      <a:lnTo>
                        <a:pt x="420" y="863"/>
                      </a:lnTo>
                      <a:lnTo>
                        <a:pt x="422" y="876"/>
                      </a:lnTo>
                      <a:lnTo>
                        <a:pt x="470" y="802"/>
                      </a:lnTo>
                      <a:lnTo>
                        <a:pt x="470" y="809"/>
                      </a:lnTo>
                      <a:lnTo>
                        <a:pt x="470" y="817"/>
                      </a:lnTo>
                      <a:lnTo>
                        <a:pt x="469" y="824"/>
                      </a:lnTo>
                      <a:lnTo>
                        <a:pt x="465" y="831"/>
                      </a:lnTo>
                      <a:lnTo>
                        <a:pt x="461" y="836"/>
                      </a:lnTo>
                      <a:lnTo>
                        <a:pt x="459" y="844"/>
                      </a:lnTo>
                      <a:lnTo>
                        <a:pt x="455" y="851"/>
                      </a:lnTo>
                      <a:lnTo>
                        <a:pt x="453" y="858"/>
                      </a:lnTo>
                      <a:lnTo>
                        <a:pt x="453" y="865"/>
                      </a:lnTo>
                      <a:lnTo>
                        <a:pt x="455" y="872"/>
                      </a:lnTo>
                      <a:lnTo>
                        <a:pt x="474" y="836"/>
                      </a:lnTo>
                      <a:lnTo>
                        <a:pt x="476" y="844"/>
                      </a:lnTo>
                      <a:lnTo>
                        <a:pt x="476" y="851"/>
                      </a:lnTo>
                      <a:lnTo>
                        <a:pt x="474" y="860"/>
                      </a:lnTo>
                      <a:lnTo>
                        <a:pt x="470" y="867"/>
                      </a:lnTo>
                      <a:lnTo>
                        <a:pt x="467" y="876"/>
                      </a:lnTo>
                      <a:lnTo>
                        <a:pt x="461" y="885"/>
                      </a:lnTo>
                      <a:lnTo>
                        <a:pt x="455" y="894"/>
                      </a:lnTo>
                      <a:lnTo>
                        <a:pt x="451" y="903"/>
                      </a:lnTo>
                      <a:lnTo>
                        <a:pt x="445" y="912"/>
                      </a:lnTo>
                      <a:lnTo>
                        <a:pt x="441" y="921"/>
                      </a:lnTo>
                      <a:lnTo>
                        <a:pt x="436" y="921"/>
                      </a:lnTo>
                      <a:lnTo>
                        <a:pt x="428" y="921"/>
                      </a:lnTo>
                      <a:lnTo>
                        <a:pt x="420" y="921"/>
                      </a:lnTo>
                      <a:lnTo>
                        <a:pt x="414" y="919"/>
                      </a:lnTo>
                      <a:lnTo>
                        <a:pt x="407" y="918"/>
                      </a:lnTo>
                      <a:lnTo>
                        <a:pt x="399" y="916"/>
                      </a:lnTo>
                      <a:lnTo>
                        <a:pt x="391" y="912"/>
                      </a:lnTo>
                      <a:lnTo>
                        <a:pt x="385" y="909"/>
                      </a:lnTo>
                      <a:lnTo>
                        <a:pt x="379" y="905"/>
                      </a:lnTo>
                      <a:lnTo>
                        <a:pt x="374" y="901"/>
                      </a:lnTo>
                      <a:lnTo>
                        <a:pt x="401" y="851"/>
                      </a:lnTo>
                      <a:lnTo>
                        <a:pt x="405" y="854"/>
                      </a:lnTo>
                      <a:lnTo>
                        <a:pt x="412" y="847"/>
                      </a:lnTo>
                      <a:lnTo>
                        <a:pt x="418" y="838"/>
                      </a:lnTo>
                      <a:lnTo>
                        <a:pt x="424" y="827"/>
                      </a:lnTo>
                      <a:lnTo>
                        <a:pt x="430" y="817"/>
                      </a:lnTo>
                      <a:lnTo>
                        <a:pt x="434" y="806"/>
                      </a:lnTo>
                      <a:lnTo>
                        <a:pt x="439" y="795"/>
                      </a:lnTo>
                      <a:lnTo>
                        <a:pt x="443" y="784"/>
                      </a:lnTo>
                      <a:lnTo>
                        <a:pt x="449" y="773"/>
                      </a:lnTo>
                      <a:lnTo>
                        <a:pt x="455" y="764"/>
                      </a:lnTo>
                      <a:lnTo>
                        <a:pt x="465" y="755"/>
                      </a:lnTo>
                      <a:lnTo>
                        <a:pt x="451" y="741"/>
                      </a:lnTo>
                      <a:lnTo>
                        <a:pt x="443" y="759"/>
                      </a:lnTo>
                      <a:lnTo>
                        <a:pt x="436" y="773"/>
                      </a:lnTo>
                      <a:lnTo>
                        <a:pt x="426" y="788"/>
                      </a:lnTo>
                      <a:lnTo>
                        <a:pt x="416" y="802"/>
                      </a:lnTo>
                      <a:lnTo>
                        <a:pt x="405" y="815"/>
                      </a:lnTo>
                      <a:lnTo>
                        <a:pt x="395" y="829"/>
                      </a:lnTo>
                      <a:lnTo>
                        <a:pt x="383" y="842"/>
                      </a:lnTo>
                      <a:lnTo>
                        <a:pt x="374" y="856"/>
                      </a:lnTo>
                      <a:lnTo>
                        <a:pt x="364" y="871"/>
                      </a:lnTo>
                      <a:lnTo>
                        <a:pt x="354" y="887"/>
                      </a:lnTo>
                      <a:lnTo>
                        <a:pt x="362" y="869"/>
                      </a:lnTo>
                      <a:lnTo>
                        <a:pt x="372" y="851"/>
                      </a:lnTo>
                      <a:lnTo>
                        <a:pt x="379" y="835"/>
                      </a:lnTo>
                      <a:lnTo>
                        <a:pt x="387" y="817"/>
                      </a:lnTo>
                      <a:lnTo>
                        <a:pt x="397" y="800"/>
                      </a:lnTo>
                      <a:lnTo>
                        <a:pt x="405" y="782"/>
                      </a:lnTo>
                      <a:lnTo>
                        <a:pt x="412" y="766"/>
                      </a:lnTo>
                      <a:lnTo>
                        <a:pt x="422" y="748"/>
                      </a:lnTo>
                      <a:lnTo>
                        <a:pt x="430" y="730"/>
                      </a:lnTo>
                      <a:lnTo>
                        <a:pt x="438" y="714"/>
                      </a:lnTo>
                      <a:lnTo>
                        <a:pt x="430" y="705"/>
                      </a:lnTo>
                      <a:lnTo>
                        <a:pt x="418" y="721"/>
                      </a:lnTo>
                      <a:lnTo>
                        <a:pt x="409" y="737"/>
                      </a:lnTo>
                      <a:lnTo>
                        <a:pt x="399" y="755"/>
                      </a:lnTo>
                      <a:lnTo>
                        <a:pt x="389" y="773"/>
                      </a:lnTo>
                      <a:lnTo>
                        <a:pt x="379" y="791"/>
                      </a:lnTo>
                      <a:lnTo>
                        <a:pt x="372" y="809"/>
                      </a:lnTo>
                      <a:lnTo>
                        <a:pt x="362" y="827"/>
                      </a:lnTo>
                      <a:lnTo>
                        <a:pt x="352" y="844"/>
                      </a:lnTo>
                      <a:lnTo>
                        <a:pt x="343" y="860"/>
                      </a:lnTo>
                      <a:lnTo>
                        <a:pt x="333" y="876"/>
                      </a:lnTo>
                      <a:lnTo>
                        <a:pt x="337" y="860"/>
                      </a:lnTo>
                      <a:lnTo>
                        <a:pt x="341" y="844"/>
                      </a:lnTo>
                      <a:lnTo>
                        <a:pt x="348" y="827"/>
                      </a:lnTo>
                      <a:lnTo>
                        <a:pt x="356" y="811"/>
                      </a:lnTo>
                      <a:lnTo>
                        <a:pt x="364" y="795"/>
                      </a:lnTo>
                      <a:lnTo>
                        <a:pt x="372" y="779"/>
                      </a:lnTo>
                      <a:lnTo>
                        <a:pt x="379" y="763"/>
                      </a:lnTo>
                      <a:lnTo>
                        <a:pt x="387" y="746"/>
                      </a:lnTo>
                      <a:lnTo>
                        <a:pt x="395" y="728"/>
                      </a:lnTo>
                      <a:lnTo>
                        <a:pt x="401" y="710"/>
                      </a:lnTo>
                      <a:lnTo>
                        <a:pt x="405" y="707"/>
                      </a:lnTo>
                      <a:lnTo>
                        <a:pt x="409" y="703"/>
                      </a:lnTo>
                      <a:lnTo>
                        <a:pt x="412" y="698"/>
                      </a:lnTo>
                      <a:lnTo>
                        <a:pt x="416" y="694"/>
                      </a:lnTo>
                      <a:lnTo>
                        <a:pt x="418" y="689"/>
                      </a:lnTo>
                      <a:lnTo>
                        <a:pt x="422" y="685"/>
                      </a:lnTo>
                      <a:lnTo>
                        <a:pt x="422" y="680"/>
                      </a:lnTo>
                      <a:lnTo>
                        <a:pt x="422" y="676"/>
                      </a:lnTo>
                      <a:lnTo>
                        <a:pt x="422" y="671"/>
                      </a:lnTo>
                      <a:lnTo>
                        <a:pt x="418" y="665"/>
                      </a:lnTo>
                      <a:lnTo>
                        <a:pt x="401" y="681"/>
                      </a:lnTo>
                      <a:lnTo>
                        <a:pt x="387" y="698"/>
                      </a:lnTo>
                      <a:lnTo>
                        <a:pt x="376" y="717"/>
                      </a:lnTo>
                      <a:lnTo>
                        <a:pt x="366" y="737"/>
                      </a:lnTo>
                      <a:lnTo>
                        <a:pt x="358" y="759"/>
                      </a:lnTo>
                      <a:lnTo>
                        <a:pt x="350" y="779"/>
                      </a:lnTo>
                      <a:lnTo>
                        <a:pt x="343" y="800"/>
                      </a:lnTo>
                      <a:lnTo>
                        <a:pt x="335" y="822"/>
                      </a:lnTo>
                      <a:lnTo>
                        <a:pt x="327" y="844"/>
                      </a:lnTo>
                      <a:lnTo>
                        <a:pt x="316" y="863"/>
                      </a:lnTo>
                      <a:lnTo>
                        <a:pt x="310" y="862"/>
                      </a:lnTo>
                      <a:lnTo>
                        <a:pt x="312" y="847"/>
                      </a:lnTo>
                      <a:lnTo>
                        <a:pt x="316" y="833"/>
                      </a:lnTo>
                      <a:lnTo>
                        <a:pt x="321" y="818"/>
                      </a:lnTo>
                      <a:lnTo>
                        <a:pt x="327" y="804"/>
                      </a:lnTo>
                      <a:lnTo>
                        <a:pt x="335" y="790"/>
                      </a:lnTo>
                      <a:lnTo>
                        <a:pt x="343" y="775"/>
                      </a:lnTo>
                      <a:lnTo>
                        <a:pt x="348" y="761"/>
                      </a:lnTo>
                      <a:lnTo>
                        <a:pt x="354" y="746"/>
                      </a:lnTo>
                      <a:lnTo>
                        <a:pt x="358" y="732"/>
                      </a:lnTo>
                      <a:lnTo>
                        <a:pt x="360" y="717"/>
                      </a:lnTo>
                      <a:lnTo>
                        <a:pt x="366" y="710"/>
                      </a:lnTo>
                      <a:lnTo>
                        <a:pt x="374" y="703"/>
                      </a:lnTo>
                      <a:lnTo>
                        <a:pt x="378" y="696"/>
                      </a:lnTo>
                      <a:lnTo>
                        <a:pt x="383" y="687"/>
                      </a:lnTo>
                      <a:lnTo>
                        <a:pt x="389" y="680"/>
                      </a:lnTo>
                      <a:lnTo>
                        <a:pt x="393" y="671"/>
                      </a:lnTo>
                      <a:lnTo>
                        <a:pt x="399" y="663"/>
                      </a:lnTo>
                      <a:lnTo>
                        <a:pt x="405" y="658"/>
                      </a:lnTo>
                      <a:lnTo>
                        <a:pt x="412" y="653"/>
                      </a:lnTo>
                      <a:lnTo>
                        <a:pt x="420" y="647"/>
                      </a:lnTo>
                      <a:lnTo>
                        <a:pt x="418" y="640"/>
                      </a:lnTo>
                      <a:lnTo>
                        <a:pt x="416" y="631"/>
                      </a:lnTo>
                      <a:lnTo>
                        <a:pt x="416" y="622"/>
                      </a:lnTo>
                      <a:lnTo>
                        <a:pt x="418" y="615"/>
                      </a:lnTo>
                      <a:lnTo>
                        <a:pt x="418" y="606"/>
                      </a:lnTo>
                      <a:lnTo>
                        <a:pt x="420" y="597"/>
                      </a:lnTo>
                      <a:lnTo>
                        <a:pt x="420" y="588"/>
                      </a:lnTo>
                      <a:lnTo>
                        <a:pt x="418" y="580"/>
                      </a:lnTo>
                      <a:lnTo>
                        <a:pt x="416" y="573"/>
                      </a:lnTo>
                      <a:lnTo>
                        <a:pt x="412" y="566"/>
                      </a:lnTo>
                      <a:lnTo>
                        <a:pt x="393" y="589"/>
                      </a:lnTo>
                      <a:lnTo>
                        <a:pt x="376" y="615"/>
                      </a:lnTo>
                      <a:lnTo>
                        <a:pt x="360" y="640"/>
                      </a:lnTo>
                      <a:lnTo>
                        <a:pt x="345" y="665"/>
                      </a:lnTo>
                      <a:lnTo>
                        <a:pt x="331" y="690"/>
                      </a:lnTo>
                      <a:lnTo>
                        <a:pt x="316" y="717"/>
                      </a:lnTo>
                      <a:lnTo>
                        <a:pt x="302" y="744"/>
                      </a:lnTo>
                      <a:lnTo>
                        <a:pt x="288" y="770"/>
                      </a:lnTo>
                      <a:lnTo>
                        <a:pt x="277" y="797"/>
                      </a:lnTo>
                      <a:lnTo>
                        <a:pt x="263" y="824"/>
                      </a:lnTo>
                      <a:lnTo>
                        <a:pt x="263" y="820"/>
                      </a:lnTo>
                      <a:lnTo>
                        <a:pt x="265" y="817"/>
                      </a:lnTo>
                      <a:lnTo>
                        <a:pt x="267" y="811"/>
                      </a:lnTo>
                      <a:lnTo>
                        <a:pt x="269" y="806"/>
                      </a:lnTo>
                      <a:lnTo>
                        <a:pt x="271" y="799"/>
                      </a:lnTo>
                      <a:lnTo>
                        <a:pt x="273" y="793"/>
                      </a:lnTo>
                      <a:lnTo>
                        <a:pt x="275" y="786"/>
                      </a:lnTo>
                      <a:lnTo>
                        <a:pt x="277" y="781"/>
                      </a:lnTo>
                      <a:lnTo>
                        <a:pt x="279" y="773"/>
                      </a:lnTo>
                      <a:lnTo>
                        <a:pt x="281" y="768"/>
                      </a:lnTo>
                      <a:lnTo>
                        <a:pt x="287" y="744"/>
                      </a:lnTo>
                      <a:lnTo>
                        <a:pt x="296" y="723"/>
                      </a:lnTo>
                      <a:lnTo>
                        <a:pt x="306" y="699"/>
                      </a:lnTo>
                      <a:lnTo>
                        <a:pt x="318" y="678"/>
                      </a:lnTo>
                      <a:lnTo>
                        <a:pt x="331" y="658"/>
                      </a:lnTo>
                      <a:lnTo>
                        <a:pt x="345" y="638"/>
                      </a:lnTo>
                      <a:lnTo>
                        <a:pt x="360" y="618"/>
                      </a:lnTo>
                      <a:lnTo>
                        <a:pt x="376" y="598"/>
                      </a:lnTo>
                      <a:lnTo>
                        <a:pt x="391" y="579"/>
                      </a:lnTo>
                      <a:lnTo>
                        <a:pt x="409" y="561"/>
                      </a:lnTo>
                      <a:lnTo>
                        <a:pt x="403" y="553"/>
                      </a:lnTo>
                      <a:lnTo>
                        <a:pt x="397" y="546"/>
                      </a:lnTo>
                      <a:lnTo>
                        <a:pt x="391" y="539"/>
                      </a:lnTo>
                      <a:lnTo>
                        <a:pt x="387" y="532"/>
                      </a:lnTo>
                      <a:lnTo>
                        <a:pt x="383" y="525"/>
                      </a:lnTo>
                      <a:lnTo>
                        <a:pt x="379" y="517"/>
                      </a:lnTo>
                      <a:lnTo>
                        <a:pt x="376" y="510"/>
                      </a:lnTo>
                      <a:lnTo>
                        <a:pt x="374" y="501"/>
                      </a:lnTo>
                      <a:lnTo>
                        <a:pt x="372" y="492"/>
                      </a:lnTo>
                      <a:lnTo>
                        <a:pt x="372" y="483"/>
                      </a:lnTo>
                      <a:lnTo>
                        <a:pt x="360" y="501"/>
                      </a:lnTo>
                      <a:lnTo>
                        <a:pt x="362" y="478"/>
                      </a:lnTo>
                      <a:lnTo>
                        <a:pt x="364" y="456"/>
                      </a:lnTo>
                      <a:lnTo>
                        <a:pt x="366" y="433"/>
                      </a:lnTo>
                      <a:lnTo>
                        <a:pt x="370" y="409"/>
                      </a:lnTo>
                      <a:lnTo>
                        <a:pt x="374" y="386"/>
                      </a:lnTo>
                      <a:lnTo>
                        <a:pt x="379" y="362"/>
                      </a:lnTo>
                      <a:lnTo>
                        <a:pt x="385" y="341"/>
                      </a:lnTo>
                      <a:lnTo>
                        <a:pt x="391" y="317"/>
                      </a:lnTo>
                      <a:lnTo>
                        <a:pt x="399" y="297"/>
                      </a:lnTo>
                      <a:lnTo>
                        <a:pt x="407" y="278"/>
                      </a:lnTo>
                      <a:lnTo>
                        <a:pt x="391" y="292"/>
                      </a:lnTo>
                      <a:lnTo>
                        <a:pt x="378" y="306"/>
                      </a:lnTo>
                      <a:lnTo>
                        <a:pt x="364" y="323"/>
                      </a:lnTo>
                      <a:lnTo>
                        <a:pt x="350" y="339"/>
                      </a:lnTo>
                      <a:lnTo>
                        <a:pt x="335" y="355"/>
                      </a:lnTo>
                      <a:lnTo>
                        <a:pt x="321" y="373"/>
                      </a:lnTo>
                      <a:lnTo>
                        <a:pt x="310" y="391"/>
                      </a:lnTo>
                      <a:lnTo>
                        <a:pt x="296" y="407"/>
                      </a:lnTo>
                      <a:lnTo>
                        <a:pt x="285" y="425"/>
                      </a:lnTo>
                      <a:lnTo>
                        <a:pt x="271" y="442"/>
                      </a:lnTo>
                      <a:lnTo>
                        <a:pt x="277" y="452"/>
                      </a:lnTo>
                      <a:lnTo>
                        <a:pt x="279" y="463"/>
                      </a:lnTo>
                      <a:lnTo>
                        <a:pt x="281" y="474"/>
                      </a:lnTo>
                      <a:lnTo>
                        <a:pt x="283" y="483"/>
                      </a:lnTo>
                      <a:lnTo>
                        <a:pt x="283" y="494"/>
                      </a:lnTo>
                      <a:lnTo>
                        <a:pt x="281" y="503"/>
                      </a:lnTo>
                      <a:lnTo>
                        <a:pt x="279" y="514"/>
                      </a:lnTo>
                      <a:lnTo>
                        <a:pt x="275" y="523"/>
                      </a:lnTo>
                      <a:lnTo>
                        <a:pt x="271" y="532"/>
                      </a:lnTo>
                      <a:lnTo>
                        <a:pt x="265" y="541"/>
                      </a:lnTo>
                      <a:lnTo>
                        <a:pt x="261" y="534"/>
                      </a:lnTo>
                      <a:lnTo>
                        <a:pt x="259" y="525"/>
                      </a:lnTo>
                      <a:lnTo>
                        <a:pt x="257" y="514"/>
                      </a:lnTo>
                      <a:lnTo>
                        <a:pt x="257" y="505"/>
                      </a:lnTo>
                      <a:lnTo>
                        <a:pt x="257" y="494"/>
                      </a:lnTo>
                      <a:lnTo>
                        <a:pt x="257" y="483"/>
                      </a:lnTo>
                      <a:lnTo>
                        <a:pt x="256" y="472"/>
                      </a:lnTo>
                      <a:lnTo>
                        <a:pt x="254" y="463"/>
                      </a:lnTo>
                      <a:lnTo>
                        <a:pt x="250" y="454"/>
                      </a:lnTo>
                      <a:lnTo>
                        <a:pt x="244" y="445"/>
                      </a:lnTo>
                      <a:lnTo>
                        <a:pt x="395" y="243"/>
                      </a:lnTo>
                      <a:lnTo>
                        <a:pt x="407" y="240"/>
                      </a:lnTo>
                      <a:lnTo>
                        <a:pt x="416" y="234"/>
                      </a:lnTo>
                      <a:lnTo>
                        <a:pt x="426" y="227"/>
                      </a:lnTo>
                      <a:lnTo>
                        <a:pt x="434" y="218"/>
                      </a:lnTo>
                      <a:lnTo>
                        <a:pt x="439" y="209"/>
                      </a:lnTo>
                      <a:lnTo>
                        <a:pt x="447" y="198"/>
                      </a:lnTo>
                      <a:lnTo>
                        <a:pt x="455" y="189"/>
                      </a:lnTo>
                      <a:lnTo>
                        <a:pt x="463" y="180"/>
                      </a:lnTo>
                      <a:lnTo>
                        <a:pt x="472" y="171"/>
                      </a:lnTo>
                      <a:lnTo>
                        <a:pt x="484" y="166"/>
                      </a:lnTo>
                      <a:lnTo>
                        <a:pt x="480" y="214"/>
                      </a:lnTo>
                      <a:lnTo>
                        <a:pt x="500" y="196"/>
                      </a:lnTo>
                      <a:lnTo>
                        <a:pt x="500" y="200"/>
                      </a:lnTo>
                      <a:lnTo>
                        <a:pt x="498" y="204"/>
                      </a:lnTo>
                      <a:lnTo>
                        <a:pt x="496" y="207"/>
                      </a:lnTo>
                      <a:lnTo>
                        <a:pt x="494" y="209"/>
                      </a:lnTo>
                      <a:lnTo>
                        <a:pt x="490" y="213"/>
                      </a:lnTo>
                      <a:lnTo>
                        <a:pt x="488" y="214"/>
                      </a:lnTo>
                      <a:lnTo>
                        <a:pt x="486" y="218"/>
                      </a:lnTo>
                      <a:lnTo>
                        <a:pt x="486" y="220"/>
                      </a:lnTo>
                      <a:lnTo>
                        <a:pt x="488" y="224"/>
                      </a:lnTo>
                      <a:lnTo>
                        <a:pt x="490" y="227"/>
                      </a:lnTo>
                      <a:lnTo>
                        <a:pt x="515" y="211"/>
                      </a:lnTo>
                      <a:lnTo>
                        <a:pt x="521" y="216"/>
                      </a:lnTo>
                      <a:lnTo>
                        <a:pt x="525" y="222"/>
                      </a:lnTo>
                      <a:lnTo>
                        <a:pt x="529" y="227"/>
                      </a:lnTo>
                      <a:lnTo>
                        <a:pt x="530" y="233"/>
                      </a:lnTo>
                      <a:lnTo>
                        <a:pt x="532" y="238"/>
                      </a:lnTo>
                      <a:lnTo>
                        <a:pt x="530" y="243"/>
                      </a:lnTo>
                      <a:lnTo>
                        <a:pt x="530" y="249"/>
                      </a:lnTo>
                      <a:lnTo>
                        <a:pt x="527" y="254"/>
                      </a:lnTo>
                      <a:lnTo>
                        <a:pt x="523" y="260"/>
                      </a:lnTo>
                      <a:lnTo>
                        <a:pt x="519" y="263"/>
                      </a:lnTo>
                      <a:lnTo>
                        <a:pt x="523" y="263"/>
                      </a:lnTo>
                      <a:lnTo>
                        <a:pt x="527" y="261"/>
                      </a:lnTo>
                      <a:lnTo>
                        <a:pt x="530" y="261"/>
                      </a:lnTo>
                      <a:lnTo>
                        <a:pt x="532" y="261"/>
                      </a:lnTo>
                      <a:lnTo>
                        <a:pt x="536" y="263"/>
                      </a:lnTo>
                      <a:lnTo>
                        <a:pt x="538" y="263"/>
                      </a:lnTo>
                      <a:lnTo>
                        <a:pt x="542" y="265"/>
                      </a:lnTo>
                      <a:lnTo>
                        <a:pt x="546" y="269"/>
                      </a:lnTo>
                      <a:lnTo>
                        <a:pt x="550" y="270"/>
                      </a:lnTo>
                      <a:lnTo>
                        <a:pt x="556" y="274"/>
                      </a:lnTo>
                      <a:lnTo>
                        <a:pt x="548" y="285"/>
                      </a:lnTo>
                      <a:lnTo>
                        <a:pt x="540" y="292"/>
                      </a:lnTo>
                      <a:lnTo>
                        <a:pt x="538" y="299"/>
                      </a:lnTo>
                      <a:lnTo>
                        <a:pt x="536" y="306"/>
                      </a:lnTo>
                      <a:lnTo>
                        <a:pt x="538" y="312"/>
                      </a:lnTo>
                      <a:lnTo>
                        <a:pt x="540" y="319"/>
                      </a:lnTo>
                      <a:lnTo>
                        <a:pt x="544" y="326"/>
                      </a:lnTo>
                      <a:lnTo>
                        <a:pt x="548" y="333"/>
                      </a:lnTo>
                      <a:lnTo>
                        <a:pt x="554" y="341"/>
                      </a:lnTo>
                      <a:lnTo>
                        <a:pt x="558" y="350"/>
                      </a:lnTo>
                      <a:lnTo>
                        <a:pt x="571" y="352"/>
                      </a:lnTo>
                      <a:lnTo>
                        <a:pt x="579" y="359"/>
                      </a:lnTo>
                      <a:lnTo>
                        <a:pt x="585" y="370"/>
                      </a:lnTo>
                      <a:lnTo>
                        <a:pt x="587" y="380"/>
                      </a:lnTo>
                      <a:lnTo>
                        <a:pt x="591" y="393"/>
                      </a:lnTo>
                      <a:lnTo>
                        <a:pt x="592" y="404"/>
                      </a:lnTo>
                      <a:lnTo>
                        <a:pt x="598" y="415"/>
                      </a:lnTo>
                      <a:lnTo>
                        <a:pt x="606" y="420"/>
                      </a:lnTo>
                      <a:lnTo>
                        <a:pt x="620" y="420"/>
                      </a:lnTo>
                      <a:lnTo>
                        <a:pt x="639" y="415"/>
                      </a:lnTo>
                      <a:lnTo>
                        <a:pt x="637" y="416"/>
                      </a:lnTo>
                      <a:lnTo>
                        <a:pt x="635" y="420"/>
                      </a:lnTo>
                      <a:lnTo>
                        <a:pt x="633" y="424"/>
                      </a:lnTo>
                      <a:lnTo>
                        <a:pt x="633" y="427"/>
                      </a:lnTo>
                      <a:lnTo>
                        <a:pt x="631" y="431"/>
                      </a:lnTo>
                      <a:lnTo>
                        <a:pt x="631" y="434"/>
                      </a:lnTo>
                      <a:lnTo>
                        <a:pt x="631" y="438"/>
                      </a:lnTo>
                      <a:lnTo>
                        <a:pt x="631" y="442"/>
                      </a:lnTo>
                      <a:lnTo>
                        <a:pt x="631" y="445"/>
                      </a:lnTo>
                      <a:lnTo>
                        <a:pt x="631" y="449"/>
                      </a:lnTo>
                      <a:lnTo>
                        <a:pt x="635" y="461"/>
                      </a:lnTo>
                      <a:lnTo>
                        <a:pt x="643" y="467"/>
                      </a:lnTo>
                      <a:lnTo>
                        <a:pt x="652" y="472"/>
                      </a:lnTo>
                      <a:lnTo>
                        <a:pt x="662" y="472"/>
                      </a:lnTo>
                      <a:lnTo>
                        <a:pt x="672" y="474"/>
                      </a:lnTo>
                      <a:lnTo>
                        <a:pt x="682" y="474"/>
                      </a:lnTo>
                      <a:lnTo>
                        <a:pt x="689" y="476"/>
                      </a:lnTo>
                      <a:lnTo>
                        <a:pt x="697" y="479"/>
                      </a:lnTo>
                      <a:lnTo>
                        <a:pt x="703" y="487"/>
                      </a:lnTo>
                      <a:lnTo>
                        <a:pt x="707" y="498"/>
                      </a:lnTo>
                      <a:lnTo>
                        <a:pt x="709" y="503"/>
                      </a:lnTo>
                      <a:lnTo>
                        <a:pt x="713" y="508"/>
                      </a:lnTo>
                      <a:lnTo>
                        <a:pt x="718" y="510"/>
                      </a:lnTo>
                      <a:lnTo>
                        <a:pt x="724" y="512"/>
                      </a:lnTo>
                      <a:lnTo>
                        <a:pt x="730" y="512"/>
                      </a:lnTo>
                      <a:lnTo>
                        <a:pt x="738" y="512"/>
                      </a:lnTo>
                      <a:lnTo>
                        <a:pt x="743" y="512"/>
                      </a:lnTo>
                      <a:lnTo>
                        <a:pt x="749" y="510"/>
                      </a:lnTo>
                      <a:lnTo>
                        <a:pt x="757" y="510"/>
                      </a:lnTo>
                      <a:lnTo>
                        <a:pt x="761" y="508"/>
                      </a:lnTo>
                      <a:lnTo>
                        <a:pt x="773" y="503"/>
                      </a:lnTo>
                      <a:lnTo>
                        <a:pt x="771" y="505"/>
                      </a:lnTo>
                      <a:lnTo>
                        <a:pt x="769" y="507"/>
                      </a:lnTo>
                      <a:lnTo>
                        <a:pt x="767" y="510"/>
                      </a:lnTo>
                      <a:lnTo>
                        <a:pt x="765" y="514"/>
                      </a:lnTo>
                      <a:lnTo>
                        <a:pt x="765" y="517"/>
                      </a:lnTo>
                      <a:lnTo>
                        <a:pt x="765" y="521"/>
                      </a:lnTo>
                      <a:lnTo>
                        <a:pt x="765" y="523"/>
                      </a:lnTo>
                      <a:lnTo>
                        <a:pt x="767" y="526"/>
                      </a:lnTo>
                      <a:lnTo>
                        <a:pt x="771" y="528"/>
                      </a:lnTo>
                      <a:lnTo>
                        <a:pt x="774" y="532"/>
                      </a:lnTo>
                      <a:lnTo>
                        <a:pt x="778" y="534"/>
                      </a:lnTo>
                      <a:lnTo>
                        <a:pt x="782" y="537"/>
                      </a:lnTo>
                      <a:lnTo>
                        <a:pt x="786" y="541"/>
                      </a:lnTo>
                      <a:lnTo>
                        <a:pt x="790" y="543"/>
                      </a:lnTo>
                      <a:lnTo>
                        <a:pt x="796" y="546"/>
                      </a:lnTo>
                      <a:lnTo>
                        <a:pt x="800" y="548"/>
                      </a:lnTo>
                      <a:lnTo>
                        <a:pt x="805" y="550"/>
                      </a:lnTo>
                      <a:lnTo>
                        <a:pt x="809" y="550"/>
                      </a:lnTo>
                      <a:lnTo>
                        <a:pt x="813" y="550"/>
                      </a:lnTo>
                      <a:lnTo>
                        <a:pt x="819" y="548"/>
                      </a:lnTo>
                      <a:lnTo>
                        <a:pt x="829" y="552"/>
                      </a:lnTo>
                      <a:lnTo>
                        <a:pt x="838" y="555"/>
                      </a:lnTo>
                      <a:lnTo>
                        <a:pt x="848" y="559"/>
                      </a:lnTo>
                      <a:lnTo>
                        <a:pt x="858" y="561"/>
                      </a:lnTo>
                      <a:lnTo>
                        <a:pt x="867" y="564"/>
                      </a:lnTo>
                      <a:lnTo>
                        <a:pt x="877" y="568"/>
                      </a:lnTo>
                      <a:lnTo>
                        <a:pt x="887" y="571"/>
                      </a:lnTo>
                      <a:lnTo>
                        <a:pt x="896" y="573"/>
                      </a:lnTo>
                      <a:lnTo>
                        <a:pt x="904" y="575"/>
                      </a:lnTo>
                      <a:lnTo>
                        <a:pt x="914" y="577"/>
                      </a:lnTo>
                      <a:lnTo>
                        <a:pt x="914" y="575"/>
                      </a:lnTo>
                      <a:lnTo>
                        <a:pt x="912" y="573"/>
                      </a:lnTo>
                      <a:lnTo>
                        <a:pt x="912" y="573"/>
                      </a:lnTo>
                      <a:lnTo>
                        <a:pt x="910" y="571"/>
                      </a:lnTo>
                      <a:lnTo>
                        <a:pt x="908" y="571"/>
                      </a:lnTo>
                      <a:lnTo>
                        <a:pt x="908" y="571"/>
                      </a:lnTo>
                      <a:lnTo>
                        <a:pt x="906" y="571"/>
                      </a:lnTo>
                      <a:lnTo>
                        <a:pt x="904" y="570"/>
                      </a:lnTo>
                      <a:lnTo>
                        <a:pt x="902" y="570"/>
                      </a:lnTo>
                      <a:lnTo>
                        <a:pt x="900" y="570"/>
                      </a:lnTo>
                      <a:lnTo>
                        <a:pt x="902" y="553"/>
                      </a:lnTo>
                      <a:lnTo>
                        <a:pt x="914" y="561"/>
                      </a:lnTo>
                      <a:lnTo>
                        <a:pt x="925" y="562"/>
                      </a:lnTo>
                      <a:lnTo>
                        <a:pt x="937" y="562"/>
                      </a:lnTo>
                      <a:lnTo>
                        <a:pt x="947" y="559"/>
                      </a:lnTo>
                      <a:lnTo>
                        <a:pt x="956" y="555"/>
                      </a:lnTo>
                      <a:lnTo>
                        <a:pt x="966" y="552"/>
                      </a:lnTo>
                      <a:lnTo>
                        <a:pt x="976" y="548"/>
                      </a:lnTo>
                      <a:lnTo>
                        <a:pt x="986" y="546"/>
                      </a:lnTo>
                      <a:lnTo>
                        <a:pt x="993" y="548"/>
                      </a:lnTo>
                      <a:lnTo>
                        <a:pt x="1001" y="552"/>
                      </a:lnTo>
                      <a:lnTo>
                        <a:pt x="1009" y="552"/>
                      </a:lnTo>
                      <a:lnTo>
                        <a:pt x="1016" y="550"/>
                      </a:lnTo>
                      <a:lnTo>
                        <a:pt x="1024" y="550"/>
                      </a:lnTo>
                      <a:lnTo>
                        <a:pt x="1034" y="546"/>
                      </a:lnTo>
                      <a:lnTo>
                        <a:pt x="1040" y="544"/>
                      </a:lnTo>
                      <a:lnTo>
                        <a:pt x="1047" y="541"/>
                      </a:lnTo>
                      <a:lnTo>
                        <a:pt x="1053" y="535"/>
                      </a:lnTo>
                      <a:lnTo>
                        <a:pt x="1059" y="530"/>
                      </a:lnTo>
                      <a:lnTo>
                        <a:pt x="1061" y="525"/>
                      </a:lnTo>
                      <a:lnTo>
                        <a:pt x="1065" y="516"/>
                      </a:lnTo>
                      <a:lnTo>
                        <a:pt x="1065" y="507"/>
                      </a:lnTo>
                      <a:lnTo>
                        <a:pt x="1071" y="510"/>
                      </a:lnTo>
                      <a:lnTo>
                        <a:pt x="1078" y="510"/>
                      </a:lnTo>
                      <a:lnTo>
                        <a:pt x="1084" y="510"/>
                      </a:lnTo>
                      <a:lnTo>
                        <a:pt x="1092" y="507"/>
                      </a:lnTo>
                      <a:lnTo>
                        <a:pt x="1098" y="501"/>
                      </a:lnTo>
                      <a:lnTo>
                        <a:pt x="1104" y="496"/>
                      </a:lnTo>
                      <a:lnTo>
                        <a:pt x="1109" y="490"/>
                      </a:lnTo>
                      <a:lnTo>
                        <a:pt x="1115" y="483"/>
                      </a:lnTo>
                      <a:lnTo>
                        <a:pt x="1119" y="478"/>
                      </a:lnTo>
                      <a:lnTo>
                        <a:pt x="1123" y="472"/>
                      </a:lnTo>
                      <a:lnTo>
                        <a:pt x="1127" y="469"/>
                      </a:lnTo>
                      <a:lnTo>
                        <a:pt x="1131" y="465"/>
                      </a:lnTo>
                      <a:lnTo>
                        <a:pt x="1135" y="461"/>
                      </a:lnTo>
                      <a:lnTo>
                        <a:pt x="1140" y="458"/>
                      </a:lnTo>
                      <a:lnTo>
                        <a:pt x="1146" y="456"/>
                      </a:lnTo>
                      <a:lnTo>
                        <a:pt x="1154" y="454"/>
                      </a:lnTo>
                      <a:lnTo>
                        <a:pt x="1160" y="451"/>
                      </a:lnTo>
                      <a:lnTo>
                        <a:pt x="1166" y="447"/>
                      </a:lnTo>
                      <a:lnTo>
                        <a:pt x="1171" y="442"/>
                      </a:lnTo>
                      <a:lnTo>
                        <a:pt x="1177" y="436"/>
                      </a:lnTo>
                      <a:lnTo>
                        <a:pt x="1171" y="424"/>
                      </a:lnTo>
                      <a:lnTo>
                        <a:pt x="1171" y="415"/>
                      </a:lnTo>
                      <a:lnTo>
                        <a:pt x="1177" y="407"/>
                      </a:lnTo>
                      <a:lnTo>
                        <a:pt x="1185" y="402"/>
                      </a:lnTo>
                      <a:lnTo>
                        <a:pt x="1195" y="397"/>
                      </a:lnTo>
                      <a:lnTo>
                        <a:pt x="1202" y="391"/>
                      </a:lnTo>
                      <a:lnTo>
                        <a:pt x="1210" y="384"/>
                      </a:lnTo>
                      <a:lnTo>
                        <a:pt x="1216" y="375"/>
                      </a:lnTo>
                      <a:lnTo>
                        <a:pt x="1216" y="366"/>
                      </a:lnTo>
                      <a:lnTo>
                        <a:pt x="1210" y="352"/>
                      </a:lnTo>
                      <a:lnTo>
                        <a:pt x="1222" y="346"/>
                      </a:lnTo>
                      <a:lnTo>
                        <a:pt x="1228" y="337"/>
                      </a:lnTo>
                      <a:lnTo>
                        <a:pt x="1231" y="328"/>
                      </a:lnTo>
                      <a:lnTo>
                        <a:pt x="1233" y="317"/>
                      </a:lnTo>
                      <a:lnTo>
                        <a:pt x="1233" y="306"/>
                      </a:lnTo>
                      <a:lnTo>
                        <a:pt x="1233" y="296"/>
                      </a:lnTo>
                      <a:lnTo>
                        <a:pt x="1235" y="287"/>
                      </a:lnTo>
                      <a:lnTo>
                        <a:pt x="1239" y="278"/>
                      </a:lnTo>
                      <a:lnTo>
                        <a:pt x="1247" y="270"/>
                      </a:lnTo>
                      <a:lnTo>
                        <a:pt x="1259" y="265"/>
                      </a:lnTo>
                      <a:lnTo>
                        <a:pt x="1253" y="256"/>
                      </a:lnTo>
                      <a:lnTo>
                        <a:pt x="1251" y="247"/>
                      </a:lnTo>
                      <a:lnTo>
                        <a:pt x="1251" y="238"/>
                      </a:lnTo>
                      <a:lnTo>
                        <a:pt x="1255" y="229"/>
                      </a:lnTo>
                      <a:lnTo>
                        <a:pt x="1259" y="222"/>
                      </a:lnTo>
                      <a:lnTo>
                        <a:pt x="1262" y="213"/>
                      </a:lnTo>
                      <a:lnTo>
                        <a:pt x="1264" y="204"/>
                      </a:lnTo>
                      <a:lnTo>
                        <a:pt x="1264" y="196"/>
                      </a:lnTo>
                      <a:lnTo>
                        <a:pt x="1262" y="187"/>
                      </a:lnTo>
                      <a:lnTo>
                        <a:pt x="1257" y="178"/>
                      </a:lnTo>
                      <a:lnTo>
                        <a:pt x="1266" y="169"/>
                      </a:lnTo>
                      <a:lnTo>
                        <a:pt x="1272" y="162"/>
                      </a:lnTo>
                      <a:lnTo>
                        <a:pt x="1274" y="155"/>
                      </a:lnTo>
                      <a:lnTo>
                        <a:pt x="1272" y="146"/>
                      </a:lnTo>
                      <a:lnTo>
                        <a:pt x="1268" y="139"/>
                      </a:lnTo>
                      <a:lnTo>
                        <a:pt x="1262" y="130"/>
                      </a:lnTo>
                      <a:lnTo>
                        <a:pt x="1259" y="121"/>
                      </a:lnTo>
                      <a:lnTo>
                        <a:pt x="1257" y="114"/>
                      </a:lnTo>
                      <a:lnTo>
                        <a:pt x="1257" y="105"/>
                      </a:lnTo>
                      <a:lnTo>
                        <a:pt x="1262" y="96"/>
                      </a:lnTo>
                      <a:lnTo>
                        <a:pt x="1332" y="40"/>
                      </a:lnTo>
                      <a:lnTo>
                        <a:pt x="1332" y="41"/>
                      </a:lnTo>
                      <a:lnTo>
                        <a:pt x="1332" y="41"/>
                      </a:lnTo>
                      <a:lnTo>
                        <a:pt x="1332" y="43"/>
                      </a:lnTo>
                      <a:lnTo>
                        <a:pt x="1332" y="43"/>
                      </a:lnTo>
                      <a:lnTo>
                        <a:pt x="1332" y="45"/>
                      </a:lnTo>
                      <a:lnTo>
                        <a:pt x="1334" y="45"/>
                      </a:lnTo>
                      <a:lnTo>
                        <a:pt x="1334" y="45"/>
                      </a:lnTo>
                      <a:lnTo>
                        <a:pt x="1334" y="47"/>
                      </a:lnTo>
                      <a:lnTo>
                        <a:pt x="1336" y="47"/>
                      </a:lnTo>
                      <a:lnTo>
                        <a:pt x="1336" y="47"/>
                      </a:lnTo>
                      <a:lnTo>
                        <a:pt x="1353" y="38"/>
                      </a:lnTo>
                      <a:lnTo>
                        <a:pt x="1373" y="29"/>
                      </a:lnTo>
                      <a:lnTo>
                        <a:pt x="1392" y="23"/>
                      </a:lnTo>
                      <a:lnTo>
                        <a:pt x="1411" y="20"/>
                      </a:lnTo>
                      <a:lnTo>
                        <a:pt x="1431" y="16"/>
                      </a:lnTo>
                      <a:lnTo>
                        <a:pt x="1452" y="14"/>
                      </a:lnTo>
                      <a:lnTo>
                        <a:pt x="1472" y="13"/>
                      </a:lnTo>
                      <a:lnTo>
                        <a:pt x="1493" y="9"/>
                      </a:lnTo>
                      <a:lnTo>
                        <a:pt x="1512" y="5"/>
                      </a:lnTo>
                      <a:lnTo>
                        <a:pt x="1532" y="0"/>
                      </a:lnTo>
                      <a:lnTo>
                        <a:pt x="1539" y="5"/>
                      </a:lnTo>
                      <a:lnTo>
                        <a:pt x="1547" y="11"/>
                      </a:lnTo>
                      <a:lnTo>
                        <a:pt x="1555" y="13"/>
                      </a:lnTo>
                      <a:lnTo>
                        <a:pt x="1563" y="16"/>
                      </a:lnTo>
                      <a:lnTo>
                        <a:pt x="1572" y="18"/>
                      </a:lnTo>
                      <a:lnTo>
                        <a:pt x="1582" y="20"/>
                      </a:lnTo>
                      <a:lnTo>
                        <a:pt x="1590" y="22"/>
                      </a:lnTo>
                      <a:lnTo>
                        <a:pt x="1599" y="23"/>
                      </a:lnTo>
                      <a:lnTo>
                        <a:pt x="1609" y="25"/>
                      </a:lnTo>
                      <a:lnTo>
                        <a:pt x="1617" y="27"/>
                      </a:lnTo>
                      <a:lnTo>
                        <a:pt x="1646" y="59"/>
                      </a:lnTo>
                      <a:lnTo>
                        <a:pt x="1675" y="88"/>
                      </a:lnTo>
                      <a:lnTo>
                        <a:pt x="1706" y="117"/>
                      </a:lnTo>
                      <a:lnTo>
                        <a:pt x="1739" y="144"/>
                      </a:lnTo>
                      <a:lnTo>
                        <a:pt x="1774" y="168"/>
                      </a:lnTo>
                      <a:lnTo>
                        <a:pt x="1808" y="189"/>
                      </a:lnTo>
                      <a:lnTo>
                        <a:pt x="1845" y="209"/>
                      </a:lnTo>
                      <a:lnTo>
                        <a:pt x="1884" y="227"/>
                      </a:lnTo>
                      <a:lnTo>
                        <a:pt x="1923" y="242"/>
                      </a:lnTo>
                      <a:lnTo>
                        <a:pt x="1963" y="254"/>
                      </a:lnTo>
                      <a:lnTo>
                        <a:pt x="2000" y="283"/>
                      </a:lnTo>
                      <a:lnTo>
                        <a:pt x="2041" y="305"/>
                      </a:lnTo>
                      <a:lnTo>
                        <a:pt x="2083" y="323"/>
                      </a:lnTo>
                      <a:lnTo>
                        <a:pt x="2128" y="337"/>
                      </a:lnTo>
                      <a:lnTo>
                        <a:pt x="2172" y="350"/>
                      </a:lnTo>
                      <a:lnTo>
                        <a:pt x="2219" y="361"/>
                      </a:lnTo>
                      <a:lnTo>
                        <a:pt x="2263" y="371"/>
                      </a:lnTo>
                      <a:lnTo>
                        <a:pt x="2308" y="384"/>
                      </a:lnTo>
                      <a:lnTo>
                        <a:pt x="2353" y="400"/>
                      </a:lnTo>
                      <a:lnTo>
                        <a:pt x="2393" y="420"/>
                      </a:lnTo>
                      <a:lnTo>
                        <a:pt x="2391" y="434"/>
                      </a:lnTo>
                      <a:lnTo>
                        <a:pt x="2395" y="447"/>
                      </a:lnTo>
                      <a:lnTo>
                        <a:pt x="2403" y="458"/>
                      </a:lnTo>
                      <a:lnTo>
                        <a:pt x="2413" y="467"/>
                      </a:lnTo>
                      <a:lnTo>
                        <a:pt x="2426" y="474"/>
                      </a:lnTo>
                      <a:lnTo>
                        <a:pt x="2442" y="483"/>
                      </a:lnTo>
                      <a:lnTo>
                        <a:pt x="2457" y="490"/>
                      </a:lnTo>
                      <a:lnTo>
                        <a:pt x="2473" y="498"/>
                      </a:lnTo>
                      <a:lnTo>
                        <a:pt x="2486" y="505"/>
                      </a:lnTo>
                      <a:lnTo>
                        <a:pt x="2498" y="514"/>
                      </a:lnTo>
                      <a:lnTo>
                        <a:pt x="2507" y="521"/>
                      </a:lnTo>
                      <a:lnTo>
                        <a:pt x="2517" y="530"/>
                      </a:lnTo>
                      <a:lnTo>
                        <a:pt x="2525" y="539"/>
                      </a:lnTo>
                      <a:lnTo>
                        <a:pt x="2533" y="548"/>
                      </a:lnTo>
                      <a:lnTo>
                        <a:pt x="2538" y="557"/>
                      </a:lnTo>
                      <a:lnTo>
                        <a:pt x="2544" y="568"/>
                      </a:lnTo>
                      <a:lnTo>
                        <a:pt x="2546" y="579"/>
                      </a:lnTo>
                      <a:lnTo>
                        <a:pt x="2546" y="589"/>
                      </a:lnTo>
                      <a:lnTo>
                        <a:pt x="2544" y="600"/>
                      </a:lnTo>
                      <a:lnTo>
                        <a:pt x="2538" y="611"/>
                      </a:lnTo>
                      <a:lnTo>
                        <a:pt x="2529" y="626"/>
                      </a:lnTo>
                      <a:lnTo>
                        <a:pt x="2523" y="640"/>
                      </a:lnTo>
                      <a:lnTo>
                        <a:pt x="2517" y="654"/>
                      </a:lnTo>
                      <a:lnTo>
                        <a:pt x="2511" y="671"/>
                      </a:lnTo>
                      <a:lnTo>
                        <a:pt x="2507" y="687"/>
                      </a:lnTo>
                      <a:lnTo>
                        <a:pt x="2502" y="703"/>
                      </a:lnTo>
                      <a:lnTo>
                        <a:pt x="2496" y="717"/>
                      </a:lnTo>
                      <a:lnTo>
                        <a:pt x="2488" y="732"/>
                      </a:lnTo>
                      <a:lnTo>
                        <a:pt x="2478" y="746"/>
                      </a:lnTo>
                      <a:lnTo>
                        <a:pt x="2467" y="759"/>
                      </a:lnTo>
                      <a:lnTo>
                        <a:pt x="2480" y="764"/>
                      </a:lnTo>
                      <a:lnTo>
                        <a:pt x="2478" y="766"/>
                      </a:lnTo>
                      <a:lnTo>
                        <a:pt x="2478" y="770"/>
                      </a:lnTo>
                      <a:lnTo>
                        <a:pt x="2476" y="772"/>
                      </a:lnTo>
                      <a:lnTo>
                        <a:pt x="2476" y="773"/>
                      </a:lnTo>
                      <a:lnTo>
                        <a:pt x="2475" y="775"/>
                      </a:lnTo>
                      <a:lnTo>
                        <a:pt x="2475" y="777"/>
                      </a:lnTo>
                      <a:lnTo>
                        <a:pt x="2473" y="779"/>
                      </a:lnTo>
                      <a:lnTo>
                        <a:pt x="2471" y="779"/>
                      </a:lnTo>
                      <a:lnTo>
                        <a:pt x="2469" y="779"/>
                      </a:lnTo>
                      <a:lnTo>
                        <a:pt x="2465" y="777"/>
                      </a:lnTo>
                      <a:lnTo>
                        <a:pt x="2440" y="824"/>
                      </a:lnTo>
                      <a:lnTo>
                        <a:pt x="2411" y="871"/>
                      </a:lnTo>
                      <a:lnTo>
                        <a:pt x="2378" y="916"/>
                      </a:lnTo>
                      <a:lnTo>
                        <a:pt x="2341" y="961"/>
                      </a:lnTo>
                      <a:lnTo>
                        <a:pt x="2302" y="1004"/>
                      </a:lnTo>
                      <a:lnTo>
                        <a:pt x="2262" y="1046"/>
                      </a:lnTo>
                      <a:lnTo>
                        <a:pt x="2219" y="1089"/>
                      </a:lnTo>
                      <a:lnTo>
                        <a:pt x="2176" y="1128"/>
                      </a:lnTo>
                      <a:lnTo>
                        <a:pt x="2134" y="1168"/>
                      </a:lnTo>
                      <a:lnTo>
                        <a:pt x="2093" y="1208"/>
                      </a:lnTo>
                      <a:lnTo>
                        <a:pt x="2109" y="1190"/>
                      </a:lnTo>
                      <a:lnTo>
                        <a:pt x="2122" y="1170"/>
                      </a:lnTo>
                      <a:lnTo>
                        <a:pt x="2140" y="1152"/>
                      </a:lnTo>
                      <a:lnTo>
                        <a:pt x="2155" y="1134"/>
                      </a:lnTo>
                      <a:lnTo>
                        <a:pt x="2172" y="1114"/>
                      </a:lnTo>
                      <a:lnTo>
                        <a:pt x="2188" y="1096"/>
                      </a:lnTo>
                      <a:lnTo>
                        <a:pt x="2205" y="1078"/>
                      </a:lnTo>
                      <a:lnTo>
                        <a:pt x="2223" y="1060"/>
                      </a:lnTo>
                      <a:lnTo>
                        <a:pt x="2238" y="1042"/>
                      </a:lnTo>
                      <a:lnTo>
                        <a:pt x="2254" y="1024"/>
                      </a:lnTo>
                      <a:lnTo>
                        <a:pt x="2209" y="1060"/>
                      </a:lnTo>
                      <a:lnTo>
                        <a:pt x="2167" y="1100"/>
                      </a:lnTo>
                      <a:lnTo>
                        <a:pt x="2126" y="1143"/>
                      </a:lnTo>
                      <a:lnTo>
                        <a:pt x="2089" y="1186"/>
                      </a:lnTo>
                      <a:lnTo>
                        <a:pt x="2054" y="1233"/>
                      </a:lnTo>
                      <a:lnTo>
                        <a:pt x="2021" y="1280"/>
                      </a:lnTo>
                      <a:lnTo>
                        <a:pt x="1989" y="1327"/>
                      </a:lnTo>
                      <a:lnTo>
                        <a:pt x="1956" y="1374"/>
                      </a:lnTo>
                      <a:lnTo>
                        <a:pt x="1923" y="1422"/>
                      </a:lnTo>
                      <a:lnTo>
                        <a:pt x="1888" y="1467"/>
                      </a:lnTo>
                      <a:lnTo>
                        <a:pt x="1892" y="1476"/>
                      </a:lnTo>
                      <a:lnTo>
                        <a:pt x="1894" y="1485"/>
                      </a:lnTo>
                      <a:lnTo>
                        <a:pt x="1894" y="1494"/>
                      </a:lnTo>
                      <a:lnTo>
                        <a:pt x="1894" y="1503"/>
                      </a:lnTo>
                      <a:lnTo>
                        <a:pt x="1892" y="1512"/>
                      </a:lnTo>
                      <a:lnTo>
                        <a:pt x="1888" y="1521"/>
                      </a:lnTo>
                      <a:lnTo>
                        <a:pt x="1884" y="1529"/>
                      </a:lnTo>
                      <a:lnTo>
                        <a:pt x="1878" y="1538"/>
                      </a:lnTo>
                      <a:lnTo>
                        <a:pt x="1874" y="1545"/>
                      </a:lnTo>
                      <a:lnTo>
                        <a:pt x="1870" y="1554"/>
                      </a:lnTo>
                      <a:lnTo>
                        <a:pt x="1872" y="1545"/>
                      </a:lnTo>
                      <a:lnTo>
                        <a:pt x="1872" y="1538"/>
                      </a:lnTo>
                      <a:lnTo>
                        <a:pt x="1870" y="1529"/>
                      </a:lnTo>
                      <a:lnTo>
                        <a:pt x="1865" y="1521"/>
                      </a:lnTo>
                      <a:lnTo>
                        <a:pt x="1861" y="1514"/>
                      </a:lnTo>
                      <a:lnTo>
                        <a:pt x="1853" y="1507"/>
                      </a:lnTo>
                      <a:lnTo>
                        <a:pt x="1847" y="1500"/>
                      </a:lnTo>
                      <a:lnTo>
                        <a:pt x="1841" y="1493"/>
                      </a:lnTo>
                      <a:lnTo>
                        <a:pt x="1837" y="1485"/>
                      </a:lnTo>
                      <a:lnTo>
                        <a:pt x="1834" y="1476"/>
                      </a:lnTo>
                      <a:lnTo>
                        <a:pt x="1849" y="1444"/>
                      </a:lnTo>
                      <a:lnTo>
                        <a:pt x="1867" y="1413"/>
                      </a:lnTo>
                      <a:lnTo>
                        <a:pt x="1886" y="1386"/>
                      </a:lnTo>
                      <a:lnTo>
                        <a:pt x="1909" y="1359"/>
                      </a:lnTo>
                      <a:lnTo>
                        <a:pt x="1932" y="1332"/>
                      </a:lnTo>
                      <a:lnTo>
                        <a:pt x="1958" y="1305"/>
                      </a:lnTo>
                      <a:lnTo>
                        <a:pt x="1981" y="1280"/>
                      </a:lnTo>
                      <a:lnTo>
                        <a:pt x="2004" y="1251"/>
                      </a:lnTo>
                      <a:lnTo>
                        <a:pt x="2025" y="1222"/>
                      </a:lnTo>
                      <a:lnTo>
                        <a:pt x="2043" y="1192"/>
                      </a:lnTo>
                      <a:lnTo>
                        <a:pt x="2050" y="1188"/>
                      </a:lnTo>
                      <a:lnTo>
                        <a:pt x="2058" y="1183"/>
                      </a:lnTo>
                      <a:lnTo>
                        <a:pt x="2066" y="1175"/>
                      </a:lnTo>
                      <a:lnTo>
                        <a:pt x="2074" y="1168"/>
                      </a:lnTo>
                      <a:lnTo>
                        <a:pt x="2083" y="1161"/>
                      </a:lnTo>
                      <a:lnTo>
                        <a:pt x="2089" y="1154"/>
                      </a:lnTo>
                      <a:lnTo>
                        <a:pt x="2095" y="1146"/>
                      </a:lnTo>
                      <a:lnTo>
                        <a:pt x="2101" y="1137"/>
                      </a:lnTo>
                      <a:lnTo>
                        <a:pt x="2103" y="1130"/>
                      </a:lnTo>
                      <a:lnTo>
                        <a:pt x="2103" y="1121"/>
                      </a:lnTo>
                      <a:lnTo>
                        <a:pt x="2085" y="1134"/>
                      </a:lnTo>
                      <a:lnTo>
                        <a:pt x="2068" y="1146"/>
                      </a:lnTo>
                      <a:lnTo>
                        <a:pt x="2052" y="1161"/>
                      </a:lnTo>
                      <a:lnTo>
                        <a:pt x="2039" y="1177"/>
                      </a:lnTo>
                      <a:lnTo>
                        <a:pt x="2025" y="1195"/>
                      </a:lnTo>
                      <a:lnTo>
                        <a:pt x="2012" y="1211"/>
                      </a:lnTo>
                      <a:lnTo>
                        <a:pt x="1998" y="1228"/>
                      </a:lnTo>
                      <a:lnTo>
                        <a:pt x="1987" y="1246"/>
                      </a:lnTo>
                      <a:lnTo>
                        <a:pt x="1971" y="1262"/>
                      </a:lnTo>
                      <a:lnTo>
                        <a:pt x="1956" y="1276"/>
                      </a:lnTo>
                      <a:lnTo>
                        <a:pt x="1952" y="1273"/>
                      </a:lnTo>
                      <a:lnTo>
                        <a:pt x="1946" y="1276"/>
                      </a:lnTo>
                      <a:lnTo>
                        <a:pt x="1940" y="1282"/>
                      </a:lnTo>
                      <a:lnTo>
                        <a:pt x="1934" y="1285"/>
                      </a:lnTo>
                      <a:lnTo>
                        <a:pt x="1930" y="1293"/>
                      </a:lnTo>
                      <a:lnTo>
                        <a:pt x="1925" y="1298"/>
                      </a:lnTo>
                      <a:lnTo>
                        <a:pt x="1921" y="1303"/>
                      </a:lnTo>
                      <a:lnTo>
                        <a:pt x="1917" y="1311"/>
                      </a:lnTo>
                      <a:lnTo>
                        <a:pt x="1915" y="1316"/>
                      </a:lnTo>
                      <a:lnTo>
                        <a:pt x="1915" y="1323"/>
                      </a:lnTo>
                      <a:lnTo>
                        <a:pt x="1915" y="1330"/>
                      </a:lnTo>
                      <a:lnTo>
                        <a:pt x="1903" y="1345"/>
                      </a:lnTo>
                      <a:lnTo>
                        <a:pt x="1894" y="1359"/>
                      </a:lnTo>
                      <a:lnTo>
                        <a:pt x="1882" y="1374"/>
                      </a:lnTo>
                      <a:lnTo>
                        <a:pt x="1874" y="1390"/>
                      </a:lnTo>
                      <a:lnTo>
                        <a:pt x="1865" y="1404"/>
                      </a:lnTo>
                      <a:lnTo>
                        <a:pt x="1855" y="1420"/>
                      </a:lnTo>
                      <a:lnTo>
                        <a:pt x="1843" y="1435"/>
                      </a:lnTo>
                      <a:lnTo>
                        <a:pt x="1834" y="1448"/>
                      </a:lnTo>
                      <a:lnTo>
                        <a:pt x="1820" y="1460"/>
                      </a:lnTo>
                      <a:lnTo>
                        <a:pt x="1806" y="1471"/>
                      </a:lnTo>
                      <a:lnTo>
                        <a:pt x="1801" y="1464"/>
                      </a:lnTo>
                      <a:lnTo>
                        <a:pt x="1797" y="1457"/>
                      </a:lnTo>
                      <a:lnTo>
                        <a:pt x="1791" y="1449"/>
                      </a:lnTo>
                      <a:lnTo>
                        <a:pt x="1787" y="1442"/>
                      </a:lnTo>
                      <a:lnTo>
                        <a:pt x="1781" y="1435"/>
                      </a:lnTo>
                      <a:lnTo>
                        <a:pt x="1777" y="1430"/>
                      </a:lnTo>
                      <a:lnTo>
                        <a:pt x="1772" y="1424"/>
                      </a:lnTo>
                      <a:lnTo>
                        <a:pt x="1764" y="1419"/>
                      </a:lnTo>
                      <a:lnTo>
                        <a:pt x="1756" y="1417"/>
                      </a:lnTo>
                      <a:lnTo>
                        <a:pt x="1746" y="1415"/>
                      </a:lnTo>
                      <a:lnTo>
                        <a:pt x="1735" y="1406"/>
                      </a:lnTo>
                      <a:lnTo>
                        <a:pt x="1723" y="1399"/>
                      </a:lnTo>
                      <a:lnTo>
                        <a:pt x="1712" y="1393"/>
                      </a:lnTo>
                      <a:lnTo>
                        <a:pt x="1700" y="1386"/>
                      </a:lnTo>
                      <a:lnTo>
                        <a:pt x="1688" y="1383"/>
                      </a:lnTo>
                      <a:lnTo>
                        <a:pt x="1675" y="1377"/>
                      </a:lnTo>
                      <a:lnTo>
                        <a:pt x="1661" y="1374"/>
                      </a:lnTo>
                      <a:lnTo>
                        <a:pt x="1648" y="1370"/>
                      </a:lnTo>
                      <a:lnTo>
                        <a:pt x="1634" y="1368"/>
                      </a:lnTo>
                      <a:lnTo>
                        <a:pt x="1619" y="1366"/>
                      </a:lnTo>
                      <a:lnTo>
                        <a:pt x="1624" y="1361"/>
                      </a:lnTo>
                      <a:lnTo>
                        <a:pt x="1630" y="1354"/>
                      </a:lnTo>
                      <a:lnTo>
                        <a:pt x="1640" y="1347"/>
                      </a:lnTo>
                      <a:lnTo>
                        <a:pt x="1650" y="1339"/>
                      </a:lnTo>
                      <a:lnTo>
                        <a:pt x="1659" y="1332"/>
                      </a:lnTo>
                      <a:lnTo>
                        <a:pt x="1669" y="1325"/>
                      </a:lnTo>
                      <a:lnTo>
                        <a:pt x="1681" y="1318"/>
                      </a:lnTo>
                      <a:lnTo>
                        <a:pt x="1690" y="1311"/>
                      </a:lnTo>
                      <a:lnTo>
                        <a:pt x="1700" y="1303"/>
                      </a:lnTo>
                      <a:lnTo>
                        <a:pt x="1708" y="1294"/>
                      </a:lnTo>
                      <a:lnTo>
                        <a:pt x="1700" y="1296"/>
                      </a:lnTo>
                      <a:lnTo>
                        <a:pt x="1692" y="1298"/>
                      </a:lnTo>
                      <a:lnTo>
                        <a:pt x="1683" y="1300"/>
                      </a:lnTo>
                      <a:lnTo>
                        <a:pt x="1675" y="1303"/>
                      </a:lnTo>
                      <a:lnTo>
                        <a:pt x="1667" y="1307"/>
                      </a:lnTo>
                      <a:lnTo>
                        <a:pt x="1657" y="1312"/>
                      </a:lnTo>
                      <a:lnTo>
                        <a:pt x="1650" y="1316"/>
                      </a:lnTo>
                      <a:lnTo>
                        <a:pt x="1642" y="1321"/>
                      </a:lnTo>
                      <a:lnTo>
                        <a:pt x="1634" y="1327"/>
                      </a:lnTo>
                      <a:lnTo>
                        <a:pt x="1626" y="1332"/>
                      </a:lnTo>
                      <a:lnTo>
                        <a:pt x="1630" y="1329"/>
                      </a:lnTo>
                      <a:lnTo>
                        <a:pt x="1636" y="1321"/>
                      </a:lnTo>
                      <a:lnTo>
                        <a:pt x="1644" y="1314"/>
                      </a:lnTo>
                      <a:lnTo>
                        <a:pt x="1652" y="1307"/>
                      </a:lnTo>
                      <a:lnTo>
                        <a:pt x="1661" y="1300"/>
                      </a:lnTo>
                      <a:lnTo>
                        <a:pt x="1671" y="1293"/>
                      </a:lnTo>
                      <a:lnTo>
                        <a:pt x="1683" y="1287"/>
                      </a:lnTo>
                      <a:lnTo>
                        <a:pt x="1692" y="1282"/>
                      </a:lnTo>
                      <a:lnTo>
                        <a:pt x="1704" y="1280"/>
                      </a:lnTo>
                      <a:lnTo>
                        <a:pt x="1715" y="1280"/>
                      </a:lnTo>
                      <a:lnTo>
                        <a:pt x="1758" y="1240"/>
                      </a:lnTo>
                      <a:lnTo>
                        <a:pt x="1799" y="1202"/>
                      </a:lnTo>
                      <a:lnTo>
                        <a:pt x="1841" y="1166"/>
                      </a:lnTo>
                      <a:lnTo>
                        <a:pt x="1882" y="1130"/>
                      </a:lnTo>
                      <a:lnTo>
                        <a:pt x="1923" y="1094"/>
                      </a:lnTo>
                      <a:lnTo>
                        <a:pt x="1963" y="1060"/>
                      </a:lnTo>
                      <a:lnTo>
                        <a:pt x="2004" y="1024"/>
                      </a:lnTo>
                      <a:lnTo>
                        <a:pt x="2047" y="986"/>
                      </a:lnTo>
                      <a:lnTo>
                        <a:pt x="2089" y="950"/>
                      </a:lnTo>
                      <a:lnTo>
                        <a:pt x="2134" y="910"/>
                      </a:lnTo>
                      <a:lnTo>
                        <a:pt x="2095" y="939"/>
                      </a:lnTo>
                      <a:lnTo>
                        <a:pt x="2056" y="966"/>
                      </a:lnTo>
                      <a:lnTo>
                        <a:pt x="2018" y="995"/>
                      </a:lnTo>
                      <a:lnTo>
                        <a:pt x="1981" y="1026"/>
                      </a:lnTo>
                      <a:lnTo>
                        <a:pt x="1944" y="1055"/>
                      </a:lnTo>
                      <a:lnTo>
                        <a:pt x="1905" y="1085"/>
                      </a:lnTo>
                      <a:lnTo>
                        <a:pt x="1870" y="1116"/>
                      </a:lnTo>
                      <a:lnTo>
                        <a:pt x="1834" y="1146"/>
                      </a:lnTo>
                      <a:lnTo>
                        <a:pt x="1801" y="1179"/>
                      </a:lnTo>
                      <a:lnTo>
                        <a:pt x="1766" y="1211"/>
                      </a:lnTo>
                      <a:lnTo>
                        <a:pt x="1787" y="1188"/>
                      </a:lnTo>
                      <a:lnTo>
                        <a:pt x="1806" y="1165"/>
                      </a:lnTo>
                      <a:lnTo>
                        <a:pt x="1830" y="1141"/>
                      </a:lnTo>
                      <a:lnTo>
                        <a:pt x="1853" y="1118"/>
                      </a:lnTo>
                      <a:lnTo>
                        <a:pt x="1876" y="1094"/>
                      </a:lnTo>
                      <a:lnTo>
                        <a:pt x="1901" y="1073"/>
                      </a:lnTo>
                      <a:lnTo>
                        <a:pt x="1925" y="1049"/>
                      </a:lnTo>
                      <a:lnTo>
                        <a:pt x="1950" y="1026"/>
                      </a:lnTo>
                      <a:lnTo>
                        <a:pt x="1975" y="1002"/>
                      </a:lnTo>
                      <a:lnTo>
                        <a:pt x="1998" y="979"/>
                      </a:lnTo>
                      <a:lnTo>
                        <a:pt x="1971" y="999"/>
                      </a:lnTo>
                      <a:lnTo>
                        <a:pt x="1942" y="1020"/>
                      </a:lnTo>
                      <a:lnTo>
                        <a:pt x="1915" y="1042"/>
                      </a:lnTo>
                      <a:lnTo>
                        <a:pt x="1888" y="1065"/>
                      </a:lnTo>
                      <a:lnTo>
                        <a:pt x="1863" y="1089"/>
                      </a:lnTo>
                      <a:lnTo>
                        <a:pt x="1836" y="1112"/>
                      </a:lnTo>
                      <a:lnTo>
                        <a:pt x="1810" y="1137"/>
                      </a:lnTo>
                      <a:lnTo>
                        <a:pt x="1783" y="1161"/>
                      </a:lnTo>
                      <a:lnTo>
                        <a:pt x="1758" y="1186"/>
                      </a:lnTo>
                      <a:lnTo>
                        <a:pt x="1733" y="1210"/>
                      </a:lnTo>
                      <a:lnTo>
                        <a:pt x="1750" y="1190"/>
                      </a:lnTo>
                      <a:lnTo>
                        <a:pt x="1768" y="1172"/>
                      </a:lnTo>
                      <a:lnTo>
                        <a:pt x="1787" y="1154"/>
                      </a:lnTo>
                      <a:lnTo>
                        <a:pt x="1805" y="1136"/>
                      </a:lnTo>
                      <a:lnTo>
                        <a:pt x="1822" y="1118"/>
                      </a:lnTo>
                      <a:lnTo>
                        <a:pt x="1839" y="1098"/>
                      </a:lnTo>
                      <a:lnTo>
                        <a:pt x="1855" y="1080"/>
                      </a:lnTo>
                      <a:lnTo>
                        <a:pt x="1870" y="1060"/>
                      </a:lnTo>
                      <a:lnTo>
                        <a:pt x="1886" y="1038"/>
                      </a:lnTo>
                      <a:lnTo>
                        <a:pt x="1897" y="1017"/>
                      </a:lnTo>
                      <a:lnTo>
                        <a:pt x="1923" y="1006"/>
                      </a:lnTo>
                      <a:lnTo>
                        <a:pt x="1917" y="1004"/>
                      </a:lnTo>
                      <a:lnTo>
                        <a:pt x="1915" y="1002"/>
                      </a:lnTo>
                      <a:lnTo>
                        <a:pt x="1915" y="1000"/>
                      </a:lnTo>
                      <a:lnTo>
                        <a:pt x="1917" y="997"/>
                      </a:lnTo>
                      <a:lnTo>
                        <a:pt x="1919" y="995"/>
                      </a:lnTo>
                      <a:lnTo>
                        <a:pt x="1923" y="993"/>
                      </a:lnTo>
                      <a:lnTo>
                        <a:pt x="1927" y="990"/>
                      </a:lnTo>
                      <a:lnTo>
                        <a:pt x="1930" y="988"/>
                      </a:lnTo>
                      <a:lnTo>
                        <a:pt x="1932" y="984"/>
                      </a:lnTo>
                      <a:lnTo>
                        <a:pt x="1932" y="981"/>
                      </a:lnTo>
                      <a:lnTo>
                        <a:pt x="1930" y="981"/>
                      </a:lnTo>
                      <a:lnTo>
                        <a:pt x="1930" y="982"/>
                      </a:lnTo>
                      <a:lnTo>
                        <a:pt x="1928" y="982"/>
                      </a:lnTo>
                      <a:lnTo>
                        <a:pt x="1928" y="982"/>
                      </a:lnTo>
                      <a:lnTo>
                        <a:pt x="1928" y="984"/>
                      </a:lnTo>
                      <a:lnTo>
                        <a:pt x="1927" y="984"/>
                      </a:lnTo>
                      <a:lnTo>
                        <a:pt x="1927" y="986"/>
                      </a:lnTo>
                      <a:lnTo>
                        <a:pt x="1927" y="986"/>
                      </a:lnTo>
                      <a:lnTo>
                        <a:pt x="1927" y="988"/>
                      </a:lnTo>
                      <a:lnTo>
                        <a:pt x="1927" y="990"/>
                      </a:lnTo>
                      <a:lnTo>
                        <a:pt x="1934" y="990"/>
                      </a:lnTo>
                      <a:lnTo>
                        <a:pt x="1940" y="986"/>
                      </a:lnTo>
                      <a:lnTo>
                        <a:pt x="1946" y="982"/>
                      </a:lnTo>
                      <a:lnTo>
                        <a:pt x="1950" y="977"/>
                      </a:lnTo>
                      <a:lnTo>
                        <a:pt x="1954" y="970"/>
                      </a:lnTo>
                      <a:lnTo>
                        <a:pt x="1956" y="963"/>
                      </a:lnTo>
                      <a:lnTo>
                        <a:pt x="1959" y="955"/>
                      </a:lnTo>
                      <a:lnTo>
                        <a:pt x="1961" y="948"/>
                      </a:lnTo>
                      <a:lnTo>
                        <a:pt x="1965" y="941"/>
                      </a:lnTo>
                      <a:lnTo>
                        <a:pt x="1967" y="934"/>
                      </a:lnTo>
                      <a:lnTo>
                        <a:pt x="1975" y="925"/>
                      </a:lnTo>
                      <a:lnTo>
                        <a:pt x="1985" y="916"/>
                      </a:lnTo>
                      <a:lnTo>
                        <a:pt x="1992" y="907"/>
                      </a:lnTo>
                      <a:lnTo>
                        <a:pt x="2000" y="898"/>
                      </a:lnTo>
                      <a:lnTo>
                        <a:pt x="2008" y="889"/>
                      </a:lnTo>
                      <a:lnTo>
                        <a:pt x="2016" y="880"/>
                      </a:lnTo>
                      <a:lnTo>
                        <a:pt x="2021" y="869"/>
                      </a:lnTo>
                      <a:lnTo>
                        <a:pt x="2029" y="860"/>
                      </a:lnTo>
                      <a:lnTo>
                        <a:pt x="2035" y="849"/>
                      </a:lnTo>
                      <a:lnTo>
                        <a:pt x="2041" y="840"/>
                      </a:lnTo>
                      <a:lnTo>
                        <a:pt x="2041" y="833"/>
                      </a:lnTo>
                      <a:lnTo>
                        <a:pt x="2043" y="827"/>
                      </a:lnTo>
                      <a:lnTo>
                        <a:pt x="2049" y="822"/>
                      </a:lnTo>
                      <a:lnTo>
                        <a:pt x="2052" y="817"/>
                      </a:lnTo>
                      <a:lnTo>
                        <a:pt x="2058" y="811"/>
                      </a:lnTo>
                      <a:lnTo>
                        <a:pt x="2064" y="806"/>
                      </a:lnTo>
                      <a:lnTo>
                        <a:pt x="2068" y="800"/>
                      </a:lnTo>
                      <a:lnTo>
                        <a:pt x="2072" y="795"/>
                      </a:lnTo>
                      <a:lnTo>
                        <a:pt x="2074" y="788"/>
                      </a:lnTo>
                      <a:lnTo>
                        <a:pt x="2072" y="782"/>
                      </a:lnTo>
                      <a:lnTo>
                        <a:pt x="2068" y="781"/>
                      </a:lnTo>
                      <a:lnTo>
                        <a:pt x="2064" y="782"/>
                      </a:lnTo>
                      <a:lnTo>
                        <a:pt x="2060" y="782"/>
                      </a:lnTo>
                      <a:lnTo>
                        <a:pt x="2058" y="784"/>
                      </a:lnTo>
                      <a:lnTo>
                        <a:pt x="2054" y="788"/>
                      </a:lnTo>
                      <a:lnTo>
                        <a:pt x="2050" y="790"/>
                      </a:lnTo>
                      <a:lnTo>
                        <a:pt x="2049" y="793"/>
                      </a:lnTo>
                      <a:lnTo>
                        <a:pt x="2045" y="795"/>
                      </a:lnTo>
                      <a:lnTo>
                        <a:pt x="2043" y="799"/>
                      </a:lnTo>
                      <a:lnTo>
                        <a:pt x="2039" y="802"/>
                      </a:lnTo>
                      <a:lnTo>
                        <a:pt x="2058" y="784"/>
                      </a:lnTo>
                      <a:lnTo>
                        <a:pt x="2080" y="768"/>
                      </a:lnTo>
                      <a:lnTo>
                        <a:pt x="2099" y="752"/>
                      </a:lnTo>
                      <a:lnTo>
                        <a:pt x="2120" y="737"/>
                      </a:lnTo>
                      <a:lnTo>
                        <a:pt x="2141" y="723"/>
                      </a:lnTo>
                      <a:lnTo>
                        <a:pt x="2163" y="708"/>
                      </a:lnTo>
                      <a:lnTo>
                        <a:pt x="2184" y="694"/>
                      </a:lnTo>
                      <a:lnTo>
                        <a:pt x="2205" y="681"/>
                      </a:lnTo>
                      <a:lnTo>
                        <a:pt x="2229" y="669"/>
                      </a:lnTo>
                      <a:lnTo>
                        <a:pt x="2252" y="658"/>
                      </a:lnTo>
                      <a:lnTo>
                        <a:pt x="2248" y="654"/>
                      </a:lnTo>
                      <a:lnTo>
                        <a:pt x="2246" y="649"/>
                      </a:lnTo>
                      <a:lnTo>
                        <a:pt x="2244" y="644"/>
                      </a:lnTo>
                      <a:lnTo>
                        <a:pt x="2244" y="638"/>
                      </a:lnTo>
                      <a:lnTo>
                        <a:pt x="2244" y="635"/>
                      </a:lnTo>
                      <a:lnTo>
                        <a:pt x="2242" y="629"/>
                      </a:lnTo>
                      <a:lnTo>
                        <a:pt x="2240" y="624"/>
                      </a:lnTo>
                      <a:lnTo>
                        <a:pt x="2238" y="620"/>
                      </a:lnTo>
                      <a:lnTo>
                        <a:pt x="2236" y="616"/>
                      </a:lnTo>
                      <a:lnTo>
                        <a:pt x="2231" y="613"/>
                      </a:lnTo>
                      <a:lnTo>
                        <a:pt x="2227" y="616"/>
                      </a:lnTo>
                      <a:lnTo>
                        <a:pt x="2223" y="622"/>
                      </a:lnTo>
                      <a:lnTo>
                        <a:pt x="2221" y="626"/>
                      </a:lnTo>
                      <a:lnTo>
                        <a:pt x="2219" y="631"/>
                      </a:lnTo>
                      <a:lnTo>
                        <a:pt x="2219" y="636"/>
                      </a:lnTo>
                      <a:lnTo>
                        <a:pt x="2219" y="642"/>
                      </a:lnTo>
                      <a:lnTo>
                        <a:pt x="2219" y="649"/>
                      </a:lnTo>
                      <a:lnTo>
                        <a:pt x="2219" y="654"/>
                      </a:lnTo>
                      <a:lnTo>
                        <a:pt x="2219" y="660"/>
                      </a:lnTo>
                      <a:lnTo>
                        <a:pt x="2217" y="665"/>
                      </a:lnTo>
                      <a:lnTo>
                        <a:pt x="2201" y="665"/>
                      </a:lnTo>
                      <a:lnTo>
                        <a:pt x="2186" y="667"/>
                      </a:lnTo>
                      <a:lnTo>
                        <a:pt x="2171" y="672"/>
                      </a:lnTo>
                      <a:lnTo>
                        <a:pt x="2157" y="680"/>
                      </a:lnTo>
                      <a:lnTo>
                        <a:pt x="2141" y="687"/>
                      </a:lnTo>
                      <a:lnTo>
                        <a:pt x="2126" y="696"/>
                      </a:lnTo>
                      <a:lnTo>
                        <a:pt x="2112" y="705"/>
                      </a:lnTo>
                      <a:lnTo>
                        <a:pt x="2097" y="714"/>
                      </a:lnTo>
                      <a:lnTo>
                        <a:pt x="2081" y="723"/>
                      </a:lnTo>
                      <a:lnTo>
                        <a:pt x="2068" y="730"/>
                      </a:lnTo>
                      <a:lnTo>
                        <a:pt x="2072" y="737"/>
                      </a:lnTo>
                      <a:lnTo>
                        <a:pt x="2072" y="743"/>
                      </a:lnTo>
                      <a:lnTo>
                        <a:pt x="2070" y="750"/>
                      </a:lnTo>
                      <a:lnTo>
                        <a:pt x="2066" y="755"/>
                      </a:lnTo>
                      <a:lnTo>
                        <a:pt x="2062" y="759"/>
                      </a:lnTo>
                      <a:lnTo>
                        <a:pt x="2054" y="764"/>
                      </a:lnTo>
                      <a:lnTo>
                        <a:pt x="2049" y="768"/>
                      </a:lnTo>
                      <a:lnTo>
                        <a:pt x="2043" y="773"/>
                      </a:lnTo>
                      <a:lnTo>
                        <a:pt x="2039" y="779"/>
                      </a:lnTo>
                      <a:lnTo>
                        <a:pt x="2035" y="782"/>
                      </a:lnTo>
                      <a:lnTo>
                        <a:pt x="2043" y="770"/>
                      </a:lnTo>
                      <a:lnTo>
                        <a:pt x="2050" y="754"/>
                      </a:lnTo>
                      <a:lnTo>
                        <a:pt x="2058" y="739"/>
                      </a:lnTo>
                      <a:lnTo>
                        <a:pt x="2070" y="723"/>
                      </a:lnTo>
                      <a:lnTo>
                        <a:pt x="2080" y="707"/>
                      </a:lnTo>
                      <a:lnTo>
                        <a:pt x="2091" y="692"/>
                      </a:lnTo>
                      <a:lnTo>
                        <a:pt x="2105" y="678"/>
                      </a:lnTo>
                      <a:lnTo>
                        <a:pt x="2118" y="663"/>
                      </a:lnTo>
                      <a:lnTo>
                        <a:pt x="2134" y="651"/>
                      </a:lnTo>
                      <a:lnTo>
                        <a:pt x="2149" y="638"/>
                      </a:lnTo>
                      <a:lnTo>
                        <a:pt x="2140" y="629"/>
                      </a:lnTo>
                      <a:lnTo>
                        <a:pt x="2155" y="613"/>
                      </a:lnTo>
                      <a:lnTo>
                        <a:pt x="2169" y="598"/>
                      </a:lnTo>
                      <a:lnTo>
                        <a:pt x="2186" y="584"/>
                      </a:lnTo>
                      <a:lnTo>
                        <a:pt x="2203" y="571"/>
                      </a:lnTo>
                      <a:lnTo>
                        <a:pt x="2221" y="561"/>
                      </a:lnTo>
                      <a:lnTo>
                        <a:pt x="2238" y="550"/>
                      </a:lnTo>
                      <a:lnTo>
                        <a:pt x="2258" y="541"/>
                      </a:lnTo>
                      <a:lnTo>
                        <a:pt x="2275" y="532"/>
                      </a:lnTo>
                      <a:lnTo>
                        <a:pt x="2294" y="523"/>
                      </a:lnTo>
                      <a:lnTo>
                        <a:pt x="2312" y="516"/>
                      </a:lnTo>
                      <a:lnTo>
                        <a:pt x="2314" y="514"/>
                      </a:lnTo>
                      <a:lnTo>
                        <a:pt x="2314" y="510"/>
                      </a:lnTo>
                      <a:lnTo>
                        <a:pt x="2314" y="508"/>
                      </a:lnTo>
                      <a:lnTo>
                        <a:pt x="2312" y="507"/>
                      </a:lnTo>
                      <a:lnTo>
                        <a:pt x="2312" y="505"/>
                      </a:lnTo>
                      <a:lnTo>
                        <a:pt x="2310" y="503"/>
                      </a:lnTo>
                      <a:lnTo>
                        <a:pt x="2308" y="501"/>
                      </a:lnTo>
                      <a:lnTo>
                        <a:pt x="2308" y="501"/>
                      </a:lnTo>
                      <a:lnTo>
                        <a:pt x="2306" y="499"/>
                      </a:lnTo>
                      <a:lnTo>
                        <a:pt x="2304" y="498"/>
                      </a:lnTo>
                      <a:lnTo>
                        <a:pt x="2279" y="507"/>
                      </a:lnTo>
                      <a:lnTo>
                        <a:pt x="2256" y="519"/>
                      </a:lnTo>
                      <a:lnTo>
                        <a:pt x="2232" y="532"/>
                      </a:lnTo>
                      <a:lnTo>
                        <a:pt x="2211" y="546"/>
                      </a:lnTo>
                      <a:lnTo>
                        <a:pt x="2190" y="562"/>
                      </a:lnTo>
                      <a:lnTo>
                        <a:pt x="2169" y="579"/>
                      </a:lnTo>
                      <a:lnTo>
                        <a:pt x="2149" y="595"/>
                      </a:lnTo>
                      <a:lnTo>
                        <a:pt x="2128" y="611"/>
                      </a:lnTo>
                      <a:lnTo>
                        <a:pt x="2109" y="627"/>
                      </a:lnTo>
                      <a:lnTo>
                        <a:pt x="2089" y="644"/>
                      </a:lnTo>
                      <a:lnTo>
                        <a:pt x="2089" y="638"/>
                      </a:lnTo>
                      <a:lnTo>
                        <a:pt x="2091" y="631"/>
                      </a:lnTo>
                      <a:lnTo>
                        <a:pt x="2095" y="624"/>
                      </a:lnTo>
                      <a:lnTo>
                        <a:pt x="2099" y="616"/>
                      </a:lnTo>
                      <a:lnTo>
                        <a:pt x="2103" y="611"/>
                      </a:lnTo>
                      <a:lnTo>
                        <a:pt x="2109" y="604"/>
                      </a:lnTo>
                      <a:lnTo>
                        <a:pt x="2112" y="597"/>
                      </a:lnTo>
                      <a:lnTo>
                        <a:pt x="2114" y="589"/>
                      </a:lnTo>
                      <a:lnTo>
                        <a:pt x="2116" y="582"/>
                      </a:lnTo>
                      <a:lnTo>
                        <a:pt x="2118" y="575"/>
                      </a:lnTo>
                      <a:lnTo>
                        <a:pt x="2109" y="600"/>
                      </a:lnTo>
                      <a:lnTo>
                        <a:pt x="2095" y="616"/>
                      </a:lnTo>
                      <a:lnTo>
                        <a:pt x="2080" y="624"/>
                      </a:lnTo>
                      <a:lnTo>
                        <a:pt x="2064" y="626"/>
                      </a:lnTo>
                      <a:lnTo>
                        <a:pt x="2045" y="622"/>
                      </a:lnTo>
                      <a:lnTo>
                        <a:pt x="2023" y="616"/>
                      </a:lnTo>
                      <a:lnTo>
                        <a:pt x="2004" y="609"/>
                      </a:lnTo>
                      <a:lnTo>
                        <a:pt x="1983" y="604"/>
                      </a:lnTo>
                      <a:lnTo>
                        <a:pt x="1961" y="600"/>
                      </a:lnTo>
                      <a:lnTo>
                        <a:pt x="1942" y="600"/>
                      </a:lnTo>
                      <a:lnTo>
                        <a:pt x="1717" y="503"/>
                      </a:lnTo>
                      <a:lnTo>
                        <a:pt x="1714" y="508"/>
                      </a:lnTo>
                      <a:lnTo>
                        <a:pt x="1710" y="512"/>
                      </a:lnTo>
                      <a:lnTo>
                        <a:pt x="1704" y="514"/>
                      </a:lnTo>
                      <a:lnTo>
                        <a:pt x="1696" y="516"/>
                      </a:lnTo>
                      <a:lnTo>
                        <a:pt x="1690" y="516"/>
                      </a:lnTo>
                      <a:lnTo>
                        <a:pt x="1683" y="514"/>
                      </a:lnTo>
                      <a:lnTo>
                        <a:pt x="1675" y="512"/>
                      </a:lnTo>
                      <a:lnTo>
                        <a:pt x="1669" y="510"/>
                      </a:lnTo>
                      <a:lnTo>
                        <a:pt x="1661" y="508"/>
                      </a:lnTo>
                      <a:lnTo>
                        <a:pt x="1657" y="507"/>
                      </a:lnTo>
                      <a:lnTo>
                        <a:pt x="1650" y="505"/>
                      </a:lnTo>
                      <a:lnTo>
                        <a:pt x="1644" y="499"/>
                      </a:lnTo>
                      <a:lnTo>
                        <a:pt x="1640" y="492"/>
                      </a:lnTo>
                      <a:lnTo>
                        <a:pt x="1636" y="485"/>
                      </a:lnTo>
                      <a:lnTo>
                        <a:pt x="1634" y="478"/>
                      </a:lnTo>
                      <a:lnTo>
                        <a:pt x="1632" y="470"/>
                      </a:lnTo>
                      <a:lnTo>
                        <a:pt x="1628" y="463"/>
                      </a:lnTo>
                      <a:lnTo>
                        <a:pt x="1623" y="460"/>
                      </a:lnTo>
                      <a:lnTo>
                        <a:pt x="1615" y="456"/>
                      </a:lnTo>
                      <a:lnTo>
                        <a:pt x="1605" y="456"/>
                      </a:lnTo>
                      <a:lnTo>
                        <a:pt x="1543" y="465"/>
                      </a:lnTo>
                      <a:lnTo>
                        <a:pt x="1555" y="454"/>
                      </a:lnTo>
                      <a:lnTo>
                        <a:pt x="1566" y="442"/>
                      </a:lnTo>
                      <a:lnTo>
                        <a:pt x="1578" y="433"/>
                      </a:lnTo>
                      <a:lnTo>
                        <a:pt x="1592" y="424"/>
                      </a:lnTo>
                      <a:lnTo>
                        <a:pt x="1605" y="415"/>
                      </a:lnTo>
                      <a:lnTo>
                        <a:pt x="1619" y="406"/>
                      </a:lnTo>
                      <a:lnTo>
                        <a:pt x="1632" y="398"/>
                      </a:lnTo>
                      <a:lnTo>
                        <a:pt x="1646" y="391"/>
                      </a:lnTo>
                      <a:lnTo>
                        <a:pt x="1659" y="386"/>
                      </a:lnTo>
                      <a:lnTo>
                        <a:pt x="1675" y="379"/>
                      </a:lnTo>
                      <a:lnTo>
                        <a:pt x="1659" y="379"/>
                      </a:lnTo>
                      <a:lnTo>
                        <a:pt x="1646" y="380"/>
                      </a:lnTo>
                      <a:lnTo>
                        <a:pt x="1632" y="386"/>
                      </a:lnTo>
                      <a:lnTo>
                        <a:pt x="1619" y="391"/>
                      </a:lnTo>
                      <a:lnTo>
                        <a:pt x="1605" y="398"/>
                      </a:lnTo>
                      <a:lnTo>
                        <a:pt x="1594" y="406"/>
                      </a:lnTo>
                      <a:lnTo>
                        <a:pt x="1580" y="413"/>
                      </a:lnTo>
                      <a:lnTo>
                        <a:pt x="1568" y="420"/>
                      </a:lnTo>
                      <a:lnTo>
                        <a:pt x="1557" y="425"/>
                      </a:lnTo>
                      <a:lnTo>
                        <a:pt x="1545" y="429"/>
                      </a:lnTo>
                      <a:lnTo>
                        <a:pt x="1636" y="261"/>
                      </a:lnTo>
                      <a:lnTo>
                        <a:pt x="1632" y="261"/>
                      </a:lnTo>
                      <a:lnTo>
                        <a:pt x="1628" y="263"/>
                      </a:lnTo>
                      <a:lnTo>
                        <a:pt x="1624" y="265"/>
                      </a:lnTo>
                      <a:lnTo>
                        <a:pt x="1621" y="269"/>
                      </a:lnTo>
                      <a:lnTo>
                        <a:pt x="1619" y="272"/>
                      </a:lnTo>
                      <a:lnTo>
                        <a:pt x="1615" y="276"/>
                      </a:lnTo>
                      <a:lnTo>
                        <a:pt x="1611" y="279"/>
                      </a:lnTo>
                      <a:lnTo>
                        <a:pt x="1609" y="285"/>
                      </a:lnTo>
                      <a:lnTo>
                        <a:pt x="1605" y="288"/>
                      </a:lnTo>
                      <a:lnTo>
                        <a:pt x="1603" y="290"/>
                      </a:lnTo>
                      <a:lnTo>
                        <a:pt x="1603" y="290"/>
                      </a:lnTo>
                      <a:lnTo>
                        <a:pt x="1603" y="288"/>
                      </a:lnTo>
                      <a:lnTo>
                        <a:pt x="1603" y="285"/>
                      </a:lnTo>
                      <a:lnTo>
                        <a:pt x="1603" y="281"/>
                      </a:lnTo>
                      <a:lnTo>
                        <a:pt x="1601" y="278"/>
                      </a:lnTo>
                      <a:lnTo>
                        <a:pt x="1601" y="272"/>
                      </a:lnTo>
                      <a:lnTo>
                        <a:pt x="1599" y="269"/>
                      </a:lnTo>
                      <a:lnTo>
                        <a:pt x="1597" y="263"/>
                      </a:lnTo>
                      <a:lnTo>
                        <a:pt x="1597" y="260"/>
                      </a:lnTo>
                      <a:lnTo>
                        <a:pt x="1595" y="256"/>
                      </a:lnTo>
                      <a:lnTo>
                        <a:pt x="1590" y="256"/>
                      </a:lnTo>
                      <a:lnTo>
                        <a:pt x="1590" y="263"/>
                      </a:lnTo>
                      <a:lnTo>
                        <a:pt x="1590" y="272"/>
                      </a:lnTo>
                      <a:lnTo>
                        <a:pt x="1590" y="279"/>
                      </a:lnTo>
                      <a:lnTo>
                        <a:pt x="1588" y="288"/>
                      </a:lnTo>
                      <a:lnTo>
                        <a:pt x="1586" y="297"/>
                      </a:lnTo>
                      <a:lnTo>
                        <a:pt x="1584" y="305"/>
                      </a:lnTo>
                      <a:lnTo>
                        <a:pt x="1582" y="314"/>
                      </a:lnTo>
                      <a:lnTo>
                        <a:pt x="1578" y="323"/>
                      </a:lnTo>
                      <a:lnTo>
                        <a:pt x="1574" y="330"/>
                      </a:lnTo>
                      <a:lnTo>
                        <a:pt x="1570" y="337"/>
                      </a:lnTo>
                      <a:lnTo>
                        <a:pt x="1570" y="328"/>
                      </a:lnTo>
                      <a:lnTo>
                        <a:pt x="1570" y="319"/>
                      </a:lnTo>
                      <a:lnTo>
                        <a:pt x="1572" y="308"/>
                      </a:lnTo>
                      <a:lnTo>
                        <a:pt x="1574" y="301"/>
                      </a:lnTo>
                      <a:lnTo>
                        <a:pt x="1576" y="292"/>
                      </a:lnTo>
                      <a:lnTo>
                        <a:pt x="1578" y="283"/>
                      </a:lnTo>
                      <a:lnTo>
                        <a:pt x="1580" y="276"/>
                      </a:lnTo>
                      <a:lnTo>
                        <a:pt x="1580" y="267"/>
                      </a:lnTo>
                      <a:lnTo>
                        <a:pt x="1578" y="260"/>
                      </a:lnTo>
                      <a:lnTo>
                        <a:pt x="1572" y="251"/>
                      </a:lnTo>
                      <a:lnTo>
                        <a:pt x="1563" y="263"/>
                      </a:lnTo>
                      <a:lnTo>
                        <a:pt x="1564" y="276"/>
                      </a:lnTo>
                      <a:lnTo>
                        <a:pt x="1564" y="288"/>
                      </a:lnTo>
                      <a:lnTo>
                        <a:pt x="1564" y="301"/>
                      </a:lnTo>
                      <a:lnTo>
                        <a:pt x="1563" y="314"/>
                      </a:lnTo>
                      <a:lnTo>
                        <a:pt x="1561" y="326"/>
                      </a:lnTo>
                      <a:lnTo>
                        <a:pt x="1559" y="339"/>
                      </a:lnTo>
                      <a:lnTo>
                        <a:pt x="1555" y="352"/>
                      </a:lnTo>
                      <a:lnTo>
                        <a:pt x="1551" y="364"/>
                      </a:lnTo>
                      <a:lnTo>
                        <a:pt x="1545" y="375"/>
                      </a:lnTo>
                      <a:lnTo>
                        <a:pt x="1539" y="386"/>
                      </a:lnTo>
                      <a:lnTo>
                        <a:pt x="1539" y="380"/>
                      </a:lnTo>
                      <a:lnTo>
                        <a:pt x="1539" y="371"/>
                      </a:lnTo>
                      <a:lnTo>
                        <a:pt x="1541" y="362"/>
                      </a:lnTo>
                      <a:lnTo>
                        <a:pt x="1541" y="352"/>
                      </a:lnTo>
                      <a:lnTo>
                        <a:pt x="1543" y="341"/>
                      </a:lnTo>
                      <a:lnTo>
                        <a:pt x="1543" y="330"/>
                      </a:lnTo>
                      <a:lnTo>
                        <a:pt x="1543" y="319"/>
                      </a:lnTo>
                      <a:lnTo>
                        <a:pt x="1543" y="308"/>
                      </a:lnTo>
                      <a:lnTo>
                        <a:pt x="1541" y="299"/>
                      </a:lnTo>
                      <a:lnTo>
                        <a:pt x="1537" y="292"/>
                      </a:lnTo>
                      <a:lnTo>
                        <a:pt x="1528" y="299"/>
                      </a:lnTo>
                      <a:lnTo>
                        <a:pt x="1512" y="445"/>
                      </a:lnTo>
                      <a:lnTo>
                        <a:pt x="1508" y="433"/>
                      </a:lnTo>
                      <a:lnTo>
                        <a:pt x="1506" y="418"/>
                      </a:lnTo>
                      <a:lnTo>
                        <a:pt x="1506" y="402"/>
                      </a:lnTo>
                      <a:lnTo>
                        <a:pt x="1506" y="386"/>
                      </a:lnTo>
                      <a:lnTo>
                        <a:pt x="1508" y="370"/>
                      </a:lnTo>
                      <a:lnTo>
                        <a:pt x="1510" y="352"/>
                      </a:lnTo>
                      <a:lnTo>
                        <a:pt x="1510" y="333"/>
                      </a:lnTo>
                      <a:lnTo>
                        <a:pt x="1512" y="317"/>
                      </a:lnTo>
                      <a:lnTo>
                        <a:pt x="1512" y="301"/>
                      </a:lnTo>
                      <a:lnTo>
                        <a:pt x="1510" y="285"/>
                      </a:lnTo>
                      <a:lnTo>
                        <a:pt x="1504" y="285"/>
                      </a:lnTo>
                      <a:lnTo>
                        <a:pt x="1499" y="287"/>
                      </a:lnTo>
                      <a:lnTo>
                        <a:pt x="1495" y="288"/>
                      </a:lnTo>
                      <a:lnTo>
                        <a:pt x="1493" y="292"/>
                      </a:lnTo>
                      <a:lnTo>
                        <a:pt x="1489" y="296"/>
                      </a:lnTo>
                      <a:lnTo>
                        <a:pt x="1487" y="299"/>
                      </a:lnTo>
                      <a:lnTo>
                        <a:pt x="1485" y="305"/>
                      </a:lnTo>
                      <a:lnTo>
                        <a:pt x="1483" y="308"/>
                      </a:lnTo>
                      <a:lnTo>
                        <a:pt x="1481" y="314"/>
                      </a:lnTo>
                      <a:lnTo>
                        <a:pt x="1479" y="317"/>
                      </a:lnTo>
                      <a:lnTo>
                        <a:pt x="1475" y="328"/>
                      </a:lnTo>
                      <a:lnTo>
                        <a:pt x="1472" y="337"/>
                      </a:lnTo>
                      <a:lnTo>
                        <a:pt x="1468" y="346"/>
                      </a:lnTo>
                      <a:lnTo>
                        <a:pt x="1462" y="353"/>
                      </a:lnTo>
                      <a:lnTo>
                        <a:pt x="1454" y="362"/>
                      </a:lnTo>
                      <a:lnTo>
                        <a:pt x="1446" y="370"/>
                      </a:lnTo>
                      <a:lnTo>
                        <a:pt x="1441" y="377"/>
                      </a:lnTo>
                      <a:lnTo>
                        <a:pt x="1431" y="384"/>
                      </a:lnTo>
                      <a:lnTo>
                        <a:pt x="1423" y="391"/>
                      </a:lnTo>
                      <a:lnTo>
                        <a:pt x="1415" y="400"/>
                      </a:lnTo>
                      <a:lnTo>
                        <a:pt x="1415" y="377"/>
                      </a:lnTo>
                      <a:lnTo>
                        <a:pt x="1415" y="352"/>
                      </a:lnTo>
                      <a:lnTo>
                        <a:pt x="1417" y="328"/>
                      </a:lnTo>
                      <a:lnTo>
                        <a:pt x="1421" y="305"/>
                      </a:lnTo>
                      <a:lnTo>
                        <a:pt x="1427" y="281"/>
                      </a:lnTo>
                      <a:lnTo>
                        <a:pt x="1433" y="258"/>
                      </a:lnTo>
                      <a:lnTo>
                        <a:pt x="1441" y="234"/>
                      </a:lnTo>
                      <a:lnTo>
                        <a:pt x="1446" y="213"/>
                      </a:lnTo>
                      <a:lnTo>
                        <a:pt x="1452" y="191"/>
                      </a:lnTo>
                      <a:lnTo>
                        <a:pt x="1456" y="169"/>
                      </a:lnTo>
                      <a:lnTo>
                        <a:pt x="1454" y="164"/>
                      </a:lnTo>
                      <a:lnTo>
                        <a:pt x="1444" y="189"/>
                      </a:lnTo>
                      <a:lnTo>
                        <a:pt x="1435" y="216"/>
                      </a:lnTo>
                      <a:lnTo>
                        <a:pt x="1427" y="243"/>
                      </a:lnTo>
                      <a:lnTo>
                        <a:pt x="1419" y="270"/>
                      </a:lnTo>
                      <a:lnTo>
                        <a:pt x="1411" y="297"/>
                      </a:lnTo>
                      <a:lnTo>
                        <a:pt x="1404" y="326"/>
                      </a:lnTo>
                      <a:lnTo>
                        <a:pt x="1398" y="353"/>
                      </a:lnTo>
                      <a:lnTo>
                        <a:pt x="1394" y="382"/>
                      </a:lnTo>
                      <a:lnTo>
                        <a:pt x="1390" y="411"/>
                      </a:lnTo>
                      <a:lnTo>
                        <a:pt x="1386" y="442"/>
                      </a:lnTo>
                      <a:lnTo>
                        <a:pt x="1384" y="445"/>
                      </a:lnTo>
                      <a:lnTo>
                        <a:pt x="1381" y="449"/>
                      </a:lnTo>
                      <a:lnTo>
                        <a:pt x="1377" y="452"/>
                      </a:lnTo>
                      <a:lnTo>
                        <a:pt x="1373" y="456"/>
                      </a:lnTo>
                      <a:lnTo>
                        <a:pt x="1369" y="460"/>
                      </a:lnTo>
                      <a:lnTo>
                        <a:pt x="1367" y="463"/>
                      </a:lnTo>
                      <a:lnTo>
                        <a:pt x="1365" y="469"/>
                      </a:lnTo>
                      <a:lnTo>
                        <a:pt x="1363" y="472"/>
                      </a:lnTo>
                      <a:lnTo>
                        <a:pt x="1363" y="476"/>
                      </a:lnTo>
                      <a:lnTo>
                        <a:pt x="1363" y="479"/>
                      </a:lnTo>
                      <a:lnTo>
                        <a:pt x="1373" y="479"/>
                      </a:lnTo>
                      <a:lnTo>
                        <a:pt x="1382" y="469"/>
                      </a:lnTo>
                      <a:lnTo>
                        <a:pt x="1390" y="458"/>
                      </a:lnTo>
                      <a:lnTo>
                        <a:pt x="1400" y="447"/>
                      </a:lnTo>
                      <a:lnTo>
                        <a:pt x="1410" y="438"/>
                      </a:lnTo>
                      <a:lnTo>
                        <a:pt x="1419" y="427"/>
                      </a:lnTo>
                      <a:lnTo>
                        <a:pt x="1429" y="416"/>
                      </a:lnTo>
                      <a:lnTo>
                        <a:pt x="1439" y="407"/>
                      </a:lnTo>
                      <a:lnTo>
                        <a:pt x="1448" y="397"/>
                      </a:lnTo>
                      <a:lnTo>
                        <a:pt x="1460" y="388"/>
                      </a:lnTo>
                      <a:lnTo>
                        <a:pt x="1470" y="379"/>
                      </a:lnTo>
                      <a:lnTo>
                        <a:pt x="1468" y="395"/>
                      </a:lnTo>
                      <a:lnTo>
                        <a:pt x="1460" y="409"/>
                      </a:lnTo>
                      <a:lnTo>
                        <a:pt x="1450" y="424"/>
                      </a:lnTo>
                      <a:lnTo>
                        <a:pt x="1441" y="436"/>
                      </a:lnTo>
                      <a:lnTo>
                        <a:pt x="1427" y="449"/>
                      </a:lnTo>
                      <a:lnTo>
                        <a:pt x="1415" y="461"/>
                      </a:lnTo>
                      <a:lnTo>
                        <a:pt x="1404" y="474"/>
                      </a:lnTo>
                      <a:lnTo>
                        <a:pt x="1392" y="487"/>
                      </a:lnTo>
                      <a:lnTo>
                        <a:pt x="1382" y="499"/>
                      </a:lnTo>
                      <a:lnTo>
                        <a:pt x="1377" y="514"/>
                      </a:lnTo>
                      <a:lnTo>
                        <a:pt x="1381" y="521"/>
                      </a:lnTo>
                      <a:lnTo>
                        <a:pt x="1392" y="514"/>
                      </a:lnTo>
                      <a:lnTo>
                        <a:pt x="1402" y="505"/>
                      </a:lnTo>
                      <a:lnTo>
                        <a:pt x="1410" y="498"/>
                      </a:lnTo>
                      <a:lnTo>
                        <a:pt x="1417" y="487"/>
                      </a:lnTo>
                      <a:lnTo>
                        <a:pt x="1425" y="478"/>
                      </a:lnTo>
                      <a:lnTo>
                        <a:pt x="1433" y="467"/>
                      </a:lnTo>
                      <a:lnTo>
                        <a:pt x="1441" y="458"/>
                      </a:lnTo>
                      <a:lnTo>
                        <a:pt x="1448" y="449"/>
                      </a:lnTo>
                      <a:lnTo>
                        <a:pt x="1458" y="440"/>
                      </a:lnTo>
                      <a:lnTo>
                        <a:pt x="1470" y="434"/>
                      </a:lnTo>
                      <a:lnTo>
                        <a:pt x="1475" y="442"/>
                      </a:lnTo>
                      <a:lnTo>
                        <a:pt x="1477" y="447"/>
                      </a:lnTo>
                      <a:lnTo>
                        <a:pt x="1475" y="454"/>
                      </a:lnTo>
                      <a:lnTo>
                        <a:pt x="1473" y="460"/>
                      </a:lnTo>
                      <a:lnTo>
                        <a:pt x="1468" y="465"/>
                      </a:lnTo>
                      <a:lnTo>
                        <a:pt x="1460" y="470"/>
                      </a:lnTo>
                      <a:lnTo>
                        <a:pt x="1452" y="476"/>
                      </a:lnTo>
                      <a:lnTo>
                        <a:pt x="1446" y="481"/>
                      </a:lnTo>
                      <a:lnTo>
                        <a:pt x="1439" y="487"/>
                      </a:lnTo>
                      <a:lnTo>
                        <a:pt x="1433" y="492"/>
                      </a:lnTo>
                      <a:lnTo>
                        <a:pt x="1433" y="494"/>
                      </a:lnTo>
                      <a:lnTo>
                        <a:pt x="1433" y="494"/>
                      </a:lnTo>
                      <a:lnTo>
                        <a:pt x="1433" y="496"/>
                      </a:lnTo>
                      <a:lnTo>
                        <a:pt x="1433" y="496"/>
                      </a:lnTo>
                      <a:lnTo>
                        <a:pt x="1435" y="498"/>
                      </a:lnTo>
                      <a:lnTo>
                        <a:pt x="1435" y="498"/>
                      </a:lnTo>
                      <a:lnTo>
                        <a:pt x="1437" y="499"/>
                      </a:lnTo>
                      <a:lnTo>
                        <a:pt x="1437" y="499"/>
                      </a:lnTo>
                      <a:lnTo>
                        <a:pt x="1437" y="501"/>
                      </a:lnTo>
                      <a:lnTo>
                        <a:pt x="1439" y="503"/>
                      </a:lnTo>
                      <a:lnTo>
                        <a:pt x="1442" y="501"/>
                      </a:lnTo>
                      <a:lnTo>
                        <a:pt x="1446" y="501"/>
                      </a:lnTo>
                      <a:lnTo>
                        <a:pt x="1450" y="499"/>
                      </a:lnTo>
                      <a:lnTo>
                        <a:pt x="1454" y="496"/>
                      </a:lnTo>
                      <a:lnTo>
                        <a:pt x="1458" y="494"/>
                      </a:lnTo>
                      <a:lnTo>
                        <a:pt x="1462" y="490"/>
                      </a:lnTo>
                      <a:lnTo>
                        <a:pt x="1464" y="487"/>
                      </a:lnTo>
                      <a:lnTo>
                        <a:pt x="1468" y="483"/>
                      </a:lnTo>
                      <a:lnTo>
                        <a:pt x="1472" y="479"/>
                      </a:lnTo>
                      <a:lnTo>
                        <a:pt x="1477" y="478"/>
                      </a:lnTo>
                      <a:lnTo>
                        <a:pt x="1477" y="469"/>
                      </a:lnTo>
                      <a:lnTo>
                        <a:pt x="1547" y="838"/>
                      </a:lnTo>
                      <a:lnTo>
                        <a:pt x="1535" y="854"/>
                      </a:lnTo>
                      <a:lnTo>
                        <a:pt x="1524" y="872"/>
                      </a:lnTo>
                      <a:lnTo>
                        <a:pt x="1514" y="889"/>
                      </a:lnTo>
                      <a:lnTo>
                        <a:pt x="1503" y="907"/>
                      </a:lnTo>
                      <a:lnTo>
                        <a:pt x="1491" y="925"/>
                      </a:lnTo>
                      <a:lnTo>
                        <a:pt x="1479" y="941"/>
                      </a:lnTo>
                      <a:lnTo>
                        <a:pt x="1468" y="957"/>
                      </a:lnTo>
                      <a:lnTo>
                        <a:pt x="1452" y="972"/>
                      </a:lnTo>
                      <a:lnTo>
                        <a:pt x="1437" y="984"/>
                      </a:lnTo>
                      <a:lnTo>
                        <a:pt x="1417" y="995"/>
                      </a:lnTo>
                      <a:lnTo>
                        <a:pt x="1450" y="950"/>
                      </a:lnTo>
                      <a:lnTo>
                        <a:pt x="1442" y="950"/>
                      </a:lnTo>
                      <a:lnTo>
                        <a:pt x="1435" y="952"/>
                      </a:lnTo>
                      <a:lnTo>
                        <a:pt x="1427" y="957"/>
                      </a:lnTo>
                      <a:lnTo>
                        <a:pt x="1417" y="963"/>
                      </a:lnTo>
                      <a:lnTo>
                        <a:pt x="1410" y="968"/>
                      </a:lnTo>
                      <a:lnTo>
                        <a:pt x="1402" y="975"/>
                      </a:lnTo>
                      <a:lnTo>
                        <a:pt x="1394" y="982"/>
                      </a:lnTo>
                      <a:lnTo>
                        <a:pt x="1386" y="990"/>
                      </a:lnTo>
                      <a:lnTo>
                        <a:pt x="1379" y="995"/>
                      </a:lnTo>
                      <a:lnTo>
                        <a:pt x="1371" y="1000"/>
                      </a:lnTo>
                      <a:lnTo>
                        <a:pt x="1371" y="1002"/>
                      </a:lnTo>
                      <a:lnTo>
                        <a:pt x="1373" y="1004"/>
                      </a:lnTo>
                      <a:lnTo>
                        <a:pt x="1373" y="1006"/>
                      </a:lnTo>
                      <a:lnTo>
                        <a:pt x="1375" y="1008"/>
                      </a:lnTo>
                      <a:lnTo>
                        <a:pt x="1375" y="1009"/>
                      </a:lnTo>
                      <a:lnTo>
                        <a:pt x="1377" y="1009"/>
                      </a:lnTo>
                      <a:lnTo>
                        <a:pt x="1377" y="1011"/>
                      </a:lnTo>
                      <a:lnTo>
                        <a:pt x="1377" y="1013"/>
                      </a:lnTo>
                      <a:lnTo>
                        <a:pt x="1377" y="1017"/>
                      </a:lnTo>
                      <a:lnTo>
                        <a:pt x="1375" y="1018"/>
                      </a:lnTo>
                      <a:lnTo>
                        <a:pt x="1379" y="1020"/>
                      </a:lnTo>
                      <a:lnTo>
                        <a:pt x="1382" y="1020"/>
                      </a:lnTo>
                      <a:lnTo>
                        <a:pt x="1384" y="1020"/>
                      </a:lnTo>
                      <a:lnTo>
                        <a:pt x="1388" y="1020"/>
                      </a:lnTo>
                      <a:lnTo>
                        <a:pt x="1392" y="1018"/>
                      </a:lnTo>
                      <a:lnTo>
                        <a:pt x="1396" y="1017"/>
                      </a:lnTo>
                      <a:lnTo>
                        <a:pt x="1400" y="1015"/>
                      </a:lnTo>
                      <a:lnTo>
                        <a:pt x="1404" y="1011"/>
                      </a:lnTo>
                      <a:lnTo>
                        <a:pt x="1406" y="1009"/>
                      </a:lnTo>
                      <a:lnTo>
                        <a:pt x="1410" y="1006"/>
                      </a:lnTo>
                      <a:lnTo>
                        <a:pt x="1408" y="1008"/>
                      </a:lnTo>
                      <a:lnTo>
                        <a:pt x="1408" y="1011"/>
                      </a:lnTo>
                      <a:lnTo>
                        <a:pt x="1406" y="1013"/>
                      </a:lnTo>
                      <a:lnTo>
                        <a:pt x="1406" y="1015"/>
                      </a:lnTo>
                      <a:lnTo>
                        <a:pt x="1404" y="1017"/>
                      </a:lnTo>
                      <a:lnTo>
                        <a:pt x="1404" y="1018"/>
                      </a:lnTo>
                      <a:lnTo>
                        <a:pt x="1404" y="1020"/>
                      </a:lnTo>
                      <a:lnTo>
                        <a:pt x="1402" y="1024"/>
                      </a:lnTo>
                      <a:lnTo>
                        <a:pt x="1402" y="1026"/>
                      </a:lnTo>
                      <a:lnTo>
                        <a:pt x="1402" y="1028"/>
                      </a:lnTo>
                      <a:lnTo>
                        <a:pt x="1402" y="1029"/>
                      </a:lnTo>
                      <a:lnTo>
                        <a:pt x="1404" y="1031"/>
                      </a:lnTo>
                      <a:lnTo>
                        <a:pt x="1406" y="1031"/>
                      </a:lnTo>
                      <a:lnTo>
                        <a:pt x="1406" y="1033"/>
                      </a:lnTo>
                      <a:lnTo>
                        <a:pt x="1408" y="1033"/>
                      </a:lnTo>
                      <a:lnTo>
                        <a:pt x="1410" y="1033"/>
                      </a:lnTo>
                      <a:lnTo>
                        <a:pt x="1411" y="1033"/>
                      </a:lnTo>
                      <a:lnTo>
                        <a:pt x="1413" y="1033"/>
                      </a:lnTo>
                      <a:lnTo>
                        <a:pt x="1413" y="1033"/>
                      </a:lnTo>
                      <a:lnTo>
                        <a:pt x="1415" y="1033"/>
                      </a:lnTo>
                      <a:lnTo>
                        <a:pt x="1410" y="1047"/>
                      </a:lnTo>
                      <a:lnTo>
                        <a:pt x="1406" y="1060"/>
                      </a:lnTo>
                      <a:lnTo>
                        <a:pt x="1404" y="1073"/>
                      </a:lnTo>
                      <a:lnTo>
                        <a:pt x="1400" y="1085"/>
                      </a:lnTo>
                      <a:lnTo>
                        <a:pt x="1396" y="1098"/>
                      </a:lnTo>
                      <a:lnTo>
                        <a:pt x="1392" y="1109"/>
                      </a:lnTo>
                      <a:lnTo>
                        <a:pt x="1386" y="1119"/>
                      </a:lnTo>
                      <a:lnTo>
                        <a:pt x="1379" y="1128"/>
                      </a:lnTo>
                      <a:lnTo>
                        <a:pt x="1369" y="1136"/>
                      </a:lnTo>
                      <a:lnTo>
                        <a:pt x="1357" y="1143"/>
                      </a:lnTo>
                      <a:lnTo>
                        <a:pt x="1353" y="1145"/>
                      </a:lnTo>
                      <a:lnTo>
                        <a:pt x="1351" y="1146"/>
                      </a:lnTo>
                      <a:lnTo>
                        <a:pt x="1350" y="1148"/>
                      </a:lnTo>
                      <a:lnTo>
                        <a:pt x="1346" y="1150"/>
                      </a:lnTo>
                      <a:lnTo>
                        <a:pt x="1344" y="1152"/>
                      </a:lnTo>
                      <a:lnTo>
                        <a:pt x="1342" y="1156"/>
                      </a:lnTo>
                      <a:lnTo>
                        <a:pt x="1340" y="1157"/>
                      </a:lnTo>
                      <a:lnTo>
                        <a:pt x="1340" y="1161"/>
                      </a:lnTo>
                      <a:lnTo>
                        <a:pt x="1340" y="1165"/>
                      </a:lnTo>
                      <a:lnTo>
                        <a:pt x="1342" y="1168"/>
                      </a:lnTo>
                      <a:lnTo>
                        <a:pt x="1342" y="1170"/>
                      </a:lnTo>
                      <a:lnTo>
                        <a:pt x="1342" y="1170"/>
                      </a:lnTo>
                      <a:lnTo>
                        <a:pt x="1344" y="1172"/>
                      </a:lnTo>
                      <a:lnTo>
                        <a:pt x="1346" y="1172"/>
                      </a:lnTo>
                      <a:lnTo>
                        <a:pt x="1348" y="1172"/>
                      </a:lnTo>
                      <a:lnTo>
                        <a:pt x="1348" y="1172"/>
                      </a:lnTo>
                      <a:lnTo>
                        <a:pt x="1350" y="1172"/>
                      </a:lnTo>
                      <a:lnTo>
                        <a:pt x="1351" y="1172"/>
                      </a:lnTo>
                      <a:lnTo>
                        <a:pt x="1353" y="1172"/>
                      </a:lnTo>
                      <a:lnTo>
                        <a:pt x="1353" y="1172"/>
                      </a:lnTo>
                      <a:lnTo>
                        <a:pt x="1353" y="1175"/>
                      </a:lnTo>
                      <a:lnTo>
                        <a:pt x="1353" y="1179"/>
                      </a:lnTo>
                      <a:lnTo>
                        <a:pt x="1353" y="1181"/>
                      </a:lnTo>
                      <a:lnTo>
                        <a:pt x="1353" y="1184"/>
                      </a:lnTo>
                      <a:lnTo>
                        <a:pt x="1353" y="1186"/>
                      </a:lnTo>
                      <a:lnTo>
                        <a:pt x="1353" y="1190"/>
                      </a:lnTo>
                      <a:lnTo>
                        <a:pt x="1355" y="1192"/>
                      </a:lnTo>
                      <a:lnTo>
                        <a:pt x="1357" y="1193"/>
                      </a:lnTo>
                      <a:lnTo>
                        <a:pt x="1359" y="1197"/>
                      </a:lnTo>
                      <a:lnTo>
                        <a:pt x="1361" y="1199"/>
                      </a:lnTo>
                      <a:lnTo>
                        <a:pt x="1363" y="1199"/>
                      </a:lnTo>
                      <a:lnTo>
                        <a:pt x="1363" y="1199"/>
                      </a:lnTo>
                      <a:lnTo>
                        <a:pt x="1365" y="1199"/>
                      </a:lnTo>
                      <a:lnTo>
                        <a:pt x="1367" y="1199"/>
                      </a:lnTo>
                      <a:lnTo>
                        <a:pt x="1369" y="1199"/>
                      </a:lnTo>
                      <a:lnTo>
                        <a:pt x="1371" y="1199"/>
                      </a:lnTo>
                      <a:lnTo>
                        <a:pt x="1373" y="1201"/>
                      </a:lnTo>
                      <a:lnTo>
                        <a:pt x="1375" y="1201"/>
                      </a:lnTo>
                      <a:lnTo>
                        <a:pt x="1377" y="1202"/>
                      </a:lnTo>
                      <a:lnTo>
                        <a:pt x="1377" y="1204"/>
                      </a:lnTo>
                      <a:lnTo>
                        <a:pt x="1377" y="1206"/>
                      </a:lnTo>
                      <a:lnTo>
                        <a:pt x="1379" y="1208"/>
                      </a:lnTo>
                      <a:lnTo>
                        <a:pt x="1379" y="1210"/>
                      </a:lnTo>
                      <a:lnTo>
                        <a:pt x="1379" y="1213"/>
                      </a:lnTo>
                      <a:lnTo>
                        <a:pt x="1379" y="1215"/>
                      </a:lnTo>
                      <a:lnTo>
                        <a:pt x="1381" y="1219"/>
                      </a:lnTo>
                      <a:lnTo>
                        <a:pt x="1381" y="1220"/>
                      </a:lnTo>
                      <a:lnTo>
                        <a:pt x="1381" y="1222"/>
                      </a:lnTo>
                      <a:lnTo>
                        <a:pt x="1381" y="1224"/>
                      </a:lnTo>
                      <a:lnTo>
                        <a:pt x="1381" y="1224"/>
                      </a:lnTo>
                      <a:lnTo>
                        <a:pt x="1381" y="122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749640" y="216864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765120" y="2176560"/>
                  <a:ext cx="16920" cy="22320"/>
                </a:xfrm>
                <a:custGeom>
                  <a:avLst/>
                  <a:gdLst/>
                  <a:ahLst/>
                  <a:rect l="l" t="t" r="r" b="b"/>
                  <a:pathLst>
                    <a:path w="25" h="29">
                      <a:moveTo>
                        <a:pt x="25" y="5"/>
                      </a:moveTo>
                      <a:lnTo>
                        <a:pt x="23" y="9"/>
                      </a:lnTo>
                      <a:lnTo>
                        <a:pt x="21" y="11"/>
                      </a:lnTo>
                      <a:lnTo>
                        <a:pt x="19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3"/>
                      </a:lnTo>
                      <a:lnTo>
                        <a:pt x="11" y="25"/>
                      </a:lnTo>
                      <a:lnTo>
                        <a:pt x="7" y="27"/>
                      </a:lnTo>
                      <a:lnTo>
                        <a:pt x="3" y="29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2" y="18"/>
                      </a:lnTo>
                      <a:lnTo>
                        <a:pt x="3" y="13"/>
                      </a:lnTo>
                      <a:lnTo>
                        <a:pt x="5" y="7"/>
                      </a:lnTo>
                      <a:lnTo>
                        <a:pt x="7" y="4"/>
                      </a:lnTo>
                      <a:lnTo>
                        <a:pt x="11" y="2"/>
                      </a:lnTo>
                      <a:lnTo>
                        <a:pt x="15" y="0"/>
                      </a:lnTo>
                      <a:lnTo>
                        <a:pt x="21" y="2"/>
                      </a:lnTo>
                      <a:lnTo>
                        <a:pt x="25" y="5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138720" y="2133720"/>
                  <a:ext cx="18360" cy="2232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0" y="0"/>
                      </a:moveTo>
                      <a:lnTo>
                        <a:pt x="26" y="29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045120" y="213048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69" h="67">
                      <a:moveTo>
                        <a:pt x="67" y="65"/>
                      </a:moveTo>
                      <a:lnTo>
                        <a:pt x="62" y="62"/>
                      </a:lnTo>
                      <a:lnTo>
                        <a:pt x="52" y="54"/>
                      </a:lnTo>
                      <a:lnTo>
                        <a:pt x="44" y="49"/>
                      </a:lnTo>
                      <a:lnTo>
                        <a:pt x="36" y="42"/>
                      </a:lnTo>
                      <a:lnTo>
                        <a:pt x="29" y="35"/>
                      </a:lnTo>
                      <a:lnTo>
                        <a:pt x="21" y="29"/>
                      </a:lnTo>
                      <a:lnTo>
                        <a:pt x="13" y="22"/>
                      </a:lnTo>
                      <a:lnTo>
                        <a:pt x="7" y="15"/>
                      </a:lnTo>
                      <a:lnTo>
                        <a:pt x="3" y="8"/>
                      </a:lnTo>
                      <a:lnTo>
                        <a:pt x="0" y="0"/>
                      </a:lnTo>
                      <a:lnTo>
                        <a:pt x="5" y="9"/>
                      </a:lnTo>
                      <a:lnTo>
                        <a:pt x="11" y="17"/>
                      </a:lnTo>
                      <a:lnTo>
                        <a:pt x="17" y="24"/>
                      </a:lnTo>
                      <a:lnTo>
                        <a:pt x="25" y="31"/>
                      </a:lnTo>
                      <a:lnTo>
                        <a:pt x="33" y="36"/>
                      </a:lnTo>
                      <a:lnTo>
                        <a:pt x="40" y="42"/>
                      </a:lnTo>
                      <a:lnTo>
                        <a:pt x="48" y="49"/>
                      </a:lnTo>
                      <a:lnTo>
                        <a:pt x="56" y="54"/>
                      </a:lnTo>
                      <a:lnTo>
                        <a:pt x="64" y="60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7" y="6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454080" y="2160720"/>
                  <a:ext cx="24120" cy="3240"/>
                </a:xfrm>
                <a:custGeom>
                  <a:avLst/>
                  <a:gdLst/>
                  <a:ahLst/>
                  <a:rect l="l" t="t" r="r" b="b"/>
                  <a:pathLst>
                    <a:path w="35" h="4">
                      <a:moveTo>
                        <a:pt x="0" y="2"/>
                      </a:moveTo>
                      <a:lnTo>
                        <a:pt x="11" y="0"/>
                      </a:lnTo>
                      <a:lnTo>
                        <a:pt x="35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763680" y="2184480"/>
                  <a:ext cx="50040" cy="42840"/>
                </a:xfrm>
                <a:custGeom>
                  <a:avLst/>
                  <a:gdLst/>
                  <a:ahLst/>
                  <a:rect l="l" t="t" r="r" b="b"/>
                  <a:pathLst>
                    <a:path w="69" h="52">
                      <a:moveTo>
                        <a:pt x="69" y="0"/>
                      </a:moveTo>
                      <a:lnTo>
                        <a:pt x="64" y="9"/>
                      </a:lnTo>
                      <a:lnTo>
                        <a:pt x="58" y="14"/>
                      </a:lnTo>
                      <a:lnTo>
                        <a:pt x="52" y="21"/>
                      </a:lnTo>
                      <a:lnTo>
                        <a:pt x="44" y="27"/>
                      </a:lnTo>
                      <a:lnTo>
                        <a:pt x="36" y="30"/>
                      </a:lnTo>
                      <a:lnTo>
                        <a:pt x="29" y="36"/>
                      </a:lnTo>
                      <a:lnTo>
                        <a:pt x="23" y="41"/>
                      </a:lnTo>
                      <a:lnTo>
                        <a:pt x="15" y="45"/>
                      </a:lnTo>
                      <a:lnTo>
                        <a:pt x="7" y="48"/>
                      </a:lnTo>
                      <a:lnTo>
                        <a:pt x="0" y="52"/>
                      </a:lnTo>
                      <a:lnTo>
                        <a:pt x="4" y="47"/>
                      </a:lnTo>
                      <a:lnTo>
                        <a:pt x="9" y="39"/>
                      </a:lnTo>
                      <a:lnTo>
                        <a:pt x="15" y="34"/>
                      </a:lnTo>
                      <a:lnTo>
                        <a:pt x="21" y="27"/>
                      </a:lnTo>
                      <a:lnTo>
                        <a:pt x="29" y="21"/>
                      </a:lnTo>
                      <a:lnTo>
                        <a:pt x="36" y="14"/>
                      </a:lnTo>
                      <a:lnTo>
                        <a:pt x="44" y="11"/>
                      </a:lnTo>
                      <a:lnTo>
                        <a:pt x="52" y="5"/>
                      </a:lnTo>
                      <a:lnTo>
                        <a:pt x="62" y="3"/>
                      </a:lnTo>
                      <a:lnTo>
                        <a:pt x="69" y="2"/>
                      </a:lnTo>
                      <a:lnTo>
                        <a:pt x="69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464800" y="2092320"/>
                  <a:ext cx="9720" cy="176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16" y="21"/>
                      </a:moveTo>
                      <a:lnTo>
                        <a:pt x="0" y="0"/>
                      </a:lnTo>
                      <a:lnTo>
                        <a:pt x="8" y="14"/>
                      </a:lnTo>
                      <a:lnTo>
                        <a:pt x="16" y="21"/>
                      </a:lnTo>
                      <a:lnTo>
                        <a:pt x="16" y="2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48320" y="2171880"/>
                  <a:ext cx="71280" cy="15840"/>
                </a:xfrm>
                <a:custGeom>
                  <a:avLst/>
                  <a:gdLst/>
                  <a:ahLst/>
                  <a:rect l="l" t="t" r="r" b="b"/>
                  <a:pathLst>
                    <a:path w="101" h="19">
                      <a:moveTo>
                        <a:pt x="101" y="0"/>
                      </a:moveTo>
                      <a:lnTo>
                        <a:pt x="91" y="1"/>
                      </a:lnTo>
                      <a:lnTo>
                        <a:pt x="81" y="3"/>
                      </a:lnTo>
                      <a:lnTo>
                        <a:pt x="72" y="5"/>
                      </a:lnTo>
                      <a:lnTo>
                        <a:pt x="62" y="7"/>
                      </a:lnTo>
                      <a:lnTo>
                        <a:pt x="52" y="10"/>
                      </a:lnTo>
                      <a:lnTo>
                        <a:pt x="43" y="12"/>
                      </a:lnTo>
                      <a:lnTo>
                        <a:pt x="35" y="14"/>
                      </a:lnTo>
                      <a:lnTo>
                        <a:pt x="27" y="18"/>
                      </a:lnTo>
                      <a:lnTo>
                        <a:pt x="21" y="18"/>
                      </a:lnTo>
                      <a:lnTo>
                        <a:pt x="16" y="19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0" y="19"/>
                      </a:lnTo>
                      <a:lnTo>
                        <a:pt x="8" y="19"/>
                      </a:lnTo>
                      <a:lnTo>
                        <a:pt x="6" y="19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2" y="16"/>
                      </a:lnTo>
                      <a:lnTo>
                        <a:pt x="0" y="16"/>
                      </a:lnTo>
                      <a:lnTo>
                        <a:pt x="12" y="14"/>
                      </a:lnTo>
                      <a:lnTo>
                        <a:pt x="21" y="10"/>
                      </a:lnTo>
                      <a:lnTo>
                        <a:pt x="31" y="9"/>
                      </a:lnTo>
                      <a:lnTo>
                        <a:pt x="41" y="7"/>
                      </a:lnTo>
                      <a:lnTo>
                        <a:pt x="50" y="5"/>
                      </a:lnTo>
                      <a:lnTo>
                        <a:pt x="60" y="3"/>
                      </a:lnTo>
                      <a:lnTo>
                        <a:pt x="70" y="1"/>
                      </a:lnTo>
                      <a:lnTo>
                        <a:pt x="81" y="0"/>
                      </a:lnTo>
                      <a:lnTo>
                        <a:pt x="91" y="0"/>
                      </a:lnTo>
                      <a:lnTo>
                        <a:pt x="101" y="0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527160" y="2178000"/>
                  <a:ext cx="75960" cy="7776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107" y="0"/>
                      </a:moveTo>
                      <a:lnTo>
                        <a:pt x="0" y="97"/>
                      </a:lnTo>
                      <a:lnTo>
                        <a:pt x="107" y="0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5602320" y="2136960"/>
                <a:ext cx="2009520" cy="2338200"/>
                <a:chOff x="5602320" y="2136960"/>
                <a:chExt cx="2009520" cy="23382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928840" y="2136960"/>
                  <a:ext cx="29880" cy="396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37" y="48"/>
                      </a:moveTo>
                      <a:lnTo>
                        <a:pt x="0" y="0"/>
                      </a:lnTo>
                      <a:lnTo>
                        <a:pt x="43" y="46"/>
                      </a:lnTo>
                      <a:lnTo>
                        <a:pt x="37" y="50"/>
                      </a:lnTo>
                      <a:lnTo>
                        <a:pt x="37" y="50"/>
                      </a:lnTo>
                      <a:lnTo>
                        <a:pt x="37" y="48"/>
                      </a:lnTo>
                      <a:close/>
                    </a:path>
                  </a:pathLst>
                </a:custGeom>
                <a:solidFill>
                  <a:srgbClr val="99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083000" y="2222640"/>
                  <a:ext cx="19800" cy="2052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0"/>
                      </a:moveTo>
                      <a:lnTo>
                        <a:pt x="27" y="27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651720" y="2193840"/>
                  <a:ext cx="2880" cy="16200"/>
                </a:xfrm>
                <a:custGeom>
                  <a:avLst/>
                  <a:gdLst/>
                  <a:ahLst/>
                  <a:rect l="l" t="t" r="r" b="b"/>
                  <a:pathLst>
                    <a:path w="4" h="19">
                      <a:moveTo>
                        <a:pt x="0" y="0"/>
                      </a:moveTo>
                      <a:lnTo>
                        <a:pt x="4" y="1"/>
                      </a:lnTo>
                      <a:lnTo>
                        <a:pt x="4" y="19"/>
                      </a:lnTo>
                      <a:lnTo>
                        <a:pt x="0" y="19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776920" y="2141640"/>
                  <a:ext cx="6840" cy="2232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8" y="9"/>
                      </a:moveTo>
                      <a:lnTo>
                        <a:pt x="8" y="11"/>
                      </a:lnTo>
                      <a:lnTo>
                        <a:pt x="8" y="12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8"/>
                      </a:lnTo>
                      <a:lnTo>
                        <a:pt x="8" y="20"/>
                      </a:lnTo>
                      <a:lnTo>
                        <a:pt x="8" y="23"/>
                      </a:lnTo>
                      <a:lnTo>
                        <a:pt x="6" y="23"/>
                      </a:lnTo>
                      <a:lnTo>
                        <a:pt x="4" y="25"/>
                      </a:lnTo>
                      <a:lnTo>
                        <a:pt x="2" y="27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402240" y="2187720"/>
                  <a:ext cx="6840" cy="2232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8" y="26"/>
                      </a:moveTo>
                      <a:lnTo>
                        <a:pt x="0" y="0"/>
                      </a:lnTo>
                      <a:lnTo>
                        <a:pt x="10" y="15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641640" y="2205000"/>
                  <a:ext cx="3960" cy="22320"/>
                </a:xfrm>
                <a:custGeom>
                  <a:avLst/>
                  <a:gdLst/>
                  <a:ahLst/>
                  <a:rect l="l" t="t" r="r" b="b"/>
                  <a:pathLst>
                    <a:path w="6" h="2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4" y="29"/>
                      </a:lnTo>
                      <a:lnTo>
                        <a:pt x="0" y="29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453720" y="2198880"/>
                  <a:ext cx="18720" cy="74520"/>
                </a:xfrm>
                <a:custGeom>
                  <a:avLst/>
                  <a:gdLst/>
                  <a:ahLst/>
                  <a:rect l="l" t="t" r="r" b="b"/>
                  <a:pathLst>
                    <a:path w="25" h="94">
                      <a:moveTo>
                        <a:pt x="0" y="94"/>
                      </a:moveTo>
                      <a:lnTo>
                        <a:pt x="0" y="83"/>
                      </a:lnTo>
                      <a:lnTo>
                        <a:pt x="2" y="74"/>
                      </a:lnTo>
                      <a:lnTo>
                        <a:pt x="4" y="63"/>
                      </a:lnTo>
                      <a:lnTo>
                        <a:pt x="8" y="54"/>
                      </a:lnTo>
                      <a:lnTo>
                        <a:pt x="11" y="45"/>
                      </a:lnTo>
                      <a:lnTo>
                        <a:pt x="15" y="36"/>
                      </a:lnTo>
                      <a:lnTo>
                        <a:pt x="17" y="29"/>
                      </a:lnTo>
                      <a:lnTo>
                        <a:pt x="21" y="18"/>
                      </a:lnTo>
                      <a:lnTo>
                        <a:pt x="23" y="9"/>
                      </a:lnTo>
                      <a:lnTo>
                        <a:pt x="25" y="0"/>
                      </a:lnTo>
                      <a:lnTo>
                        <a:pt x="0" y="94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802200" y="2227320"/>
                  <a:ext cx="5400" cy="1116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6" y="15"/>
                      </a:lnTo>
                      <a:lnTo>
                        <a:pt x="0" y="13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52280" y="2203560"/>
                  <a:ext cx="5400" cy="23760"/>
                </a:xfrm>
                <a:custGeom>
                  <a:avLst/>
                  <a:gdLst/>
                  <a:ahLst/>
                  <a:rect l="l" t="t" r="r" b="b"/>
                  <a:pathLst>
                    <a:path w="8" h="29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6" y="29"/>
                      </a:lnTo>
                      <a:lnTo>
                        <a:pt x="0" y="29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059520" y="2181240"/>
                  <a:ext cx="15480" cy="14400"/>
                </a:xfrm>
                <a:custGeom>
                  <a:avLst/>
                  <a:gdLst/>
                  <a:ahLst/>
                  <a:rect l="l" t="t" r="r" b="b"/>
                  <a:pathLst>
                    <a:path w="21" h="18">
                      <a:moveTo>
                        <a:pt x="21" y="17"/>
                      </a:moveTo>
                      <a:lnTo>
                        <a:pt x="0" y="0"/>
                      </a:lnTo>
                      <a:lnTo>
                        <a:pt x="14" y="8"/>
                      </a:lnTo>
                      <a:lnTo>
                        <a:pt x="21" y="18"/>
                      </a:lnTo>
                      <a:lnTo>
                        <a:pt x="21" y="18"/>
                      </a:lnTo>
                      <a:lnTo>
                        <a:pt x="21" y="1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14280" y="2222640"/>
                  <a:ext cx="15840" cy="46080"/>
                </a:xfrm>
                <a:custGeom>
                  <a:avLst/>
                  <a:gdLst/>
                  <a:ahLst/>
                  <a:rect l="l" t="t" r="r" b="b"/>
                  <a:pathLst>
                    <a:path w="22" h="57">
                      <a:moveTo>
                        <a:pt x="18" y="45"/>
                      </a:moveTo>
                      <a:lnTo>
                        <a:pt x="4" y="57"/>
                      </a:lnTo>
                      <a:lnTo>
                        <a:pt x="2" y="52"/>
                      </a:lnTo>
                      <a:lnTo>
                        <a:pt x="2" y="47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0" y="20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1"/>
                      </a:lnTo>
                      <a:lnTo>
                        <a:pt x="18" y="0"/>
                      </a:lnTo>
                      <a:lnTo>
                        <a:pt x="20" y="3"/>
                      </a:lnTo>
                      <a:lnTo>
                        <a:pt x="20" y="7"/>
                      </a:lnTo>
                      <a:lnTo>
                        <a:pt x="22" y="12"/>
                      </a:lnTo>
                      <a:lnTo>
                        <a:pt x="22" y="16"/>
                      </a:lnTo>
                      <a:lnTo>
                        <a:pt x="22" y="21"/>
                      </a:lnTo>
                      <a:lnTo>
                        <a:pt x="20" y="27"/>
                      </a:lnTo>
                      <a:lnTo>
                        <a:pt x="20" y="30"/>
                      </a:lnTo>
                      <a:lnTo>
                        <a:pt x="20" y="36"/>
                      </a:lnTo>
                      <a:lnTo>
                        <a:pt x="18" y="41"/>
                      </a:lnTo>
                      <a:lnTo>
                        <a:pt x="18" y="47"/>
                      </a:lnTo>
                      <a:lnTo>
                        <a:pt x="18" y="47"/>
                      </a:lnTo>
                      <a:lnTo>
                        <a:pt x="18" y="45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97440" y="2227320"/>
                  <a:ext cx="22680" cy="3636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0" y="45"/>
                      </a:moveTo>
                      <a:lnTo>
                        <a:pt x="31" y="0"/>
                      </a:lnTo>
                      <a:lnTo>
                        <a:pt x="19" y="29"/>
                      </a:lnTo>
                      <a:lnTo>
                        <a:pt x="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984640" y="2185920"/>
                  <a:ext cx="196200" cy="339840"/>
                </a:xfrm>
                <a:custGeom>
                  <a:avLst/>
                  <a:gdLst/>
                  <a:ahLst/>
                  <a:rect l="l" t="t" r="r" b="b"/>
                  <a:pathLst>
                    <a:path w="275" h="427">
                      <a:moveTo>
                        <a:pt x="241" y="30"/>
                      </a:moveTo>
                      <a:lnTo>
                        <a:pt x="225" y="45"/>
                      </a:lnTo>
                      <a:lnTo>
                        <a:pt x="206" y="59"/>
                      </a:lnTo>
                      <a:lnTo>
                        <a:pt x="188" y="74"/>
                      </a:lnTo>
                      <a:lnTo>
                        <a:pt x="169" y="88"/>
                      </a:lnTo>
                      <a:lnTo>
                        <a:pt x="150" y="104"/>
                      </a:lnTo>
                      <a:lnTo>
                        <a:pt x="130" y="119"/>
                      </a:lnTo>
                      <a:lnTo>
                        <a:pt x="113" y="135"/>
                      </a:lnTo>
                      <a:lnTo>
                        <a:pt x="97" y="151"/>
                      </a:lnTo>
                      <a:lnTo>
                        <a:pt x="84" y="169"/>
                      </a:lnTo>
                      <a:lnTo>
                        <a:pt x="70" y="189"/>
                      </a:lnTo>
                      <a:lnTo>
                        <a:pt x="74" y="192"/>
                      </a:lnTo>
                      <a:lnTo>
                        <a:pt x="169" y="111"/>
                      </a:lnTo>
                      <a:lnTo>
                        <a:pt x="169" y="126"/>
                      </a:lnTo>
                      <a:lnTo>
                        <a:pt x="153" y="142"/>
                      </a:lnTo>
                      <a:lnTo>
                        <a:pt x="138" y="158"/>
                      </a:lnTo>
                      <a:lnTo>
                        <a:pt x="122" y="173"/>
                      </a:lnTo>
                      <a:lnTo>
                        <a:pt x="107" y="189"/>
                      </a:lnTo>
                      <a:lnTo>
                        <a:pt x="93" y="205"/>
                      </a:lnTo>
                      <a:lnTo>
                        <a:pt x="80" y="221"/>
                      </a:lnTo>
                      <a:lnTo>
                        <a:pt x="68" y="238"/>
                      </a:lnTo>
                      <a:lnTo>
                        <a:pt x="57" y="256"/>
                      </a:lnTo>
                      <a:lnTo>
                        <a:pt x="49" y="274"/>
                      </a:lnTo>
                      <a:lnTo>
                        <a:pt x="43" y="292"/>
                      </a:lnTo>
                      <a:lnTo>
                        <a:pt x="57" y="272"/>
                      </a:lnTo>
                      <a:lnTo>
                        <a:pt x="72" y="252"/>
                      </a:lnTo>
                      <a:lnTo>
                        <a:pt x="86" y="232"/>
                      </a:lnTo>
                      <a:lnTo>
                        <a:pt x="103" y="212"/>
                      </a:lnTo>
                      <a:lnTo>
                        <a:pt x="119" y="192"/>
                      </a:lnTo>
                      <a:lnTo>
                        <a:pt x="136" y="174"/>
                      </a:lnTo>
                      <a:lnTo>
                        <a:pt x="155" y="156"/>
                      </a:lnTo>
                      <a:lnTo>
                        <a:pt x="175" y="140"/>
                      </a:lnTo>
                      <a:lnTo>
                        <a:pt x="194" y="124"/>
                      </a:lnTo>
                      <a:lnTo>
                        <a:pt x="217" y="108"/>
                      </a:lnTo>
                      <a:lnTo>
                        <a:pt x="215" y="113"/>
                      </a:lnTo>
                      <a:lnTo>
                        <a:pt x="213" y="119"/>
                      </a:lnTo>
                      <a:lnTo>
                        <a:pt x="211" y="126"/>
                      </a:lnTo>
                      <a:lnTo>
                        <a:pt x="208" y="135"/>
                      </a:lnTo>
                      <a:lnTo>
                        <a:pt x="204" y="144"/>
                      </a:lnTo>
                      <a:lnTo>
                        <a:pt x="200" y="155"/>
                      </a:lnTo>
                      <a:lnTo>
                        <a:pt x="194" y="164"/>
                      </a:lnTo>
                      <a:lnTo>
                        <a:pt x="188" y="173"/>
                      </a:lnTo>
                      <a:lnTo>
                        <a:pt x="182" y="180"/>
                      </a:lnTo>
                      <a:lnTo>
                        <a:pt x="175" y="187"/>
                      </a:lnTo>
                      <a:lnTo>
                        <a:pt x="184" y="182"/>
                      </a:lnTo>
                      <a:lnTo>
                        <a:pt x="194" y="176"/>
                      </a:lnTo>
                      <a:lnTo>
                        <a:pt x="204" y="171"/>
                      </a:lnTo>
                      <a:lnTo>
                        <a:pt x="213" y="164"/>
                      </a:lnTo>
                      <a:lnTo>
                        <a:pt x="223" y="155"/>
                      </a:lnTo>
                      <a:lnTo>
                        <a:pt x="233" y="147"/>
                      </a:lnTo>
                      <a:lnTo>
                        <a:pt x="242" y="138"/>
                      </a:lnTo>
                      <a:lnTo>
                        <a:pt x="254" y="129"/>
                      </a:lnTo>
                      <a:lnTo>
                        <a:pt x="266" y="122"/>
                      </a:lnTo>
                      <a:lnTo>
                        <a:pt x="275" y="115"/>
                      </a:lnTo>
                      <a:lnTo>
                        <a:pt x="273" y="124"/>
                      </a:lnTo>
                      <a:lnTo>
                        <a:pt x="270" y="133"/>
                      </a:lnTo>
                      <a:lnTo>
                        <a:pt x="266" y="140"/>
                      </a:lnTo>
                      <a:lnTo>
                        <a:pt x="260" y="146"/>
                      </a:lnTo>
                      <a:lnTo>
                        <a:pt x="256" y="151"/>
                      </a:lnTo>
                      <a:lnTo>
                        <a:pt x="250" y="156"/>
                      </a:lnTo>
                      <a:lnTo>
                        <a:pt x="246" y="164"/>
                      </a:lnTo>
                      <a:lnTo>
                        <a:pt x="244" y="169"/>
                      </a:lnTo>
                      <a:lnTo>
                        <a:pt x="244" y="178"/>
                      </a:lnTo>
                      <a:lnTo>
                        <a:pt x="248" y="187"/>
                      </a:lnTo>
                      <a:lnTo>
                        <a:pt x="225" y="207"/>
                      </a:lnTo>
                      <a:lnTo>
                        <a:pt x="206" y="225"/>
                      </a:lnTo>
                      <a:lnTo>
                        <a:pt x="188" y="245"/>
                      </a:lnTo>
                      <a:lnTo>
                        <a:pt x="173" y="265"/>
                      </a:lnTo>
                      <a:lnTo>
                        <a:pt x="159" y="284"/>
                      </a:lnTo>
                      <a:lnTo>
                        <a:pt x="146" y="306"/>
                      </a:lnTo>
                      <a:lnTo>
                        <a:pt x="130" y="326"/>
                      </a:lnTo>
                      <a:lnTo>
                        <a:pt x="117" y="348"/>
                      </a:lnTo>
                      <a:lnTo>
                        <a:pt x="101" y="367"/>
                      </a:lnTo>
                      <a:lnTo>
                        <a:pt x="84" y="389"/>
                      </a:lnTo>
                      <a:lnTo>
                        <a:pt x="84" y="387"/>
                      </a:lnTo>
                      <a:lnTo>
                        <a:pt x="84" y="387"/>
                      </a:lnTo>
                      <a:lnTo>
                        <a:pt x="84" y="385"/>
                      </a:lnTo>
                      <a:lnTo>
                        <a:pt x="84" y="385"/>
                      </a:lnTo>
                      <a:lnTo>
                        <a:pt x="82" y="384"/>
                      </a:lnTo>
                      <a:lnTo>
                        <a:pt x="82" y="384"/>
                      </a:lnTo>
                      <a:lnTo>
                        <a:pt x="82" y="384"/>
                      </a:lnTo>
                      <a:lnTo>
                        <a:pt x="82" y="382"/>
                      </a:lnTo>
                      <a:lnTo>
                        <a:pt x="80" y="382"/>
                      </a:lnTo>
                      <a:lnTo>
                        <a:pt x="80" y="382"/>
                      </a:lnTo>
                      <a:lnTo>
                        <a:pt x="74" y="384"/>
                      </a:lnTo>
                      <a:lnTo>
                        <a:pt x="70" y="385"/>
                      </a:lnTo>
                      <a:lnTo>
                        <a:pt x="68" y="389"/>
                      </a:lnTo>
                      <a:lnTo>
                        <a:pt x="66" y="394"/>
                      </a:lnTo>
                      <a:lnTo>
                        <a:pt x="64" y="398"/>
                      </a:lnTo>
                      <a:lnTo>
                        <a:pt x="64" y="403"/>
                      </a:lnTo>
                      <a:lnTo>
                        <a:pt x="64" y="411"/>
                      </a:lnTo>
                      <a:lnTo>
                        <a:pt x="64" y="416"/>
                      </a:lnTo>
                      <a:lnTo>
                        <a:pt x="62" y="421"/>
                      </a:lnTo>
                      <a:lnTo>
                        <a:pt x="62" y="427"/>
                      </a:lnTo>
                      <a:lnTo>
                        <a:pt x="60" y="414"/>
                      </a:lnTo>
                      <a:lnTo>
                        <a:pt x="59" y="403"/>
                      </a:lnTo>
                      <a:lnTo>
                        <a:pt x="57" y="393"/>
                      </a:lnTo>
                      <a:lnTo>
                        <a:pt x="55" y="382"/>
                      </a:lnTo>
                      <a:lnTo>
                        <a:pt x="51" y="371"/>
                      </a:lnTo>
                      <a:lnTo>
                        <a:pt x="49" y="360"/>
                      </a:lnTo>
                      <a:lnTo>
                        <a:pt x="47" y="351"/>
                      </a:lnTo>
                      <a:lnTo>
                        <a:pt x="43" y="340"/>
                      </a:lnTo>
                      <a:lnTo>
                        <a:pt x="41" y="330"/>
                      </a:lnTo>
                      <a:lnTo>
                        <a:pt x="37" y="320"/>
                      </a:lnTo>
                      <a:lnTo>
                        <a:pt x="37" y="330"/>
                      </a:lnTo>
                      <a:lnTo>
                        <a:pt x="35" y="339"/>
                      </a:lnTo>
                      <a:lnTo>
                        <a:pt x="31" y="348"/>
                      </a:lnTo>
                      <a:lnTo>
                        <a:pt x="28" y="355"/>
                      </a:lnTo>
                      <a:lnTo>
                        <a:pt x="26" y="362"/>
                      </a:lnTo>
                      <a:lnTo>
                        <a:pt x="22" y="369"/>
                      </a:lnTo>
                      <a:lnTo>
                        <a:pt x="18" y="378"/>
                      </a:lnTo>
                      <a:lnTo>
                        <a:pt x="18" y="385"/>
                      </a:lnTo>
                      <a:lnTo>
                        <a:pt x="16" y="393"/>
                      </a:lnTo>
                      <a:lnTo>
                        <a:pt x="18" y="402"/>
                      </a:lnTo>
                      <a:lnTo>
                        <a:pt x="16" y="394"/>
                      </a:lnTo>
                      <a:lnTo>
                        <a:pt x="14" y="387"/>
                      </a:lnTo>
                      <a:lnTo>
                        <a:pt x="14" y="380"/>
                      </a:lnTo>
                      <a:lnTo>
                        <a:pt x="14" y="373"/>
                      </a:lnTo>
                      <a:lnTo>
                        <a:pt x="14" y="366"/>
                      </a:lnTo>
                      <a:lnTo>
                        <a:pt x="16" y="358"/>
                      </a:lnTo>
                      <a:lnTo>
                        <a:pt x="16" y="351"/>
                      </a:lnTo>
                      <a:lnTo>
                        <a:pt x="18" y="344"/>
                      </a:lnTo>
                      <a:lnTo>
                        <a:pt x="18" y="335"/>
                      </a:lnTo>
                      <a:lnTo>
                        <a:pt x="18" y="324"/>
                      </a:lnTo>
                      <a:lnTo>
                        <a:pt x="2" y="346"/>
                      </a:lnTo>
                      <a:lnTo>
                        <a:pt x="0" y="310"/>
                      </a:lnTo>
                      <a:lnTo>
                        <a:pt x="8" y="275"/>
                      </a:lnTo>
                      <a:lnTo>
                        <a:pt x="22" y="243"/>
                      </a:lnTo>
                      <a:lnTo>
                        <a:pt x="39" y="212"/>
                      </a:lnTo>
                      <a:lnTo>
                        <a:pt x="62" y="182"/>
                      </a:lnTo>
                      <a:lnTo>
                        <a:pt x="89" y="153"/>
                      </a:lnTo>
                      <a:lnTo>
                        <a:pt x="117" y="124"/>
                      </a:lnTo>
                      <a:lnTo>
                        <a:pt x="146" y="97"/>
                      </a:lnTo>
                      <a:lnTo>
                        <a:pt x="173" y="72"/>
                      </a:lnTo>
                      <a:lnTo>
                        <a:pt x="198" y="45"/>
                      </a:lnTo>
                      <a:lnTo>
                        <a:pt x="198" y="39"/>
                      </a:lnTo>
                      <a:lnTo>
                        <a:pt x="198" y="32"/>
                      </a:lnTo>
                      <a:lnTo>
                        <a:pt x="194" y="28"/>
                      </a:lnTo>
                      <a:lnTo>
                        <a:pt x="190" y="23"/>
                      </a:lnTo>
                      <a:lnTo>
                        <a:pt x="184" y="19"/>
                      </a:lnTo>
                      <a:lnTo>
                        <a:pt x="180" y="16"/>
                      </a:lnTo>
                      <a:lnTo>
                        <a:pt x="175" y="12"/>
                      </a:lnTo>
                      <a:lnTo>
                        <a:pt x="171" y="9"/>
                      </a:lnTo>
                      <a:lnTo>
                        <a:pt x="167" y="5"/>
                      </a:lnTo>
                      <a:lnTo>
                        <a:pt x="165" y="0"/>
                      </a:lnTo>
                      <a:lnTo>
                        <a:pt x="171" y="5"/>
                      </a:lnTo>
                      <a:lnTo>
                        <a:pt x="179" y="10"/>
                      </a:lnTo>
                      <a:lnTo>
                        <a:pt x="186" y="16"/>
                      </a:lnTo>
                      <a:lnTo>
                        <a:pt x="192" y="21"/>
                      </a:lnTo>
                      <a:lnTo>
                        <a:pt x="200" y="27"/>
                      </a:lnTo>
                      <a:lnTo>
                        <a:pt x="210" y="30"/>
                      </a:lnTo>
                      <a:lnTo>
                        <a:pt x="217" y="34"/>
                      </a:lnTo>
                      <a:lnTo>
                        <a:pt x="225" y="34"/>
                      </a:lnTo>
                      <a:lnTo>
                        <a:pt x="233" y="34"/>
                      </a:lnTo>
                      <a:lnTo>
                        <a:pt x="242" y="30"/>
                      </a:lnTo>
                      <a:lnTo>
                        <a:pt x="242" y="30"/>
                      </a:lnTo>
                      <a:lnTo>
                        <a:pt x="241" y="3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426360" y="221148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20" h="25">
                      <a:moveTo>
                        <a:pt x="20" y="25"/>
                      </a:moveTo>
                      <a:lnTo>
                        <a:pt x="18" y="24"/>
                      </a:lnTo>
                      <a:lnTo>
                        <a:pt x="16" y="24"/>
                      </a:lnTo>
                      <a:lnTo>
                        <a:pt x="16" y="22"/>
                      </a:lnTo>
                      <a:lnTo>
                        <a:pt x="14" y="20"/>
                      </a:lnTo>
                      <a:lnTo>
                        <a:pt x="12" y="20"/>
                      </a:lnTo>
                      <a:lnTo>
                        <a:pt x="10" y="20"/>
                      </a:lnTo>
                      <a:lnTo>
                        <a:pt x="8" y="18"/>
                      </a:lnTo>
                      <a:lnTo>
                        <a:pt x="6" y="18"/>
                      </a:lnTo>
                      <a:lnTo>
                        <a:pt x="4" y="18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4" y="2"/>
                      </a:lnTo>
                      <a:lnTo>
                        <a:pt x="16" y="4"/>
                      </a:lnTo>
                      <a:lnTo>
                        <a:pt x="16" y="6"/>
                      </a:lnTo>
                      <a:lnTo>
                        <a:pt x="18" y="7"/>
                      </a:lnTo>
                      <a:lnTo>
                        <a:pt x="18" y="11"/>
                      </a:lnTo>
                      <a:lnTo>
                        <a:pt x="18" y="15"/>
                      </a:lnTo>
                      <a:lnTo>
                        <a:pt x="20" y="16"/>
                      </a:lnTo>
                      <a:lnTo>
                        <a:pt x="20" y="20"/>
                      </a:lnTo>
                      <a:lnTo>
                        <a:pt x="20" y="24"/>
                      </a:lnTo>
                      <a:lnTo>
                        <a:pt x="20" y="25"/>
                      </a:lnTo>
                      <a:lnTo>
                        <a:pt x="20" y="25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816600" y="2249640"/>
                  <a:ext cx="55800" cy="215640"/>
                </a:xfrm>
                <a:custGeom>
                  <a:avLst/>
                  <a:gdLst/>
                  <a:ahLst/>
                  <a:rect l="l" t="t" r="r" b="b"/>
                  <a:pathLst>
                    <a:path w="80" h="272">
                      <a:moveTo>
                        <a:pt x="78" y="4"/>
                      </a:moveTo>
                      <a:lnTo>
                        <a:pt x="72" y="31"/>
                      </a:lnTo>
                      <a:lnTo>
                        <a:pt x="62" y="58"/>
                      </a:lnTo>
                      <a:lnTo>
                        <a:pt x="51" y="85"/>
                      </a:lnTo>
                      <a:lnTo>
                        <a:pt x="41" y="112"/>
                      </a:lnTo>
                      <a:lnTo>
                        <a:pt x="31" y="139"/>
                      </a:lnTo>
                      <a:lnTo>
                        <a:pt x="22" y="166"/>
                      </a:lnTo>
                      <a:lnTo>
                        <a:pt x="14" y="193"/>
                      </a:lnTo>
                      <a:lnTo>
                        <a:pt x="8" y="218"/>
                      </a:lnTo>
                      <a:lnTo>
                        <a:pt x="6" y="245"/>
                      </a:lnTo>
                      <a:lnTo>
                        <a:pt x="6" y="272"/>
                      </a:lnTo>
                      <a:lnTo>
                        <a:pt x="2" y="272"/>
                      </a:lnTo>
                      <a:lnTo>
                        <a:pt x="0" y="256"/>
                      </a:lnTo>
                      <a:lnTo>
                        <a:pt x="0" y="240"/>
                      </a:lnTo>
                      <a:lnTo>
                        <a:pt x="2" y="225"/>
                      </a:lnTo>
                      <a:lnTo>
                        <a:pt x="4" y="209"/>
                      </a:lnTo>
                      <a:lnTo>
                        <a:pt x="8" y="195"/>
                      </a:lnTo>
                      <a:lnTo>
                        <a:pt x="12" y="180"/>
                      </a:lnTo>
                      <a:lnTo>
                        <a:pt x="16" y="164"/>
                      </a:lnTo>
                      <a:lnTo>
                        <a:pt x="20" y="150"/>
                      </a:lnTo>
                      <a:lnTo>
                        <a:pt x="23" y="135"/>
                      </a:lnTo>
                      <a:lnTo>
                        <a:pt x="23" y="121"/>
                      </a:lnTo>
                      <a:lnTo>
                        <a:pt x="6" y="151"/>
                      </a:lnTo>
                      <a:lnTo>
                        <a:pt x="70" y="0"/>
                      </a:lnTo>
                      <a:lnTo>
                        <a:pt x="70" y="4"/>
                      </a:lnTo>
                      <a:lnTo>
                        <a:pt x="80" y="4"/>
                      </a:lnTo>
                      <a:lnTo>
                        <a:pt x="80" y="4"/>
                      </a:lnTo>
                      <a:lnTo>
                        <a:pt x="78" y="4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938920" y="2184480"/>
                  <a:ext cx="16920" cy="41400"/>
                </a:xfrm>
                <a:custGeom>
                  <a:avLst/>
                  <a:gdLst/>
                  <a:ahLst/>
                  <a:rect l="l" t="t" r="r" b="b"/>
                  <a:pathLst>
                    <a:path w="25" h="50">
                      <a:moveTo>
                        <a:pt x="17" y="48"/>
                      </a:moveTo>
                      <a:lnTo>
                        <a:pt x="0" y="0"/>
                      </a:lnTo>
                      <a:lnTo>
                        <a:pt x="25" y="32"/>
                      </a:lnTo>
                      <a:lnTo>
                        <a:pt x="19" y="50"/>
                      </a:lnTo>
                      <a:lnTo>
                        <a:pt x="19" y="50"/>
                      </a:lnTo>
                      <a:lnTo>
                        <a:pt x="17" y="4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133040" y="2270160"/>
                  <a:ext cx="100440" cy="6660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9" y="83"/>
                      </a:moveTo>
                      <a:lnTo>
                        <a:pt x="124" y="79"/>
                      </a:lnTo>
                      <a:lnTo>
                        <a:pt x="108" y="74"/>
                      </a:lnTo>
                      <a:lnTo>
                        <a:pt x="95" y="65"/>
                      </a:lnTo>
                      <a:lnTo>
                        <a:pt x="81" y="58"/>
                      </a:lnTo>
                      <a:lnTo>
                        <a:pt x="67" y="47"/>
                      </a:lnTo>
                      <a:lnTo>
                        <a:pt x="54" y="36"/>
                      </a:lnTo>
                      <a:lnTo>
                        <a:pt x="42" y="27"/>
                      </a:lnTo>
                      <a:lnTo>
                        <a:pt x="29" y="16"/>
                      </a:lnTo>
                      <a:lnTo>
                        <a:pt x="15" y="7"/>
                      </a:lnTo>
                      <a:lnTo>
                        <a:pt x="0" y="0"/>
                      </a:lnTo>
                      <a:lnTo>
                        <a:pt x="15" y="7"/>
                      </a:lnTo>
                      <a:lnTo>
                        <a:pt x="31" y="14"/>
                      </a:lnTo>
                      <a:lnTo>
                        <a:pt x="44" y="22"/>
                      </a:lnTo>
                      <a:lnTo>
                        <a:pt x="58" y="31"/>
                      </a:lnTo>
                      <a:lnTo>
                        <a:pt x="71" y="38"/>
                      </a:lnTo>
                      <a:lnTo>
                        <a:pt x="85" y="47"/>
                      </a:lnTo>
                      <a:lnTo>
                        <a:pt x="98" y="56"/>
                      </a:lnTo>
                      <a:lnTo>
                        <a:pt x="112" y="65"/>
                      </a:lnTo>
                      <a:lnTo>
                        <a:pt x="125" y="74"/>
                      </a:lnTo>
                      <a:lnTo>
                        <a:pt x="139" y="83"/>
                      </a:lnTo>
                      <a:lnTo>
                        <a:pt x="139" y="8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967720" y="2190960"/>
                  <a:ext cx="6840" cy="1260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10" y="4"/>
                      </a:move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8" y="11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4" y="14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899760" y="2266920"/>
                  <a:ext cx="121680" cy="160560"/>
                </a:xfrm>
                <a:custGeom>
                  <a:avLst/>
                  <a:gdLst/>
                  <a:ahLst/>
                  <a:rect l="l" t="t" r="r" b="b"/>
                  <a:pathLst>
                    <a:path w="171" h="201">
                      <a:moveTo>
                        <a:pt x="0" y="200"/>
                      </a:moveTo>
                      <a:lnTo>
                        <a:pt x="12" y="180"/>
                      </a:lnTo>
                      <a:lnTo>
                        <a:pt x="24" y="156"/>
                      </a:lnTo>
                      <a:lnTo>
                        <a:pt x="37" y="135"/>
                      </a:lnTo>
                      <a:lnTo>
                        <a:pt x="53" y="113"/>
                      </a:lnTo>
                      <a:lnTo>
                        <a:pt x="68" y="93"/>
                      </a:lnTo>
                      <a:lnTo>
                        <a:pt x="86" y="72"/>
                      </a:lnTo>
                      <a:lnTo>
                        <a:pt x="105" y="52"/>
                      </a:lnTo>
                      <a:lnTo>
                        <a:pt x="124" y="34"/>
                      </a:lnTo>
                      <a:lnTo>
                        <a:pt x="148" y="16"/>
                      </a:lnTo>
                      <a:lnTo>
                        <a:pt x="171" y="0"/>
                      </a:lnTo>
                      <a:lnTo>
                        <a:pt x="150" y="19"/>
                      </a:lnTo>
                      <a:lnTo>
                        <a:pt x="130" y="37"/>
                      </a:lnTo>
                      <a:lnTo>
                        <a:pt x="111" y="55"/>
                      </a:lnTo>
                      <a:lnTo>
                        <a:pt x="91" y="75"/>
                      </a:lnTo>
                      <a:lnTo>
                        <a:pt x="74" y="95"/>
                      </a:lnTo>
                      <a:lnTo>
                        <a:pt x="57" y="115"/>
                      </a:lnTo>
                      <a:lnTo>
                        <a:pt x="41" y="137"/>
                      </a:lnTo>
                      <a:lnTo>
                        <a:pt x="28" y="156"/>
                      </a:lnTo>
                      <a:lnTo>
                        <a:pt x="14" y="178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973480" y="2197080"/>
                  <a:ext cx="50040" cy="77760"/>
                </a:xfrm>
                <a:custGeom>
                  <a:avLst/>
                  <a:gdLst/>
                  <a:ahLst/>
                  <a:rect l="l" t="t" r="r" b="b"/>
                  <a:pathLst>
                    <a:path w="70" h="99">
                      <a:moveTo>
                        <a:pt x="50" y="9"/>
                      </a:moveTo>
                      <a:lnTo>
                        <a:pt x="48" y="15"/>
                      </a:lnTo>
                      <a:lnTo>
                        <a:pt x="46" y="18"/>
                      </a:lnTo>
                      <a:lnTo>
                        <a:pt x="46" y="20"/>
                      </a:lnTo>
                      <a:lnTo>
                        <a:pt x="48" y="20"/>
                      </a:lnTo>
                      <a:lnTo>
                        <a:pt x="52" y="20"/>
                      </a:lnTo>
                      <a:lnTo>
                        <a:pt x="56" y="20"/>
                      </a:lnTo>
                      <a:lnTo>
                        <a:pt x="60" y="18"/>
                      </a:lnTo>
                      <a:lnTo>
                        <a:pt x="64" y="20"/>
                      </a:lnTo>
                      <a:lnTo>
                        <a:pt x="68" y="22"/>
                      </a:lnTo>
                      <a:lnTo>
                        <a:pt x="70" y="24"/>
                      </a:lnTo>
                      <a:lnTo>
                        <a:pt x="68" y="31"/>
                      </a:lnTo>
                      <a:lnTo>
                        <a:pt x="62" y="38"/>
                      </a:lnTo>
                      <a:lnTo>
                        <a:pt x="54" y="45"/>
                      </a:lnTo>
                      <a:lnTo>
                        <a:pt x="46" y="51"/>
                      </a:lnTo>
                      <a:lnTo>
                        <a:pt x="39" y="56"/>
                      </a:lnTo>
                      <a:lnTo>
                        <a:pt x="33" y="63"/>
                      </a:lnTo>
                      <a:lnTo>
                        <a:pt x="29" y="69"/>
                      </a:lnTo>
                      <a:lnTo>
                        <a:pt x="27" y="74"/>
                      </a:lnTo>
                      <a:lnTo>
                        <a:pt x="29" y="80"/>
                      </a:lnTo>
                      <a:lnTo>
                        <a:pt x="37" y="87"/>
                      </a:lnTo>
                      <a:lnTo>
                        <a:pt x="50" y="76"/>
                      </a:lnTo>
                      <a:lnTo>
                        <a:pt x="50" y="78"/>
                      </a:lnTo>
                      <a:lnTo>
                        <a:pt x="48" y="81"/>
                      </a:lnTo>
                      <a:lnTo>
                        <a:pt x="46" y="83"/>
                      </a:lnTo>
                      <a:lnTo>
                        <a:pt x="44" y="85"/>
                      </a:lnTo>
                      <a:lnTo>
                        <a:pt x="41" y="89"/>
                      </a:lnTo>
                      <a:lnTo>
                        <a:pt x="39" y="90"/>
                      </a:lnTo>
                      <a:lnTo>
                        <a:pt x="35" y="92"/>
                      </a:lnTo>
                      <a:lnTo>
                        <a:pt x="31" y="94"/>
                      </a:lnTo>
                      <a:lnTo>
                        <a:pt x="29" y="96"/>
                      </a:lnTo>
                      <a:lnTo>
                        <a:pt x="25" y="99"/>
                      </a:lnTo>
                      <a:lnTo>
                        <a:pt x="19" y="92"/>
                      </a:lnTo>
                      <a:lnTo>
                        <a:pt x="17" y="87"/>
                      </a:lnTo>
                      <a:lnTo>
                        <a:pt x="15" y="81"/>
                      </a:lnTo>
                      <a:lnTo>
                        <a:pt x="15" y="74"/>
                      </a:lnTo>
                      <a:lnTo>
                        <a:pt x="17" y="69"/>
                      </a:lnTo>
                      <a:lnTo>
                        <a:pt x="19" y="62"/>
                      </a:lnTo>
                      <a:lnTo>
                        <a:pt x="23" y="56"/>
                      </a:lnTo>
                      <a:lnTo>
                        <a:pt x="27" y="51"/>
                      </a:lnTo>
                      <a:lnTo>
                        <a:pt x="31" y="45"/>
                      </a:lnTo>
                      <a:lnTo>
                        <a:pt x="37" y="40"/>
                      </a:lnTo>
                      <a:lnTo>
                        <a:pt x="37" y="38"/>
                      </a:lnTo>
                      <a:lnTo>
                        <a:pt x="39" y="36"/>
                      </a:lnTo>
                      <a:lnTo>
                        <a:pt x="41" y="34"/>
                      </a:lnTo>
                      <a:lnTo>
                        <a:pt x="43" y="34"/>
                      </a:lnTo>
                      <a:lnTo>
                        <a:pt x="44" y="33"/>
                      </a:lnTo>
                      <a:lnTo>
                        <a:pt x="46" y="31"/>
                      </a:lnTo>
                      <a:lnTo>
                        <a:pt x="48" y="29"/>
                      </a:lnTo>
                      <a:lnTo>
                        <a:pt x="50" y="27"/>
                      </a:lnTo>
                      <a:lnTo>
                        <a:pt x="50" y="25"/>
                      </a:lnTo>
                      <a:lnTo>
                        <a:pt x="50" y="24"/>
                      </a:lnTo>
                      <a:lnTo>
                        <a:pt x="46" y="22"/>
                      </a:lnTo>
                      <a:lnTo>
                        <a:pt x="41" y="24"/>
                      </a:lnTo>
                      <a:lnTo>
                        <a:pt x="37" y="25"/>
                      </a:lnTo>
                      <a:lnTo>
                        <a:pt x="33" y="29"/>
                      </a:lnTo>
                      <a:lnTo>
                        <a:pt x="29" y="33"/>
                      </a:lnTo>
                      <a:lnTo>
                        <a:pt x="25" y="38"/>
                      </a:lnTo>
                      <a:lnTo>
                        <a:pt x="21" y="42"/>
                      </a:lnTo>
                      <a:lnTo>
                        <a:pt x="19" y="47"/>
                      </a:lnTo>
                      <a:lnTo>
                        <a:pt x="15" y="51"/>
                      </a:lnTo>
                      <a:lnTo>
                        <a:pt x="12" y="54"/>
                      </a:lnTo>
                      <a:lnTo>
                        <a:pt x="8" y="53"/>
                      </a:lnTo>
                      <a:lnTo>
                        <a:pt x="6" y="49"/>
                      </a:lnTo>
                      <a:lnTo>
                        <a:pt x="4" y="47"/>
                      </a:lnTo>
                      <a:lnTo>
                        <a:pt x="2" y="43"/>
                      </a:lnTo>
                      <a:lnTo>
                        <a:pt x="2" y="40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4" y="16"/>
                      </a:lnTo>
                      <a:lnTo>
                        <a:pt x="10" y="15"/>
                      </a:lnTo>
                      <a:lnTo>
                        <a:pt x="13" y="15"/>
                      </a:lnTo>
                      <a:lnTo>
                        <a:pt x="19" y="13"/>
                      </a:lnTo>
                      <a:lnTo>
                        <a:pt x="25" y="13"/>
                      </a:lnTo>
                      <a:lnTo>
                        <a:pt x="29" y="13"/>
                      </a:lnTo>
                      <a:lnTo>
                        <a:pt x="35" y="13"/>
                      </a:lnTo>
                      <a:lnTo>
                        <a:pt x="39" y="9"/>
                      </a:lnTo>
                      <a:lnTo>
                        <a:pt x="41" y="6"/>
                      </a:lnTo>
                      <a:lnTo>
                        <a:pt x="43" y="0"/>
                      </a:lnTo>
                      <a:lnTo>
                        <a:pt x="52" y="11"/>
                      </a:lnTo>
                      <a:lnTo>
                        <a:pt x="52" y="11"/>
                      </a:lnTo>
                      <a:lnTo>
                        <a:pt x="50" y="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954760" y="2201760"/>
                  <a:ext cx="147600" cy="214560"/>
                </a:xfrm>
                <a:custGeom>
                  <a:avLst/>
                  <a:gdLst/>
                  <a:ahLst/>
                  <a:rect l="l" t="t" r="r" b="b"/>
                  <a:pathLst>
                    <a:path w="205" h="269">
                      <a:moveTo>
                        <a:pt x="205" y="24"/>
                      </a:moveTo>
                      <a:lnTo>
                        <a:pt x="191" y="38"/>
                      </a:lnTo>
                      <a:lnTo>
                        <a:pt x="178" y="51"/>
                      </a:lnTo>
                      <a:lnTo>
                        <a:pt x="160" y="64"/>
                      </a:lnTo>
                      <a:lnTo>
                        <a:pt x="145" y="78"/>
                      </a:lnTo>
                      <a:lnTo>
                        <a:pt x="128" y="91"/>
                      </a:lnTo>
                      <a:lnTo>
                        <a:pt x="112" y="105"/>
                      </a:lnTo>
                      <a:lnTo>
                        <a:pt x="99" y="119"/>
                      </a:lnTo>
                      <a:lnTo>
                        <a:pt x="87" y="136"/>
                      </a:lnTo>
                      <a:lnTo>
                        <a:pt x="79" y="150"/>
                      </a:lnTo>
                      <a:lnTo>
                        <a:pt x="73" y="168"/>
                      </a:lnTo>
                      <a:lnTo>
                        <a:pt x="114" y="130"/>
                      </a:lnTo>
                      <a:lnTo>
                        <a:pt x="40" y="231"/>
                      </a:lnTo>
                      <a:lnTo>
                        <a:pt x="40" y="229"/>
                      </a:lnTo>
                      <a:lnTo>
                        <a:pt x="40" y="228"/>
                      </a:lnTo>
                      <a:lnTo>
                        <a:pt x="40" y="224"/>
                      </a:lnTo>
                      <a:lnTo>
                        <a:pt x="42" y="222"/>
                      </a:lnTo>
                      <a:lnTo>
                        <a:pt x="42" y="220"/>
                      </a:lnTo>
                      <a:lnTo>
                        <a:pt x="42" y="219"/>
                      </a:lnTo>
                      <a:lnTo>
                        <a:pt x="42" y="217"/>
                      </a:lnTo>
                      <a:lnTo>
                        <a:pt x="40" y="215"/>
                      </a:lnTo>
                      <a:lnTo>
                        <a:pt x="40" y="213"/>
                      </a:lnTo>
                      <a:lnTo>
                        <a:pt x="38" y="211"/>
                      </a:lnTo>
                      <a:lnTo>
                        <a:pt x="29" y="215"/>
                      </a:lnTo>
                      <a:lnTo>
                        <a:pt x="25" y="220"/>
                      </a:lnTo>
                      <a:lnTo>
                        <a:pt x="23" y="224"/>
                      </a:lnTo>
                      <a:lnTo>
                        <a:pt x="23" y="231"/>
                      </a:lnTo>
                      <a:lnTo>
                        <a:pt x="23" y="237"/>
                      </a:lnTo>
                      <a:lnTo>
                        <a:pt x="25" y="244"/>
                      </a:lnTo>
                      <a:lnTo>
                        <a:pt x="25" y="249"/>
                      </a:lnTo>
                      <a:lnTo>
                        <a:pt x="25" y="256"/>
                      </a:lnTo>
                      <a:lnTo>
                        <a:pt x="23" y="264"/>
                      </a:lnTo>
                      <a:lnTo>
                        <a:pt x="19" y="269"/>
                      </a:lnTo>
                      <a:lnTo>
                        <a:pt x="13" y="269"/>
                      </a:lnTo>
                      <a:lnTo>
                        <a:pt x="21" y="260"/>
                      </a:lnTo>
                      <a:lnTo>
                        <a:pt x="23" y="255"/>
                      </a:lnTo>
                      <a:lnTo>
                        <a:pt x="21" y="251"/>
                      </a:lnTo>
                      <a:lnTo>
                        <a:pt x="17" y="247"/>
                      </a:lnTo>
                      <a:lnTo>
                        <a:pt x="11" y="244"/>
                      </a:lnTo>
                      <a:lnTo>
                        <a:pt x="6" y="240"/>
                      </a:lnTo>
                      <a:lnTo>
                        <a:pt x="2" y="235"/>
                      </a:lnTo>
                      <a:lnTo>
                        <a:pt x="0" y="228"/>
                      </a:lnTo>
                      <a:lnTo>
                        <a:pt x="0" y="219"/>
                      </a:lnTo>
                      <a:lnTo>
                        <a:pt x="6" y="206"/>
                      </a:lnTo>
                      <a:lnTo>
                        <a:pt x="15" y="186"/>
                      </a:lnTo>
                      <a:lnTo>
                        <a:pt x="27" y="168"/>
                      </a:lnTo>
                      <a:lnTo>
                        <a:pt x="40" y="148"/>
                      </a:lnTo>
                      <a:lnTo>
                        <a:pt x="54" y="130"/>
                      </a:lnTo>
                      <a:lnTo>
                        <a:pt x="68" y="112"/>
                      </a:lnTo>
                      <a:lnTo>
                        <a:pt x="81" y="94"/>
                      </a:lnTo>
                      <a:lnTo>
                        <a:pt x="99" y="78"/>
                      </a:lnTo>
                      <a:lnTo>
                        <a:pt x="116" y="62"/>
                      </a:lnTo>
                      <a:lnTo>
                        <a:pt x="133" y="46"/>
                      </a:lnTo>
                      <a:lnTo>
                        <a:pt x="155" y="29"/>
                      </a:lnTo>
                      <a:lnTo>
                        <a:pt x="188" y="33"/>
                      </a:lnTo>
                      <a:lnTo>
                        <a:pt x="190" y="29"/>
                      </a:lnTo>
                      <a:lnTo>
                        <a:pt x="191" y="26"/>
                      </a:lnTo>
                      <a:lnTo>
                        <a:pt x="191" y="22"/>
                      </a:lnTo>
                      <a:lnTo>
                        <a:pt x="190" y="18"/>
                      </a:lnTo>
                      <a:lnTo>
                        <a:pt x="188" y="17"/>
                      </a:lnTo>
                      <a:lnTo>
                        <a:pt x="188" y="13"/>
                      </a:lnTo>
                      <a:lnTo>
                        <a:pt x="184" y="9"/>
                      </a:lnTo>
                      <a:lnTo>
                        <a:pt x="182" y="6"/>
                      </a:lnTo>
                      <a:lnTo>
                        <a:pt x="182" y="4"/>
                      </a:lnTo>
                      <a:lnTo>
                        <a:pt x="180" y="0"/>
                      </a:lnTo>
                      <a:lnTo>
                        <a:pt x="184" y="2"/>
                      </a:lnTo>
                      <a:lnTo>
                        <a:pt x="186" y="4"/>
                      </a:lnTo>
                      <a:lnTo>
                        <a:pt x="188" y="6"/>
                      </a:lnTo>
                      <a:lnTo>
                        <a:pt x="191" y="8"/>
                      </a:lnTo>
                      <a:lnTo>
                        <a:pt x="193" y="11"/>
                      </a:lnTo>
                      <a:lnTo>
                        <a:pt x="195" y="13"/>
                      </a:lnTo>
                      <a:lnTo>
                        <a:pt x="197" y="17"/>
                      </a:lnTo>
                      <a:lnTo>
                        <a:pt x="199" y="18"/>
                      </a:lnTo>
                      <a:lnTo>
                        <a:pt x="203" y="22"/>
                      </a:lnTo>
                      <a:lnTo>
                        <a:pt x="205" y="24"/>
                      </a:lnTo>
                      <a:lnTo>
                        <a:pt x="205" y="2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548400" y="2239920"/>
                  <a:ext cx="54360" cy="47880"/>
                </a:xfrm>
                <a:custGeom>
                  <a:avLst/>
                  <a:gdLst/>
                  <a:ahLst/>
                  <a:rect l="l" t="t" r="r" b="b"/>
                  <a:pathLst>
                    <a:path w="75" h="62">
                      <a:moveTo>
                        <a:pt x="0" y="60"/>
                      </a:moveTo>
                      <a:lnTo>
                        <a:pt x="75" y="0"/>
                      </a:lnTo>
                      <a:lnTo>
                        <a:pt x="67" y="8"/>
                      </a:lnTo>
                      <a:lnTo>
                        <a:pt x="61" y="15"/>
                      </a:lnTo>
                      <a:lnTo>
                        <a:pt x="54" y="22"/>
                      </a:lnTo>
                      <a:lnTo>
                        <a:pt x="48" y="29"/>
                      </a:lnTo>
                      <a:lnTo>
                        <a:pt x="42" y="35"/>
                      </a:lnTo>
                      <a:lnTo>
                        <a:pt x="34" y="42"/>
                      </a:lnTo>
                      <a:lnTo>
                        <a:pt x="27" y="47"/>
                      </a:lnTo>
                      <a:lnTo>
                        <a:pt x="19" y="53"/>
                      </a:lnTo>
                      <a:lnTo>
                        <a:pt x="11" y="58"/>
                      </a:lnTo>
                      <a:lnTo>
                        <a:pt x="1" y="62"/>
                      </a:lnTo>
                      <a:lnTo>
                        <a:pt x="1" y="62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406560" y="2227320"/>
                  <a:ext cx="5400" cy="1908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6" y="22"/>
                      </a:moveTo>
                      <a:lnTo>
                        <a:pt x="0" y="0"/>
                      </a:lnTo>
                      <a:lnTo>
                        <a:pt x="8" y="11"/>
                      </a:lnTo>
                      <a:lnTo>
                        <a:pt x="6" y="23"/>
                      </a:lnTo>
                      <a:lnTo>
                        <a:pt x="6" y="23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37840" y="2263680"/>
                  <a:ext cx="50040" cy="223920"/>
                </a:xfrm>
                <a:custGeom>
                  <a:avLst/>
                  <a:gdLst/>
                  <a:ahLst/>
                  <a:rect l="l" t="t" r="r" b="b"/>
                  <a:pathLst>
                    <a:path w="70" h="283">
                      <a:moveTo>
                        <a:pt x="10" y="278"/>
                      </a:moveTo>
                      <a:lnTo>
                        <a:pt x="6" y="283"/>
                      </a:lnTo>
                      <a:lnTo>
                        <a:pt x="2" y="272"/>
                      </a:lnTo>
                      <a:lnTo>
                        <a:pt x="0" y="260"/>
                      </a:lnTo>
                      <a:lnTo>
                        <a:pt x="0" y="249"/>
                      </a:lnTo>
                      <a:lnTo>
                        <a:pt x="0" y="236"/>
                      </a:lnTo>
                      <a:lnTo>
                        <a:pt x="2" y="223"/>
                      </a:lnTo>
                      <a:lnTo>
                        <a:pt x="6" y="211"/>
                      </a:lnTo>
                      <a:lnTo>
                        <a:pt x="8" y="198"/>
                      </a:lnTo>
                      <a:lnTo>
                        <a:pt x="12" y="186"/>
                      </a:lnTo>
                      <a:lnTo>
                        <a:pt x="14" y="175"/>
                      </a:lnTo>
                      <a:lnTo>
                        <a:pt x="16" y="162"/>
                      </a:lnTo>
                      <a:lnTo>
                        <a:pt x="70" y="0"/>
                      </a:lnTo>
                      <a:lnTo>
                        <a:pt x="66" y="29"/>
                      </a:lnTo>
                      <a:lnTo>
                        <a:pt x="56" y="56"/>
                      </a:lnTo>
                      <a:lnTo>
                        <a:pt x="49" y="83"/>
                      </a:lnTo>
                      <a:lnTo>
                        <a:pt x="37" y="110"/>
                      </a:lnTo>
                      <a:lnTo>
                        <a:pt x="27" y="137"/>
                      </a:lnTo>
                      <a:lnTo>
                        <a:pt x="20" y="164"/>
                      </a:lnTo>
                      <a:lnTo>
                        <a:pt x="12" y="191"/>
                      </a:lnTo>
                      <a:lnTo>
                        <a:pt x="8" y="220"/>
                      </a:lnTo>
                      <a:lnTo>
                        <a:pt x="6" y="249"/>
                      </a:lnTo>
                      <a:lnTo>
                        <a:pt x="12" y="278"/>
                      </a:lnTo>
                      <a:lnTo>
                        <a:pt x="12" y="278"/>
                      </a:lnTo>
                      <a:lnTo>
                        <a:pt x="10" y="278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429240" y="2241720"/>
                  <a:ext cx="11520" cy="23760"/>
                </a:xfrm>
                <a:custGeom>
                  <a:avLst/>
                  <a:gdLst/>
                  <a:ahLst/>
                  <a:rect l="l" t="t" r="r" b="b"/>
                  <a:pathLst>
                    <a:path w="17" h="29">
                      <a:moveTo>
                        <a:pt x="16" y="29"/>
                      </a:moveTo>
                      <a:lnTo>
                        <a:pt x="0" y="0"/>
                      </a:lnTo>
                      <a:lnTo>
                        <a:pt x="17" y="4"/>
                      </a:lnTo>
                      <a:lnTo>
                        <a:pt x="16" y="29"/>
                      </a:lnTo>
                      <a:lnTo>
                        <a:pt x="16" y="29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29160" y="2262240"/>
                  <a:ext cx="395640" cy="306360"/>
                </a:xfrm>
                <a:custGeom>
                  <a:avLst/>
                  <a:gdLst/>
                  <a:ahLst/>
                  <a:rect l="l" t="t" r="r" b="b"/>
                  <a:pathLst>
                    <a:path w="551" h="386">
                      <a:moveTo>
                        <a:pt x="499" y="56"/>
                      </a:moveTo>
                      <a:lnTo>
                        <a:pt x="507" y="60"/>
                      </a:lnTo>
                      <a:lnTo>
                        <a:pt x="511" y="60"/>
                      </a:lnTo>
                      <a:lnTo>
                        <a:pt x="517" y="58"/>
                      </a:lnTo>
                      <a:lnTo>
                        <a:pt x="522" y="52"/>
                      </a:lnTo>
                      <a:lnTo>
                        <a:pt x="526" y="49"/>
                      </a:lnTo>
                      <a:lnTo>
                        <a:pt x="532" y="45"/>
                      </a:lnTo>
                      <a:lnTo>
                        <a:pt x="536" y="42"/>
                      </a:lnTo>
                      <a:lnTo>
                        <a:pt x="542" y="42"/>
                      </a:lnTo>
                      <a:lnTo>
                        <a:pt x="548" y="45"/>
                      </a:lnTo>
                      <a:lnTo>
                        <a:pt x="551" y="52"/>
                      </a:lnTo>
                      <a:lnTo>
                        <a:pt x="544" y="60"/>
                      </a:lnTo>
                      <a:lnTo>
                        <a:pt x="542" y="67"/>
                      </a:lnTo>
                      <a:lnTo>
                        <a:pt x="540" y="76"/>
                      </a:lnTo>
                      <a:lnTo>
                        <a:pt x="542" y="83"/>
                      </a:lnTo>
                      <a:lnTo>
                        <a:pt x="544" y="92"/>
                      </a:lnTo>
                      <a:lnTo>
                        <a:pt x="546" y="101"/>
                      </a:lnTo>
                      <a:lnTo>
                        <a:pt x="546" y="108"/>
                      </a:lnTo>
                      <a:lnTo>
                        <a:pt x="544" y="117"/>
                      </a:lnTo>
                      <a:lnTo>
                        <a:pt x="540" y="123"/>
                      </a:lnTo>
                      <a:lnTo>
                        <a:pt x="532" y="130"/>
                      </a:lnTo>
                      <a:lnTo>
                        <a:pt x="530" y="144"/>
                      </a:lnTo>
                      <a:lnTo>
                        <a:pt x="528" y="159"/>
                      </a:lnTo>
                      <a:lnTo>
                        <a:pt x="526" y="171"/>
                      </a:lnTo>
                      <a:lnTo>
                        <a:pt x="522" y="186"/>
                      </a:lnTo>
                      <a:lnTo>
                        <a:pt x="519" y="198"/>
                      </a:lnTo>
                      <a:lnTo>
                        <a:pt x="513" y="213"/>
                      </a:lnTo>
                      <a:lnTo>
                        <a:pt x="507" y="225"/>
                      </a:lnTo>
                      <a:lnTo>
                        <a:pt x="501" y="238"/>
                      </a:lnTo>
                      <a:lnTo>
                        <a:pt x="493" y="251"/>
                      </a:lnTo>
                      <a:lnTo>
                        <a:pt x="486" y="263"/>
                      </a:lnTo>
                      <a:lnTo>
                        <a:pt x="474" y="267"/>
                      </a:lnTo>
                      <a:lnTo>
                        <a:pt x="466" y="271"/>
                      </a:lnTo>
                      <a:lnTo>
                        <a:pt x="462" y="278"/>
                      </a:lnTo>
                      <a:lnTo>
                        <a:pt x="460" y="287"/>
                      </a:lnTo>
                      <a:lnTo>
                        <a:pt x="459" y="294"/>
                      </a:lnTo>
                      <a:lnTo>
                        <a:pt x="457" y="301"/>
                      </a:lnTo>
                      <a:lnTo>
                        <a:pt x="453" y="308"/>
                      </a:lnTo>
                      <a:lnTo>
                        <a:pt x="447" y="312"/>
                      </a:lnTo>
                      <a:lnTo>
                        <a:pt x="439" y="312"/>
                      </a:lnTo>
                      <a:lnTo>
                        <a:pt x="426" y="308"/>
                      </a:lnTo>
                      <a:lnTo>
                        <a:pt x="420" y="321"/>
                      </a:lnTo>
                      <a:lnTo>
                        <a:pt x="412" y="330"/>
                      </a:lnTo>
                      <a:lnTo>
                        <a:pt x="402" y="337"/>
                      </a:lnTo>
                      <a:lnTo>
                        <a:pt x="395" y="343"/>
                      </a:lnTo>
                      <a:lnTo>
                        <a:pt x="385" y="346"/>
                      </a:lnTo>
                      <a:lnTo>
                        <a:pt x="373" y="350"/>
                      </a:lnTo>
                      <a:lnTo>
                        <a:pt x="364" y="353"/>
                      </a:lnTo>
                      <a:lnTo>
                        <a:pt x="354" y="359"/>
                      </a:lnTo>
                      <a:lnTo>
                        <a:pt x="346" y="368"/>
                      </a:lnTo>
                      <a:lnTo>
                        <a:pt x="337" y="377"/>
                      </a:lnTo>
                      <a:lnTo>
                        <a:pt x="325" y="366"/>
                      </a:lnTo>
                      <a:lnTo>
                        <a:pt x="313" y="362"/>
                      </a:lnTo>
                      <a:lnTo>
                        <a:pt x="302" y="364"/>
                      </a:lnTo>
                      <a:lnTo>
                        <a:pt x="290" y="368"/>
                      </a:lnTo>
                      <a:lnTo>
                        <a:pt x="278" y="375"/>
                      </a:lnTo>
                      <a:lnTo>
                        <a:pt x="269" y="381"/>
                      </a:lnTo>
                      <a:lnTo>
                        <a:pt x="257" y="386"/>
                      </a:lnTo>
                      <a:lnTo>
                        <a:pt x="247" y="386"/>
                      </a:lnTo>
                      <a:lnTo>
                        <a:pt x="240" y="382"/>
                      </a:lnTo>
                      <a:lnTo>
                        <a:pt x="230" y="370"/>
                      </a:lnTo>
                      <a:lnTo>
                        <a:pt x="228" y="368"/>
                      </a:lnTo>
                      <a:lnTo>
                        <a:pt x="224" y="366"/>
                      </a:lnTo>
                      <a:lnTo>
                        <a:pt x="220" y="364"/>
                      </a:lnTo>
                      <a:lnTo>
                        <a:pt x="216" y="364"/>
                      </a:lnTo>
                      <a:lnTo>
                        <a:pt x="213" y="366"/>
                      </a:lnTo>
                      <a:lnTo>
                        <a:pt x="209" y="368"/>
                      </a:lnTo>
                      <a:lnTo>
                        <a:pt x="205" y="372"/>
                      </a:lnTo>
                      <a:lnTo>
                        <a:pt x="201" y="373"/>
                      </a:lnTo>
                      <a:lnTo>
                        <a:pt x="199" y="377"/>
                      </a:lnTo>
                      <a:lnTo>
                        <a:pt x="197" y="381"/>
                      </a:lnTo>
                      <a:lnTo>
                        <a:pt x="197" y="373"/>
                      </a:lnTo>
                      <a:lnTo>
                        <a:pt x="197" y="368"/>
                      </a:lnTo>
                      <a:lnTo>
                        <a:pt x="193" y="364"/>
                      </a:lnTo>
                      <a:lnTo>
                        <a:pt x="189" y="361"/>
                      </a:lnTo>
                      <a:lnTo>
                        <a:pt x="185" y="357"/>
                      </a:lnTo>
                      <a:lnTo>
                        <a:pt x="180" y="353"/>
                      </a:lnTo>
                      <a:lnTo>
                        <a:pt x="174" y="352"/>
                      </a:lnTo>
                      <a:lnTo>
                        <a:pt x="168" y="350"/>
                      </a:lnTo>
                      <a:lnTo>
                        <a:pt x="162" y="350"/>
                      </a:lnTo>
                      <a:lnTo>
                        <a:pt x="156" y="348"/>
                      </a:lnTo>
                      <a:lnTo>
                        <a:pt x="153" y="348"/>
                      </a:lnTo>
                      <a:lnTo>
                        <a:pt x="149" y="348"/>
                      </a:lnTo>
                      <a:lnTo>
                        <a:pt x="145" y="350"/>
                      </a:lnTo>
                      <a:lnTo>
                        <a:pt x="143" y="353"/>
                      </a:lnTo>
                      <a:lnTo>
                        <a:pt x="139" y="355"/>
                      </a:lnTo>
                      <a:lnTo>
                        <a:pt x="137" y="359"/>
                      </a:lnTo>
                      <a:lnTo>
                        <a:pt x="135" y="362"/>
                      </a:lnTo>
                      <a:lnTo>
                        <a:pt x="133" y="366"/>
                      </a:lnTo>
                      <a:lnTo>
                        <a:pt x="131" y="368"/>
                      </a:lnTo>
                      <a:lnTo>
                        <a:pt x="127" y="372"/>
                      </a:lnTo>
                      <a:lnTo>
                        <a:pt x="129" y="366"/>
                      </a:lnTo>
                      <a:lnTo>
                        <a:pt x="131" y="359"/>
                      </a:lnTo>
                      <a:lnTo>
                        <a:pt x="129" y="353"/>
                      </a:lnTo>
                      <a:lnTo>
                        <a:pt x="129" y="346"/>
                      </a:lnTo>
                      <a:lnTo>
                        <a:pt x="125" y="341"/>
                      </a:lnTo>
                      <a:lnTo>
                        <a:pt x="122" y="334"/>
                      </a:lnTo>
                      <a:lnTo>
                        <a:pt x="118" y="328"/>
                      </a:lnTo>
                      <a:lnTo>
                        <a:pt x="112" y="325"/>
                      </a:lnTo>
                      <a:lnTo>
                        <a:pt x="106" y="321"/>
                      </a:lnTo>
                      <a:lnTo>
                        <a:pt x="98" y="319"/>
                      </a:lnTo>
                      <a:lnTo>
                        <a:pt x="85" y="321"/>
                      </a:lnTo>
                      <a:lnTo>
                        <a:pt x="87" y="319"/>
                      </a:lnTo>
                      <a:lnTo>
                        <a:pt x="87" y="316"/>
                      </a:lnTo>
                      <a:lnTo>
                        <a:pt x="87" y="314"/>
                      </a:lnTo>
                      <a:lnTo>
                        <a:pt x="85" y="312"/>
                      </a:lnTo>
                      <a:lnTo>
                        <a:pt x="85" y="310"/>
                      </a:lnTo>
                      <a:lnTo>
                        <a:pt x="83" y="308"/>
                      </a:lnTo>
                      <a:lnTo>
                        <a:pt x="81" y="308"/>
                      </a:lnTo>
                      <a:lnTo>
                        <a:pt x="77" y="307"/>
                      </a:lnTo>
                      <a:lnTo>
                        <a:pt x="75" y="307"/>
                      </a:lnTo>
                      <a:lnTo>
                        <a:pt x="73" y="308"/>
                      </a:lnTo>
                      <a:lnTo>
                        <a:pt x="65" y="298"/>
                      </a:lnTo>
                      <a:lnTo>
                        <a:pt x="58" y="289"/>
                      </a:lnTo>
                      <a:lnTo>
                        <a:pt x="48" y="280"/>
                      </a:lnTo>
                      <a:lnTo>
                        <a:pt x="38" y="272"/>
                      </a:lnTo>
                      <a:lnTo>
                        <a:pt x="27" y="265"/>
                      </a:lnTo>
                      <a:lnTo>
                        <a:pt x="17" y="256"/>
                      </a:lnTo>
                      <a:lnTo>
                        <a:pt x="9" y="249"/>
                      </a:lnTo>
                      <a:lnTo>
                        <a:pt x="3" y="238"/>
                      </a:lnTo>
                      <a:lnTo>
                        <a:pt x="0" y="225"/>
                      </a:lnTo>
                      <a:lnTo>
                        <a:pt x="0" y="211"/>
                      </a:lnTo>
                      <a:lnTo>
                        <a:pt x="21" y="197"/>
                      </a:lnTo>
                      <a:lnTo>
                        <a:pt x="33" y="213"/>
                      </a:lnTo>
                      <a:lnTo>
                        <a:pt x="42" y="207"/>
                      </a:lnTo>
                      <a:lnTo>
                        <a:pt x="52" y="200"/>
                      </a:lnTo>
                      <a:lnTo>
                        <a:pt x="62" y="193"/>
                      </a:lnTo>
                      <a:lnTo>
                        <a:pt x="73" y="186"/>
                      </a:lnTo>
                      <a:lnTo>
                        <a:pt x="83" y="179"/>
                      </a:lnTo>
                      <a:lnTo>
                        <a:pt x="94" y="173"/>
                      </a:lnTo>
                      <a:lnTo>
                        <a:pt x="106" y="168"/>
                      </a:lnTo>
                      <a:lnTo>
                        <a:pt x="116" y="164"/>
                      </a:lnTo>
                      <a:lnTo>
                        <a:pt x="127" y="164"/>
                      </a:lnTo>
                      <a:lnTo>
                        <a:pt x="139" y="164"/>
                      </a:lnTo>
                      <a:lnTo>
                        <a:pt x="129" y="168"/>
                      </a:lnTo>
                      <a:lnTo>
                        <a:pt x="120" y="173"/>
                      </a:lnTo>
                      <a:lnTo>
                        <a:pt x="110" y="179"/>
                      </a:lnTo>
                      <a:lnTo>
                        <a:pt x="98" y="184"/>
                      </a:lnTo>
                      <a:lnTo>
                        <a:pt x="89" y="189"/>
                      </a:lnTo>
                      <a:lnTo>
                        <a:pt x="79" y="195"/>
                      </a:lnTo>
                      <a:lnTo>
                        <a:pt x="71" y="202"/>
                      </a:lnTo>
                      <a:lnTo>
                        <a:pt x="65" y="209"/>
                      </a:lnTo>
                      <a:lnTo>
                        <a:pt x="62" y="216"/>
                      </a:lnTo>
                      <a:lnTo>
                        <a:pt x="60" y="224"/>
                      </a:lnTo>
                      <a:lnTo>
                        <a:pt x="71" y="220"/>
                      </a:lnTo>
                      <a:lnTo>
                        <a:pt x="81" y="215"/>
                      </a:lnTo>
                      <a:lnTo>
                        <a:pt x="93" y="209"/>
                      </a:lnTo>
                      <a:lnTo>
                        <a:pt x="102" y="204"/>
                      </a:lnTo>
                      <a:lnTo>
                        <a:pt x="112" y="197"/>
                      </a:lnTo>
                      <a:lnTo>
                        <a:pt x="122" y="191"/>
                      </a:lnTo>
                      <a:lnTo>
                        <a:pt x="133" y="186"/>
                      </a:lnTo>
                      <a:lnTo>
                        <a:pt x="143" y="180"/>
                      </a:lnTo>
                      <a:lnTo>
                        <a:pt x="155" y="177"/>
                      </a:lnTo>
                      <a:lnTo>
                        <a:pt x="166" y="175"/>
                      </a:lnTo>
                      <a:lnTo>
                        <a:pt x="158" y="182"/>
                      </a:lnTo>
                      <a:lnTo>
                        <a:pt x="151" y="188"/>
                      </a:lnTo>
                      <a:lnTo>
                        <a:pt x="143" y="193"/>
                      </a:lnTo>
                      <a:lnTo>
                        <a:pt x="133" y="198"/>
                      </a:lnTo>
                      <a:lnTo>
                        <a:pt x="124" y="202"/>
                      </a:lnTo>
                      <a:lnTo>
                        <a:pt x="116" y="207"/>
                      </a:lnTo>
                      <a:lnTo>
                        <a:pt x="106" y="213"/>
                      </a:lnTo>
                      <a:lnTo>
                        <a:pt x="98" y="218"/>
                      </a:lnTo>
                      <a:lnTo>
                        <a:pt x="93" y="225"/>
                      </a:lnTo>
                      <a:lnTo>
                        <a:pt x="87" y="235"/>
                      </a:lnTo>
                      <a:lnTo>
                        <a:pt x="98" y="235"/>
                      </a:lnTo>
                      <a:lnTo>
                        <a:pt x="110" y="231"/>
                      </a:lnTo>
                      <a:lnTo>
                        <a:pt x="122" y="225"/>
                      </a:lnTo>
                      <a:lnTo>
                        <a:pt x="133" y="220"/>
                      </a:lnTo>
                      <a:lnTo>
                        <a:pt x="143" y="213"/>
                      </a:lnTo>
                      <a:lnTo>
                        <a:pt x="155" y="206"/>
                      </a:lnTo>
                      <a:lnTo>
                        <a:pt x="166" y="200"/>
                      </a:lnTo>
                      <a:lnTo>
                        <a:pt x="178" y="193"/>
                      </a:lnTo>
                      <a:lnTo>
                        <a:pt x="189" y="189"/>
                      </a:lnTo>
                      <a:lnTo>
                        <a:pt x="201" y="186"/>
                      </a:lnTo>
                      <a:lnTo>
                        <a:pt x="201" y="191"/>
                      </a:lnTo>
                      <a:lnTo>
                        <a:pt x="201" y="195"/>
                      </a:lnTo>
                      <a:lnTo>
                        <a:pt x="199" y="200"/>
                      </a:lnTo>
                      <a:lnTo>
                        <a:pt x="195" y="204"/>
                      </a:lnTo>
                      <a:lnTo>
                        <a:pt x="193" y="209"/>
                      </a:lnTo>
                      <a:lnTo>
                        <a:pt x="191" y="213"/>
                      </a:lnTo>
                      <a:lnTo>
                        <a:pt x="191" y="218"/>
                      </a:lnTo>
                      <a:lnTo>
                        <a:pt x="191" y="224"/>
                      </a:lnTo>
                      <a:lnTo>
                        <a:pt x="191" y="227"/>
                      </a:lnTo>
                      <a:lnTo>
                        <a:pt x="195" y="233"/>
                      </a:lnTo>
                      <a:lnTo>
                        <a:pt x="203" y="229"/>
                      </a:lnTo>
                      <a:lnTo>
                        <a:pt x="209" y="222"/>
                      </a:lnTo>
                      <a:lnTo>
                        <a:pt x="213" y="216"/>
                      </a:lnTo>
                      <a:lnTo>
                        <a:pt x="216" y="207"/>
                      </a:lnTo>
                      <a:lnTo>
                        <a:pt x="220" y="200"/>
                      </a:lnTo>
                      <a:lnTo>
                        <a:pt x="224" y="193"/>
                      </a:lnTo>
                      <a:lnTo>
                        <a:pt x="228" y="186"/>
                      </a:lnTo>
                      <a:lnTo>
                        <a:pt x="232" y="179"/>
                      </a:lnTo>
                      <a:lnTo>
                        <a:pt x="238" y="173"/>
                      </a:lnTo>
                      <a:lnTo>
                        <a:pt x="246" y="171"/>
                      </a:lnTo>
                      <a:lnTo>
                        <a:pt x="246" y="175"/>
                      </a:lnTo>
                      <a:lnTo>
                        <a:pt x="244" y="179"/>
                      </a:lnTo>
                      <a:lnTo>
                        <a:pt x="244" y="182"/>
                      </a:lnTo>
                      <a:lnTo>
                        <a:pt x="246" y="188"/>
                      </a:lnTo>
                      <a:lnTo>
                        <a:pt x="246" y="191"/>
                      </a:lnTo>
                      <a:lnTo>
                        <a:pt x="247" y="197"/>
                      </a:lnTo>
                      <a:lnTo>
                        <a:pt x="249" y="200"/>
                      </a:lnTo>
                      <a:lnTo>
                        <a:pt x="249" y="206"/>
                      </a:lnTo>
                      <a:lnTo>
                        <a:pt x="251" y="211"/>
                      </a:lnTo>
                      <a:lnTo>
                        <a:pt x="251" y="215"/>
                      </a:lnTo>
                      <a:lnTo>
                        <a:pt x="255" y="215"/>
                      </a:lnTo>
                      <a:lnTo>
                        <a:pt x="257" y="215"/>
                      </a:lnTo>
                      <a:lnTo>
                        <a:pt x="259" y="213"/>
                      </a:lnTo>
                      <a:lnTo>
                        <a:pt x="261" y="211"/>
                      </a:lnTo>
                      <a:lnTo>
                        <a:pt x="265" y="209"/>
                      </a:lnTo>
                      <a:lnTo>
                        <a:pt x="267" y="207"/>
                      </a:lnTo>
                      <a:lnTo>
                        <a:pt x="269" y="206"/>
                      </a:lnTo>
                      <a:lnTo>
                        <a:pt x="269" y="204"/>
                      </a:lnTo>
                      <a:lnTo>
                        <a:pt x="271" y="202"/>
                      </a:lnTo>
                      <a:lnTo>
                        <a:pt x="271" y="200"/>
                      </a:lnTo>
                      <a:lnTo>
                        <a:pt x="271" y="195"/>
                      </a:lnTo>
                      <a:lnTo>
                        <a:pt x="271" y="189"/>
                      </a:lnTo>
                      <a:lnTo>
                        <a:pt x="271" y="186"/>
                      </a:lnTo>
                      <a:lnTo>
                        <a:pt x="273" y="180"/>
                      </a:lnTo>
                      <a:lnTo>
                        <a:pt x="273" y="175"/>
                      </a:lnTo>
                      <a:lnTo>
                        <a:pt x="275" y="171"/>
                      </a:lnTo>
                      <a:lnTo>
                        <a:pt x="278" y="168"/>
                      </a:lnTo>
                      <a:lnTo>
                        <a:pt x="282" y="166"/>
                      </a:lnTo>
                      <a:lnTo>
                        <a:pt x="286" y="164"/>
                      </a:lnTo>
                      <a:lnTo>
                        <a:pt x="292" y="164"/>
                      </a:lnTo>
                      <a:lnTo>
                        <a:pt x="294" y="170"/>
                      </a:lnTo>
                      <a:lnTo>
                        <a:pt x="296" y="173"/>
                      </a:lnTo>
                      <a:lnTo>
                        <a:pt x="296" y="179"/>
                      </a:lnTo>
                      <a:lnTo>
                        <a:pt x="296" y="186"/>
                      </a:lnTo>
                      <a:lnTo>
                        <a:pt x="296" y="191"/>
                      </a:lnTo>
                      <a:lnTo>
                        <a:pt x="298" y="197"/>
                      </a:lnTo>
                      <a:lnTo>
                        <a:pt x="300" y="202"/>
                      </a:lnTo>
                      <a:lnTo>
                        <a:pt x="302" y="206"/>
                      </a:lnTo>
                      <a:lnTo>
                        <a:pt x="307" y="207"/>
                      </a:lnTo>
                      <a:lnTo>
                        <a:pt x="313" y="209"/>
                      </a:lnTo>
                      <a:lnTo>
                        <a:pt x="317" y="206"/>
                      </a:lnTo>
                      <a:lnTo>
                        <a:pt x="321" y="202"/>
                      </a:lnTo>
                      <a:lnTo>
                        <a:pt x="323" y="198"/>
                      </a:lnTo>
                      <a:lnTo>
                        <a:pt x="323" y="193"/>
                      </a:lnTo>
                      <a:lnTo>
                        <a:pt x="321" y="189"/>
                      </a:lnTo>
                      <a:lnTo>
                        <a:pt x="319" y="184"/>
                      </a:lnTo>
                      <a:lnTo>
                        <a:pt x="319" y="179"/>
                      </a:lnTo>
                      <a:lnTo>
                        <a:pt x="317" y="173"/>
                      </a:lnTo>
                      <a:lnTo>
                        <a:pt x="319" y="168"/>
                      </a:lnTo>
                      <a:lnTo>
                        <a:pt x="321" y="162"/>
                      </a:lnTo>
                      <a:lnTo>
                        <a:pt x="338" y="164"/>
                      </a:lnTo>
                      <a:lnTo>
                        <a:pt x="338" y="166"/>
                      </a:lnTo>
                      <a:lnTo>
                        <a:pt x="338" y="166"/>
                      </a:lnTo>
                      <a:lnTo>
                        <a:pt x="338" y="168"/>
                      </a:lnTo>
                      <a:lnTo>
                        <a:pt x="338" y="168"/>
                      </a:lnTo>
                      <a:lnTo>
                        <a:pt x="338" y="170"/>
                      </a:lnTo>
                      <a:lnTo>
                        <a:pt x="337" y="170"/>
                      </a:lnTo>
                      <a:lnTo>
                        <a:pt x="337" y="171"/>
                      </a:lnTo>
                      <a:lnTo>
                        <a:pt x="335" y="171"/>
                      </a:lnTo>
                      <a:lnTo>
                        <a:pt x="335" y="173"/>
                      </a:lnTo>
                      <a:lnTo>
                        <a:pt x="333" y="173"/>
                      </a:lnTo>
                      <a:lnTo>
                        <a:pt x="352" y="170"/>
                      </a:lnTo>
                      <a:lnTo>
                        <a:pt x="369" y="166"/>
                      </a:lnTo>
                      <a:lnTo>
                        <a:pt x="385" y="157"/>
                      </a:lnTo>
                      <a:lnTo>
                        <a:pt x="402" y="148"/>
                      </a:lnTo>
                      <a:lnTo>
                        <a:pt x="418" y="137"/>
                      </a:lnTo>
                      <a:lnTo>
                        <a:pt x="433" y="125"/>
                      </a:lnTo>
                      <a:lnTo>
                        <a:pt x="447" y="112"/>
                      </a:lnTo>
                      <a:lnTo>
                        <a:pt x="462" y="99"/>
                      </a:lnTo>
                      <a:lnTo>
                        <a:pt x="476" y="87"/>
                      </a:lnTo>
                      <a:lnTo>
                        <a:pt x="489" y="74"/>
                      </a:lnTo>
                      <a:lnTo>
                        <a:pt x="466" y="78"/>
                      </a:lnTo>
                      <a:lnTo>
                        <a:pt x="542" y="0"/>
                      </a:lnTo>
                      <a:lnTo>
                        <a:pt x="546" y="7"/>
                      </a:lnTo>
                      <a:lnTo>
                        <a:pt x="544" y="13"/>
                      </a:lnTo>
                      <a:lnTo>
                        <a:pt x="542" y="18"/>
                      </a:lnTo>
                      <a:lnTo>
                        <a:pt x="538" y="24"/>
                      </a:lnTo>
                      <a:lnTo>
                        <a:pt x="530" y="29"/>
                      </a:lnTo>
                      <a:lnTo>
                        <a:pt x="524" y="34"/>
                      </a:lnTo>
                      <a:lnTo>
                        <a:pt x="517" y="40"/>
                      </a:lnTo>
                      <a:lnTo>
                        <a:pt x="511" y="45"/>
                      </a:lnTo>
                      <a:lnTo>
                        <a:pt x="505" y="51"/>
                      </a:lnTo>
                      <a:lnTo>
                        <a:pt x="501" y="58"/>
                      </a:lnTo>
                      <a:lnTo>
                        <a:pt x="501" y="58"/>
                      </a:lnTo>
                      <a:lnTo>
                        <a:pt x="499" y="56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1560" y="2259000"/>
                  <a:ext cx="12960" cy="1764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7" y="0"/>
                      </a:moveTo>
                      <a:lnTo>
                        <a:pt x="17" y="3"/>
                      </a:lnTo>
                      <a:lnTo>
                        <a:pt x="17" y="7"/>
                      </a:lnTo>
                      <a:lnTo>
                        <a:pt x="17" y="10"/>
                      </a:lnTo>
                      <a:lnTo>
                        <a:pt x="15" y="12"/>
                      </a:lnTo>
                      <a:lnTo>
                        <a:pt x="15" y="14"/>
                      </a:lnTo>
                      <a:lnTo>
                        <a:pt x="13" y="16"/>
                      </a:lnTo>
                      <a:lnTo>
                        <a:pt x="9" y="18"/>
                      </a:lnTo>
                      <a:lnTo>
                        <a:pt x="7" y="19"/>
                      </a:lnTo>
                      <a:lnTo>
                        <a:pt x="6" y="21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7" y="10"/>
                      </a:lnTo>
                      <a:lnTo>
                        <a:pt x="9" y="7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03680" y="2262240"/>
                  <a:ext cx="270720" cy="112680"/>
                </a:xfrm>
                <a:custGeom>
                  <a:avLst/>
                  <a:gdLst/>
                  <a:ahLst/>
                  <a:rect l="l" t="t" r="r" b="b"/>
                  <a:pathLst>
                    <a:path w="378" h="143">
                      <a:moveTo>
                        <a:pt x="339" y="65"/>
                      </a:moveTo>
                      <a:lnTo>
                        <a:pt x="329" y="76"/>
                      </a:lnTo>
                      <a:lnTo>
                        <a:pt x="318" y="83"/>
                      </a:lnTo>
                      <a:lnTo>
                        <a:pt x="304" y="92"/>
                      </a:lnTo>
                      <a:lnTo>
                        <a:pt x="291" y="101"/>
                      </a:lnTo>
                      <a:lnTo>
                        <a:pt x="275" y="108"/>
                      </a:lnTo>
                      <a:lnTo>
                        <a:pt x="260" y="116"/>
                      </a:lnTo>
                      <a:lnTo>
                        <a:pt x="244" y="123"/>
                      </a:lnTo>
                      <a:lnTo>
                        <a:pt x="227" y="128"/>
                      </a:lnTo>
                      <a:lnTo>
                        <a:pt x="211" y="134"/>
                      </a:lnTo>
                      <a:lnTo>
                        <a:pt x="196" y="137"/>
                      </a:lnTo>
                      <a:lnTo>
                        <a:pt x="184" y="135"/>
                      </a:lnTo>
                      <a:lnTo>
                        <a:pt x="174" y="135"/>
                      </a:lnTo>
                      <a:lnTo>
                        <a:pt x="163" y="137"/>
                      </a:lnTo>
                      <a:lnTo>
                        <a:pt x="151" y="139"/>
                      </a:lnTo>
                      <a:lnTo>
                        <a:pt x="142" y="143"/>
                      </a:lnTo>
                      <a:lnTo>
                        <a:pt x="132" y="143"/>
                      </a:lnTo>
                      <a:lnTo>
                        <a:pt x="122" y="143"/>
                      </a:lnTo>
                      <a:lnTo>
                        <a:pt x="112" y="141"/>
                      </a:lnTo>
                      <a:lnTo>
                        <a:pt x="105" y="137"/>
                      </a:lnTo>
                      <a:lnTo>
                        <a:pt x="99" y="130"/>
                      </a:lnTo>
                      <a:lnTo>
                        <a:pt x="93" y="132"/>
                      </a:lnTo>
                      <a:lnTo>
                        <a:pt x="89" y="132"/>
                      </a:lnTo>
                      <a:lnTo>
                        <a:pt x="87" y="134"/>
                      </a:lnTo>
                      <a:lnTo>
                        <a:pt x="83" y="134"/>
                      </a:lnTo>
                      <a:lnTo>
                        <a:pt x="80" y="134"/>
                      </a:lnTo>
                      <a:lnTo>
                        <a:pt x="78" y="132"/>
                      </a:lnTo>
                      <a:lnTo>
                        <a:pt x="74" y="132"/>
                      </a:lnTo>
                      <a:lnTo>
                        <a:pt x="70" y="132"/>
                      </a:lnTo>
                      <a:lnTo>
                        <a:pt x="66" y="132"/>
                      </a:lnTo>
                      <a:lnTo>
                        <a:pt x="62" y="132"/>
                      </a:lnTo>
                      <a:lnTo>
                        <a:pt x="64" y="128"/>
                      </a:lnTo>
                      <a:lnTo>
                        <a:pt x="66" y="125"/>
                      </a:lnTo>
                      <a:lnTo>
                        <a:pt x="68" y="121"/>
                      </a:lnTo>
                      <a:lnTo>
                        <a:pt x="72" y="117"/>
                      </a:lnTo>
                      <a:lnTo>
                        <a:pt x="76" y="116"/>
                      </a:lnTo>
                      <a:lnTo>
                        <a:pt x="80" y="112"/>
                      </a:lnTo>
                      <a:lnTo>
                        <a:pt x="83" y="108"/>
                      </a:lnTo>
                      <a:lnTo>
                        <a:pt x="87" y="107"/>
                      </a:lnTo>
                      <a:lnTo>
                        <a:pt x="89" y="103"/>
                      </a:lnTo>
                      <a:lnTo>
                        <a:pt x="91" y="99"/>
                      </a:lnTo>
                      <a:lnTo>
                        <a:pt x="87" y="94"/>
                      </a:lnTo>
                      <a:lnTo>
                        <a:pt x="78" y="96"/>
                      </a:lnTo>
                      <a:lnTo>
                        <a:pt x="70" y="101"/>
                      </a:lnTo>
                      <a:lnTo>
                        <a:pt x="60" y="107"/>
                      </a:lnTo>
                      <a:lnTo>
                        <a:pt x="52" y="114"/>
                      </a:lnTo>
                      <a:lnTo>
                        <a:pt x="45" y="119"/>
                      </a:lnTo>
                      <a:lnTo>
                        <a:pt x="37" y="123"/>
                      </a:lnTo>
                      <a:lnTo>
                        <a:pt x="29" y="126"/>
                      </a:lnTo>
                      <a:lnTo>
                        <a:pt x="20" y="126"/>
                      </a:lnTo>
                      <a:lnTo>
                        <a:pt x="10" y="123"/>
                      </a:lnTo>
                      <a:lnTo>
                        <a:pt x="0" y="116"/>
                      </a:lnTo>
                      <a:lnTo>
                        <a:pt x="2" y="110"/>
                      </a:lnTo>
                      <a:lnTo>
                        <a:pt x="6" y="105"/>
                      </a:lnTo>
                      <a:lnTo>
                        <a:pt x="10" y="99"/>
                      </a:lnTo>
                      <a:lnTo>
                        <a:pt x="16" y="94"/>
                      </a:lnTo>
                      <a:lnTo>
                        <a:pt x="20" y="90"/>
                      </a:lnTo>
                      <a:lnTo>
                        <a:pt x="25" y="85"/>
                      </a:lnTo>
                      <a:lnTo>
                        <a:pt x="31" y="81"/>
                      </a:lnTo>
                      <a:lnTo>
                        <a:pt x="39" y="79"/>
                      </a:lnTo>
                      <a:lnTo>
                        <a:pt x="45" y="76"/>
                      </a:lnTo>
                      <a:lnTo>
                        <a:pt x="51" y="74"/>
                      </a:lnTo>
                      <a:lnTo>
                        <a:pt x="51" y="76"/>
                      </a:lnTo>
                      <a:lnTo>
                        <a:pt x="51" y="78"/>
                      </a:lnTo>
                      <a:lnTo>
                        <a:pt x="51" y="79"/>
                      </a:lnTo>
                      <a:lnTo>
                        <a:pt x="51" y="81"/>
                      </a:lnTo>
                      <a:lnTo>
                        <a:pt x="52" y="83"/>
                      </a:lnTo>
                      <a:lnTo>
                        <a:pt x="52" y="85"/>
                      </a:lnTo>
                      <a:lnTo>
                        <a:pt x="54" y="87"/>
                      </a:lnTo>
                      <a:lnTo>
                        <a:pt x="56" y="88"/>
                      </a:lnTo>
                      <a:lnTo>
                        <a:pt x="58" y="90"/>
                      </a:lnTo>
                      <a:lnTo>
                        <a:pt x="58" y="92"/>
                      </a:lnTo>
                      <a:lnTo>
                        <a:pt x="66" y="87"/>
                      </a:lnTo>
                      <a:lnTo>
                        <a:pt x="72" y="85"/>
                      </a:lnTo>
                      <a:lnTo>
                        <a:pt x="80" y="85"/>
                      </a:lnTo>
                      <a:lnTo>
                        <a:pt x="87" y="87"/>
                      </a:lnTo>
                      <a:lnTo>
                        <a:pt x="95" y="88"/>
                      </a:lnTo>
                      <a:lnTo>
                        <a:pt x="103" y="92"/>
                      </a:lnTo>
                      <a:lnTo>
                        <a:pt x="111" y="96"/>
                      </a:lnTo>
                      <a:lnTo>
                        <a:pt x="118" y="99"/>
                      </a:lnTo>
                      <a:lnTo>
                        <a:pt x="126" y="103"/>
                      </a:lnTo>
                      <a:lnTo>
                        <a:pt x="134" y="105"/>
                      </a:lnTo>
                      <a:lnTo>
                        <a:pt x="159" y="97"/>
                      </a:lnTo>
                      <a:lnTo>
                        <a:pt x="184" y="90"/>
                      </a:lnTo>
                      <a:lnTo>
                        <a:pt x="209" y="83"/>
                      </a:lnTo>
                      <a:lnTo>
                        <a:pt x="234" y="76"/>
                      </a:lnTo>
                      <a:lnTo>
                        <a:pt x="260" y="67"/>
                      </a:lnTo>
                      <a:lnTo>
                        <a:pt x="285" y="58"/>
                      </a:lnTo>
                      <a:lnTo>
                        <a:pt x="310" y="47"/>
                      </a:lnTo>
                      <a:lnTo>
                        <a:pt x="333" y="33"/>
                      </a:lnTo>
                      <a:lnTo>
                        <a:pt x="356" y="18"/>
                      </a:lnTo>
                      <a:lnTo>
                        <a:pt x="378" y="0"/>
                      </a:lnTo>
                      <a:lnTo>
                        <a:pt x="376" y="9"/>
                      </a:lnTo>
                      <a:lnTo>
                        <a:pt x="372" y="16"/>
                      </a:lnTo>
                      <a:lnTo>
                        <a:pt x="364" y="24"/>
                      </a:lnTo>
                      <a:lnTo>
                        <a:pt x="356" y="33"/>
                      </a:lnTo>
                      <a:lnTo>
                        <a:pt x="349" y="38"/>
                      </a:lnTo>
                      <a:lnTo>
                        <a:pt x="341" y="45"/>
                      </a:lnTo>
                      <a:lnTo>
                        <a:pt x="337" y="51"/>
                      </a:lnTo>
                      <a:lnTo>
                        <a:pt x="333" y="56"/>
                      </a:lnTo>
                      <a:lnTo>
                        <a:pt x="335" y="61"/>
                      </a:lnTo>
                      <a:lnTo>
                        <a:pt x="339" y="67"/>
                      </a:lnTo>
                      <a:lnTo>
                        <a:pt x="339" y="67"/>
                      </a:lnTo>
                      <a:lnTo>
                        <a:pt x="339" y="6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198480" y="2235240"/>
                  <a:ext cx="12960" cy="2052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17" y="0"/>
                      </a:moveTo>
                      <a:lnTo>
                        <a:pt x="19" y="4"/>
                      </a:lnTo>
                      <a:lnTo>
                        <a:pt x="19" y="7"/>
                      </a:lnTo>
                      <a:lnTo>
                        <a:pt x="19" y="11"/>
                      </a:lnTo>
                      <a:lnTo>
                        <a:pt x="17" y="13"/>
                      </a:lnTo>
                      <a:lnTo>
                        <a:pt x="15" y="14"/>
                      </a:lnTo>
                      <a:lnTo>
                        <a:pt x="13" y="18"/>
                      </a:lnTo>
                      <a:lnTo>
                        <a:pt x="11" y="20"/>
                      </a:lnTo>
                      <a:lnTo>
                        <a:pt x="7" y="22"/>
                      </a:lnTo>
                      <a:lnTo>
                        <a:pt x="5" y="23"/>
                      </a:lnTo>
                      <a:lnTo>
                        <a:pt x="3" y="25"/>
                      </a:ln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2" y="16"/>
                      </a:lnTo>
                      <a:lnTo>
                        <a:pt x="3" y="13"/>
                      </a:lnTo>
                      <a:lnTo>
                        <a:pt x="5" y="11"/>
                      </a:lnTo>
                      <a:lnTo>
                        <a:pt x="7" y="7"/>
                      </a:lnTo>
                      <a:lnTo>
                        <a:pt x="9" y="5"/>
                      </a:lnTo>
                      <a:lnTo>
                        <a:pt x="13" y="4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739200" y="2278080"/>
                  <a:ext cx="16920" cy="14400"/>
                </a:xfrm>
                <a:custGeom>
                  <a:avLst/>
                  <a:gdLst/>
                  <a:ahLst/>
                  <a:rect l="l" t="t" r="r" b="b"/>
                  <a:pathLst>
                    <a:path w="23" h="18">
                      <a:moveTo>
                        <a:pt x="23" y="13"/>
                      </a:moveTo>
                      <a:lnTo>
                        <a:pt x="21" y="14"/>
                      </a:lnTo>
                      <a:lnTo>
                        <a:pt x="21" y="16"/>
                      </a:lnTo>
                      <a:lnTo>
                        <a:pt x="17" y="18"/>
                      </a:lnTo>
                      <a:lnTo>
                        <a:pt x="15" y="18"/>
                      </a:lnTo>
                      <a:lnTo>
                        <a:pt x="13" y="18"/>
                      </a:lnTo>
                      <a:lnTo>
                        <a:pt x="9" y="18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2" y="16"/>
                      </a:lnTo>
                      <a:lnTo>
                        <a:pt x="0" y="16"/>
                      </a:lnTo>
                      <a:lnTo>
                        <a:pt x="9" y="0"/>
                      </a:lnTo>
                      <a:lnTo>
                        <a:pt x="23" y="13"/>
                      </a:lnTo>
                      <a:lnTo>
                        <a:pt x="23" y="1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333480" y="2252880"/>
                  <a:ext cx="9720" cy="27000"/>
                </a:xfrm>
                <a:custGeom>
                  <a:avLst/>
                  <a:gdLst/>
                  <a:ahLst/>
                  <a:rect l="l" t="t" r="r" b="b"/>
                  <a:pathLst>
                    <a:path w="16" h="34">
                      <a:moveTo>
                        <a:pt x="8" y="34"/>
                      </a:moveTo>
                      <a:lnTo>
                        <a:pt x="6" y="32"/>
                      </a:lnTo>
                      <a:lnTo>
                        <a:pt x="4" y="30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2" y="9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10" y="5"/>
                      </a:lnTo>
                      <a:lnTo>
                        <a:pt x="10" y="9"/>
                      </a:lnTo>
                      <a:lnTo>
                        <a:pt x="12" y="12"/>
                      </a:lnTo>
                      <a:lnTo>
                        <a:pt x="14" y="16"/>
                      </a:lnTo>
                      <a:lnTo>
                        <a:pt x="16" y="19"/>
                      </a:lnTo>
                      <a:lnTo>
                        <a:pt x="16" y="23"/>
                      </a:lnTo>
                      <a:lnTo>
                        <a:pt x="14" y="27"/>
                      </a:lnTo>
                      <a:lnTo>
                        <a:pt x="12" y="30"/>
                      </a:lnTo>
                      <a:lnTo>
                        <a:pt x="10" y="34"/>
                      </a:lnTo>
                      <a:lnTo>
                        <a:pt x="10" y="3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211440" y="2255760"/>
                  <a:ext cx="11160" cy="1764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0" y="20"/>
                      </a:moveTo>
                      <a:lnTo>
                        <a:pt x="15" y="0"/>
                      </a:lnTo>
                      <a:lnTo>
                        <a:pt x="12" y="13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341760" y="227016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9" h="43">
                      <a:moveTo>
                        <a:pt x="14" y="41"/>
                      </a:moveTo>
                      <a:lnTo>
                        <a:pt x="12" y="43"/>
                      </a:lnTo>
                      <a:lnTo>
                        <a:pt x="8" y="43"/>
                      </a:lnTo>
                      <a:lnTo>
                        <a:pt x="6" y="43"/>
                      </a:lnTo>
                      <a:lnTo>
                        <a:pt x="4" y="41"/>
                      </a:lnTo>
                      <a:lnTo>
                        <a:pt x="4" y="40"/>
                      </a:lnTo>
                      <a:lnTo>
                        <a:pt x="4" y="36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2" y="29"/>
                      </a:lnTo>
                      <a:lnTo>
                        <a:pt x="0" y="27"/>
                      </a:lnTo>
                      <a:lnTo>
                        <a:pt x="31" y="0"/>
                      </a:lnTo>
                      <a:lnTo>
                        <a:pt x="37" y="5"/>
                      </a:lnTo>
                      <a:lnTo>
                        <a:pt x="39" y="11"/>
                      </a:lnTo>
                      <a:lnTo>
                        <a:pt x="39" y="14"/>
                      </a:lnTo>
                      <a:lnTo>
                        <a:pt x="37" y="20"/>
                      </a:lnTo>
                      <a:lnTo>
                        <a:pt x="35" y="23"/>
                      </a:lnTo>
                      <a:lnTo>
                        <a:pt x="31" y="29"/>
                      </a:lnTo>
                      <a:lnTo>
                        <a:pt x="25" y="32"/>
                      </a:lnTo>
                      <a:lnTo>
                        <a:pt x="21" y="36"/>
                      </a:lnTo>
                      <a:lnTo>
                        <a:pt x="17" y="40"/>
                      </a:lnTo>
                      <a:lnTo>
                        <a:pt x="14" y="43"/>
                      </a:lnTo>
                      <a:lnTo>
                        <a:pt x="14" y="43"/>
                      </a:lnTo>
                      <a:lnTo>
                        <a:pt x="14" y="4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41120" y="2282760"/>
                  <a:ext cx="5400" cy="1584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6" y="20"/>
                      </a:lnTo>
                      <a:lnTo>
                        <a:pt x="0" y="18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602320" y="2233800"/>
                  <a:ext cx="81360" cy="83880"/>
                </a:xfrm>
                <a:custGeom>
                  <a:avLst/>
                  <a:gdLst/>
                  <a:ahLst/>
                  <a:rect l="l" t="t" r="r" b="b"/>
                  <a:pathLst>
                    <a:path w="114" h="106">
                      <a:moveTo>
                        <a:pt x="91" y="96"/>
                      </a:moveTo>
                      <a:lnTo>
                        <a:pt x="93" y="92"/>
                      </a:lnTo>
                      <a:lnTo>
                        <a:pt x="95" y="88"/>
                      </a:lnTo>
                      <a:lnTo>
                        <a:pt x="97" y="88"/>
                      </a:lnTo>
                      <a:lnTo>
                        <a:pt x="99" y="90"/>
                      </a:lnTo>
                      <a:lnTo>
                        <a:pt x="101" y="94"/>
                      </a:lnTo>
                      <a:lnTo>
                        <a:pt x="105" y="97"/>
                      </a:lnTo>
                      <a:lnTo>
                        <a:pt x="107" y="101"/>
                      </a:lnTo>
                      <a:lnTo>
                        <a:pt x="108" y="103"/>
                      </a:lnTo>
                      <a:lnTo>
                        <a:pt x="112" y="106"/>
                      </a:lnTo>
                      <a:lnTo>
                        <a:pt x="114" y="106"/>
                      </a:lnTo>
                      <a:lnTo>
                        <a:pt x="97" y="101"/>
                      </a:lnTo>
                      <a:lnTo>
                        <a:pt x="83" y="94"/>
                      </a:lnTo>
                      <a:lnTo>
                        <a:pt x="72" y="85"/>
                      </a:lnTo>
                      <a:lnTo>
                        <a:pt x="60" y="74"/>
                      </a:lnTo>
                      <a:lnTo>
                        <a:pt x="50" y="61"/>
                      </a:lnTo>
                      <a:lnTo>
                        <a:pt x="41" y="49"/>
                      </a:lnTo>
                      <a:lnTo>
                        <a:pt x="31" y="36"/>
                      </a:lnTo>
                      <a:lnTo>
                        <a:pt x="21" y="24"/>
                      </a:lnTo>
                      <a:lnTo>
                        <a:pt x="10" y="11"/>
                      </a:lnTo>
                      <a:lnTo>
                        <a:pt x="0" y="0"/>
                      </a:lnTo>
                      <a:lnTo>
                        <a:pt x="10" y="7"/>
                      </a:lnTo>
                      <a:lnTo>
                        <a:pt x="19" y="16"/>
                      </a:lnTo>
                      <a:lnTo>
                        <a:pt x="31" y="25"/>
                      </a:lnTo>
                      <a:lnTo>
                        <a:pt x="41" y="34"/>
                      </a:lnTo>
                      <a:lnTo>
                        <a:pt x="50" y="45"/>
                      </a:lnTo>
                      <a:lnTo>
                        <a:pt x="60" y="56"/>
                      </a:lnTo>
                      <a:lnTo>
                        <a:pt x="70" y="67"/>
                      </a:lnTo>
                      <a:lnTo>
                        <a:pt x="77" y="76"/>
                      </a:lnTo>
                      <a:lnTo>
                        <a:pt x="85" y="87"/>
                      </a:lnTo>
                      <a:lnTo>
                        <a:pt x="91" y="96"/>
                      </a:lnTo>
                      <a:lnTo>
                        <a:pt x="91" y="96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683680" y="2239920"/>
                  <a:ext cx="12960" cy="41400"/>
                </a:xfrm>
                <a:custGeom>
                  <a:avLst/>
                  <a:gdLst/>
                  <a:ahLst/>
                  <a:rect l="l" t="t" r="r" b="b"/>
                  <a:pathLst>
                    <a:path w="20" h="53">
                      <a:moveTo>
                        <a:pt x="16" y="51"/>
                      </a:moveTo>
                      <a:lnTo>
                        <a:pt x="12" y="49"/>
                      </a:lnTo>
                      <a:lnTo>
                        <a:pt x="8" y="45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2" y="29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6" y="9"/>
                      </a:lnTo>
                      <a:lnTo>
                        <a:pt x="8" y="13"/>
                      </a:lnTo>
                      <a:lnTo>
                        <a:pt x="12" y="18"/>
                      </a:lnTo>
                      <a:lnTo>
                        <a:pt x="14" y="24"/>
                      </a:lnTo>
                      <a:lnTo>
                        <a:pt x="16" y="29"/>
                      </a:lnTo>
                      <a:lnTo>
                        <a:pt x="18" y="35"/>
                      </a:lnTo>
                      <a:lnTo>
                        <a:pt x="20" y="40"/>
                      </a:lnTo>
                      <a:lnTo>
                        <a:pt x="18" y="45"/>
                      </a:lnTo>
                      <a:lnTo>
                        <a:pt x="16" y="53"/>
                      </a:lnTo>
                      <a:lnTo>
                        <a:pt x="16" y="53"/>
                      </a:lnTo>
                      <a:lnTo>
                        <a:pt x="16" y="5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721120" y="2241720"/>
                  <a:ext cx="2880" cy="1728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1" y="22"/>
                      </a:move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1" y="22"/>
                      </a:lnTo>
                      <a:lnTo>
                        <a:pt x="1" y="22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224400" y="2281320"/>
                  <a:ext cx="6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18">
                      <a:moveTo>
                        <a:pt x="10" y="0"/>
                      </a:moveTo>
                      <a:lnTo>
                        <a:pt x="0" y="18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732000" y="2319480"/>
                  <a:ext cx="21240" cy="2052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29" y="18"/>
                      </a:moveTo>
                      <a:lnTo>
                        <a:pt x="29" y="25"/>
                      </a:lnTo>
                      <a:lnTo>
                        <a:pt x="4" y="16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9" y="6"/>
                      </a:lnTo>
                      <a:lnTo>
                        <a:pt x="31" y="11"/>
                      </a:lnTo>
                      <a:lnTo>
                        <a:pt x="31" y="18"/>
                      </a:lnTo>
                      <a:lnTo>
                        <a:pt x="31" y="18"/>
                      </a:lnTo>
                      <a:lnTo>
                        <a:pt x="29" y="1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870160" y="2259000"/>
                  <a:ext cx="19800" cy="47880"/>
                </a:xfrm>
                <a:custGeom>
                  <a:avLst/>
                  <a:gdLst/>
                  <a:ahLst/>
                  <a:rect l="l" t="t" r="r" b="b"/>
                  <a:pathLst>
                    <a:path w="27" h="59">
                      <a:moveTo>
                        <a:pt x="25" y="57"/>
                      </a:moveTo>
                      <a:lnTo>
                        <a:pt x="0" y="0"/>
                      </a:lnTo>
                      <a:lnTo>
                        <a:pt x="27" y="50"/>
                      </a:lnTo>
                      <a:lnTo>
                        <a:pt x="27" y="59"/>
                      </a:lnTo>
                      <a:lnTo>
                        <a:pt x="27" y="59"/>
                      </a:lnTo>
                      <a:lnTo>
                        <a:pt x="25" y="57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947920" y="2265480"/>
                  <a:ext cx="18360" cy="30240"/>
                </a:xfrm>
                <a:custGeom>
                  <a:avLst/>
                  <a:gdLst/>
                  <a:ahLst/>
                  <a:rect l="l" t="t" r="r" b="b"/>
                  <a:pathLst>
                    <a:path w="27" h="38">
                      <a:moveTo>
                        <a:pt x="25" y="0"/>
                      </a:moveTo>
                      <a:lnTo>
                        <a:pt x="0" y="38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353640" y="2295720"/>
                  <a:ext cx="32760" cy="3780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31" y="39"/>
                      </a:moveTo>
                      <a:lnTo>
                        <a:pt x="30" y="41"/>
                      </a:lnTo>
                      <a:lnTo>
                        <a:pt x="28" y="41"/>
                      </a:lnTo>
                      <a:lnTo>
                        <a:pt x="26" y="43"/>
                      </a:lnTo>
                      <a:lnTo>
                        <a:pt x="24" y="45"/>
                      </a:lnTo>
                      <a:lnTo>
                        <a:pt x="22" y="46"/>
                      </a:lnTo>
                      <a:lnTo>
                        <a:pt x="20" y="46"/>
                      </a:lnTo>
                      <a:lnTo>
                        <a:pt x="18" y="48"/>
                      </a:lnTo>
                      <a:lnTo>
                        <a:pt x="16" y="48"/>
                      </a:lnTo>
                      <a:lnTo>
                        <a:pt x="14" y="48"/>
                      </a:lnTo>
                      <a:lnTo>
                        <a:pt x="12" y="46"/>
                      </a:lnTo>
                      <a:lnTo>
                        <a:pt x="0" y="34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5" y="7"/>
                      </a:lnTo>
                      <a:lnTo>
                        <a:pt x="39" y="10"/>
                      </a:lnTo>
                      <a:lnTo>
                        <a:pt x="43" y="16"/>
                      </a:lnTo>
                      <a:lnTo>
                        <a:pt x="45" y="19"/>
                      </a:lnTo>
                      <a:lnTo>
                        <a:pt x="47" y="25"/>
                      </a:lnTo>
                      <a:lnTo>
                        <a:pt x="47" y="28"/>
                      </a:lnTo>
                      <a:lnTo>
                        <a:pt x="45" y="34"/>
                      </a:lnTo>
                      <a:lnTo>
                        <a:pt x="39" y="37"/>
                      </a:lnTo>
                      <a:lnTo>
                        <a:pt x="31" y="39"/>
                      </a:lnTo>
                      <a:lnTo>
                        <a:pt x="31" y="3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834960" y="23288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6" h="22">
                      <a:moveTo>
                        <a:pt x="6" y="0"/>
                      </a:moveTo>
                      <a:lnTo>
                        <a:pt x="0" y="22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346440" y="2309760"/>
                  <a:ext cx="68400" cy="101880"/>
                </a:xfrm>
                <a:custGeom>
                  <a:avLst/>
                  <a:gdLst/>
                  <a:ahLst/>
                  <a:rect l="l" t="t" r="r" b="b"/>
                  <a:pathLst>
                    <a:path w="95" h="128">
                      <a:moveTo>
                        <a:pt x="54" y="65"/>
                      </a:moveTo>
                      <a:lnTo>
                        <a:pt x="52" y="72"/>
                      </a:lnTo>
                      <a:lnTo>
                        <a:pt x="50" y="79"/>
                      </a:lnTo>
                      <a:lnTo>
                        <a:pt x="46" y="86"/>
                      </a:lnTo>
                      <a:lnTo>
                        <a:pt x="42" y="95"/>
                      </a:lnTo>
                      <a:lnTo>
                        <a:pt x="37" y="102"/>
                      </a:lnTo>
                      <a:lnTo>
                        <a:pt x="31" y="110"/>
                      </a:lnTo>
                      <a:lnTo>
                        <a:pt x="25" y="115"/>
                      </a:lnTo>
                      <a:lnTo>
                        <a:pt x="17" y="120"/>
                      </a:lnTo>
                      <a:lnTo>
                        <a:pt x="9" y="124"/>
                      </a:lnTo>
                      <a:lnTo>
                        <a:pt x="0" y="128"/>
                      </a:lnTo>
                      <a:lnTo>
                        <a:pt x="6" y="119"/>
                      </a:lnTo>
                      <a:lnTo>
                        <a:pt x="11" y="110"/>
                      </a:lnTo>
                      <a:lnTo>
                        <a:pt x="19" y="101"/>
                      </a:lnTo>
                      <a:lnTo>
                        <a:pt x="27" y="93"/>
                      </a:lnTo>
                      <a:lnTo>
                        <a:pt x="35" y="84"/>
                      </a:lnTo>
                      <a:lnTo>
                        <a:pt x="42" y="75"/>
                      </a:lnTo>
                      <a:lnTo>
                        <a:pt x="48" y="68"/>
                      </a:lnTo>
                      <a:lnTo>
                        <a:pt x="52" y="59"/>
                      </a:lnTo>
                      <a:lnTo>
                        <a:pt x="52" y="50"/>
                      </a:lnTo>
                      <a:lnTo>
                        <a:pt x="50" y="39"/>
                      </a:lnTo>
                      <a:lnTo>
                        <a:pt x="50" y="34"/>
                      </a:lnTo>
                      <a:lnTo>
                        <a:pt x="52" y="28"/>
                      </a:lnTo>
                      <a:lnTo>
                        <a:pt x="58" y="27"/>
                      </a:lnTo>
                      <a:lnTo>
                        <a:pt x="66" y="25"/>
                      </a:lnTo>
                      <a:lnTo>
                        <a:pt x="71" y="23"/>
                      </a:lnTo>
                      <a:lnTo>
                        <a:pt x="79" y="21"/>
                      </a:lnTo>
                      <a:lnTo>
                        <a:pt x="85" y="18"/>
                      </a:lnTo>
                      <a:lnTo>
                        <a:pt x="91" y="14"/>
                      </a:lnTo>
                      <a:lnTo>
                        <a:pt x="93" y="9"/>
                      </a:lnTo>
                      <a:lnTo>
                        <a:pt x="93" y="0"/>
                      </a:lnTo>
                      <a:lnTo>
                        <a:pt x="95" y="7"/>
                      </a:lnTo>
                      <a:lnTo>
                        <a:pt x="95" y="14"/>
                      </a:lnTo>
                      <a:lnTo>
                        <a:pt x="91" y="21"/>
                      </a:lnTo>
                      <a:lnTo>
                        <a:pt x="87" y="27"/>
                      </a:lnTo>
                      <a:lnTo>
                        <a:pt x="79" y="34"/>
                      </a:lnTo>
                      <a:lnTo>
                        <a:pt x="73" y="39"/>
                      </a:lnTo>
                      <a:lnTo>
                        <a:pt x="68" y="45"/>
                      </a:lnTo>
                      <a:lnTo>
                        <a:pt x="62" y="52"/>
                      </a:lnTo>
                      <a:lnTo>
                        <a:pt x="58" y="57"/>
                      </a:lnTo>
                      <a:lnTo>
                        <a:pt x="56" y="66"/>
                      </a:lnTo>
                      <a:lnTo>
                        <a:pt x="56" y="66"/>
                      </a:lnTo>
                      <a:lnTo>
                        <a:pt x="54" y="6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642720" y="233208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712480" y="2270160"/>
                  <a:ext cx="2880" cy="12600"/>
                </a:xfrm>
                <a:custGeom>
                  <a:avLst/>
                  <a:gdLst/>
                  <a:ahLst/>
                  <a:rect l="l" t="t" r="r" b="b"/>
                  <a:pathLst>
                    <a:path w="4" h="16">
                      <a:moveTo>
                        <a:pt x="2" y="15"/>
                      </a:move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731200" y="2273400"/>
                  <a:ext cx="21240" cy="81000"/>
                </a:xfrm>
                <a:custGeom>
                  <a:avLst/>
                  <a:gdLst/>
                  <a:ahLst/>
                  <a:rect l="l" t="t" r="r" b="b"/>
                  <a:pathLst>
                    <a:path w="31" h="101">
                      <a:moveTo>
                        <a:pt x="31" y="99"/>
                      </a:moveTo>
                      <a:lnTo>
                        <a:pt x="27" y="90"/>
                      </a:lnTo>
                      <a:lnTo>
                        <a:pt x="21" y="81"/>
                      </a:lnTo>
                      <a:lnTo>
                        <a:pt x="18" y="70"/>
                      </a:lnTo>
                      <a:lnTo>
                        <a:pt x="12" y="61"/>
                      </a:lnTo>
                      <a:lnTo>
                        <a:pt x="8" y="50"/>
                      </a:lnTo>
                      <a:lnTo>
                        <a:pt x="4" y="39"/>
                      </a:lnTo>
                      <a:lnTo>
                        <a:pt x="2" y="30"/>
                      </a:lnTo>
                      <a:lnTo>
                        <a:pt x="0" y="19"/>
                      </a:lnTo>
                      <a:lnTo>
                        <a:pt x="0" y="9"/>
                      </a:lnTo>
                      <a:lnTo>
                        <a:pt x="2" y="0"/>
                      </a:lnTo>
                      <a:lnTo>
                        <a:pt x="31" y="101"/>
                      </a:lnTo>
                      <a:lnTo>
                        <a:pt x="31" y="101"/>
                      </a:lnTo>
                      <a:lnTo>
                        <a:pt x="31" y="9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609960" y="2354400"/>
                  <a:ext cx="16920" cy="172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23" y="0"/>
                      </a:moveTo>
                      <a:lnTo>
                        <a:pt x="0" y="21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729120" y="2362320"/>
                  <a:ext cx="21240" cy="23760"/>
                </a:xfrm>
                <a:custGeom>
                  <a:avLst/>
                  <a:gdLst/>
                  <a:ahLst/>
                  <a:rect l="l" t="t" r="r" b="b"/>
                  <a:pathLst>
                    <a:path w="31" h="29">
                      <a:moveTo>
                        <a:pt x="29" y="20"/>
                      </a:moveTo>
                      <a:lnTo>
                        <a:pt x="29" y="22"/>
                      </a:lnTo>
                      <a:lnTo>
                        <a:pt x="27" y="22"/>
                      </a:lnTo>
                      <a:lnTo>
                        <a:pt x="27" y="24"/>
                      </a:lnTo>
                      <a:lnTo>
                        <a:pt x="25" y="26"/>
                      </a:lnTo>
                      <a:lnTo>
                        <a:pt x="23" y="26"/>
                      </a:lnTo>
                      <a:lnTo>
                        <a:pt x="22" y="27"/>
                      </a:lnTo>
                      <a:lnTo>
                        <a:pt x="18" y="27"/>
                      </a:lnTo>
                      <a:lnTo>
                        <a:pt x="16" y="29"/>
                      </a:lnTo>
                      <a:lnTo>
                        <a:pt x="14" y="29"/>
                      </a:lnTo>
                      <a:lnTo>
                        <a:pt x="10" y="27"/>
                      </a:lnTo>
                      <a:lnTo>
                        <a:pt x="8" y="26"/>
                      </a:lnTo>
                      <a:lnTo>
                        <a:pt x="4" y="22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6" y="4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20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5" y="9"/>
                      </a:lnTo>
                      <a:lnTo>
                        <a:pt x="25" y="11"/>
                      </a:lnTo>
                      <a:lnTo>
                        <a:pt x="27" y="15"/>
                      </a:lnTo>
                      <a:lnTo>
                        <a:pt x="29" y="18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29" y="2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718240" y="2306880"/>
                  <a:ext cx="14040" cy="2196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18"/>
                      </a:moveTo>
                      <a:lnTo>
                        <a:pt x="4" y="22"/>
                      </a:lnTo>
                      <a:lnTo>
                        <a:pt x="5" y="0"/>
                      </a:lnTo>
                      <a:lnTo>
                        <a:pt x="19" y="29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394400" y="2427480"/>
                  <a:ext cx="16920" cy="4680"/>
                </a:xfrm>
                <a:custGeom>
                  <a:avLst/>
                  <a:gdLst/>
                  <a:ahLst/>
                  <a:rect l="l" t="t" r="r" b="b"/>
                  <a:pathLst>
                    <a:path w="23" h="8">
                      <a:moveTo>
                        <a:pt x="0" y="0"/>
                      </a:moveTo>
                      <a:lnTo>
                        <a:pt x="23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048000" y="2338560"/>
                  <a:ext cx="60120" cy="8568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84" y="0"/>
                      </a:moveTo>
                      <a:lnTo>
                        <a:pt x="0" y="108"/>
                      </a:lnTo>
                      <a:lnTo>
                        <a:pt x="84" y="1"/>
                      </a:lnTo>
                      <a:lnTo>
                        <a:pt x="84" y="1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298920" y="2359080"/>
                  <a:ext cx="21240" cy="34920"/>
                </a:xfrm>
                <a:custGeom>
                  <a:avLst/>
                  <a:gdLst/>
                  <a:ahLst/>
                  <a:rect l="l" t="t" r="r" b="b"/>
                  <a:pathLst>
                    <a:path w="31" h="43">
                      <a:moveTo>
                        <a:pt x="10" y="41"/>
                      </a:moveTo>
                      <a:lnTo>
                        <a:pt x="8" y="41"/>
                      </a:lnTo>
                      <a:lnTo>
                        <a:pt x="6" y="39"/>
                      </a:lnTo>
                      <a:lnTo>
                        <a:pt x="4" y="38"/>
                      </a:lnTo>
                      <a:lnTo>
                        <a:pt x="4" y="36"/>
                      </a:lnTo>
                      <a:lnTo>
                        <a:pt x="2" y="34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2" y="25"/>
                      </a:lnTo>
                      <a:lnTo>
                        <a:pt x="6" y="25"/>
                      </a:lnTo>
                      <a:lnTo>
                        <a:pt x="10" y="23"/>
                      </a:lnTo>
                      <a:lnTo>
                        <a:pt x="12" y="23"/>
                      </a:lnTo>
                      <a:lnTo>
                        <a:pt x="16" y="20"/>
                      </a:lnTo>
                      <a:lnTo>
                        <a:pt x="17" y="18"/>
                      </a:lnTo>
                      <a:lnTo>
                        <a:pt x="19" y="14"/>
                      </a:lnTo>
                      <a:lnTo>
                        <a:pt x="21" y="12"/>
                      </a:lnTo>
                      <a:lnTo>
                        <a:pt x="21" y="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7" y="3"/>
                      </a:lnTo>
                      <a:lnTo>
                        <a:pt x="29" y="9"/>
                      </a:lnTo>
                      <a:lnTo>
                        <a:pt x="31" y="12"/>
                      </a:lnTo>
                      <a:lnTo>
                        <a:pt x="29" y="18"/>
                      </a:lnTo>
                      <a:lnTo>
                        <a:pt x="27" y="21"/>
                      </a:lnTo>
                      <a:lnTo>
                        <a:pt x="23" y="27"/>
                      </a:lnTo>
                      <a:lnTo>
                        <a:pt x="19" y="30"/>
                      </a:lnTo>
                      <a:lnTo>
                        <a:pt x="16" y="36"/>
                      </a:lnTo>
                      <a:lnTo>
                        <a:pt x="14" y="39"/>
                      </a:lnTo>
                      <a:lnTo>
                        <a:pt x="10" y="43"/>
                      </a:lnTo>
                      <a:lnTo>
                        <a:pt x="10" y="43"/>
                      </a:lnTo>
                      <a:lnTo>
                        <a:pt x="10" y="4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309000" y="2362320"/>
                  <a:ext cx="44280" cy="73080"/>
                </a:xfrm>
                <a:custGeom>
                  <a:avLst/>
                  <a:gdLst/>
                  <a:ahLst/>
                  <a:rect l="l" t="t" r="r" b="b"/>
                  <a:pathLst>
                    <a:path w="61" h="92">
                      <a:moveTo>
                        <a:pt x="0" y="92"/>
                      </a:moveTo>
                      <a:lnTo>
                        <a:pt x="0" y="80"/>
                      </a:lnTo>
                      <a:lnTo>
                        <a:pt x="0" y="67"/>
                      </a:lnTo>
                      <a:lnTo>
                        <a:pt x="3" y="56"/>
                      </a:lnTo>
                      <a:lnTo>
                        <a:pt x="9" y="45"/>
                      </a:lnTo>
                      <a:lnTo>
                        <a:pt x="17" y="36"/>
                      </a:lnTo>
                      <a:lnTo>
                        <a:pt x="25" y="27"/>
                      </a:lnTo>
                      <a:lnTo>
                        <a:pt x="32" y="18"/>
                      </a:lnTo>
                      <a:lnTo>
                        <a:pt x="42" y="11"/>
                      </a:lnTo>
                      <a:lnTo>
                        <a:pt x="52" y="6"/>
                      </a:lnTo>
                      <a:lnTo>
                        <a:pt x="61" y="0"/>
                      </a:lnTo>
                      <a:lnTo>
                        <a:pt x="58" y="11"/>
                      </a:lnTo>
                      <a:lnTo>
                        <a:pt x="56" y="22"/>
                      </a:lnTo>
                      <a:lnTo>
                        <a:pt x="50" y="33"/>
                      </a:lnTo>
                      <a:lnTo>
                        <a:pt x="44" y="42"/>
                      </a:lnTo>
                      <a:lnTo>
                        <a:pt x="38" y="51"/>
                      </a:lnTo>
                      <a:lnTo>
                        <a:pt x="30" y="60"/>
                      </a:lnTo>
                      <a:lnTo>
                        <a:pt x="23" y="69"/>
                      </a:lnTo>
                      <a:lnTo>
                        <a:pt x="15" y="78"/>
                      </a:lnTo>
                      <a:lnTo>
                        <a:pt x="7" y="85"/>
                      </a:lnTo>
                      <a:lnTo>
                        <a:pt x="0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397560" y="2373480"/>
                  <a:ext cx="15840" cy="9360"/>
                </a:xfrm>
                <a:custGeom>
                  <a:avLst/>
                  <a:gdLst/>
                  <a:ahLst/>
                  <a:rect l="l" t="t" r="r" b="b"/>
                  <a:pathLst>
                    <a:path w="22" h="11">
                      <a:moveTo>
                        <a:pt x="0" y="11"/>
                      </a:moveTo>
                      <a:lnTo>
                        <a:pt x="6" y="0"/>
                      </a:lnTo>
                      <a:lnTo>
                        <a:pt x="22" y="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711840" y="240660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5" y="9"/>
                      </a:moveTo>
                      <a:lnTo>
                        <a:pt x="25" y="27"/>
                      </a:lnTo>
                      <a:lnTo>
                        <a:pt x="21" y="27"/>
                      </a:lnTo>
                      <a:lnTo>
                        <a:pt x="17" y="27"/>
                      </a:lnTo>
                      <a:lnTo>
                        <a:pt x="16" y="27"/>
                      </a:lnTo>
                      <a:lnTo>
                        <a:pt x="12" y="25"/>
                      </a:lnTo>
                      <a:lnTo>
                        <a:pt x="10" y="24"/>
                      </a:lnTo>
                      <a:lnTo>
                        <a:pt x="8" y="22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6" y="6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21" y="2"/>
                      </a:lnTo>
                      <a:lnTo>
                        <a:pt x="25" y="6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5" y="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709600" y="2344680"/>
                  <a:ext cx="31320" cy="27000"/>
                </a:xfrm>
                <a:custGeom>
                  <a:avLst/>
                  <a:gdLst/>
                  <a:ahLst/>
                  <a:rect l="l" t="t" r="r" b="b"/>
                  <a:pathLst>
                    <a:path w="45" h="34">
                      <a:moveTo>
                        <a:pt x="45" y="30"/>
                      </a:moveTo>
                      <a:lnTo>
                        <a:pt x="41" y="34"/>
                      </a:lnTo>
                      <a:lnTo>
                        <a:pt x="35" y="34"/>
                      </a:lnTo>
                      <a:lnTo>
                        <a:pt x="29" y="32"/>
                      </a:lnTo>
                      <a:lnTo>
                        <a:pt x="23" y="29"/>
                      </a:lnTo>
                      <a:lnTo>
                        <a:pt x="19" y="23"/>
                      </a:lnTo>
                      <a:lnTo>
                        <a:pt x="14" y="18"/>
                      </a:lnTo>
                      <a:lnTo>
                        <a:pt x="10" y="12"/>
                      </a:lnTo>
                      <a:lnTo>
                        <a:pt x="6" y="9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7" y="3"/>
                      </a:lnTo>
                      <a:lnTo>
                        <a:pt x="21" y="5"/>
                      </a:lnTo>
                      <a:lnTo>
                        <a:pt x="25" y="11"/>
                      </a:lnTo>
                      <a:lnTo>
                        <a:pt x="29" y="14"/>
                      </a:lnTo>
                      <a:lnTo>
                        <a:pt x="33" y="18"/>
                      </a:lnTo>
                      <a:lnTo>
                        <a:pt x="37" y="23"/>
                      </a:lnTo>
                      <a:lnTo>
                        <a:pt x="41" y="27"/>
                      </a:lnTo>
                      <a:lnTo>
                        <a:pt x="45" y="30"/>
                      </a:lnTo>
                      <a:lnTo>
                        <a:pt x="45" y="3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228720" y="2382840"/>
                  <a:ext cx="5760" cy="176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8" y="0"/>
                      </a:moveTo>
                      <a:lnTo>
                        <a:pt x="0" y="21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914440" y="2378160"/>
                  <a:ext cx="24120" cy="46080"/>
                </a:xfrm>
                <a:custGeom>
                  <a:avLst/>
                  <a:gdLst/>
                  <a:ahLst/>
                  <a:rect l="l" t="t" r="r" b="b"/>
                  <a:pathLst>
                    <a:path w="33" h="58">
                      <a:moveTo>
                        <a:pt x="9" y="33"/>
                      </a:moveTo>
                      <a:lnTo>
                        <a:pt x="0" y="58"/>
                      </a:lnTo>
                      <a:lnTo>
                        <a:pt x="2" y="27"/>
                      </a:lnTo>
                      <a:lnTo>
                        <a:pt x="7" y="33"/>
                      </a:lnTo>
                      <a:lnTo>
                        <a:pt x="33" y="0"/>
                      </a:lnTo>
                      <a:lnTo>
                        <a:pt x="17" y="38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9" y="3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268680" y="2405160"/>
                  <a:ext cx="18720" cy="2520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26" y="9"/>
                      </a:moveTo>
                      <a:lnTo>
                        <a:pt x="26" y="15"/>
                      </a:lnTo>
                      <a:lnTo>
                        <a:pt x="26" y="18"/>
                      </a:lnTo>
                      <a:lnTo>
                        <a:pt x="26" y="20"/>
                      </a:lnTo>
                      <a:lnTo>
                        <a:pt x="24" y="22"/>
                      </a:lnTo>
                      <a:lnTo>
                        <a:pt x="20" y="24"/>
                      </a:lnTo>
                      <a:lnTo>
                        <a:pt x="18" y="26"/>
                      </a:lnTo>
                      <a:lnTo>
                        <a:pt x="16" y="27"/>
                      </a:lnTo>
                      <a:lnTo>
                        <a:pt x="14" y="27"/>
                      </a:lnTo>
                      <a:lnTo>
                        <a:pt x="12" y="29"/>
                      </a:lnTo>
                      <a:lnTo>
                        <a:pt x="10" y="31"/>
                      </a:lnTo>
                      <a:lnTo>
                        <a:pt x="6" y="29"/>
                      </a:lnTo>
                      <a:lnTo>
                        <a:pt x="4" y="26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3"/>
                      </a:lnTo>
                      <a:lnTo>
                        <a:pt x="2" y="9"/>
                      </a:lnTo>
                      <a:lnTo>
                        <a:pt x="4" y="6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26" y="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931720" y="2395440"/>
                  <a:ext cx="18360" cy="47880"/>
                </a:xfrm>
                <a:custGeom>
                  <a:avLst/>
                  <a:gdLst/>
                  <a:ahLst/>
                  <a:rect l="l" t="t" r="r" b="b"/>
                  <a:pathLst>
                    <a:path w="25" h="59">
                      <a:moveTo>
                        <a:pt x="8" y="56"/>
                      </a:moveTo>
                      <a:lnTo>
                        <a:pt x="4" y="59"/>
                      </a:lnTo>
                      <a:lnTo>
                        <a:pt x="2" y="54"/>
                      </a:lnTo>
                      <a:lnTo>
                        <a:pt x="2" y="47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5"/>
                      </a:lnTo>
                      <a:lnTo>
                        <a:pt x="11" y="0"/>
                      </a:lnTo>
                      <a:lnTo>
                        <a:pt x="19" y="5"/>
                      </a:lnTo>
                      <a:lnTo>
                        <a:pt x="23" y="11"/>
                      </a:lnTo>
                      <a:lnTo>
                        <a:pt x="25" y="16"/>
                      </a:lnTo>
                      <a:lnTo>
                        <a:pt x="25" y="21"/>
                      </a:lnTo>
                      <a:lnTo>
                        <a:pt x="23" y="27"/>
                      </a:lnTo>
                      <a:lnTo>
                        <a:pt x="21" y="32"/>
                      </a:lnTo>
                      <a:lnTo>
                        <a:pt x="17" y="38"/>
                      </a:lnTo>
                      <a:lnTo>
                        <a:pt x="15" y="43"/>
                      </a:lnTo>
                      <a:lnTo>
                        <a:pt x="11" y="50"/>
                      </a:lnTo>
                      <a:lnTo>
                        <a:pt x="8" y="56"/>
                      </a:lnTo>
                      <a:lnTo>
                        <a:pt x="8" y="56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696000" y="2451240"/>
                  <a:ext cx="18720" cy="17280"/>
                </a:xfrm>
                <a:custGeom>
                  <a:avLst/>
                  <a:gdLst/>
                  <a:ahLst/>
                  <a:rect l="l" t="t" r="r" b="b"/>
                  <a:pathLst>
                    <a:path w="25" h="22">
                      <a:moveTo>
                        <a:pt x="23" y="13"/>
                      </a:moveTo>
                      <a:lnTo>
                        <a:pt x="23" y="22"/>
                      </a:lnTo>
                      <a:lnTo>
                        <a:pt x="21" y="22"/>
                      </a:lnTo>
                      <a:lnTo>
                        <a:pt x="19" y="22"/>
                      </a:lnTo>
                      <a:lnTo>
                        <a:pt x="15" y="22"/>
                      </a:lnTo>
                      <a:lnTo>
                        <a:pt x="13" y="20"/>
                      </a:lnTo>
                      <a:lnTo>
                        <a:pt x="11" y="20"/>
                      </a:lnTo>
                      <a:lnTo>
                        <a:pt x="9" y="18"/>
                      </a:lnTo>
                      <a:lnTo>
                        <a:pt x="6" y="18"/>
                      </a:lnTo>
                      <a:lnTo>
                        <a:pt x="4" y="16"/>
                      </a:lnTo>
                      <a:lnTo>
                        <a:pt x="2" y="15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3" y="6"/>
                      </a:lnTo>
                      <a:lnTo>
                        <a:pt x="25" y="9"/>
                      </a:lnTo>
                      <a:lnTo>
                        <a:pt x="23" y="13"/>
                      </a:lnTo>
                      <a:lnTo>
                        <a:pt x="23" y="1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040800" y="2413080"/>
                  <a:ext cx="45720" cy="65160"/>
                </a:xfrm>
                <a:custGeom>
                  <a:avLst/>
                  <a:gdLst/>
                  <a:ahLst/>
                  <a:rect l="l" t="t" r="r" b="b"/>
                  <a:pathLst>
                    <a:path w="64" h="83">
                      <a:moveTo>
                        <a:pt x="0" y="82"/>
                      </a:moveTo>
                      <a:lnTo>
                        <a:pt x="64" y="0"/>
                      </a:lnTo>
                      <a:lnTo>
                        <a:pt x="15" y="71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046560" y="2436840"/>
                  <a:ext cx="81360" cy="236520"/>
                </a:xfrm>
                <a:custGeom>
                  <a:avLst/>
                  <a:gdLst/>
                  <a:ahLst/>
                  <a:rect l="l" t="t" r="r" b="b"/>
                  <a:pathLst>
                    <a:path w="114" h="298">
                      <a:moveTo>
                        <a:pt x="94" y="101"/>
                      </a:moveTo>
                      <a:lnTo>
                        <a:pt x="94" y="97"/>
                      </a:lnTo>
                      <a:lnTo>
                        <a:pt x="92" y="94"/>
                      </a:lnTo>
                      <a:lnTo>
                        <a:pt x="92" y="88"/>
                      </a:lnTo>
                      <a:lnTo>
                        <a:pt x="92" y="85"/>
                      </a:lnTo>
                      <a:lnTo>
                        <a:pt x="91" y="79"/>
                      </a:lnTo>
                      <a:lnTo>
                        <a:pt x="91" y="76"/>
                      </a:lnTo>
                      <a:lnTo>
                        <a:pt x="89" y="70"/>
                      </a:lnTo>
                      <a:lnTo>
                        <a:pt x="87" y="65"/>
                      </a:lnTo>
                      <a:lnTo>
                        <a:pt x="85" y="61"/>
                      </a:lnTo>
                      <a:lnTo>
                        <a:pt x="81" y="58"/>
                      </a:lnTo>
                      <a:lnTo>
                        <a:pt x="77" y="63"/>
                      </a:lnTo>
                      <a:lnTo>
                        <a:pt x="75" y="70"/>
                      </a:lnTo>
                      <a:lnTo>
                        <a:pt x="75" y="76"/>
                      </a:lnTo>
                      <a:lnTo>
                        <a:pt x="75" y="83"/>
                      </a:lnTo>
                      <a:lnTo>
                        <a:pt x="77" y="90"/>
                      </a:lnTo>
                      <a:lnTo>
                        <a:pt x="79" y="99"/>
                      </a:lnTo>
                      <a:lnTo>
                        <a:pt x="81" y="106"/>
                      </a:lnTo>
                      <a:lnTo>
                        <a:pt x="83" y="114"/>
                      </a:lnTo>
                      <a:lnTo>
                        <a:pt x="83" y="121"/>
                      </a:lnTo>
                      <a:lnTo>
                        <a:pt x="85" y="128"/>
                      </a:lnTo>
                      <a:lnTo>
                        <a:pt x="81" y="124"/>
                      </a:lnTo>
                      <a:lnTo>
                        <a:pt x="79" y="119"/>
                      </a:lnTo>
                      <a:lnTo>
                        <a:pt x="77" y="114"/>
                      </a:lnTo>
                      <a:lnTo>
                        <a:pt x="75" y="106"/>
                      </a:lnTo>
                      <a:lnTo>
                        <a:pt x="75" y="101"/>
                      </a:lnTo>
                      <a:lnTo>
                        <a:pt x="73" y="94"/>
                      </a:lnTo>
                      <a:lnTo>
                        <a:pt x="71" y="88"/>
                      </a:lnTo>
                      <a:lnTo>
                        <a:pt x="67" y="83"/>
                      </a:lnTo>
                      <a:lnTo>
                        <a:pt x="63" y="79"/>
                      </a:lnTo>
                      <a:lnTo>
                        <a:pt x="56" y="78"/>
                      </a:lnTo>
                      <a:lnTo>
                        <a:pt x="58" y="85"/>
                      </a:lnTo>
                      <a:lnTo>
                        <a:pt x="60" y="94"/>
                      </a:lnTo>
                      <a:lnTo>
                        <a:pt x="62" y="105"/>
                      </a:lnTo>
                      <a:lnTo>
                        <a:pt x="65" y="114"/>
                      </a:lnTo>
                      <a:lnTo>
                        <a:pt x="69" y="124"/>
                      </a:lnTo>
                      <a:lnTo>
                        <a:pt x="69" y="135"/>
                      </a:lnTo>
                      <a:lnTo>
                        <a:pt x="69" y="144"/>
                      </a:lnTo>
                      <a:lnTo>
                        <a:pt x="67" y="153"/>
                      </a:lnTo>
                      <a:lnTo>
                        <a:pt x="60" y="162"/>
                      </a:lnTo>
                      <a:lnTo>
                        <a:pt x="50" y="170"/>
                      </a:lnTo>
                      <a:lnTo>
                        <a:pt x="44" y="164"/>
                      </a:lnTo>
                      <a:lnTo>
                        <a:pt x="42" y="168"/>
                      </a:lnTo>
                      <a:lnTo>
                        <a:pt x="42" y="171"/>
                      </a:lnTo>
                      <a:lnTo>
                        <a:pt x="40" y="177"/>
                      </a:lnTo>
                      <a:lnTo>
                        <a:pt x="38" y="180"/>
                      </a:lnTo>
                      <a:lnTo>
                        <a:pt x="36" y="184"/>
                      </a:lnTo>
                      <a:lnTo>
                        <a:pt x="34" y="188"/>
                      </a:lnTo>
                      <a:lnTo>
                        <a:pt x="32" y="191"/>
                      </a:lnTo>
                      <a:lnTo>
                        <a:pt x="31" y="195"/>
                      </a:lnTo>
                      <a:lnTo>
                        <a:pt x="27" y="198"/>
                      </a:lnTo>
                      <a:lnTo>
                        <a:pt x="25" y="202"/>
                      </a:lnTo>
                      <a:lnTo>
                        <a:pt x="27" y="206"/>
                      </a:lnTo>
                      <a:lnTo>
                        <a:pt x="73" y="159"/>
                      </a:lnTo>
                      <a:lnTo>
                        <a:pt x="79" y="171"/>
                      </a:lnTo>
                      <a:lnTo>
                        <a:pt x="81" y="184"/>
                      </a:lnTo>
                      <a:lnTo>
                        <a:pt x="77" y="195"/>
                      </a:lnTo>
                      <a:lnTo>
                        <a:pt x="71" y="207"/>
                      </a:lnTo>
                      <a:lnTo>
                        <a:pt x="63" y="218"/>
                      </a:lnTo>
                      <a:lnTo>
                        <a:pt x="54" y="231"/>
                      </a:lnTo>
                      <a:lnTo>
                        <a:pt x="46" y="242"/>
                      </a:lnTo>
                      <a:lnTo>
                        <a:pt x="38" y="252"/>
                      </a:lnTo>
                      <a:lnTo>
                        <a:pt x="34" y="265"/>
                      </a:lnTo>
                      <a:lnTo>
                        <a:pt x="32" y="276"/>
                      </a:lnTo>
                      <a:lnTo>
                        <a:pt x="46" y="260"/>
                      </a:lnTo>
                      <a:lnTo>
                        <a:pt x="25" y="298"/>
                      </a:lnTo>
                      <a:lnTo>
                        <a:pt x="23" y="298"/>
                      </a:lnTo>
                      <a:lnTo>
                        <a:pt x="23" y="298"/>
                      </a:lnTo>
                      <a:lnTo>
                        <a:pt x="25" y="296"/>
                      </a:lnTo>
                      <a:lnTo>
                        <a:pt x="27" y="294"/>
                      </a:lnTo>
                      <a:lnTo>
                        <a:pt x="29" y="292"/>
                      </a:lnTo>
                      <a:lnTo>
                        <a:pt x="31" y="289"/>
                      </a:lnTo>
                      <a:lnTo>
                        <a:pt x="32" y="285"/>
                      </a:lnTo>
                      <a:lnTo>
                        <a:pt x="32" y="283"/>
                      </a:lnTo>
                      <a:lnTo>
                        <a:pt x="32" y="279"/>
                      </a:lnTo>
                      <a:lnTo>
                        <a:pt x="32" y="276"/>
                      </a:lnTo>
                      <a:lnTo>
                        <a:pt x="31" y="276"/>
                      </a:lnTo>
                      <a:lnTo>
                        <a:pt x="27" y="276"/>
                      </a:lnTo>
                      <a:lnTo>
                        <a:pt x="23" y="278"/>
                      </a:lnTo>
                      <a:lnTo>
                        <a:pt x="21" y="279"/>
                      </a:lnTo>
                      <a:lnTo>
                        <a:pt x="17" y="283"/>
                      </a:lnTo>
                      <a:lnTo>
                        <a:pt x="13" y="285"/>
                      </a:lnTo>
                      <a:lnTo>
                        <a:pt x="9" y="285"/>
                      </a:lnTo>
                      <a:lnTo>
                        <a:pt x="5" y="285"/>
                      </a:lnTo>
                      <a:lnTo>
                        <a:pt x="1" y="281"/>
                      </a:lnTo>
                      <a:lnTo>
                        <a:pt x="0" y="274"/>
                      </a:lnTo>
                      <a:lnTo>
                        <a:pt x="9" y="258"/>
                      </a:lnTo>
                      <a:lnTo>
                        <a:pt x="17" y="243"/>
                      </a:lnTo>
                      <a:lnTo>
                        <a:pt x="21" y="231"/>
                      </a:lnTo>
                      <a:lnTo>
                        <a:pt x="23" y="218"/>
                      </a:lnTo>
                      <a:lnTo>
                        <a:pt x="25" y="207"/>
                      </a:lnTo>
                      <a:lnTo>
                        <a:pt x="29" y="195"/>
                      </a:lnTo>
                      <a:lnTo>
                        <a:pt x="31" y="184"/>
                      </a:lnTo>
                      <a:lnTo>
                        <a:pt x="34" y="171"/>
                      </a:lnTo>
                      <a:lnTo>
                        <a:pt x="42" y="157"/>
                      </a:lnTo>
                      <a:lnTo>
                        <a:pt x="52" y="142"/>
                      </a:lnTo>
                      <a:lnTo>
                        <a:pt x="48" y="141"/>
                      </a:lnTo>
                      <a:lnTo>
                        <a:pt x="44" y="141"/>
                      </a:lnTo>
                      <a:lnTo>
                        <a:pt x="42" y="141"/>
                      </a:lnTo>
                      <a:lnTo>
                        <a:pt x="40" y="139"/>
                      </a:lnTo>
                      <a:lnTo>
                        <a:pt x="38" y="137"/>
                      </a:lnTo>
                      <a:lnTo>
                        <a:pt x="36" y="137"/>
                      </a:lnTo>
                      <a:lnTo>
                        <a:pt x="34" y="133"/>
                      </a:lnTo>
                      <a:lnTo>
                        <a:pt x="32" y="132"/>
                      </a:lnTo>
                      <a:lnTo>
                        <a:pt x="32" y="128"/>
                      </a:lnTo>
                      <a:lnTo>
                        <a:pt x="31" y="124"/>
                      </a:lnTo>
                      <a:lnTo>
                        <a:pt x="36" y="110"/>
                      </a:lnTo>
                      <a:lnTo>
                        <a:pt x="42" y="97"/>
                      </a:lnTo>
                      <a:lnTo>
                        <a:pt x="50" y="85"/>
                      </a:lnTo>
                      <a:lnTo>
                        <a:pt x="60" y="72"/>
                      </a:lnTo>
                      <a:lnTo>
                        <a:pt x="67" y="60"/>
                      </a:lnTo>
                      <a:lnTo>
                        <a:pt x="77" y="47"/>
                      </a:lnTo>
                      <a:lnTo>
                        <a:pt x="85" y="36"/>
                      </a:lnTo>
                      <a:lnTo>
                        <a:pt x="94" y="24"/>
                      </a:lnTo>
                      <a:lnTo>
                        <a:pt x="104" y="11"/>
                      </a:lnTo>
                      <a:lnTo>
                        <a:pt x="114" y="0"/>
                      </a:lnTo>
                      <a:lnTo>
                        <a:pt x="96" y="101"/>
                      </a:lnTo>
                      <a:lnTo>
                        <a:pt x="96" y="101"/>
                      </a:lnTo>
                      <a:lnTo>
                        <a:pt x="94" y="10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901840" y="2422440"/>
                  <a:ext cx="2520" cy="19080"/>
                </a:xfrm>
                <a:custGeom>
                  <a:avLst/>
                  <a:gdLst/>
                  <a:ahLst/>
                  <a:rect l="l" t="t" r="r" b="b"/>
                  <a:pathLst>
                    <a:path w="4" h="23">
                      <a:moveTo>
                        <a:pt x="0" y="0"/>
                      </a:moveTo>
                      <a:lnTo>
                        <a:pt x="4" y="23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941800" y="2427480"/>
                  <a:ext cx="14040" cy="3780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7"/>
                      </a:move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2" y="29"/>
                      </a:lnTo>
                      <a:lnTo>
                        <a:pt x="4" y="24"/>
                      </a:lnTo>
                      <a:lnTo>
                        <a:pt x="8" y="20"/>
                      </a:lnTo>
                      <a:lnTo>
                        <a:pt x="10" y="15"/>
                      </a:lnTo>
                      <a:lnTo>
                        <a:pt x="14" y="9"/>
                      </a:lnTo>
                      <a:lnTo>
                        <a:pt x="16" y="6"/>
                      </a:lnTo>
                      <a:lnTo>
                        <a:pt x="20" y="0"/>
                      </a:lnTo>
                      <a:lnTo>
                        <a:pt x="22" y="6"/>
                      </a:lnTo>
                      <a:lnTo>
                        <a:pt x="22" y="11"/>
                      </a:lnTo>
                      <a:lnTo>
                        <a:pt x="20" y="15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2" y="29"/>
                      </a:lnTo>
                      <a:lnTo>
                        <a:pt x="10" y="35"/>
                      </a:lnTo>
                      <a:lnTo>
                        <a:pt x="6" y="38"/>
                      </a:lnTo>
                      <a:lnTo>
                        <a:pt x="4" y="44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298920" y="2457360"/>
                  <a:ext cx="21240" cy="241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27" y="26"/>
                      </a:moveTo>
                      <a:lnTo>
                        <a:pt x="19" y="31"/>
                      </a:lnTo>
                      <a:lnTo>
                        <a:pt x="14" y="31"/>
                      </a:lnTo>
                      <a:lnTo>
                        <a:pt x="10" y="29"/>
                      </a:lnTo>
                      <a:lnTo>
                        <a:pt x="6" y="27"/>
                      </a:lnTo>
                      <a:lnTo>
                        <a:pt x="4" y="22"/>
                      </a:lnTo>
                      <a:lnTo>
                        <a:pt x="4" y="18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0" y="13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1" y="4"/>
                      </a:lnTo>
                      <a:lnTo>
                        <a:pt x="23" y="6"/>
                      </a:lnTo>
                      <a:lnTo>
                        <a:pt x="25" y="8"/>
                      </a:lnTo>
                      <a:lnTo>
                        <a:pt x="27" y="11"/>
                      </a:lnTo>
                      <a:lnTo>
                        <a:pt x="27" y="15"/>
                      </a:lnTo>
                      <a:lnTo>
                        <a:pt x="27" y="17"/>
                      </a:lnTo>
                      <a:lnTo>
                        <a:pt x="29" y="20"/>
                      </a:lnTo>
                      <a:lnTo>
                        <a:pt x="27" y="24"/>
                      </a:lnTo>
                      <a:lnTo>
                        <a:pt x="27" y="26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920560" y="2430360"/>
                  <a:ext cx="6840" cy="28800"/>
                </a:xfrm>
                <a:custGeom>
                  <a:avLst/>
                  <a:gdLst/>
                  <a:ahLst/>
                  <a:rect l="l" t="t" r="r" b="b"/>
                  <a:pathLst>
                    <a:path w="10" h="36">
                      <a:moveTo>
                        <a:pt x="8" y="34"/>
                      </a:moveTo>
                      <a:lnTo>
                        <a:pt x="0" y="0"/>
                      </a:lnTo>
                      <a:lnTo>
                        <a:pt x="10" y="20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671880" y="2489400"/>
                  <a:ext cx="19800" cy="21960"/>
                </a:xfrm>
                <a:custGeom>
                  <a:avLst/>
                  <a:gdLst/>
                  <a:ahLst/>
                  <a:rect l="l" t="t" r="r" b="b"/>
                  <a:pathLst>
                    <a:path w="29" h="27">
                      <a:moveTo>
                        <a:pt x="27" y="14"/>
                      </a:moveTo>
                      <a:lnTo>
                        <a:pt x="29" y="18"/>
                      </a:lnTo>
                      <a:lnTo>
                        <a:pt x="29" y="20"/>
                      </a:lnTo>
                      <a:lnTo>
                        <a:pt x="27" y="21"/>
                      </a:lnTo>
                      <a:lnTo>
                        <a:pt x="27" y="23"/>
                      </a:lnTo>
                      <a:lnTo>
                        <a:pt x="25" y="25"/>
                      </a:lnTo>
                      <a:lnTo>
                        <a:pt x="23" y="27"/>
                      </a:lnTo>
                      <a:lnTo>
                        <a:pt x="21" y="27"/>
                      </a:lnTo>
                      <a:lnTo>
                        <a:pt x="19" y="27"/>
                      </a:lnTo>
                      <a:lnTo>
                        <a:pt x="15" y="27"/>
                      </a:lnTo>
                      <a:lnTo>
                        <a:pt x="13" y="27"/>
                      </a:lnTo>
                      <a:lnTo>
                        <a:pt x="0" y="25"/>
                      </a:lnTo>
                      <a:lnTo>
                        <a:pt x="0" y="2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3" y="3"/>
                      </a:lnTo>
                      <a:lnTo>
                        <a:pt x="25" y="5"/>
                      </a:lnTo>
                      <a:lnTo>
                        <a:pt x="25" y="7"/>
                      </a:lnTo>
                      <a:lnTo>
                        <a:pt x="27" y="9"/>
                      </a:lnTo>
                      <a:lnTo>
                        <a:pt x="27" y="12"/>
                      </a:lnTo>
                      <a:lnTo>
                        <a:pt x="27" y="14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884560" y="2449440"/>
                  <a:ext cx="8280" cy="22320"/>
                </a:xfrm>
                <a:custGeom>
                  <a:avLst/>
                  <a:gdLst/>
                  <a:ahLst/>
                  <a:rect l="l" t="t" r="r" b="b"/>
                  <a:pathLst>
                    <a:path w="12" h="27">
                      <a:moveTo>
                        <a:pt x="10" y="27"/>
                      </a:moveTo>
                      <a:lnTo>
                        <a:pt x="0" y="27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8" y="8"/>
                      </a:lnTo>
                      <a:lnTo>
                        <a:pt x="8" y="11"/>
                      </a:lnTo>
                      <a:lnTo>
                        <a:pt x="10" y="13"/>
                      </a:lnTo>
                      <a:lnTo>
                        <a:pt x="10" y="17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4"/>
                      </a:lnTo>
                      <a:lnTo>
                        <a:pt x="10" y="27"/>
                      </a:lnTo>
                      <a:lnTo>
                        <a:pt x="10" y="2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909040" y="2455920"/>
                  <a:ext cx="6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8" y="30"/>
                      </a:moveTo>
                      <a:lnTo>
                        <a:pt x="0" y="0"/>
                      </a:lnTo>
                      <a:lnTo>
                        <a:pt x="10" y="16"/>
                      </a:lnTo>
                      <a:lnTo>
                        <a:pt x="8" y="30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949000" y="2459160"/>
                  <a:ext cx="21240" cy="63360"/>
                </a:xfrm>
                <a:custGeom>
                  <a:avLst/>
                  <a:gdLst/>
                  <a:ahLst/>
                  <a:rect l="l" t="t" r="r" b="b"/>
                  <a:pathLst>
                    <a:path w="31" h="81">
                      <a:moveTo>
                        <a:pt x="31" y="54"/>
                      </a:moveTo>
                      <a:lnTo>
                        <a:pt x="27" y="52"/>
                      </a:lnTo>
                      <a:lnTo>
                        <a:pt x="23" y="49"/>
                      </a:lnTo>
                      <a:lnTo>
                        <a:pt x="21" y="45"/>
                      </a:lnTo>
                      <a:lnTo>
                        <a:pt x="19" y="42"/>
                      </a:lnTo>
                      <a:lnTo>
                        <a:pt x="19" y="40"/>
                      </a:lnTo>
                      <a:lnTo>
                        <a:pt x="19" y="36"/>
                      </a:lnTo>
                      <a:lnTo>
                        <a:pt x="17" y="33"/>
                      </a:lnTo>
                      <a:lnTo>
                        <a:pt x="16" y="31"/>
                      </a:lnTo>
                      <a:lnTo>
                        <a:pt x="14" y="27"/>
                      </a:lnTo>
                      <a:lnTo>
                        <a:pt x="10" y="25"/>
                      </a:lnTo>
                      <a:lnTo>
                        <a:pt x="10" y="81"/>
                      </a:lnTo>
                      <a:lnTo>
                        <a:pt x="8" y="74"/>
                      </a:lnTo>
                      <a:lnTo>
                        <a:pt x="6" y="67"/>
                      </a:lnTo>
                      <a:lnTo>
                        <a:pt x="4" y="58"/>
                      </a:lnTo>
                      <a:lnTo>
                        <a:pt x="2" y="49"/>
                      </a:lnTo>
                      <a:lnTo>
                        <a:pt x="0" y="40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4" y="15"/>
                      </a:lnTo>
                      <a:lnTo>
                        <a:pt x="8" y="7"/>
                      </a:lnTo>
                      <a:lnTo>
                        <a:pt x="16" y="0"/>
                      </a:lnTo>
                      <a:lnTo>
                        <a:pt x="19" y="4"/>
                      </a:lnTo>
                      <a:lnTo>
                        <a:pt x="21" y="9"/>
                      </a:lnTo>
                      <a:lnTo>
                        <a:pt x="23" y="15"/>
                      </a:lnTo>
                      <a:lnTo>
                        <a:pt x="25" y="18"/>
                      </a:lnTo>
                      <a:lnTo>
                        <a:pt x="27" y="24"/>
                      </a:lnTo>
                      <a:lnTo>
                        <a:pt x="29" y="31"/>
                      </a:lnTo>
                      <a:lnTo>
                        <a:pt x="31" y="36"/>
                      </a:lnTo>
                      <a:lnTo>
                        <a:pt x="31" y="42"/>
                      </a:lnTo>
                      <a:lnTo>
                        <a:pt x="31" y="49"/>
                      </a:lnTo>
                      <a:lnTo>
                        <a:pt x="31" y="54"/>
                      </a:lnTo>
                      <a:lnTo>
                        <a:pt x="31" y="5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330240" y="25020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40" y="13"/>
                      </a:moveTo>
                      <a:lnTo>
                        <a:pt x="42" y="18"/>
                      </a:lnTo>
                      <a:lnTo>
                        <a:pt x="42" y="20"/>
                      </a:lnTo>
                      <a:lnTo>
                        <a:pt x="40" y="24"/>
                      </a:lnTo>
                      <a:lnTo>
                        <a:pt x="38" y="25"/>
                      </a:lnTo>
                      <a:lnTo>
                        <a:pt x="36" y="27"/>
                      </a:lnTo>
                      <a:lnTo>
                        <a:pt x="34" y="27"/>
                      </a:lnTo>
                      <a:lnTo>
                        <a:pt x="31" y="29"/>
                      </a:lnTo>
                      <a:lnTo>
                        <a:pt x="29" y="29"/>
                      </a:lnTo>
                      <a:lnTo>
                        <a:pt x="25" y="29"/>
                      </a:lnTo>
                      <a:lnTo>
                        <a:pt x="23" y="29"/>
                      </a:lnTo>
                      <a:lnTo>
                        <a:pt x="19" y="29"/>
                      </a:lnTo>
                      <a:lnTo>
                        <a:pt x="15" y="29"/>
                      </a:lnTo>
                      <a:lnTo>
                        <a:pt x="13" y="29"/>
                      </a:lnTo>
                      <a:lnTo>
                        <a:pt x="9" y="27"/>
                      </a:lnTo>
                      <a:lnTo>
                        <a:pt x="7" y="27"/>
                      </a:lnTo>
                      <a:lnTo>
                        <a:pt x="5" y="25"/>
                      </a:lnTo>
                      <a:lnTo>
                        <a:pt x="3" y="22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0" y="15"/>
                      </a:lnTo>
                      <a:lnTo>
                        <a:pt x="3" y="13"/>
                      </a:lnTo>
                      <a:lnTo>
                        <a:pt x="7" y="11"/>
                      </a:lnTo>
                      <a:lnTo>
                        <a:pt x="11" y="7"/>
                      </a:lnTo>
                      <a:lnTo>
                        <a:pt x="15" y="6"/>
                      </a:lnTo>
                      <a:lnTo>
                        <a:pt x="21" y="2"/>
                      </a:lnTo>
                      <a:lnTo>
                        <a:pt x="25" y="0"/>
                      </a:lnTo>
                      <a:lnTo>
                        <a:pt x="31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0" y="15"/>
                      </a:lnTo>
                      <a:lnTo>
                        <a:pt x="40" y="15"/>
                      </a:lnTo>
                      <a:lnTo>
                        <a:pt x="40" y="1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624360" y="2525760"/>
                  <a:ext cx="24120" cy="2700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3" y="9"/>
                      </a:moveTo>
                      <a:lnTo>
                        <a:pt x="23" y="34"/>
                      </a:lnTo>
                      <a:lnTo>
                        <a:pt x="0" y="29"/>
                      </a:lnTo>
                      <a:lnTo>
                        <a:pt x="4" y="27"/>
                      </a:lnTo>
                      <a:lnTo>
                        <a:pt x="8" y="23"/>
                      </a:lnTo>
                      <a:lnTo>
                        <a:pt x="10" y="18"/>
                      </a:lnTo>
                      <a:lnTo>
                        <a:pt x="12" y="12"/>
                      </a:lnTo>
                      <a:lnTo>
                        <a:pt x="16" y="7"/>
                      </a:lnTo>
                      <a:lnTo>
                        <a:pt x="17" y="3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9" y="3"/>
                      </a:lnTo>
                      <a:lnTo>
                        <a:pt x="35" y="9"/>
                      </a:lnTo>
                      <a:lnTo>
                        <a:pt x="35" y="9"/>
                      </a:lnTo>
                      <a:lnTo>
                        <a:pt x="33" y="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387200" y="258912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40">
                      <a:moveTo>
                        <a:pt x="41" y="0"/>
                      </a:moveTo>
                      <a:lnTo>
                        <a:pt x="0" y="40"/>
                      </a:lnTo>
                      <a:lnTo>
                        <a:pt x="4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013440" y="2492280"/>
                  <a:ext cx="14400" cy="98640"/>
                </a:xfrm>
                <a:custGeom>
                  <a:avLst/>
                  <a:gdLst/>
                  <a:ahLst/>
                  <a:rect l="l" t="t" r="r" b="b"/>
                  <a:pathLst>
                    <a:path w="19" h="125">
                      <a:moveTo>
                        <a:pt x="18" y="125"/>
                      </a:moveTo>
                      <a:lnTo>
                        <a:pt x="16" y="114"/>
                      </a:lnTo>
                      <a:lnTo>
                        <a:pt x="12" y="101"/>
                      </a:lnTo>
                      <a:lnTo>
                        <a:pt x="10" y="89"/>
                      </a:lnTo>
                      <a:lnTo>
                        <a:pt x="6" y="74"/>
                      </a:lnTo>
                      <a:lnTo>
                        <a:pt x="4" y="62"/>
                      </a:lnTo>
                      <a:lnTo>
                        <a:pt x="2" y="47"/>
                      </a:lnTo>
                      <a:lnTo>
                        <a:pt x="2" y="35"/>
                      </a:lnTo>
                      <a:lnTo>
                        <a:pt x="0" y="22"/>
                      </a:lnTo>
                      <a:lnTo>
                        <a:pt x="0" y="11"/>
                      </a:lnTo>
                      <a:lnTo>
                        <a:pt x="2" y="0"/>
                      </a:lnTo>
                      <a:lnTo>
                        <a:pt x="19" y="125"/>
                      </a:lnTo>
                      <a:lnTo>
                        <a:pt x="19" y="125"/>
                      </a:lnTo>
                      <a:lnTo>
                        <a:pt x="18" y="12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6382080" y="2524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9" h="43">
                      <a:moveTo>
                        <a:pt x="35" y="36"/>
                      </a:moveTo>
                      <a:lnTo>
                        <a:pt x="33" y="40"/>
                      </a:lnTo>
                      <a:lnTo>
                        <a:pt x="27" y="43"/>
                      </a:lnTo>
                      <a:lnTo>
                        <a:pt x="23" y="43"/>
                      </a:lnTo>
                      <a:lnTo>
                        <a:pt x="20" y="43"/>
                      </a:lnTo>
                      <a:lnTo>
                        <a:pt x="16" y="43"/>
                      </a:lnTo>
                      <a:lnTo>
                        <a:pt x="10" y="40"/>
                      </a:lnTo>
                      <a:lnTo>
                        <a:pt x="6" y="38"/>
                      </a:lnTo>
                      <a:lnTo>
                        <a:pt x="4" y="34"/>
                      </a:lnTo>
                      <a:lnTo>
                        <a:pt x="0" y="29"/>
                      </a:lnTo>
                      <a:lnTo>
                        <a:pt x="0" y="25"/>
                      </a:lnTo>
                      <a:lnTo>
                        <a:pt x="8" y="0"/>
                      </a:lnTo>
                      <a:lnTo>
                        <a:pt x="8" y="5"/>
                      </a:lnTo>
                      <a:lnTo>
                        <a:pt x="10" y="11"/>
                      </a:lnTo>
                      <a:lnTo>
                        <a:pt x="14" y="13"/>
                      </a:lnTo>
                      <a:lnTo>
                        <a:pt x="20" y="14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37" y="23"/>
                      </a:lnTo>
                      <a:lnTo>
                        <a:pt x="39" y="29"/>
                      </a:lnTo>
                      <a:lnTo>
                        <a:pt x="35" y="36"/>
                      </a:lnTo>
                      <a:lnTo>
                        <a:pt x="35" y="36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584400" y="255924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5" y="15"/>
                      </a:move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1" y="24"/>
                      </a:lnTo>
                      <a:lnTo>
                        <a:pt x="27" y="26"/>
                      </a:lnTo>
                      <a:lnTo>
                        <a:pt x="25" y="29"/>
                      </a:lnTo>
                      <a:lnTo>
                        <a:pt x="21" y="31"/>
                      </a:lnTo>
                      <a:lnTo>
                        <a:pt x="17" y="33"/>
                      </a:lnTo>
                      <a:lnTo>
                        <a:pt x="13" y="35"/>
                      </a:lnTo>
                      <a:lnTo>
                        <a:pt x="10" y="35"/>
                      </a:lnTo>
                      <a:lnTo>
                        <a:pt x="6" y="35"/>
                      </a:lnTo>
                      <a:lnTo>
                        <a:pt x="4" y="31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3"/>
                      </a:lnTo>
                      <a:lnTo>
                        <a:pt x="2" y="9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1" y="0"/>
                      </a:lnTo>
                      <a:lnTo>
                        <a:pt x="23" y="2"/>
                      </a:lnTo>
                      <a:lnTo>
                        <a:pt x="25" y="4"/>
                      </a:lnTo>
                      <a:lnTo>
                        <a:pt x="27" y="6"/>
                      </a:lnTo>
                      <a:lnTo>
                        <a:pt x="29" y="8"/>
                      </a:lnTo>
                      <a:lnTo>
                        <a:pt x="31" y="9"/>
                      </a:lnTo>
                      <a:lnTo>
                        <a:pt x="33" y="11"/>
                      </a:lnTo>
                      <a:lnTo>
                        <a:pt x="35" y="13"/>
                      </a:lnTo>
                      <a:lnTo>
                        <a:pt x="37" y="15"/>
                      </a:lnTo>
                      <a:lnTo>
                        <a:pt x="37" y="15"/>
                      </a:lnTo>
                      <a:lnTo>
                        <a:pt x="35" y="1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931720" y="2517840"/>
                  <a:ext cx="15840" cy="3348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5" y="41"/>
                      </a:moveTo>
                      <a:lnTo>
                        <a:pt x="13" y="40"/>
                      </a:lnTo>
                      <a:lnTo>
                        <a:pt x="10" y="36"/>
                      </a:lnTo>
                      <a:lnTo>
                        <a:pt x="8" y="32"/>
                      </a:lnTo>
                      <a:lnTo>
                        <a:pt x="8" y="29"/>
                      </a:lnTo>
                      <a:lnTo>
                        <a:pt x="6" y="23"/>
                      </a:lnTo>
                      <a:lnTo>
                        <a:pt x="4" y="20"/>
                      </a:lnTo>
                      <a:lnTo>
                        <a:pt x="4" y="14"/>
                      </a:lnTo>
                      <a:lnTo>
                        <a:pt x="2" y="11"/>
                      </a:lnTo>
                      <a:lnTo>
                        <a:pt x="2" y="5"/>
                      </a:lnTo>
                      <a:lnTo>
                        <a:pt x="0" y="2"/>
                      </a:lnTo>
                      <a:lnTo>
                        <a:pt x="13" y="0"/>
                      </a:lnTo>
                      <a:lnTo>
                        <a:pt x="15" y="4"/>
                      </a:lnTo>
                      <a:lnTo>
                        <a:pt x="15" y="7"/>
                      </a:lnTo>
                      <a:lnTo>
                        <a:pt x="17" y="13"/>
                      </a:lnTo>
                      <a:lnTo>
                        <a:pt x="19" y="16"/>
                      </a:lnTo>
                      <a:lnTo>
                        <a:pt x="21" y="20"/>
                      </a:lnTo>
                      <a:lnTo>
                        <a:pt x="21" y="25"/>
                      </a:lnTo>
                      <a:lnTo>
                        <a:pt x="21" y="31"/>
                      </a:lnTo>
                      <a:lnTo>
                        <a:pt x="21" y="34"/>
                      </a:lnTo>
                      <a:lnTo>
                        <a:pt x="19" y="38"/>
                      </a:lnTo>
                      <a:lnTo>
                        <a:pt x="17" y="43"/>
                      </a:lnTo>
                      <a:lnTo>
                        <a:pt x="17" y="43"/>
                      </a:lnTo>
                      <a:lnTo>
                        <a:pt x="15" y="4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427800" y="2559240"/>
                  <a:ext cx="28440" cy="2376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39" y="9"/>
                      </a:moveTo>
                      <a:lnTo>
                        <a:pt x="41" y="13"/>
                      </a:lnTo>
                      <a:lnTo>
                        <a:pt x="41" y="15"/>
                      </a:lnTo>
                      <a:lnTo>
                        <a:pt x="41" y="18"/>
                      </a:lnTo>
                      <a:lnTo>
                        <a:pt x="41" y="20"/>
                      </a:lnTo>
                      <a:lnTo>
                        <a:pt x="39" y="22"/>
                      </a:lnTo>
                      <a:lnTo>
                        <a:pt x="39" y="24"/>
                      </a:lnTo>
                      <a:lnTo>
                        <a:pt x="37" y="26"/>
                      </a:lnTo>
                      <a:lnTo>
                        <a:pt x="35" y="27"/>
                      </a:lnTo>
                      <a:lnTo>
                        <a:pt x="33" y="29"/>
                      </a:lnTo>
                      <a:lnTo>
                        <a:pt x="31" y="31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2" y="13"/>
                      </a:lnTo>
                      <a:lnTo>
                        <a:pt x="6" y="8"/>
                      </a:lnTo>
                      <a:lnTo>
                        <a:pt x="10" y="4"/>
                      </a:lnTo>
                      <a:lnTo>
                        <a:pt x="16" y="2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3" y="2"/>
                      </a:lnTo>
                      <a:lnTo>
                        <a:pt x="39" y="6"/>
                      </a:lnTo>
                      <a:lnTo>
                        <a:pt x="41" y="11"/>
                      </a:lnTo>
                      <a:lnTo>
                        <a:pt x="41" y="11"/>
                      </a:lnTo>
                      <a:lnTo>
                        <a:pt x="39" y="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966280" y="2529000"/>
                  <a:ext cx="6840" cy="33120"/>
                </a:xfrm>
                <a:custGeom>
                  <a:avLst/>
                  <a:gdLst/>
                  <a:ahLst/>
                  <a:rect l="l" t="t" r="r" b="b"/>
                  <a:pathLst>
                    <a:path w="10" h="44">
                      <a:moveTo>
                        <a:pt x="8" y="44"/>
                      </a:moveTo>
                      <a:lnTo>
                        <a:pt x="6" y="42"/>
                      </a:lnTo>
                      <a:lnTo>
                        <a:pt x="4" y="38"/>
                      </a:lnTo>
                      <a:lnTo>
                        <a:pt x="2" y="33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4" y="0"/>
                      </a:lnTo>
                      <a:lnTo>
                        <a:pt x="6" y="4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10" y="15"/>
                      </a:lnTo>
                      <a:lnTo>
                        <a:pt x="10" y="20"/>
                      </a:lnTo>
                      <a:lnTo>
                        <a:pt x="10" y="24"/>
                      </a:lnTo>
                      <a:lnTo>
                        <a:pt x="10" y="29"/>
                      </a:lnTo>
                      <a:lnTo>
                        <a:pt x="8" y="35"/>
                      </a:lnTo>
                      <a:lnTo>
                        <a:pt x="8" y="38"/>
                      </a:lnTo>
                      <a:lnTo>
                        <a:pt x="8" y="44"/>
                      </a:lnTo>
                      <a:lnTo>
                        <a:pt x="8" y="4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38320" y="2573280"/>
                  <a:ext cx="15840" cy="2088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19" y="9"/>
                      </a:moveTo>
                      <a:lnTo>
                        <a:pt x="21" y="13"/>
                      </a:lnTo>
                      <a:lnTo>
                        <a:pt x="21" y="17"/>
                      </a:lnTo>
                      <a:lnTo>
                        <a:pt x="19" y="18"/>
                      </a:lnTo>
                      <a:lnTo>
                        <a:pt x="19" y="20"/>
                      </a:lnTo>
                      <a:lnTo>
                        <a:pt x="17" y="22"/>
                      </a:lnTo>
                      <a:lnTo>
                        <a:pt x="15" y="22"/>
                      </a:lnTo>
                      <a:lnTo>
                        <a:pt x="14" y="24"/>
                      </a:lnTo>
                      <a:lnTo>
                        <a:pt x="12" y="26"/>
                      </a:lnTo>
                      <a:lnTo>
                        <a:pt x="8" y="26"/>
                      </a:lnTo>
                      <a:lnTo>
                        <a:pt x="6" y="27"/>
                      </a:lnTo>
                      <a:lnTo>
                        <a:pt x="10" y="24"/>
                      </a:lnTo>
                      <a:lnTo>
                        <a:pt x="10" y="20"/>
                      </a:lnTo>
                      <a:lnTo>
                        <a:pt x="10" y="18"/>
                      </a:lnTo>
                      <a:lnTo>
                        <a:pt x="8" y="15"/>
                      </a:lnTo>
                      <a:lnTo>
                        <a:pt x="4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2" y="6"/>
                      </a:lnTo>
                      <a:lnTo>
                        <a:pt x="4" y="4"/>
                      </a:ln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5" y="6"/>
                      </a:lnTo>
                      <a:lnTo>
                        <a:pt x="17" y="6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19" y="9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481080" y="2573280"/>
                  <a:ext cx="21240" cy="2232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29" y="13"/>
                      </a:moveTo>
                      <a:lnTo>
                        <a:pt x="27" y="17"/>
                      </a:lnTo>
                      <a:lnTo>
                        <a:pt x="25" y="18"/>
                      </a:lnTo>
                      <a:lnTo>
                        <a:pt x="25" y="20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1" y="24"/>
                      </a:lnTo>
                      <a:lnTo>
                        <a:pt x="19" y="26"/>
                      </a:lnTo>
                      <a:lnTo>
                        <a:pt x="17" y="27"/>
                      </a:lnTo>
                      <a:lnTo>
                        <a:pt x="17" y="29"/>
                      </a:lnTo>
                      <a:lnTo>
                        <a:pt x="13" y="29"/>
                      </a:lnTo>
                      <a:lnTo>
                        <a:pt x="0" y="29"/>
                      </a:lnTo>
                      <a:lnTo>
                        <a:pt x="3" y="0"/>
                      </a:lnTo>
                      <a:lnTo>
                        <a:pt x="29" y="15"/>
                      </a:lnTo>
                      <a:lnTo>
                        <a:pt x="29" y="15"/>
                      </a:lnTo>
                      <a:lnTo>
                        <a:pt x="29" y="1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487640" y="2648160"/>
                  <a:ext cx="12600" cy="2844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10" y="34"/>
                      </a:moveTo>
                      <a:lnTo>
                        <a:pt x="0" y="34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5"/>
                      </a:lnTo>
                      <a:lnTo>
                        <a:pt x="16" y="9"/>
                      </a:lnTo>
                      <a:lnTo>
                        <a:pt x="18" y="12"/>
                      </a:lnTo>
                      <a:lnTo>
                        <a:pt x="18" y="16"/>
                      </a:lnTo>
                      <a:lnTo>
                        <a:pt x="16" y="20"/>
                      </a:lnTo>
                      <a:lnTo>
                        <a:pt x="16" y="25"/>
                      </a:lnTo>
                      <a:lnTo>
                        <a:pt x="14" y="29"/>
                      </a:lnTo>
                      <a:lnTo>
                        <a:pt x="12" y="31"/>
                      </a:lnTo>
                      <a:lnTo>
                        <a:pt x="10" y="3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510320" y="2657520"/>
                  <a:ext cx="6840" cy="17640"/>
                </a:xfrm>
                <a:custGeom>
                  <a:avLst/>
                  <a:gdLst/>
                  <a:ahLst/>
                  <a:rect l="l" t="t" r="r" b="b"/>
                  <a:pathLst>
                    <a:path w="12" h="21">
                      <a:moveTo>
                        <a:pt x="12" y="3"/>
                      </a:move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2" y="12"/>
                      </a:lnTo>
                      <a:lnTo>
                        <a:pt x="12" y="16"/>
                      </a:lnTo>
                      <a:lnTo>
                        <a:pt x="12" y="18"/>
                      </a:lnTo>
                      <a:lnTo>
                        <a:pt x="10" y="20"/>
                      </a:lnTo>
                      <a:lnTo>
                        <a:pt x="8" y="20"/>
                      </a:lnTo>
                      <a:lnTo>
                        <a:pt x="6" y="21"/>
                      </a:lnTo>
                      <a:lnTo>
                        <a:pt x="4" y="20"/>
                      </a:lnTo>
                      <a:lnTo>
                        <a:pt x="2" y="18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1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009120" y="2551320"/>
                  <a:ext cx="6840" cy="60120"/>
                </a:xfrm>
                <a:custGeom>
                  <a:avLst/>
                  <a:gdLst/>
                  <a:ahLst/>
                  <a:rect l="l" t="t" r="r" b="b"/>
                  <a:pathLst>
                    <a:path w="10" h="76">
                      <a:moveTo>
                        <a:pt x="8" y="74"/>
                      </a:moveTo>
                      <a:lnTo>
                        <a:pt x="6" y="69"/>
                      </a:lnTo>
                      <a:lnTo>
                        <a:pt x="4" y="63"/>
                      </a:lnTo>
                      <a:lnTo>
                        <a:pt x="2" y="56"/>
                      </a:lnTo>
                      <a:lnTo>
                        <a:pt x="2" y="49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0" y="26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0"/>
                      </a:lnTo>
                      <a:lnTo>
                        <a:pt x="2" y="8"/>
                      </a:lnTo>
                      <a:lnTo>
                        <a:pt x="2" y="15"/>
                      </a:lnTo>
                      <a:lnTo>
                        <a:pt x="4" y="24"/>
                      </a:lnTo>
                      <a:lnTo>
                        <a:pt x="4" y="31"/>
                      </a:lnTo>
                      <a:lnTo>
                        <a:pt x="6" y="38"/>
                      </a:lnTo>
                      <a:lnTo>
                        <a:pt x="6" y="45"/>
                      </a:lnTo>
                      <a:lnTo>
                        <a:pt x="8" y="53"/>
                      </a:lnTo>
                      <a:lnTo>
                        <a:pt x="8" y="60"/>
                      </a:lnTo>
                      <a:lnTo>
                        <a:pt x="10" y="67"/>
                      </a:lnTo>
                      <a:lnTo>
                        <a:pt x="10" y="76"/>
                      </a:lnTo>
                      <a:lnTo>
                        <a:pt x="10" y="76"/>
                      </a:lnTo>
                      <a:lnTo>
                        <a:pt x="8" y="7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950440" y="2554200"/>
                  <a:ext cx="2880" cy="97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4" y="0"/>
                      </a:moveTo>
                      <a:lnTo>
                        <a:pt x="0" y="1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029280" y="2567160"/>
                  <a:ext cx="15480" cy="68040"/>
                </a:xfrm>
                <a:custGeom>
                  <a:avLst/>
                  <a:gdLst/>
                  <a:ahLst/>
                  <a:rect l="l" t="t" r="r" b="b"/>
                  <a:pathLst>
                    <a:path w="24" h="87">
                      <a:moveTo>
                        <a:pt x="6" y="87"/>
                      </a:moveTo>
                      <a:lnTo>
                        <a:pt x="6" y="85"/>
                      </a:lnTo>
                      <a:lnTo>
                        <a:pt x="6" y="83"/>
                      </a:lnTo>
                      <a:lnTo>
                        <a:pt x="4" y="79"/>
                      </a:lnTo>
                      <a:lnTo>
                        <a:pt x="4" y="76"/>
                      </a:lnTo>
                      <a:lnTo>
                        <a:pt x="2" y="72"/>
                      </a:lnTo>
                      <a:lnTo>
                        <a:pt x="2" y="69"/>
                      </a:lnTo>
                      <a:lnTo>
                        <a:pt x="0" y="65"/>
                      </a:lnTo>
                      <a:lnTo>
                        <a:pt x="0" y="60"/>
                      </a:lnTo>
                      <a:lnTo>
                        <a:pt x="0" y="56"/>
                      </a:lnTo>
                      <a:lnTo>
                        <a:pt x="2" y="52"/>
                      </a:lnTo>
                      <a:lnTo>
                        <a:pt x="2" y="54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6"/>
                      </a:lnTo>
                      <a:lnTo>
                        <a:pt x="6" y="56"/>
                      </a:lnTo>
                      <a:lnTo>
                        <a:pt x="6" y="56"/>
                      </a:lnTo>
                      <a:lnTo>
                        <a:pt x="6" y="58"/>
                      </a:lnTo>
                      <a:lnTo>
                        <a:pt x="8" y="58"/>
                      </a:lnTo>
                      <a:lnTo>
                        <a:pt x="8" y="58"/>
                      </a:lnTo>
                      <a:lnTo>
                        <a:pt x="10" y="56"/>
                      </a:lnTo>
                      <a:lnTo>
                        <a:pt x="14" y="52"/>
                      </a:lnTo>
                      <a:lnTo>
                        <a:pt x="16" y="47"/>
                      </a:lnTo>
                      <a:lnTo>
                        <a:pt x="16" y="40"/>
                      </a:lnTo>
                      <a:lnTo>
                        <a:pt x="16" y="34"/>
                      </a:lnTo>
                      <a:lnTo>
                        <a:pt x="16" y="29"/>
                      </a:lnTo>
                      <a:lnTo>
                        <a:pt x="14" y="24"/>
                      </a:lnTo>
                      <a:lnTo>
                        <a:pt x="14" y="18"/>
                      </a:lnTo>
                      <a:lnTo>
                        <a:pt x="12" y="13"/>
                      </a:lnTo>
                      <a:lnTo>
                        <a:pt x="10" y="6"/>
                      </a:lnTo>
                      <a:lnTo>
                        <a:pt x="10" y="0"/>
                      </a:lnTo>
                      <a:lnTo>
                        <a:pt x="12" y="9"/>
                      </a:lnTo>
                      <a:lnTo>
                        <a:pt x="14" y="16"/>
                      </a:lnTo>
                      <a:lnTo>
                        <a:pt x="18" y="25"/>
                      </a:lnTo>
                      <a:lnTo>
                        <a:pt x="22" y="34"/>
                      </a:lnTo>
                      <a:lnTo>
                        <a:pt x="24" y="45"/>
                      </a:lnTo>
                      <a:lnTo>
                        <a:pt x="24" y="54"/>
                      </a:lnTo>
                      <a:lnTo>
                        <a:pt x="24" y="63"/>
                      </a:lnTo>
                      <a:lnTo>
                        <a:pt x="22" y="72"/>
                      </a:lnTo>
                      <a:lnTo>
                        <a:pt x="16" y="79"/>
                      </a:lnTo>
                      <a:lnTo>
                        <a:pt x="8" y="87"/>
                      </a:lnTo>
                      <a:lnTo>
                        <a:pt x="8" y="87"/>
                      </a:lnTo>
                      <a:lnTo>
                        <a:pt x="6" y="8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969160" y="2575080"/>
                  <a:ext cx="414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166">
                      <a:moveTo>
                        <a:pt x="49" y="76"/>
                      </a:moveTo>
                      <a:lnTo>
                        <a:pt x="27" y="56"/>
                      </a:lnTo>
                      <a:lnTo>
                        <a:pt x="21" y="61"/>
                      </a:lnTo>
                      <a:lnTo>
                        <a:pt x="18" y="69"/>
                      </a:lnTo>
                      <a:lnTo>
                        <a:pt x="19" y="74"/>
                      </a:lnTo>
                      <a:lnTo>
                        <a:pt x="21" y="79"/>
                      </a:lnTo>
                      <a:lnTo>
                        <a:pt x="25" y="85"/>
                      </a:lnTo>
                      <a:lnTo>
                        <a:pt x="29" y="90"/>
                      </a:lnTo>
                      <a:lnTo>
                        <a:pt x="35" y="97"/>
                      </a:lnTo>
                      <a:lnTo>
                        <a:pt x="37" y="103"/>
                      </a:lnTo>
                      <a:lnTo>
                        <a:pt x="39" y="110"/>
                      </a:lnTo>
                      <a:lnTo>
                        <a:pt x="37" y="119"/>
                      </a:lnTo>
                      <a:lnTo>
                        <a:pt x="41" y="114"/>
                      </a:lnTo>
                      <a:lnTo>
                        <a:pt x="47" y="117"/>
                      </a:lnTo>
                      <a:lnTo>
                        <a:pt x="52" y="121"/>
                      </a:lnTo>
                      <a:lnTo>
                        <a:pt x="54" y="126"/>
                      </a:lnTo>
                      <a:lnTo>
                        <a:pt x="56" y="134"/>
                      </a:lnTo>
                      <a:lnTo>
                        <a:pt x="58" y="141"/>
                      </a:lnTo>
                      <a:lnTo>
                        <a:pt x="58" y="148"/>
                      </a:lnTo>
                      <a:lnTo>
                        <a:pt x="58" y="153"/>
                      </a:lnTo>
                      <a:lnTo>
                        <a:pt x="56" y="159"/>
                      </a:lnTo>
                      <a:lnTo>
                        <a:pt x="54" y="164"/>
                      </a:lnTo>
                      <a:lnTo>
                        <a:pt x="52" y="166"/>
                      </a:lnTo>
                      <a:lnTo>
                        <a:pt x="45" y="155"/>
                      </a:lnTo>
                      <a:lnTo>
                        <a:pt x="39" y="144"/>
                      </a:lnTo>
                      <a:lnTo>
                        <a:pt x="35" y="132"/>
                      </a:lnTo>
                      <a:lnTo>
                        <a:pt x="29" y="119"/>
                      </a:lnTo>
                      <a:lnTo>
                        <a:pt x="25" y="106"/>
                      </a:lnTo>
                      <a:lnTo>
                        <a:pt x="23" y="94"/>
                      </a:lnTo>
                      <a:lnTo>
                        <a:pt x="18" y="81"/>
                      </a:lnTo>
                      <a:lnTo>
                        <a:pt x="14" y="69"/>
                      </a:lnTo>
                      <a:lnTo>
                        <a:pt x="8" y="58"/>
                      </a:lnTo>
                      <a:lnTo>
                        <a:pt x="0" y="45"/>
                      </a:lnTo>
                      <a:lnTo>
                        <a:pt x="6" y="47"/>
                      </a:lnTo>
                      <a:lnTo>
                        <a:pt x="10" y="47"/>
                      </a:lnTo>
                      <a:lnTo>
                        <a:pt x="14" y="47"/>
                      </a:lnTo>
                      <a:lnTo>
                        <a:pt x="18" y="45"/>
                      </a:lnTo>
                      <a:lnTo>
                        <a:pt x="21" y="42"/>
                      </a:lnTo>
                      <a:lnTo>
                        <a:pt x="23" y="38"/>
                      </a:lnTo>
                      <a:lnTo>
                        <a:pt x="23" y="34"/>
                      </a:lnTo>
                      <a:lnTo>
                        <a:pt x="25" y="31"/>
                      </a:lnTo>
                      <a:lnTo>
                        <a:pt x="25" y="25"/>
                      </a:lnTo>
                      <a:lnTo>
                        <a:pt x="25" y="22"/>
                      </a:lnTo>
                      <a:lnTo>
                        <a:pt x="27" y="0"/>
                      </a:lnTo>
                      <a:lnTo>
                        <a:pt x="29" y="7"/>
                      </a:lnTo>
                      <a:lnTo>
                        <a:pt x="31" y="15"/>
                      </a:lnTo>
                      <a:lnTo>
                        <a:pt x="33" y="24"/>
                      </a:lnTo>
                      <a:lnTo>
                        <a:pt x="33" y="31"/>
                      </a:lnTo>
                      <a:lnTo>
                        <a:pt x="35" y="40"/>
                      </a:lnTo>
                      <a:lnTo>
                        <a:pt x="35" y="47"/>
                      </a:lnTo>
                      <a:lnTo>
                        <a:pt x="37" y="54"/>
                      </a:lnTo>
                      <a:lnTo>
                        <a:pt x="41" y="61"/>
                      </a:lnTo>
                      <a:lnTo>
                        <a:pt x="45" y="69"/>
                      </a:lnTo>
                      <a:lnTo>
                        <a:pt x="50" y="76"/>
                      </a:lnTo>
                      <a:lnTo>
                        <a:pt x="50" y="76"/>
                      </a:lnTo>
                      <a:lnTo>
                        <a:pt x="49" y="76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036480" y="2584440"/>
                  <a:ext cx="100440" cy="220680"/>
                </a:xfrm>
                <a:custGeom>
                  <a:avLst/>
                  <a:gdLst/>
                  <a:ahLst/>
                  <a:rect l="l" t="t" r="r" b="b"/>
                  <a:pathLst>
                    <a:path w="139" h="277">
                      <a:moveTo>
                        <a:pt x="137" y="30"/>
                      </a:moveTo>
                      <a:lnTo>
                        <a:pt x="139" y="36"/>
                      </a:lnTo>
                      <a:lnTo>
                        <a:pt x="139" y="39"/>
                      </a:lnTo>
                      <a:lnTo>
                        <a:pt x="137" y="43"/>
                      </a:lnTo>
                      <a:lnTo>
                        <a:pt x="136" y="47"/>
                      </a:lnTo>
                      <a:lnTo>
                        <a:pt x="134" y="50"/>
                      </a:lnTo>
                      <a:lnTo>
                        <a:pt x="132" y="52"/>
                      </a:lnTo>
                      <a:lnTo>
                        <a:pt x="128" y="52"/>
                      </a:lnTo>
                      <a:lnTo>
                        <a:pt x="124" y="54"/>
                      </a:lnTo>
                      <a:lnTo>
                        <a:pt x="122" y="54"/>
                      </a:lnTo>
                      <a:lnTo>
                        <a:pt x="118" y="52"/>
                      </a:lnTo>
                      <a:lnTo>
                        <a:pt x="106" y="74"/>
                      </a:lnTo>
                      <a:lnTo>
                        <a:pt x="93" y="95"/>
                      </a:lnTo>
                      <a:lnTo>
                        <a:pt x="79" y="117"/>
                      </a:lnTo>
                      <a:lnTo>
                        <a:pt x="68" y="139"/>
                      </a:lnTo>
                      <a:lnTo>
                        <a:pt x="56" y="162"/>
                      </a:lnTo>
                      <a:lnTo>
                        <a:pt x="45" y="184"/>
                      </a:lnTo>
                      <a:lnTo>
                        <a:pt x="35" y="207"/>
                      </a:lnTo>
                      <a:lnTo>
                        <a:pt x="25" y="231"/>
                      </a:lnTo>
                      <a:lnTo>
                        <a:pt x="15" y="254"/>
                      </a:lnTo>
                      <a:lnTo>
                        <a:pt x="8" y="277"/>
                      </a:lnTo>
                      <a:lnTo>
                        <a:pt x="2" y="268"/>
                      </a:lnTo>
                      <a:lnTo>
                        <a:pt x="0" y="258"/>
                      </a:lnTo>
                      <a:lnTo>
                        <a:pt x="0" y="249"/>
                      </a:lnTo>
                      <a:lnTo>
                        <a:pt x="2" y="238"/>
                      </a:lnTo>
                      <a:lnTo>
                        <a:pt x="4" y="227"/>
                      </a:lnTo>
                      <a:lnTo>
                        <a:pt x="10" y="216"/>
                      </a:lnTo>
                      <a:lnTo>
                        <a:pt x="15" y="207"/>
                      </a:lnTo>
                      <a:lnTo>
                        <a:pt x="21" y="196"/>
                      </a:lnTo>
                      <a:lnTo>
                        <a:pt x="25" y="185"/>
                      </a:lnTo>
                      <a:lnTo>
                        <a:pt x="29" y="176"/>
                      </a:lnTo>
                      <a:lnTo>
                        <a:pt x="74" y="74"/>
                      </a:lnTo>
                      <a:lnTo>
                        <a:pt x="83" y="84"/>
                      </a:lnTo>
                      <a:lnTo>
                        <a:pt x="89" y="59"/>
                      </a:lnTo>
                      <a:lnTo>
                        <a:pt x="89" y="59"/>
                      </a:lnTo>
                      <a:lnTo>
                        <a:pt x="89" y="61"/>
                      </a:lnTo>
                      <a:lnTo>
                        <a:pt x="89" y="63"/>
                      </a:lnTo>
                      <a:lnTo>
                        <a:pt x="89" y="65"/>
                      </a:lnTo>
                      <a:lnTo>
                        <a:pt x="89" y="66"/>
                      </a:lnTo>
                      <a:lnTo>
                        <a:pt x="89" y="68"/>
                      </a:lnTo>
                      <a:lnTo>
                        <a:pt x="91" y="68"/>
                      </a:lnTo>
                      <a:lnTo>
                        <a:pt x="91" y="70"/>
                      </a:lnTo>
                      <a:lnTo>
                        <a:pt x="93" y="72"/>
                      </a:lnTo>
                      <a:lnTo>
                        <a:pt x="95" y="72"/>
                      </a:lnTo>
                      <a:lnTo>
                        <a:pt x="97" y="66"/>
                      </a:lnTo>
                      <a:lnTo>
                        <a:pt x="99" y="63"/>
                      </a:lnTo>
                      <a:lnTo>
                        <a:pt x="101" y="57"/>
                      </a:lnTo>
                      <a:lnTo>
                        <a:pt x="99" y="54"/>
                      </a:lnTo>
                      <a:lnTo>
                        <a:pt x="99" y="48"/>
                      </a:lnTo>
                      <a:lnTo>
                        <a:pt x="97" y="43"/>
                      </a:lnTo>
                      <a:lnTo>
                        <a:pt x="95" y="39"/>
                      </a:lnTo>
                      <a:lnTo>
                        <a:pt x="93" y="34"/>
                      </a:lnTo>
                      <a:lnTo>
                        <a:pt x="93" y="29"/>
                      </a:lnTo>
                      <a:lnTo>
                        <a:pt x="91" y="23"/>
                      </a:lnTo>
                      <a:lnTo>
                        <a:pt x="101" y="32"/>
                      </a:lnTo>
                      <a:lnTo>
                        <a:pt x="106" y="29"/>
                      </a:lnTo>
                      <a:lnTo>
                        <a:pt x="108" y="25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2" y="14"/>
                      </a:lnTo>
                      <a:lnTo>
                        <a:pt x="112" y="9"/>
                      </a:lnTo>
                      <a:lnTo>
                        <a:pt x="112" y="5"/>
                      </a:lnTo>
                      <a:lnTo>
                        <a:pt x="114" y="3"/>
                      </a:lnTo>
                      <a:lnTo>
                        <a:pt x="118" y="2"/>
                      </a:lnTo>
                      <a:lnTo>
                        <a:pt x="122" y="0"/>
                      </a:lnTo>
                      <a:lnTo>
                        <a:pt x="122" y="3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4" y="18"/>
                      </a:lnTo>
                      <a:lnTo>
                        <a:pt x="126" y="21"/>
                      </a:lnTo>
                      <a:lnTo>
                        <a:pt x="128" y="25"/>
                      </a:lnTo>
                      <a:lnTo>
                        <a:pt x="132" y="29"/>
                      </a:lnTo>
                      <a:lnTo>
                        <a:pt x="134" y="30"/>
                      </a:lnTo>
                      <a:lnTo>
                        <a:pt x="136" y="32"/>
                      </a:lnTo>
                      <a:lnTo>
                        <a:pt x="137" y="32"/>
                      </a:lnTo>
                      <a:lnTo>
                        <a:pt x="137" y="32"/>
                      </a:lnTo>
                      <a:lnTo>
                        <a:pt x="137" y="3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338240" y="2698920"/>
                  <a:ext cx="6840" cy="17280"/>
                </a:xfrm>
                <a:custGeom>
                  <a:avLst/>
                  <a:gdLst/>
                  <a:ahLst/>
                  <a:rect l="l" t="t" r="r" b="b"/>
                  <a:pathLst>
                    <a:path w="12" h="22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544880" y="2746440"/>
                  <a:ext cx="66960" cy="115920"/>
                </a:xfrm>
                <a:custGeom>
                  <a:avLst/>
                  <a:gdLst/>
                  <a:ahLst/>
                  <a:rect l="l" t="t" r="r" b="b"/>
                  <a:pathLst>
                    <a:path w="95" h="146">
                      <a:moveTo>
                        <a:pt x="46" y="105"/>
                      </a:moveTo>
                      <a:lnTo>
                        <a:pt x="48" y="100"/>
                      </a:lnTo>
                      <a:lnTo>
                        <a:pt x="50" y="96"/>
                      </a:lnTo>
                      <a:lnTo>
                        <a:pt x="52" y="91"/>
                      </a:lnTo>
                      <a:lnTo>
                        <a:pt x="56" y="85"/>
                      </a:lnTo>
                      <a:lnTo>
                        <a:pt x="58" y="80"/>
                      </a:lnTo>
                      <a:lnTo>
                        <a:pt x="62" y="76"/>
                      </a:lnTo>
                      <a:lnTo>
                        <a:pt x="64" y="71"/>
                      </a:lnTo>
                      <a:lnTo>
                        <a:pt x="66" y="65"/>
                      </a:lnTo>
                      <a:lnTo>
                        <a:pt x="66" y="62"/>
                      </a:lnTo>
                      <a:lnTo>
                        <a:pt x="64" y="56"/>
                      </a:lnTo>
                      <a:lnTo>
                        <a:pt x="0" y="146"/>
                      </a:lnTo>
                      <a:lnTo>
                        <a:pt x="11" y="132"/>
                      </a:lnTo>
                      <a:lnTo>
                        <a:pt x="21" y="116"/>
                      </a:lnTo>
                      <a:lnTo>
                        <a:pt x="29" y="100"/>
                      </a:lnTo>
                      <a:lnTo>
                        <a:pt x="35" y="83"/>
                      </a:lnTo>
                      <a:lnTo>
                        <a:pt x="42" y="69"/>
                      </a:lnTo>
                      <a:lnTo>
                        <a:pt x="48" y="53"/>
                      </a:lnTo>
                      <a:lnTo>
                        <a:pt x="58" y="38"/>
                      </a:lnTo>
                      <a:lnTo>
                        <a:pt x="68" y="24"/>
                      </a:lnTo>
                      <a:lnTo>
                        <a:pt x="79" y="11"/>
                      </a:lnTo>
                      <a:lnTo>
                        <a:pt x="95" y="0"/>
                      </a:lnTo>
                      <a:lnTo>
                        <a:pt x="46" y="105"/>
                      </a:lnTo>
                      <a:lnTo>
                        <a:pt x="46" y="105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016320" y="2643120"/>
                  <a:ext cx="11520" cy="1908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8" y="25"/>
                      </a:move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8" y="25"/>
                      </a:lnTo>
                      <a:lnTo>
                        <a:pt x="8" y="2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068160" y="2657520"/>
                  <a:ext cx="81360" cy="177840"/>
                </a:xfrm>
                <a:custGeom>
                  <a:avLst/>
                  <a:gdLst/>
                  <a:ahLst/>
                  <a:rect l="l" t="t" r="r" b="b"/>
                  <a:pathLst>
                    <a:path w="114" h="223">
                      <a:moveTo>
                        <a:pt x="23" y="173"/>
                      </a:moveTo>
                      <a:lnTo>
                        <a:pt x="21" y="178"/>
                      </a:lnTo>
                      <a:lnTo>
                        <a:pt x="19" y="184"/>
                      </a:lnTo>
                      <a:lnTo>
                        <a:pt x="17" y="189"/>
                      </a:lnTo>
                      <a:lnTo>
                        <a:pt x="15" y="194"/>
                      </a:lnTo>
                      <a:lnTo>
                        <a:pt x="13" y="202"/>
                      </a:lnTo>
                      <a:lnTo>
                        <a:pt x="11" y="207"/>
                      </a:lnTo>
                      <a:lnTo>
                        <a:pt x="9" y="212"/>
                      </a:lnTo>
                      <a:lnTo>
                        <a:pt x="7" y="216"/>
                      </a:lnTo>
                      <a:lnTo>
                        <a:pt x="3" y="221"/>
                      </a:lnTo>
                      <a:lnTo>
                        <a:pt x="0" y="223"/>
                      </a:lnTo>
                      <a:lnTo>
                        <a:pt x="3" y="200"/>
                      </a:lnTo>
                      <a:lnTo>
                        <a:pt x="11" y="176"/>
                      </a:lnTo>
                      <a:lnTo>
                        <a:pt x="19" y="153"/>
                      </a:lnTo>
                      <a:lnTo>
                        <a:pt x="31" y="131"/>
                      </a:lnTo>
                      <a:lnTo>
                        <a:pt x="42" y="108"/>
                      </a:lnTo>
                      <a:lnTo>
                        <a:pt x="56" y="86"/>
                      </a:lnTo>
                      <a:lnTo>
                        <a:pt x="71" y="65"/>
                      </a:lnTo>
                      <a:lnTo>
                        <a:pt x="85" y="43"/>
                      </a:lnTo>
                      <a:lnTo>
                        <a:pt x="100" y="21"/>
                      </a:lnTo>
                      <a:lnTo>
                        <a:pt x="114" y="0"/>
                      </a:lnTo>
                      <a:lnTo>
                        <a:pt x="108" y="18"/>
                      </a:lnTo>
                      <a:lnTo>
                        <a:pt x="100" y="36"/>
                      </a:lnTo>
                      <a:lnTo>
                        <a:pt x="91" y="52"/>
                      </a:lnTo>
                      <a:lnTo>
                        <a:pt x="81" y="70"/>
                      </a:lnTo>
                      <a:lnTo>
                        <a:pt x="71" y="86"/>
                      </a:lnTo>
                      <a:lnTo>
                        <a:pt x="60" y="102"/>
                      </a:lnTo>
                      <a:lnTo>
                        <a:pt x="50" y="120"/>
                      </a:lnTo>
                      <a:lnTo>
                        <a:pt x="40" y="139"/>
                      </a:lnTo>
                      <a:lnTo>
                        <a:pt x="31" y="155"/>
                      </a:lnTo>
                      <a:lnTo>
                        <a:pt x="23" y="173"/>
                      </a:lnTo>
                      <a:lnTo>
                        <a:pt x="23" y="17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593480" y="2766960"/>
                  <a:ext cx="11160" cy="1908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0" y="19"/>
                      </a:move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1" y="19"/>
                      </a:lnTo>
                      <a:lnTo>
                        <a:pt x="3" y="16"/>
                      </a:lnTo>
                      <a:lnTo>
                        <a:pt x="5" y="12"/>
                      </a:lnTo>
                      <a:lnTo>
                        <a:pt x="9" y="9"/>
                      </a:lnTo>
                      <a:lnTo>
                        <a:pt x="11" y="5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032160" y="2667240"/>
                  <a:ext cx="15480" cy="3168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6" y="40"/>
                      </a:moveTo>
                      <a:lnTo>
                        <a:pt x="14" y="38"/>
                      </a:lnTo>
                      <a:lnTo>
                        <a:pt x="12" y="35"/>
                      </a:lnTo>
                      <a:lnTo>
                        <a:pt x="8" y="31"/>
                      </a:lnTo>
                      <a:lnTo>
                        <a:pt x="4" y="27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12" y="2"/>
                      </a:lnTo>
                      <a:lnTo>
                        <a:pt x="16" y="6"/>
                      </a:lnTo>
                      <a:lnTo>
                        <a:pt x="18" y="9"/>
                      </a:lnTo>
                      <a:lnTo>
                        <a:pt x="20" y="13"/>
                      </a:lnTo>
                      <a:lnTo>
                        <a:pt x="22" y="18"/>
                      </a:lnTo>
                      <a:lnTo>
                        <a:pt x="23" y="22"/>
                      </a:lnTo>
                      <a:lnTo>
                        <a:pt x="23" y="27"/>
                      </a:lnTo>
                      <a:lnTo>
                        <a:pt x="22" y="31"/>
                      </a:lnTo>
                      <a:lnTo>
                        <a:pt x="20" y="36"/>
                      </a:lnTo>
                      <a:lnTo>
                        <a:pt x="18" y="40"/>
                      </a:lnTo>
                      <a:lnTo>
                        <a:pt x="18" y="40"/>
                      </a:lnTo>
                      <a:lnTo>
                        <a:pt x="16" y="4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049440" y="26924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0" y="20"/>
                      </a:moveTo>
                      <a:lnTo>
                        <a:pt x="6" y="0"/>
                      </a:lnTo>
                      <a:lnTo>
                        <a:pt x="4" y="18"/>
                      </a:lnTo>
                      <a:lnTo>
                        <a:pt x="0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010920" y="2697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33" h="65">
                      <a:moveTo>
                        <a:pt x="18" y="65"/>
                      </a:moveTo>
                      <a:lnTo>
                        <a:pt x="14" y="65"/>
                      </a:lnTo>
                      <a:lnTo>
                        <a:pt x="12" y="65"/>
                      </a:lnTo>
                      <a:lnTo>
                        <a:pt x="8" y="65"/>
                      </a:lnTo>
                      <a:lnTo>
                        <a:pt x="8" y="61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9"/>
                      </a:lnTo>
                      <a:lnTo>
                        <a:pt x="0" y="45"/>
                      </a:lnTo>
                      <a:lnTo>
                        <a:pt x="20" y="0"/>
                      </a:lnTo>
                      <a:lnTo>
                        <a:pt x="27" y="6"/>
                      </a:lnTo>
                      <a:lnTo>
                        <a:pt x="31" y="13"/>
                      </a:lnTo>
                      <a:lnTo>
                        <a:pt x="33" y="18"/>
                      </a:lnTo>
                      <a:lnTo>
                        <a:pt x="33" y="25"/>
                      </a:lnTo>
                      <a:lnTo>
                        <a:pt x="31" y="31"/>
                      </a:lnTo>
                      <a:lnTo>
                        <a:pt x="27" y="38"/>
                      </a:lnTo>
                      <a:lnTo>
                        <a:pt x="25" y="45"/>
                      </a:lnTo>
                      <a:lnTo>
                        <a:pt x="22" y="51"/>
                      </a:lnTo>
                      <a:lnTo>
                        <a:pt x="20" y="58"/>
                      </a:lnTo>
                      <a:lnTo>
                        <a:pt x="18" y="65"/>
                      </a:lnTo>
                      <a:lnTo>
                        <a:pt x="18" y="6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029280" y="272592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8" h="51">
                      <a:moveTo>
                        <a:pt x="18" y="0"/>
                      </a:moveTo>
                      <a:lnTo>
                        <a:pt x="0" y="51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241680" y="2843280"/>
                  <a:ext cx="8280" cy="2232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9" y="27"/>
                      </a:moveTo>
                      <a:lnTo>
                        <a:pt x="0" y="0"/>
                      </a:lnTo>
                      <a:lnTo>
                        <a:pt x="11" y="23"/>
                      </a:lnTo>
                      <a:lnTo>
                        <a:pt x="11" y="29"/>
                      </a:lnTo>
                      <a:lnTo>
                        <a:pt x="11" y="29"/>
                      </a:lnTo>
                      <a:lnTo>
                        <a:pt x="9" y="2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478640" y="294948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35"/>
                      </a:moveTo>
                      <a:lnTo>
                        <a:pt x="37" y="0"/>
                      </a:lnTo>
                      <a:lnTo>
                        <a:pt x="17" y="24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178680" y="2860920"/>
                  <a:ext cx="6840" cy="26640"/>
                </a:xfrm>
                <a:custGeom>
                  <a:avLst/>
                  <a:gdLst/>
                  <a:ahLst/>
                  <a:rect l="l" t="t" r="r" b="b"/>
                  <a:pathLst>
                    <a:path w="10" h="34">
                      <a:moveTo>
                        <a:pt x="10" y="0"/>
                      </a:moveTo>
                      <a:lnTo>
                        <a:pt x="0" y="34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161400" y="2863800"/>
                  <a:ext cx="68400" cy="187560"/>
                </a:xfrm>
                <a:custGeom>
                  <a:avLst/>
                  <a:gdLst/>
                  <a:ahLst/>
                  <a:rect l="l" t="t" r="r" b="b"/>
                  <a:pathLst>
                    <a:path w="97" h="236">
                      <a:moveTo>
                        <a:pt x="97" y="0"/>
                      </a:moveTo>
                      <a:lnTo>
                        <a:pt x="97" y="27"/>
                      </a:lnTo>
                      <a:lnTo>
                        <a:pt x="95" y="53"/>
                      </a:lnTo>
                      <a:lnTo>
                        <a:pt x="87" y="78"/>
                      </a:lnTo>
                      <a:lnTo>
                        <a:pt x="80" y="101"/>
                      </a:lnTo>
                      <a:lnTo>
                        <a:pt x="68" y="125"/>
                      </a:lnTo>
                      <a:lnTo>
                        <a:pt x="56" y="148"/>
                      </a:lnTo>
                      <a:lnTo>
                        <a:pt x="41" y="172"/>
                      </a:lnTo>
                      <a:lnTo>
                        <a:pt x="27" y="193"/>
                      </a:lnTo>
                      <a:lnTo>
                        <a:pt x="14" y="215"/>
                      </a:lnTo>
                      <a:lnTo>
                        <a:pt x="0" y="236"/>
                      </a:lnTo>
                      <a:lnTo>
                        <a:pt x="0" y="224"/>
                      </a:lnTo>
                      <a:lnTo>
                        <a:pt x="4" y="209"/>
                      </a:lnTo>
                      <a:lnTo>
                        <a:pt x="10" y="195"/>
                      </a:lnTo>
                      <a:lnTo>
                        <a:pt x="18" y="181"/>
                      </a:lnTo>
                      <a:lnTo>
                        <a:pt x="27" y="166"/>
                      </a:lnTo>
                      <a:lnTo>
                        <a:pt x="37" y="150"/>
                      </a:lnTo>
                      <a:lnTo>
                        <a:pt x="47" y="135"/>
                      </a:lnTo>
                      <a:lnTo>
                        <a:pt x="56" y="119"/>
                      </a:lnTo>
                      <a:lnTo>
                        <a:pt x="64" y="103"/>
                      </a:lnTo>
                      <a:lnTo>
                        <a:pt x="72" y="87"/>
                      </a:lnTo>
                      <a:lnTo>
                        <a:pt x="62" y="72"/>
                      </a:lnTo>
                      <a:lnTo>
                        <a:pt x="53" y="80"/>
                      </a:lnTo>
                      <a:lnTo>
                        <a:pt x="56" y="72"/>
                      </a:lnTo>
                      <a:lnTo>
                        <a:pt x="60" y="63"/>
                      </a:lnTo>
                      <a:lnTo>
                        <a:pt x="64" y="54"/>
                      </a:lnTo>
                      <a:lnTo>
                        <a:pt x="66" y="44"/>
                      </a:lnTo>
                      <a:lnTo>
                        <a:pt x="70" y="35"/>
                      </a:lnTo>
                      <a:lnTo>
                        <a:pt x="74" y="26"/>
                      </a:lnTo>
                      <a:lnTo>
                        <a:pt x="78" y="18"/>
                      </a:lnTo>
                      <a:lnTo>
                        <a:pt x="84" y="11"/>
                      </a:lnTo>
                      <a:lnTo>
                        <a:pt x="89" y="6"/>
                      </a:lnTo>
                      <a:lnTo>
                        <a:pt x="97" y="2"/>
                      </a:lnTo>
                      <a:lnTo>
                        <a:pt x="97" y="2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168600" y="2865600"/>
                  <a:ext cx="41400" cy="93600"/>
                </a:xfrm>
                <a:custGeom>
                  <a:avLst/>
                  <a:gdLst/>
                  <a:ahLst/>
                  <a:rect l="l" t="t" r="r" b="b"/>
                  <a:pathLst>
                    <a:path w="56" h="117">
                      <a:moveTo>
                        <a:pt x="10" y="117"/>
                      </a:moveTo>
                      <a:lnTo>
                        <a:pt x="0" y="117"/>
                      </a:lnTo>
                      <a:lnTo>
                        <a:pt x="2" y="108"/>
                      </a:lnTo>
                      <a:lnTo>
                        <a:pt x="4" y="97"/>
                      </a:lnTo>
                      <a:lnTo>
                        <a:pt x="10" y="86"/>
                      </a:lnTo>
                      <a:lnTo>
                        <a:pt x="17" y="76"/>
                      </a:lnTo>
                      <a:lnTo>
                        <a:pt x="23" y="63"/>
                      </a:lnTo>
                      <a:lnTo>
                        <a:pt x="31" y="52"/>
                      </a:lnTo>
                      <a:lnTo>
                        <a:pt x="39" y="40"/>
                      </a:lnTo>
                      <a:lnTo>
                        <a:pt x="46" y="25"/>
                      </a:lnTo>
                      <a:lnTo>
                        <a:pt x="52" y="13"/>
                      </a:lnTo>
                      <a:lnTo>
                        <a:pt x="56" y="0"/>
                      </a:lnTo>
                      <a:lnTo>
                        <a:pt x="50" y="11"/>
                      </a:lnTo>
                      <a:lnTo>
                        <a:pt x="46" y="23"/>
                      </a:lnTo>
                      <a:lnTo>
                        <a:pt x="41" y="34"/>
                      </a:lnTo>
                      <a:lnTo>
                        <a:pt x="37" y="47"/>
                      </a:lnTo>
                      <a:lnTo>
                        <a:pt x="31" y="59"/>
                      </a:lnTo>
                      <a:lnTo>
                        <a:pt x="25" y="70"/>
                      </a:lnTo>
                      <a:lnTo>
                        <a:pt x="21" y="83"/>
                      </a:lnTo>
                      <a:lnTo>
                        <a:pt x="17" y="94"/>
                      </a:lnTo>
                      <a:lnTo>
                        <a:pt x="13" y="106"/>
                      </a:lnTo>
                      <a:lnTo>
                        <a:pt x="10" y="117"/>
                      </a:lnTo>
                      <a:lnTo>
                        <a:pt x="10" y="11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072120" y="2870280"/>
                  <a:ext cx="6840" cy="126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8" y="17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780600" y="2921040"/>
                  <a:ext cx="8280" cy="17640"/>
                </a:xfrm>
                <a:custGeom>
                  <a:avLst/>
                  <a:gdLst/>
                  <a:ahLst/>
                  <a:rect l="l" t="t" r="r" b="b"/>
                  <a:pathLst>
                    <a:path w="11" h="24">
                      <a:moveTo>
                        <a:pt x="11" y="6"/>
                      </a:moveTo>
                      <a:lnTo>
                        <a:pt x="11" y="8"/>
                      </a:lnTo>
                      <a:lnTo>
                        <a:pt x="11" y="9"/>
                      </a:lnTo>
                      <a:lnTo>
                        <a:pt x="11" y="11"/>
                      </a:lnTo>
                      <a:lnTo>
                        <a:pt x="11" y="13"/>
                      </a:lnTo>
                      <a:lnTo>
                        <a:pt x="10" y="15"/>
                      </a:lnTo>
                      <a:lnTo>
                        <a:pt x="8" y="17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797880" y="2925720"/>
                  <a:ext cx="71280" cy="39960"/>
                </a:xfrm>
                <a:custGeom>
                  <a:avLst/>
                  <a:gdLst/>
                  <a:ahLst/>
                  <a:rect l="l" t="t" r="r" b="b"/>
                  <a:pathLst>
                    <a:path w="101" h="48">
                      <a:moveTo>
                        <a:pt x="54" y="48"/>
                      </a:moveTo>
                      <a:lnTo>
                        <a:pt x="52" y="46"/>
                      </a:lnTo>
                      <a:lnTo>
                        <a:pt x="50" y="45"/>
                      </a:lnTo>
                      <a:lnTo>
                        <a:pt x="50" y="41"/>
                      </a:lnTo>
                      <a:lnTo>
                        <a:pt x="52" y="37"/>
                      </a:lnTo>
                      <a:lnTo>
                        <a:pt x="52" y="36"/>
                      </a:lnTo>
                      <a:lnTo>
                        <a:pt x="54" y="32"/>
                      </a:lnTo>
                      <a:lnTo>
                        <a:pt x="58" y="28"/>
                      </a:lnTo>
                      <a:lnTo>
                        <a:pt x="60" y="25"/>
                      </a:lnTo>
                      <a:lnTo>
                        <a:pt x="64" y="23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21" y="39"/>
                      </a:lnTo>
                      <a:lnTo>
                        <a:pt x="21" y="37"/>
                      </a:lnTo>
                      <a:lnTo>
                        <a:pt x="23" y="36"/>
                      </a:lnTo>
                      <a:lnTo>
                        <a:pt x="23" y="34"/>
                      </a:lnTo>
                      <a:lnTo>
                        <a:pt x="23" y="32"/>
                      </a:lnTo>
                      <a:lnTo>
                        <a:pt x="23" y="30"/>
                      </a:lnTo>
                      <a:lnTo>
                        <a:pt x="23" y="28"/>
                      </a:lnTo>
                      <a:lnTo>
                        <a:pt x="23" y="27"/>
                      </a:lnTo>
                      <a:lnTo>
                        <a:pt x="23" y="25"/>
                      </a:lnTo>
                      <a:lnTo>
                        <a:pt x="21" y="23"/>
                      </a:lnTo>
                      <a:lnTo>
                        <a:pt x="19" y="21"/>
                      </a:lnTo>
                      <a:lnTo>
                        <a:pt x="16" y="21"/>
                      </a:lnTo>
                      <a:lnTo>
                        <a:pt x="14" y="21"/>
                      </a:lnTo>
                      <a:lnTo>
                        <a:pt x="12" y="23"/>
                      </a:lnTo>
                      <a:lnTo>
                        <a:pt x="12" y="25"/>
                      </a:lnTo>
                      <a:lnTo>
                        <a:pt x="10" y="27"/>
                      </a:lnTo>
                      <a:lnTo>
                        <a:pt x="10" y="28"/>
                      </a:lnTo>
                      <a:lnTo>
                        <a:pt x="8" y="30"/>
                      </a:lnTo>
                      <a:lnTo>
                        <a:pt x="6" y="30"/>
                      </a:lnTo>
                      <a:lnTo>
                        <a:pt x="4" y="30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6" y="12"/>
                      </a:lnTo>
                      <a:lnTo>
                        <a:pt x="10" y="10"/>
                      </a:lnTo>
                      <a:lnTo>
                        <a:pt x="14" y="9"/>
                      </a:lnTo>
                      <a:lnTo>
                        <a:pt x="19" y="7"/>
                      </a:lnTo>
                      <a:lnTo>
                        <a:pt x="23" y="5"/>
                      </a:lnTo>
                      <a:lnTo>
                        <a:pt x="27" y="3"/>
                      </a:lnTo>
                      <a:lnTo>
                        <a:pt x="31" y="0"/>
                      </a:lnTo>
                      <a:lnTo>
                        <a:pt x="33" y="19"/>
                      </a:lnTo>
                      <a:lnTo>
                        <a:pt x="64" y="3"/>
                      </a:lnTo>
                      <a:lnTo>
                        <a:pt x="66" y="21"/>
                      </a:lnTo>
                      <a:lnTo>
                        <a:pt x="101" y="1"/>
                      </a:lnTo>
                      <a:lnTo>
                        <a:pt x="99" y="5"/>
                      </a:lnTo>
                      <a:lnTo>
                        <a:pt x="95" y="10"/>
                      </a:lnTo>
                      <a:lnTo>
                        <a:pt x="91" y="16"/>
                      </a:lnTo>
                      <a:lnTo>
                        <a:pt x="87" y="21"/>
                      </a:lnTo>
                      <a:lnTo>
                        <a:pt x="83" y="25"/>
                      </a:lnTo>
                      <a:lnTo>
                        <a:pt x="78" y="30"/>
                      </a:lnTo>
                      <a:lnTo>
                        <a:pt x="72" y="36"/>
                      </a:lnTo>
                      <a:lnTo>
                        <a:pt x="66" y="41"/>
                      </a:lnTo>
                      <a:lnTo>
                        <a:pt x="60" y="45"/>
                      </a:lnTo>
                      <a:lnTo>
                        <a:pt x="54" y="48"/>
                      </a:lnTo>
                      <a:lnTo>
                        <a:pt x="54" y="48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511320" y="2917800"/>
                  <a:ext cx="48600" cy="38160"/>
                </a:xfrm>
                <a:custGeom>
                  <a:avLst/>
                  <a:gdLst/>
                  <a:ahLst/>
                  <a:rect l="l" t="t" r="r" b="b"/>
                  <a:pathLst>
                    <a:path w="70" h="48">
                      <a:moveTo>
                        <a:pt x="68" y="0"/>
                      </a:moveTo>
                      <a:lnTo>
                        <a:pt x="66" y="7"/>
                      </a:lnTo>
                      <a:lnTo>
                        <a:pt x="60" y="14"/>
                      </a:lnTo>
                      <a:lnTo>
                        <a:pt x="54" y="20"/>
                      </a:lnTo>
                      <a:lnTo>
                        <a:pt x="49" y="25"/>
                      </a:lnTo>
                      <a:lnTo>
                        <a:pt x="41" y="30"/>
                      </a:lnTo>
                      <a:lnTo>
                        <a:pt x="35" y="34"/>
                      </a:lnTo>
                      <a:lnTo>
                        <a:pt x="27" y="38"/>
                      </a:lnTo>
                      <a:lnTo>
                        <a:pt x="20" y="41"/>
                      </a:lnTo>
                      <a:lnTo>
                        <a:pt x="12" y="45"/>
                      </a:lnTo>
                      <a:lnTo>
                        <a:pt x="4" y="48"/>
                      </a:lnTo>
                      <a:lnTo>
                        <a:pt x="0" y="45"/>
                      </a:lnTo>
                      <a:lnTo>
                        <a:pt x="6" y="39"/>
                      </a:lnTo>
                      <a:lnTo>
                        <a:pt x="12" y="34"/>
                      </a:lnTo>
                      <a:lnTo>
                        <a:pt x="18" y="29"/>
                      </a:lnTo>
                      <a:lnTo>
                        <a:pt x="25" y="25"/>
                      </a:lnTo>
                      <a:lnTo>
                        <a:pt x="33" y="20"/>
                      </a:lnTo>
                      <a:lnTo>
                        <a:pt x="39" y="16"/>
                      </a:lnTo>
                      <a:lnTo>
                        <a:pt x="47" y="11"/>
                      </a:lnTo>
                      <a:lnTo>
                        <a:pt x="54" y="7"/>
                      </a:lnTo>
                      <a:lnTo>
                        <a:pt x="62" y="3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089400" y="2889360"/>
                  <a:ext cx="6840" cy="93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5" y="12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5" y="12"/>
                      </a:lnTo>
                      <a:lnTo>
                        <a:pt x="5" y="12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17720" y="2922480"/>
                  <a:ext cx="101520" cy="65160"/>
                </a:xfrm>
                <a:custGeom>
                  <a:avLst/>
                  <a:gdLst/>
                  <a:ahLst/>
                  <a:rect l="l" t="t" r="r" b="b"/>
                  <a:pathLst>
                    <a:path w="143" h="83">
                      <a:moveTo>
                        <a:pt x="141" y="0"/>
                      </a:moveTo>
                      <a:lnTo>
                        <a:pt x="135" y="11"/>
                      </a:lnTo>
                      <a:lnTo>
                        <a:pt x="127" y="20"/>
                      </a:lnTo>
                      <a:lnTo>
                        <a:pt x="118" y="27"/>
                      </a:lnTo>
                      <a:lnTo>
                        <a:pt x="108" y="34"/>
                      </a:lnTo>
                      <a:lnTo>
                        <a:pt x="98" y="42"/>
                      </a:lnTo>
                      <a:lnTo>
                        <a:pt x="87" y="49"/>
                      </a:lnTo>
                      <a:lnTo>
                        <a:pt x="77" y="54"/>
                      </a:lnTo>
                      <a:lnTo>
                        <a:pt x="65" y="60"/>
                      </a:lnTo>
                      <a:lnTo>
                        <a:pt x="54" y="67"/>
                      </a:lnTo>
                      <a:lnTo>
                        <a:pt x="44" y="72"/>
                      </a:lnTo>
                      <a:lnTo>
                        <a:pt x="44" y="70"/>
                      </a:lnTo>
                      <a:lnTo>
                        <a:pt x="44" y="69"/>
                      </a:lnTo>
                      <a:lnTo>
                        <a:pt x="44" y="69"/>
                      </a:lnTo>
                      <a:lnTo>
                        <a:pt x="44" y="67"/>
                      </a:lnTo>
                      <a:lnTo>
                        <a:pt x="44" y="65"/>
                      </a:lnTo>
                      <a:lnTo>
                        <a:pt x="42" y="63"/>
                      </a:lnTo>
                      <a:lnTo>
                        <a:pt x="42" y="61"/>
                      </a:lnTo>
                      <a:lnTo>
                        <a:pt x="42" y="61"/>
                      </a:lnTo>
                      <a:lnTo>
                        <a:pt x="40" y="60"/>
                      </a:lnTo>
                      <a:lnTo>
                        <a:pt x="38" y="60"/>
                      </a:lnTo>
                      <a:lnTo>
                        <a:pt x="32" y="60"/>
                      </a:lnTo>
                      <a:lnTo>
                        <a:pt x="29" y="61"/>
                      </a:lnTo>
                      <a:lnTo>
                        <a:pt x="25" y="65"/>
                      </a:lnTo>
                      <a:lnTo>
                        <a:pt x="23" y="69"/>
                      </a:lnTo>
                      <a:lnTo>
                        <a:pt x="21" y="72"/>
                      </a:lnTo>
                      <a:lnTo>
                        <a:pt x="17" y="76"/>
                      </a:lnTo>
                      <a:lnTo>
                        <a:pt x="13" y="80"/>
                      </a:lnTo>
                      <a:lnTo>
                        <a:pt x="11" y="81"/>
                      </a:lnTo>
                      <a:lnTo>
                        <a:pt x="5" y="83"/>
                      </a:lnTo>
                      <a:lnTo>
                        <a:pt x="0" y="81"/>
                      </a:lnTo>
                      <a:lnTo>
                        <a:pt x="3" y="74"/>
                      </a:lnTo>
                      <a:lnTo>
                        <a:pt x="9" y="67"/>
                      </a:lnTo>
                      <a:lnTo>
                        <a:pt x="15" y="60"/>
                      </a:lnTo>
                      <a:lnTo>
                        <a:pt x="21" y="52"/>
                      </a:lnTo>
                      <a:lnTo>
                        <a:pt x="29" y="47"/>
                      </a:lnTo>
                      <a:lnTo>
                        <a:pt x="34" y="42"/>
                      </a:lnTo>
                      <a:lnTo>
                        <a:pt x="44" y="36"/>
                      </a:lnTo>
                      <a:lnTo>
                        <a:pt x="52" y="33"/>
                      </a:lnTo>
                      <a:lnTo>
                        <a:pt x="61" y="29"/>
                      </a:lnTo>
                      <a:lnTo>
                        <a:pt x="69" y="27"/>
                      </a:lnTo>
                      <a:lnTo>
                        <a:pt x="69" y="27"/>
                      </a:lnTo>
                      <a:lnTo>
                        <a:pt x="69" y="29"/>
                      </a:lnTo>
                      <a:lnTo>
                        <a:pt x="69" y="31"/>
                      </a:lnTo>
                      <a:lnTo>
                        <a:pt x="69" y="33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6"/>
                      </a:lnTo>
                      <a:lnTo>
                        <a:pt x="71" y="38"/>
                      </a:lnTo>
                      <a:lnTo>
                        <a:pt x="71" y="38"/>
                      </a:lnTo>
                      <a:lnTo>
                        <a:pt x="73" y="40"/>
                      </a:lnTo>
                      <a:lnTo>
                        <a:pt x="81" y="36"/>
                      </a:lnTo>
                      <a:lnTo>
                        <a:pt x="87" y="31"/>
                      </a:lnTo>
                      <a:lnTo>
                        <a:pt x="94" y="27"/>
                      </a:lnTo>
                      <a:lnTo>
                        <a:pt x="100" y="22"/>
                      </a:lnTo>
                      <a:lnTo>
                        <a:pt x="108" y="18"/>
                      </a:lnTo>
                      <a:lnTo>
                        <a:pt x="114" y="15"/>
                      </a:lnTo>
                      <a:lnTo>
                        <a:pt x="122" y="9"/>
                      </a:lnTo>
                      <a:lnTo>
                        <a:pt x="127" y="6"/>
                      </a:lnTo>
                      <a:lnTo>
                        <a:pt x="135" y="4"/>
                      </a:lnTo>
                      <a:lnTo>
                        <a:pt x="143" y="0"/>
                      </a:lnTo>
                      <a:lnTo>
                        <a:pt x="143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361920" y="2922480"/>
                  <a:ext cx="50040" cy="49320"/>
                </a:xfrm>
                <a:custGeom>
                  <a:avLst/>
                  <a:gdLst/>
                  <a:ahLst/>
                  <a:rect l="l" t="t" r="r" b="b"/>
                  <a:pathLst>
                    <a:path w="70" h="63">
                      <a:moveTo>
                        <a:pt x="70" y="0"/>
                      </a:moveTo>
                      <a:lnTo>
                        <a:pt x="62" y="6"/>
                      </a:lnTo>
                      <a:lnTo>
                        <a:pt x="54" y="11"/>
                      </a:lnTo>
                      <a:lnTo>
                        <a:pt x="48" y="18"/>
                      </a:lnTo>
                      <a:lnTo>
                        <a:pt x="41" y="25"/>
                      </a:lnTo>
                      <a:lnTo>
                        <a:pt x="35" y="33"/>
                      </a:lnTo>
                      <a:lnTo>
                        <a:pt x="29" y="40"/>
                      </a:lnTo>
                      <a:lnTo>
                        <a:pt x="23" y="47"/>
                      </a:lnTo>
                      <a:lnTo>
                        <a:pt x="16" y="54"/>
                      </a:lnTo>
                      <a:lnTo>
                        <a:pt x="8" y="60"/>
                      </a:lnTo>
                      <a:lnTo>
                        <a:pt x="0" y="63"/>
                      </a:lnTo>
                      <a:lnTo>
                        <a:pt x="2" y="56"/>
                      </a:lnTo>
                      <a:lnTo>
                        <a:pt x="6" y="47"/>
                      </a:lnTo>
                      <a:lnTo>
                        <a:pt x="12" y="40"/>
                      </a:lnTo>
                      <a:lnTo>
                        <a:pt x="19" y="31"/>
                      </a:lnTo>
                      <a:lnTo>
                        <a:pt x="27" y="22"/>
                      </a:lnTo>
                      <a:lnTo>
                        <a:pt x="35" y="15"/>
                      </a:lnTo>
                      <a:lnTo>
                        <a:pt x="45" y="9"/>
                      </a:lnTo>
                      <a:lnTo>
                        <a:pt x="54" y="4"/>
                      </a:lnTo>
                      <a:lnTo>
                        <a:pt x="62" y="0"/>
                      </a:lnTo>
                      <a:lnTo>
                        <a:pt x="7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123960" y="2908440"/>
                  <a:ext cx="39960" cy="31680"/>
                </a:xfrm>
                <a:custGeom>
                  <a:avLst/>
                  <a:gdLst/>
                  <a:ahLst/>
                  <a:rect l="l" t="t" r="r" b="b"/>
                  <a:pathLst>
                    <a:path w="56" h="42">
                      <a:moveTo>
                        <a:pt x="52" y="38"/>
                      </a:moveTo>
                      <a:lnTo>
                        <a:pt x="45" y="42"/>
                      </a:lnTo>
                      <a:lnTo>
                        <a:pt x="37" y="40"/>
                      </a:lnTo>
                      <a:lnTo>
                        <a:pt x="31" y="38"/>
                      </a:lnTo>
                      <a:lnTo>
                        <a:pt x="25" y="33"/>
                      </a:lnTo>
                      <a:lnTo>
                        <a:pt x="19" y="27"/>
                      </a:lnTo>
                      <a:lnTo>
                        <a:pt x="14" y="20"/>
                      </a:lnTo>
                      <a:lnTo>
                        <a:pt x="10" y="15"/>
                      </a:lnTo>
                      <a:lnTo>
                        <a:pt x="6" y="7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14" y="7"/>
                      </a:lnTo>
                      <a:lnTo>
                        <a:pt x="21" y="9"/>
                      </a:lnTo>
                      <a:lnTo>
                        <a:pt x="31" y="11"/>
                      </a:lnTo>
                      <a:lnTo>
                        <a:pt x="39" y="13"/>
                      </a:lnTo>
                      <a:lnTo>
                        <a:pt x="47" y="15"/>
                      </a:lnTo>
                      <a:lnTo>
                        <a:pt x="52" y="18"/>
                      </a:lnTo>
                      <a:lnTo>
                        <a:pt x="56" y="22"/>
                      </a:lnTo>
                      <a:lnTo>
                        <a:pt x="56" y="29"/>
                      </a:lnTo>
                      <a:lnTo>
                        <a:pt x="52" y="38"/>
                      </a:lnTo>
                      <a:lnTo>
                        <a:pt x="52" y="3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389280" y="2932200"/>
                  <a:ext cx="45720" cy="34920"/>
                </a:xfrm>
                <a:custGeom>
                  <a:avLst/>
                  <a:gdLst/>
                  <a:ahLst/>
                  <a:rect l="l" t="t" r="r" b="b"/>
                  <a:pathLst>
                    <a:path w="64" h="45">
                      <a:moveTo>
                        <a:pt x="62" y="2"/>
                      </a:moveTo>
                      <a:lnTo>
                        <a:pt x="58" y="9"/>
                      </a:lnTo>
                      <a:lnTo>
                        <a:pt x="54" y="14"/>
                      </a:lnTo>
                      <a:lnTo>
                        <a:pt x="46" y="20"/>
                      </a:lnTo>
                      <a:lnTo>
                        <a:pt x="40" y="23"/>
                      </a:lnTo>
                      <a:lnTo>
                        <a:pt x="35" y="29"/>
                      </a:lnTo>
                      <a:lnTo>
                        <a:pt x="27" y="32"/>
                      </a:lnTo>
                      <a:lnTo>
                        <a:pt x="21" y="36"/>
                      </a:lnTo>
                      <a:lnTo>
                        <a:pt x="13" y="39"/>
                      </a:lnTo>
                      <a:lnTo>
                        <a:pt x="8" y="41"/>
                      </a:lnTo>
                      <a:lnTo>
                        <a:pt x="0" y="45"/>
                      </a:lnTo>
                      <a:lnTo>
                        <a:pt x="4" y="39"/>
                      </a:lnTo>
                      <a:lnTo>
                        <a:pt x="9" y="32"/>
                      </a:lnTo>
                      <a:lnTo>
                        <a:pt x="13" y="27"/>
                      </a:lnTo>
                      <a:lnTo>
                        <a:pt x="19" y="20"/>
                      </a:lnTo>
                      <a:lnTo>
                        <a:pt x="27" y="14"/>
                      </a:lnTo>
                      <a:lnTo>
                        <a:pt x="35" y="9"/>
                      </a:lnTo>
                      <a:lnTo>
                        <a:pt x="40" y="3"/>
                      </a:lnTo>
                      <a:lnTo>
                        <a:pt x="48" y="2"/>
                      </a:lnTo>
                      <a:lnTo>
                        <a:pt x="56" y="0"/>
                      </a:lnTo>
                      <a:lnTo>
                        <a:pt x="64" y="2"/>
                      </a:lnTo>
                      <a:lnTo>
                        <a:pt x="64" y="2"/>
                      </a:lnTo>
                      <a:lnTo>
                        <a:pt x="62" y="2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243120" y="2928960"/>
                  <a:ext cx="31320" cy="84240"/>
                </a:xfrm>
                <a:custGeom>
                  <a:avLst/>
                  <a:gdLst/>
                  <a:ahLst/>
                  <a:rect l="l" t="t" r="r" b="b"/>
                  <a:pathLst>
                    <a:path w="44" h="107">
                      <a:moveTo>
                        <a:pt x="23" y="94"/>
                      </a:moveTo>
                      <a:lnTo>
                        <a:pt x="19" y="89"/>
                      </a:lnTo>
                      <a:lnTo>
                        <a:pt x="0" y="107"/>
                      </a:lnTo>
                      <a:lnTo>
                        <a:pt x="36" y="0"/>
                      </a:lnTo>
                      <a:lnTo>
                        <a:pt x="40" y="7"/>
                      </a:lnTo>
                      <a:lnTo>
                        <a:pt x="42" y="16"/>
                      </a:lnTo>
                      <a:lnTo>
                        <a:pt x="44" y="25"/>
                      </a:lnTo>
                      <a:lnTo>
                        <a:pt x="42" y="34"/>
                      </a:lnTo>
                      <a:lnTo>
                        <a:pt x="40" y="43"/>
                      </a:lnTo>
                      <a:lnTo>
                        <a:pt x="38" y="54"/>
                      </a:lnTo>
                      <a:lnTo>
                        <a:pt x="34" y="63"/>
                      </a:lnTo>
                      <a:lnTo>
                        <a:pt x="31" y="74"/>
                      </a:lnTo>
                      <a:lnTo>
                        <a:pt x="27" y="85"/>
                      </a:lnTo>
                      <a:lnTo>
                        <a:pt x="23" y="94"/>
                      </a:lnTo>
                      <a:lnTo>
                        <a:pt x="23" y="9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168600" y="2943360"/>
                  <a:ext cx="82800" cy="133200"/>
                </a:xfrm>
                <a:custGeom>
                  <a:avLst/>
                  <a:gdLst/>
                  <a:ahLst/>
                  <a:rect l="l" t="t" r="r" b="b"/>
                  <a:pathLst>
                    <a:path w="116" h="168">
                      <a:moveTo>
                        <a:pt x="116" y="0"/>
                      </a:moveTo>
                      <a:lnTo>
                        <a:pt x="112" y="22"/>
                      </a:lnTo>
                      <a:lnTo>
                        <a:pt x="106" y="42"/>
                      </a:lnTo>
                      <a:lnTo>
                        <a:pt x="97" y="58"/>
                      </a:lnTo>
                      <a:lnTo>
                        <a:pt x="85" y="76"/>
                      </a:lnTo>
                      <a:lnTo>
                        <a:pt x="74" y="90"/>
                      </a:lnTo>
                      <a:lnTo>
                        <a:pt x="58" y="107"/>
                      </a:lnTo>
                      <a:lnTo>
                        <a:pt x="45" y="121"/>
                      </a:lnTo>
                      <a:lnTo>
                        <a:pt x="29" y="137"/>
                      </a:lnTo>
                      <a:lnTo>
                        <a:pt x="15" y="152"/>
                      </a:lnTo>
                      <a:lnTo>
                        <a:pt x="0" y="168"/>
                      </a:lnTo>
                      <a:lnTo>
                        <a:pt x="4" y="157"/>
                      </a:lnTo>
                      <a:lnTo>
                        <a:pt x="8" y="146"/>
                      </a:lnTo>
                      <a:lnTo>
                        <a:pt x="12" y="135"/>
                      </a:lnTo>
                      <a:lnTo>
                        <a:pt x="15" y="125"/>
                      </a:lnTo>
                      <a:lnTo>
                        <a:pt x="19" y="114"/>
                      </a:lnTo>
                      <a:lnTo>
                        <a:pt x="25" y="103"/>
                      </a:lnTo>
                      <a:lnTo>
                        <a:pt x="31" y="94"/>
                      </a:lnTo>
                      <a:lnTo>
                        <a:pt x="39" y="83"/>
                      </a:lnTo>
                      <a:lnTo>
                        <a:pt x="46" y="74"/>
                      </a:lnTo>
                      <a:lnTo>
                        <a:pt x="54" y="67"/>
                      </a:lnTo>
                      <a:lnTo>
                        <a:pt x="56" y="69"/>
                      </a:lnTo>
                      <a:lnTo>
                        <a:pt x="56" y="71"/>
                      </a:lnTo>
                      <a:lnTo>
                        <a:pt x="54" y="72"/>
                      </a:lnTo>
                      <a:lnTo>
                        <a:pt x="54" y="74"/>
                      </a:lnTo>
                      <a:lnTo>
                        <a:pt x="54" y="76"/>
                      </a:lnTo>
                      <a:lnTo>
                        <a:pt x="54" y="78"/>
                      </a:lnTo>
                      <a:lnTo>
                        <a:pt x="54" y="80"/>
                      </a:lnTo>
                      <a:lnTo>
                        <a:pt x="54" y="81"/>
                      </a:lnTo>
                      <a:lnTo>
                        <a:pt x="56" y="83"/>
                      </a:lnTo>
                      <a:lnTo>
                        <a:pt x="58" y="85"/>
                      </a:lnTo>
                      <a:lnTo>
                        <a:pt x="68" y="76"/>
                      </a:lnTo>
                      <a:lnTo>
                        <a:pt x="74" y="65"/>
                      </a:lnTo>
                      <a:lnTo>
                        <a:pt x="77" y="54"/>
                      </a:lnTo>
                      <a:lnTo>
                        <a:pt x="81" y="42"/>
                      </a:lnTo>
                      <a:lnTo>
                        <a:pt x="83" y="31"/>
                      </a:lnTo>
                      <a:lnTo>
                        <a:pt x="87" y="20"/>
                      </a:lnTo>
                      <a:lnTo>
                        <a:pt x="91" y="13"/>
                      </a:lnTo>
                      <a:lnTo>
                        <a:pt x="97" y="6"/>
                      </a:lnTo>
                      <a:lnTo>
                        <a:pt x="105" y="2"/>
                      </a:lnTo>
                      <a:lnTo>
                        <a:pt x="116" y="2"/>
                      </a:lnTo>
                      <a:lnTo>
                        <a:pt x="116" y="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09560" y="2935440"/>
                  <a:ext cx="35640" cy="47520"/>
                </a:xfrm>
                <a:custGeom>
                  <a:avLst/>
                  <a:gdLst/>
                  <a:ahLst/>
                  <a:rect l="l" t="t" r="r" b="b"/>
                  <a:pathLst>
                    <a:path w="50" h="62">
                      <a:moveTo>
                        <a:pt x="50" y="33"/>
                      </a:moveTo>
                      <a:lnTo>
                        <a:pt x="40" y="62"/>
                      </a:lnTo>
                      <a:lnTo>
                        <a:pt x="36" y="53"/>
                      </a:lnTo>
                      <a:lnTo>
                        <a:pt x="31" y="45"/>
                      </a:lnTo>
                      <a:lnTo>
                        <a:pt x="23" y="40"/>
                      </a:lnTo>
                      <a:lnTo>
                        <a:pt x="17" y="36"/>
                      </a:lnTo>
                      <a:lnTo>
                        <a:pt x="11" y="31"/>
                      </a:lnTo>
                      <a:lnTo>
                        <a:pt x="5" y="27"/>
                      </a:lnTo>
                      <a:lnTo>
                        <a:pt x="2" y="22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0"/>
                      </a:lnTo>
                      <a:lnTo>
                        <a:pt x="7" y="2"/>
                      </a:lnTo>
                      <a:lnTo>
                        <a:pt x="13" y="6"/>
                      </a:lnTo>
                      <a:lnTo>
                        <a:pt x="17" y="8"/>
                      </a:lnTo>
                      <a:lnTo>
                        <a:pt x="23" y="11"/>
                      </a:lnTo>
                      <a:lnTo>
                        <a:pt x="27" y="15"/>
                      </a:lnTo>
                      <a:lnTo>
                        <a:pt x="31" y="18"/>
                      </a:lnTo>
                      <a:lnTo>
                        <a:pt x="36" y="22"/>
                      </a:lnTo>
                      <a:lnTo>
                        <a:pt x="40" y="26"/>
                      </a:lnTo>
                      <a:lnTo>
                        <a:pt x="46" y="31"/>
                      </a:lnTo>
                      <a:lnTo>
                        <a:pt x="50" y="35"/>
                      </a:lnTo>
                      <a:lnTo>
                        <a:pt x="50" y="35"/>
                      </a:lnTo>
                      <a:lnTo>
                        <a:pt x="50" y="3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274440" y="2954520"/>
                  <a:ext cx="45720" cy="120600"/>
                </a:xfrm>
                <a:custGeom>
                  <a:avLst/>
                  <a:gdLst/>
                  <a:ahLst/>
                  <a:rect l="l" t="t" r="r" b="b"/>
                  <a:pathLst>
                    <a:path w="64" h="151">
                      <a:moveTo>
                        <a:pt x="50" y="30"/>
                      </a:moveTo>
                      <a:lnTo>
                        <a:pt x="52" y="28"/>
                      </a:lnTo>
                      <a:lnTo>
                        <a:pt x="52" y="28"/>
                      </a:lnTo>
                      <a:lnTo>
                        <a:pt x="52" y="27"/>
                      </a:lnTo>
                      <a:lnTo>
                        <a:pt x="52" y="27"/>
                      </a:lnTo>
                      <a:lnTo>
                        <a:pt x="50" y="27"/>
                      </a:lnTo>
                      <a:lnTo>
                        <a:pt x="50" y="25"/>
                      </a:lnTo>
                      <a:lnTo>
                        <a:pt x="50" y="25"/>
                      </a:lnTo>
                      <a:lnTo>
                        <a:pt x="49" y="23"/>
                      </a:lnTo>
                      <a:lnTo>
                        <a:pt x="49" y="23"/>
                      </a:lnTo>
                      <a:lnTo>
                        <a:pt x="49" y="23"/>
                      </a:lnTo>
                      <a:lnTo>
                        <a:pt x="47" y="23"/>
                      </a:lnTo>
                      <a:lnTo>
                        <a:pt x="43" y="23"/>
                      </a:lnTo>
                      <a:lnTo>
                        <a:pt x="41" y="23"/>
                      </a:lnTo>
                      <a:lnTo>
                        <a:pt x="39" y="25"/>
                      </a:lnTo>
                      <a:lnTo>
                        <a:pt x="39" y="25"/>
                      </a:lnTo>
                      <a:lnTo>
                        <a:pt x="37" y="27"/>
                      </a:lnTo>
                      <a:lnTo>
                        <a:pt x="35" y="28"/>
                      </a:lnTo>
                      <a:lnTo>
                        <a:pt x="35" y="30"/>
                      </a:lnTo>
                      <a:lnTo>
                        <a:pt x="33" y="32"/>
                      </a:lnTo>
                      <a:lnTo>
                        <a:pt x="33" y="34"/>
                      </a:lnTo>
                      <a:lnTo>
                        <a:pt x="35" y="45"/>
                      </a:lnTo>
                      <a:lnTo>
                        <a:pt x="35" y="57"/>
                      </a:lnTo>
                      <a:lnTo>
                        <a:pt x="35" y="68"/>
                      </a:lnTo>
                      <a:lnTo>
                        <a:pt x="35" y="81"/>
                      </a:lnTo>
                      <a:lnTo>
                        <a:pt x="33" y="93"/>
                      </a:lnTo>
                      <a:lnTo>
                        <a:pt x="33" y="104"/>
                      </a:lnTo>
                      <a:lnTo>
                        <a:pt x="31" y="117"/>
                      </a:lnTo>
                      <a:lnTo>
                        <a:pt x="29" y="128"/>
                      </a:lnTo>
                      <a:lnTo>
                        <a:pt x="27" y="140"/>
                      </a:lnTo>
                      <a:lnTo>
                        <a:pt x="25" y="151"/>
                      </a:lnTo>
                      <a:lnTo>
                        <a:pt x="14" y="138"/>
                      </a:lnTo>
                      <a:lnTo>
                        <a:pt x="6" y="122"/>
                      </a:lnTo>
                      <a:lnTo>
                        <a:pt x="2" y="108"/>
                      </a:lnTo>
                      <a:lnTo>
                        <a:pt x="0" y="92"/>
                      </a:lnTo>
                      <a:lnTo>
                        <a:pt x="0" y="75"/>
                      </a:lnTo>
                      <a:lnTo>
                        <a:pt x="2" y="59"/>
                      </a:lnTo>
                      <a:lnTo>
                        <a:pt x="6" y="45"/>
                      </a:lnTo>
                      <a:lnTo>
                        <a:pt x="10" y="28"/>
                      </a:lnTo>
                      <a:lnTo>
                        <a:pt x="16" y="14"/>
                      </a:lnTo>
                      <a:lnTo>
                        <a:pt x="23" y="0"/>
                      </a:lnTo>
                      <a:lnTo>
                        <a:pt x="18" y="16"/>
                      </a:lnTo>
                      <a:lnTo>
                        <a:pt x="19" y="23"/>
                      </a:lnTo>
                      <a:lnTo>
                        <a:pt x="25" y="23"/>
                      </a:lnTo>
                      <a:lnTo>
                        <a:pt x="33" y="19"/>
                      </a:lnTo>
                      <a:lnTo>
                        <a:pt x="43" y="12"/>
                      </a:lnTo>
                      <a:lnTo>
                        <a:pt x="52" y="7"/>
                      </a:lnTo>
                      <a:lnTo>
                        <a:pt x="60" y="1"/>
                      </a:lnTo>
                      <a:lnTo>
                        <a:pt x="64" y="3"/>
                      </a:lnTo>
                      <a:lnTo>
                        <a:pt x="60" y="12"/>
                      </a:lnTo>
                      <a:lnTo>
                        <a:pt x="50" y="30"/>
                      </a:lnTo>
                      <a:lnTo>
                        <a:pt x="50" y="3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142320" y="2971800"/>
                  <a:ext cx="25920" cy="61920"/>
                </a:xfrm>
                <a:custGeom>
                  <a:avLst/>
                  <a:gdLst/>
                  <a:ahLst/>
                  <a:rect l="l" t="t" r="r" b="b"/>
                  <a:pathLst>
                    <a:path w="35" h="78">
                      <a:moveTo>
                        <a:pt x="12" y="78"/>
                      </a:moveTo>
                      <a:lnTo>
                        <a:pt x="4" y="71"/>
                      </a:lnTo>
                      <a:lnTo>
                        <a:pt x="0" y="63"/>
                      </a:lnTo>
                      <a:lnTo>
                        <a:pt x="0" y="56"/>
                      </a:lnTo>
                      <a:lnTo>
                        <a:pt x="2" y="49"/>
                      </a:lnTo>
                      <a:lnTo>
                        <a:pt x="6" y="42"/>
                      </a:lnTo>
                      <a:lnTo>
                        <a:pt x="12" y="35"/>
                      </a:lnTo>
                      <a:lnTo>
                        <a:pt x="16" y="26"/>
                      </a:lnTo>
                      <a:lnTo>
                        <a:pt x="20" y="18"/>
                      </a:lnTo>
                      <a:lnTo>
                        <a:pt x="21" y="9"/>
                      </a:lnTo>
                      <a:lnTo>
                        <a:pt x="20" y="0"/>
                      </a:lnTo>
                      <a:lnTo>
                        <a:pt x="27" y="6"/>
                      </a:lnTo>
                      <a:lnTo>
                        <a:pt x="33" y="13"/>
                      </a:lnTo>
                      <a:lnTo>
                        <a:pt x="35" y="20"/>
                      </a:lnTo>
                      <a:lnTo>
                        <a:pt x="35" y="29"/>
                      </a:lnTo>
                      <a:lnTo>
                        <a:pt x="31" y="36"/>
                      </a:lnTo>
                      <a:lnTo>
                        <a:pt x="27" y="45"/>
                      </a:lnTo>
                      <a:lnTo>
                        <a:pt x="21" y="54"/>
                      </a:lnTo>
                      <a:lnTo>
                        <a:pt x="18" y="62"/>
                      </a:lnTo>
                      <a:lnTo>
                        <a:pt x="14" y="71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2" y="7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85880" y="3032280"/>
                  <a:ext cx="70200" cy="95040"/>
                </a:xfrm>
                <a:custGeom>
                  <a:avLst/>
                  <a:gdLst/>
                  <a:ahLst/>
                  <a:rect l="l" t="t" r="r" b="b"/>
                  <a:pathLst>
                    <a:path w="99" h="121">
                      <a:moveTo>
                        <a:pt x="99" y="11"/>
                      </a:moveTo>
                      <a:lnTo>
                        <a:pt x="95" y="23"/>
                      </a:lnTo>
                      <a:lnTo>
                        <a:pt x="89" y="34"/>
                      </a:lnTo>
                      <a:lnTo>
                        <a:pt x="81" y="45"/>
                      </a:lnTo>
                      <a:lnTo>
                        <a:pt x="76" y="56"/>
                      </a:lnTo>
                      <a:lnTo>
                        <a:pt x="68" y="67"/>
                      </a:lnTo>
                      <a:lnTo>
                        <a:pt x="62" y="76"/>
                      </a:lnTo>
                      <a:lnTo>
                        <a:pt x="54" y="87"/>
                      </a:lnTo>
                      <a:lnTo>
                        <a:pt x="49" y="97"/>
                      </a:lnTo>
                      <a:lnTo>
                        <a:pt x="43" y="108"/>
                      </a:lnTo>
                      <a:lnTo>
                        <a:pt x="37" y="119"/>
                      </a:lnTo>
                      <a:lnTo>
                        <a:pt x="33" y="121"/>
                      </a:lnTo>
                      <a:lnTo>
                        <a:pt x="31" y="121"/>
                      </a:lnTo>
                      <a:lnTo>
                        <a:pt x="27" y="119"/>
                      </a:lnTo>
                      <a:lnTo>
                        <a:pt x="25" y="119"/>
                      </a:lnTo>
                      <a:lnTo>
                        <a:pt x="21" y="117"/>
                      </a:lnTo>
                      <a:lnTo>
                        <a:pt x="20" y="115"/>
                      </a:lnTo>
                      <a:lnTo>
                        <a:pt x="18" y="114"/>
                      </a:lnTo>
                      <a:lnTo>
                        <a:pt x="16" y="110"/>
                      </a:lnTo>
                      <a:lnTo>
                        <a:pt x="16" y="108"/>
                      </a:lnTo>
                      <a:lnTo>
                        <a:pt x="16" y="105"/>
                      </a:lnTo>
                      <a:lnTo>
                        <a:pt x="18" y="94"/>
                      </a:lnTo>
                      <a:lnTo>
                        <a:pt x="21" y="85"/>
                      </a:lnTo>
                      <a:lnTo>
                        <a:pt x="29" y="76"/>
                      </a:lnTo>
                      <a:lnTo>
                        <a:pt x="37" y="67"/>
                      </a:lnTo>
                      <a:lnTo>
                        <a:pt x="45" y="58"/>
                      </a:lnTo>
                      <a:lnTo>
                        <a:pt x="54" y="50"/>
                      </a:lnTo>
                      <a:lnTo>
                        <a:pt x="62" y="41"/>
                      </a:lnTo>
                      <a:lnTo>
                        <a:pt x="70" y="34"/>
                      </a:lnTo>
                      <a:lnTo>
                        <a:pt x="78" y="27"/>
                      </a:lnTo>
                      <a:lnTo>
                        <a:pt x="81" y="20"/>
                      </a:lnTo>
                      <a:lnTo>
                        <a:pt x="72" y="18"/>
                      </a:lnTo>
                      <a:lnTo>
                        <a:pt x="62" y="18"/>
                      </a:lnTo>
                      <a:lnTo>
                        <a:pt x="52" y="22"/>
                      </a:lnTo>
                      <a:lnTo>
                        <a:pt x="45" y="27"/>
                      </a:lnTo>
                      <a:lnTo>
                        <a:pt x="37" y="34"/>
                      </a:lnTo>
                      <a:lnTo>
                        <a:pt x="29" y="43"/>
                      </a:lnTo>
                      <a:lnTo>
                        <a:pt x="21" y="50"/>
                      </a:lnTo>
                      <a:lnTo>
                        <a:pt x="16" y="59"/>
                      </a:lnTo>
                      <a:lnTo>
                        <a:pt x="8" y="67"/>
                      </a:lnTo>
                      <a:lnTo>
                        <a:pt x="2" y="74"/>
                      </a:lnTo>
                      <a:lnTo>
                        <a:pt x="0" y="67"/>
                      </a:lnTo>
                      <a:lnTo>
                        <a:pt x="0" y="59"/>
                      </a:lnTo>
                      <a:lnTo>
                        <a:pt x="4" y="54"/>
                      </a:lnTo>
                      <a:lnTo>
                        <a:pt x="8" y="49"/>
                      </a:lnTo>
                      <a:lnTo>
                        <a:pt x="12" y="43"/>
                      </a:lnTo>
                      <a:lnTo>
                        <a:pt x="18" y="38"/>
                      </a:lnTo>
                      <a:lnTo>
                        <a:pt x="23" y="32"/>
                      </a:lnTo>
                      <a:lnTo>
                        <a:pt x="29" y="27"/>
                      </a:lnTo>
                      <a:lnTo>
                        <a:pt x="35" y="22"/>
                      </a:lnTo>
                      <a:lnTo>
                        <a:pt x="39" y="16"/>
                      </a:lnTo>
                      <a:lnTo>
                        <a:pt x="47" y="13"/>
                      </a:lnTo>
                      <a:lnTo>
                        <a:pt x="52" y="9"/>
                      </a:lnTo>
                      <a:lnTo>
                        <a:pt x="60" y="5"/>
                      </a:lnTo>
                      <a:lnTo>
                        <a:pt x="66" y="4"/>
                      </a:lnTo>
                      <a:lnTo>
                        <a:pt x="72" y="2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9" y="2"/>
                      </a:lnTo>
                      <a:lnTo>
                        <a:pt x="95" y="5"/>
                      </a:lnTo>
                      <a:lnTo>
                        <a:pt x="99" y="11"/>
                      </a:lnTo>
                      <a:lnTo>
                        <a:pt x="99" y="1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03640" y="3097440"/>
                  <a:ext cx="8640" cy="1728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8" y="22"/>
                      </a:move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1" y="0"/>
                      </a:lnTo>
                      <a:lnTo>
                        <a:pt x="9" y="22"/>
                      </a:lnTo>
                      <a:lnTo>
                        <a:pt x="9" y="22"/>
                      </a:lnTo>
                      <a:lnTo>
                        <a:pt x="8" y="22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215760" y="3071880"/>
                  <a:ext cx="50040" cy="95400"/>
                </a:xfrm>
                <a:custGeom>
                  <a:avLst/>
                  <a:gdLst/>
                  <a:ahLst/>
                  <a:rect l="l" t="t" r="r" b="b"/>
                  <a:pathLst>
                    <a:path w="69" h="119">
                      <a:moveTo>
                        <a:pt x="68" y="0"/>
                      </a:moveTo>
                      <a:lnTo>
                        <a:pt x="64" y="13"/>
                      </a:lnTo>
                      <a:lnTo>
                        <a:pt x="58" y="26"/>
                      </a:lnTo>
                      <a:lnTo>
                        <a:pt x="54" y="38"/>
                      </a:lnTo>
                      <a:lnTo>
                        <a:pt x="48" y="49"/>
                      </a:lnTo>
                      <a:lnTo>
                        <a:pt x="44" y="62"/>
                      </a:lnTo>
                      <a:lnTo>
                        <a:pt x="38" y="74"/>
                      </a:lnTo>
                      <a:lnTo>
                        <a:pt x="33" y="85"/>
                      </a:lnTo>
                      <a:lnTo>
                        <a:pt x="27" y="98"/>
                      </a:lnTo>
                      <a:lnTo>
                        <a:pt x="21" y="109"/>
                      </a:lnTo>
                      <a:lnTo>
                        <a:pt x="13" y="119"/>
                      </a:lnTo>
                      <a:lnTo>
                        <a:pt x="6" y="112"/>
                      </a:lnTo>
                      <a:lnTo>
                        <a:pt x="2" y="105"/>
                      </a:lnTo>
                      <a:lnTo>
                        <a:pt x="0" y="100"/>
                      </a:lnTo>
                      <a:lnTo>
                        <a:pt x="2" y="92"/>
                      </a:lnTo>
                      <a:lnTo>
                        <a:pt x="6" y="87"/>
                      </a:lnTo>
                      <a:lnTo>
                        <a:pt x="11" y="82"/>
                      </a:lnTo>
                      <a:lnTo>
                        <a:pt x="15" y="74"/>
                      </a:lnTo>
                      <a:lnTo>
                        <a:pt x="21" y="69"/>
                      </a:lnTo>
                      <a:lnTo>
                        <a:pt x="25" y="62"/>
                      </a:lnTo>
                      <a:lnTo>
                        <a:pt x="27" y="55"/>
                      </a:lnTo>
                      <a:lnTo>
                        <a:pt x="37" y="55"/>
                      </a:lnTo>
                      <a:lnTo>
                        <a:pt x="42" y="51"/>
                      </a:lnTo>
                      <a:lnTo>
                        <a:pt x="46" y="46"/>
                      </a:lnTo>
                      <a:lnTo>
                        <a:pt x="46" y="38"/>
                      </a:lnTo>
                      <a:lnTo>
                        <a:pt x="48" y="31"/>
                      </a:lnTo>
                      <a:lnTo>
                        <a:pt x="48" y="22"/>
                      </a:lnTo>
                      <a:lnTo>
                        <a:pt x="50" y="15"/>
                      </a:lnTo>
                      <a:lnTo>
                        <a:pt x="52" y="9"/>
                      </a:lnTo>
                      <a:lnTo>
                        <a:pt x="60" y="4"/>
                      </a:lnTo>
                      <a:lnTo>
                        <a:pt x="69" y="2"/>
                      </a:lnTo>
                      <a:lnTo>
                        <a:pt x="69" y="2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333920" y="3156120"/>
                  <a:ext cx="82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8">
                      <a:moveTo>
                        <a:pt x="10" y="0"/>
                      </a:moveTo>
                      <a:lnTo>
                        <a:pt x="0" y="18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239880" y="3086280"/>
                  <a:ext cx="34200" cy="118800"/>
                </a:xfrm>
                <a:custGeom>
                  <a:avLst/>
                  <a:gdLst/>
                  <a:ahLst/>
                  <a:rect l="l" t="t" r="r" b="b"/>
                  <a:pathLst>
                    <a:path w="48" h="149">
                      <a:moveTo>
                        <a:pt x="4" y="149"/>
                      </a:moveTo>
                      <a:lnTo>
                        <a:pt x="0" y="133"/>
                      </a:lnTo>
                      <a:lnTo>
                        <a:pt x="0" y="118"/>
                      </a:lnTo>
                      <a:lnTo>
                        <a:pt x="2" y="102"/>
                      </a:lnTo>
                      <a:lnTo>
                        <a:pt x="5" y="88"/>
                      </a:lnTo>
                      <a:lnTo>
                        <a:pt x="13" y="73"/>
                      </a:lnTo>
                      <a:lnTo>
                        <a:pt x="21" y="59"/>
                      </a:lnTo>
                      <a:lnTo>
                        <a:pt x="29" y="45"/>
                      </a:lnTo>
                      <a:lnTo>
                        <a:pt x="36" y="30"/>
                      </a:lnTo>
                      <a:lnTo>
                        <a:pt x="42" y="14"/>
                      </a:lnTo>
                      <a:lnTo>
                        <a:pt x="48" y="0"/>
                      </a:lnTo>
                      <a:lnTo>
                        <a:pt x="4" y="149"/>
                      </a:lnTo>
                      <a:lnTo>
                        <a:pt x="4" y="14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058520" y="316872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21" h="18">
                      <a:moveTo>
                        <a:pt x="0" y="18"/>
                      </a:moveTo>
                      <a:lnTo>
                        <a:pt x="12" y="0"/>
                      </a:lnTo>
                      <a:lnTo>
                        <a:pt x="21" y="2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258960" y="3119400"/>
                  <a:ext cx="33840" cy="87480"/>
                </a:xfrm>
                <a:custGeom>
                  <a:avLst/>
                  <a:gdLst/>
                  <a:ahLst/>
                  <a:rect l="l" t="t" r="r" b="b"/>
                  <a:pathLst>
                    <a:path w="46" h="110">
                      <a:moveTo>
                        <a:pt x="44" y="0"/>
                      </a:moveTo>
                      <a:lnTo>
                        <a:pt x="44" y="11"/>
                      </a:lnTo>
                      <a:lnTo>
                        <a:pt x="42" y="22"/>
                      </a:lnTo>
                      <a:lnTo>
                        <a:pt x="40" y="32"/>
                      </a:lnTo>
                      <a:lnTo>
                        <a:pt x="39" y="43"/>
                      </a:lnTo>
                      <a:lnTo>
                        <a:pt x="35" y="56"/>
                      </a:lnTo>
                      <a:lnTo>
                        <a:pt x="33" y="67"/>
                      </a:lnTo>
                      <a:lnTo>
                        <a:pt x="29" y="77"/>
                      </a:lnTo>
                      <a:lnTo>
                        <a:pt x="25" y="88"/>
                      </a:lnTo>
                      <a:lnTo>
                        <a:pt x="23" y="99"/>
                      </a:lnTo>
                      <a:lnTo>
                        <a:pt x="19" y="110"/>
                      </a:lnTo>
                      <a:lnTo>
                        <a:pt x="0" y="106"/>
                      </a:lnTo>
                      <a:lnTo>
                        <a:pt x="6" y="96"/>
                      </a:lnTo>
                      <a:lnTo>
                        <a:pt x="9" y="83"/>
                      </a:lnTo>
                      <a:lnTo>
                        <a:pt x="11" y="70"/>
                      </a:lnTo>
                      <a:lnTo>
                        <a:pt x="13" y="58"/>
                      </a:lnTo>
                      <a:lnTo>
                        <a:pt x="15" y="45"/>
                      </a:lnTo>
                      <a:lnTo>
                        <a:pt x="17" y="34"/>
                      </a:lnTo>
                      <a:lnTo>
                        <a:pt x="21" y="23"/>
                      </a:lnTo>
                      <a:lnTo>
                        <a:pt x="27" y="13"/>
                      </a:lnTo>
                      <a:lnTo>
                        <a:pt x="35" y="5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199280" y="3203640"/>
                  <a:ext cx="81720" cy="125280"/>
                </a:xfrm>
                <a:custGeom>
                  <a:avLst/>
                  <a:gdLst/>
                  <a:ahLst/>
                  <a:rect l="l" t="t" r="r" b="b"/>
                  <a:pathLst>
                    <a:path w="114" h="159">
                      <a:moveTo>
                        <a:pt x="0" y="159"/>
                      </a:moveTo>
                      <a:lnTo>
                        <a:pt x="9" y="143"/>
                      </a:lnTo>
                      <a:lnTo>
                        <a:pt x="19" y="125"/>
                      </a:lnTo>
                      <a:lnTo>
                        <a:pt x="29" y="108"/>
                      </a:lnTo>
                      <a:lnTo>
                        <a:pt x="40" y="94"/>
                      </a:lnTo>
                      <a:lnTo>
                        <a:pt x="52" y="78"/>
                      </a:lnTo>
                      <a:lnTo>
                        <a:pt x="64" y="62"/>
                      </a:lnTo>
                      <a:lnTo>
                        <a:pt x="77" y="47"/>
                      </a:lnTo>
                      <a:lnTo>
                        <a:pt x="89" y="31"/>
                      </a:lnTo>
                      <a:lnTo>
                        <a:pt x="102" y="17"/>
                      </a:lnTo>
                      <a:lnTo>
                        <a:pt x="114" y="0"/>
                      </a:lnTo>
                      <a:lnTo>
                        <a:pt x="2" y="159"/>
                      </a:lnTo>
                      <a:lnTo>
                        <a:pt x="2" y="159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88840" y="3148200"/>
                  <a:ext cx="29880" cy="91800"/>
                </a:xfrm>
                <a:custGeom>
                  <a:avLst/>
                  <a:gdLst/>
                  <a:ahLst/>
                  <a:rect l="l" t="t" r="r" b="b"/>
                  <a:pathLst>
                    <a:path w="43" h="115">
                      <a:moveTo>
                        <a:pt x="43" y="25"/>
                      </a:moveTo>
                      <a:lnTo>
                        <a:pt x="37" y="31"/>
                      </a:lnTo>
                      <a:lnTo>
                        <a:pt x="31" y="38"/>
                      </a:lnTo>
                      <a:lnTo>
                        <a:pt x="28" y="45"/>
                      </a:lnTo>
                      <a:lnTo>
                        <a:pt x="26" y="52"/>
                      </a:lnTo>
                      <a:lnTo>
                        <a:pt x="26" y="61"/>
                      </a:lnTo>
                      <a:lnTo>
                        <a:pt x="26" y="70"/>
                      </a:lnTo>
                      <a:lnTo>
                        <a:pt x="26" y="79"/>
                      </a:lnTo>
                      <a:lnTo>
                        <a:pt x="26" y="88"/>
                      </a:lnTo>
                      <a:lnTo>
                        <a:pt x="28" y="97"/>
                      </a:lnTo>
                      <a:lnTo>
                        <a:pt x="28" y="105"/>
                      </a:lnTo>
                      <a:lnTo>
                        <a:pt x="26" y="106"/>
                      </a:lnTo>
                      <a:lnTo>
                        <a:pt x="24" y="106"/>
                      </a:lnTo>
                      <a:lnTo>
                        <a:pt x="20" y="105"/>
                      </a:lnTo>
                      <a:lnTo>
                        <a:pt x="18" y="105"/>
                      </a:lnTo>
                      <a:lnTo>
                        <a:pt x="14" y="103"/>
                      </a:lnTo>
                      <a:lnTo>
                        <a:pt x="10" y="103"/>
                      </a:lnTo>
                      <a:lnTo>
                        <a:pt x="8" y="103"/>
                      </a:lnTo>
                      <a:lnTo>
                        <a:pt x="6" y="105"/>
                      </a:lnTo>
                      <a:lnTo>
                        <a:pt x="4" y="106"/>
                      </a:lnTo>
                      <a:lnTo>
                        <a:pt x="4" y="110"/>
                      </a:lnTo>
                      <a:lnTo>
                        <a:pt x="0" y="115"/>
                      </a:lnTo>
                      <a:lnTo>
                        <a:pt x="2" y="103"/>
                      </a:lnTo>
                      <a:lnTo>
                        <a:pt x="6" y="92"/>
                      </a:lnTo>
                      <a:lnTo>
                        <a:pt x="6" y="79"/>
                      </a:lnTo>
                      <a:lnTo>
                        <a:pt x="6" y="67"/>
                      </a:lnTo>
                      <a:lnTo>
                        <a:pt x="8" y="56"/>
                      </a:lnTo>
                      <a:lnTo>
                        <a:pt x="8" y="43"/>
                      </a:lnTo>
                      <a:lnTo>
                        <a:pt x="10" y="32"/>
                      </a:lnTo>
                      <a:lnTo>
                        <a:pt x="14" y="22"/>
                      </a:lnTo>
                      <a:lnTo>
                        <a:pt x="18" y="11"/>
                      </a:lnTo>
                      <a:lnTo>
                        <a:pt x="26" y="0"/>
                      </a:lnTo>
                      <a:lnTo>
                        <a:pt x="43" y="27"/>
                      </a:lnTo>
                      <a:lnTo>
                        <a:pt x="43" y="27"/>
                      </a:lnTo>
                      <a:lnTo>
                        <a:pt x="43" y="2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172280" y="3224160"/>
                  <a:ext cx="51120" cy="87480"/>
                </a:xfrm>
                <a:custGeom>
                  <a:avLst/>
                  <a:gdLst/>
                  <a:ahLst/>
                  <a:rect l="l" t="t" r="r" b="b"/>
                  <a:pathLst>
                    <a:path w="71" h="110">
                      <a:moveTo>
                        <a:pt x="0" y="108"/>
                      </a:moveTo>
                      <a:lnTo>
                        <a:pt x="6" y="99"/>
                      </a:lnTo>
                      <a:lnTo>
                        <a:pt x="10" y="88"/>
                      </a:lnTo>
                      <a:lnTo>
                        <a:pt x="15" y="75"/>
                      </a:lnTo>
                      <a:lnTo>
                        <a:pt x="23" y="64"/>
                      </a:lnTo>
                      <a:lnTo>
                        <a:pt x="31" y="54"/>
                      </a:lnTo>
                      <a:lnTo>
                        <a:pt x="39" y="43"/>
                      </a:lnTo>
                      <a:lnTo>
                        <a:pt x="48" y="32"/>
                      </a:lnTo>
                      <a:lnTo>
                        <a:pt x="56" y="21"/>
                      </a:lnTo>
                      <a:lnTo>
                        <a:pt x="64" y="10"/>
                      </a:lnTo>
                      <a:lnTo>
                        <a:pt x="71" y="0"/>
                      </a:lnTo>
                      <a:lnTo>
                        <a:pt x="2" y="110"/>
                      </a:lnTo>
                      <a:lnTo>
                        <a:pt x="2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928200" y="3300480"/>
                  <a:ext cx="415800" cy="743040"/>
                </a:xfrm>
                <a:custGeom>
                  <a:avLst/>
                  <a:gdLst/>
                  <a:ahLst/>
                  <a:rect l="l" t="t" r="r" b="b"/>
                  <a:pathLst>
                    <a:path w="579" h="938">
                      <a:moveTo>
                        <a:pt x="248" y="20"/>
                      </a:moveTo>
                      <a:lnTo>
                        <a:pt x="242" y="33"/>
                      </a:lnTo>
                      <a:lnTo>
                        <a:pt x="234" y="45"/>
                      </a:lnTo>
                      <a:lnTo>
                        <a:pt x="227" y="56"/>
                      </a:lnTo>
                      <a:lnTo>
                        <a:pt x="219" y="69"/>
                      </a:lnTo>
                      <a:lnTo>
                        <a:pt x="211" y="79"/>
                      </a:lnTo>
                      <a:lnTo>
                        <a:pt x="203" y="92"/>
                      </a:lnTo>
                      <a:lnTo>
                        <a:pt x="196" y="103"/>
                      </a:lnTo>
                      <a:lnTo>
                        <a:pt x="186" y="114"/>
                      </a:lnTo>
                      <a:lnTo>
                        <a:pt x="176" y="124"/>
                      </a:lnTo>
                      <a:lnTo>
                        <a:pt x="167" y="137"/>
                      </a:lnTo>
                      <a:lnTo>
                        <a:pt x="178" y="130"/>
                      </a:lnTo>
                      <a:lnTo>
                        <a:pt x="190" y="123"/>
                      </a:lnTo>
                      <a:lnTo>
                        <a:pt x="200" y="114"/>
                      </a:lnTo>
                      <a:lnTo>
                        <a:pt x="211" y="103"/>
                      </a:lnTo>
                      <a:lnTo>
                        <a:pt x="219" y="92"/>
                      </a:lnTo>
                      <a:lnTo>
                        <a:pt x="229" y="79"/>
                      </a:lnTo>
                      <a:lnTo>
                        <a:pt x="238" y="69"/>
                      </a:lnTo>
                      <a:lnTo>
                        <a:pt x="248" y="56"/>
                      </a:lnTo>
                      <a:lnTo>
                        <a:pt x="258" y="45"/>
                      </a:lnTo>
                      <a:lnTo>
                        <a:pt x="267" y="34"/>
                      </a:lnTo>
                      <a:lnTo>
                        <a:pt x="271" y="40"/>
                      </a:lnTo>
                      <a:lnTo>
                        <a:pt x="271" y="45"/>
                      </a:lnTo>
                      <a:lnTo>
                        <a:pt x="271" y="51"/>
                      </a:lnTo>
                      <a:lnTo>
                        <a:pt x="269" y="58"/>
                      </a:lnTo>
                      <a:lnTo>
                        <a:pt x="265" y="63"/>
                      </a:lnTo>
                      <a:lnTo>
                        <a:pt x="261" y="70"/>
                      </a:lnTo>
                      <a:lnTo>
                        <a:pt x="258" y="76"/>
                      </a:lnTo>
                      <a:lnTo>
                        <a:pt x="252" y="83"/>
                      </a:lnTo>
                      <a:lnTo>
                        <a:pt x="248" y="88"/>
                      </a:lnTo>
                      <a:lnTo>
                        <a:pt x="244" y="94"/>
                      </a:lnTo>
                      <a:lnTo>
                        <a:pt x="234" y="87"/>
                      </a:lnTo>
                      <a:lnTo>
                        <a:pt x="229" y="85"/>
                      </a:lnTo>
                      <a:lnTo>
                        <a:pt x="223" y="87"/>
                      </a:lnTo>
                      <a:lnTo>
                        <a:pt x="221" y="90"/>
                      </a:lnTo>
                      <a:lnTo>
                        <a:pt x="217" y="96"/>
                      </a:lnTo>
                      <a:lnTo>
                        <a:pt x="213" y="103"/>
                      </a:lnTo>
                      <a:lnTo>
                        <a:pt x="211" y="110"/>
                      </a:lnTo>
                      <a:lnTo>
                        <a:pt x="207" y="117"/>
                      </a:lnTo>
                      <a:lnTo>
                        <a:pt x="201" y="123"/>
                      </a:lnTo>
                      <a:lnTo>
                        <a:pt x="194" y="126"/>
                      </a:lnTo>
                      <a:lnTo>
                        <a:pt x="205" y="130"/>
                      </a:lnTo>
                      <a:lnTo>
                        <a:pt x="213" y="135"/>
                      </a:lnTo>
                      <a:lnTo>
                        <a:pt x="221" y="141"/>
                      </a:lnTo>
                      <a:lnTo>
                        <a:pt x="229" y="146"/>
                      </a:lnTo>
                      <a:lnTo>
                        <a:pt x="234" y="153"/>
                      </a:lnTo>
                      <a:lnTo>
                        <a:pt x="240" y="159"/>
                      </a:lnTo>
                      <a:lnTo>
                        <a:pt x="248" y="166"/>
                      </a:lnTo>
                      <a:lnTo>
                        <a:pt x="254" y="171"/>
                      </a:lnTo>
                      <a:lnTo>
                        <a:pt x="261" y="179"/>
                      </a:lnTo>
                      <a:lnTo>
                        <a:pt x="269" y="182"/>
                      </a:lnTo>
                      <a:lnTo>
                        <a:pt x="281" y="206"/>
                      </a:lnTo>
                      <a:lnTo>
                        <a:pt x="289" y="227"/>
                      </a:lnTo>
                      <a:lnTo>
                        <a:pt x="294" y="252"/>
                      </a:lnTo>
                      <a:lnTo>
                        <a:pt x="300" y="276"/>
                      </a:lnTo>
                      <a:lnTo>
                        <a:pt x="304" y="301"/>
                      </a:lnTo>
                      <a:lnTo>
                        <a:pt x="310" y="325"/>
                      </a:lnTo>
                      <a:lnTo>
                        <a:pt x="316" y="348"/>
                      </a:lnTo>
                      <a:lnTo>
                        <a:pt x="325" y="368"/>
                      </a:lnTo>
                      <a:lnTo>
                        <a:pt x="341" y="388"/>
                      </a:lnTo>
                      <a:lnTo>
                        <a:pt x="360" y="406"/>
                      </a:lnTo>
                      <a:lnTo>
                        <a:pt x="356" y="409"/>
                      </a:lnTo>
                      <a:lnTo>
                        <a:pt x="378" y="411"/>
                      </a:lnTo>
                      <a:lnTo>
                        <a:pt x="399" y="413"/>
                      </a:lnTo>
                      <a:lnTo>
                        <a:pt x="422" y="417"/>
                      </a:lnTo>
                      <a:lnTo>
                        <a:pt x="445" y="424"/>
                      </a:lnTo>
                      <a:lnTo>
                        <a:pt x="469" y="431"/>
                      </a:lnTo>
                      <a:lnTo>
                        <a:pt x="492" y="440"/>
                      </a:lnTo>
                      <a:lnTo>
                        <a:pt x="515" y="451"/>
                      </a:lnTo>
                      <a:lnTo>
                        <a:pt x="536" y="462"/>
                      </a:lnTo>
                      <a:lnTo>
                        <a:pt x="558" y="474"/>
                      </a:lnTo>
                      <a:lnTo>
                        <a:pt x="579" y="489"/>
                      </a:lnTo>
                      <a:lnTo>
                        <a:pt x="567" y="494"/>
                      </a:lnTo>
                      <a:lnTo>
                        <a:pt x="554" y="496"/>
                      </a:lnTo>
                      <a:lnTo>
                        <a:pt x="542" y="496"/>
                      </a:lnTo>
                      <a:lnTo>
                        <a:pt x="529" y="494"/>
                      </a:lnTo>
                      <a:lnTo>
                        <a:pt x="515" y="490"/>
                      </a:lnTo>
                      <a:lnTo>
                        <a:pt x="502" y="487"/>
                      </a:lnTo>
                      <a:lnTo>
                        <a:pt x="486" y="481"/>
                      </a:lnTo>
                      <a:lnTo>
                        <a:pt x="473" y="476"/>
                      </a:lnTo>
                      <a:lnTo>
                        <a:pt x="461" y="472"/>
                      </a:lnTo>
                      <a:lnTo>
                        <a:pt x="447" y="467"/>
                      </a:lnTo>
                      <a:lnTo>
                        <a:pt x="443" y="483"/>
                      </a:lnTo>
                      <a:lnTo>
                        <a:pt x="426" y="478"/>
                      </a:lnTo>
                      <a:lnTo>
                        <a:pt x="409" y="472"/>
                      </a:lnTo>
                      <a:lnTo>
                        <a:pt x="391" y="465"/>
                      </a:lnTo>
                      <a:lnTo>
                        <a:pt x="374" y="458"/>
                      </a:lnTo>
                      <a:lnTo>
                        <a:pt x="356" y="453"/>
                      </a:lnTo>
                      <a:lnTo>
                        <a:pt x="339" y="447"/>
                      </a:lnTo>
                      <a:lnTo>
                        <a:pt x="321" y="444"/>
                      </a:lnTo>
                      <a:lnTo>
                        <a:pt x="304" y="442"/>
                      </a:lnTo>
                      <a:lnTo>
                        <a:pt x="287" y="444"/>
                      </a:lnTo>
                      <a:lnTo>
                        <a:pt x="269" y="447"/>
                      </a:lnTo>
                      <a:lnTo>
                        <a:pt x="271" y="454"/>
                      </a:lnTo>
                      <a:lnTo>
                        <a:pt x="275" y="460"/>
                      </a:lnTo>
                      <a:lnTo>
                        <a:pt x="281" y="465"/>
                      </a:lnTo>
                      <a:lnTo>
                        <a:pt x="287" y="469"/>
                      </a:lnTo>
                      <a:lnTo>
                        <a:pt x="294" y="472"/>
                      </a:lnTo>
                      <a:lnTo>
                        <a:pt x="300" y="476"/>
                      </a:lnTo>
                      <a:lnTo>
                        <a:pt x="306" y="481"/>
                      </a:lnTo>
                      <a:lnTo>
                        <a:pt x="310" y="489"/>
                      </a:lnTo>
                      <a:lnTo>
                        <a:pt x="312" y="496"/>
                      </a:lnTo>
                      <a:lnTo>
                        <a:pt x="312" y="505"/>
                      </a:lnTo>
                      <a:lnTo>
                        <a:pt x="316" y="512"/>
                      </a:lnTo>
                      <a:lnTo>
                        <a:pt x="320" y="519"/>
                      </a:lnTo>
                      <a:lnTo>
                        <a:pt x="325" y="525"/>
                      </a:lnTo>
                      <a:lnTo>
                        <a:pt x="331" y="532"/>
                      </a:lnTo>
                      <a:lnTo>
                        <a:pt x="337" y="537"/>
                      </a:lnTo>
                      <a:lnTo>
                        <a:pt x="343" y="545"/>
                      </a:lnTo>
                      <a:lnTo>
                        <a:pt x="347" y="550"/>
                      </a:lnTo>
                      <a:lnTo>
                        <a:pt x="351" y="557"/>
                      </a:lnTo>
                      <a:lnTo>
                        <a:pt x="352" y="564"/>
                      </a:lnTo>
                      <a:lnTo>
                        <a:pt x="352" y="573"/>
                      </a:lnTo>
                      <a:lnTo>
                        <a:pt x="368" y="593"/>
                      </a:lnTo>
                      <a:lnTo>
                        <a:pt x="385" y="611"/>
                      </a:lnTo>
                      <a:lnTo>
                        <a:pt x="405" y="627"/>
                      </a:lnTo>
                      <a:lnTo>
                        <a:pt x="426" y="644"/>
                      </a:lnTo>
                      <a:lnTo>
                        <a:pt x="447" y="658"/>
                      </a:lnTo>
                      <a:lnTo>
                        <a:pt x="467" y="673"/>
                      </a:lnTo>
                      <a:lnTo>
                        <a:pt x="486" y="687"/>
                      </a:lnTo>
                      <a:lnTo>
                        <a:pt x="504" y="705"/>
                      </a:lnTo>
                      <a:lnTo>
                        <a:pt x="517" y="723"/>
                      </a:lnTo>
                      <a:lnTo>
                        <a:pt x="527" y="745"/>
                      </a:lnTo>
                      <a:lnTo>
                        <a:pt x="517" y="745"/>
                      </a:lnTo>
                      <a:lnTo>
                        <a:pt x="505" y="745"/>
                      </a:lnTo>
                      <a:lnTo>
                        <a:pt x="494" y="743"/>
                      </a:lnTo>
                      <a:lnTo>
                        <a:pt x="482" y="743"/>
                      </a:lnTo>
                      <a:lnTo>
                        <a:pt x="469" y="741"/>
                      </a:lnTo>
                      <a:lnTo>
                        <a:pt x="457" y="739"/>
                      </a:lnTo>
                      <a:lnTo>
                        <a:pt x="443" y="736"/>
                      </a:lnTo>
                      <a:lnTo>
                        <a:pt x="434" y="730"/>
                      </a:lnTo>
                      <a:lnTo>
                        <a:pt x="424" y="723"/>
                      </a:lnTo>
                      <a:lnTo>
                        <a:pt x="416" y="712"/>
                      </a:lnTo>
                      <a:lnTo>
                        <a:pt x="401" y="725"/>
                      </a:lnTo>
                      <a:lnTo>
                        <a:pt x="385" y="709"/>
                      </a:lnTo>
                      <a:lnTo>
                        <a:pt x="372" y="692"/>
                      </a:lnTo>
                      <a:lnTo>
                        <a:pt x="356" y="673"/>
                      </a:lnTo>
                      <a:lnTo>
                        <a:pt x="343" y="654"/>
                      </a:lnTo>
                      <a:lnTo>
                        <a:pt x="327" y="635"/>
                      </a:lnTo>
                      <a:lnTo>
                        <a:pt x="312" y="618"/>
                      </a:lnTo>
                      <a:lnTo>
                        <a:pt x="294" y="602"/>
                      </a:lnTo>
                      <a:lnTo>
                        <a:pt x="277" y="590"/>
                      </a:lnTo>
                      <a:lnTo>
                        <a:pt x="254" y="582"/>
                      </a:lnTo>
                      <a:lnTo>
                        <a:pt x="230" y="579"/>
                      </a:lnTo>
                      <a:lnTo>
                        <a:pt x="223" y="572"/>
                      </a:lnTo>
                      <a:lnTo>
                        <a:pt x="217" y="566"/>
                      </a:lnTo>
                      <a:lnTo>
                        <a:pt x="211" y="561"/>
                      </a:lnTo>
                      <a:lnTo>
                        <a:pt x="203" y="557"/>
                      </a:lnTo>
                      <a:lnTo>
                        <a:pt x="196" y="552"/>
                      </a:lnTo>
                      <a:lnTo>
                        <a:pt x="188" y="548"/>
                      </a:lnTo>
                      <a:lnTo>
                        <a:pt x="180" y="545"/>
                      </a:lnTo>
                      <a:lnTo>
                        <a:pt x="172" y="543"/>
                      </a:lnTo>
                      <a:lnTo>
                        <a:pt x="165" y="539"/>
                      </a:lnTo>
                      <a:lnTo>
                        <a:pt x="155" y="539"/>
                      </a:lnTo>
                      <a:lnTo>
                        <a:pt x="145" y="546"/>
                      </a:lnTo>
                      <a:lnTo>
                        <a:pt x="149" y="555"/>
                      </a:lnTo>
                      <a:lnTo>
                        <a:pt x="155" y="563"/>
                      </a:lnTo>
                      <a:lnTo>
                        <a:pt x="163" y="568"/>
                      </a:lnTo>
                      <a:lnTo>
                        <a:pt x="170" y="572"/>
                      </a:lnTo>
                      <a:lnTo>
                        <a:pt x="180" y="575"/>
                      </a:lnTo>
                      <a:lnTo>
                        <a:pt x="188" y="579"/>
                      </a:lnTo>
                      <a:lnTo>
                        <a:pt x="198" y="584"/>
                      </a:lnTo>
                      <a:lnTo>
                        <a:pt x="203" y="588"/>
                      </a:lnTo>
                      <a:lnTo>
                        <a:pt x="211" y="595"/>
                      </a:lnTo>
                      <a:lnTo>
                        <a:pt x="215" y="604"/>
                      </a:lnTo>
                      <a:lnTo>
                        <a:pt x="207" y="608"/>
                      </a:lnTo>
                      <a:lnTo>
                        <a:pt x="205" y="613"/>
                      </a:lnTo>
                      <a:lnTo>
                        <a:pt x="203" y="617"/>
                      </a:lnTo>
                      <a:lnTo>
                        <a:pt x="205" y="622"/>
                      </a:lnTo>
                      <a:lnTo>
                        <a:pt x="207" y="626"/>
                      </a:lnTo>
                      <a:lnTo>
                        <a:pt x="211" y="631"/>
                      </a:lnTo>
                      <a:lnTo>
                        <a:pt x="213" y="636"/>
                      </a:lnTo>
                      <a:lnTo>
                        <a:pt x="215" y="642"/>
                      </a:lnTo>
                      <a:lnTo>
                        <a:pt x="213" y="649"/>
                      </a:lnTo>
                      <a:lnTo>
                        <a:pt x="211" y="656"/>
                      </a:lnTo>
                      <a:lnTo>
                        <a:pt x="211" y="676"/>
                      </a:lnTo>
                      <a:lnTo>
                        <a:pt x="211" y="696"/>
                      </a:lnTo>
                      <a:lnTo>
                        <a:pt x="211" y="716"/>
                      </a:lnTo>
                      <a:lnTo>
                        <a:pt x="211" y="737"/>
                      </a:lnTo>
                      <a:lnTo>
                        <a:pt x="211" y="757"/>
                      </a:lnTo>
                      <a:lnTo>
                        <a:pt x="215" y="775"/>
                      </a:lnTo>
                      <a:lnTo>
                        <a:pt x="223" y="793"/>
                      </a:lnTo>
                      <a:lnTo>
                        <a:pt x="232" y="810"/>
                      </a:lnTo>
                      <a:lnTo>
                        <a:pt x="248" y="822"/>
                      </a:lnTo>
                      <a:lnTo>
                        <a:pt x="267" y="833"/>
                      </a:lnTo>
                      <a:lnTo>
                        <a:pt x="275" y="842"/>
                      </a:lnTo>
                      <a:lnTo>
                        <a:pt x="281" y="853"/>
                      </a:lnTo>
                      <a:lnTo>
                        <a:pt x="287" y="862"/>
                      </a:lnTo>
                      <a:lnTo>
                        <a:pt x="292" y="873"/>
                      </a:lnTo>
                      <a:lnTo>
                        <a:pt x="296" y="883"/>
                      </a:lnTo>
                      <a:lnTo>
                        <a:pt x="300" y="894"/>
                      </a:lnTo>
                      <a:lnTo>
                        <a:pt x="302" y="905"/>
                      </a:lnTo>
                      <a:lnTo>
                        <a:pt x="302" y="916"/>
                      </a:lnTo>
                      <a:lnTo>
                        <a:pt x="300" y="927"/>
                      </a:lnTo>
                      <a:lnTo>
                        <a:pt x="296" y="938"/>
                      </a:lnTo>
                      <a:lnTo>
                        <a:pt x="291" y="912"/>
                      </a:lnTo>
                      <a:lnTo>
                        <a:pt x="279" y="891"/>
                      </a:lnTo>
                      <a:lnTo>
                        <a:pt x="261" y="871"/>
                      </a:lnTo>
                      <a:lnTo>
                        <a:pt x="240" y="855"/>
                      </a:lnTo>
                      <a:lnTo>
                        <a:pt x="219" y="840"/>
                      </a:lnTo>
                      <a:lnTo>
                        <a:pt x="198" y="824"/>
                      </a:lnTo>
                      <a:lnTo>
                        <a:pt x="178" y="808"/>
                      </a:lnTo>
                      <a:lnTo>
                        <a:pt x="165" y="790"/>
                      </a:lnTo>
                      <a:lnTo>
                        <a:pt x="157" y="768"/>
                      </a:lnTo>
                      <a:lnTo>
                        <a:pt x="157" y="743"/>
                      </a:lnTo>
                      <a:lnTo>
                        <a:pt x="147" y="719"/>
                      </a:lnTo>
                      <a:lnTo>
                        <a:pt x="141" y="692"/>
                      </a:lnTo>
                      <a:lnTo>
                        <a:pt x="136" y="667"/>
                      </a:lnTo>
                      <a:lnTo>
                        <a:pt x="132" y="640"/>
                      </a:lnTo>
                      <a:lnTo>
                        <a:pt x="130" y="613"/>
                      </a:lnTo>
                      <a:lnTo>
                        <a:pt x="126" y="586"/>
                      </a:lnTo>
                      <a:lnTo>
                        <a:pt x="124" y="561"/>
                      </a:lnTo>
                      <a:lnTo>
                        <a:pt x="118" y="534"/>
                      </a:lnTo>
                      <a:lnTo>
                        <a:pt x="112" y="508"/>
                      </a:lnTo>
                      <a:lnTo>
                        <a:pt x="103" y="483"/>
                      </a:lnTo>
                      <a:lnTo>
                        <a:pt x="101" y="492"/>
                      </a:lnTo>
                      <a:lnTo>
                        <a:pt x="99" y="503"/>
                      </a:lnTo>
                      <a:lnTo>
                        <a:pt x="101" y="514"/>
                      </a:lnTo>
                      <a:lnTo>
                        <a:pt x="101" y="523"/>
                      </a:lnTo>
                      <a:lnTo>
                        <a:pt x="103" y="534"/>
                      </a:lnTo>
                      <a:lnTo>
                        <a:pt x="107" y="543"/>
                      </a:lnTo>
                      <a:lnTo>
                        <a:pt x="109" y="554"/>
                      </a:lnTo>
                      <a:lnTo>
                        <a:pt x="109" y="564"/>
                      </a:lnTo>
                      <a:lnTo>
                        <a:pt x="110" y="573"/>
                      </a:lnTo>
                      <a:lnTo>
                        <a:pt x="109" y="584"/>
                      </a:lnTo>
                      <a:lnTo>
                        <a:pt x="105" y="570"/>
                      </a:lnTo>
                      <a:lnTo>
                        <a:pt x="99" y="554"/>
                      </a:lnTo>
                      <a:lnTo>
                        <a:pt x="93" y="539"/>
                      </a:lnTo>
                      <a:lnTo>
                        <a:pt x="89" y="523"/>
                      </a:lnTo>
                      <a:lnTo>
                        <a:pt x="85" y="507"/>
                      </a:lnTo>
                      <a:lnTo>
                        <a:pt x="81" y="490"/>
                      </a:lnTo>
                      <a:lnTo>
                        <a:pt x="78" y="476"/>
                      </a:lnTo>
                      <a:lnTo>
                        <a:pt x="76" y="460"/>
                      </a:lnTo>
                      <a:lnTo>
                        <a:pt x="74" y="442"/>
                      </a:lnTo>
                      <a:lnTo>
                        <a:pt x="76" y="426"/>
                      </a:lnTo>
                      <a:lnTo>
                        <a:pt x="68" y="409"/>
                      </a:lnTo>
                      <a:lnTo>
                        <a:pt x="62" y="393"/>
                      </a:lnTo>
                      <a:lnTo>
                        <a:pt x="58" y="373"/>
                      </a:lnTo>
                      <a:lnTo>
                        <a:pt x="54" y="353"/>
                      </a:lnTo>
                      <a:lnTo>
                        <a:pt x="52" y="334"/>
                      </a:lnTo>
                      <a:lnTo>
                        <a:pt x="48" y="314"/>
                      </a:lnTo>
                      <a:lnTo>
                        <a:pt x="47" y="294"/>
                      </a:lnTo>
                      <a:lnTo>
                        <a:pt x="41" y="274"/>
                      </a:lnTo>
                      <a:lnTo>
                        <a:pt x="37" y="254"/>
                      </a:lnTo>
                      <a:lnTo>
                        <a:pt x="29" y="236"/>
                      </a:lnTo>
                      <a:lnTo>
                        <a:pt x="21" y="233"/>
                      </a:lnTo>
                      <a:lnTo>
                        <a:pt x="19" y="229"/>
                      </a:lnTo>
                      <a:lnTo>
                        <a:pt x="18" y="225"/>
                      </a:lnTo>
                      <a:lnTo>
                        <a:pt x="19" y="222"/>
                      </a:lnTo>
                      <a:lnTo>
                        <a:pt x="19" y="218"/>
                      </a:lnTo>
                      <a:lnTo>
                        <a:pt x="23" y="215"/>
                      </a:lnTo>
                      <a:lnTo>
                        <a:pt x="23" y="211"/>
                      </a:lnTo>
                      <a:lnTo>
                        <a:pt x="23" y="207"/>
                      </a:lnTo>
                      <a:lnTo>
                        <a:pt x="21" y="204"/>
                      </a:lnTo>
                      <a:lnTo>
                        <a:pt x="18" y="200"/>
                      </a:lnTo>
                      <a:lnTo>
                        <a:pt x="12" y="204"/>
                      </a:lnTo>
                      <a:lnTo>
                        <a:pt x="0" y="191"/>
                      </a:lnTo>
                      <a:lnTo>
                        <a:pt x="10" y="189"/>
                      </a:lnTo>
                      <a:lnTo>
                        <a:pt x="18" y="184"/>
                      </a:lnTo>
                      <a:lnTo>
                        <a:pt x="23" y="175"/>
                      </a:lnTo>
                      <a:lnTo>
                        <a:pt x="25" y="166"/>
                      </a:lnTo>
                      <a:lnTo>
                        <a:pt x="27" y="155"/>
                      </a:lnTo>
                      <a:lnTo>
                        <a:pt x="29" y="144"/>
                      </a:lnTo>
                      <a:lnTo>
                        <a:pt x="31" y="134"/>
                      </a:lnTo>
                      <a:lnTo>
                        <a:pt x="37" y="123"/>
                      </a:lnTo>
                      <a:lnTo>
                        <a:pt x="45" y="114"/>
                      </a:lnTo>
                      <a:lnTo>
                        <a:pt x="56" y="108"/>
                      </a:lnTo>
                      <a:lnTo>
                        <a:pt x="62" y="99"/>
                      </a:lnTo>
                      <a:lnTo>
                        <a:pt x="68" y="90"/>
                      </a:lnTo>
                      <a:lnTo>
                        <a:pt x="72" y="81"/>
                      </a:lnTo>
                      <a:lnTo>
                        <a:pt x="76" y="72"/>
                      </a:lnTo>
                      <a:lnTo>
                        <a:pt x="79" y="61"/>
                      </a:lnTo>
                      <a:lnTo>
                        <a:pt x="83" y="52"/>
                      </a:lnTo>
                      <a:lnTo>
                        <a:pt x="89" y="43"/>
                      </a:lnTo>
                      <a:lnTo>
                        <a:pt x="95" y="36"/>
                      </a:lnTo>
                      <a:lnTo>
                        <a:pt x="105" y="31"/>
                      </a:lnTo>
                      <a:lnTo>
                        <a:pt x="114" y="29"/>
                      </a:lnTo>
                      <a:lnTo>
                        <a:pt x="120" y="15"/>
                      </a:lnTo>
                      <a:lnTo>
                        <a:pt x="130" y="6"/>
                      </a:lnTo>
                      <a:lnTo>
                        <a:pt x="141" y="2"/>
                      </a:lnTo>
                      <a:lnTo>
                        <a:pt x="155" y="0"/>
                      </a:lnTo>
                      <a:lnTo>
                        <a:pt x="172" y="2"/>
                      </a:lnTo>
                      <a:lnTo>
                        <a:pt x="188" y="6"/>
                      </a:lnTo>
                      <a:lnTo>
                        <a:pt x="205" y="11"/>
                      </a:lnTo>
                      <a:lnTo>
                        <a:pt x="221" y="15"/>
                      </a:lnTo>
                      <a:lnTo>
                        <a:pt x="236" y="18"/>
                      </a:lnTo>
                      <a:lnTo>
                        <a:pt x="248" y="22"/>
                      </a:lnTo>
                      <a:lnTo>
                        <a:pt x="248" y="22"/>
                      </a:lnTo>
                      <a:lnTo>
                        <a:pt x="248" y="20"/>
                      </a:lnTo>
                      <a:close/>
                    </a:path>
                  </a:pathLst>
                </a:custGeom>
                <a:solidFill>
                  <a:srgbClr val="c97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792120" y="3297240"/>
                  <a:ext cx="11160" cy="31680"/>
                </a:xfrm>
                <a:custGeom>
                  <a:avLst/>
                  <a:gdLst/>
                  <a:ahLst/>
                  <a:rect l="l" t="t" r="r" b="b"/>
                  <a:pathLst>
                    <a:path w="16" h="40">
                      <a:moveTo>
                        <a:pt x="10" y="40"/>
                      </a:moveTo>
                      <a:lnTo>
                        <a:pt x="0" y="40"/>
                      </a:ln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10" y="6"/>
                      </a:lnTo>
                      <a:lnTo>
                        <a:pt x="12" y="10"/>
                      </a:lnTo>
                      <a:lnTo>
                        <a:pt x="14" y="13"/>
                      </a:lnTo>
                      <a:lnTo>
                        <a:pt x="14" y="19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4" y="33"/>
                      </a:lnTo>
                      <a:lnTo>
                        <a:pt x="12" y="37"/>
                      </a:lnTo>
                      <a:lnTo>
                        <a:pt x="10" y="40"/>
                      </a:lnTo>
                      <a:lnTo>
                        <a:pt x="10" y="4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849360" y="335772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19" y="22"/>
                      </a:moveTo>
                      <a:lnTo>
                        <a:pt x="9" y="29"/>
                      </a:lnTo>
                      <a:lnTo>
                        <a:pt x="6" y="27"/>
                      </a:lnTo>
                      <a:lnTo>
                        <a:pt x="2" y="24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9" y="7"/>
                      </a:lnTo>
                      <a:lnTo>
                        <a:pt x="11" y="9"/>
                      </a:lnTo>
                      <a:lnTo>
                        <a:pt x="13" y="9"/>
                      </a:lnTo>
                      <a:lnTo>
                        <a:pt x="17" y="11"/>
                      </a:lnTo>
                      <a:lnTo>
                        <a:pt x="19" y="13"/>
                      </a:lnTo>
                      <a:lnTo>
                        <a:pt x="21" y="15"/>
                      </a:lnTo>
                      <a:lnTo>
                        <a:pt x="21" y="18"/>
                      </a:lnTo>
                      <a:lnTo>
                        <a:pt x="19" y="22"/>
                      </a:lnTo>
                      <a:lnTo>
                        <a:pt x="19" y="22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191280" y="3330720"/>
                  <a:ext cx="6840" cy="4104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4" y="0"/>
                      </a:moveTo>
                      <a:lnTo>
                        <a:pt x="10" y="2"/>
                      </a:lnTo>
                      <a:lnTo>
                        <a:pt x="6" y="50"/>
                      </a:lnTo>
                      <a:lnTo>
                        <a:pt x="0" y="50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141240" y="3362400"/>
                  <a:ext cx="35640" cy="63360"/>
                </a:xfrm>
                <a:custGeom>
                  <a:avLst/>
                  <a:gdLst/>
                  <a:ahLst/>
                  <a:rect l="l" t="t" r="r" b="b"/>
                  <a:pathLst>
                    <a:path w="51" h="80">
                      <a:moveTo>
                        <a:pt x="0" y="80"/>
                      </a:moveTo>
                      <a:lnTo>
                        <a:pt x="45" y="0"/>
                      </a:lnTo>
                      <a:lnTo>
                        <a:pt x="51" y="47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885360" y="3416400"/>
                  <a:ext cx="19800" cy="73080"/>
                </a:xfrm>
                <a:custGeom>
                  <a:avLst/>
                  <a:gdLst/>
                  <a:ahLst/>
                  <a:rect l="l" t="t" r="r" b="b"/>
                  <a:pathLst>
                    <a:path w="27" h="92">
                      <a:moveTo>
                        <a:pt x="4" y="85"/>
                      </a:moveTo>
                      <a:lnTo>
                        <a:pt x="0" y="92"/>
                      </a:lnTo>
                      <a:lnTo>
                        <a:pt x="16" y="0"/>
                      </a:lnTo>
                      <a:lnTo>
                        <a:pt x="21" y="9"/>
                      </a:lnTo>
                      <a:lnTo>
                        <a:pt x="25" y="18"/>
                      </a:lnTo>
                      <a:lnTo>
                        <a:pt x="27" y="27"/>
                      </a:lnTo>
                      <a:lnTo>
                        <a:pt x="27" y="36"/>
                      </a:lnTo>
                      <a:lnTo>
                        <a:pt x="25" y="45"/>
                      </a:lnTo>
                      <a:lnTo>
                        <a:pt x="23" y="54"/>
                      </a:lnTo>
                      <a:lnTo>
                        <a:pt x="19" y="61"/>
                      </a:lnTo>
                      <a:lnTo>
                        <a:pt x="16" y="70"/>
                      </a:lnTo>
                      <a:lnTo>
                        <a:pt x="10" y="77"/>
                      </a:lnTo>
                      <a:lnTo>
                        <a:pt x="6" y="86"/>
                      </a:lnTo>
                      <a:lnTo>
                        <a:pt x="6" y="86"/>
                      </a:lnTo>
                      <a:lnTo>
                        <a:pt x="4" y="8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205680" y="3386160"/>
                  <a:ext cx="9720" cy="22320"/>
                </a:xfrm>
                <a:custGeom>
                  <a:avLst/>
                  <a:gdLst/>
                  <a:ahLst/>
                  <a:rect l="l" t="t" r="r" b="b"/>
                  <a:pathLst>
                    <a:path w="16" h="29">
                      <a:moveTo>
                        <a:pt x="14" y="20"/>
                      </a:moveTo>
                      <a:lnTo>
                        <a:pt x="14" y="22"/>
                      </a:lnTo>
                      <a:lnTo>
                        <a:pt x="12" y="22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8" y="24"/>
                      </a:lnTo>
                      <a:lnTo>
                        <a:pt x="6" y="26"/>
                      </a:lnTo>
                      <a:lnTo>
                        <a:pt x="6" y="26"/>
                      </a:lnTo>
                      <a:lnTo>
                        <a:pt x="4" y="27"/>
                      </a:lnTo>
                      <a:lnTo>
                        <a:pt x="2" y="29"/>
                      </a:lnTo>
                      <a:lnTo>
                        <a:pt x="0" y="29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2" y="20"/>
                      </a:lnTo>
                      <a:lnTo>
                        <a:pt x="2" y="16"/>
                      </a:lnTo>
                      <a:lnTo>
                        <a:pt x="4" y="13"/>
                      </a:lnTo>
                      <a:lnTo>
                        <a:pt x="6" y="11"/>
                      </a:lnTo>
                      <a:lnTo>
                        <a:pt x="8" y="7"/>
                      </a:lnTo>
                      <a:lnTo>
                        <a:pt x="12" y="6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16" y="22"/>
                      </a:lnTo>
                      <a:lnTo>
                        <a:pt x="16" y="22"/>
                      </a:lnTo>
                      <a:lnTo>
                        <a:pt x="14" y="2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192720" y="3406680"/>
                  <a:ext cx="2880" cy="1620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4" y="20"/>
                      </a:lnTo>
                      <a:lnTo>
                        <a:pt x="0" y="2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207120" y="3419640"/>
                  <a:ext cx="9720" cy="28440"/>
                </a:xfrm>
                <a:custGeom>
                  <a:avLst/>
                  <a:gdLst/>
                  <a:ahLst/>
                  <a:rect l="l" t="t" r="r" b="b"/>
                  <a:pathLst>
                    <a:path w="16" h="36">
                      <a:moveTo>
                        <a:pt x="16" y="21"/>
                      </a:moveTo>
                      <a:lnTo>
                        <a:pt x="0" y="36"/>
                      </a:lnTo>
                      <a:lnTo>
                        <a:pt x="2" y="30"/>
                      </a:lnTo>
                      <a:lnTo>
                        <a:pt x="2" y="27"/>
                      </a:lnTo>
                      <a:lnTo>
                        <a:pt x="2" y="21"/>
                      </a:lnTo>
                      <a:lnTo>
                        <a:pt x="2" y="18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7"/>
                      </a:lnTo>
                      <a:lnTo>
                        <a:pt x="6" y="3"/>
                      </a:lnTo>
                      <a:lnTo>
                        <a:pt x="8" y="1"/>
                      </a:lnTo>
                      <a:lnTo>
                        <a:pt x="12" y="0"/>
                      </a:lnTo>
                      <a:lnTo>
                        <a:pt x="14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6" y="14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21"/>
                      </a:lnTo>
                      <a:lnTo>
                        <a:pt x="16" y="2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065280" y="3422880"/>
                  <a:ext cx="110520" cy="187200"/>
                </a:xfrm>
                <a:custGeom>
                  <a:avLst/>
                  <a:gdLst/>
                  <a:ahLst/>
                  <a:rect l="l" t="t" r="r" b="b"/>
                  <a:pathLst>
                    <a:path w="155" h="236">
                      <a:moveTo>
                        <a:pt x="153" y="0"/>
                      </a:moveTo>
                      <a:lnTo>
                        <a:pt x="151" y="13"/>
                      </a:lnTo>
                      <a:lnTo>
                        <a:pt x="145" y="22"/>
                      </a:lnTo>
                      <a:lnTo>
                        <a:pt x="135" y="29"/>
                      </a:lnTo>
                      <a:lnTo>
                        <a:pt x="126" y="36"/>
                      </a:lnTo>
                      <a:lnTo>
                        <a:pt x="116" y="42"/>
                      </a:lnTo>
                      <a:lnTo>
                        <a:pt x="108" y="47"/>
                      </a:lnTo>
                      <a:lnTo>
                        <a:pt x="100" y="52"/>
                      </a:lnTo>
                      <a:lnTo>
                        <a:pt x="98" y="58"/>
                      </a:lnTo>
                      <a:lnTo>
                        <a:pt x="100" y="63"/>
                      </a:lnTo>
                      <a:lnTo>
                        <a:pt x="110" y="69"/>
                      </a:lnTo>
                      <a:lnTo>
                        <a:pt x="114" y="67"/>
                      </a:lnTo>
                      <a:lnTo>
                        <a:pt x="118" y="63"/>
                      </a:lnTo>
                      <a:lnTo>
                        <a:pt x="122" y="60"/>
                      </a:lnTo>
                      <a:lnTo>
                        <a:pt x="126" y="56"/>
                      </a:lnTo>
                      <a:lnTo>
                        <a:pt x="129" y="54"/>
                      </a:lnTo>
                      <a:lnTo>
                        <a:pt x="133" y="51"/>
                      </a:lnTo>
                      <a:lnTo>
                        <a:pt x="137" y="49"/>
                      </a:lnTo>
                      <a:lnTo>
                        <a:pt x="141" y="47"/>
                      </a:lnTo>
                      <a:lnTo>
                        <a:pt x="145" y="45"/>
                      </a:lnTo>
                      <a:lnTo>
                        <a:pt x="151" y="45"/>
                      </a:lnTo>
                      <a:lnTo>
                        <a:pt x="151" y="51"/>
                      </a:lnTo>
                      <a:lnTo>
                        <a:pt x="151" y="56"/>
                      </a:lnTo>
                      <a:lnTo>
                        <a:pt x="149" y="61"/>
                      </a:lnTo>
                      <a:lnTo>
                        <a:pt x="147" y="65"/>
                      </a:lnTo>
                      <a:lnTo>
                        <a:pt x="143" y="69"/>
                      </a:lnTo>
                      <a:lnTo>
                        <a:pt x="139" y="72"/>
                      </a:lnTo>
                      <a:lnTo>
                        <a:pt x="135" y="76"/>
                      </a:lnTo>
                      <a:lnTo>
                        <a:pt x="131" y="79"/>
                      </a:lnTo>
                      <a:lnTo>
                        <a:pt x="128" y="83"/>
                      </a:lnTo>
                      <a:lnTo>
                        <a:pt x="124" y="87"/>
                      </a:lnTo>
                      <a:lnTo>
                        <a:pt x="116" y="74"/>
                      </a:lnTo>
                      <a:lnTo>
                        <a:pt x="106" y="83"/>
                      </a:lnTo>
                      <a:lnTo>
                        <a:pt x="100" y="94"/>
                      </a:lnTo>
                      <a:lnTo>
                        <a:pt x="98" y="106"/>
                      </a:lnTo>
                      <a:lnTo>
                        <a:pt x="98" y="117"/>
                      </a:lnTo>
                      <a:lnTo>
                        <a:pt x="100" y="130"/>
                      </a:lnTo>
                      <a:lnTo>
                        <a:pt x="102" y="141"/>
                      </a:lnTo>
                      <a:lnTo>
                        <a:pt x="106" y="153"/>
                      </a:lnTo>
                      <a:lnTo>
                        <a:pt x="108" y="166"/>
                      </a:lnTo>
                      <a:lnTo>
                        <a:pt x="108" y="179"/>
                      </a:lnTo>
                      <a:lnTo>
                        <a:pt x="106" y="189"/>
                      </a:lnTo>
                      <a:lnTo>
                        <a:pt x="131" y="207"/>
                      </a:lnTo>
                      <a:lnTo>
                        <a:pt x="128" y="211"/>
                      </a:lnTo>
                      <a:lnTo>
                        <a:pt x="126" y="215"/>
                      </a:lnTo>
                      <a:lnTo>
                        <a:pt x="124" y="218"/>
                      </a:lnTo>
                      <a:lnTo>
                        <a:pt x="122" y="224"/>
                      </a:lnTo>
                      <a:lnTo>
                        <a:pt x="122" y="227"/>
                      </a:lnTo>
                      <a:lnTo>
                        <a:pt x="120" y="231"/>
                      </a:lnTo>
                      <a:lnTo>
                        <a:pt x="118" y="234"/>
                      </a:lnTo>
                      <a:lnTo>
                        <a:pt x="116" y="236"/>
                      </a:lnTo>
                      <a:lnTo>
                        <a:pt x="110" y="236"/>
                      </a:lnTo>
                      <a:lnTo>
                        <a:pt x="102" y="233"/>
                      </a:lnTo>
                      <a:lnTo>
                        <a:pt x="95" y="220"/>
                      </a:lnTo>
                      <a:lnTo>
                        <a:pt x="91" y="224"/>
                      </a:lnTo>
                      <a:lnTo>
                        <a:pt x="87" y="227"/>
                      </a:lnTo>
                      <a:lnTo>
                        <a:pt x="83" y="227"/>
                      </a:lnTo>
                      <a:lnTo>
                        <a:pt x="79" y="229"/>
                      </a:lnTo>
                      <a:lnTo>
                        <a:pt x="75" y="229"/>
                      </a:lnTo>
                      <a:lnTo>
                        <a:pt x="71" y="229"/>
                      </a:lnTo>
                      <a:lnTo>
                        <a:pt x="67" y="229"/>
                      </a:lnTo>
                      <a:lnTo>
                        <a:pt x="66" y="229"/>
                      </a:lnTo>
                      <a:lnTo>
                        <a:pt x="64" y="229"/>
                      </a:lnTo>
                      <a:lnTo>
                        <a:pt x="62" y="231"/>
                      </a:lnTo>
                      <a:lnTo>
                        <a:pt x="58" y="216"/>
                      </a:lnTo>
                      <a:lnTo>
                        <a:pt x="52" y="206"/>
                      </a:lnTo>
                      <a:lnTo>
                        <a:pt x="44" y="197"/>
                      </a:lnTo>
                      <a:lnTo>
                        <a:pt x="33" y="189"/>
                      </a:lnTo>
                      <a:lnTo>
                        <a:pt x="23" y="182"/>
                      </a:lnTo>
                      <a:lnTo>
                        <a:pt x="13" y="177"/>
                      </a:lnTo>
                      <a:lnTo>
                        <a:pt x="6" y="170"/>
                      </a:lnTo>
                      <a:lnTo>
                        <a:pt x="0" y="162"/>
                      </a:lnTo>
                      <a:lnTo>
                        <a:pt x="0" y="153"/>
                      </a:lnTo>
                      <a:lnTo>
                        <a:pt x="4" y="144"/>
                      </a:lnTo>
                      <a:lnTo>
                        <a:pt x="11" y="146"/>
                      </a:lnTo>
                      <a:lnTo>
                        <a:pt x="21" y="153"/>
                      </a:lnTo>
                      <a:lnTo>
                        <a:pt x="29" y="161"/>
                      </a:lnTo>
                      <a:lnTo>
                        <a:pt x="37" y="171"/>
                      </a:lnTo>
                      <a:lnTo>
                        <a:pt x="44" y="180"/>
                      </a:lnTo>
                      <a:lnTo>
                        <a:pt x="52" y="189"/>
                      </a:lnTo>
                      <a:lnTo>
                        <a:pt x="62" y="197"/>
                      </a:lnTo>
                      <a:lnTo>
                        <a:pt x="71" y="198"/>
                      </a:lnTo>
                      <a:lnTo>
                        <a:pt x="81" y="197"/>
                      </a:lnTo>
                      <a:lnTo>
                        <a:pt x="93" y="189"/>
                      </a:lnTo>
                      <a:lnTo>
                        <a:pt x="93" y="179"/>
                      </a:lnTo>
                      <a:lnTo>
                        <a:pt x="93" y="166"/>
                      </a:lnTo>
                      <a:lnTo>
                        <a:pt x="91" y="153"/>
                      </a:lnTo>
                      <a:lnTo>
                        <a:pt x="91" y="141"/>
                      </a:lnTo>
                      <a:lnTo>
                        <a:pt x="89" y="130"/>
                      </a:lnTo>
                      <a:lnTo>
                        <a:pt x="89" y="117"/>
                      </a:lnTo>
                      <a:lnTo>
                        <a:pt x="91" y="106"/>
                      </a:lnTo>
                      <a:lnTo>
                        <a:pt x="93" y="96"/>
                      </a:lnTo>
                      <a:lnTo>
                        <a:pt x="97" y="85"/>
                      </a:lnTo>
                      <a:lnTo>
                        <a:pt x="102" y="76"/>
                      </a:lnTo>
                      <a:lnTo>
                        <a:pt x="97" y="74"/>
                      </a:lnTo>
                      <a:lnTo>
                        <a:pt x="91" y="70"/>
                      </a:lnTo>
                      <a:lnTo>
                        <a:pt x="87" y="67"/>
                      </a:lnTo>
                      <a:lnTo>
                        <a:pt x="83" y="63"/>
                      </a:lnTo>
                      <a:lnTo>
                        <a:pt x="81" y="60"/>
                      </a:lnTo>
                      <a:lnTo>
                        <a:pt x="79" y="56"/>
                      </a:lnTo>
                      <a:lnTo>
                        <a:pt x="79" y="51"/>
                      </a:lnTo>
                      <a:lnTo>
                        <a:pt x="79" y="47"/>
                      </a:lnTo>
                      <a:lnTo>
                        <a:pt x="81" y="42"/>
                      </a:lnTo>
                      <a:lnTo>
                        <a:pt x="85" y="36"/>
                      </a:lnTo>
                      <a:lnTo>
                        <a:pt x="93" y="38"/>
                      </a:lnTo>
                      <a:lnTo>
                        <a:pt x="98" y="38"/>
                      </a:lnTo>
                      <a:lnTo>
                        <a:pt x="106" y="36"/>
                      </a:lnTo>
                      <a:lnTo>
                        <a:pt x="112" y="31"/>
                      </a:lnTo>
                      <a:lnTo>
                        <a:pt x="120" y="25"/>
                      </a:lnTo>
                      <a:lnTo>
                        <a:pt x="126" y="20"/>
                      </a:lnTo>
                      <a:lnTo>
                        <a:pt x="133" y="15"/>
                      </a:lnTo>
                      <a:lnTo>
                        <a:pt x="139" y="9"/>
                      </a:lnTo>
                      <a:lnTo>
                        <a:pt x="147" y="6"/>
                      </a:lnTo>
                      <a:lnTo>
                        <a:pt x="155" y="2"/>
                      </a:lnTo>
                      <a:lnTo>
                        <a:pt x="155" y="2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184080" y="3446640"/>
                  <a:ext cx="8640" cy="190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10" y="14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12"/>
                      </a:lnTo>
                      <a:lnTo>
                        <a:pt x="12" y="14"/>
                      </a:lnTo>
                      <a:lnTo>
                        <a:pt x="12" y="16"/>
                      </a:lnTo>
                      <a:lnTo>
                        <a:pt x="12" y="16"/>
                      </a:lnTo>
                      <a:lnTo>
                        <a:pt x="10" y="1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08560" y="3459240"/>
                  <a:ext cx="8640" cy="1584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12" y="0"/>
                      </a:moveTo>
                      <a:lnTo>
                        <a:pt x="14" y="2"/>
                      </a:lnTo>
                      <a:lnTo>
                        <a:pt x="14" y="4"/>
                      </a:lnTo>
                      <a:lnTo>
                        <a:pt x="14" y="6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0" y="13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111000" y="3471840"/>
                  <a:ext cx="6840" cy="73080"/>
                </a:xfrm>
                <a:custGeom>
                  <a:avLst/>
                  <a:gdLst/>
                  <a:ahLst/>
                  <a:rect l="l" t="t" r="r" b="b"/>
                  <a:pathLst>
                    <a:path w="9" h="92">
                      <a:moveTo>
                        <a:pt x="7" y="92"/>
                      </a:moveTo>
                      <a:lnTo>
                        <a:pt x="5" y="83"/>
                      </a:lnTo>
                      <a:lnTo>
                        <a:pt x="3" y="74"/>
                      </a:lnTo>
                      <a:lnTo>
                        <a:pt x="2" y="65"/>
                      </a:lnTo>
                      <a:lnTo>
                        <a:pt x="2" y="55"/>
                      </a:lnTo>
                      <a:lnTo>
                        <a:pt x="2" y="45"/>
                      </a:lnTo>
                      <a:lnTo>
                        <a:pt x="3" y="35"/>
                      </a:lnTo>
                      <a:lnTo>
                        <a:pt x="3" y="26"/>
                      </a:lnTo>
                      <a:lnTo>
                        <a:pt x="3" y="17"/>
                      </a:lnTo>
                      <a:lnTo>
                        <a:pt x="2" y="8"/>
                      </a:lnTo>
                      <a:lnTo>
                        <a:pt x="0" y="0"/>
                      </a:lnTo>
                      <a:lnTo>
                        <a:pt x="9" y="92"/>
                      </a:lnTo>
                      <a:lnTo>
                        <a:pt x="9" y="92"/>
                      </a:lnTo>
                      <a:lnTo>
                        <a:pt x="7" y="92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169680" y="3481560"/>
                  <a:ext cx="24120" cy="52200"/>
                </a:xfrm>
                <a:custGeom>
                  <a:avLst/>
                  <a:gdLst/>
                  <a:ahLst/>
                  <a:rect l="l" t="t" r="r" b="b"/>
                  <a:pathLst>
                    <a:path w="33" h="67">
                      <a:moveTo>
                        <a:pt x="0" y="65"/>
                      </a:moveTo>
                      <a:lnTo>
                        <a:pt x="0" y="58"/>
                      </a:lnTo>
                      <a:lnTo>
                        <a:pt x="2" y="51"/>
                      </a:lnTo>
                      <a:lnTo>
                        <a:pt x="4" y="43"/>
                      </a:lnTo>
                      <a:lnTo>
                        <a:pt x="8" y="36"/>
                      </a:lnTo>
                      <a:lnTo>
                        <a:pt x="11" y="29"/>
                      </a:lnTo>
                      <a:lnTo>
                        <a:pt x="15" y="23"/>
                      </a:lnTo>
                      <a:lnTo>
                        <a:pt x="19" y="16"/>
                      </a:lnTo>
                      <a:lnTo>
                        <a:pt x="21" y="11"/>
                      </a:lnTo>
                      <a:lnTo>
                        <a:pt x="25" y="5"/>
                      </a:lnTo>
                      <a:lnTo>
                        <a:pt x="29" y="0"/>
                      </a:lnTo>
                      <a:lnTo>
                        <a:pt x="33" y="7"/>
                      </a:lnTo>
                      <a:lnTo>
                        <a:pt x="33" y="14"/>
                      </a:lnTo>
                      <a:lnTo>
                        <a:pt x="31" y="20"/>
                      </a:lnTo>
                      <a:lnTo>
                        <a:pt x="27" y="27"/>
                      </a:lnTo>
                      <a:lnTo>
                        <a:pt x="23" y="32"/>
                      </a:lnTo>
                      <a:lnTo>
                        <a:pt x="17" y="40"/>
                      </a:lnTo>
                      <a:lnTo>
                        <a:pt x="11" y="45"/>
                      </a:lnTo>
                      <a:lnTo>
                        <a:pt x="6" y="52"/>
                      </a:lnTo>
                      <a:lnTo>
                        <a:pt x="2" y="60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081120" y="350208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23" h="31">
                      <a:moveTo>
                        <a:pt x="0" y="24"/>
                      </a:moveTo>
                      <a:lnTo>
                        <a:pt x="23" y="0"/>
                      </a:lnTo>
                      <a:lnTo>
                        <a:pt x="23" y="31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154200" y="3508560"/>
                  <a:ext cx="2520" cy="23760"/>
                </a:xfrm>
                <a:custGeom>
                  <a:avLst/>
                  <a:gdLst/>
                  <a:ahLst/>
                  <a:rect l="l" t="t" r="r" b="b"/>
                  <a:pathLst>
                    <a:path w="4" h="31">
                      <a:moveTo>
                        <a:pt x="0" y="31"/>
                      </a:moveTo>
                      <a:lnTo>
                        <a:pt x="2" y="0"/>
                      </a:lnTo>
                      <a:lnTo>
                        <a:pt x="4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166800" y="35179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41" h="54">
                      <a:moveTo>
                        <a:pt x="6" y="54"/>
                      </a:moveTo>
                      <a:lnTo>
                        <a:pt x="0" y="54"/>
                      </a:lnTo>
                      <a:lnTo>
                        <a:pt x="41" y="0"/>
                      </a:lnTo>
                      <a:lnTo>
                        <a:pt x="41" y="5"/>
                      </a:lnTo>
                      <a:lnTo>
                        <a:pt x="41" y="11"/>
                      </a:lnTo>
                      <a:lnTo>
                        <a:pt x="39" y="16"/>
                      </a:lnTo>
                      <a:lnTo>
                        <a:pt x="35" y="22"/>
                      </a:lnTo>
                      <a:lnTo>
                        <a:pt x="31" y="27"/>
                      </a:lnTo>
                      <a:lnTo>
                        <a:pt x="27" y="32"/>
                      </a:lnTo>
                      <a:lnTo>
                        <a:pt x="23" y="38"/>
                      </a:lnTo>
                      <a:lnTo>
                        <a:pt x="17" y="43"/>
                      </a:lnTo>
                      <a:lnTo>
                        <a:pt x="12" y="49"/>
                      </a:lnTo>
                      <a:lnTo>
                        <a:pt x="8" y="54"/>
                      </a:lnTo>
                      <a:lnTo>
                        <a:pt x="8" y="54"/>
                      </a:lnTo>
                      <a:lnTo>
                        <a:pt x="6" y="5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227280" y="3532320"/>
                  <a:ext cx="6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8" y="18"/>
                      </a:moveTo>
                      <a:lnTo>
                        <a:pt x="8" y="18"/>
                      </a:lnTo>
                      <a:lnTo>
                        <a:pt x="6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0" y="0"/>
                      </a:lnTo>
                      <a:lnTo>
                        <a:pt x="10" y="18"/>
                      </a:lnTo>
                      <a:lnTo>
                        <a:pt x="10" y="18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822360" y="3579840"/>
                  <a:ext cx="29880" cy="396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0" y="47"/>
                      </a:moveTo>
                      <a:lnTo>
                        <a:pt x="41" y="0"/>
                      </a:lnTo>
                      <a:lnTo>
                        <a:pt x="10" y="42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229800" y="3559320"/>
                  <a:ext cx="16920" cy="61920"/>
                </a:xfrm>
                <a:custGeom>
                  <a:avLst/>
                  <a:gdLst/>
                  <a:ahLst/>
                  <a:rect l="l" t="t" r="r" b="b"/>
                  <a:pathLst>
                    <a:path w="23" h="80">
                      <a:moveTo>
                        <a:pt x="8" y="44"/>
                      </a:moveTo>
                      <a:lnTo>
                        <a:pt x="4" y="49"/>
                      </a:lnTo>
                      <a:lnTo>
                        <a:pt x="6" y="53"/>
                      </a:lnTo>
                      <a:lnTo>
                        <a:pt x="8" y="53"/>
                      </a:lnTo>
                      <a:lnTo>
                        <a:pt x="12" y="54"/>
                      </a:lnTo>
                      <a:lnTo>
                        <a:pt x="14" y="53"/>
                      </a:lnTo>
                      <a:lnTo>
                        <a:pt x="16" y="53"/>
                      </a:lnTo>
                      <a:lnTo>
                        <a:pt x="18" y="51"/>
                      </a:lnTo>
                      <a:lnTo>
                        <a:pt x="19" y="49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5"/>
                      </a:lnTo>
                      <a:lnTo>
                        <a:pt x="23" y="49"/>
                      </a:lnTo>
                      <a:lnTo>
                        <a:pt x="23" y="54"/>
                      </a:lnTo>
                      <a:lnTo>
                        <a:pt x="21" y="58"/>
                      </a:lnTo>
                      <a:lnTo>
                        <a:pt x="19" y="62"/>
                      </a:lnTo>
                      <a:lnTo>
                        <a:pt x="16" y="65"/>
                      </a:lnTo>
                      <a:lnTo>
                        <a:pt x="14" y="69"/>
                      </a:lnTo>
                      <a:lnTo>
                        <a:pt x="10" y="72"/>
                      </a:lnTo>
                      <a:lnTo>
                        <a:pt x="8" y="74"/>
                      </a:lnTo>
                      <a:lnTo>
                        <a:pt x="4" y="78"/>
                      </a:lnTo>
                      <a:lnTo>
                        <a:pt x="2" y="80"/>
                      </a:lnTo>
                      <a:lnTo>
                        <a:pt x="0" y="72"/>
                      </a:lnTo>
                      <a:lnTo>
                        <a:pt x="0" y="63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2" y="22"/>
                      </a:lnTo>
                      <a:lnTo>
                        <a:pt x="4" y="15"/>
                      </a:lnTo>
                      <a:lnTo>
                        <a:pt x="8" y="8"/>
                      </a:lnTo>
                      <a:lnTo>
                        <a:pt x="12" y="0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9" y="13"/>
                      </a:lnTo>
                      <a:lnTo>
                        <a:pt x="19" y="17"/>
                      </a:lnTo>
                      <a:lnTo>
                        <a:pt x="19" y="22"/>
                      </a:lnTo>
                      <a:lnTo>
                        <a:pt x="19" y="27"/>
                      </a:lnTo>
                      <a:lnTo>
                        <a:pt x="18" y="31"/>
                      </a:lnTo>
                      <a:lnTo>
                        <a:pt x="14" y="36"/>
                      </a:lnTo>
                      <a:lnTo>
                        <a:pt x="12" y="40"/>
                      </a:lnTo>
                      <a:lnTo>
                        <a:pt x="8" y="44"/>
                      </a:lnTo>
                      <a:lnTo>
                        <a:pt x="8" y="4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189840" y="3568680"/>
                  <a:ext cx="21240" cy="3348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8" y="41"/>
                      </a:moveTo>
                      <a:lnTo>
                        <a:pt x="0" y="41"/>
                      </a:lnTo>
                      <a:lnTo>
                        <a:pt x="27" y="0"/>
                      </a:lnTo>
                      <a:lnTo>
                        <a:pt x="29" y="5"/>
                      </a:lnTo>
                      <a:lnTo>
                        <a:pt x="29" y="9"/>
                      </a:lnTo>
                      <a:lnTo>
                        <a:pt x="29" y="13"/>
                      </a:lnTo>
                      <a:lnTo>
                        <a:pt x="25" y="18"/>
                      </a:lnTo>
                      <a:lnTo>
                        <a:pt x="23" y="22"/>
                      </a:lnTo>
                      <a:lnTo>
                        <a:pt x="19" y="25"/>
                      </a:lnTo>
                      <a:lnTo>
                        <a:pt x="15" y="29"/>
                      </a:lnTo>
                      <a:lnTo>
                        <a:pt x="14" y="32"/>
                      </a:lnTo>
                      <a:lnTo>
                        <a:pt x="10" y="38"/>
                      </a:lnTo>
                      <a:lnTo>
                        <a:pt x="10" y="41"/>
                      </a:lnTo>
                      <a:lnTo>
                        <a:pt x="10" y="41"/>
                      </a:lnTo>
                      <a:lnTo>
                        <a:pt x="8" y="4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865200" y="361944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45"/>
                      </a:moveTo>
                      <a:lnTo>
                        <a:pt x="37" y="0"/>
                      </a:lnTo>
                      <a:lnTo>
                        <a:pt x="12" y="38"/>
                      </a:lnTo>
                      <a:lnTo>
                        <a:pt x="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205680" y="3595680"/>
                  <a:ext cx="12960" cy="2376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8" y="25"/>
                      </a:moveTo>
                      <a:lnTo>
                        <a:pt x="16" y="29"/>
                      </a:lnTo>
                      <a:lnTo>
                        <a:pt x="16" y="29"/>
                      </a:lnTo>
                      <a:lnTo>
                        <a:pt x="14" y="29"/>
                      </a:lnTo>
                      <a:lnTo>
                        <a:pt x="12" y="29"/>
                      </a:lnTo>
                      <a:lnTo>
                        <a:pt x="10" y="29"/>
                      </a:lnTo>
                      <a:lnTo>
                        <a:pt x="8" y="27"/>
                      </a:lnTo>
                      <a:lnTo>
                        <a:pt x="6" y="25"/>
                      </a:lnTo>
                      <a:lnTo>
                        <a:pt x="4" y="24"/>
                      </a:lnTo>
                      <a:lnTo>
                        <a:pt x="2" y="22"/>
                      </a:lnTo>
                      <a:lnTo>
                        <a:pt x="0" y="22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6"/>
                      </a:lnTo>
                      <a:lnTo>
                        <a:pt x="16" y="9"/>
                      </a:lnTo>
                      <a:lnTo>
                        <a:pt x="16" y="11"/>
                      </a:lnTo>
                      <a:lnTo>
                        <a:pt x="18" y="13"/>
                      </a:lnTo>
                      <a:lnTo>
                        <a:pt x="20" y="16"/>
                      </a:lnTo>
                      <a:lnTo>
                        <a:pt x="20" y="18"/>
                      </a:lnTo>
                      <a:lnTo>
                        <a:pt x="20" y="20"/>
                      </a:lnTo>
                      <a:lnTo>
                        <a:pt x="20" y="24"/>
                      </a:lnTo>
                      <a:lnTo>
                        <a:pt x="18" y="25"/>
                      </a:lnTo>
                      <a:lnTo>
                        <a:pt x="18" y="2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776280" y="3649680"/>
                  <a:ext cx="24120" cy="33480"/>
                </a:xfrm>
                <a:custGeom>
                  <a:avLst/>
                  <a:gdLst/>
                  <a:ahLst/>
                  <a:rect l="l" t="t" r="r" b="b"/>
                  <a:pathLst>
                    <a:path w="35" h="41">
                      <a:moveTo>
                        <a:pt x="33" y="0"/>
                      </a:moveTo>
                      <a:lnTo>
                        <a:pt x="0" y="41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876720" y="3667320"/>
                  <a:ext cx="126000" cy="242640"/>
                </a:xfrm>
                <a:custGeom>
                  <a:avLst/>
                  <a:gdLst/>
                  <a:ahLst/>
                  <a:rect l="l" t="t" r="r" b="b"/>
                  <a:pathLst>
                    <a:path w="177" h="307">
                      <a:moveTo>
                        <a:pt x="140" y="91"/>
                      </a:moveTo>
                      <a:lnTo>
                        <a:pt x="134" y="107"/>
                      </a:lnTo>
                      <a:lnTo>
                        <a:pt x="126" y="123"/>
                      </a:lnTo>
                      <a:lnTo>
                        <a:pt x="120" y="137"/>
                      </a:lnTo>
                      <a:lnTo>
                        <a:pt x="115" y="154"/>
                      </a:lnTo>
                      <a:lnTo>
                        <a:pt x="109" y="170"/>
                      </a:lnTo>
                      <a:lnTo>
                        <a:pt x="103" y="186"/>
                      </a:lnTo>
                      <a:lnTo>
                        <a:pt x="99" y="202"/>
                      </a:lnTo>
                      <a:lnTo>
                        <a:pt x="95" y="219"/>
                      </a:lnTo>
                      <a:lnTo>
                        <a:pt x="91" y="235"/>
                      </a:lnTo>
                      <a:lnTo>
                        <a:pt x="88" y="249"/>
                      </a:lnTo>
                      <a:lnTo>
                        <a:pt x="128" y="164"/>
                      </a:lnTo>
                      <a:lnTo>
                        <a:pt x="124" y="173"/>
                      </a:lnTo>
                      <a:lnTo>
                        <a:pt x="120" y="182"/>
                      </a:lnTo>
                      <a:lnTo>
                        <a:pt x="117" y="191"/>
                      </a:lnTo>
                      <a:lnTo>
                        <a:pt x="113" y="202"/>
                      </a:lnTo>
                      <a:lnTo>
                        <a:pt x="109" y="215"/>
                      </a:lnTo>
                      <a:lnTo>
                        <a:pt x="105" y="226"/>
                      </a:lnTo>
                      <a:lnTo>
                        <a:pt x="101" y="238"/>
                      </a:lnTo>
                      <a:lnTo>
                        <a:pt x="99" y="249"/>
                      </a:lnTo>
                      <a:lnTo>
                        <a:pt x="97" y="260"/>
                      </a:lnTo>
                      <a:lnTo>
                        <a:pt x="97" y="271"/>
                      </a:lnTo>
                      <a:lnTo>
                        <a:pt x="132" y="197"/>
                      </a:lnTo>
                      <a:lnTo>
                        <a:pt x="132" y="202"/>
                      </a:lnTo>
                      <a:lnTo>
                        <a:pt x="128" y="210"/>
                      </a:lnTo>
                      <a:lnTo>
                        <a:pt x="124" y="217"/>
                      </a:lnTo>
                      <a:lnTo>
                        <a:pt x="120" y="226"/>
                      </a:lnTo>
                      <a:lnTo>
                        <a:pt x="117" y="235"/>
                      </a:lnTo>
                      <a:lnTo>
                        <a:pt x="113" y="246"/>
                      </a:lnTo>
                      <a:lnTo>
                        <a:pt x="111" y="255"/>
                      </a:lnTo>
                      <a:lnTo>
                        <a:pt x="109" y="265"/>
                      </a:lnTo>
                      <a:lnTo>
                        <a:pt x="107" y="276"/>
                      </a:lnTo>
                      <a:lnTo>
                        <a:pt x="109" y="285"/>
                      </a:lnTo>
                      <a:lnTo>
                        <a:pt x="142" y="213"/>
                      </a:lnTo>
                      <a:lnTo>
                        <a:pt x="142" y="219"/>
                      </a:lnTo>
                      <a:lnTo>
                        <a:pt x="140" y="224"/>
                      </a:lnTo>
                      <a:lnTo>
                        <a:pt x="136" y="231"/>
                      </a:lnTo>
                      <a:lnTo>
                        <a:pt x="132" y="238"/>
                      </a:lnTo>
                      <a:lnTo>
                        <a:pt x="130" y="246"/>
                      </a:lnTo>
                      <a:lnTo>
                        <a:pt x="126" y="253"/>
                      </a:lnTo>
                      <a:lnTo>
                        <a:pt x="122" y="262"/>
                      </a:lnTo>
                      <a:lnTo>
                        <a:pt x="122" y="269"/>
                      </a:lnTo>
                      <a:lnTo>
                        <a:pt x="120" y="278"/>
                      </a:lnTo>
                      <a:lnTo>
                        <a:pt x="122" y="285"/>
                      </a:lnTo>
                      <a:lnTo>
                        <a:pt x="173" y="181"/>
                      </a:lnTo>
                      <a:lnTo>
                        <a:pt x="177" y="191"/>
                      </a:lnTo>
                      <a:lnTo>
                        <a:pt x="177" y="200"/>
                      </a:lnTo>
                      <a:lnTo>
                        <a:pt x="177" y="211"/>
                      </a:lnTo>
                      <a:lnTo>
                        <a:pt x="173" y="222"/>
                      </a:lnTo>
                      <a:lnTo>
                        <a:pt x="169" y="233"/>
                      </a:lnTo>
                      <a:lnTo>
                        <a:pt x="165" y="242"/>
                      </a:lnTo>
                      <a:lnTo>
                        <a:pt x="161" y="253"/>
                      </a:lnTo>
                      <a:lnTo>
                        <a:pt x="155" y="264"/>
                      </a:lnTo>
                      <a:lnTo>
                        <a:pt x="151" y="274"/>
                      </a:lnTo>
                      <a:lnTo>
                        <a:pt x="150" y="283"/>
                      </a:lnTo>
                      <a:lnTo>
                        <a:pt x="113" y="298"/>
                      </a:lnTo>
                      <a:lnTo>
                        <a:pt x="103" y="282"/>
                      </a:lnTo>
                      <a:lnTo>
                        <a:pt x="103" y="283"/>
                      </a:lnTo>
                      <a:lnTo>
                        <a:pt x="101" y="285"/>
                      </a:lnTo>
                      <a:lnTo>
                        <a:pt x="99" y="287"/>
                      </a:lnTo>
                      <a:lnTo>
                        <a:pt x="97" y="289"/>
                      </a:lnTo>
                      <a:lnTo>
                        <a:pt x="97" y="291"/>
                      </a:lnTo>
                      <a:lnTo>
                        <a:pt x="95" y="292"/>
                      </a:lnTo>
                      <a:lnTo>
                        <a:pt x="93" y="294"/>
                      </a:lnTo>
                      <a:lnTo>
                        <a:pt x="93" y="296"/>
                      </a:lnTo>
                      <a:lnTo>
                        <a:pt x="93" y="300"/>
                      </a:lnTo>
                      <a:lnTo>
                        <a:pt x="93" y="301"/>
                      </a:lnTo>
                      <a:lnTo>
                        <a:pt x="91" y="271"/>
                      </a:lnTo>
                      <a:lnTo>
                        <a:pt x="88" y="274"/>
                      </a:lnTo>
                      <a:lnTo>
                        <a:pt x="86" y="276"/>
                      </a:lnTo>
                      <a:lnTo>
                        <a:pt x="84" y="280"/>
                      </a:lnTo>
                      <a:lnTo>
                        <a:pt x="82" y="283"/>
                      </a:lnTo>
                      <a:lnTo>
                        <a:pt x="80" y="287"/>
                      </a:lnTo>
                      <a:lnTo>
                        <a:pt x="80" y="291"/>
                      </a:lnTo>
                      <a:lnTo>
                        <a:pt x="78" y="294"/>
                      </a:lnTo>
                      <a:lnTo>
                        <a:pt x="76" y="298"/>
                      </a:lnTo>
                      <a:lnTo>
                        <a:pt x="76" y="301"/>
                      </a:lnTo>
                      <a:lnTo>
                        <a:pt x="74" y="305"/>
                      </a:lnTo>
                      <a:lnTo>
                        <a:pt x="64" y="303"/>
                      </a:lnTo>
                      <a:lnTo>
                        <a:pt x="64" y="301"/>
                      </a:lnTo>
                      <a:lnTo>
                        <a:pt x="66" y="301"/>
                      </a:lnTo>
                      <a:lnTo>
                        <a:pt x="66" y="300"/>
                      </a:lnTo>
                      <a:lnTo>
                        <a:pt x="68" y="298"/>
                      </a:lnTo>
                      <a:lnTo>
                        <a:pt x="68" y="296"/>
                      </a:lnTo>
                      <a:lnTo>
                        <a:pt x="70" y="296"/>
                      </a:lnTo>
                      <a:lnTo>
                        <a:pt x="70" y="294"/>
                      </a:lnTo>
                      <a:lnTo>
                        <a:pt x="72" y="292"/>
                      </a:lnTo>
                      <a:lnTo>
                        <a:pt x="72" y="291"/>
                      </a:lnTo>
                      <a:lnTo>
                        <a:pt x="72" y="289"/>
                      </a:lnTo>
                      <a:lnTo>
                        <a:pt x="66" y="282"/>
                      </a:lnTo>
                      <a:lnTo>
                        <a:pt x="66" y="292"/>
                      </a:lnTo>
                      <a:lnTo>
                        <a:pt x="62" y="300"/>
                      </a:lnTo>
                      <a:lnTo>
                        <a:pt x="59" y="303"/>
                      </a:lnTo>
                      <a:lnTo>
                        <a:pt x="53" y="307"/>
                      </a:lnTo>
                      <a:lnTo>
                        <a:pt x="45" y="307"/>
                      </a:lnTo>
                      <a:lnTo>
                        <a:pt x="35" y="307"/>
                      </a:lnTo>
                      <a:lnTo>
                        <a:pt x="28" y="307"/>
                      </a:lnTo>
                      <a:lnTo>
                        <a:pt x="18" y="305"/>
                      </a:lnTo>
                      <a:lnTo>
                        <a:pt x="8" y="305"/>
                      </a:lnTo>
                      <a:lnTo>
                        <a:pt x="0" y="305"/>
                      </a:lnTo>
                      <a:lnTo>
                        <a:pt x="12" y="278"/>
                      </a:lnTo>
                      <a:lnTo>
                        <a:pt x="24" y="251"/>
                      </a:lnTo>
                      <a:lnTo>
                        <a:pt x="35" y="224"/>
                      </a:lnTo>
                      <a:lnTo>
                        <a:pt x="47" y="197"/>
                      </a:lnTo>
                      <a:lnTo>
                        <a:pt x="59" y="170"/>
                      </a:lnTo>
                      <a:lnTo>
                        <a:pt x="70" y="143"/>
                      </a:lnTo>
                      <a:lnTo>
                        <a:pt x="82" y="114"/>
                      </a:lnTo>
                      <a:lnTo>
                        <a:pt x="91" y="87"/>
                      </a:lnTo>
                      <a:lnTo>
                        <a:pt x="101" y="58"/>
                      </a:lnTo>
                      <a:lnTo>
                        <a:pt x="109" y="31"/>
                      </a:lnTo>
                      <a:lnTo>
                        <a:pt x="99" y="24"/>
                      </a:lnTo>
                      <a:lnTo>
                        <a:pt x="117" y="0"/>
                      </a:lnTo>
                      <a:lnTo>
                        <a:pt x="150" y="101"/>
                      </a:lnTo>
                      <a:lnTo>
                        <a:pt x="142" y="92"/>
                      </a:lnTo>
                      <a:lnTo>
                        <a:pt x="142" y="92"/>
                      </a:lnTo>
                      <a:lnTo>
                        <a:pt x="140" y="91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082200" y="3624480"/>
                  <a:ext cx="11160" cy="31680"/>
                </a:xfrm>
                <a:custGeom>
                  <a:avLst/>
                  <a:gdLst/>
                  <a:ahLst/>
                  <a:rect l="l" t="t" r="r" b="b"/>
                  <a:pathLst>
                    <a:path w="15" h="40">
                      <a:moveTo>
                        <a:pt x="4" y="38"/>
                      </a:moveTo>
                      <a:lnTo>
                        <a:pt x="2" y="36"/>
                      </a:lnTo>
                      <a:lnTo>
                        <a:pt x="2" y="31"/>
                      </a:lnTo>
                      <a:lnTo>
                        <a:pt x="0" y="27"/>
                      </a:ln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2" y="0"/>
                      </a:lnTo>
                      <a:lnTo>
                        <a:pt x="13" y="4"/>
                      </a:lnTo>
                      <a:lnTo>
                        <a:pt x="13" y="8"/>
                      </a:lnTo>
                      <a:lnTo>
                        <a:pt x="15" y="13"/>
                      </a:lnTo>
                      <a:lnTo>
                        <a:pt x="15" y="17"/>
                      </a:lnTo>
                      <a:lnTo>
                        <a:pt x="15" y="22"/>
                      </a:lnTo>
                      <a:lnTo>
                        <a:pt x="13" y="26"/>
                      </a:lnTo>
                      <a:lnTo>
                        <a:pt x="12" y="29"/>
                      </a:lnTo>
                      <a:lnTo>
                        <a:pt x="10" y="33"/>
                      </a:lnTo>
                      <a:lnTo>
                        <a:pt x="8" y="36"/>
                      </a:lnTo>
                      <a:lnTo>
                        <a:pt x="4" y="40"/>
                      </a:lnTo>
                      <a:lnTo>
                        <a:pt x="4" y="40"/>
                      </a:lnTo>
                      <a:lnTo>
                        <a:pt x="4" y="3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111000" y="3627360"/>
                  <a:ext cx="50040" cy="44640"/>
                </a:xfrm>
                <a:custGeom>
                  <a:avLst/>
                  <a:gdLst/>
                  <a:ahLst/>
                  <a:rect l="l" t="t" r="r" b="b"/>
                  <a:pathLst>
                    <a:path w="69" h="56">
                      <a:moveTo>
                        <a:pt x="69" y="14"/>
                      </a:moveTo>
                      <a:lnTo>
                        <a:pt x="65" y="20"/>
                      </a:lnTo>
                      <a:lnTo>
                        <a:pt x="62" y="23"/>
                      </a:lnTo>
                      <a:lnTo>
                        <a:pt x="60" y="29"/>
                      </a:lnTo>
                      <a:lnTo>
                        <a:pt x="56" y="32"/>
                      </a:lnTo>
                      <a:lnTo>
                        <a:pt x="54" y="36"/>
                      </a:lnTo>
                      <a:lnTo>
                        <a:pt x="52" y="41"/>
                      </a:lnTo>
                      <a:lnTo>
                        <a:pt x="48" y="45"/>
                      </a:lnTo>
                      <a:lnTo>
                        <a:pt x="44" y="49"/>
                      </a:lnTo>
                      <a:lnTo>
                        <a:pt x="40" y="52"/>
                      </a:lnTo>
                      <a:lnTo>
                        <a:pt x="36" y="56"/>
                      </a:lnTo>
                      <a:lnTo>
                        <a:pt x="34" y="50"/>
                      </a:lnTo>
                      <a:lnTo>
                        <a:pt x="34" y="43"/>
                      </a:lnTo>
                      <a:lnTo>
                        <a:pt x="38" y="36"/>
                      </a:lnTo>
                      <a:lnTo>
                        <a:pt x="42" y="31"/>
                      </a:lnTo>
                      <a:lnTo>
                        <a:pt x="46" y="25"/>
                      </a:lnTo>
                      <a:lnTo>
                        <a:pt x="48" y="20"/>
                      </a:lnTo>
                      <a:lnTo>
                        <a:pt x="50" y="14"/>
                      </a:lnTo>
                      <a:lnTo>
                        <a:pt x="48" y="11"/>
                      </a:lnTo>
                      <a:lnTo>
                        <a:pt x="42" y="7"/>
                      </a:lnTo>
                      <a:lnTo>
                        <a:pt x="31" y="5"/>
                      </a:lnTo>
                      <a:lnTo>
                        <a:pt x="25" y="7"/>
                      </a:lnTo>
                      <a:lnTo>
                        <a:pt x="19" y="11"/>
                      </a:lnTo>
                      <a:lnTo>
                        <a:pt x="17" y="14"/>
                      </a:lnTo>
                      <a:lnTo>
                        <a:pt x="17" y="20"/>
                      </a:lnTo>
                      <a:lnTo>
                        <a:pt x="17" y="25"/>
                      </a:lnTo>
                      <a:lnTo>
                        <a:pt x="15" y="31"/>
                      </a:lnTo>
                      <a:lnTo>
                        <a:pt x="15" y="36"/>
                      </a:lnTo>
                      <a:lnTo>
                        <a:pt x="13" y="41"/>
                      </a:lnTo>
                      <a:lnTo>
                        <a:pt x="7" y="45"/>
                      </a:lnTo>
                      <a:lnTo>
                        <a:pt x="2" y="47"/>
                      </a:lnTo>
                      <a:lnTo>
                        <a:pt x="0" y="40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5" y="25"/>
                      </a:lnTo>
                      <a:lnTo>
                        <a:pt x="9" y="22"/>
                      </a:lnTo>
                      <a:lnTo>
                        <a:pt x="13" y="18"/>
                      </a:lnTo>
                      <a:lnTo>
                        <a:pt x="17" y="13"/>
                      </a:lnTo>
                      <a:lnTo>
                        <a:pt x="21" y="9"/>
                      </a:lnTo>
                      <a:lnTo>
                        <a:pt x="23" y="5"/>
                      </a:lnTo>
                      <a:lnTo>
                        <a:pt x="25" y="0"/>
                      </a:lnTo>
                      <a:lnTo>
                        <a:pt x="69" y="16"/>
                      </a:lnTo>
                      <a:lnTo>
                        <a:pt x="69" y="16"/>
                      </a:lnTo>
                      <a:lnTo>
                        <a:pt x="69" y="1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141240" y="3651480"/>
                  <a:ext cx="34200" cy="53640"/>
                </a:xfrm>
                <a:custGeom>
                  <a:avLst/>
                  <a:gdLst/>
                  <a:ahLst/>
                  <a:rect l="l" t="t" r="r" b="b"/>
                  <a:pathLst>
                    <a:path w="49" h="66">
                      <a:moveTo>
                        <a:pt x="0" y="64"/>
                      </a:moveTo>
                      <a:lnTo>
                        <a:pt x="39" y="0"/>
                      </a:lnTo>
                      <a:lnTo>
                        <a:pt x="49" y="0"/>
                      </a:lnTo>
                      <a:lnTo>
                        <a:pt x="2" y="66"/>
                      </a:lnTo>
                      <a:lnTo>
                        <a:pt x="2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6065280" y="3657600"/>
                  <a:ext cx="2880" cy="20880"/>
                </a:xfrm>
                <a:custGeom>
                  <a:avLst/>
                  <a:gdLst/>
                  <a:ahLst/>
                  <a:rect l="l" t="t" r="r" b="b"/>
                  <a:pathLst>
                    <a:path w="4" h="27">
                      <a:moveTo>
                        <a:pt x="4" y="27"/>
                      </a:moveTo>
                      <a:lnTo>
                        <a:pt x="0" y="0"/>
                      </a:lnTo>
                      <a:lnTo>
                        <a:pt x="4" y="12"/>
                      </a:lnTo>
                      <a:lnTo>
                        <a:pt x="4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6175800" y="3667320"/>
                  <a:ext cx="29880" cy="316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40"/>
                      </a:move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134040" y="3675240"/>
                  <a:ext cx="95760" cy="147600"/>
                </a:xfrm>
                <a:custGeom>
                  <a:avLst/>
                  <a:gdLst/>
                  <a:ahLst/>
                  <a:rect l="l" t="t" r="r" b="b"/>
                  <a:pathLst>
                    <a:path w="133" h="186">
                      <a:moveTo>
                        <a:pt x="133" y="2"/>
                      </a:moveTo>
                      <a:lnTo>
                        <a:pt x="120" y="20"/>
                      </a:lnTo>
                      <a:lnTo>
                        <a:pt x="108" y="40"/>
                      </a:lnTo>
                      <a:lnTo>
                        <a:pt x="96" y="60"/>
                      </a:lnTo>
                      <a:lnTo>
                        <a:pt x="83" y="78"/>
                      </a:lnTo>
                      <a:lnTo>
                        <a:pt x="71" y="98"/>
                      </a:lnTo>
                      <a:lnTo>
                        <a:pt x="60" y="118"/>
                      </a:lnTo>
                      <a:lnTo>
                        <a:pt x="46" y="136"/>
                      </a:lnTo>
                      <a:lnTo>
                        <a:pt x="32" y="154"/>
                      </a:lnTo>
                      <a:lnTo>
                        <a:pt x="17" y="170"/>
                      </a:lnTo>
                      <a:lnTo>
                        <a:pt x="0" y="186"/>
                      </a:lnTo>
                      <a:lnTo>
                        <a:pt x="9" y="166"/>
                      </a:lnTo>
                      <a:lnTo>
                        <a:pt x="21" y="146"/>
                      </a:lnTo>
                      <a:lnTo>
                        <a:pt x="32" y="128"/>
                      </a:lnTo>
                      <a:lnTo>
                        <a:pt x="46" y="110"/>
                      </a:lnTo>
                      <a:lnTo>
                        <a:pt x="60" y="92"/>
                      </a:lnTo>
                      <a:lnTo>
                        <a:pt x="71" y="74"/>
                      </a:lnTo>
                      <a:lnTo>
                        <a:pt x="85" y="56"/>
                      </a:lnTo>
                      <a:lnTo>
                        <a:pt x="94" y="38"/>
                      </a:lnTo>
                      <a:lnTo>
                        <a:pt x="104" y="20"/>
                      </a:lnTo>
                      <a:lnTo>
                        <a:pt x="110" y="0"/>
                      </a:lnTo>
                      <a:lnTo>
                        <a:pt x="133" y="2"/>
                      </a:lnTo>
                      <a:lnTo>
                        <a:pt x="133" y="2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030720" y="3665520"/>
                  <a:ext cx="21600" cy="61920"/>
                </a:xfrm>
                <a:custGeom>
                  <a:avLst/>
                  <a:gdLst/>
                  <a:ahLst/>
                  <a:rect l="l" t="t" r="r" b="b"/>
                  <a:pathLst>
                    <a:path w="31" h="77">
                      <a:moveTo>
                        <a:pt x="0" y="77"/>
                      </a:moveTo>
                      <a:lnTo>
                        <a:pt x="24" y="0"/>
                      </a:lnTo>
                      <a:lnTo>
                        <a:pt x="31" y="39"/>
                      </a:lnTo>
                      <a:lnTo>
                        <a:pt x="0" y="77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165720" y="3679920"/>
                  <a:ext cx="88560" cy="141120"/>
                </a:xfrm>
                <a:custGeom>
                  <a:avLst/>
                  <a:gdLst/>
                  <a:ahLst/>
                  <a:rect l="l" t="t" r="r" b="b"/>
                  <a:pathLst>
                    <a:path w="124" h="176">
                      <a:moveTo>
                        <a:pt x="124" y="5"/>
                      </a:moveTo>
                      <a:lnTo>
                        <a:pt x="14" y="176"/>
                      </a:lnTo>
                      <a:lnTo>
                        <a:pt x="0" y="171"/>
                      </a:lnTo>
                      <a:lnTo>
                        <a:pt x="10" y="153"/>
                      </a:lnTo>
                      <a:lnTo>
                        <a:pt x="19" y="135"/>
                      </a:lnTo>
                      <a:lnTo>
                        <a:pt x="29" y="117"/>
                      </a:lnTo>
                      <a:lnTo>
                        <a:pt x="41" y="101"/>
                      </a:lnTo>
                      <a:lnTo>
                        <a:pt x="52" y="84"/>
                      </a:lnTo>
                      <a:lnTo>
                        <a:pt x="64" y="66"/>
                      </a:lnTo>
                      <a:lnTo>
                        <a:pt x="76" y="50"/>
                      </a:lnTo>
                      <a:lnTo>
                        <a:pt x="87" y="34"/>
                      </a:lnTo>
                      <a:lnTo>
                        <a:pt x="99" y="16"/>
                      </a:lnTo>
                      <a:lnTo>
                        <a:pt x="110" y="0"/>
                      </a:lnTo>
                      <a:lnTo>
                        <a:pt x="110" y="1"/>
                      </a:lnTo>
                      <a:lnTo>
                        <a:pt x="112" y="1"/>
                      </a:lnTo>
                      <a:lnTo>
                        <a:pt x="114" y="3"/>
                      </a:lnTo>
                      <a:lnTo>
                        <a:pt x="114" y="3"/>
                      </a:lnTo>
                      <a:lnTo>
                        <a:pt x="116" y="5"/>
                      </a:lnTo>
                      <a:lnTo>
                        <a:pt x="118" y="5"/>
                      </a:lnTo>
                      <a:lnTo>
                        <a:pt x="120" y="5"/>
                      </a:lnTo>
                      <a:lnTo>
                        <a:pt x="122" y="5"/>
                      </a:lnTo>
                      <a:lnTo>
                        <a:pt x="122" y="5"/>
                      </a:lnTo>
                      <a:lnTo>
                        <a:pt x="124" y="5"/>
                      </a:lnTo>
                      <a:lnTo>
                        <a:pt x="124" y="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086520" y="3679920"/>
                  <a:ext cx="9720" cy="2376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2" y="28"/>
                      </a:moveTo>
                      <a:lnTo>
                        <a:pt x="2" y="27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4" y="5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13" y="5"/>
                      </a:lnTo>
                      <a:lnTo>
                        <a:pt x="13" y="9"/>
                      </a:lnTo>
                      <a:lnTo>
                        <a:pt x="13" y="12"/>
                      </a:lnTo>
                      <a:lnTo>
                        <a:pt x="11" y="14"/>
                      </a:lnTo>
                      <a:lnTo>
                        <a:pt x="9" y="18"/>
                      </a:lnTo>
                      <a:lnTo>
                        <a:pt x="7" y="19"/>
                      </a:lnTo>
                      <a:lnTo>
                        <a:pt x="6" y="23"/>
                      </a:lnTo>
                      <a:lnTo>
                        <a:pt x="4" y="27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2" y="2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109560" y="3689280"/>
                  <a:ext cx="91440" cy="109800"/>
                </a:xfrm>
                <a:custGeom>
                  <a:avLst/>
                  <a:gdLst/>
                  <a:ahLst/>
                  <a:rect l="l" t="t" r="r" b="b"/>
                  <a:pathLst>
                    <a:path w="127" h="139">
                      <a:moveTo>
                        <a:pt x="0" y="137"/>
                      </a:moveTo>
                      <a:lnTo>
                        <a:pt x="7" y="121"/>
                      </a:lnTo>
                      <a:lnTo>
                        <a:pt x="17" y="107"/>
                      </a:lnTo>
                      <a:lnTo>
                        <a:pt x="27" y="92"/>
                      </a:lnTo>
                      <a:lnTo>
                        <a:pt x="40" y="78"/>
                      </a:lnTo>
                      <a:lnTo>
                        <a:pt x="54" y="65"/>
                      </a:lnTo>
                      <a:lnTo>
                        <a:pt x="67" y="51"/>
                      </a:lnTo>
                      <a:lnTo>
                        <a:pt x="83" y="38"/>
                      </a:lnTo>
                      <a:lnTo>
                        <a:pt x="98" y="26"/>
                      </a:lnTo>
                      <a:lnTo>
                        <a:pt x="112" y="13"/>
                      </a:lnTo>
                      <a:lnTo>
                        <a:pt x="127" y="0"/>
                      </a:lnTo>
                      <a:lnTo>
                        <a:pt x="27" y="139"/>
                      </a:lnTo>
                      <a:lnTo>
                        <a:pt x="0" y="137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112440" y="3695760"/>
                  <a:ext cx="11160" cy="20520"/>
                </a:xfrm>
                <a:custGeom>
                  <a:avLst/>
                  <a:gdLst/>
                  <a:ahLst/>
                  <a:rect l="l" t="t" r="r" b="b"/>
                  <a:pathLst>
                    <a:path w="15" h="26">
                      <a:moveTo>
                        <a:pt x="3" y="26"/>
                      </a:moveTo>
                      <a:lnTo>
                        <a:pt x="1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9" y="0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5" y="8"/>
                      </a:lnTo>
                      <a:lnTo>
                        <a:pt x="13" y="11"/>
                      </a:lnTo>
                      <a:lnTo>
                        <a:pt x="11" y="13"/>
                      </a:lnTo>
                      <a:lnTo>
                        <a:pt x="9" y="17"/>
                      </a:lnTo>
                      <a:lnTo>
                        <a:pt x="7" y="18"/>
                      </a:lnTo>
                      <a:lnTo>
                        <a:pt x="5" y="20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6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063840" y="371952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0" y="20"/>
                      </a:moveTo>
                      <a:lnTo>
                        <a:pt x="11" y="0"/>
                      </a:lnTo>
                      <a:lnTo>
                        <a:pt x="4" y="18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089400" y="3732120"/>
                  <a:ext cx="6840" cy="176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0"/>
                      </a:move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7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0" y="21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021000" y="3738600"/>
                  <a:ext cx="28440" cy="36720"/>
                </a:xfrm>
                <a:custGeom>
                  <a:avLst/>
                  <a:gdLst/>
                  <a:ahLst/>
                  <a:rect l="l" t="t" r="r" b="b"/>
                  <a:pathLst>
                    <a:path w="40" h="45">
                      <a:moveTo>
                        <a:pt x="0" y="43"/>
                      </a:moveTo>
                      <a:lnTo>
                        <a:pt x="2" y="39"/>
                      </a:lnTo>
                      <a:lnTo>
                        <a:pt x="4" y="36"/>
                      </a:lnTo>
                      <a:lnTo>
                        <a:pt x="8" y="32"/>
                      </a:lnTo>
                      <a:lnTo>
                        <a:pt x="11" y="27"/>
                      </a:lnTo>
                      <a:lnTo>
                        <a:pt x="15" y="23"/>
                      </a:lnTo>
                      <a:lnTo>
                        <a:pt x="19" y="18"/>
                      </a:lnTo>
                      <a:lnTo>
                        <a:pt x="23" y="14"/>
                      </a:lnTo>
                      <a:lnTo>
                        <a:pt x="29" y="9"/>
                      </a:lnTo>
                      <a:lnTo>
                        <a:pt x="33" y="5"/>
                      </a:lnTo>
                      <a:lnTo>
                        <a:pt x="37" y="0"/>
                      </a:lnTo>
                      <a:lnTo>
                        <a:pt x="40" y="5"/>
                      </a:lnTo>
                      <a:lnTo>
                        <a:pt x="40" y="12"/>
                      </a:lnTo>
                      <a:lnTo>
                        <a:pt x="40" y="18"/>
                      </a:lnTo>
                      <a:lnTo>
                        <a:pt x="37" y="23"/>
                      </a:lnTo>
                      <a:lnTo>
                        <a:pt x="33" y="30"/>
                      </a:lnTo>
                      <a:lnTo>
                        <a:pt x="27" y="34"/>
                      </a:lnTo>
                      <a:lnTo>
                        <a:pt x="21" y="39"/>
                      </a:lnTo>
                      <a:lnTo>
                        <a:pt x="15" y="41"/>
                      </a:lnTo>
                      <a:lnTo>
                        <a:pt x="8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824880" y="3830760"/>
                  <a:ext cx="12960" cy="22320"/>
                </a:xfrm>
                <a:custGeom>
                  <a:avLst/>
                  <a:gdLst/>
                  <a:ahLst/>
                  <a:rect l="l" t="t" r="r" b="b"/>
                  <a:pathLst>
                    <a:path w="17" h="29">
                      <a:moveTo>
                        <a:pt x="0" y="29"/>
                      </a:moveTo>
                      <a:lnTo>
                        <a:pt x="17" y="0"/>
                      </a:lnTo>
                      <a:lnTo>
                        <a:pt x="8" y="25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858000" y="3832200"/>
                  <a:ext cx="6840" cy="2376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0" y="0"/>
                      </a:moveTo>
                      <a:lnTo>
                        <a:pt x="0" y="3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004520" y="3855960"/>
                  <a:ext cx="8280" cy="2412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0" y="29"/>
                      </a:moveTo>
                      <a:lnTo>
                        <a:pt x="7" y="0"/>
                      </a:lnTo>
                      <a:lnTo>
                        <a:pt x="11" y="22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013440" y="3794040"/>
                  <a:ext cx="48600" cy="34920"/>
                </a:xfrm>
                <a:custGeom>
                  <a:avLst/>
                  <a:gdLst/>
                  <a:ahLst/>
                  <a:rect l="l" t="t" r="r" b="b"/>
                  <a:pathLst>
                    <a:path w="68" h="43">
                      <a:moveTo>
                        <a:pt x="0" y="43"/>
                      </a:moveTo>
                      <a:lnTo>
                        <a:pt x="2" y="36"/>
                      </a:lnTo>
                      <a:lnTo>
                        <a:pt x="6" y="29"/>
                      </a:lnTo>
                      <a:lnTo>
                        <a:pt x="12" y="23"/>
                      </a:lnTo>
                      <a:lnTo>
                        <a:pt x="19" y="20"/>
                      </a:lnTo>
                      <a:lnTo>
                        <a:pt x="27" y="16"/>
                      </a:lnTo>
                      <a:lnTo>
                        <a:pt x="35" y="12"/>
                      </a:lnTo>
                      <a:lnTo>
                        <a:pt x="45" y="11"/>
                      </a:lnTo>
                      <a:lnTo>
                        <a:pt x="52" y="7"/>
                      </a:lnTo>
                      <a:lnTo>
                        <a:pt x="60" y="3"/>
                      </a:lnTo>
                      <a:lnTo>
                        <a:pt x="68" y="0"/>
                      </a:lnTo>
                      <a:lnTo>
                        <a:pt x="64" y="7"/>
                      </a:lnTo>
                      <a:lnTo>
                        <a:pt x="60" y="14"/>
                      </a:lnTo>
                      <a:lnTo>
                        <a:pt x="54" y="20"/>
                      </a:lnTo>
                      <a:lnTo>
                        <a:pt x="47" y="23"/>
                      </a:lnTo>
                      <a:lnTo>
                        <a:pt x="39" y="27"/>
                      </a:lnTo>
                      <a:lnTo>
                        <a:pt x="31" y="30"/>
                      </a:lnTo>
                      <a:lnTo>
                        <a:pt x="23" y="32"/>
                      </a:lnTo>
                      <a:lnTo>
                        <a:pt x="16" y="36"/>
                      </a:lnTo>
                      <a:lnTo>
                        <a:pt x="8" y="39"/>
                      </a:lnTo>
                      <a:lnTo>
                        <a:pt x="0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928200" y="3863880"/>
                  <a:ext cx="6840" cy="28800"/>
                </a:xfrm>
                <a:custGeom>
                  <a:avLst/>
                  <a:gdLst/>
                  <a:ahLst/>
                  <a:rect l="l" t="t" r="r" b="b"/>
                  <a:pathLst>
                    <a:path w="10" h="36">
                      <a:moveTo>
                        <a:pt x="10" y="0"/>
                      </a:moveTo>
                      <a:lnTo>
                        <a:pt x="0" y="36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069240" y="3807000"/>
                  <a:ext cx="187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5" y="0"/>
                      </a:moveTo>
                      <a:lnTo>
                        <a:pt x="0" y="47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026400" y="3808440"/>
                  <a:ext cx="84240" cy="125280"/>
                </a:xfrm>
                <a:custGeom>
                  <a:avLst/>
                  <a:gdLst/>
                  <a:ahLst/>
                  <a:rect l="l" t="t" r="r" b="b"/>
                  <a:pathLst>
                    <a:path w="118" h="159">
                      <a:moveTo>
                        <a:pt x="118" y="18"/>
                      </a:moveTo>
                      <a:lnTo>
                        <a:pt x="106" y="31"/>
                      </a:lnTo>
                      <a:lnTo>
                        <a:pt x="94" y="45"/>
                      </a:lnTo>
                      <a:lnTo>
                        <a:pt x="81" y="58"/>
                      </a:lnTo>
                      <a:lnTo>
                        <a:pt x="69" y="72"/>
                      </a:lnTo>
                      <a:lnTo>
                        <a:pt x="58" y="87"/>
                      </a:lnTo>
                      <a:lnTo>
                        <a:pt x="44" y="101"/>
                      </a:lnTo>
                      <a:lnTo>
                        <a:pt x="32" y="115"/>
                      </a:lnTo>
                      <a:lnTo>
                        <a:pt x="21" y="130"/>
                      </a:lnTo>
                      <a:lnTo>
                        <a:pt x="11" y="144"/>
                      </a:lnTo>
                      <a:lnTo>
                        <a:pt x="0" y="159"/>
                      </a:lnTo>
                      <a:lnTo>
                        <a:pt x="9" y="144"/>
                      </a:lnTo>
                      <a:lnTo>
                        <a:pt x="19" y="128"/>
                      </a:lnTo>
                      <a:lnTo>
                        <a:pt x="29" y="114"/>
                      </a:lnTo>
                      <a:lnTo>
                        <a:pt x="38" y="99"/>
                      </a:lnTo>
                      <a:lnTo>
                        <a:pt x="50" y="83"/>
                      </a:lnTo>
                      <a:lnTo>
                        <a:pt x="60" y="69"/>
                      </a:lnTo>
                      <a:lnTo>
                        <a:pt x="71" y="56"/>
                      </a:lnTo>
                      <a:lnTo>
                        <a:pt x="83" y="42"/>
                      </a:lnTo>
                      <a:lnTo>
                        <a:pt x="96" y="27"/>
                      </a:lnTo>
                      <a:lnTo>
                        <a:pt x="108" y="14"/>
                      </a:lnTo>
                      <a:lnTo>
                        <a:pt x="94" y="4"/>
                      </a:lnTo>
                      <a:lnTo>
                        <a:pt x="102" y="0"/>
                      </a:lnTo>
                      <a:lnTo>
                        <a:pt x="118" y="18"/>
                      </a:lnTo>
                      <a:lnTo>
                        <a:pt x="118" y="1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832080" y="3881520"/>
                  <a:ext cx="8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12" y="0"/>
                      </a:moveTo>
                      <a:lnTo>
                        <a:pt x="0" y="25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004800" y="3835440"/>
                  <a:ext cx="34200" cy="52560"/>
                </a:xfrm>
                <a:custGeom>
                  <a:avLst/>
                  <a:gdLst/>
                  <a:ahLst/>
                  <a:rect l="l" t="t" r="r" b="b"/>
                  <a:pathLst>
                    <a:path w="49" h="67">
                      <a:moveTo>
                        <a:pt x="10" y="65"/>
                      </a:moveTo>
                      <a:lnTo>
                        <a:pt x="8" y="63"/>
                      </a:lnTo>
                      <a:lnTo>
                        <a:pt x="6" y="60"/>
                      </a:lnTo>
                      <a:lnTo>
                        <a:pt x="4" y="56"/>
                      </a:lnTo>
                      <a:lnTo>
                        <a:pt x="2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2" y="27"/>
                      </a:lnTo>
                      <a:lnTo>
                        <a:pt x="4" y="22"/>
                      </a:lnTo>
                      <a:lnTo>
                        <a:pt x="49" y="0"/>
                      </a:lnTo>
                      <a:lnTo>
                        <a:pt x="47" y="8"/>
                      </a:lnTo>
                      <a:lnTo>
                        <a:pt x="43" y="13"/>
                      </a:lnTo>
                      <a:lnTo>
                        <a:pt x="39" y="20"/>
                      </a:lnTo>
                      <a:lnTo>
                        <a:pt x="33" y="27"/>
                      </a:lnTo>
                      <a:lnTo>
                        <a:pt x="30" y="33"/>
                      </a:lnTo>
                      <a:lnTo>
                        <a:pt x="26" y="40"/>
                      </a:lnTo>
                      <a:lnTo>
                        <a:pt x="22" y="45"/>
                      </a:lnTo>
                      <a:lnTo>
                        <a:pt x="18" y="53"/>
                      </a:lnTo>
                      <a:lnTo>
                        <a:pt x="14" y="60"/>
                      </a:lnTo>
                      <a:lnTo>
                        <a:pt x="12" y="67"/>
                      </a:lnTo>
                      <a:lnTo>
                        <a:pt x="12" y="67"/>
                      </a:lnTo>
                      <a:lnTo>
                        <a:pt x="10" y="6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021000" y="3868920"/>
                  <a:ext cx="19800" cy="36360"/>
                </a:xfrm>
                <a:custGeom>
                  <a:avLst/>
                  <a:gdLst/>
                  <a:ahLst/>
                  <a:rect l="l" t="t" r="r" b="b"/>
                  <a:pathLst>
                    <a:path w="29" h="45">
                      <a:moveTo>
                        <a:pt x="0" y="45"/>
                      </a:move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6" y="27"/>
                      </a:lnTo>
                      <a:lnTo>
                        <a:pt x="9" y="21"/>
                      </a:lnTo>
                      <a:lnTo>
                        <a:pt x="15" y="18"/>
                      </a:lnTo>
                      <a:lnTo>
                        <a:pt x="19" y="14"/>
                      </a:lnTo>
                      <a:lnTo>
                        <a:pt x="23" y="9"/>
                      </a:lnTo>
                      <a:lnTo>
                        <a:pt x="27" y="5"/>
                      </a:lnTo>
                      <a:lnTo>
                        <a:pt x="29" y="0"/>
                      </a:lnTo>
                      <a:lnTo>
                        <a:pt x="23" y="3"/>
                      </a:lnTo>
                      <a:lnTo>
                        <a:pt x="21" y="9"/>
                      </a:lnTo>
                      <a:lnTo>
                        <a:pt x="19" y="14"/>
                      </a:lnTo>
                      <a:lnTo>
                        <a:pt x="17" y="19"/>
                      </a:lnTo>
                      <a:lnTo>
                        <a:pt x="17" y="25"/>
                      </a:lnTo>
                      <a:lnTo>
                        <a:pt x="17" y="30"/>
                      </a:lnTo>
                      <a:lnTo>
                        <a:pt x="15" y="36"/>
                      </a:lnTo>
                      <a:lnTo>
                        <a:pt x="11" y="39"/>
                      </a:lnTo>
                      <a:lnTo>
                        <a:pt x="8" y="43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783480" y="3929040"/>
                  <a:ext cx="11520" cy="27000"/>
                </a:xfrm>
                <a:custGeom>
                  <a:avLst/>
                  <a:gdLst/>
                  <a:ahLst/>
                  <a:rect l="l" t="t" r="r" b="b"/>
                  <a:pathLst>
                    <a:path w="15" h="35">
                      <a:moveTo>
                        <a:pt x="13" y="0"/>
                      </a:moveTo>
                      <a:lnTo>
                        <a:pt x="0" y="35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793560" y="3952800"/>
                  <a:ext cx="14040" cy="25560"/>
                </a:xfrm>
                <a:custGeom>
                  <a:avLst/>
                  <a:gdLst/>
                  <a:ahLst/>
                  <a:rect l="l" t="t" r="r" b="b"/>
                  <a:pathLst>
                    <a:path w="20" h="33">
                      <a:moveTo>
                        <a:pt x="0" y="33"/>
                      </a:moveTo>
                      <a:lnTo>
                        <a:pt x="0" y="31"/>
                      </a:lnTo>
                      <a:lnTo>
                        <a:pt x="2" y="27"/>
                      </a:lnTo>
                      <a:lnTo>
                        <a:pt x="2" y="24"/>
                      </a:lnTo>
                      <a:lnTo>
                        <a:pt x="4" y="20"/>
                      </a:lnTo>
                      <a:lnTo>
                        <a:pt x="6" y="16"/>
                      </a:lnTo>
                      <a:lnTo>
                        <a:pt x="8" y="11"/>
                      </a:lnTo>
                      <a:lnTo>
                        <a:pt x="10" y="7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" y="33"/>
                      </a:lnTo>
                      <a:lnTo>
                        <a:pt x="2" y="3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92240" y="3948120"/>
                  <a:ext cx="25920" cy="160560"/>
                </a:xfrm>
                <a:custGeom>
                  <a:avLst/>
                  <a:gdLst/>
                  <a:ahLst/>
                  <a:rect l="l" t="t" r="r" b="b"/>
                  <a:pathLst>
                    <a:path w="37" h="202">
                      <a:moveTo>
                        <a:pt x="4" y="202"/>
                      </a:moveTo>
                      <a:lnTo>
                        <a:pt x="0" y="202"/>
                      </a:lnTo>
                      <a:lnTo>
                        <a:pt x="0" y="182"/>
                      </a:lnTo>
                      <a:lnTo>
                        <a:pt x="2" y="160"/>
                      </a:lnTo>
                      <a:lnTo>
                        <a:pt x="4" y="140"/>
                      </a:lnTo>
                      <a:lnTo>
                        <a:pt x="8" y="121"/>
                      </a:lnTo>
                      <a:lnTo>
                        <a:pt x="12" y="101"/>
                      </a:lnTo>
                      <a:lnTo>
                        <a:pt x="16" y="81"/>
                      </a:lnTo>
                      <a:lnTo>
                        <a:pt x="21" y="61"/>
                      </a:lnTo>
                      <a:lnTo>
                        <a:pt x="25" y="39"/>
                      </a:lnTo>
                      <a:lnTo>
                        <a:pt x="31" y="20"/>
                      </a:lnTo>
                      <a:lnTo>
                        <a:pt x="35" y="0"/>
                      </a:lnTo>
                      <a:lnTo>
                        <a:pt x="37" y="21"/>
                      </a:lnTo>
                      <a:lnTo>
                        <a:pt x="35" y="41"/>
                      </a:lnTo>
                      <a:lnTo>
                        <a:pt x="35" y="61"/>
                      </a:lnTo>
                      <a:lnTo>
                        <a:pt x="31" y="83"/>
                      </a:lnTo>
                      <a:lnTo>
                        <a:pt x="27" y="102"/>
                      </a:lnTo>
                      <a:lnTo>
                        <a:pt x="21" y="122"/>
                      </a:lnTo>
                      <a:lnTo>
                        <a:pt x="18" y="142"/>
                      </a:lnTo>
                      <a:lnTo>
                        <a:pt x="14" y="162"/>
                      </a:lnTo>
                      <a:lnTo>
                        <a:pt x="8" y="182"/>
                      </a:lnTo>
                      <a:lnTo>
                        <a:pt x="6" y="202"/>
                      </a:lnTo>
                      <a:lnTo>
                        <a:pt x="6" y="202"/>
                      </a:lnTo>
                      <a:lnTo>
                        <a:pt x="4" y="202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026400" y="3921120"/>
                  <a:ext cx="25920" cy="49320"/>
                </a:xfrm>
                <a:custGeom>
                  <a:avLst/>
                  <a:gdLst/>
                  <a:ahLst/>
                  <a:rect l="l" t="t" r="r" b="b"/>
                  <a:pathLst>
                    <a:path w="36" h="64">
                      <a:moveTo>
                        <a:pt x="0" y="64"/>
                      </a:moveTo>
                      <a:lnTo>
                        <a:pt x="0" y="60"/>
                      </a:lnTo>
                      <a:lnTo>
                        <a:pt x="0" y="55"/>
                      </a:lnTo>
                      <a:lnTo>
                        <a:pt x="1" y="49"/>
                      </a:lnTo>
                      <a:lnTo>
                        <a:pt x="5" y="42"/>
                      </a:lnTo>
                      <a:lnTo>
                        <a:pt x="9" y="37"/>
                      </a:lnTo>
                      <a:lnTo>
                        <a:pt x="15" y="28"/>
                      </a:lnTo>
                      <a:lnTo>
                        <a:pt x="19" y="20"/>
                      </a:lnTo>
                      <a:lnTo>
                        <a:pt x="25" y="15"/>
                      </a:lnTo>
                      <a:lnTo>
                        <a:pt x="30" y="8"/>
                      </a:lnTo>
                      <a:lnTo>
                        <a:pt x="34" y="0"/>
                      </a:lnTo>
                      <a:lnTo>
                        <a:pt x="36" y="8"/>
                      </a:lnTo>
                      <a:lnTo>
                        <a:pt x="34" y="15"/>
                      </a:lnTo>
                      <a:lnTo>
                        <a:pt x="32" y="22"/>
                      </a:lnTo>
                      <a:lnTo>
                        <a:pt x="30" y="28"/>
                      </a:lnTo>
                      <a:lnTo>
                        <a:pt x="25" y="35"/>
                      </a:lnTo>
                      <a:lnTo>
                        <a:pt x="21" y="40"/>
                      </a:lnTo>
                      <a:lnTo>
                        <a:pt x="15" y="46"/>
                      </a:lnTo>
                      <a:lnTo>
                        <a:pt x="9" y="53"/>
                      </a:lnTo>
                      <a:lnTo>
                        <a:pt x="5" y="58"/>
                      </a:lnTo>
                      <a:lnTo>
                        <a:pt x="1" y="64"/>
                      </a:lnTo>
                      <a:lnTo>
                        <a:pt x="1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021000" y="3956040"/>
                  <a:ext cx="29880" cy="5580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70"/>
                      </a:moveTo>
                      <a:lnTo>
                        <a:pt x="4" y="63"/>
                      </a:lnTo>
                      <a:lnTo>
                        <a:pt x="6" y="55"/>
                      </a:lnTo>
                      <a:lnTo>
                        <a:pt x="9" y="50"/>
                      </a:lnTo>
                      <a:lnTo>
                        <a:pt x="15" y="43"/>
                      </a:lnTo>
                      <a:lnTo>
                        <a:pt x="19" y="36"/>
                      </a:lnTo>
                      <a:lnTo>
                        <a:pt x="25" y="28"/>
                      </a:lnTo>
                      <a:lnTo>
                        <a:pt x="31" y="21"/>
                      </a:lnTo>
                      <a:lnTo>
                        <a:pt x="35" y="14"/>
                      </a:lnTo>
                      <a:lnTo>
                        <a:pt x="38" y="7"/>
                      </a:lnTo>
                      <a:lnTo>
                        <a:pt x="42" y="0"/>
                      </a:lnTo>
                      <a:lnTo>
                        <a:pt x="42" y="5"/>
                      </a:lnTo>
                      <a:lnTo>
                        <a:pt x="40" y="12"/>
                      </a:lnTo>
                      <a:lnTo>
                        <a:pt x="37" y="19"/>
                      </a:lnTo>
                      <a:lnTo>
                        <a:pt x="31" y="27"/>
                      </a:lnTo>
                      <a:lnTo>
                        <a:pt x="27" y="34"/>
                      </a:lnTo>
                      <a:lnTo>
                        <a:pt x="21" y="41"/>
                      </a:lnTo>
                      <a:lnTo>
                        <a:pt x="15" y="48"/>
                      </a:lnTo>
                      <a:lnTo>
                        <a:pt x="9" y="55"/>
                      </a:lnTo>
                      <a:lnTo>
                        <a:pt x="6" y="63"/>
                      </a:lnTo>
                      <a:lnTo>
                        <a:pt x="2" y="70"/>
                      </a:lnTo>
                      <a:lnTo>
                        <a:pt x="2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771960" y="4022640"/>
                  <a:ext cx="2880" cy="972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4" y="0"/>
                      </a:moveTo>
                      <a:lnTo>
                        <a:pt x="0" y="13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021000" y="3994200"/>
                  <a:ext cx="29880" cy="61920"/>
                </a:xfrm>
                <a:custGeom>
                  <a:avLst/>
                  <a:gdLst/>
                  <a:ahLst/>
                  <a:rect l="l" t="t" r="r" b="b"/>
                  <a:pathLst>
                    <a:path w="42" h="80">
                      <a:moveTo>
                        <a:pt x="0" y="80"/>
                      </a:moveTo>
                      <a:lnTo>
                        <a:pt x="4" y="73"/>
                      </a:lnTo>
                      <a:lnTo>
                        <a:pt x="6" y="64"/>
                      </a:lnTo>
                      <a:lnTo>
                        <a:pt x="9" y="54"/>
                      </a:lnTo>
                      <a:lnTo>
                        <a:pt x="13" y="47"/>
                      </a:lnTo>
                      <a:lnTo>
                        <a:pt x="17" y="38"/>
                      </a:lnTo>
                      <a:lnTo>
                        <a:pt x="21" y="31"/>
                      </a:lnTo>
                      <a:lnTo>
                        <a:pt x="25" y="24"/>
                      </a:lnTo>
                      <a:lnTo>
                        <a:pt x="29" y="15"/>
                      </a:lnTo>
                      <a:lnTo>
                        <a:pt x="35" y="8"/>
                      </a:lnTo>
                      <a:lnTo>
                        <a:pt x="40" y="0"/>
                      </a:lnTo>
                      <a:lnTo>
                        <a:pt x="42" y="8"/>
                      </a:lnTo>
                      <a:lnTo>
                        <a:pt x="40" y="17"/>
                      </a:lnTo>
                      <a:lnTo>
                        <a:pt x="38" y="24"/>
                      </a:lnTo>
                      <a:lnTo>
                        <a:pt x="35" y="33"/>
                      </a:lnTo>
                      <a:lnTo>
                        <a:pt x="29" y="40"/>
                      </a:lnTo>
                      <a:lnTo>
                        <a:pt x="23" y="47"/>
                      </a:lnTo>
                      <a:lnTo>
                        <a:pt x="17" y="56"/>
                      </a:lnTo>
                      <a:lnTo>
                        <a:pt x="9" y="64"/>
                      </a:lnTo>
                      <a:lnTo>
                        <a:pt x="6" y="73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830640" y="4068720"/>
                  <a:ext cx="28440" cy="57240"/>
                </a:xfrm>
                <a:custGeom>
                  <a:avLst/>
                  <a:gdLst/>
                  <a:ahLst/>
                  <a:rect l="l" t="t" r="r" b="b"/>
                  <a:pathLst>
                    <a:path w="38" h="72">
                      <a:moveTo>
                        <a:pt x="0" y="72"/>
                      </a:moveTo>
                      <a:lnTo>
                        <a:pt x="38" y="0"/>
                      </a:lnTo>
                      <a:lnTo>
                        <a:pt x="11" y="63"/>
                      </a:lnTo>
                      <a:lnTo>
                        <a:pt x="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013440" y="4041720"/>
                  <a:ext cx="36000" cy="120600"/>
                </a:xfrm>
                <a:custGeom>
                  <a:avLst/>
                  <a:gdLst/>
                  <a:ahLst/>
                  <a:rect l="l" t="t" r="r" b="b"/>
                  <a:pathLst>
                    <a:path w="50" h="151">
                      <a:moveTo>
                        <a:pt x="2" y="126"/>
                      </a:moveTo>
                      <a:lnTo>
                        <a:pt x="18" y="131"/>
                      </a:lnTo>
                      <a:lnTo>
                        <a:pt x="0" y="151"/>
                      </a:lnTo>
                      <a:lnTo>
                        <a:pt x="0" y="131"/>
                      </a:lnTo>
                      <a:lnTo>
                        <a:pt x="0" y="115"/>
                      </a:lnTo>
                      <a:lnTo>
                        <a:pt x="2" y="99"/>
                      </a:lnTo>
                      <a:lnTo>
                        <a:pt x="6" y="84"/>
                      </a:lnTo>
                      <a:lnTo>
                        <a:pt x="12" y="70"/>
                      </a:lnTo>
                      <a:lnTo>
                        <a:pt x="18" y="56"/>
                      </a:lnTo>
                      <a:lnTo>
                        <a:pt x="23" y="43"/>
                      </a:lnTo>
                      <a:lnTo>
                        <a:pt x="33" y="29"/>
                      </a:lnTo>
                      <a:lnTo>
                        <a:pt x="41" y="14"/>
                      </a:lnTo>
                      <a:lnTo>
                        <a:pt x="50" y="0"/>
                      </a:lnTo>
                      <a:lnTo>
                        <a:pt x="50" y="14"/>
                      </a:lnTo>
                      <a:lnTo>
                        <a:pt x="48" y="29"/>
                      </a:lnTo>
                      <a:lnTo>
                        <a:pt x="43" y="41"/>
                      </a:lnTo>
                      <a:lnTo>
                        <a:pt x="37" y="54"/>
                      </a:lnTo>
                      <a:lnTo>
                        <a:pt x="31" y="65"/>
                      </a:lnTo>
                      <a:lnTo>
                        <a:pt x="23" y="77"/>
                      </a:lnTo>
                      <a:lnTo>
                        <a:pt x="18" y="88"/>
                      </a:lnTo>
                      <a:lnTo>
                        <a:pt x="10" y="101"/>
                      </a:lnTo>
                      <a:lnTo>
                        <a:pt x="6" y="113"/>
                      </a:lnTo>
                      <a:lnTo>
                        <a:pt x="2" y="126"/>
                      </a:lnTo>
                      <a:lnTo>
                        <a:pt x="2" y="126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032160" y="4100400"/>
                  <a:ext cx="15480" cy="2880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0" y="36"/>
                      </a:move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856560" y="4162320"/>
                  <a:ext cx="5760" cy="34920"/>
                </a:xfrm>
                <a:custGeom>
                  <a:avLst/>
                  <a:gdLst/>
                  <a:ahLst/>
                  <a:rect l="l" t="t" r="r" b="b"/>
                  <a:pathLst>
                    <a:path w="8" h="43">
                      <a:moveTo>
                        <a:pt x="6" y="42"/>
                      </a:moveTo>
                      <a:lnTo>
                        <a:pt x="6" y="38"/>
                      </a:lnTo>
                      <a:lnTo>
                        <a:pt x="4" y="34"/>
                      </a:lnTo>
                      <a:lnTo>
                        <a:pt x="2" y="31"/>
                      </a:ln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8" y="4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8" y="16"/>
                      </a:lnTo>
                      <a:lnTo>
                        <a:pt x="8" y="20"/>
                      </a:lnTo>
                      <a:lnTo>
                        <a:pt x="8" y="25"/>
                      </a:lnTo>
                      <a:lnTo>
                        <a:pt x="6" y="29"/>
                      </a:lnTo>
                      <a:lnTo>
                        <a:pt x="6" y="34"/>
                      </a:lnTo>
                      <a:lnTo>
                        <a:pt x="6" y="38"/>
                      </a:lnTo>
                      <a:lnTo>
                        <a:pt x="6" y="43"/>
                      </a:lnTo>
                      <a:lnTo>
                        <a:pt x="6" y="43"/>
                      </a:lnTo>
                      <a:lnTo>
                        <a:pt x="6" y="42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016320" y="4179960"/>
                  <a:ext cx="6840" cy="58680"/>
                </a:xfrm>
                <a:custGeom>
                  <a:avLst/>
                  <a:gdLst/>
                  <a:ahLst/>
                  <a:rect l="l" t="t" r="r" b="b"/>
                  <a:pathLst>
                    <a:path w="10" h="74">
                      <a:moveTo>
                        <a:pt x="4" y="74"/>
                      </a:moveTo>
                      <a:lnTo>
                        <a:pt x="0" y="0"/>
                      </a:lnTo>
                      <a:lnTo>
                        <a:pt x="10" y="2"/>
                      </a:lnTo>
                      <a:lnTo>
                        <a:pt x="4" y="74"/>
                      </a:lnTo>
                      <a:lnTo>
                        <a:pt x="4" y="74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36480" y="4199040"/>
                  <a:ext cx="3960" cy="30240"/>
                </a:xfrm>
                <a:custGeom>
                  <a:avLst/>
                  <a:gdLst/>
                  <a:ahLst/>
                  <a:rect l="l" t="t" r="r" b="b"/>
                  <a:pathLst>
                    <a:path w="6" h="38">
                      <a:moveTo>
                        <a:pt x="0" y="38"/>
                      </a:moveTo>
                      <a:lnTo>
                        <a:pt x="6" y="0"/>
                      </a:lnTo>
                      <a:lnTo>
                        <a:pt x="0" y="25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862320" y="4257720"/>
                  <a:ext cx="2880" cy="17640"/>
                </a:xfrm>
                <a:custGeom>
                  <a:avLst/>
                  <a:gdLst/>
                  <a:ahLst/>
                  <a:rect l="l" t="t" r="r" b="b"/>
                  <a:pathLst>
                    <a:path w="6" h="24">
                      <a:moveTo>
                        <a:pt x="2" y="0"/>
                      </a:moveTo>
                      <a:lnTo>
                        <a:pt x="6" y="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443640" y="4286160"/>
                  <a:ext cx="18720" cy="69840"/>
                </a:xfrm>
                <a:custGeom>
                  <a:avLst/>
                  <a:gdLst/>
                  <a:ahLst/>
                  <a:rect l="l" t="t" r="r" b="b"/>
                  <a:pathLst>
                    <a:path w="25" h="86">
                      <a:moveTo>
                        <a:pt x="18" y="65"/>
                      </a:moveTo>
                      <a:lnTo>
                        <a:pt x="16" y="68"/>
                      </a:lnTo>
                      <a:lnTo>
                        <a:pt x="16" y="70"/>
                      </a:lnTo>
                      <a:lnTo>
                        <a:pt x="14" y="72"/>
                      </a:lnTo>
                      <a:lnTo>
                        <a:pt x="14" y="74"/>
                      </a:lnTo>
                      <a:lnTo>
                        <a:pt x="12" y="77"/>
                      </a:lnTo>
                      <a:lnTo>
                        <a:pt x="12" y="79"/>
                      </a:lnTo>
                      <a:lnTo>
                        <a:pt x="10" y="81"/>
                      </a:lnTo>
                      <a:lnTo>
                        <a:pt x="8" y="85"/>
                      </a:lnTo>
                      <a:lnTo>
                        <a:pt x="6" y="85"/>
                      </a:lnTo>
                      <a:lnTo>
                        <a:pt x="4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2" y="43"/>
                      </a:lnTo>
                      <a:lnTo>
                        <a:pt x="4" y="34"/>
                      </a:lnTo>
                      <a:lnTo>
                        <a:pt x="8" y="25"/>
                      </a:lnTo>
                      <a:lnTo>
                        <a:pt x="10" y="16"/>
                      </a:lnTo>
                      <a:lnTo>
                        <a:pt x="14" y="9"/>
                      </a:lnTo>
                      <a:lnTo>
                        <a:pt x="18" y="0"/>
                      </a:lnTo>
                      <a:lnTo>
                        <a:pt x="22" y="5"/>
                      </a:lnTo>
                      <a:lnTo>
                        <a:pt x="24" y="11"/>
                      </a:lnTo>
                      <a:lnTo>
                        <a:pt x="25" y="18"/>
                      </a:lnTo>
                      <a:lnTo>
                        <a:pt x="25" y="23"/>
                      </a:lnTo>
                      <a:lnTo>
                        <a:pt x="25" y="31"/>
                      </a:lnTo>
                      <a:lnTo>
                        <a:pt x="25" y="38"/>
                      </a:lnTo>
                      <a:lnTo>
                        <a:pt x="24" y="45"/>
                      </a:lnTo>
                      <a:lnTo>
                        <a:pt x="22" y="52"/>
                      </a:lnTo>
                      <a:lnTo>
                        <a:pt x="20" y="59"/>
                      </a:lnTo>
                      <a:lnTo>
                        <a:pt x="18" y="67"/>
                      </a:lnTo>
                      <a:lnTo>
                        <a:pt x="18" y="67"/>
                      </a:lnTo>
                      <a:lnTo>
                        <a:pt x="18" y="65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975360" y="4326120"/>
                  <a:ext cx="6840" cy="102960"/>
                </a:xfrm>
                <a:custGeom>
                  <a:avLst/>
                  <a:gdLst/>
                  <a:ahLst/>
                  <a:rect l="l" t="t" r="r" b="b"/>
                  <a:pathLst>
                    <a:path w="10" h="129">
                      <a:moveTo>
                        <a:pt x="8" y="129"/>
                      </a:moveTo>
                      <a:lnTo>
                        <a:pt x="6" y="119"/>
                      </a:lnTo>
                      <a:lnTo>
                        <a:pt x="4" y="106"/>
                      </a:lnTo>
                      <a:lnTo>
                        <a:pt x="2" y="93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0" y="54"/>
                      </a:lnTo>
                      <a:lnTo>
                        <a:pt x="2" y="39"/>
                      </a:lnTo>
                      <a:lnTo>
                        <a:pt x="4" y="27"/>
                      </a:lnTo>
                      <a:lnTo>
                        <a:pt x="6" y="12"/>
                      </a:lnTo>
                      <a:lnTo>
                        <a:pt x="10" y="0"/>
                      </a:lnTo>
                      <a:lnTo>
                        <a:pt x="8" y="129"/>
                      </a:lnTo>
                      <a:lnTo>
                        <a:pt x="8" y="129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001640" y="4334040"/>
                  <a:ext cx="12600" cy="60120"/>
                </a:xfrm>
                <a:custGeom>
                  <a:avLst/>
                  <a:gdLst/>
                  <a:ahLst/>
                  <a:rect l="l" t="t" r="r" b="b"/>
                  <a:pathLst>
                    <a:path w="17" h="76">
                      <a:moveTo>
                        <a:pt x="15" y="74"/>
                      </a:moveTo>
                      <a:lnTo>
                        <a:pt x="7" y="74"/>
                      </a:lnTo>
                      <a:lnTo>
                        <a:pt x="0" y="0"/>
                      </a:lnTo>
                      <a:lnTo>
                        <a:pt x="2" y="6"/>
                      </a:lnTo>
                      <a:lnTo>
                        <a:pt x="4" y="13"/>
                      </a:lnTo>
                      <a:lnTo>
                        <a:pt x="6" y="20"/>
                      </a:lnTo>
                      <a:lnTo>
                        <a:pt x="9" y="27"/>
                      </a:lnTo>
                      <a:lnTo>
                        <a:pt x="11" y="35"/>
                      </a:lnTo>
                      <a:lnTo>
                        <a:pt x="13" y="44"/>
                      </a:lnTo>
                      <a:lnTo>
                        <a:pt x="15" y="51"/>
                      </a:lnTo>
                      <a:lnTo>
                        <a:pt x="15" y="60"/>
                      </a:lnTo>
                      <a:lnTo>
                        <a:pt x="17" y="67"/>
                      </a:lnTo>
                      <a:lnTo>
                        <a:pt x="17" y="76"/>
                      </a:lnTo>
                      <a:lnTo>
                        <a:pt x="17" y="76"/>
                      </a:lnTo>
                      <a:lnTo>
                        <a:pt x="15" y="74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873840" y="4329000"/>
                  <a:ext cx="27000" cy="146160"/>
                </a:xfrm>
                <a:custGeom>
                  <a:avLst/>
                  <a:gdLst/>
                  <a:ahLst/>
                  <a:rect l="l" t="t" r="r" b="b"/>
                  <a:pathLst>
                    <a:path w="36" h="184">
                      <a:moveTo>
                        <a:pt x="34" y="22"/>
                      </a:moveTo>
                      <a:lnTo>
                        <a:pt x="29" y="184"/>
                      </a:lnTo>
                      <a:lnTo>
                        <a:pt x="23" y="22"/>
                      </a:lnTo>
                      <a:lnTo>
                        <a:pt x="17" y="22"/>
                      </a:lnTo>
                      <a:lnTo>
                        <a:pt x="15" y="29"/>
                      </a:lnTo>
                      <a:lnTo>
                        <a:pt x="13" y="38"/>
                      </a:lnTo>
                      <a:lnTo>
                        <a:pt x="11" y="47"/>
                      </a:lnTo>
                      <a:lnTo>
                        <a:pt x="9" y="56"/>
                      </a:lnTo>
                      <a:lnTo>
                        <a:pt x="9" y="65"/>
                      </a:lnTo>
                      <a:lnTo>
                        <a:pt x="9" y="74"/>
                      </a:lnTo>
                      <a:lnTo>
                        <a:pt x="9" y="81"/>
                      </a:lnTo>
                      <a:lnTo>
                        <a:pt x="7" y="90"/>
                      </a:lnTo>
                      <a:lnTo>
                        <a:pt x="7" y="98"/>
                      </a:lnTo>
                      <a:lnTo>
                        <a:pt x="7" y="105"/>
                      </a:lnTo>
                      <a:lnTo>
                        <a:pt x="3" y="96"/>
                      </a:lnTo>
                      <a:lnTo>
                        <a:pt x="1" y="87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1" y="44"/>
                      </a:lnTo>
                      <a:lnTo>
                        <a:pt x="3" y="33"/>
                      </a:lnTo>
                      <a:lnTo>
                        <a:pt x="5" y="20"/>
                      </a:lnTo>
                      <a:lnTo>
                        <a:pt x="7" y="9"/>
                      </a:lnTo>
                      <a:lnTo>
                        <a:pt x="11" y="0"/>
                      </a:lnTo>
                      <a:lnTo>
                        <a:pt x="15" y="2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3" y="9"/>
                      </a:lnTo>
                      <a:lnTo>
                        <a:pt x="25" y="11"/>
                      </a:lnTo>
                      <a:lnTo>
                        <a:pt x="25" y="15"/>
                      </a:lnTo>
                      <a:lnTo>
                        <a:pt x="27" y="16"/>
                      </a:lnTo>
                      <a:lnTo>
                        <a:pt x="31" y="20"/>
                      </a:lnTo>
                      <a:lnTo>
                        <a:pt x="32" y="22"/>
                      </a:lnTo>
                      <a:lnTo>
                        <a:pt x="36" y="24"/>
                      </a:lnTo>
                      <a:lnTo>
                        <a:pt x="36" y="24"/>
                      </a:lnTo>
                      <a:lnTo>
                        <a:pt x="34" y="22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909840" y="4334040"/>
                  <a:ext cx="58320" cy="108000"/>
                </a:xfrm>
                <a:custGeom>
                  <a:avLst/>
                  <a:gdLst/>
                  <a:ahLst/>
                  <a:rect l="l" t="t" r="r" b="b"/>
                  <a:pathLst>
                    <a:path w="81" h="136">
                      <a:moveTo>
                        <a:pt x="72" y="109"/>
                      </a:moveTo>
                      <a:lnTo>
                        <a:pt x="70" y="101"/>
                      </a:lnTo>
                      <a:lnTo>
                        <a:pt x="70" y="94"/>
                      </a:lnTo>
                      <a:lnTo>
                        <a:pt x="70" y="85"/>
                      </a:lnTo>
                      <a:lnTo>
                        <a:pt x="70" y="78"/>
                      </a:lnTo>
                      <a:lnTo>
                        <a:pt x="72" y="69"/>
                      </a:lnTo>
                      <a:lnTo>
                        <a:pt x="72" y="60"/>
                      </a:lnTo>
                      <a:lnTo>
                        <a:pt x="72" y="51"/>
                      </a:lnTo>
                      <a:lnTo>
                        <a:pt x="72" y="44"/>
                      </a:lnTo>
                      <a:lnTo>
                        <a:pt x="72" y="35"/>
                      </a:lnTo>
                      <a:lnTo>
                        <a:pt x="68" y="27"/>
                      </a:lnTo>
                      <a:lnTo>
                        <a:pt x="64" y="24"/>
                      </a:lnTo>
                      <a:lnTo>
                        <a:pt x="60" y="22"/>
                      </a:lnTo>
                      <a:lnTo>
                        <a:pt x="56" y="22"/>
                      </a:lnTo>
                      <a:lnTo>
                        <a:pt x="52" y="22"/>
                      </a:lnTo>
                      <a:lnTo>
                        <a:pt x="48" y="24"/>
                      </a:lnTo>
                      <a:lnTo>
                        <a:pt x="44" y="24"/>
                      </a:lnTo>
                      <a:lnTo>
                        <a:pt x="39" y="26"/>
                      </a:lnTo>
                      <a:lnTo>
                        <a:pt x="35" y="29"/>
                      </a:lnTo>
                      <a:lnTo>
                        <a:pt x="31" y="31"/>
                      </a:lnTo>
                      <a:lnTo>
                        <a:pt x="27" y="33"/>
                      </a:lnTo>
                      <a:lnTo>
                        <a:pt x="21" y="42"/>
                      </a:lnTo>
                      <a:lnTo>
                        <a:pt x="17" y="51"/>
                      </a:lnTo>
                      <a:lnTo>
                        <a:pt x="15" y="62"/>
                      </a:lnTo>
                      <a:lnTo>
                        <a:pt x="13" y="73"/>
                      </a:lnTo>
                      <a:lnTo>
                        <a:pt x="13" y="83"/>
                      </a:lnTo>
                      <a:lnTo>
                        <a:pt x="12" y="94"/>
                      </a:lnTo>
                      <a:lnTo>
                        <a:pt x="12" y="105"/>
                      </a:lnTo>
                      <a:lnTo>
                        <a:pt x="10" y="116"/>
                      </a:lnTo>
                      <a:lnTo>
                        <a:pt x="8" y="125"/>
                      </a:lnTo>
                      <a:lnTo>
                        <a:pt x="4" y="136"/>
                      </a:lnTo>
                      <a:lnTo>
                        <a:pt x="4" y="123"/>
                      </a:lnTo>
                      <a:lnTo>
                        <a:pt x="4" y="112"/>
                      </a:lnTo>
                      <a:lnTo>
                        <a:pt x="4" y="101"/>
                      </a:lnTo>
                      <a:lnTo>
                        <a:pt x="2" y="91"/>
                      </a:lnTo>
                      <a:lnTo>
                        <a:pt x="2" y="80"/>
                      </a:lnTo>
                      <a:lnTo>
                        <a:pt x="0" y="67"/>
                      </a:lnTo>
                      <a:lnTo>
                        <a:pt x="2" y="56"/>
                      </a:lnTo>
                      <a:lnTo>
                        <a:pt x="2" y="46"/>
                      </a:lnTo>
                      <a:lnTo>
                        <a:pt x="4" y="35"/>
                      </a:lnTo>
                      <a:lnTo>
                        <a:pt x="10" y="24"/>
                      </a:lnTo>
                      <a:lnTo>
                        <a:pt x="15" y="18"/>
                      </a:lnTo>
                      <a:lnTo>
                        <a:pt x="23" y="15"/>
                      </a:lnTo>
                      <a:lnTo>
                        <a:pt x="29" y="13"/>
                      </a:lnTo>
                      <a:lnTo>
                        <a:pt x="37" y="9"/>
                      </a:lnTo>
                      <a:lnTo>
                        <a:pt x="43" y="8"/>
                      </a:lnTo>
                      <a:lnTo>
                        <a:pt x="50" y="6"/>
                      </a:lnTo>
                      <a:lnTo>
                        <a:pt x="58" y="4"/>
                      </a:lnTo>
                      <a:lnTo>
                        <a:pt x="66" y="2"/>
                      </a:lnTo>
                      <a:lnTo>
                        <a:pt x="73" y="2"/>
                      </a:lnTo>
                      <a:lnTo>
                        <a:pt x="81" y="0"/>
                      </a:lnTo>
                      <a:lnTo>
                        <a:pt x="72" y="109"/>
                      </a:lnTo>
                      <a:lnTo>
                        <a:pt x="72" y="109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032160" y="4286160"/>
                  <a:ext cx="43920" cy="63720"/>
                </a:xfrm>
                <a:custGeom>
                  <a:avLst/>
                  <a:gdLst/>
                  <a:ahLst/>
                  <a:rect l="l" t="t" r="r" b="b"/>
                  <a:pathLst>
                    <a:path w="62" h="79">
                      <a:moveTo>
                        <a:pt x="0" y="79"/>
                      </a:moveTo>
                      <a:lnTo>
                        <a:pt x="0" y="72"/>
                      </a:lnTo>
                      <a:lnTo>
                        <a:pt x="2" y="63"/>
                      </a:lnTo>
                      <a:lnTo>
                        <a:pt x="6" y="54"/>
                      </a:lnTo>
                      <a:lnTo>
                        <a:pt x="10" y="45"/>
                      </a:lnTo>
                      <a:lnTo>
                        <a:pt x="16" y="34"/>
                      </a:lnTo>
                      <a:lnTo>
                        <a:pt x="23" y="25"/>
                      </a:lnTo>
                      <a:lnTo>
                        <a:pt x="31" y="18"/>
                      </a:lnTo>
                      <a:lnTo>
                        <a:pt x="41" y="11"/>
                      </a:lnTo>
                      <a:lnTo>
                        <a:pt x="51" y="5"/>
                      </a:lnTo>
                      <a:lnTo>
                        <a:pt x="62" y="0"/>
                      </a:lnTo>
                      <a:lnTo>
                        <a:pt x="0" y="79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2b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194160" y="4308480"/>
                  <a:ext cx="29880" cy="92160"/>
                </a:xfrm>
                <a:custGeom>
                  <a:avLst/>
                  <a:gdLst/>
                  <a:ahLst/>
                  <a:rect l="l" t="t" r="r" b="b"/>
                  <a:pathLst>
                    <a:path w="42" h="115">
                      <a:moveTo>
                        <a:pt x="42" y="13"/>
                      </a:moveTo>
                      <a:lnTo>
                        <a:pt x="40" y="23"/>
                      </a:lnTo>
                      <a:lnTo>
                        <a:pt x="37" y="34"/>
                      </a:lnTo>
                      <a:lnTo>
                        <a:pt x="31" y="41"/>
                      </a:lnTo>
                      <a:lnTo>
                        <a:pt x="23" y="50"/>
                      </a:lnTo>
                      <a:lnTo>
                        <a:pt x="17" y="59"/>
                      </a:lnTo>
                      <a:lnTo>
                        <a:pt x="9" y="69"/>
                      </a:lnTo>
                      <a:lnTo>
                        <a:pt x="4" y="79"/>
                      </a:lnTo>
                      <a:lnTo>
                        <a:pt x="0" y="90"/>
                      </a:lnTo>
                      <a:lnTo>
                        <a:pt x="0" y="101"/>
                      </a:lnTo>
                      <a:lnTo>
                        <a:pt x="2" y="115"/>
                      </a:lnTo>
                      <a:lnTo>
                        <a:pt x="6" y="0"/>
                      </a:lnTo>
                      <a:lnTo>
                        <a:pt x="9" y="50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13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227280" y="4324320"/>
                  <a:ext cx="14040" cy="54000"/>
                </a:xfrm>
                <a:custGeom>
                  <a:avLst/>
                  <a:gdLst/>
                  <a:ahLst/>
                  <a:rect l="l" t="t" r="r" b="b"/>
                  <a:pathLst>
                    <a:path w="20" h="68">
                      <a:moveTo>
                        <a:pt x="0" y="68"/>
                      </a:moveTo>
                      <a:lnTo>
                        <a:pt x="20" y="0"/>
                      </a:lnTo>
                      <a:lnTo>
                        <a:pt x="4" y="63"/>
                      </a:lnTo>
                      <a:lnTo>
                        <a:pt x="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57160" y="4324320"/>
                  <a:ext cx="6840" cy="4608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2" y="0"/>
                      </a:moveTo>
                      <a:lnTo>
                        <a:pt x="10" y="2"/>
                      </a:lnTo>
                      <a:lnTo>
                        <a:pt x="6" y="58"/>
                      </a:lnTo>
                      <a:lnTo>
                        <a:pt x="0" y="58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3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6114240" y="432612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24" h="63">
                    <a:moveTo>
                      <a:pt x="0" y="63"/>
                    </a:moveTo>
                    <a:lnTo>
                      <a:pt x="2" y="57"/>
                    </a:lnTo>
                    <a:lnTo>
                      <a:pt x="4" y="50"/>
                    </a:lnTo>
                    <a:lnTo>
                      <a:pt x="6" y="45"/>
                    </a:lnTo>
                    <a:lnTo>
                      <a:pt x="8" y="37"/>
                    </a:lnTo>
                    <a:lnTo>
                      <a:pt x="8" y="30"/>
                    </a:lnTo>
                    <a:lnTo>
                      <a:pt x="10" y="23"/>
                    </a:lnTo>
                    <a:lnTo>
                      <a:pt x="12" y="16"/>
                    </a:lnTo>
                    <a:lnTo>
                      <a:pt x="14" y="10"/>
                    </a:lnTo>
                    <a:lnTo>
                      <a:pt x="18" y="5"/>
                    </a:lnTo>
                    <a:lnTo>
                      <a:pt x="24" y="0"/>
                    </a:lnTo>
                    <a:lnTo>
                      <a:pt x="22" y="7"/>
                    </a:lnTo>
                    <a:lnTo>
                      <a:pt x="20" y="12"/>
                    </a:lnTo>
                    <a:lnTo>
                      <a:pt x="20" y="19"/>
                    </a:lnTo>
                    <a:lnTo>
                      <a:pt x="18" y="27"/>
                    </a:lnTo>
                    <a:lnTo>
                      <a:pt x="16" y="34"/>
                    </a:lnTo>
                    <a:lnTo>
                      <a:pt x="14" y="39"/>
                    </a:lnTo>
                    <a:lnTo>
                      <a:pt x="10" y="47"/>
                    </a:lnTo>
                    <a:lnTo>
                      <a:pt x="8" y="52"/>
                    </a:lnTo>
                    <a:lnTo>
                      <a:pt x="4" y="5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80560" y="4337280"/>
                <a:ext cx="3960" cy="2196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20"/>
                    </a:moveTo>
                    <a:lnTo>
                      <a:pt x="2" y="2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560280" y="4361040"/>
                <a:ext cx="11160" cy="196560"/>
              </a:xfrm>
              <a:custGeom>
                <a:avLst/>
                <a:gdLst/>
                <a:ahLst/>
                <a:rect l="l" t="t" r="r" b="b"/>
                <a:pathLst>
                  <a:path w="15" h="247">
                    <a:moveTo>
                      <a:pt x="6" y="247"/>
                    </a:moveTo>
                    <a:lnTo>
                      <a:pt x="8" y="221"/>
                    </a:lnTo>
                    <a:lnTo>
                      <a:pt x="6" y="196"/>
                    </a:lnTo>
                    <a:lnTo>
                      <a:pt x="4" y="171"/>
                    </a:lnTo>
                    <a:lnTo>
                      <a:pt x="2" y="146"/>
                    </a:lnTo>
                    <a:lnTo>
                      <a:pt x="2" y="120"/>
                    </a:lnTo>
                    <a:lnTo>
                      <a:pt x="0" y="95"/>
                    </a:lnTo>
                    <a:lnTo>
                      <a:pt x="0" y="70"/>
                    </a:lnTo>
                    <a:lnTo>
                      <a:pt x="2" y="47"/>
                    </a:lnTo>
                    <a:lnTo>
                      <a:pt x="6" y="23"/>
                    </a:lnTo>
                    <a:lnTo>
                      <a:pt x="10" y="0"/>
                    </a:lnTo>
                    <a:lnTo>
                      <a:pt x="14" y="21"/>
                    </a:lnTo>
                    <a:lnTo>
                      <a:pt x="15" y="45"/>
                    </a:lnTo>
                    <a:lnTo>
                      <a:pt x="15" y="68"/>
                    </a:lnTo>
                    <a:lnTo>
                      <a:pt x="14" y="93"/>
                    </a:lnTo>
                    <a:lnTo>
                      <a:pt x="12" y="119"/>
                    </a:lnTo>
                    <a:lnTo>
                      <a:pt x="10" y="144"/>
                    </a:lnTo>
                    <a:lnTo>
                      <a:pt x="8" y="169"/>
                    </a:lnTo>
                    <a:lnTo>
                      <a:pt x="8" y="196"/>
                    </a:lnTo>
                    <a:lnTo>
                      <a:pt x="6" y="221"/>
                    </a:lnTo>
                    <a:lnTo>
                      <a:pt x="8" y="247"/>
                    </a:lnTo>
                    <a:lnTo>
                      <a:pt x="8" y="247"/>
                    </a:lnTo>
                    <a:lnTo>
                      <a:pt x="6" y="247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313680" y="4345200"/>
                <a:ext cx="3960" cy="1728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6" y="18"/>
                    </a:moveTo>
                    <a:lnTo>
                      <a:pt x="2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80080" y="4390920"/>
                <a:ext cx="25920" cy="344520"/>
              </a:xfrm>
              <a:custGeom>
                <a:avLst/>
                <a:gdLst/>
                <a:ahLst/>
                <a:rect l="l" t="t" r="r" b="b"/>
                <a:pathLst>
                  <a:path w="37" h="432">
                    <a:moveTo>
                      <a:pt x="19" y="93"/>
                    </a:moveTo>
                    <a:lnTo>
                      <a:pt x="21" y="95"/>
                    </a:lnTo>
                    <a:lnTo>
                      <a:pt x="23" y="95"/>
                    </a:lnTo>
                    <a:lnTo>
                      <a:pt x="25" y="95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9" y="91"/>
                    </a:lnTo>
                    <a:lnTo>
                      <a:pt x="31" y="90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1" y="86"/>
                    </a:lnTo>
                    <a:lnTo>
                      <a:pt x="31" y="73"/>
                    </a:lnTo>
                    <a:lnTo>
                      <a:pt x="37" y="73"/>
                    </a:lnTo>
                    <a:lnTo>
                      <a:pt x="37" y="110"/>
                    </a:lnTo>
                    <a:lnTo>
                      <a:pt x="37" y="144"/>
                    </a:lnTo>
                    <a:lnTo>
                      <a:pt x="33" y="180"/>
                    </a:lnTo>
                    <a:lnTo>
                      <a:pt x="29" y="216"/>
                    </a:lnTo>
                    <a:lnTo>
                      <a:pt x="25" y="252"/>
                    </a:lnTo>
                    <a:lnTo>
                      <a:pt x="21" y="288"/>
                    </a:lnTo>
                    <a:lnTo>
                      <a:pt x="17" y="326"/>
                    </a:lnTo>
                    <a:lnTo>
                      <a:pt x="14" y="362"/>
                    </a:lnTo>
                    <a:lnTo>
                      <a:pt x="14" y="396"/>
                    </a:lnTo>
                    <a:lnTo>
                      <a:pt x="14" y="432"/>
                    </a:lnTo>
                    <a:lnTo>
                      <a:pt x="4" y="432"/>
                    </a:lnTo>
                    <a:lnTo>
                      <a:pt x="4" y="416"/>
                    </a:lnTo>
                    <a:lnTo>
                      <a:pt x="4" y="400"/>
                    </a:lnTo>
                    <a:lnTo>
                      <a:pt x="4" y="382"/>
                    </a:lnTo>
                    <a:lnTo>
                      <a:pt x="6" y="366"/>
                    </a:lnTo>
                    <a:lnTo>
                      <a:pt x="8" y="347"/>
                    </a:lnTo>
                    <a:lnTo>
                      <a:pt x="8" y="331"/>
                    </a:lnTo>
                    <a:lnTo>
                      <a:pt x="8" y="315"/>
                    </a:lnTo>
                    <a:lnTo>
                      <a:pt x="8" y="299"/>
                    </a:lnTo>
                    <a:lnTo>
                      <a:pt x="4" y="284"/>
                    </a:lnTo>
                    <a:lnTo>
                      <a:pt x="0" y="270"/>
                    </a:lnTo>
                    <a:lnTo>
                      <a:pt x="19" y="0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3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49800" y="4362480"/>
                <a:ext cx="55800" cy="84240"/>
              </a:xfrm>
              <a:custGeom>
                <a:avLst/>
                <a:gdLst/>
                <a:ahLst/>
                <a:rect l="l" t="t" r="r" b="b"/>
                <a:pathLst>
                  <a:path w="78" h="104">
                    <a:moveTo>
                      <a:pt x="8" y="102"/>
                    </a:moveTo>
                    <a:lnTo>
                      <a:pt x="0" y="93"/>
                    </a:lnTo>
                    <a:lnTo>
                      <a:pt x="78" y="0"/>
                    </a:lnTo>
                    <a:lnTo>
                      <a:pt x="76" y="12"/>
                    </a:lnTo>
                    <a:lnTo>
                      <a:pt x="72" y="25"/>
                    </a:lnTo>
                    <a:lnTo>
                      <a:pt x="66" y="36"/>
                    </a:lnTo>
                    <a:lnTo>
                      <a:pt x="60" y="46"/>
                    </a:lnTo>
                    <a:lnTo>
                      <a:pt x="53" y="57"/>
                    </a:lnTo>
                    <a:lnTo>
                      <a:pt x="45" y="68"/>
                    </a:lnTo>
                    <a:lnTo>
                      <a:pt x="37" y="77"/>
                    </a:lnTo>
                    <a:lnTo>
                      <a:pt x="28" y="86"/>
                    </a:lnTo>
                    <a:lnTo>
                      <a:pt x="18" y="95"/>
                    </a:lnTo>
                    <a:lnTo>
                      <a:pt x="10" y="104"/>
                    </a:lnTo>
                    <a:lnTo>
                      <a:pt x="10" y="104"/>
                    </a:lnTo>
                    <a:lnTo>
                      <a:pt x="8" y="102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95520" y="4367160"/>
                <a:ext cx="36720" cy="119160"/>
              </a:xfrm>
              <a:custGeom>
                <a:avLst/>
                <a:gdLst/>
                <a:ahLst/>
                <a:rect l="l" t="t" r="r" b="b"/>
                <a:pathLst>
                  <a:path w="53" h="150">
                    <a:moveTo>
                      <a:pt x="0" y="148"/>
                    </a:moveTo>
                    <a:lnTo>
                      <a:pt x="4" y="133"/>
                    </a:lnTo>
                    <a:lnTo>
                      <a:pt x="8" y="117"/>
                    </a:lnTo>
                    <a:lnTo>
                      <a:pt x="14" y="103"/>
                    </a:lnTo>
                    <a:lnTo>
                      <a:pt x="18" y="88"/>
                    </a:lnTo>
                    <a:lnTo>
                      <a:pt x="24" y="74"/>
                    </a:lnTo>
                    <a:lnTo>
                      <a:pt x="29" y="59"/>
                    </a:lnTo>
                    <a:lnTo>
                      <a:pt x="35" y="45"/>
                    </a:lnTo>
                    <a:lnTo>
                      <a:pt x="43" y="31"/>
                    </a:lnTo>
                    <a:lnTo>
                      <a:pt x="49" y="16"/>
                    </a:lnTo>
                    <a:lnTo>
                      <a:pt x="53" y="0"/>
                    </a:lnTo>
                    <a:lnTo>
                      <a:pt x="49" y="16"/>
                    </a:lnTo>
                    <a:lnTo>
                      <a:pt x="45" y="31"/>
                    </a:lnTo>
                    <a:lnTo>
                      <a:pt x="43" y="47"/>
                    </a:lnTo>
                    <a:lnTo>
                      <a:pt x="39" y="63"/>
                    </a:lnTo>
                    <a:lnTo>
                      <a:pt x="35" y="77"/>
                    </a:lnTo>
                    <a:lnTo>
                      <a:pt x="31" y="94"/>
                    </a:lnTo>
                    <a:lnTo>
                      <a:pt x="25" y="108"/>
                    </a:lnTo>
                    <a:lnTo>
                      <a:pt x="20" y="122"/>
                    </a:lnTo>
                    <a:lnTo>
                      <a:pt x="12" y="137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85440" y="4397400"/>
                <a:ext cx="24120" cy="79560"/>
              </a:xfrm>
              <a:custGeom>
                <a:avLst/>
                <a:gdLst/>
                <a:ahLst/>
                <a:rect l="l" t="t" r="r" b="b"/>
                <a:pathLst>
                  <a:path w="33" h="101">
                    <a:moveTo>
                      <a:pt x="2" y="101"/>
                    </a:moveTo>
                    <a:lnTo>
                      <a:pt x="0" y="90"/>
                    </a:lnTo>
                    <a:lnTo>
                      <a:pt x="2" y="79"/>
                    </a:lnTo>
                    <a:lnTo>
                      <a:pt x="4" y="70"/>
                    </a:lnTo>
                    <a:lnTo>
                      <a:pt x="8" y="59"/>
                    </a:lnTo>
                    <a:lnTo>
                      <a:pt x="11" y="50"/>
                    </a:lnTo>
                    <a:lnTo>
                      <a:pt x="17" y="41"/>
                    </a:lnTo>
                    <a:lnTo>
                      <a:pt x="21" y="30"/>
                    </a:lnTo>
                    <a:lnTo>
                      <a:pt x="27" y="21"/>
                    </a:lnTo>
                    <a:lnTo>
                      <a:pt x="31" y="11"/>
                    </a:lnTo>
                    <a:lnTo>
                      <a:pt x="33" y="0"/>
                    </a:lnTo>
                    <a:lnTo>
                      <a:pt x="31" y="11"/>
                    </a:lnTo>
                    <a:lnTo>
                      <a:pt x="29" y="21"/>
                    </a:lnTo>
                    <a:lnTo>
                      <a:pt x="25" y="32"/>
                    </a:lnTo>
                    <a:lnTo>
                      <a:pt x="23" y="41"/>
                    </a:lnTo>
                    <a:lnTo>
                      <a:pt x="19" y="52"/>
                    </a:lnTo>
                    <a:lnTo>
                      <a:pt x="15" y="61"/>
                    </a:lnTo>
                    <a:lnTo>
                      <a:pt x="11" y="72"/>
                    </a:lnTo>
                    <a:lnTo>
                      <a:pt x="8" y="81"/>
                    </a:lnTo>
                    <a:lnTo>
                      <a:pt x="6" y="92"/>
                    </a:lnTo>
                    <a:lnTo>
                      <a:pt x="2" y="101"/>
                    </a:lnTo>
                    <a:lnTo>
                      <a:pt x="2" y="101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059880" y="4422960"/>
                <a:ext cx="26640" cy="109440"/>
              </a:xfrm>
              <a:custGeom>
                <a:avLst/>
                <a:gdLst/>
                <a:ahLst/>
                <a:rect l="l" t="t" r="r" b="b"/>
                <a:pathLst>
                  <a:path w="39" h="137">
                    <a:moveTo>
                      <a:pt x="15" y="103"/>
                    </a:moveTo>
                    <a:lnTo>
                      <a:pt x="17" y="103"/>
                    </a:lnTo>
                    <a:lnTo>
                      <a:pt x="19" y="101"/>
                    </a:lnTo>
                    <a:lnTo>
                      <a:pt x="21" y="99"/>
                    </a:lnTo>
                    <a:lnTo>
                      <a:pt x="21" y="99"/>
                    </a:lnTo>
                    <a:lnTo>
                      <a:pt x="23" y="98"/>
                    </a:lnTo>
                    <a:lnTo>
                      <a:pt x="25" y="98"/>
                    </a:lnTo>
                    <a:lnTo>
                      <a:pt x="25" y="96"/>
                    </a:lnTo>
                    <a:lnTo>
                      <a:pt x="27" y="96"/>
                    </a:lnTo>
                    <a:lnTo>
                      <a:pt x="29" y="96"/>
                    </a:lnTo>
                    <a:lnTo>
                      <a:pt x="31" y="96"/>
                    </a:lnTo>
                    <a:lnTo>
                      <a:pt x="31" y="101"/>
                    </a:lnTo>
                    <a:lnTo>
                      <a:pt x="29" y="107"/>
                    </a:lnTo>
                    <a:lnTo>
                      <a:pt x="27" y="110"/>
                    </a:lnTo>
                    <a:lnTo>
                      <a:pt x="23" y="114"/>
                    </a:lnTo>
                    <a:lnTo>
                      <a:pt x="19" y="117"/>
                    </a:lnTo>
                    <a:lnTo>
                      <a:pt x="15" y="121"/>
                    </a:lnTo>
                    <a:lnTo>
                      <a:pt x="10" y="125"/>
                    </a:lnTo>
                    <a:lnTo>
                      <a:pt x="6" y="128"/>
                    </a:lnTo>
                    <a:lnTo>
                      <a:pt x="2" y="132"/>
                    </a:lnTo>
                    <a:lnTo>
                      <a:pt x="0" y="137"/>
                    </a:lnTo>
                    <a:lnTo>
                      <a:pt x="0" y="123"/>
                    </a:lnTo>
                    <a:lnTo>
                      <a:pt x="0" y="108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2" y="65"/>
                    </a:lnTo>
                    <a:lnTo>
                      <a:pt x="6" y="51"/>
                    </a:lnTo>
                    <a:lnTo>
                      <a:pt x="10" y="36"/>
                    </a:lnTo>
                    <a:lnTo>
                      <a:pt x="17" y="24"/>
                    </a:lnTo>
                    <a:lnTo>
                      <a:pt x="27" y="11"/>
                    </a:lnTo>
                    <a:lnTo>
                      <a:pt x="39" y="0"/>
                    </a:lnTo>
                    <a:lnTo>
                      <a:pt x="37" y="9"/>
                    </a:lnTo>
                    <a:lnTo>
                      <a:pt x="35" y="18"/>
                    </a:lnTo>
                    <a:lnTo>
                      <a:pt x="31" y="29"/>
                    </a:lnTo>
                    <a:lnTo>
                      <a:pt x="27" y="40"/>
                    </a:lnTo>
                    <a:lnTo>
                      <a:pt x="21" y="49"/>
                    </a:lnTo>
                    <a:lnTo>
                      <a:pt x="17" y="60"/>
                    </a:lnTo>
                    <a:lnTo>
                      <a:pt x="14" y="71"/>
                    </a:lnTo>
                    <a:lnTo>
                      <a:pt x="14" y="83"/>
                    </a:lnTo>
                    <a:lnTo>
                      <a:pt x="14" y="94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3120" y="4451400"/>
                <a:ext cx="252000" cy="963720"/>
              </a:xfrm>
              <a:custGeom>
                <a:avLst/>
                <a:gdLst/>
                <a:ahLst/>
                <a:rect l="l" t="t" r="r" b="b"/>
                <a:pathLst>
                  <a:path w="353" h="1213">
                    <a:moveTo>
                      <a:pt x="353" y="47"/>
                    </a:moveTo>
                    <a:lnTo>
                      <a:pt x="351" y="76"/>
                    </a:lnTo>
                    <a:lnTo>
                      <a:pt x="347" y="105"/>
                    </a:lnTo>
                    <a:lnTo>
                      <a:pt x="343" y="134"/>
                    </a:lnTo>
                    <a:lnTo>
                      <a:pt x="337" y="164"/>
                    </a:lnTo>
                    <a:lnTo>
                      <a:pt x="333" y="193"/>
                    </a:lnTo>
                    <a:lnTo>
                      <a:pt x="327" y="222"/>
                    </a:lnTo>
                    <a:lnTo>
                      <a:pt x="324" y="251"/>
                    </a:lnTo>
                    <a:lnTo>
                      <a:pt x="318" y="281"/>
                    </a:lnTo>
                    <a:lnTo>
                      <a:pt x="312" y="310"/>
                    </a:lnTo>
                    <a:lnTo>
                      <a:pt x="308" y="339"/>
                    </a:lnTo>
                    <a:lnTo>
                      <a:pt x="289" y="415"/>
                    </a:lnTo>
                    <a:lnTo>
                      <a:pt x="267" y="492"/>
                    </a:lnTo>
                    <a:lnTo>
                      <a:pt x="246" y="568"/>
                    </a:lnTo>
                    <a:lnTo>
                      <a:pt x="225" y="644"/>
                    </a:lnTo>
                    <a:lnTo>
                      <a:pt x="202" y="720"/>
                    </a:lnTo>
                    <a:lnTo>
                      <a:pt x="178" y="793"/>
                    </a:lnTo>
                    <a:lnTo>
                      <a:pt x="155" y="869"/>
                    </a:lnTo>
                    <a:lnTo>
                      <a:pt x="130" y="943"/>
                    </a:lnTo>
                    <a:lnTo>
                      <a:pt x="103" y="1015"/>
                    </a:lnTo>
                    <a:lnTo>
                      <a:pt x="76" y="1089"/>
                    </a:lnTo>
                    <a:lnTo>
                      <a:pt x="74" y="1089"/>
                    </a:lnTo>
                    <a:lnTo>
                      <a:pt x="72" y="1089"/>
                    </a:lnTo>
                    <a:lnTo>
                      <a:pt x="70" y="1087"/>
                    </a:lnTo>
                    <a:lnTo>
                      <a:pt x="68" y="1085"/>
                    </a:lnTo>
                    <a:lnTo>
                      <a:pt x="66" y="1084"/>
                    </a:lnTo>
                    <a:lnTo>
                      <a:pt x="64" y="1084"/>
                    </a:lnTo>
                    <a:lnTo>
                      <a:pt x="60" y="1082"/>
                    </a:lnTo>
                    <a:lnTo>
                      <a:pt x="58" y="1082"/>
                    </a:lnTo>
                    <a:lnTo>
                      <a:pt x="54" y="1084"/>
                    </a:lnTo>
                    <a:lnTo>
                      <a:pt x="52" y="1087"/>
                    </a:lnTo>
                    <a:lnTo>
                      <a:pt x="56" y="1093"/>
                    </a:lnTo>
                    <a:lnTo>
                      <a:pt x="60" y="1098"/>
                    </a:lnTo>
                    <a:lnTo>
                      <a:pt x="60" y="1105"/>
                    </a:lnTo>
                    <a:lnTo>
                      <a:pt x="58" y="1113"/>
                    </a:lnTo>
                    <a:lnTo>
                      <a:pt x="58" y="1120"/>
                    </a:lnTo>
                    <a:lnTo>
                      <a:pt x="58" y="1125"/>
                    </a:lnTo>
                    <a:lnTo>
                      <a:pt x="58" y="1131"/>
                    </a:lnTo>
                    <a:lnTo>
                      <a:pt x="60" y="1134"/>
                    </a:lnTo>
                    <a:lnTo>
                      <a:pt x="66" y="1138"/>
                    </a:lnTo>
                    <a:lnTo>
                      <a:pt x="76" y="1140"/>
                    </a:lnTo>
                    <a:lnTo>
                      <a:pt x="80" y="1147"/>
                    </a:lnTo>
                    <a:lnTo>
                      <a:pt x="82" y="1154"/>
                    </a:lnTo>
                    <a:lnTo>
                      <a:pt x="83" y="1161"/>
                    </a:lnTo>
                    <a:lnTo>
                      <a:pt x="83" y="1168"/>
                    </a:lnTo>
                    <a:lnTo>
                      <a:pt x="82" y="1176"/>
                    </a:lnTo>
                    <a:lnTo>
                      <a:pt x="80" y="1185"/>
                    </a:lnTo>
                    <a:lnTo>
                      <a:pt x="78" y="1192"/>
                    </a:lnTo>
                    <a:lnTo>
                      <a:pt x="76" y="1199"/>
                    </a:lnTo>
                    <a:lnTo>
                      <a:pt x="72" y="1206"/>
                    </a:lnTo>
                    <a:lnTo>
                      <a:pt x="70" y="1213"/>
                    </a:lnTo>
                    <a:lnTo>
                      <a:pt x="49" y="1186"/>
                    </a:lnTo>
                    <a:lnTo>
                      <a:pt x="37" y="1161"/>
                    </a:lnTo>
                    <a:lnTo>
                      <a:pt x="31" y="1134"/>
                    </a:lnTo>
                    <a:lnTo>
                      <a:pt x="33" y="1107"/>
                    </a:lnTo>
                    <a:lnTo>
                      <a:pt x="39" y="1080"/>
                    </a:lnTo>
                    <a:lnTo>
                      <a:pt x="47" y="1053"/>
                    </a:lnTo>
                    <a:lnTo>
                      <a:pt x="58" y="1026"/>
                    </a:lnTo>
                    <a:lnTo>
                      <a:pt x="68" y="999"/>
                    </a:lnTo>
                    <a:lnTo>
                      <a:pt x="78" y="972"/>
                    </a:lnTo>
                    <a:lnTo>
                      <a:pt x="85" y="945"/>
                    </a:lnTo>
                    <a:lnTo>
                      <a:pt x="97" y="909"/>
                    </a:lnTo>
                    <a:lnTo>
                      <a:pt x="109" y="875"/>
                    </a:lnTo>
                    <a:lnTo>
                      <a:pt x="122" y="840"/>
                    </a:lnTo>
                    <a:lnTo>
                      <a:pt x="136" y="808"/>
                    </a:lnTo>
                    <a:lnTo>
                      <a:pt x="149" y="774"/>
                    </a:lnTo>
                    <a:lnTo>
                      <a:pt x="163" y="739"/>
                    </a:lnTo>
                    <a:lnTo>
                      <a:pt x="176" y="705"/>
                    </a:lnTo>
                    <a:lnTo>
                      <a:pt x="188" y="671"/>
                    </a:lnTo>
                    <a:lnTo>
                      <a:pt x="198" y="637"/>
                    </a:lnTo>
                    <a:lnTo>
                      <a:pt x="205" y="602"/>
                    </a:lnTo>
                    <a:lnTo>
                      <a:pt x="194" y="620"/>
                    </a:lnTo>
                    <a:lnTo>
                      <a:pt x="184" y="640"/>
                    </a:lnTo>
                    <a:lnTo>
                      <a:pt x="176" y="660"/>
                    </a:lnTo>
                    <a:lnTo>
                      <a:pt x="169" y="682"/>
                    </a:lnTo>
                    <a:lnTo>
                      <a:pt x="161" y="703"/>
                    </a:lnTo>
                    <a:lnTo>
                      <a:pt x="155" y="725"/>
                    </a:lnTo>
                    <a:lnTo>
                      <a:pt x="147" y="747"/>
                    </a:lnTo>
                    <a:lnTo>
                      <a:pt x="140" y="768"/>
                    </a:lnTo>
                    <a:lnTo>
                      <a:pt x="132" y="788"/>
                    </a:lnTo>
                    <a:lnTo>
                      <a:pt x="124" y="810"/>
                    </a:lnTo>
                    <a:lnTo>
                      <a:pt x="114" y="839"/>
                    </a:lnTo>
                    <a:lnTo>
                      <a:pt x="105" y="866"/>
                    </a:lnTo>
                    <a:lnTo>
                      <a:pt x="91" y="891"/>
                    </a:lnTo>
                    <a:lnTo>
                      <a:pt x="78" y="916"/>
                    </a:lnTo>
                    <a:lnTo>
                      <a:pt x="64" y="939"/>
                    </a:lnTo>
                    <a:lnTo>
                      <a:pt x="51" y="965"/>
                    </a:lnTo>
                    <a:lnTo>
                      <a:pt x="37" y="990"/>
                    </a:lnTo>
                    <a:lnTo>
                      <a:pt x="23" y="1015"/>
                    </a:lnTo>
                    <a:lnTo>
                      <a:pt x="12" y="1040"/>
                    </a:lnTo>
                    <a:lnTo>
                      <a:pt x="0" y="1069"/>
                    </a:lnTo>
                    <a:lnTo>
                      <a:pt x="10" y="1039"/>
                    </a:lnTo>
                    <a:lnTo>
                      <a:pt x="20" y="1006"/>
                    </a:lnTo>
                    <a:lnTo>
                      <a:pt x="31" y="976"/>
                    </a:lnTo>
                    <a:lnTo>
                      <a:pt x="45" y="943"/>
                    </a:lnTo>
                    <a:lnTo>
                      <a:pt x="58" y="912"/>
                    </a:lnTo>
                    <a:lnTo>
                      <a:pt x="72" y="880"/>
                    </a:lnTo>
                    <a:lnTo>
                      <a:pt x="87" y="849"/>
                    </a:lnTo>
                    <a:lnTo>
                      <a:pt x="101" y="817"/>
                    </a:lnTo>
                    <a:lnTo>
                      <a:pt x="114" y="784"/>
                    </a:lnTo>
                    <a:lnTo>
                      <a:pt x="128" y="752"/>
                    </a:lnTo>
                    <a:lnTo>
                      <a:pt x="153" y="696"/>
                    </a:lnTo>
                    <a:lnTo>
                      <a:pt x="174" y="640"/>
                    </a:lnTo>
                    <a:lnTo>
                      <a:pt x="192" y="581"/>
                    </a:lnTo>
                    <a:lnTo>
                      <a:pt x="207" y="521"/>
                    </a:lnTo>
                    <a:lnTo>
                      <a:pt x="221" y="460"/>
                    </a:lnTo>
                    <a:lnTo>
                      <a:pt x="233" y="399"/>
                    </a:lnTo>
                    <a:lnTo>
                      <a:pt x="246" y="337"/>
                    </a:lnTo>
                    <a:lnTo>
                      <a:pt x="258" y="276"/>
                    </a:lnTo>
                    <a:lnTo>
                      <a:pt x="273" y="215"/>
                    </a:lnTo>
                    <a:lnTo>
                      <a:pt x="289" y="155"/>
                    </a:lnTo>
                    <a:lnTo>
                      <a:pt x="295" y="144"/>
                    </a:lnTo>
                    <a:lnTo>
                      <a:pt x="300" y="134"/>
                    </a:lnTo>
                    <a:lnTo>
                      <a:pt x="304" y="123"/>
                    </a:lnTo>
                    <a:lnTo>
                      <a:pt x="308" y="112"/>
                    </a:lnTo>
                    <a:lnTo>
                      <a:pt x="310" y="99"/>
                    </a:lnTo>
                    <a:lnTo>
                      <a:pt x="312" y="87"/>
                    </a:lnTo>
                    <a:lnTo>
                      <a:pt x="314" y="74"/>
                    </a:lnTo>
                    <a:lnTo>
                      <a:pt x="316" y="62"/>
                    </a:lnTo>
                    <a:lnTo>
                      <a:pt x="316" y="49"/>
                    </a:lnTo>
                    <a:lnTo>
                      <a:pt x="318" y="36"/>
                    </a:lnTo>
                    <a:lnTo>
                      <a:pt x="318" y="58"/>
                    </a:lnTo>
                    <a:lnTo>
                      <a:pt x="316" y="78"/>
                    </a:lnTo>
                    <a:lnTo>
                      <a:pt x="312" y="98"/>
                    </a:lnTo>
                    <a:lnTo>
                      <a:pt x="310" y="117"/>
                    </a:lnTo>
                    <a:lnTo>
                      <a:pt x="306" y="137"/>
                    </a:lnTo>
                    <a:lnTo>
                      <a:pt x="304" y="157"/>
                    </a:lnTo>
                    <a:lnTo>
                      <a:pt x="300" y="177"/>
                    </a:lnTo>
                    <a:lnTo>
                      <a:pt x="298" y="197"/>
                    </a:lnTo>
                    <a:lnTo>
                      <a:pt x="296" y="217"/>
                    </a:lnTo>
                    <a:lnTo>
                      <a:pt x="296" y="235"/>
                    </a:lnTo>
                    <a:lnTo>
                      <a:pt x="302" y="211"/>
                    </a:lnTo>
                    <a:lnTo>
                      <a:pt x="306" y="188"/>
                    </a:lnTo>
                    <a:lnTo>
                      <a:pt x="310" y="164"/>
                    </a:lnTo>
                    <a:lnTo>
                      <a:pt x="316" y="141"/>
                    </a:lnTo>
                    <a:lnTo>
                      <a:pt x="320" y="116"/>
                    </a:lnTo>
                    <a:lnTo>
                      <a:pt x="324" y="92"/>
                    </a:lnTo>
                    <a:lnTo>
                      <a:pt x="329" y="69"/>
                    </a:lnTo>
                    <a:lnTo>
                      <a:pt x="335" y="45"/>
                    </a:lnTo>
                    <a:lnTo>
                      <a:pt x="341" y="22"/>
                    </a:lnTo>
                    <a:lnTo>
                      <a:pt x="347" y="0"/>
                    </a:lnTo>
                    <a:lnTo>
                      <a:pt x="349" y="6"/>
                    </a:lnTo>
                    <a:lnTo>
                      <a:pt x="349" y="13"/>
                    </a:lnTo>
                    <a:lnTo>
                      <a:pt x="347" y="18"/>
                    </a:lnTo>
                    <a:lnTo>
                      <a:pt x="345" y="26"/>
                    </a:lnTo>
                    <a:lnTo>
                      <a:pt x="341" y="31"/>
                    </a:lnTo>
                    <a:lnTo>
                      <a:pt x="341" y="36"/>
                    </a:lnTo>
                    <a:lnTo>
                      <a:pt x="339" y="40"/>
                    </a:lnTo>
                    <a:lnTo>
                      <a:pt x="341" y="44"/>
                    </a:lnTo>
                    <a:lnTo>
                      <a:pt x="345" y="47"/>
                    </a:lnTo>
                    <a:lnTo>
                      <a:pt x="353" y="47"/>
                    </a:lnTo>
                    <a:lnTo>
                      <a:pt x="353" y="47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061320" y="4487760"/>
                <a:ext cx="105840" cy="122400"/>
              </a:xfrm>
              <a:custGeom>
                <a:avLst/>
                <a:gdLst/>
                <a:ahLst/>
                <a:rect l="l" t="t" r="r" b="b"/>
                <a:pathLst>
                  <a:path w="147" h="155">
                    <a:moveTo>
                      <a:pt x="66" y="85"/>
                    </a:moveTo>
                    <a:lnTo>
                      <a:pt x="60" y="92"/>
                    </a:lnTo>
                    <a:lnTo>
                      <a:pt x="52" y="99"/>
                    </a:lnTo>
                    <a:lnTo>
                      <a:pt x="46" y="108"/>
                    </a:lnTo>
                    <a:lnTo>
                      <a:pt x="41" y="116"/>
                    </a:lnTo>
                    <a:lnTo>
                      <a:pt x="35" y="125"/>
                    </a:lnTo>
                    <a:lnTo>
                      <a:pt x="29" y="132"/>
                    </a:lnTo>
                    <a:lnTo>
                      <a:pt x="23" y="139"/>
                    </a:lnTo>
                    <a:lnTo>
                      <a:pt x="15" y="146"/>
                    </a:lnTo>
                    <a:lnTo>
                      <a:pt x="10" y="152"/>
                    </a:lnTo>
                    <a:lnTo>
                      <a:pt x="0" y="155"/>
                    </a:lnTo>
                    <a:lnTo>
                      <a:pt x="12" y="139"/>
                    </a:lnTo>
                    <a:lnTo>
                      <a:pt x="25" y="121"/>
                    </a:lnTo>
                    <a:lnTo>
                      <a:pt x="39" y="105"/>
                    </a:lnTo>
                    <a:lnTo>
                      <a:pt x="52" y="90"/>
                    </a:lnTo>
                    <a:lnTo>
                      <a:pt x="68" y="74"/>
                    </a:lnTo>
                    <a:lnTo>
                      <a:pt x="83" y="60"/>
                    </a:lnTo>
                    <a:lnTo>
                      <a:pt x="101" y="45"/>
                    </a:lnTo>
                    <a:lnTo>
                      <a:pt x="116" y="31"/>
                    </a:lnTo>
                    <a:lnTo>
                      <a:pt x="132" y="17"/>
                    </a:lnTo>
                    <a:lnTo>
                      <a:pt x="147" y="0"/>
                    </a:lnTo>
                    <a:lnTo>
                      <a:pt x="143" y="8"/>
                    </a:lnTo>
                    <a:lnTo>
                      <a:pt x="137" y="17"/>
                    </a:lnTo>
                    <a:lnTo>
                      <a:pt x="132" y="24"/>
                    </a:lnTo>
                    <a:lnTo>
                      <a:pt x="122" y="33"/>
                    </a:lnTo>
                    <a:lnTo>
                      <a:pt x="112" y="42"/>
                    </a:lnTo>
                    <a:lnTo>
                      <a:pt x="103" y="51"/>
                    </a:lnTo>
                    <a:lnTo>
                      <a:pt x="93" y="60"/>
                    </a:lnTo>
                    <a:lnTo>
                      <a:pt x="83" y="69"/>
                    </a:lnTo>
                    <a:lnTo>
                      <a:pt x="73" y="78"/>
                    </a:lnTo>
                    <a:lnTo>
                      <a:pt x="66" y="85"/>
                    </a:lnTo>
                    <a:lnTo>
                      <a:pt x="66" y="85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91960" y="4562640"/>
                <a:ext cx="36720" cy="301680"/>
              </a:xfrm>
              <a:custGeom>
                <a:avLst/>
                <a:gdLst/>
                <a:ahLst/>
                <a:rect l="l" t="t" r="r" b="b"/>
                <a:pathLst>
                  <a:path w="52" h="380">
                    <a:moveTo>
                      <a:pt x="1" y="339"/>
                    </a:moveTo>
                    <a:lnTo>
                      <a:pt x="7" y="343"/>
                    </a:lnTo>
                    <a:lnTo>
                      <a:pt x="11" y="346"/>
                    </a:lnTo>
                    <a:lnTo>
                      <a:pt x="13" y="350"/>
                    </a:lnTo>
                    <a:lnTo>
                      <a:pt x="15" y="353"/>
                    </a:lnTo>
                    <a:lnTo>
                      <a:pt x="15" y="359"/>
                    </a:lnTo>
                    <a:lnTo>
                      <a:pt x="15" y="362"/>
                    </a:lnTo>
                    <a:lnTo>
                      <a:pt x="15" y="368"/>
                    </a:lnTo>
                    <a:lnTo>
                      <a:pt x="13" y="371"/>
                    </a:lnTo>
                    <a:lnTo>
                      <a:pt x="11" y="375"/>
                    </a:lnTo>
                    <a:lnTo>
                      <a:pt x="9" y="380"/>
                    </a:lnTo>
                    <a:lnTo>
                      <a:pt x="0" y="379"/>
                    </a:lnTo>
                    <a:lnTo>
                      <a:pt x="1" y="341"/>
                    </a:lnTo>
                    <a:lnTo>
                      <a:pt x="3" y="303"/>
                    </a:lnTo>
                    <a:lnTo>
                      <a:pt x="7" y="267"/>
                    </a:lnTo>
                    <a:lnTo>
                      <a:pt x="13" y="229"/>
                    </a:lnTo>
                    <a:lnTo>
                      <a:pt x="19" y="191"/>
                    </a:lnTo>
                    <a:lnTo>
                      <a:pt x="25" y="153"/>
                    </a:lnTo>
                    <a:lnTo>
                      <a:pt x="31" y="115"/>
                    </a:lnTo>
                    <a:lnTo>
                      <a:pt x="34" y="78"/>
                    </a:lnTo>
                    <a:lnTo>
                      <a:pt x="38" y="40"/>
                    </a:lnTo>
                    <a:lnTo>
                      <a:pt x="42" y="0"/>
                    </a:lnTo>
                    <a:lnTo>
                      <a:pt x="52" y="2"/>
                    </a:lnTo>
                    <a:lnTo>
                      <a:pt x="3" y="339"/>
                    </a:lnTo>
                    <a:lnTo>
                      <a:pt x="3" y="339"/>
                    </a:lnTo>
                    <a:lnTo>
                      <a:pt x="1" y="339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067080" y="4645080"/>
                <a:ext cx="42840" cy="236520"/>
              </a:xfrm>
              <a:custGeom>
                <a:avLst/>
                <a:gdLst/>
                <a:ahLst/>
                <a:rect l="l" t="t" r="r" b="b"/>
                <a:pathLst>
                  <a:path w="60" h="297">
                    <a:moveTo>
                      <a:pt x="58" y="0"/>
                    </a:moveTo>
                    <a:lnTo>
                      <a:pt x="48" y="10"/>
                    </a:lnTo>
                    <a:lnTo>
                      <a:pt x="38" y="19"/>
                    </a:lnTo>
                    <a:lnTo>
                      <a:pt x="33" y="28"/>
                    </a:lnTo>
                    <a:lnTo>
                      <a:pt x="27" y="37"/>
                    </a:lnTo>
                    <a:lnTo>
                      <a:pt x="23" y="47"/>
                    </a:lnTo>
                    <a:lnTo>
                      <a:pt x="23" y="57"/>
                    </a:lnTo>
                    <a:lnTo>
                      <a:pt x="21" y="68"/>
                    </a:lnTo>
                    <a:lnTo>
                      <a:pt x="21" y="79"/>
                    </a:lnTo>
                    <a:lnTo>
                      <a:pt x="21" y="92"/>
                    </a:lnTo>
                    <a:lnTo>
                      <a:pt x="23" y="106"/>
                    </a:lnTo>
                    <a:lnTo>
                      <a:pt x="23" y="126"/>
                    </a:lnTo>
                    <a:lnTo>
                      <a:pt x="25" y="146"/>
                    </a:lnTo>
                    <a:lnTo>
                      <a:pt x="23" y="165"/>
                    </a:lnTo>
                    <a:lnTo>
                      <a:pt x="23" y="185"/>
                    </a:lnTo>
                    <a:lnTo>
                      <a:pt x="21" y="203"/>
                    </a:lnTo>
                    <a:lnTo>
                      <a:pt x="19" y="223"/>
                    </a:lnTo>
                    <a:lnTo>
                      <a:pt x="17" y="241"/>
                    </a:lnTo>
                    <a:lnTo>
                      <a:pt x="17" y="259"/>
                    </a:lnTo>
                    <a:lnTo>
                      <a:pt x="17" y="277"/>
                    </a:lnTo>
                    <a:lnTo>
                      <a:pt x="17" y="297"/>
                    </a:lnTo>
                    <a:lnTo>
                      <a:pt x="5" y="279"/>
                    </a:lnTo>
                    <a:lnTo>
                      <a:pt x="17" y="57"/>
                    </a:lnTo>
                    <a:lnTo>
                      <a:pt x="0" y="57"/>
                    </a:lnTo>
                    <a:lnTo>
                      <a:pt x="4" y="50"/>
                    </a:lnTo>
                    <a:lnTo>
                      <a:pt x="9" y="43"/>
                    </a:lnTo>
                    <a:lnTo>
                      <a:pt x="13" y="37"/>
                    </a:lnTo>
                    <a:lnTo>
                      <a:pt x="19" y="30"/>
                    </a:lnTo>
                    <a:lnTo>
                      <a:pt x="25" y="25"/>
                    </a:lnTo>
                    <a:lnTo>
                      <a:pt x="33" y="18"/>
                    </a:lnTo>
                    <a:lnTo>
                      <a:pt x="38" y="12"/>
                    </a:lnTo>
                    <a:lnTo>
                      <a:pt x="46" y="9"/>
                    </a:lnTo>
                    <a:lnTo>
                      <a:pt x="52" y="3"/>
                    </a:lnTo>
                    <a:lnTo>
                      <a:pt x="60" y="1"/>
                    </a:lnTo>
                    <a:lnTo>
                      <a:pt x="60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942160" y="4643640"/>
                <a:ext cx="60120" cy="268200"/>
              </a:xfrm>
              <a:custGeom>
                <a:avLst/>
                <a:gdLst/>
                <a:ahLst/>
                <a:rect l="l" t="t" r="r" b="b"/>
                <a:pathLst>
                  <a:path w="86" h="339">
                    <a:moveTo>
                      <a:pt x="6" y="339"/>
                    </a:moveTo>
                    <a:lnTo>
                      <a:pt x="0" y="339"/>
                    </a:lnTo>
                    <a:lnTo>
                      <a:pt x="8" y="304"/>
                    </a:lnTo>
                    <a:lnTo>
                      <a:pt x="18" y="272"/>
                    </a:lnTo>
                    <a:lnTo>
                      <a:pt x="27" y="238"/>
                    </a:lnTo>
                    <a:lnTo>
                      <a:pt x="37" y="205"/>
                    </a:lnTo>
                    <a:lnTo>
                      <a:pt x="47" y="171"/>
                    </a:lnTo>
                    <a:lnTo>
                      <a:pt x="57" y="139"/>
                    </a:lnTo>
                    <a:lnTo>
                      <a:pt x="64" y="104"/>
                    </a:lnTo>
                    <a:lnTo>
                      <a:pt x="72" y="70"/>
                    </a:lnTo>
                    <a:lnTo>
                      <a:pt x="80" y="36"/>
                    </a:lnTo>
                    <a:lnTo>
                      <a:pt x="86" y="0"/>
                    </a:lnTo>
                    <a:lnTo>
                      <a:pt x="82" y="36"/>
                    </a:lnTo>
                    <a:lnTo>
                      <a:pt x="76" y="70"/>
                    </a:lnTo>
                    <a:lnTo>
                      <a:pt x="68" y="103"/>
                    </a:lnTo>
                    <a:lnTo>
                      <a:pt x="60" y="137"/>
                    </a:lnTo>
                    <a:lnTo>
                      <a:pt x="53" y="171"/>
                    </a:lnTo>
                    <a:lnTo>
                      <a:pt x="43" y="204"/>
                    </a:lnTo>
                    <a:lnTo>
                      <a:pt x="33" y="238"/>
                    </a:lnTo>
                    <a:lnTo>
                      <a:pt x="24" y="270"/>
                    </a:lnTo>
                    <a:lnTo>
                      <a:pt x="16" y="304"/>
                    </a:lnTo>
                    <a:lnTo>
                      <a:pt x="8" y="339"/>
                    </a:lnTo>
                    <a:lnTo>
                      <a:pt x="8" y="339"/>
                    </a:lnTo>
                    <a:lnTo>
                      <a:pt x="6" y="339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606000" y="4740480"/>
                <a:ext cx="19800" cy="236520"/>
              </a:xfrm>
              <a:custGeom>
                <a:avLst/>
                <a:gdLst/>
                <a:ahLst/>
                <a:rect l="l" t="t" r="r" b="b"/>
                <a:pathLst>
                  <a:path w="27" h="298">
                    <a:moveTo>
                      <a:pt x="0" y="298"/>
                    </a:moveTo>
                    <a:lnTo>
                      <a:pt x="0" y="267"/>
                    </a:lnTo>
                    <a:lnTo>
                      <a:pt x="0" y="237"/>
                    </a:lnTo>
                    <a:lnTo>
                      <a:pt x="2" y="206"/>
                    </a:lnTo>
                    <a:lnTo>
                      <a:pt x="6" y="177"/>
                    </a:lnTo>
                    <a:lnTo>
                      <a:pt x="10" y="148"/>
                    </a:lnTo>
                    <a:lnTo>
                      <a:pt x="13" y="118"/>
                    </a:lnTo>
                    <a:lnTo>
                      <a:pt x="17" y="89"/>
                    </a:lnTo>
                    <a:lnTo>
                      <a:pt x="21" y="60"/>
                    </a:lnTo>
                    <a:lnTo>
                      <a:pt x="25" y="29"/>
                    </a:lnTo>
                    <a:lnTo>
                      <a:pt x="27" y="0"/>
                    </a:lnTo>
                    <a:lnTo>
                      <a:pt x="2" y="298"/>
                    </a:lnTo>
                    <a:lnTo>
                      <a:pt x="2" y="298"/>
                    </a:lnTo>
                    <a:lnTo>
                      <a:pt x="0" y="298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089760" y="4765680"/>
                <a:ext cx="5760" cy="101520"/>
              </a:xfrm>
              <a:custGeom>
                <a:avLst/>
                <a:gdLst/>
                <a:ahLst/>
                <a:rect l="l" t="t" r="r" b="b"/>
                <a:pathLst>
                  <a:path w="7" h="130">
                    <a:moveTo>
                      <a:pt x="5" y="130"/>
                    </a:moveTo>
                    <a:lnTo>
                      <a:pt x="2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2" y="54"/>
                    </a:lnTo>
                    <a:lnTo>
                      <a:pt x="3" y="40"/>
                    </a:lnTo>
                    <a:lnTo>
                      <a:pt x="3" y="27"/>
                    </a:lnTo>
                    <a:lnTo>
                      <a:pt x="5" y="13"/>
                    </a:lnTo>
                    <a:lnTo>
                      <a:pt x="5" y="0"/>
                    </a:lnTo>
                    <a:lnTo>
                      <a:pt x="7" y="13"/>
                    </a:lnTo>
                    <a:lnTo>
                      <a:pt x="7" y="25"/>
                    </a:lnTo>
                    <a:lnTo>
                      <a:pt x="7" y="40"/>
                    </a:lnTo>
                    <a:lnTo>
                      <a:pt x="5" y="52"/>
                    </a:lnTo>
                    <a:lnTo>
                      <a:pt x="5" y="65"/>
                    </a:lnTo>
                    <a:lnTo>
                      <a:pt x="3" y="78"/>
                    </a:lnTo>
                    <a:lnTo>
                      <a:pt x="3" y="92"/>
                    </a:lnTo>
                    <a:lnTo>
                      <a:pt x="3" y="105"/>
                    </a:lnTo>
                    <a:lnTo>
                      <a:pt x="3" y="117"/>
                    </a:lnTo>
                    <a:lnTo>
                      <a:pt x="5" y="130"/>
                    </a:lnTo>
                    <a:lnTo>
                      <a:pt x="5" y="130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37680" y="4892760"/>
                <a:ext cx="18360" cy="285840"/>
              </a:xfrm>
              <a:custGeom>
                <a:avLst/>
                <a:gdLst/>
                <a:ahLst/>
                <a:rect l="l" t="t" r="r" b="b"/>
                <a:pathLst>
                  <a:path w="28" h="361">
                    <a:moveTo>
                      <a:pt x="4" y="361"/>
                    </a:moveTo>
                    <a:lnTo>
                      <a:pt x="6" y="345"/>
                    </a:lnTo>
                    <a:lnTo>
                      <a:pt x="6" y="327"/>
                    </a:lnTo>
                    <a:lnTo>
                      <a:pt x="6" y="309"/>
                    </a:lnTo>
                    <a:lnTo>
                      <a:pt x="4" y="291"/>
                    </a:lnTo>
                    <a:lnTo>
                      <a:pt x="2" y="273"/>
                    </a:lnTo>
                    <a:lnTo>
                      <a:pt x="0" y="255"/>
                    </a:lnTo>
                    <a:lnTo>
                      <a:pt x="0" y="238"/>
                    </a:lnTo>
                    <a:lnTo>
                      <a:pt x="0" y="220"/>
                    </a:lnTo>
                    <a:lnTo>
                      <a:pt x="0" y="202"/>
                    </a:lnTo>
                    <a:lnTo>
                      <a:pt x="4" y="184"/>
                    </a:lnTo>
                    <a:lnTo>
                      <a:pt x="6" y="166"/>
                    </a:lnTo>
                    <a:lnTo>
                      <a:pt x="6" y="148"/>
                    </a:lnTo>
                    <a:lnTo>
                      <a:pt x="8" y="130"/>
                    </a:lnTo>
                    <a:lnTo>
                      <a:pt x="8" y="110"/>
                    </a:lnTo>
                    <a:lnTo>
                      <a:pt x="10" y="92"/>
                    </a:lnTo>
                    <a:lnTo>
                      <a:pt x="12" y="73"/>
                    </a:lnTo>
                    <a:lnTo>
                      <a:pt x="14" y="53"/>
                    </a:lnTo>
                    <a:lnTo>
                      <a:pt x="18" y="35"/>
                    </a:lnTo>
                    <a:lnTo>
                      <a:pt x="22" y="17"/>
                    </a:lnTo>
                    <a:lnTo>
                      <a:pt x="28" y="0"/>
                    </a:lnTo>
                    <a:lnTo>
                      <a:pt x="22" y="33"/>
                    </a:lnTo>
                    <a:lnTo>
                      <a:pt x="18" y="69"/>
                    </a:lnTo>
                    <a:lnTo>
                      <a:pt x="18" y="105"/>
                    </a:lnTo>
                    <a:lnTo>
                      <a:pt x="20" y="141"/>
                    </a:lnTo>
                    <a:lnTo>
                      <a:pt x="22" y="177"/>
                    </a:lnTo>
                    <a:lnTo>
                      <a:pt x="24" y="215"/>
                    </a:lnTo>
                    <a:lnTo>
                      <a:pt x="24" y="251"/>
                    </a:lnTo>
                    <a:lnTo>
                      <a:pt x="22" y="289"/>
                    </a:lnTo>
                    <a:lnTo>
                      <a:pt x="16" y="325"/>
                    </a:lnTo>
                    <a:lnTo>
                      <a:pt x="6" y="361"/>
                    </a:lnTo>
                    <a:lnTo>
                      <a:pt x="6" y="361"/>
                    </a:lnTo>
                    <a:lnTo>
                      <a:pt x="4" y="361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844600" y="4919760"/>
                <a:ext cx="114480" cy="363600"/>
              </a:xfrm>
              <a:custGeom>
                <a:avLst/>
                <a:gdLst/>
                <a:ahLst/>
                <a:rect l="l" t="t" r="r" b="b"/>
                <a:pathLst>
                  <a:path w="161" h="458">
                    <a:moveTo>
                      <a:pt x="161" y="0"/>
                    </a:moveTo>
                    <a:lnTo>
                      <a:pt x="141" y="45"/>
                    </a:lnTo>
                    <a:lnTo>
                      <a:pt x="124" y="90"/>
                    </a:lnTo>
                    <a:lnTo>
                      <a:pt x="108" y="135"/>
                    </a:lnTo>
                    <a:lnTo>
                      <a:pt x="93" y="182"/>
                    </a:lnTo>
                    <a:lnTo>
                      <a:pt x="77" y="229"/>
                    </a:lnTo>
                    <a:lnTo>
                      <a:pt x="64" y="274"/>
                    </a:lnTo>
                    <a:lnTo>
                      <a:pt x="48" y="321"/>
                    </a:lnTo>
                    <a:lnTo>
                      <a:pt x="33" y="367"/>
                    </a:lnTo>
                    <a:lnTo>
                      <a:pt x="17" y="413"/>
                    </a:lnTo>
                    <a:lnTo>
                      <a:pt x="0" y="458"/>
                    </a:lnTo>
                    <a:lnTo>
                      <a:pt x="13" y="414"/>
                    </a:lnTo>
                    <a:lnTo>
                      <a:pt x="27" y="369"/>
                    </a:lnTo>
                    <a:lnTo>
                      <a:pt x="42" y="322"/>
                    </a:lnTo>
                    <a:lnTo>
                      <a:pt x="56" y="277"/>
                    </a:lnTo>
                    <a:lnTo>
                      <a:pt x="71" y="230"/>
                    </a:lnTo>
                    <a:lnTo>
                      <a:pt x="87" y="185"/>
                    </a:lnTo>
                    <a:lnTo>
                      <a:pt x="104" y="139"/>
                    </a:lnTo>
                    <a:lnTo>
                      <a:pt x="120" y="92"/>
                    </a:lnTo>
                    <a:lnTo>
                      <a:pt x="135" y="47"/>
                    </a:lnTo>
                    <a:lnTo>
                      <a:pt x="151" y="0"/>
                    </a:lnTo>
                    <a:lnTo>
                      <a:pt x="161" y="2"/>
                    </a:lnTo>
                    <a:lnTo>
                      <a:pt x="161" y="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942160" y="4957920"/>
                <a:ext cx="56880" cy="191880"/>
              </a:xfrm>
              <a:custGeom>
                <a:avLst/>
                <a:gdLst/>
                <a:ahLst/>
                <a:rect l="l" t="t" r="r" b="b"/>
                <a:pathLst>
                  <a:path w="82" h="242">
                    <a:moveTo>
                      <a:pt x="0" y="242"/>
                    </a:moveTo>
                    <a:lnTo>
                      <a:pt x="4" y="217"/>
                    </a:lnTo>
                    <a:lnTo>
                      <a:pt x="10" y="193"/>
                    </a:lnTo>
                    <a:lnTo>
                      <a:pt x="18" y="168"/>
                    </a:lnTo>
                    <a:lnTo>
                      <a:pt x="27" y="145"/>
                    </a:lnTo>
                    <a:lnTo>
                      <a:pt x="37" y="121"/>
                    </a:lnTo>
                    <a:lnTo>
                      <a:pt x="47" y="98"/>
                    </a:lnTo>
                    <a:lnTo>
                      <a:pt x="57" y="73"/>
                    </a:lnTo>
                    <a:lnTo>
                      <a:pt x="66" y="49"/>
                    </a:lnTo>
                    <a:lnTo>
                      <a:pt x="76" y="24"/>
                    </a:lnTo>
                    <a:lnTo>
                      <a:pt x="82" y="0"/>
                    </a:lnTo>
                    <a:lnTo>
                      <a:pt x="74" y="24"/>
                    </a:lnTo>
                    <a:lnTo>
                      <a:pt x="64" y="49"/>
                    </a:lnTo>
                    <a:lnTo>
                      <a:pt x="57" y="73"/>
                    </a:lnTo>
                    <a:lnTo>
                      <a:pt x="49" y="98"/>
                    </a:lnTo>
                    <a:lnTo>
                      <a:pt x="39" y="123"/>
                    </a:lnTo>
                    <a:lnTo>
                      <a:pt x="31" y="146"/>
                    </a:lnTo>
                    <a:lnTo>
                      <a:pt x="24" y="172"/>
                    </a:lnTo>
                    <a:lnTo>
                      <a:pt x="16" y="195"/>
                    </a:lnTo>
                    <a:lnTo>
                      <a:pt x="8" y="219"/>
                    </a:lnTo>
                    <a:lnTo>
                      <a:pt x="0" y="242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083360" y="5111640"/>
                <a:ext cx="23040" cy="174960"/>
              </a:xfrm>
              <a:custGeom>
                <a:avLst/>
                <a:gdLst/>
                <a:ahLst/>
                <a:rect l="l" t="t" r="r" b="b"/>
                <a:pathLst>
                  <a:path w="31" h="220">
                    <a:moveTo>
                      <a:pt x="31" y="218"/>
                    </a:moveTo>
                    <a:lnTo>
                      <a:pt x="29" y="200"/>
                    </a:lnTo>
                    <a:lnTo>
                      <a:pt x="25" y="181"/>
                    </a:lnTo>
                    <a:lnTo>
                      <a:pt x="21" y="159"/>
                    </a:lnTo>
                    <a:lnTo>
                      <a:pt x="15" y="137"/>
                    </a:lnTo>
                    <a:lnTo>
                      <a:pt x="10" y="116"/>
                    </a:lnTo>
                    <a:lnTo>
                      <a:pt x="6" y="92"/>
                    </a:lnTo>
                    <a:lnTo>
                      <a:pt x="2" y="69"/>
                    </a:lnTo>
                    <a:lnTo>
                      <a:pt x="0" y="45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8" y="22"/>
                    </a:lnTo>
                    <a:lnTo>
                      <a:pt x="12" y="44"/>
                    </a:lnTo>
                    <a:lnTo>
                      <a:pt x="13" y="65"/>
                    </a:lnTo>
                    <a:lnTo>
                      <a:pt x="15" y="87"/>
                    </a:lnTo>
                    <a:lnTo>
                      <a:pt x="17" y="110"/>
                    </a:lnTo>
                    <a:lnTo>
                      <a:pt x="17" y="132"/>
                    </a:lnTo>
                    <a:lnTo>
                      <a:pt x="19" y="155"/>
                    </a:lnTo>
                    <a:lnTo>
                      <a:pt x="21" y="177"/>
                    </a:lnTo>
                    <a:lnTo>
                      <a:pt x="25" y="199"/>
                    </a:lnTo>
                    <a:lnTo>
                      <a:pt x="31" y="220"/>
                    </a:lnTo>
                    <a:lnTo>
                      <a:pt x="31" y="220"/>
                    </a:lnTo>
                    <a:lnTo>
                      <a:pt x="31" y="218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799960" y="5267520"/>
                <a:ext cx="19800" cy="48960"/>
              </a:xfrm>
              <a:custGeom>
                <a:avLst/>
                <a:gdLst/>
                <a:ahLst/>
                <a:rect l="l" t="t" r="r" b="b"/>
                <a:pathLst>
                  <a:path w="27" h="63">
                    <a:moveTo>
                      <a:pt x="27" y="0"/>
                    </a:moveTo>
                    <a:lnTo>
                      <a:pt x="0" y="63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57560" y="5321520"/>
                <a:ext cx="6840" cy="2844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6" y="36"/>
                    </a:moveTo>
                    <a:lnTo>
                      <a:pt x="4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2" y="13"/>
                    </a:lnTo>
                    <a:lnTo>
                      <a:pt x="4" y="9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10" y="8"/>
                    </a:lnTo>
                    <a:lnTo>
                      <a:pt x="12" y="9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2" y="22"/>
                    </a:lnTo>
                    <a:lnTo>
                      <a:pt x="10" y="26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91680" y="5329440"/>
                <a:ext cx="46800" cy="110880"/>
              </a:xfrm>
              <a:custGeom>
                <a:avLst/>
                <a:gdLst/>
                <a:ahLst/>
                <a:rect l="l" t="t" r="r" b="b"/>
                <a:pathLst>
                  <a:path w="66" h="141">
                    <a:moveTo>
                      <a:pt x="64" y="141"/>
                    </a:moveTo>
                    <a:lnTo>
                      <a:pt x="56" y="132"/>
                    </a:lnTo>
                    <a:lnTo>
                      <a:pt x="47" y="119"/>
                    </a:lnTo>
                    <a:lnTo>
                      <a:pt x="39" y="107"/>
                    </a:lnTo>
                    <a:lnTo>
                      <a:pt x="29" y="92"/>
                    </a:lnTo>
                    <a:lnTo>
                      <a:pt x="22" y="76"/>
                    </a:lnTo>
                    <a:lnTo>
                      <a:pt x="14" y="62"/>
                    </a:lnTo>
                    <a:lnTo>
                      <a:pt x="8" y="45"/>
                    </a:lnTo>
                    <a:lnTo>
                      <a:pt x="4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66" y="141"/>
                    </a:lnTo>
                    <a:lnTo>
                      <a:pt x="66" y="141"/>
                    </a:lnTo>
                    <a:lnTo>
                      <a:pt x="64" y="141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73400" y="5342040"/>
                <a:ext cx="25920" cy="85680"/>
              </a:xfrm>
              <a:custGeom>
                <a:avLst/>
                <a:gdLst/>
                <a:ahLst/>
                <a:rect l="l" t="t" r="r" b="b"/>
                <a:pathLst>
                  <a:path w="34" h="108">
                    <a:moveTo>
                      <a:pt x="11" y="106"/>
                    </a:moveTo>
                    <a:lnTo>
                      <a:pt x="5" y="97"/>
                    </a:lnTo>
                    <a:lnTo>
                      <a:pt x="1" y="88"/>
                    </a:lnTo>
                    <a:lnTo>
                      <a:pt x="0" y="77"/>
                    </a:lnTo>
                    <a:lnTo>
                      <a:pt x="1" y="64"/>
                    </a:lnTo>
                    <a:lnTo>
                      <a:pt x="3" y="54"/>
                    </a:lnTo>
                    <a:lnTo>
                      <a:pt x="7" y="43"/>
                    </a:lnTo>
                    <a:lnTo>
                      <a:pt x="11" y="32"/>
                    </a:lnTo>
                    <a:lnTo>
                      <a:pt x="17" y="21"/>
                    </a:lnTo>
                    <a:lnTo>
                      <a:pt x="21" y="12"/>
                    </a:lnTo>
                    <a:lnTo>
                      <a:pt x="23" y="5"/>
                    </a:lnTo>
                    <a:lnTo>
                      <a:pt x="34" y="0"/>
                    </a:lnTo>
                    <a:lnTo>
                      <a:pt x="32" y="12"/>
                    </a:lnTo>
                    <a:lnTo>
                      <a:pt x="29" y="23"/>
                    </a:lnTo>
                    <a:lnTo>
                      <a:pt x="27" y="36"/>
                    </a:lnTo>
                    <a:lnTo>
                      <a:pt x="23" y="48"/>
                    </a:lnTo>
                    <a:lnTo>
                      <a:pt x="19" y="59"/>
                    </a:lnTo>
                    <a:lnTo>
                      <a:pt x="15" y="70"/>
                    </a:lnTo>
                    <a:lnTo>
                      <a:pt x="13" y="81"/>
                    </a:lnTo>
                    <a:lnTo>
                      <a:pt x="11" y="91"/>
                    </a:lnTo>
                    <a:lnTo>
                      <a:pt x="11" y="99"/>
                    </a:lnTo>
                    <a:lnTo>
                      <a:pt x="11" y="108"/>
                    </a:lnTo>
                    <a:lnTo>
                      <a:pt x="11" y="108"/>
                    </a:lnTo>
                    <a:lnTo>
                      <a:pt x="11" y="106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778720" y="5364360"/>
                <a:ext cx="21240" cy="39600"/>
              </a:xfrm>
              <a:custGeom>
                <a:avLst/>
                <a:gdLst/>
                <a:ahLst/>
                <a:rect l="l" t="t" r="r" b="b"/>
                <a:pathLst>
                  <a:path w="29" h="49">
                    <a:moveTo>
                      <a:pt x="29" y="49"/>
                    </a:moveTo>
                    <a:lnTo>
                      <a:pt x="25" y="49"/>
                    </a:lnTo>
                    <a:lnTo>
                      <a:pt x="21" y="45"/>
                    </a:lnTo>
                    <a:lnTo>
                      <a:pt x="17" y="42"/>
                    </a:lnTo>
                    <a:lnTo>
                      <a:pt x="13" y="38"/>
                    </a:lnTo>
                    <a:lnTo>
                      <a:pt x="11" y="31"/>
                    </a:lnTo>
                    <a:lnTo>
                      <a:pt x="8" y="26"/>
                    </a:lnTo>
                    <a:lnTo>
                      <a:pt x="6" y="20"/>
                    </a:lnTo>
                    <a:lnTo>
                      <a:pt x="4" y="13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29" y="49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4760" y="5432400"/>
                <a:ext cx="8280" cy="4464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4" y="56"/>
                    </a:moveTo>
                    <a:lnTo>
                      <a:pt x="2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4" y="5"/>
                    </a:lnTo>
                    <a:lnTo>
                      <a:pt x="6" y="11"/>
                    </a:lnTo>
                    <a:lnTo>
                      <a:pt x="8" y="16"/>
                    </a:lnTo>
                    <a:lnTo>
                      <a:pt x="8" y="22"/>
                    </a:lnTo>
                    <a:lnTo>
                      <a:pt x="10" y="29"/>
                    </a:lnTo>
                    <a:lnTo>
                      <a:pt x="12" y="34"/>
                    </a:lnTo>
                    <a:lnTo>
                      <a:pt x="12" y="40"/>
                    </a:lnTo>
                    <a:lnTo>
                      <a:pt x="10" y="45"/>
                    </a:lnTo>
                    <a:lnTo>
                      <a:pt x="8" y="50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4" y="56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90680" y="544536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0" y="0"/>
                    </a:moveTo>
                    <a:lnTo>
                      <a:pt x="4" y="0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97520" y="547704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8" y="38"/>
                    </a:moveTo>
                    <a:lnTo>
                      <a:pt x="6" y="36"/>
                    </a:lnTo>
                    <a:lnTo>
                      <a:pt x="4" y="32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4" y="5"/>
                    </a:lnTo>
                    <a:lnTo>
                      <a:pt x="14" y="11"/>
                    </a:lnTo>
                    <a:lnTo>
                      <a:pt x="16" y="14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14" y="27"/>
                    </a:lnTo>
                    <a:lnTo>
                      <a:pt x="14" y="32"/>
                    </a:lnTo>
                    <a:lnTo>
                      <a:pt x="12" y="36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8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76280" y="5477040"/>
                <a:ext cx="5760" cy="3024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2" y="0"/>
                    </a:moveTo>
                    <a:lnTo>
                      <a:pt x="8" y="2"/>
                    </a:lnTo>
                    <a:lnTo>
                      <a:pt x="4" y="38"/>
                    </a:lnTo>
                    <a:lnTo>
                      <a:pt x="0" y="3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54680" y="550728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2" y="0"/>
                    </a:moveTo>
                    <a:lnTo>
                      <a:pt x="8" y="1"/>
                    </a:lnTo>
                    <a:lnTo>
                      <a:pt x="6" y="23"/>
                    </a:lnTo>
                    <a:lnTo>
                      <a:pt x="0" y="2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910840" y="5511960"/>
                <a:ext cx="5760" cy="31680"/>
              </a:xfrm>
              <a:custGeom>
                <a:avLst/>
                <a:gdLst/>
                <a:ahLst/>
                <a:rect l="l" t="t" r="r" b="b"/>
                <a:pathLst>
                  <a:path w="8" h="40">
                    <a:moveTo>
                      <a:pt x="2" y="0"/>
                    </a:moveTo>
                    <a:lnTo>
                      <a:pt x="8" y="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86360" y="5513400"/>
                <a:ext cx="6840" cy="3168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0"/>
                    </a:moveTo>
                    <a:lnTo>
                      <a:pt x="0" y="0"/>
                    </a:lnTo>
                    <a:lnTo>
                      <a:pt x="10" y="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60440" y="5526000"/>
                <a:ext cx="3960" cy="32040"/>
              </a:xfrm>
              <a:custGeom>
                <a:avLst/>
                <a:gdLst/>
                <a:ahLst/>
                <a:rect l="l" t="t" r="r" b="b"/>
                <a:pathLst>
                  <a:path w="8" h="40">
                    <a:moveTo>
                      <a:pt x="8" y="0"/>
                    </a:moveTo>
                    <a:lnTo>
                      <a:pt x="0" y="4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919120" y="554508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20" h="59">
                    <a:moveTo>
                      <a:pt x="20" y="59"/>
                    </a:moveTo>
                    <a:lnTo>
                      <a:pt x="14" y="55"/>
                    </a:lnTo>
                    <a:lnTo>
                      <a:pt x="8" y="52"/>
                    </a:lnTo>
                    <a:lnTo>
                      <a:pt x="4" y="46"/>
                    </a:lnTo>
                    <a:lnTo>
                      <a:pt x="2" y="3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2" y="19"/>
                    </a:lnTo>
                    <a:lnTo>
                      <a:pt x="2" y="12"/>
                    </a:lnTo>
                    <a:lnTo>
                      <a:pt x="4" y="5"/>
                    </a:lnTo>
                    <a:lnTo>
                      <a:pt x="8" y="0"/>
                    </a:lnTo>
                    <a:lnTo>
                      <a:pt x="10" y="5"/>
                    </a:lnTo>
                    <a:lnTo>
                      <a:pt x="12" y="10"/>
                    </a:lnTo>
                    <a:lnTo>
                      <a:pt x="14" y="18"/>
                    </a:lnTo>
                    <a:lnTo>
                      <a:pt x="16" y="23"/>
                    </a:lnTo>
                    <a:lnTo>
                      <a:pt x="18" y="28"/>
                    </a:lnTo>
                    <a:lnTo>
                      <a:pt x="18" y="36"/>
                    </a:lnTo>
                    <a:lnTo>
                      <a:pt x="18" y="41"/>
                    </a:lnTo>
                    <a:lnTo>
                      <a:pt x="20" y="48"/>
                    </a:lnTo>
                    <a:lnTo>
                      <a:pt x="20" y="54"/>
                    </a:lnTo>
                    <a:lnTo>
                      <a:pt x="20" y="59"/>
                    </a:lnTo>
                    <a:lnTo>
                      <a:pt x="20" y="59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97520" y="555300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6" y="15"/>
                    </a:moveTo>
                    <a:lnTo>
                      <a:pt x="2" y="2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69080" y="5553000"/>
                <a:ext cx="9720" cy="2700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6" y="35"/>
                    </a:moveTo>
                    <a:lnTo>
                      <a:pt x="2" y="33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2" y="20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7" y="6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9" y="9"/>
                    </a:lnTo>
                    <a:lnTo>
                      <a:pt x="11" y="13"/>
                    </a:lnTo>
                    <a:lnTo>
                      <a:pt x="13" y="17"/>
                    </a:lnTo>
                    <a:lnTo>
                      <a:pt x="13" y="20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3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934960" y="5607000"/>
                <a:ext cx="16920" cy="5256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25" y="3"/>
                    </a:moveTo>
                    <a:lnTo>
                      <a:pt x="7" y="65"/>
                    </a:lnTo>
                    <a:lnTo>
                      <a:pt x="4" y="61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2" y="38"/>
                    </a:lnTo>
                    <a:lnTo>
                      <a:pt x="4" y="29"/>
                    </a:lnTo>
                    <a:lnTo>
                      <a:pt x="7" y="21"/>
                    </a:lnTo>
                    <a:lnTo>
                      <a:pt x="9" y="14"/>
                    </a:lnTo>
                    <a:lnTo>
                      <a:pt x="11" y="7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09400" y="562140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1" y="16"/>
                    </a:moveTo>
                    <a:lnTo>
                      <a:pt x="0" y="3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7" y="7"/>
                    </a:lnTo>
                    <a:lnTo>
                      <a:pt x="19" y="9"/>
                    </a:lnTo>
                    <a:lnTo>
                      <a:pt x="17" y="12"/>
                    </a:lnTo>
                    <a:lnTo>
                      <a:pt x="15" y="14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2bf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627600" y="581508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2" y="0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300360" y="5819760"/>
                <a:ext cx="326880" cy="919080"/>
              </a:xfrm>
              <a:custGeom>
                <a:avLst/>
                <a:gdLst/>
                <a:ahLst/>
                <a:rect l="l" t="t" r="r" b="b"/>
                <a:pathLst>
                  <a:path w="455" h="1159">
                    <a:moveTo>
                      <a:pt x="252" y="193"/>
                    </a:moveTo>
                    <a:lnTo>
                      <a:pt x="259" y="198"/>
                    </a:lnTo>
                    <a:lnTo>
                      <a:pt x="414" y="47"/>
                    </a:lnTo>
                    <a:lnTo>
                      <a:pt x="412" y="83"/>
                    </a:lnTo>
                    <a:lnTo>
                      <a:pt x="406" y="117"/>
                    </a:lnTo>
                    <a:lnTo>
                      <a:pt x="403" y="151"/>
                    </a:lnTo>
                    <a:lnTo>
                      <a:pt x="397" y="185"/>
                    </a:lnTo>
                    <a:lnTo>
                      <a:pt x="391" y="220"/>
                    </a:lnTo>
                    <a:lnTo>
                      <a:pt x="385" y="254"/>
                    </a:lnTo>
                    <a:lnTo>
                      <a:pt x="381" y="288"/>
                    </a:lnTo>
                    <a:lnTo>
                      <a:pt x="379" y="322"/>
                    </a:lnTo>
                    <a:lnTo>
                      <a:pt x="379" y="357"/>
                    </a:lnTo>
                    <a:lnTo>
                      <a:pt x="383" y="393"/>
                    </a:lnTo>
                    <a:lnTo>
                      <a:pt x="377" y="400"/>
                    </a:lnTo>
                    <a:lnTo>
                      <a:pt x="372" y="407"/>
                    </a:lnTo>
                    <a:lnTo>
                      <a:pt x="368" y="416"/>
                    </a:lnTo>
                    <a:lnTo>
                      <a:pt x="364" y="425"/>
                    </a:lnTo>
                    <a:lnTo>
                      <a:pt x="362" y="434"/>
                    </a:lnTo>
                    <a:lnTo>
                      <a:pt x="360" y="445"/>
                    </a:lnTo>
                    <a:lnTo>
                      <a:pt x="358" y="454"/>
                    </a:lnTo>
                    <a:lnTo>
                      <a:pt x="358" y="465"/>
                    </a:lnTo>
                    <a:lnTo>
                      <a:pt x="358" y="476"/>
                    </a:lnTo>
                    <a:lnTo>
                      <a:pt x="358" y="486"/>
                    </a:lnTo>
                    <a:lnTo>
                      <a:pt x="364" y="490"/>
                    </a:lnTo>
                    <a:lnTo>
                      <a:pt x="370" y="495"/>
                    </a:lnTo>
                    <a:lnTo>
                      <a:pt x="374" y="503"/>
                    </a:lnTo>
                    <a:lnTo>
                      <a:pt x="376" y="510"/>
                    </a:lnTo>
                    <a:lnTo>
                      <a:pt x="377" y="519"/>
                    </a:lnTo>
                    <a:lnTo>
                      <a:pt x="377" y="528"/>
                    </a:lnTo>
                    <a:lnTo>
                      <a:pt x="377" y="537"/>
                    </a:lnTo>
                    <a:lnTo>
                      <a:pt x="376" y="544"/>
                    </a:lnTo>
                    <a:lnTo>
                      <a:pt x="374" y="553"/>
                    </a:lnTo>
                    <a:lnTo>
                      <a:pt x="372" y="560"/>
                    </a:lnTo>
                    <a:lnTo>
                      <a:pt x="364" y="567"/>
                    </a:lnTo>
                    <a:lnTo>
                      <a:pt x="356" y="573"/>
                    </a:lnTo>
                    <a:lnTo>
                      <a:pt x="352" y="580"/>
                    </a:lnTo>
                    <a:lnTo>
                      <a:pt x="346" y="587"/>
                    </a:lnTo>
                    <a:lnTo>
                      <a:pt x="343" y="595"/>
                    </a:lnTo>
                    <a:lnTo>
                      <a:pt x="341" y="602"/>
                    </a:lnTo>
                    <a:lnTo>
                      <a:pt x="337" y="609"/>
                    </a:lnTo>
                    <a:lnTo>
                      <a:pt x="333" y="618"/>
                    </a:lnTo>
                    <a:lnTo>
                      <a:pt x="331" y="625"/>
                    </a:lnTo>
                    <a:lnTo>
                      <a:pt x="327" y="632"/>
                    </a:lnTo>
                    <a:lnTo>
                      <a:pt x="325" y="614"/>
                    </a:lnTo>
                    <a:lnTo>
                      <a:pt x="319" y="620"/>
                    </a:lnTo>
                    <a:lnTo>
                      <a:pt x="314" y="625"/>
                    </a:lnTo>
                    <a:lnTo>
                      <a:pt x="308" y="631"/>
                    </a:lnTo>
                    <a:lnTo>
                      <a:pt x="302" y="638"/>
                    </a:lnTo>
                    <a:lnTo>
                      <a:pt x="296" y="643"/>
                    </a:lnTo>
                    <a:lnTo>
                      <a:pt x="292" y="650"/>
                    </a:lnTo>
                    <a:lnTo>
                      <a:pt x="286" y="658"/>
                    </a:lnTo>
                    <a:lnTo>
                      <a:pt x="283" y="667"/>
                    </a:lnTo>
                    <a:lnTo>
                      <a:pt x="279" y="674"/>
                    </a:lnTo>
                    <a:lnTo>
                      <a:pt x="277" y="681"/>
                    </a:lnTo>
                    <a:lnTo>
                      <a:pt x="271" y="681"/>
                    </a:lnTo>
                    <a:lnTo>
                      <a:pt x="265" y="681"/>
                    </a:lnTo>
                    <a:lnTo>
                      <a:pt x="259" y="683"/>
                    </a:lnTo>
                    <a:lnTo>
                      <a:pt x="255" y="685"/>
                    </a:lnTo>
                    <a:lnTo>
                      <a:pt x="252" y="688"/>
                    </a:lnTo>
                    <a:lnTo>
                      <a:pt x="248" y="690"/>
                    </a:lnTo>
                    <a:lnTo>
                      <a:pt x="244" y="692"/>
                    </a:lnTo>
                    <a:lnTo>
                      <a:pt x="238" y="694"/>
                    </a:lnTo>
                    <a:lnTo>
                      <a:pt x="232" y="695"/>
                    </a:lnTo>
                    <a:lnTo>
                      <a:pt x="224" y="694"/>
                    </a:lnTo>
                    <a:lnTo>
                      <a:pt x="219" y="695"/>
                    </a:lnTo>
                    <a:lnTo>
                      <a:pt x="215" y="694"/>
                    </a:lnTo>
                    <a:lnTo>
                      <a:pt x="211" y="694"/>
                    </a:lnTo>
                    <a:lnTo>
                      <a:pt x="205" y="694"/>
                    </a:lnTo>
                    <a:lnTo>
                      <a:pt x="203" y="692"/>
                    </a:lnTo>
                    <a:lnTo>
                      <a:pt x="199" y="692"/>
                    </a:lnTo>
                    <a:lnTo>
                      <a:pt x="195" y="694"/>
                    </a:lnTo>
                    <a:lnTo>
                      <a:pt x="194" y="694"/>
                    </a:lnTo>
                    <a:lnTo>
                      <a:pt x="190" y="697"/>
                    </a:lnTo>
                    <a:lnTo>
                      <a:pt x="188" y="701"/>
                    </a:lnTo>
                    <a:lnTo>
                      <a:pt x="188" y="714"/>
                    </a:lnTo>
                    <a:lnTo>
                      <a:pt x="195" y="717"/>
                    </a:lnTo>
                    <a:lnTo>
                      <a:pt x="205" y="719"/>
                    </a:lnTo>
                    <a:lnTo>
                      <a:pt x="217" y="721"/>
                    </a:lnTo>
                    <a:lnTo>
                      <a:pt x="226" y="719"/>
                    </a:lnTo>
                    <a:lnTo>
                      <a:pt x="238" y="719"/>
                    </a:lnTo>
                    <a:lnTo>
                      <a:pt x="248" y="717"/>
                    </a:lnTo>
                    <a:lnTo>
                      <a:pt x="257" y="717"/>
                    </a:lnTo>
                    <a:lnTo>
                      <a:pt x="265" y="719"/>
                    </a:lnTo>
                    <a:lnTo>
                      <a:pt x="273" y="723"/>
                    </a:lnTo>
                    <a:lnTo>
                      <a:pt x="279" y="728"/>
                    </a:lnTo>
                    <a:lnTo>
                      <a:pt x="283" y="724"/>
                    </a:lnTo>
                    <a:lnTo>
                      <a:pt x="285" y="721"/>
                    </a:lnTo>
                    <a:lnTo>
                      <a:pt x="288" y="715"/>
                    </a:lnTo>
                    <a:lnTo>
                      <a:pt x="290" y="712"/>
                    </a:lnTo>
                    <a:lnTo>
                      <a:pt x="294" y="706"/>
                    </a:lnTo>
                    <a:lnTo>
                      <a:pt x="296" y="703"/>
                    </a:lnTo>
                    <a:lnTo>
                      <a:pt x="300" y="699"/>
                    </a:lnTo>
                    <a:lnTo>
                      <a:pt x="304" y="695"/>
                    </a:lnTo>
                    <a:lnTo>
                      <a:pt x="310" y="692"/>
                    </a:lnTo>
                    <a:lnTo>
                      <a:pt x="315" y="692"/>
                    </a:lnTo>
                    <a:lnTo>
                      <a:pt x="294" y="760"/>
                    </a:lnTo>
                    <a:lnTo>
                      <a:pt x="281" y="762"/>
                    </a:lnTo>
                    <a:lnTo>
                      <a:pt x="269" y="764"/>
                    </a:lnTo>
                    <a:lnTo>
                      <a:pt x="257" y="766"/>
                    </a:lnTo>
                    <a:lnTo>
                      <a:pt x="244" y="766"/>
                    </a:lnTo>
                    <a:lnTo>
                      <a:pt x="232" y="768"/>
                    </a:lnTo>
                    <a:lnTo>
                      <a:pt x="221" y="768"/>
                    </a:lnTo>
                    <a:lnTo>
                      <a:pt x="209" y="766"/>
                    </a:lnTo>
                    <a:lnTo>
                      <a:pt x="195" y="766"/>
                    </a:lnTo>
                    <a:lnTo>
                      <a:pt x="184" y="764"/>
                    </a:lnTo>
                    <a:lnTo>
                      <a:pt x="170" y="760"/>
                    </a:lnTo>
                    <a:lnTo>
                      <a:pt x="159" y="768"/>
                    </a:lnTo>
                    <a:lnTo>
                      <a:pt x="172" y="775"/>
                    </a:lnTo>
                    <a:lnTo>
                      <a:pt x="184" y="780"/>
                    </a:lnTo>
                    <a:lnTo>
                      <a:pt x="197" y="786"/>
                    </a:lnTo>
                    <a:lnTo>
                      <a:pt x="211" y="789"/>
                    </a:lnTo>
                    <a:lnTo>
                      <a:pt x="224" y="791"/>
                    </a:lnTo>
                    <a:lnTo>
                      <a:pt x="238" y="791"/>
                    </a:lnTo>
                    <a:lnTo>
                      <a:pt x="252" y="791"/>
                    </a:lnTo>
                    <a:lnTo>
                      <a:pt x="265" y="789"/>
                    </a:lnTo>
                    <a:lnTo>
                      <a:pt x="279" y="787"/>
                    </a:lnTo>
                    <a:lnTo>
                      <a:pt x="292" y="782"/>
                    </a:lnTo>
                    <a:lnTo>
                      <a:pt x="296" y="798"/>
                    </a:lnTo>
                    <a:lnTo>
                      <a:pt x="323" y="766"/>
                    </a:lnTo>
                    <a:lnTo>
                      <a:pt x="321" y="769"/>
                    </a:lnTo>
                    <a:lnTo>
                      <a:pt x="319" y="771"/>
                    </a:lnTo>
                    <a:lnTo>
                      <a:pt x="317" y="775"/>
                    </a:lnTo>
                    <a:lnTo>
                      <a:pt x="315" y="778"/>
                    </a:lnTo>
                    <a:lnTo>
                      <a:pt x="314" y="782"/>
                    </a:lnTo>
                    <a:lnTo>
                      <a:pt x="314" y="784"/>
                    </a:lnTo>
                    <a:lnTo>
                      <a:pt x="312" y="787"/>
                    </a:lnTo>
                    <a:lnTo>
                      <a:pt x="312" y="789"/>
                    </a:lnTo>
                    <a:lnTo>
                      <a:pt x="314" y="793"/>
                    </a:lnTo>
                    <a:lnTo>
                      <a:pt x="315" y="796"/>
                    </a:lnTo>
                    <a:lnTo>
                      <a:pt x="323" y="787"/>
                    </a:lnTo>
                    <a:lnTo>
                      <a:pt x="329" y="780"/>
                    </a:lnTo>
                    <a:lnTo>
                      <a:pt x="335" y="769"/>
                    </a:lnTo>
                    <a:lnTo>
                      <a:pt x="339" y="760"/>
                    </a:lnTo>
                    <a:lnTo>
                      <a:pt x="343" y="750"/>
                    </a:lnTo>
                    <a:lnTo>
                      <a:pt x="346" y="739"/>
                    </a:lnTo>
                    <a:lnTo>
                      <a:pt x="350" y="728"/>
                    </a:lnTo>
                    <a:lnTo>
                      <a:pt x="356" y="719"/>
                    </a:lnTo>
                    <a:lnTo>
                      <a:pt x="362" y="708"/>
                    </a:lnTo>
                    <a:lnTo>
                      <a:pt x="368" y="699"/>
                    </a:lnTo>
                    <a:lnTo>
                      <a:pt x="366" y="706"/>
                    </a:lnTo>
                    <a:lnTo>
                      <a:pt x="366" y="712"/>
                    </a:lnTo>
                    <a:lnTo>
                      <a:pt x="362" y="721"/>
                    </a:lnTo>
                    <a:lnTo>
                      <a:pt x="360" y="728"/>
                    </a:lnTo>
                    <a:lnTo>
                      <a:pt x="358" y="737"/>
                    </a:lnTo>
                    <a:lnTo>
                      <a:pt x="356" y="746"/>
                    </a:lnTo>
                    <a:lnTo>
                      <a:pt x="354" y="755"/>
                    </a:lnTo>
                    <a:lnTo>
                      <a:pt x="352" y="762"/>
                    </a:lnTo>
                    <a:lnTo>
                      <a:pt x="350" y="769"/>
                    </a:lnTo>
                    <a:lnTo>
                      <a:pt x="348" y="777"/>
                    </a:lnTo>
                    <a:lnTo>
                      <a:pt x="356" y="773"/>
                    </a:lnTo>
                    <a:lnTo>
                      <a:pt x="360" y="769"/>
                    </a:lnTo>
                    <a:lnTo>
                      <a:pt x="364" y="766"/>
                    </a:lnTo>
                    <a:lnTo>
                      <a:pt x="366" y="760"/>
                    </a:lnTo>
                    <a:lnTo>
                      <a:pt x="368" y="755"/>
                    </a:lnTo>
                    <a:lnTo>
                      <a:pt x="370" y="748"/>
                    </a:lnTo>
                    <a:lnTo>
                      <a:pt x="372" y="742"/>
                    </a:lnTo>
                    <a:lnTo>
                      <a:pt x="374" y="737"/>
                    </a:lnTo>
                    <a:lnTo>
                      <a:pt x="377" y="732"/>
                    </a:lnTo>
                    <a:lnTo>
                      <a:pt x="381" y="726"/>
                    </a:lnTo>
                    <a:lnTo>
                      <a:pt x="393" y="766"/>
                    </a:lnTo>
                    <a:lnTo>
                      <a:pt x="405" y="807"/>
                    </a:lnTo>
                    <a:lnTo>
                      <a:pt x="414" y="849"/>
                    </a:lnTo>
                    <a:lnTo>
                      <a:pt x="422" y="892"/>
                    </a:lnTo>
                    <a:lnTo>
                      <a:pt x="428" y="935"/>
                    </a:lnTo>
                    <a:lnTo>
                      <a:pt x="428" y="979"/>
                    </a:lnTo>
                    <a:lnTo>
                      <a:pt x="422" y="1020"/>
                    </a:lnTo>
                    <a:lnTo>
                      <a:pt x="412" y="1061"/>
                    </a:lnTo>
                    <a:lnTo>
                      <a:pt x="393" y="1099"/>
                    </a:lnTo>
                    <a:lnTo>
                      <a:pt x="366" y="1134"/>
                    </a:lnTo>
                    <a:lnTo>
                      <a:pt x="376" y="1125"/>
                    </a:lnTo>
                    <a:lnTo>
                      <a:pt x="387" y="1114"/>
                    </a:lnTo>
                    <a:lnTo>
                      <a:pt x="399" y="1103"/>
                    </a:lnTo>
                    <a:lnTo>
                      <a:pt x="408" y="1090"/>
                    </a:lnTo>
                    <a:lnTo>
                      <a:pt x="418" y="1079"/>
                    </a:lnTo>
                    <a:lnTo>
                      <a:pt x="426" y="1067"/>
                    </a:lnTo>
                    <a:lnTo>
                      <a:pt x="434" y="1054"/>
                    </a:lnTo>
                    <a:lnTo>
                      <a:pt x="439" y="1040"/>
                    </a:lnTo>
                    <a:lnTo>
                      <a:pt x="443" y="1027"/>
                    </a:lnTo>
                    <a:lnTo>
                      <a:pt x="447" y="1013"/>
                    </a:lnTo>
                    <a:lnTo>
                      <a:pt x="449" y="1018"/>
                    </a:lnTo>
                    <a:lnTo>
                      <a:pt x="449" y="1025"/>
                    </a:lnTo>
                    <a:lnTo>
                      <a:pt x="451" y="1031"/>
                    </a:lnTo>
                    <a:lnTo>
                      <a:pt x="453" y="1038"/>
                    </a:lnTo>
                    <a:lnTo>
                      <a:pt x="453" y="1043"/>
                    </a:lnTo>
                    <a:lnTo>
                      <a:pt x="455" y="1049"/>
                    </a:lnTo>
                    <a:lnTo>
                      <a:pt x="455" y="1056"/>
                    </a:lnTo>
                    <a:lnTo>
                      <a:pt x="453" y="1061"/>
                    </a:lnTo>
                    <a:lnTo>
                      <a:pt x="453" y="1067"/>
                    </a:lnTo>
                    <a:lnTo>
                      <a:pt x="449" y="1074"/>
                    </a:lnTo>
                    <a:lnTo>
                      <a:pt x="428" y="1099"/>
                    </a:lnTo>
                    <a:lnTo>
                      <a:pt x="405" y="1117"/>
                    </a:lnTo>
                    <a:lnTo>
                      <a:pt x="379" y="1134"/>
                    </a:lnTo>
                    <a:lnTo>
                      <a:pt x="352" y="1144"/>
                    </a:lnTo>
                    <a:lnTo>
                      <a:pt x="323" y="1152"/>
                    </a:lnTo>
                    <a:lnTo>
                      <a:pt x="294" y="1155"/>
                    </a:lnTo>
                    <a:lnTo>
                      <a:pt x="265" y="1159"/>
                    </a:lnTo>
                    <a:lnTo>
                      <a:pt x="236" y="1159"/>
                    </a:lnTo>
                    <a:lnTo>
                      <a:pt x="205" y="1159"/>
                    </a:lnTo>
                    <a:lnTo>
                      <a:pt x="176" y="1159"/>
                    </a:lnTo>
                    <a:lnTo>
                      <a:pt x="157" y="1152"/>
                    </a:lnTo>
                    <a:lnTo>
                      <a:pt x="137" y="1143"/>
                    </a:lnTo>
                    <a:lnTo>
                      <a:pt x="116" y="1134"/>
                    </a:lnTo>
                    <a:lnTo>
                      <a:pt x="97" y="1123"/>
                    </a:lnTo>
                    <a:lnTo>
                      <a:pt x="77" y="1112"/>
                    </a:lnTo>
                    <a:lnTo>
                      <a:pt x="60" y="1101"/>
                    </a:lnTo>
                    <a:lnTo>
                      <a:pt x="42" y="1087"/>
                    </a:lnTo>
                    <a:lnTo>
                      <a:pt x="25" y="1072"/>
                    </a:lnTo>
                    <a:lnTo>
                      <a:pt x="12" y="1056"/>
                    </a:lnTo>
                    <a:lnTo>
                      <a:pt x="0" y="1040"/>
                    </a:lnTo>
                    <a:lnTo>
                      <a:pt x="2" y="998"/>
                    </a:lnTo>
                    <a:lnTo>
                      <a:pt x="6" y="957"/>
                    </a:lnTo>
                    <a:lnTo>
                      <a:pt x="12" y="917"/>
                    </a:lnTo>
                    <a:lnTo>
                      <a:pt x="19" y="878"/>
                    </a:lnTo>
                    <a:lnTo>
                      <a:pt x="31" y="840"/>
                    </a:lnTo>
                    <a:lnTo>
                      <a:pt x="42" y="802"/>
                    </a:lnTo>
                    <a:lnTo>
                      <a:pt x="60" y="764"/>
                    </a:lnTo>
                    <a:lnTo>
                      <a:pt x="77" y="730"/>
                    </a:lnTo>
                    <a:lnTo>
                      <a:pt x="97" y="695"/>
                    </a:lnTo>
                    <a:lnTo>
                      <a:pt x="120" y="663"/>
                    </a:lnTo>
                    <a:lnTo>
                      <a:pt x="116" y="656"/>
                    </a:lnTo>
                    <a:lnTo>
                      <a:pt x="114" y="650"/>
                    </a:lnTo>
                    <a:lnTo>
                      <a:pt x="114" y="643"/>
                    </a:lnTo>
                    <a:lnTo>
                      <a:pt x="112" y="636"/>
                    </a:lnTo>
                    <a:lnTo>
                      <a:pt x="112" y="631"/>
                    </a:lnTo>
                    <a:lnTo>
                      <a:pt x="110" y="623"/>
                    </a:lnTo>
                    <a:lnTo>
                      <a:pt x="108" y="618"/>
                    </a:lnTo>
                    <a:lnTo>
                      <a:pt x="104" y="613"/>
                    </a:lnTo>
                    <a:lnTo>
                      <a:pt x="101" y="611"/>
                    </a:lnTo>
                    <a:lnTo>
                      <a:pt x="91" y="607"/>
                    </a:lnTo>
                    <a:lnTo>
                      <a:pt x="91" y="595"/>
                    </a:lnTo>
                    <a:lnTo>
                      <a:pt x="89" y="582"/>
                    </a:lnTo>
                    <a:lnTo>
                      <a:pt x="87" y="569"/>
                    </a:lnTo>
                    <a:lnTo>
                      <a:pt x="85" y="557"/>
                    </a:lnTo>
                    <a:lnTo>
                      <a:pt x="83" y="544"/>
                    </a:lnTo>
                    <a:lnTo>
                      <a:pt x="83" y="531"/>
                    </a:lnTo>
                    <a:lnTo>
                      <a:pt x="85" y="519"/>
                    </a:lnTo>
                    <a:lnTo>
                      <a:pt x="89" y="506"/>
                    </a:lnTo>
                    <a:lnTo>
                      <a:pt x="93" y="494"/>
                    </a:lnTo>
                    <a:lnTo>
                      <a:pt x="101" y="483"/>
                    </a:lnTo>
                    <a:lnTo>
                      <a:pt x="104" y="488"/>
                    </a:lnTo>
                    <a:lnTo>
                      <a:pt x="106" y="494"/>
                    </a:lnTo>
                    <a:lnTo>
                      <a:pt x="108" y="501"/>
                    </a:lnTo>
                    <a:lnTo>
                      <a:pt x="110" y="506"/>
                    </a:lnTo>
                    <a:lnTo>
                      <a:pt x="112" y="513"/>
                    </a:lnTo>
                    <a:lnTo>
                      <a:pt x="114" y="519"/>
                    </a:lnTo>
                    <a:lnTo>
                      <a:pt x="118" y="524"/>
                    </a:lnTo>
                    <a:lnTo>
                      <a:pt x="120" y="531"/>
                    </a:lnTo>
                    <a:lnTo>
                      <a:pt x="126" y="537"/>
                    </a:lnTo>
                    <a:lnTo>
                      <a:pt x="130" y="542"/>
                    </a:lnTo>
                    <a:lnTo>
                      <a:pt x="135" y="535"/>
                    </a:lnTo>
                    <a:lnTo>
                      <a:pt x="137" y="528"/>
                    </a:lnTo>
                    <a:lnTo>
                      <a:pt x="139" y="521"/>
                    </a:lnTo>
                    <a:lnTo>
                      <a:pt x="137" y="512"/>
                    </a:lnTo>
                    <a:lnTo>
                      <a:pt x="135" y="504"/>
                    </a:lnTo>
                    <a:lnTo>
                      <a:pt x="132" y="497"/>
                    </a:lnTo>
                    <a:lnTo>
                      <a:pt x="128" y="490"/>
                    </a:lnTo>
                    <a:lnTo>
                      <a:pt x="124" y="483"/>
                    </a:lnTo>
                    <a:lnTo>
                      <a:pt x="120" y="476"/>
                    </a:lnTo>
                    <a:lnTo>
                      <a:pt x="116" y="470"/>
                    </a:lnTo>
                    <a:lnTo>
                      <a:pt x="110" y="468"/>
                    </a:lnTo>
                    <a:lnTo>
                      <a:pt x="106" y="467"/>
                    </a:lnTo>
                    <a:lnTo>
                      <a:pt x="104" y="463"/>
                    </a:lnTo>
                    <a:lnTo>
                      <a:pt x="103" y="459"/>
                    </a:lnTo>
                    <a:lnTo>
                      <a:pt x="101" y="456"/>
                    </a:lnTo>
                    <a:lnTo>
                      <a:pt x="99" y="450"/>
                    </a:lnTo>
                    <a:lnTo>
                      <a:pt x="97" y="445"/>
                    </a:lnTo>
                    <a:lnTo>
                      <a:pt x="95" y="441"/>
                    </a:lnTo>
                    <a:lnTo>
                      <a:pt x="91" y="438"/>
                    </a:lnTo>
                    <a:lnTo>
                      <a:pt x="85" y="434"/>
                    </a:lnTo>
                    <a:lnTo>
                      <a:pt x="81" y="441"/>
                    </a:lnTo>
                    <a:lnTo>
                      <a:pt x="75" y="449"/>
                    </a:lnTo>
                    <a:lnTo>
                      <a:pt x="72" y="458"/>
                    </a:lnTo>
                    <a:lnTo>
                      <a:pt x="68" y="465"/>
                    </a:lnTo>
                    <a:lnTo>
                      <a:pt x="64" y="474"/>
                    </a:lnTo>
                    <a:lnTo>
                      <a:pt x="60" y="483"/>
                    </a:lnTo>
                    <a:lnTo>
                      <a:pt x="58" y="494"/>
                    </a:lnTo>
                    <a:lnTo>
                      <a:pt x="56" y="503"/>
                    </a:lnTo>
                    <a:lnTo>
                      <a:pt x="54" y="512"/>
                    </a:lnTo>
                    <a:lnTo>
                      <a:pt x="52" y="522"/>
                    </a:lnTo>
                    <a:lnTo>
                      <a:pt x="54" y="506"/>
                    </a:lnTo>
                    <a:lnTo>
                      <a:pt x="58" y="490"/>
                    </a:lnTo>
                    <a:lnTo>
                      <a:pt x="62" y="474"/>
                    </a:lnTo>
                    <a:lnTo>
                      <a:pt x="70" y="458"/>
                    </a:lnTo>
                    <a:lnTo>
                      <a:pt x="75" y="441"/>
                    </a:lnTo>
                    <a:lnTo>
                      <a:pt x="79" y="425"/>
                    </a:lnTo>
                    <a:lnTo>
                      <a:pt x="85" y="409"/>
                    </a:lnTo>
                    <a:lnTo>
                      <a:pt x="87" y="393"/>
                    </a:lnTo>
                    <a:lnTo>
                      <a:pt x="87" y="376"/>
                    </a:lnTo>
                    <a:lnTo>
                      <a:pt x="83" y="360"/>
                    </a:lnTo>
                    <a:lnTo>
                      <a:pt x="87" y="358"/>
                    </a:lnTo>
                    <a:lnTo>
                      <a:pt x="91" y="355"/>
                    </a:lnTo>
                    <a:lnTo>
                      <a:pt x="93" y="349"/>
                    </a:lnTo>
                    <a:lnTo>
                      <a:pt x="93" y="346"/>
                    </a:lnTo>
                    <a:lnTo>
                      <a:pt x="95" y="340"/>
                    </a:lnTo>
                    <a:lnTo>
                      <a:pt x="95" y="333"/>
                    </a:lnTo>
                    <a:lnTo>
                      <a:pt x="95" y="328"/>
                    </a:lnTo>
                    <a:lnTo>
                      <a:pt x="95" y="322"/>
                    </a:lnTo>
                    <a:lnTo>
                      <a:pt x="97" y="319"/>
                    </a:lnTo>
                    <a:lnTo>
                      <a:pt x="101" y="313"/>
                    </a:lnTo>
                    <a:lnTo>
                      <a:pt x="101" y="317"/>
                    </a:lnTo>
                    <a:lnTo>
                      <a:pt x="101" y="321"/>
                    </a:lnTo>
                    <a:lnTo>
                      <a:pt x="99" y="322"/>
                    </a:lnTo>
                    <a:lnTo>
                      <a:pt x="97" y="324"/>
                    </a:lnTo>
                    <a:lnTo>
                      <a:pt x="97" y="328"/>
                    </a:lnTo>
                    <a:lnTo>
                      <a:pt x="95" y="330"/>
                    </a:lnTo>
                    <a:lnTo>
                      <a:pt x="93" y="331"/>
                    </a:lnTo>
                    <a:lnTo>
                      <a:pt x="95" y="333"/>
                    </a:lnTo>
                    <a:lnTo>
                      <a:pt x="95" y="337"/>
                    </a:lnTo>
                    <a:lnTo>
                      <a:pt x="99" y="339"/>
                    </a:lnTo>
                    <a:lnTo>
                      <a:pt x="104" y="333"/>
                    </a:lnTo>
                    <a:lnTo>
                      <a:pt x="108" y="326"/>
                    </a:lnTo>
                    <a:lnTo>
                      <a:pt x="112" y="319"/>
                    </a:lnTo>
                    <a:lnTo>
                      <a:pt x="116" y="310"/>
                    </a:lnTo>
                    <a:lnTo>
                      <a:pt x="120" y="301"/>
                    </a:lnTo>
                    <a:lnTo>
                      <a:pt x="122" y="293"/>
                    </a:lnTo>
                    <a:lnTo>
                      <a:pt x="126" y="284"/>
                    </a:lnTo>
                    <a:lnTo>
                      <a:pt x="132" y="277"/>
                    </a:lnTo>
                    <a:lnTo>
                      <a:pt x="137" y="270"/>
                    </a:lnTo>
                    <a:lnTo>
                      <a:pt x="145" y="265"/>
                    </a:lnTo>
                    <a:lnTo>
                      <a:pt x="143" y="259"/>
                    </a:lnTo>
                    <a:lnTo>
                      <a:pt x="143" y="256"/>
                    </a:lnTo>
                    <a:lnTo>
                      <a:pt x="141" y="252"/>
                    </a:lnTo>
                    <a:lnTo>
                      <a:pt x="141" y="248"/>
                    </a:lnTo>
                    <a:lnTo>
                      <a:pt x="141" y="247"/>
                    </a:lnTo>
                    <a:lnTo>
                      <a:pt x="141" y="243"/>
                    </a:lnTo>
                    <a:lnTo>
                      <a:pt x="143" y="241"/>
                    </a:lnTo>
                    <a:lnTo>
                      <a:pt x="145" y="238"/>
                    </a:lnTo>
                    <a:lnTo>
                      <a:pt x="149" y="234"/>
                    </a:lnTo>
                    <a:lnTo>
                      <a:pt x="153" y="230"/>
                    </a:lnTo>
                    <a:lnTo>
                      <a:pt x="153" y="225"/>
                    </a:lnTo>
                    <a:lnTo>
                      <a:pt x="163" y="247"/>
                    </a:lnTo>
                    <a:lnTo>
                      <a:pt x="166" y="241"/>
                    </a:lnTo>
                    <a:lnTo>
                      <a:pt x="168" y="236"/>
                    </a:lnTo>
                    <a:lnTo>
                      <a:pt x="172" y="229"/>
                    </a:lnTo>
                    <a:lnTo>
                      <a:pt x="172" y="221"/>
                    </a:lnTo>
                    <a:lnTo>
                      <a:pt x="174" y="214"/>
                    </a:lnTo>
                    <a:lnTo>
                      <a:pt x="176" y="209"/>
                    </a:lnTo>
                    <a:lnTo>
                      <a:pt x="180" y="202"/>
                    </a:lnTo>
                    <a:lnTo>
                      <a:pt x="182" y="194"/>
                    </a:lnTo>
                    <a:lnTo>
                      <a:pt x="188" y="189"/>
                    </a:lnTo>
                    <a:lnTo>
                      <a:pt x="194" y="185"/>
                    </a:lnTo>
                    <a:lnTo>
                      <a:pt x="194" y="194"/>
                    </a:lnTo>
                    <a:lnTo>
                      <a:pt x="194" y="203"/>
                    </a:lnTo>
                    <a:lnTo>
                      <a:pt x="192" y="211"/>
                    </a:lnTo>
                    <a:lnTo>
                      <a:pt x="190" y="220"/>
                    </a:lnTo>
                    <a:lnTo>
                      <a:pt x="190" y="227"/>
                    </a:lnTo>
                    <a:lnTo>
                      <a:pt x="190" y="234"/>
                    </a:lnTo>
                    <a:lnTo>
                      <a:pt x="190" y="241"/>
                    </a:lnTo>
                    <a:lnTo>
                      <a:pt x="192" y="248"/>
                    </a:lnTo>
                    <a:lnTo>
                      <a:pt x="195" y="254"/>
                    </a:lnTo>
                    <a:lnTo>
                      <a:pt x="201" y="259"/>
                    </a:lnTo>
                    <a:lnTo>
                      <a:pt x="205" y="250"/>
                    </a:lnTo>
                    <a:lnTo>
                      <a:pt x="207" y="243"/>
                    </a:lnTo>
                    <a:lnTo>
                      <a:pt x="209" y="232"/>
                    </a:lnTo>
                    <a:lnTo>
                      <a:pt x="211" y="223"/>
                    </a:lnTo>
                    <a:lnTo>
                      <a:pt x="213" y="214"/>
                    </a:lnTo>
                    <a:lnTo>
                      <a:pt x="215" y="203"/>
                    </a:lnTo>
                    <a:lnTo>
                      <a:pt x="217" y="194"/>
                    </a:lnTo>
                    <a:lnTo>
                      <a:pt x="219" y="184"/>
                    </a:lnTo>
                    <a:lnTo>
                      <a:pt x="221" y="175"/>
                    </a:lnTo>
                    <a:lnTo>
                      <a:pt x="223" y="165"/>
                    </a:lnTo>
                    <a:lnTo>
                      <a:pt x="232" y="156"/>
                    </a:lnTo>
                    <a:lnTo>
                      <a:pt x="242" y="147"/>
                    </a:lnTo>
                    <a:lnTo>
                      <a:pt x="252" y="138"/>
                    </a:lnTo>
                    <a:lnTo>
                      <a:pt x="261" y="129"/>
                    </a:lnTo>
                    <a:lnTo>
                      <a:pt x="271" y="120"/>
                    </a:lnTo>
                    <a:lnTo>
                      <a:pt x="281" y="111"/>
                    </a:lnTo>
                    <a:lnTo>
                      <a:pt x="290" y="102"/>
                    </a:lnTo>
                    <a:lnTo>
                      <a:pt x="300" y="93"/>
                    </a:lnTo>
                    <a:lnTo>
                      <a:pt x="312" y="84"/>
                    </a:lnTo>
                    <a:lnTo>
                      <a:pt x="321" y="77"/>
                    </a:lnTo>
                    <a:lnTo>
                      <a:pt x="319" y="79"/>
                    </a:lnTo>
                    <a:lnTo>
                      <a:pt x="315" y="83"/>
                    </a:lnTo>
                    <a:lnTo>
                      <a:pt x="314" y="86"/>
                    </a:lnTo>
                    <a:lnTo>
                      <a:pt x="312" y="90"/>
                    </a:lnTo>
                    <a:lnTo>
                      <a:pt x="310" y="93"/>
                    </a:lnTo>
                    <a:lnTo>
                      <a:pt x="308" y="97"/>
                    </a:lnTo>
                    <a:lnTo>
                      <a:pt x="306" y="101"/>
                    </a:lnTo>
                    <a:lnTo>
                      <a:pt x="302" y="104"/>
                    </a:lnTo>
                    <a:lnTo>
                      <a:pt x="300" y="106"/>
                    </a:lnTo>
                    <a:lnTo>
                      <a:pt x="296" y="110"/>
                    </a:lnTo>
                    <a:lnTo>
                      <a:pt x="310" y="102"/>
                    </a:lnTo>
                    <a:lnTo>
                      <a:pt x="323" y="93"/>
                    </a:lnTo>
                    <a:lnTo>
                      <a:pt x="337" y="83"/>
                    </a:lnTo>
                    <a:lnTo>
                      <a:pt x="348" y="70"/>
                    </a:lnTo>
                    <a:lnTo>
                      <a:pt x="362" y="57"/>
                    </a:lnTo>
                    <a:lnTo>
                      <a:pt x="374" y="45"/>
                    </a:lnTo>
                    <a:lnTo>
                      <a:pt x="385" y="32"/>
                    </a:lnTo>
                    <a:lnTo>
                      <a:pt x="397" y="21"/>
                    </a:lnTo>
                    <a:lnTo>
                      <a:pt x="408" y="10"/>
                    </a:lnTo>
                    <a:lnTo>
                      <a:pt x="420" y="0"/>
                    </a:lnTo>
                    <a:lnTo>
                      <a:pt x="254" y="194"/>
                    </a:lnTo>
                    <a:lnTo>
                      <a:pt x="254" y="194"/>
                    </a:lnTo>
                    <a:lnTo>
                      <a:pt x="252" y="193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77640" y="5835600"/>
                <a:ext cx="2880" cy="73080"/>
              </a:xfrm>
              <a:custGeom>
                <a:avLst/>
                <a:gdLst/>
                <a:ahLst/>
                <a:rect l="l" t="t" r="r" b="b"/>
                <a:pathLst>
                  <a:path w="3" h="92">
                    <a:moveTo>
                      <a:pt x="2" y="0"/>
                    </a:moveTo>
                    <a:lnTo>
                      <a:pt x="0" y="9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467040" y="5834160"/>
                <a:ext cx="101520" cy="87120"/>
              </a:xfrm>
              <a:custGeom>
                <a:avLst/>
                <a:gdLst/>
                <a:ahLst/>
                <a:rect l="l" t="t" r="r" b="b"/>
                <a:pathLst>
                  <a:path w="144" h="110">
                    <a:moveTo>
                      <a:pt x="142" y="0"/>
                    </a:moveTo>
                    <a:lnTo>
                      <a:pt x="128" y="12"/>
                    </a:lnTo>
                    <a:lnTo>
                      <a:pt x="115" y="23"/>
                    </a:lnTo>
                    <a:lnTo>
                      <a:pt x="101" y="34"/>
                    </a:lnTo>
                    <a:lnTo>
                      <a:pt x="85" y="43"/>
                    </a:lnTo>
                    <a:lnTo>
                      <a:pt x="70" y="52"/>
                    </a:lnTo>
                    <a:lnTo>
                      <a:pt x="56" y="61"/>
                    </a:lnTo>
                    <a:lnTo>
                      <a:pt x="41" y="72"/>
                    </a:lnTo>
                    <a:lnTo>
                      <a:pt x="27" y="83"/>
                    </a:lnTo>
                    <a:lnTo>
                      <a:pt x="14" y="95"/>
                    </a:lnTo>
                    <a:lnTo>
                      <a:pt x="0" y="110"/>
                    </a:lnTo>
                    <a:lnTo>
                      <a:pt x="12" y="95"/>
                    </a:lnTo>
                    <a:lnTo>
                      <a:pt x="24" y="83"/>
                    </a:lnTo>
                    <a:lnTo>
                      <a:pt x="35" y="70"/>
                    </a:lnTo>
                    <a:lnTo>
                      <a:pt x="49" y="56"/>
                    </a:lnTo>
                    <a:lnTo>
                      <a:pt x="64" y="43"/>
                    </a:lnTo>
                    <a:lnTo>
                      <a:pt x="78" y="32"/>
                    </a:lnTo>
                    <a:lnTo>
                      <a:pt x="93" y="21"/>
                    </a:lnTo>
                    <a:lnTo>
                      <a:pt x="111" y="12"/>
                    </a:lnTo>
                    <a:lnTo>
                      <a:pt x="126" y="5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33000" y="5842080"/>
                <a:ext cx="8640" cy="144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19"/>
                    </a:moveTo>
                    <a:lnTo>
                      <a:pt x="11" y="0"/>
                    </a:lnTo>
                    <a:lnTo>
                      <a:pt x="7" y="15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442560" y="5845320"/>
                <a:ext cx="74160" cy="77760"/>
              </a:xfrm>
              <a:custGeom>
                <a:avLst/>
                <a:gdLst/>
                <a:ahLst/>
                <a:rect l="l" t="t" r="r" b="b"/>
                <a:pathLst>
                  <a:path w="105" h="97">
                    <a:moveTo>
                      <a:pt x="0" y="96"/>
                    </a:moveTo>
                    <a:lnTo>
                      <a:pt x="2" y="85"/>
                    </a:lnTo>
                    <a:lnTo>
                      <a:pt x="105" y="0"/>
                    </a:lnTo>
                    <a:lnTo>
                      <a:pt x="97" y="11"/>
                    </a:lnTo>
                    <a:lnTo>
                      <a:pt x="88" y="22"/>
                    </a:lnTo>
                    <a:lnTo>
                      <a:pt x="76" y="31"/>
                    </a:lnTo>
                    <a:lnTo>
                      <a:pt x="66" y="40"/>
                    </a:lnTo>
                    <a:lnTo>
                      <a:pt x="55" y="49"/>
                    </a:lnTo>
                    <a:lnTo>
                      <a:pt x="43" y="58"/>
                    </a:lnTo>
                    <a:lnTo>
                      <a:pt x="31" y="67"/>
                    </a:lnTo>
                    <a:lnTo>
                      <a:pt x="20" y="78"/>
                    </a:lnTo>
                    <a:lnTo>
                      <a:pt x="10" y="8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306480" y="5842080"/>
                <a:ext cx="3960" cy="1908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0"/>
                    </a:moveTo>
                    <a:lnTo>
                      <a:pt x="5" y="2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611760" y="586764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6"/>
                    </a:moveTo>
                    <a:lnTo>
                      <a:pt x="15" y="0"/>
                    </a:lnTo>
                    <a:lnTo>
                      <a:pt x="15" y="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08880" y="587232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0" y="65"/>
                    </a:moveTo>
                    <a:lnTo>
                      <a:pt x="2" y="56"/>
                    </a:lnTo>
                    <a:lnTo>
                      <a:pt x="4" y="49"/>
                    </a:lnTo>
                    <a:lnTo>
                      <a:pt x="6" y="42"/>
                    </a:lnTo>
                    <a:lnTo>
                      <a:pt x="9" y="35"/>
                    </a:lnTo>
                    <a:lnTo>
                      <a:pt x="15" y="27"/>
                    </a:lnTo>
                    <a:lnTo>
                      <a:pt x="21" y="22"/>
                    </a:lnTo>
                    <a:lnTo>
                      <a:pt x="27" y="15"/>
                    </a:lnTo>
                    <a:lnTo>
                      <a:pt x="35" y="9"/>
                    </a:lnTo>
                    <a:lnTo>
                      <a:pt x="40" y="4"/>
                    </a:lnTo>
                    <a:lnTo>
                      <a:pt x="48" y="0"/>
                    </a:lnTo>
                    <a:lnTo>
                      <a:pt x="50" y="8"/>
                    </a:lnTo>
                    <a:lnTo>
                      <a:pt x="50" y="17"/>
                    </a:lnTo>
                    <a:lnTo>
                      <a:pt x="46" y="24"/>
                    </a:lnTo>
                    <a:lnTo>
                      <a:pt x="42" y="29"/>
                    </a:lnTo>
                    <a:lnTo>
                      <a:pt x="37" y="36"/>
                    </a:lnTo>
                    <a:lnTo>
                      <a:pt x="29" y="42"/>
                    </a:lnTo>
                    <a:lnTo>
                      <a:pt x="23" y="47"/>
                    </a:lnTo>
                    <a:lnTo>
                      <a:pt x="15" y="53"/>
                    </a:lnTo>
                    <a:lnTo>
                      <a:pt x="7" y="60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345000" y="58644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0" y="16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395040" y="5870520"/>
                <a:ext cx="7200" cy="208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9" y="16"/>
                    </a:moveTo>
                    <a:lnTo>
                      <a:pt x="0" y="25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95920" y="59072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78" h="88">
                    <a:moveTo>
                      <a:pt x="62" y="32"/>
                    </a:moveTo>
                    <a:lnTo>
                      <a:pt x="2" y="88"/>
                    </a:lnTo>
                    <a:lnTo>
                      <a:pt x="0" y="75"/>
                    </a:lnTo>
                    <a:lnTo>
                      <a:pt x="4" y="65"/>
                    </a:lnTo>
                    <a:lnTo>
                      <a:pt x="10" y="55"/>
                    </a:lnTo>
                    <a:lnTo>
                      <a:pt x="18" y="46"/>
                    </a:lnTo>
                    <a:lnTo>
                      <a:pt x="27" y="39"/>
                    </a:lnTo>
                    <a:lnTo>
                      <a:pt x="37" y="30"/>
                    </a:lnTo>
                    <a:lnTo>
                      <a:pt x="47" y="23"/>
                    </a:lnTo>
                    <a:lnTo>
                      <a:pt x="57" y="16"/>
                    </a:lnTo>
                    <a:lnTo>
                      <a:pt x="66" y="9"/>
                    </a:lnTo>
                    <a:lnTo>
                      <a:pt x="72" y="0"/>
                    </a:lnTo>
                    <a:lnTo>
                      <a:pt x="76" y="3"/>
                    </a:lnTo>
                    <a:lnTo>
                      <a:pt x="78" y="7"/>
                    </a:lnTo>
                    <a:lnTo>
                      <a:pt x="78" y="10"/>
                    </a:lnTo>
                    <a:lnTo>
                      <a:pt x="76" y="14"/>
                    </a:lnTo>
                    <a:lnTo>
                      <a:pt x="74" y="18"/>
                    </a:lnTo>
                    <a:lnTo>
                      <a:pt x="72" y="21"/>
                    </a:lnTo>
                    <a:lnTo>
                      <a:pt x="68" y="23"/>
                    </a:lnTo>
                    <a:lnTo>
                      <a:pt x="66" y="27"/>
                    </a:lnTo>
                    <a:lnTo>
                      <a:pt x="64" y="30"/>
                    </a:lnTo>
                    <a:lnTo>
                      <a:pt x="62" y="32"/>
                    </a:lnTo>
                    <a:lnTo>
                      <a:pt x="62" y="32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324840" y="588636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17"/>
                    </a:moveTo>
                    <a:lnTo>
                      <a:pt x="6" y="0"/>
                    </a:lnTo>
                    <a:lnTo>
                      <a:pt x="4" y="13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346800" y="5888160"/>
                <a:ext cx="8280" cy="144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6"/>
                    </a:moveTo>
                    <a:lnTo>
                      <a:pt x="11" y="0"/>
                    </a:lnTo>
                    <a:lnTo>
                      <a:pt x="9" y="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362280" y="5889600"/>
                <a:ext cx="16920" cy="3492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0" y="41"/>
                    </a:moveTo>
                    <a:lnTo>
                      <a:pt x="23" y="0"/>
                    </a:lnTo>
                    <a:lnTo>
                      <a:pt x="21" y="25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417000" y="589428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7"/>
                    </a:moveTo>
                    <a:lnTo>
                      <a:pt x="13" y="0"/>
                    </a:lnTo>
                    <a:lnTo>
                      <a:pt x="11" y="9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389640" y="589752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5" y="0"/>
                    </a:moveTo>
                    <a:lnTo>
                      <a:pt x="0" y="2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340680" y="5923080"/>
                <a:ext cx="8280" cy="237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29"/>
                    </a:moveTo>
                    <a:lnTo>
                      <a:pt x="14" y="0"/>
                    </a:lnTo>
                    <a:lnTo>
                      <a:pt x="12" y="2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20960" y="5927760"/>
                <a:ext cx="8280" cy="2052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0" y="23"/>
                    </a:moveTo>
                    <a:lnTo>
                      <a:pt x="12" y="0"/>
                    </a:lnTo>
                    <a:lnTo>
                      <a:pt x="6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594480" y="5943600"/>
                <a:ext cx="53280" cy="61920"/>
              </a:xfrm>
              <a:custGeom>
                <a:avLst/>
                <a:gdLst/>
                <a:ahLst/>
                <a:rect l="l" t="t" r="r" b="b"/>
                <a:pathLst>
                  <a:path w="76" h="78">
                    <a:moveTo>
                      <a:pt x="0" y="78"/>
                    </a:moveTo>
                    <a:lnTo>
                      <a:pt x="6" y="69"/>
                    </a:lnTo>
                    <a:lnTo>
                      <a:pt x="12" y="60"/>
                    </a:lnTo>
                    <a:lnTo>
                      <a:pt x="20" y="53"/>
                    </a:lnTo>
                    <a:lnTo>
                      <a:pt x="28" y="44"/>
                    </a:lnTo>
                    <a:lnTo>
                      <a:pt x="35" y="37"/>
                    </a:lnTo>
                    <a:lnTo>
                      <a:pt x="43" y="28"/>
                    </a:lnTo>
                    <a:lnTo>
                      <a:pt x="51" y="20"/>
                    </a:lnTo>
                    <a:lnTo>
                      <a:pt x="60" y="13"/>
                    </a:lnTo>
                    <a:lnTo>
                      <a:pt x="68" y="8"/>
                    </a:lnTo>
                    <a:lnTo>
                      <a:pt x="76" y="0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359400" y="592632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22" h="34">
                    <a:moveTo>
                      <a:pt x="0" y="34"/>
                    </a:moveTo>
                    <a:lnTo>
                      <a:pt x="0" y="30"/>
                    </a:lnTo>
                    <a:lnTo>
                      <a:pt x="0" y="27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2" y="11"/>
                    </a:lnTo>
                    <a:lnTo>
                      <a:pt x="14" y="7"/>
                    </a:lnTo>
                    <a:lnTo>
                      <a:pt x="18" y="3"/>
                    </a:lnTo>
                    <a:lnTo>
                      <a:pt x="20" y="0"/>
                    </a:lnTo>
                    <a:lnTo>
                      <a:pt x="20" y="3"/>
                    </a:lnTo>
                    <a:lnTo>
                      <a:pt x="22" y="7"/>
                    </a:lnTo>
                    <a:lnTo>
                      <a:pt x="20" y="11"/>
                    </a:lnTo>
                    <a:lnTo>
                      <a:pt x="18" y="14"/>
                    </a:lnTo>
                    <a:lnTo>
                      <a:pt x="16" y="18"/>
                    </a:lnTo>
                    <a:lnTo>
                      <a:pt x="12" y="21"/>
                    </a:lnTo>
                    <a:lnTo>
                      <a:pt x="10" y="25"/>
                    </a:lnTo>
                    <a:lnTo>
                      <a:pt x="6" y="29"/>
                    </a:lnTo>
                    <a:lnTo>
                      <a:pt x="4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91960" y="596448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81" h="90">
                    <a:moveTo>
                      <a:pt x="0" y="90"/>
                    </a:moveTo>
                    <a:lnTo>
                      <a:pt x="3" y="79"/>
                    </a:lnTo>
                    <a:lnTo>
                      <a:pt x="9" y="68"/>
                    </a:lnTo>
                    <a:lnTo>
                      <a:pt x="17" y="59"/>
                    </a:lnTo>
                    <a:lnTo>
                      <a:pt x="25" y="50"/>
                    </a:lnTo>
                    <a:lnTo>
                      <a:pt x="32" y="41"/>
                    </a:lnTo>
                    <a:lnTo>
                      <a:pt x="42" y="32"/>
                    </a:lnTo>
                    <a:lnTo>
                      <a:pt x="54" y="23"/>
                    </a:lnTo>
                    <a:lnTo>
                      <a:pt x="63" y="16"/>
                    </a:lnTo>
                    <a:lnTo>
                      <a:pt x="73" y="7"/>
                    </a:lnTo>
                    <a:lnTo>
                      <a:pt x="81" y="0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379560" y="5953320"/>
                <a:ext cx="169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2" y="17"/>
                    </a:moveTo>
                    <a:lnTo>
                      <a:pt x="25" y="22"/>
                    </a:lnTo>
                    <a:lnTo>
                      <a:pt x="24" y="26"/>
                    </a:lnTo>
                    <a:lnTo>
                      <a:pt x="22" y="29"/>
                    </a:lnTo>
                    <a:lnTo>
                      <a:pt x="20" y="31"/>
                    </a:lnTo>
                    <a:lnTo>
                      <a:pt x="18" y="35"/>
                    </a:lnTo>
                    <a:lnTo>
                      <a:pt x="14" y="36"/>
                    </a:lnTo>
                    <a:lnTo>
                      <a:pt x="12" y="38"/>
                    </a:lnTo>
                    <a:lnTo>
                      <a:pt x="8" y="40"/>
                    </a:lnTo>
                    <a:lnTo>
                      <a:pt x="6" y="44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90160" y="5980320"/>
                <a:ext cx="73080" cy="99720"/>
              </a:xfrm>
              <a:custGeom>
                <a:avLst/>
                <a:gdLst/>
                <a:ahLst/>
                <a:rect l="l" t="t" r="r" b="b"/>
                <a:pathLst>
                  <a:path w="102" h="126">
                    <a:moveTo>
                      <a:pt x="79" y="23"/>
                    </a:moveTo>
                    <a:lnTo>
                      <a:pt x="75" y="36"/>
                    </a:lnTo>
                    <a:lnTo>
                      <a:pt x="69" y="46"/>
                    </a:lnTo>
                    <a:lnTo>
                      <a:pt x="62" y="57"/>
                    </a:lnTo>
                    <a:lnTo>
                      <a:pt x="54" y="68"/>
                    </a:lnTo>
                    <a:lnTo>
                      <a:pt x="44" y="77"/>
                    </a:lnTo>
                    <a:lnTo>
                      <a:pt x="34" y="88"/>
                    </a:lnTo>
                    <a:lnTo>
                      <a:pt x="25" y="97"/>
                    </a:lnTo>
                    <a:lnTo>
                      <a:pt x="17" y="106"/>
                    </a:lnTo>
                    <a:lnTo>
                      <a:pt x="7" y="117"/>
                    </a:lnTo>
                    <a:lnTo>
                      <a:pt x="0" y="126"/>
                    </a:lnTo>
                    <a:lnTo>
                      <a:pt x="2" y="111"/>
                    </a:lnTo>
                    <a:lnTo>
                      <a:pt x="7" y="97"/>
                    </a:lnTo>
                    <a:lnTo>
                      <a:pt x="15" y="84"/>
                    </a:lnTo>
                    <a:lnTo>
                      <a:pt x="25" y="72"/>
                    </a:lnTo>
                    <a:lnTo>
                      <a:pt x="36" y="59"/>
                    </a:lnTo>
                    <a:lnTo>
                      <a:pt x="48" y="46"/>
                    </a:lnTo>
                    <a:lnTo>
                      <a:pt x="62" y="36"/>
                    </a:lnTo>
                    <a:lnTo>
                      <a:pt x="75" y="23"/>
                    </a:lnTo>
                    <a:lnTo>
                      <a:pt x="89" y="10"/>
                    </a:lnTo>
                    <a:lnTo>
                      <a:pt x="102" y="0"/>
                    </a:lnTo>
                    <a:lnTo>
                      <a:pt x="102" y="3"/>
                    </a:lnTo>
                    <a:lnTo>
                      <a:pt x="102" y="9"/>
                    </a:lnTo>
                    <a:lnTo>
                      <a:pt x="100" y="12"/>
                    </a:lnTo>
                    <a:lnTo>
                      <a:pt x="100" y="16"/>
                    </a:lnTo>
                    <a:lnTo>
                      <a:pt x="98" y="19"/>
                    </a:lnTo>
                    <a:lnTo>
                      <a:pt x="96" y="23"/>
                    </a:lnTo>
                    <a:lnTo>
                      <a:pt x="93" y="23"/>
                    </a:lnTo>
                    <a:lnTo>
                      <a:pt x="89" y="25"/>
                    </a:lnTo>
                    <a:lnTo>
                      <a:pt x="85" y="25"/>
                    </a:lnTo>
                    <a:lnTo>
                      <a:pt x="81" y="23"/>
                    </a:lnTo>
                    <a:lnTo>
                      <a:pt x="81" y="23"/>
                    </a:lnTo>
                    <a:lnTo>
                      <a:pt x="79" y="23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334920" y="5983200"/>
                <a:ext cx="29880" cy="6840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20" y="58"/>
                    </a:moveTo>
                    <a:lnTo>
                      <a:pt x="22" y="56"/>
                    </a:lnTo>
                    <a:lnTo>
                      <a:pt x="22" y="54"/>
                    </a:lnTo>
                    <a:lnTo>
                      <a:pt x="22" y="52"/>
                    </a:lnTo>
                    <a:lnTo>
                      <a:pt x="22" y="51"/>
                    </a:lnTo>
                    <a:lnTo>
                      <a:pt x="22" y="49"/>
                    </a:lnTo>
                    <a:lnTo>
                      <a:pt x="22" y="47"/>
                    </a:lnTo>
                    <a:lnTo>
                      <a:pt x="22" y="45"/>
                    </a:lnTo>
                    <a:lnTo>
                      <a:pt x="20" y="43"/>
                    </a:lnTo>
                    <a:lnTo>
                      <a:pt x="18" y="43"/>
                    </a:lnTo>
                    <a:lnTo>
                      <a:pt x="16" y="42"/>
                    </a:lnTo>
                    <a:lnTo>
                      <a:pt x="10" y="45"/>
                    </a:lnTo>
                    <a:lnTo>
                      <a:pt x="8" y="51"/>
                    </a:lnTo>
                    <a:lnTo>
                      <a:pt x="6" y="56"/>
                    </a:lnTo>
                    <a:lnTo>
                      <a:pt x="6" y="61"/>
                    </a:lnTo>
                    <a:lnTo>
                      <a:pt x="8" y="67"/>
                    </a:lnTo>
                    <a:lnTo>
                      <a:pt x="8" y="74"/>
                    </a:lnTo>
                    <a:lnTo>
                      <a:pt x="10" y="78"/>
                    </a:lnTo>
                    <a:lnTo>
                      <a:pt x="10" y="83"/>
                    </a:lnTo>
                    <a:lnTo>
                      <a:pt x="8" y="87"/>
                    </a:lnTo>
                    <a:lnTo>
                      <a:pt x="4" y="87"/>
                    </a:lnTo>
                    <a:lnTo>
                      <a:pt x="2" y="81"/>
                    </a:lnTo>
                    <a:lnTo>
                      <a:pt x="2" y="74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0" y="54"/>
                    </a:lnTo>
                    <a:lnTo>
                      <a:pt x="2" y="49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6" y="29"/>
                    </a:lnTo>
                    <a:lnTo>
                      <a:pt x="8" y="24"/>
                    </a:lnTo>
                    <a:lnTo>
                      <a:pt x="16" y="42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3"/>
                    </a:lnTo>
                    <a:lnTo>
                      <a:pt x="43" y="20"/>
                    </a:lnTo>
                    <a:lnTo>
                      <a:pt x="41" y="25"/>
                    </a:lnTo>
                    <a:lnTo>
                      <a:pt x="39" y="33"/>
                    </a:lnTo>
                    <a:lnTo>
                      <a:pt x="37" y="38"/>
                    </a:lnTo>
                    <a:lnTo>
                      <a:pt x="35" y="43"/>
                    </a:lnTo>
                    <a:lnTo>
                      <a:pt x="31" y="49"/>
                    </a:lnTo>
                    <a:lnTo>
                      <a:pt x="27" y="54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0" y="58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372360" y="599760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25" y="0"/>
                    </a:moveTo>
                    <a:lnTo>
                      <a:pt x="0" y="38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406920" y="600876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122" h="131">
                    <a:moveTo>
                      <a:pt x="8" y="131"/>
                    </a:moveTo>
                    <a:lnTo>
                      <a:pt x="0" y="131"/>
                    </a:lnTo>
                    <a:lnTo>
                      <a:pt x="8" y="117"/>
                    </a:lnTo>
                    <a:lnTo>
                      <a:pt x="19" y="102"/>
                    </a:lnTo>
                    <a:lnTo>
                      <a:pt x="29" y="88"/>
                    </a:lnTo>
                    <a:lnTo>
                      <a:pt x="43" y="75"/>
                    </a:lnTo>
                    <a:lnTo>
                      <a:pt x="54" y="61"/>
                    </a:lnTo>
                    <a:lnTo>
                      <a:pt x="68" y="48"/>
                    </a:lnTo>
                    <a:lnTo>
                      <a:pt x="81" y="36"/>
                    </a:lnTo>
                    <a:lnTo>
                      <a:pt x="95" y="23"/>
                    </a:lnTo>
                    <a:lnTo>
                      <a:pt x="108" y="12"/>
                    </a:lnTo>
                    <a:lnTo>
                      <a:pt x="122" y="0"/>
                    </a:lnTo>
                    <a:lnTo>
                      <a:pt x="114" y="16"/>
                    </a:lnTo>
                    <a:lnTo>
                      <a:pt x="105" y="28"/>
                    </a:lnTo>
                    <a:lnTo>
                      <a:pt x="95" y="43"/>
                    </a:lnTo>
                    <a:lnTo>
                      <a:pt x="81" y="55"/>
                    </a:lnTo>
                    <a:lnTo>
                      <a:pt x="70" y="68"/>
                    </a:lnTo>
                    <a:lnTo>
                      <a:pt x="56" y="81"/>
                    </a:lnTo>
                    <a:lnTo>
                      <a:pt x="43" y="93"/>
                    </a:lnTo>
                    <a:lnTo>
                      <a:pt x="31" y="106"/>
                    </a:lnTo>
                    <a:lnTo>
                      <a:pt x="19" y="119"/>
                    </a:lnTo>
                    <a:lnTo>
                      <a:pt x="10" y="131"/>
                    </a:lnTo>
                    <a:lnTo>
                      <a:pt x="10" y="131"/>
                    </a:lnTo>
                    <a:lnTo>
                      <a:pt x="8" y="131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657480" y="6023160"/>
                <a:ext cx="5760" cy="3312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1" y="0"/>
                    </a:moveTo>
                    <a:lnTo>
                      <a:pt x="7" y="1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410880" y="6015240"/>
                <a:ext cx="6840" cy="3168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2" y="0"/>
                    </a:moveTo>
                    <a:lnTo>
                      <a:pt x="10" y="0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415200" y="6039000"/>
                <a:ext cx="87120" cy="92160"/>
              </a:xfrm>
              <a:custGeom>
                <a:avLst/>
                <a:gdLst/>
                <a:ahLst/>
                <a:rect l="l" t="t" r="r" b="b"/>
                <a:pathLst>
                  <a:path w="122" h="118">
                    <a:moveTo>
                      <a:pt x="120" y="0"/>
                    </a:moveTo>
                    <a:lnTo>
                      <a:pt x="110" y="13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75" y="47"/>
                    </a:lnTo>
                    <a:lnTo>
                      <a:pt x="64" y="58"/>
                    </a:lnTo>
                    <a:lnTo>
                      <a:pt x="52" y="71"/>
                    </a:lnTo>
                    <a:lnTo>
                      <a:pt x="40" y="82"/>
                    </a:lnTo>
                    <a:lnTo>
                      <a:pt x="31" y="94"/>
                    </a:lnTo>
                    <a:lnTo>
                      <a:pt x="19" y="105"/>
                    </a:lnTo>
                    <a:lnTo>
                      <a:pt x="9" y="118"/>
                    </a:lnTo>
                    <a:lnTo>
                      <a:pt x="7" y="118"/>
                    </a:lnTo>
                    <a:lnTo>
                      <a:pt x="7" y="118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4" y="114"/>
                    </a:lnTo>
                    <a:lnTo>
                      <a:pt x="4" y="114"/>
                    </a:lnTo>
                    <a:lnTo>
                      <a:pt x="2" y="112"/>
                    </a:lnTo>
                    <a:lnTo>
                      <a:pt x="2" y="112"/>
                    </a:lnTo>
                    <a:lnTo>
                      <a:pt x="0" y="112"/>
                    </a:lnTo>
                    <a:lnTo>
                      <a:pt x="9" y="100"/>
                    </a:lnTo>
                    <a:lnTo>
                      <a:pt x="21" y="87"/>
                    </a:lnTo>
                    <a:lnTo>
                      <a:pt x="31" y="74"/>
                    </a:lnTo>
                    <a:lnTo>
                      <a:pt x="42" y="64"/>
                    </a:lnTo>
                    <a:lnTo>
                      <a:pt x="56" y="53"/>
                    </a:lnTo>
                    <a:lnTo>
                      <a:pt x="67" y="42"/>
                    </a:lnTo>
                    <a:lnTo>
                      <a:pt x="81" y="31"/>
                    </a:lnTo>
                    <a:lnTo>
                      <a:pt x="93" y="20"/>
                    </a:lnTo>
                    <a:lnTo>
                      <a:pt x="106" y="11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85840" y="6053040"/>
                <a:ext cx="55800" cy="117720"/>
              </a:xfrm>
              <a:custGeom>
                <a:avLst/>
                <a:gdLst/>
                <a:ahLst/>
                <a:rect l="l" t="t" r="r" b="b"/>
                <a:pathLst>
                  <a:path w="77" h="148">
                    <a:moveTo>
                      <a:pt x="9" y="100"/>
                    </a:moveTo>
                    <a:lnTo>
                      <a:pt x="77" y="11"/>
                    </a:lnTo>
                    <a:lnTo>
                      <a:pt x="75" y="22"/>
                    </a:lnTo>
                    <a:lnTo>
                      <a:pt x="71" y="35"/>
                    </a:lnTo>
                    <a:lnTo>
                      <a:pt x="66" y="49"/>
                    </a:lnTo>
                    <a:lnTo>
                      <a:pt x="60" y="62"/>
                    </a:lnTo>
                    <a:lnTo>
                      <a:pt x="50" y="76"/>
                    </a:lnTo>
                    <a:lnTo>
                      <a:pt x="40" y="91"/>
                    </a:lnTo>
                    <a:lnTo>
                      <a:pt x="33" y="105"/>
                    </a:lnTo>
                    <a:lnTo>
                      <a:pt x="23" y="119"/>
                    </a:lnTo>
                    <a:lnTo>
                      <a:pt x="13" y="134"/>
                    </a:lnTo>
                    <a:lnTo>
                      <a:pt x="6" y="148"/>
                    </a:lnTo>
                    <a:lnTo>
                      <a:pt x="4" y="96"/>
                    </a:lnTo>
                    <a:lnTo>
                      <a:pt x="0" y="100"/>
                    </a:lnTo>
                    <a:lnTo>
                      <a:pt x="0" y="87"/>
                    </a:lnTo>
                    <a:lnTo>
                      <a:pt x="2" y="76"/>
                    </a:lnTo>
                    <a:lnTo>
                      <a:pt x="6" y="65"/>
                    </a:lnTo>
                    <a:lnTo>
                      <a:pt x="11" y="55"/>
                    </a:lnTo>
                    <a:lnTo>
                      <a:pt x="19" y="46"/>
                    </a:lnTo>
                    <a:lnTo>
                      <a:pt x="27" y="37"/>
                    </a:lnTo>
                    <a:lnTo>
                      <a:pt x="35" y="28"/>
                    </a:lnTo>
                    <a:lnTo>
                      <a:pt x="42" y="19"/>
                    </a:lnTo>
                    <a:lnTo>
                      <a:pt x="50" y="9"/>
                    </a:lnTo>
                    <a:lnTo>
                      <a:pt x="58" y="0"/>
                    </a:lnTo>
                    <a:lnTo>
                      <a:pt x="52" y="9"/>
                    </a:lnTo>
                    <a:lnTo>
                      <a:pt x="46" y="20"/>
                    </a:lnTo>
                    <a:lnTo>
                      <a:pt x="40" y="29"/>
                    </a:lnTo>
                    <a:lnTo>
                      <a:pt x="35" y="40"/>
                    </a:lnTo>
                    <a:lnTo>
                      <a:pt x="29" y="51"/>
                    </a:lnTo>
                    <a:lnTo>
                      <a:pt x="23" y="60"/>
                    </a:lnTo>
                    <a:lnTo>
                      <a:pt x="19" y="71"/>
                    </a:lnTo>
                    <a:lnTo>
                      <a:pt x="15" y="82"/>
                    </a:lnTo>
                    <a:lnTo>
                      <a:pt x="11" y="91"/>
                    </a:lnTo>
                    <a:lnTo>
                      <a:pt x="9" y="100"/>
                    </a:lnTo>
                    <a:lnTo>
                      <a:pt x="9" y="10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93040" y="6085080"/>
                <a:ext cx="97200" cy="172800"/>
              </a:xfrm>
              <a:custGeom>
                <a:avLst/>
                <a:gdLst/>
                <a:ahLst/>
                <a:rect l="l" t="t" r="r" b="b"/>
                <a:pathLst>
                  <a:path w="138" h="216">
                    <a:moveTo>
                      <a:pt x="70" y="168"/>
                    </a:moveTo>
                    <a:lnTo>
                      <a:pt x="80" y="164"/>
                    </a:lnTo>
                    <a:lnTo>
                      <a:pt x="88" y="160"/>
                    </a:lnTo>
                    <a:lnTo>
                      <a:pt x="93" y="155"/>
                    </a:lnTo>
                    <a:lnTo>
                      <a:pt x="97" y="148"/>
                    </a:lnTo>
                    <a:lnTo>
                      <a:pt x="101" y="141"/>
                    </a:lnTo>
                    <a:lnTo>
                      <a:pt x="105" y="133"/>
                    </a:lnTo>
                    <a:lnTo>
                      <a:pt x="107" y="126"/>
                    </a:lnTo>
                    <a:lnTo>
                      <a:pt x="111" y="119"/>
                    </a:lnTo>
                    <a:lnTo>
                      <a:pt x="113" y="112"/>
                    </a:lnTo>
                    <a:lnTo>
                      <a:pt x="119" y="106"/>
                    </a:lnTo>
                    <a:lnTo>
                      <a:pt x="138" y="151"/>
                    </a:lnTo>
                    <a:lnTo>
                      <a:pt x="2" y="216"/>
                    </a:lnTo>
                    <a:lnTo>
                      <a:pt x="0" y="191"/>
                    </a:lnTo>
                    <a:lnTo>
                      <a:pt x="2" y="169"/>
                    </a:lnTo>
                    <a:lnTo>
                      <a:pt x="10" y="148"/>
                    </a:lnTo>
                    <a:lnTo>
                      <a:pt x="20" y="128"/>
                    </a:lnTo>
                    <a:lnTo>
                      <a:pt x="31" y="110"/>
                    </a:lnTo>
                    <a:lnTo>
                      <a:pt x="45" y="90"/>
                    </a:lnTo>
                    <a:lnTo>
                      <a:pt x="59" y="74"/>
                    </a:lnTo>
                    <a:lnTo>
                      <a:pt x="74" y="56"/>
                    </a:lnTo>
                    <a:lnTo>
                      <a:pt x="88" y="38"/>
                    </a:lnTo>
                    <a:lnTo>
                      <a:pt x="101" y="22"/>
                    </a:lnTo>
                    <a:lnTo>
                      <a:pt x="99" y="0"/>
                    </a:lnTo>
                    <a:lnTo>
                      <a:pt x="113" y="18"/>
                    </a:lnTo>
                    <a:lnTo>
                      <a:pt x="119" y="36"/>
                    </a:lnTo>
                    <a:lnTo>
                      <a:pt x="119" y="54"/>
                    </a:lnTo>
                    <a:lnTo>
                      <a:pt x="111" y="70"/>
                    </a:lnTo>
                    <a:lnTo>
                      <a:pt x="103" y="86"/>
                    </a:lnTo>
                    <a:lnTo>
                      <a:pt x="92" y="103"/>
                    </a:lnTo>
                    <a:lnTo>
                      <a:pt x="82" y="119"/>
                    </a:lnTo>
                    <a:lnTo>
                      <a:pt x="72" y="135"/>
                    </a:lnTo>
                    <a:lnTo>
                      <a:pt x="68" y="151"/>
                    </a:lnTo>
                    <a:lnTo>
                      <a:pt x="70" y="168"/>
                    </a:lnTo>
                    <a:lnTo>
                      <a:pt x="70" y="168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28160" y="6086520"/>
                <a:ext cx="52920" cy="6660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10" y="81"/>
                    </a:moveTo>
                    <a:lnTo>
                      <a:pt x="8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2" y="81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4" y="68"/>
                    </a:lnTo>
                    <a:lnTo>
                      <a:pt x="10" y="57"/>
                    </a:lnTo>
                    <a:lnTo>
                      <a:pt x="16" y="48"/>
                    </a:lnTo>
                    <a:lnTo>
                      <a:pt x="21" y="41"/>
                    </a:lnTo>
                    <a:lnTo>
                      <a:pt x="29" y="32"/>
                    </a:lnTo>
                    <a:lnTo>
                      <a:pt x="39" y="25"/>
                    </a:lnTo>
                    <a:lnTo>
                      <a:pt x="47" y="18"/>
                    </a:lnTo>
                    <a:lnTo>
                      <a:pt x="56" y="11"/>
                    </a:lnTo>
                    <a:lnTo>
                      <a:pt x="66" y="5"/>
                    </a:lnTo>
                    <a:lnTo>
                      <a:pt x="76" y="0"/>
                    </a:lnTo>
                    <a:lnTo>
                      <a:pt x="72" y="7"/>
                    </a:lnTo>
                    <a:lnTo>
                      <a:pt x="68" y="16"/>
                    </a:lnTo>
                    <a:lnTo>
                      <a:pt x="60" y="23"/>
                    </a:lnTo>
                    <a:lnTo>
                      <a:pt x="52" y="32"/>
                    </a:lnTo>
                    <a:lnTo>
                      <a:pt x="45" y="39"/>
                    </a:lnTo>
                    <a:lnTo>
                      <a:pt x="37" y="47"/>
                    </a:lnTo>
                    <a:lnTo>
                      <a:pt x="27" y="56"/>
                    </a:lnTo>
                    <a:lnTo>
                      <a:pt x="21" y="65"/>
                    </a:lnTo>
                    <a:lnTo>
                      <a:pt x="14" y="7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1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94480" y="6113520"/>
                <a:ext cx="38520" cy="85680"/>
              </a:xfrm>
              <a:custGeom>
                <a:avLst/>
                <a:gdLst/>
                <a:ahLst/>
                <a:rect l="l" t="t" r="r" b="b"/>
                <a:pathLst>
                  <a:path w="55" h="106">
                    <a:moveTo>
                      <a:pt x="0" y="105"/>
                    </a:moveTo>
                    <a:lnTo>
                      <a:pt x="0" y="97"/>
                    </a:lnTo>
                    <a:lnTo>
                      <a:pt x="2" y="88"/>
                    </a:lnTo>
                    <a:lnTo>
                      <a:pt x="6" y="78"/>
                    </a:lnTo>
                    <a:lnTo>
                      <a:pt x="12" y="67"/>
                    </a:lnTo>
                    <a:lnTo>
                      <a:pt x="18" y="56"/>
                    </a:lnTo>
                    <a:lnTo>
                      <a:pt x="26" y="43"/>
                    </a:lnTo>
                    <a:lnTo>
                      <a:pt x="33" y="32"/>
                    </a:lnTo>
                    <a:lnTo>
                      <a:pt x="41" y="22"/>
                    </a:lnTo>
                    <a:lnTo>
                      <a:pt x="49" y="11"/>
                    </a:lnTo>
                    <a:lnTo>
                      <a:pt x="55" y="0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426720" y="6127920"/>
                <a:ext cx="4320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0"/>
                    </a:moveTo>
                    <a:lnTo>
                      <a:pt x="56" y="9"/>
                    </a:lnTo>
                    <a:lnTo>
                      <a:pt x="52" y="16"/>
                    </a:lnTo>
                    <a:lnTo>
                      <a:pt x="47" y="24"/>
                    </a:lnTo>
                    <a:lnTo>
                      <a:pt x="41" y="31"/>
                    </a:lnTo>
                    <a:lnTo>
                      <a:pt x="35" y="36"/>
                    </a:lnTo>
                    <a:lnTo>
                      <a:pt x="27" y="43"/>
                    </a:lnTo>
                    <a:lnTo>
                      <a:pt x="20" y="49"/>
                    </a:lnTo>
                    <a:lnTo>
                      <a:pt x="14" y="54"/>
                    </a:lnTo>
                    <a:lnTo>
                      <a:pt x="6" y="60"/>
                    </a:lnTo>
                    <a:lnTo>
                      <a:pt x="0" y="65"/>
                    </a:lnTo>
                    <a:lnTo>
                      <a:pt x="4" y="60"/>
                    </a:lnTo>
                    <a:lnTo>
                      <a:pt x="8" y="54"/>
                    </a:lnTo>
                    <a:lnTo>
                      <a:pt x="14" y="47"/>
                    </a:lnTo>
                    <a:lnTo>
                      <a:pt x="20" y="40"/>
                    </a:lnTo>
                    <a:lnTo>
                      <a:pt x="25" y="33"/>
                    </a:lnTo>
                    <a:lnTo>
                      <a:pt x="31" y="25"/>
                    </a:lnTo>
                    <a:lnTo>
                      <a:pt x="39" y="18"/>
                    </a:lnTo>
                    <a:lnTo>
                      <a:pt x="45" y="11"/>
                    </a:lnTo>
                    <a:lnTo>
                      <a:pt x="52" y="6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621840" y="6176880"/>
                <a:ext cx="15840" cy="5400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0" y="69"/>
                    </a:moveTo>
                    <a:lnTo>
                      <a:pt x="2" y="63"/>
                    </a:lnTo>
                    <a:lnTo>
                      <a:pt x="2" y="56"/>
                    </a:lnTo>
                    <a:lnTo>
                      <a:pt x="2" y="49"/>
                    </a:lnTo>
                    <a:lnTo>
                      <a:pt x="2" y="42"/>
                    </a:lnTo>
                    <a:lnTo>
                      <a:pt x="4" y="35"/>
                    </a:lnTo>
                    <a:lnTo>
                      <a:pt x="4" y="26"/>
                    </a:lnTo>
                    <a:lnTo>
                      <a:pt x="6" y="18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3"/>
                    </a:lnTo>
                    <a:lnTo>
                      <a:pt x="18" y="22"/>
                    </a:lnTo>
                    <a:lnTo>
                      <a:pt x="20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20" y="54"/>
                    </a:lnTo>
                    <a:lnTo>
                      <a:pt x="18" y="62"/>
                    </a:lnTo>
                    <a:lnTo>
                      <a:pt x="10" y="65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429600" y="61801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29"/>
                    </a:moveTo>
                    <a:lnTo>
                      <a:pt x="21" y="0"/>
                    </a:lnTo>
                    <a:lnTo>
                      <a:pt x="19" y="13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540120" y="618660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15" h="65">
                    <a:moveTo>
                      <a:pt x="2" y="65"/>
                    </a:moveTo>
                    <a:lnTo>
                      <a:pt x="0" y="58"/>
                    </a:lnTo>
                    <a:lnTo>
                      <a:pt x="0" y="52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4" y="25"/>
                    </a:lnTo>
                    <a:lnTo>
                      <a:pt x="6" y="20"/>
                    </a:lnTo>
                    <a:lnTo>
                      <a:pt x="10" y="13"/>
                    </a:lnTo>
                    <a:lnTo>
                      <a:pt x="13" y="7"/>
                    </a:lnTo>
                    <a:lnTo>
                      <a:pt x="15" y="0"/>
                    </a:lnTo>
                    <a:lnTo>
                      <a:pt x="15" y="7"/>
                    </a:lnTo>
                    <a:lnTo>
                      <a:pt x="13" y="14"/>
                    </a:lnTo>
                    <a:lnTo>
                      <a:pt x="13" y="22"/>
                    </a:lnTo>
                    <a:lnTo>
                      <a:pt x="13" y="29"/>
                    </a:lnTo>
                    <a:lnTo>
                      <a:pt x="13" y="36"/>
                    </a:lnTo>
                    <a:lnTo>
                      <a:pt x="13" y="43"/>
                    </a:lnTo>
                    <a:lnTo>
                      <a:pt x="12" y="50"/>
                    </a:lnTo>
                    <a:lnTo>
                      <a:pt x="10" y="56"/>
                    </a:lnTo>
                    <a:lnTo>
                      <a:pt x="6" y="61"/>
                    </a:lnTo>
                    <a:lnTo>
                      <a:pt x="2" y="65"/>
                    </a:lnTo>
                    <a:lnTo>
                      <a:pt x="2" y="65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23280" y="6208920"/>
                <a:ext cx="94320" cy="45720"/>
              </a:xfrm>
              <a:custGeom>
                <a:avLst/>
                <a:gdLst/>
                <a:ahLst/>
                <a:rect l="l" t="t" r="r" b="b"/>
                <a:pathLst>
                  <a:path w="132" h="58">
                    <a:moveTo>
                      <a:pt x="130" y="0"/>
                    </a:moveTo>
                    <a:lnTo>
                      <a:pt x="120" y="9"/>
                    </a:lnTo>
                    <a:lnTo>
                      <a:pt x="109" y="16"/>
                    </a:lnTo>
                    <a:lnTo>
                      <a:pt x="95" y="25"/>
                    </a:lnTo>
                    <a:lnTo>
                      <a:pt x="81" y="32"/>
                    </a:lnTo>
                    <a:lnTo>
                      <a:pt x="68" y="40"/>
                    </a:lnTo>
                    <a:lnTo>
                      <a:pt x="54" y="45"/>
                    </a:lnTo>
                    <a:lnTo>
                      <a:pt x="41" y="50"/>
                    </a:lnTo>
                    <a:lnTo>
                      <a:pt x="27" y="54"/>
                    </a:lnTo>
                    <a:lnTo>
                      <a:pt x="14" y="58"/>
                    </a:lnTo>
                    <a:lnTo>
                      <a:pt x="0" y="58"/>
                    </a:lnTo>
                    <a:lnTo>
                      <a:pt x="14" y="50"/>
                    </a:lnTo>
                    <a:lnTo>
                      <a:pt x="25" y="45"/>
                    </a:lnTo>
                    <a:lnTo>
                      <a:pt x="39" y="40"/>
                    </a:lnTo>
                    <a:lnTo>
                      <a:pt x="52" y="34"/>
                    </a:lnTo>
                    <a:lnTo>
                      <a:pt x="66" y="29"/>
                    </a:lnTo>
                    <a:lnTo>
                      <a:pt x="79" y="25"/>
                    </a:lnTo>
                    <a:lnTo>
                      <a:pt x="93" y="20"/>
                    </a:lnTo>
                    <a:lnTo>
                      <a:pt x="107" y="14"/>
                    </a:lnTo>
                    <a:lnTo>
                      <a:pt x="118" y="9"/>
                    </a:lnTo>
                    <a:lnTo>
                      <a:pt x="132" y="2"/>
                    </a:lnTo>
                    <a:lnTo>
                      <a:pt x="132" y="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519960" y="621360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0" y="53"/>
                    </a:moveTo>
                    <a:lnTo>
                      <a:pt x="0" y="49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2" y="22"/>
                    </a:lnTo>
                    <a:lnTo>
                      <a:pt x="4" y="17"/>
                    </a:lnTo>
                    <a:lnTo>
                      <a:pt x="6" y="11"/>
                    </a:lnTo>
                    <a:lnTo>
                      <a:pt x="9" y="6"/>
                    </a:lnTo>
                    <a:lnTo>
                      <a:pt x="13" y="0"/>
                    </a:lnTo>
                    <a:lnTo>
                      <a:pt x="11" y="8"/>
                    </a:lnTo>
                    <a:lnTo>
                      <a:pt x="11" y="15"/>
                    </a:lnTo>
                    <a:lnTo>
                      <a:pt x="11" y="20"/>
                    </a:lnTo>
                    <a:lnTo>
                      <a:pt x="13" y="26"/>
                    </a:lnTo>
                    <a:lnTo>
                      <a:pt x="15" y="33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3" y="47"/>
                    </a:lnTo>
                    <a:lnTo>
                      <a:pt x="8" y="51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578640" y="6229440"/>
                <a:ext cx="167760" cy="88920"/>
              </a:xfrm>
              <a:custGeom>
                <a:avLst/>
                <a:gdLst/>
                <a:ahLst/>
                <a:rect l="l" t="t" r="r" b="b"/>
                <a:pathLst>
                  <a:path w="234" h="114">
                    <a:moveTo>
                      <a:pt x="19" y="112"/>
                    </a:moveTo>
                    <a:lnTo>
                      <a:pt x="16" y="114"/>
                    </a:lnTo>
                    <a:lnTo>
                      <a:pt x="12" y="112"/>
                    </a:lnTo>
                    <a:lnTo>
                      <a:pt x="10" y="108"/>
                    </a:lnTo>
                    <a:lnTo>
                      <a:pt x="8" y="103"/>
                    </a:lnTo>
                    <a:lnTo>
                      <a:pt x="8" y="98"/>
                    </a:lnTo>
                    <a:lnTo>
                      <a:pt x="8" y="92"/>
                    </a:lnTo>
                    <a:lnTo>
                      <a:pt x="6" y="87"/>
                    </a:lnTo>
                    <a:lnTo>
                      <a:pt x="4" y="81"/>
                    </a:lnTo>
                    <a:lnTo>
                      <a:pt x="2" y="76"/>
                    </a:lnTo>
                    <a:lnTo>
                      <a:pt x="0" y="72"/>
                    </a:lnTo>
                    <a:lnTo>
                      <a:pt x="37" y="52"/>
                    </a:lnTo>
                    <a:lnTo>
                      <a:pt x="37" y="58"/>
                    </a:lnTo>
                    <a:lnTo>
                      <a:pt x="33" y="63"/>
                    </a:lnTo>
                    <a:lnTo>
                      <a:pt x="31" y="67"/>
                    </a:lnTo>
                    <a:lnTo>
                      <a:pt x="27" y="72"/>
                    </a:lnTo>
                    <a:lnTo>
                      <a:pt x="23" y="76"/>
                    </a:lnTo>
                    <a:lnTo>
                      <a:pt x="19" y="80"/>
                    </a:lnTo>
                    <a:lnTo>
                      <a:pt x="18" y="85"/>
                    </a:lnTo>
                    <a:lnTo>
                      <a:pt x="16" y="90"/>
                    </a:lnTo>
                    <a:lnTo>
                      <a:pt x="18" y="96"/>
                    </a:lnTo>
                    <a:lnTo>
                      <a:pt x="21" y="101"/>
                    </a:lnTo>
                    <a:lnTo>
                      <a:pt x="41" y="87"/>
                    </a:lnTo>
                    <a:lnTo>
                      <a:pt x="60" y="74"/>
                    </a:lnTo>
                    <a:lnTo>
                      <a:pt x="80" y="60"/>
                    </a:lnTo>
                    <a:lnTo>
                      <a:pt x="101" y="47"/>
                    </a:lnTo>
                    <a:lnTo>
                      <a:pt x="122" y="34"/>
                    </a:lnTo>
                    <a:lnTo>
                      <a:pt x="143" y="24"/>
                    </a:lnTo>
                    <a:lnTo>
                      <a:pt x="165" y="15"/>
                    </a:lnTo>
                    <a:lnTo>
                      <a:pt x="188" y="7"/>
                    </a:lnTo>
                    <a:lnTo>
                      <a:pt x="211" y="4"/>
                    </a:lnTo>
                    <a:lnTo>
                      <a:pt x="234" y="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2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595920" y="6243840"/>
                <a:ext cx="176040" cy="91800"/>
              </a:xfrm>
              <a:custGeom>
                <a:avLst/>
                <a:gdLst/>
                <a:ahLst/>
                <a:rect l="l" t="t" r="r" b="b"/>
                <a:pathLst>
                  <a:path w="246" h="117">
                    <a:moveTo>
                      <a:pt x="246" y="2"/>
                    </a:moveTo>
                    <a:lnTo>
                      <a:pt x="221" y="15"/>
                    </a:lnTo>
                    <a:lnTo>
                      <a:pt x="196" y="25"/>
                    </a:lnTo>
                    <a:lnTo>
                      <a:pt x="173" y="38"/>
                    </a:lnTo>
                    <a:lnTo>
                      <a:pt x="148" y="49"/>
                    </a:lnTo>
                    <a:lnTo>
                      <a:pt x="122" y="60"/>
                    </a:lnTo>
                    <a:lnTo>
                      <a:pt x="99" y="72"/>
                    </a:lnTo>
                    <a:lnTo>
                      <a:pt x="74" y="83"/>
                    </a:lnTo>
                    <a:lnTo>
                      <a:pt x="49" y="94"/>
                    </a:lnTo>
                    <a:lnTo>
                      <a:pt x="26" y="107"/>
                    </a:lnTo>
                    <a:lnTo>
                      <a:pt x="0" y="117"/>
                    </a:lnTo>
                    <a:lnTo>
                      <a:pt x="20" y="105"/>
                    </a:lnTo>
                    <a:lnTo>
                      <a:pt x="37" y="90"/>
                    </a:lnTo>
                    <a:lnTo>
                      <a:pt x="58" y="78"/>
                    </a:lnTo>
                    <a:lnTo>
                      <a:pt x="78" y="65"/>
                    </a:lnTo>
                    <a:lnTo>
                      <a:pt x="99" y="54"/>
                    </a:lnTo>
                    <a:lnTo>
                      <a:pt x="120" y="42"/>
                    </a:lnTo>
                    <a:lnTo>
                      <a:pt x="142" y="33"/>
                    </a:lnTo>
                    <a:lnTo>
                      <a:pt x="165" y="24"/>
                    </a:lnTo>
                    <a:lnTo>
                      <a:pt x="188" y="18"/>
                    </a:lnTo>
                    <a:lnTo>
                      <a:pt x="213" y="13"/>
                    </a:lnTo>
                    <a:lnTo>
                      <a:pt x="215" y="11"/>
                    </a:lnTo>
                    <a:lnTo>
                      <a:pt x="219" y="9"/>
                    </a:lnTo>
                    <a:lnTo>
                      <a:pt x="223" y="6"/>
                    </a:lnTo>
                    <a:lnTo>
                      <a:pt x="227" y="4"/>
                    </a:lnTo>
                    <a:lnTo>
                      <a:pt x="231" y="2"/>
                    </a:lnTo>
                    <a:lnTo>
                      <a:pt x="233" y="0"/>
                    </a:lnTo>
                    <a:lnTo>
                      <a:pt x="237" y="0"/>
                    </a:lnTo>
                    <a:lnTo>
                      <a:pt x="240" y="0"/>
                    </a:lnTo>
                    <a:lnTo>
                      <a:pt x="244" y="0"/>
                    </a:lnTo>
                    <a:lnTo>
                      <a:pt x="246" y="4"/>
                    </a:lnTo>
                    <a:lnTo>
                      <a:pt x="246" y="4"/>
                    </a:lnTo>
                    <a:lnTo>
                      <a:pt x="246" y="2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350760" y="6215040"/>
                <a:ext cx="5400" cy="44640"/>
              </a:xfrm>
              <a:custGeom>
                <a:avLst/>
                <a:gdLst/>
                <a:ahLst/>
                <a:rect l="l" t="t" r="r" b="b"/>
                <a:pathLst>
                  <a:path w="7" h="58">
                    <a:moveTo>
                      <a:pt x="5" y="0"/>
                    </a:moveTo>
                    <a:lnTo>
                      <a:pt x="0" y="58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594480" y="6253200"/>
                <a:ext cx="444240" cy="216000"/>
              </a:xfrm>
              <a:custGeom>
                <a:avLst/>
                <a:gdLst/>
                <a:ahLst/>
                <a:rect l="l" t="t" r="r" b="b"/>
                <a:pathLst>
                  <a:path w="622" h="272">
                    <a:moveTo>
                      <a:pt x="293" y="11"/>
                    </a:moveTo>
                    <a:lnTo>
                      <a:pt x="268" y="25"/>
                    </a:lnTo>
                    <a:lnTo>
                      <a:pt x="239" y="40"/>
                    </a:lnTo>
                    <a:lnTo>
                      <a:pt x="211" y="52"/>
                    </a:lnTo>
                    <a:lnTo>
                      <a:pt x="184" y="65"/>
                    </a:lnTo>
                    <a:lnTo>
                      <a:pt x="155" y="77"/>
                    </a:lnTo>
                    <a:lnTo>
                      <a:pt x="126" y="90"/>
                    </a:lnTo>
                    <a:lnTo>
                      <a:pt x="99" y="104"/>
                    </a:lnTo>
                    <a:lnTo>
                      <a:pt x="70" y="117"/>
                    </a:lnTo>
                    <a:lnTo>
                      <a:pt x="43" y="133"/>
                    </a:lnTo>
                    <a:lnTo>
                      <a:pt x="18" y="149"/>
                    </a:lnTo>
                    <a:lnTo>
                      <a:pt x="14" y="157"/>
                    </a:lnTo>
                    <a:lnTo>
                      <a:pt x="12" y="164"/>
                    </a:lnTo>
                    <a:lnTo>
                      <a:pt x="14" y="169"/>
                    </a:lnTo>
                    <a:lnTo>
                      <a:pt x="18" y="173"/>
                    </a:lnTo>
                    <a:lnTo>
                      <a:pt x="24" y="177"/>
                    </a:lnTo>
                    <a:lnTo>
                      <a:pt x="29" y="180"/>
                    </a:lnTo>
                    <a:lnTo>
                      <a:pt x="37" y="184"/>
                    </a:lnTo>
                    <a:lnTo>
                      <a:pt x="45" y="186"/>
                    </a:lnTo>
                    <a:lnTo>
                      <a:pt x="51" y="187"/>
                    </a:lnTo>
                    <a:lnTo>
                      <a:pt x="57" y="191"/>
                    </a:lnTo>
                    <a:lnTo>
                      <a:pt x="93" y="198"/>
                    </a:lnTo>
                    <a:lnTo>
                      <a:pt x="130" y="205"/>
                    </a:lnTo>
                    <a:lnTo>
                      <a:pt x="167" y="211"/>
                    </a:lnTo>
                    <a:lnTo>
                      <a:pt x="206" y="214"/>
                    </a:lnTo>
                    <a:lnTo>
                      <a:pt x="242" y="216"/>
                    </a:lnTo>
                    <a:lnTo>
                      <a:pt x="279" y="216"/>
                    </a:lnTo>
                    <a:lnTo>
                      <a:pt x="316" y="214"/>
                    </a:lnTo>
                    <a:lnTo>
                      <a:pt x="353" y="211"/>
                    </a:lnTo>
                    <a:lnTo>
                      <a:pt x="388" y="207"/>
                    </a:lnTo>
                    <a:lnTo>
                      <a:pt x="423" y="200"/>
                    </a:lnTo>
                    <a:lnTo>
                      <a:pt x="442" y="200"/>
                    </a:lnTo>
                    <a:lnTo>
                      <a:pt x="461" y="198"/>
                    </a:lnTo>
                    <a:lnTo>
                      <a:pt x="481" y="198"/>
                    </a:lnTo>
                    <a:lnTo>
                      <a:pt x="500" y="195"/>
                    </a:lnTo>
                    <a:lnTo>
                      <a:pt x="519" y="191"/>
                    </a:lnTo>
                    <a:lnTo>
                      <a:pt x="541" y="187"/>
                    </a:lnTo>
                    <a:lnTo>
                      <a:pt x="560" y="184"/>
                    </a:lnTo>
                    <a:lnTo>
                      <a:pt x="579" y="180"/>
                    </a:lnTo>
                    <a:lnTo>
                      <a:pt x="599" y="175"/>
                    </a:lnTo>
                    <a:lnTo>
                      <a:pt x="618" y="169"/>
                    </a:lnTo>
                    <a:lnTo>
                      <a:pt x="618" y="173"/>
                    </a:lnTo>
                    <a:lnTo>
                      <a:pt x="620" y="177"/>
                    </a:lnTo>
                    <a:lnTo>
                      <a:pt x="620" y="180"/>
                    </a:lnTo>
                    <a:lnTo>
                      <a:pt x="622" y="184"/>
                    </a:lnTo>
                    <a:lnTo>
                      <a:pt x="620" y="187"/>
                    </a:lnTo>
                    <a:lnTo>
                      <a:pt x="620" y="189"/>
                    </a:lnTo>
                    <a:lnTo>
                      <a:pt x="618" y="193"/>
                    </a:lnTo>
                    <a:lnTo>
                      <a:pt x="616" y="196"/>
                    </a:lnTo>
                    <a:lnTo>
                      <a:pt x="614" y="198"/>
                    </a:lnTo>
                    <a:lnTo>
                      <a:pt x="608" y="200"/>
                    </a:lnTo>
                    <a:lnTo>
                      <a:pt x="593" y="205"/>
                    </a:lnTo>
                    <a:lnTo>
                      <a:pt x="576" y="211"/>
                    </a:lnTo>
                    <a:lnTo>
                      <a:pt x="556" y="216"/>
                    </a:lnTo>
                    <a:lnTo>
                      <a:pt x="539" y="222"/>
                    </a:lnTo>
                    <a:lnTo>
                      <a:pt x="521" y="225"/>
                    </a:lnTo>
                    <a:lnTo>
                      <a:pt x="502" y="229"/>
                    </a:lnTo>
                    <a:lnTo>
                      <a:pt x="485" y="232"/>
                    </a:lnTo>
                    <a:lnTo>
                      <a:pt x="465" y="236"/>
                    </a:lnTo>
                    <a:lnTo>
                      <a:pt x="448" y="240"/>
                    </a:lnTo>
                    <a:lnTo>
                      <a:pt x="428" y="245"/>
                    </a:lnTo>
                    <a:lnTo>
                      <a:pt x="393" y="258"/>
                    </a:lnTo>
                    <a:lnTo>
                      <a:pt x="355" y="267"/>
                    </a:lnTo>
                    <a:lnTo>
                      <a:pt x="316" y="270"/>
                    </a:lnTo>
                    <a:lnTo>
                      <a:pt x="277" y="272"/>
                    </a:lnTo>
                    <a:lnTo>
                      <a:pt x="237" y="270"/>
                    </a:lnTo>
                    <a:lnTo>
                      <a:pt x="198" y="265"/>
                    </a:lnTo>
                    <a:lnTo>
                      <a:pt x="157" y="259"/>
                    </a:lnTo>
                    <a:lnTo>
                      <a:pt x="117" y="252"/>
                    </a:lnTo>
                    <a:lnTo>
                      <a:pt x="78" y="247"/>
                    </a:lnTo>
                    <a:lnTo>
                      <a:pt x="39" y="240"/>
                    </a:lnTo>
                    <a:lnTo>
                      <a:pt x="22" y="254"/>
                    </a:lnTo>
                    <a:lnTo>
                      <a:pt x="24" y="240"/>
                    </a:lnTo>
                    <a:lnTo>
                      <a:pt x="22" y="227"/>
                    </a:lnTo>
                    <a:lnTo>
                      <a:pt x="18" y="216"/>
                    </a:lnTo>
                    <a:lnTo>
                      <a:pt x="14" y="204"/>
                    </a:lnTo>
                    <a:lnTo>
                      <a:pt x="8" y="193"/>
                    </a:lnTo>
                    <a:lnTo>
                      <a:pt x="4" y="180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2" y="144"/>
                    </a:lnTo>
                    <a:lnTo>
                      <a:pt x="8" y="130"/>
                    </a:lnTo>
                    <a:lnTo>
                      <a:pt x="33" y="113"/>
                    </a:lnTo>
                    <a:lnTo>
                      <a:pt x="57" y="99"/>
                    </a:lnTo>
                    <a:lnTo>
                      <a:pt x="82" y="85"/>
                    </a:lnTo>
                    <a:lnTo>
                      <a:pt x="109" y="70"/>
                    </a:lnTo>
                    <a:lnTo>
                      <a:pt x="134" y="58"/>
                    </a:lnTo>
                    <a:lnTo>
                      <a:pt x="161" y="45"/>
                    </a:lnTo>
                    <a:lnTo>
                      <a:pt x="186" y="34"/>
                    </a:lnTo>
                    <a:lnTo>
                      <a:pt x="213" y="21"/>
                    </a:lnTo>
                    <a:lnTo>
                      <a:pt x="241" y="11"/>
                    </a:lnTo>
                    <a:lnTo>
                      <a:pt x="268" y="0"/>
                    </a:lnTo>
                    <a:lnTo>
                      <a:pt x="270" y="3"/>
                    </a:lnTo>
                    <a:lnTo>
                      <a:pt x="272" y="3"/>
                    </a:lnTo>
                    <a:lnTo>
                      <a:pt x="273" y="5"/>
                    </a:lnTo>
                    <a:lnTo>
                      <a:pt x="275" y="5"/>
                    </a:lnTo>
                    <a:lnTo>
                      <a:pt x="279" y="5"/>
                    </a:lnTo>
                    <a:lnTo>
                      <a:pt x="283" y="5"/>
                    </a:lnTo>
                    <a:lnTo>
                      <a:pt x="285" y="7"/>
                    </a:lnTo>
                    <a:lnTo>
                      <a:pt x="289" y="7"/>
                    </a:lnTo>
                    <a:lnTo>
                      <a:pt x="291" y="9"/>
                    </a:lnTo>
                    <a:lnTo>
                      <a:pt x="293" y="11"/>
                    </a:lnTo>
                    <a:lnTo>
                      <a:pt x="293" y="11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04040" y="6243840"/>
                <a:ext cx="9720" cy="2844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2" y="34"/>
                    </a:moveTo>
                    <a:lnTo>
                      <a:pt x="10" y="33"/>
                    </a:lnTo>
                    <a:lnTo>
                      <a:pt x="6" y="31"/>
                    </a:lnTo>
                    <a:lnTo>
                      <a:pt x="4" y="27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0" y="7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4" y="16"/>
                    </a:lnTo>
                    <a:lnTo>
                      <a:pt x="14" y="20"/>
                    </a:lnTo>
                    <a:lnTo>
                      <a:pt x="14" y="24"/>
                    </a:lnTo>
                    <a:lnTo>
                      <a:pt x="14" y="27"/>
                    </a:lnTo>
                    <a:lnTo>
                      <a:pt x="12" y="33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627600" y="6275520"/>
                <a:ext cx="194760" cy="98280"/>
              </a:xfrm>
              <a:custGeom>
                <a:avLst/>
                <a:gdLst/>
                <a:ahLst/>
                <a:rect l="l" t="t" r="r" b="b"/>
                <a:pathLst>
                  <a:path w="273" h="122">
                    <a:moveTo>
                      <a:pt x="271" y="0"/>
                    </a:moveTo>
                    <a:lnTo>
                      <a:pt x="246" y="14"/>
                    </a:lnTo>
                    <a:lnTo>
                      <a:pt x="221" y="27"/>
                    </a:lnTo>
                    <a:lnTo>
                      <a:pt x="194" y="39"/>
                    </a:lnTo>
                    <a:lnTo>
                      <a:pt x="166" y="50"/>
                    </a:lnTo>
                    <a:lnTo>
                      <a:pt x="141" y="63"/>
                    </a:lnTo>
                    <a:lnTo>
                      <a:pt x="114" y="74"/>
                    </a:lnTo>
                    <a:lnTo>
                      <a:pt x="89" y="86"/>
                    </a:lnTo>
                    <a:lnTo>
                      <a:pt x="62" y="99"/>
                    </a:lnTo>
                    <a:lnTo>
                      <a:pt x="37" y="110"/>
                    </a:lnTo>
                    <a:lnTo>
                      <a:pt x="13" y="122"/>
                    </a:lnTo>
                    <a:lnTo>
                      <a:pt x="0" y="122"/>
                    </a:lnTo>
                    <a:lnTo>
                      <a:pt x="27" y="108"/>
                    </a:lnTo>
                    <a:lnTo>
                      <a:pt x="52" y="95"/>
                    </a:lnTo>
                    <a:lnTo>
                      <a:pt x="79" y="81"/>
                    </a:lnTo>
                    <a:lnTo>
                      <a:pt x="106" y="66"/>
                    </a:lnTo>
                    <a:lnTo>
                      <a:pt x="134" y="52"/>
                    </a:lnTo>
                    <a:lnTo>
                      <a:pt x="161" y="39"/>
                    </a:lnTo>
                    <a:lnTo>
                      <a:pt x="188" y="27"/>
                    </a:lnTo>
                    <a:lnTo>
                      <a:pt x="217" y="16"/>
                    </a:lnTo>
                    <a:lnTo>
                      <a:pt x="244" y="7"/>
                    </a:lnTo>
                    <a:lnTo>
                      <a:pt x="273" y="0"/>
                    </a:lnTo>
                    <a:lnTo>
                      <a:pt x="273" y="0"/>
                    </a:lnTo>
                    <a:lnTo>
                      <a:pt x="271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28040" y="6284880"/>
                <a:ext cx="214560" cy="120600"/>
              </a:xfrm>
              <a:custGeom>
                <a:avLst/>
                <a:gdLst/>
                <a:ahLst/>
                <a:rect l="l" t="t" r="r" b="b"/>
                <a:pathLst>
                  <a:path w="300" h="153">
                    <a:moveTo>
                      <a:pt x="27" y="151"/>
                    </a:moveTo>
                    <a:lnTo>
                      <a:pt x="0" y="151"/>
                    </a:lnTo>
                    <a:lnTo>
                      <a:pt x="27" y="131"/>
                    </a:lnTo>
                    <a:lnTo>
                      <a:pt x="56" y="113"/>
                    </a:lnTo>
                    <a:lnTo>
                      <a:pt x="86" y="95"/>
                    </a:lnTo>
                    <a:lnTo>
                      <a:pt x="115" y="79"/>
                    </a:lnTo>
                    <a:lnTo>
                      <a:pt x="146" y="64"/>
                    </a:lnTo>
                    <a:lnTo>
                      <a:pt x="177" y="50"/>
                    </a:lnTo>
                    <a:lnTo>
                      <a:pt x="207" y="36"/>
                    </a:lnTo>
                    <a:lnTo>
                      <a:pt x="238" y="23"/>
                    </a:lnTo>
                    <a:lnTo>
                      <a:pt x="269" y="12"/>
                    </a:lnTo>
                    <a:lnTo>
                      <a:pt x="300" y="0"/>
                    </a:lnTo>
                    <a:lnTo>
                      <a:pt x="275" y="14"/>
                    </a:lnTo>
                    <a:lnTo>
                      <a:pt x="246" y="28"/>
                    </a:lnTo>
                    <a:lnTo>
                      <a:pt x="219" y="41"/>
                    </a:lnTo>
                    <a:lnTo>
                      <a:pt x="190" y="55"/>
                    </a:lnTo>
                    <a:lnTo>
                      <a:pt x="163" y="70"/>
                    </a:lnTo>
                    <a:lnTo>
                      <a:pt x="134" y="84"/>
                    </a:lnTo>
                    <a:lnTo>
                      <a:pt x="107" y="99"/>
                    </a:lnTo>
                    <a:lnTo>
                      <a:pt x="80" y="115"/>
                    </a:lnTo>
                    <a:lnTo>
                      <a:pt x="53" y="13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1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68000" y="6286680"/>
                <a:ext cx="220680" cy="122040"/>
              </a:xfrm>
              <a:custGeom>
                <a:avLst/>
                <a:gdLst/>
                <a:ahLst/>
                <a:rect l="l" t="t" r="r" b="b"/>
                <a:pathLst>
                  <a:path w="308" h="155">
                    <a:moveTo>
                      <a:pt x="308" y="8"/>
                    </a:moveTo>
                    <a:lnTo>
                      <a:pt x="279" y="20"/>
                    </a:lnTo>
                    <a:lnTo>
                      <a:pt x="250" y="33"/>
                    </a:lnTo>
                    <a:lnTo>
                      <a:pt x="221" y="45"/>
                    </a:lnTo>
                    <a:lnTo>
                      <a:pt x="192" y="60"/>
                    </a:lnTo>
                    <a:lnTo>
                      <a:pt x="163" y="74"/>
                    </a:lnTo>
                    <a:lnTo>
                      <a:pt x="136" y="89"/>
                    </a:lnTo>
                    <a:lnTo>
                      <a:pt x="107" y="105"/>
                    </a:lnTo>
                    <a:lnTo>
                      <a:pt x="80" y="121"/>
                    </a:lnTo>
                    <a:lnTo>
                      <a:pt x="51" y="137"/>
                    </a:lnTo>
                    <a:lnTo>
                      <a:pt x="24" y="155"/>
                    </a:lnTo>
                    <a:lnTo>
                      <a:pt x="0" y="154"/>
                    </a:lnTo>
                    <a:lnTo>
                      <a:pt x="24" y="137"/>
                    </a:lnTo>
                    <a:lnTo>
                      <a:pt x="49" y="121"/>
                    </a:lnTo>
                    <a:lnTo>
                      <a:pt x="72" y="107"/>
                    </a:lnTo>
                    <a:lnTo>
                      <a:pt x="99" y="92"/>
                    </a:lnTo>
                    <a:lnTo>
                      <a:pt x="124" y="78"/>
                    </a:lnTo>
                    <a:lnTo>
                      <a:pt x="151" y="63"/>
                    </a:lnTo>
                    <a:lnTo>
                      <a:pt x="179" y="51"/>
                    </a:lnTo>
                    <a:lnTo>
                      <a:pt x="206" y="40"/>
                    </a:lnTo>
                    <a:lnTo>
                      <a:pt x="233" y="29"/>
                    </a:lnTo>
                    <a:lnTo>
                      <a:pt x="262" y="18"/>
                    </a:lnTo>
                    <a:lnTo>
                      <a:pt x="268" y="0"/>
                    </a:lnTo>
                    <a:lnTo>
                      <a:pt x="270" y="6"/>
                    </a:lnTo>
                    <a:lnTo>
                      <a:pt x="273" y="9"/>
                    </a:lnTo>
                    <a:lnTo>
                      <a:pt x="275" y="9"/>
                    </a:lnTo>
                    <a:lnTo>
                      <a:pt x="279" y="9"/>
                    </a:lnTo>
                    <a:lnTo>
                      <a:pt x="285" y="9"/>
                    </a:lnTo>
                    <a:lnTo>
                      <a:pt x="289" y="8"/>
                    </a:lnTo>
                    <a:lnTo>
                      <a:pt x="295" y="8"/>
                    </a:lnTo>
                    <a:lnTo>
                      <a:pt x="299" y="6"/>
                    </a:lnTo>
                    <a:lnTo>
                      <a:pt x="304" y="6"/>
                    </a:lnTo>
                    <a:lnTo>
                      <a:pt x="308" y="9"/>
                    </a:lnTo>
                    <a:lnTo>
                      <a:pt x="308" y="9"/>
                    </a:lnTo>
                    <a:lnTo>
                      <a:pt x="308" y="8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664680" y="6284880"/>
                <a:ext cx="180720" cy="101520"/>
              </a:xfrm>
              <a:custGeom>
                <a:avLst/>
                <a:gdLst/>
                <a:ahLst/>
                <a:rect l="l" t="t" r="r" b="b"/>
                <a:pathLst>
                  <a:path w="252" h="128">
                    <a:moveTo>
                      <a:pt x="252" y="0"/>
                    </a:moveTo>
                    <a:lnTo>
                      <a:pt x="229" y="14"/>
                    </a:lnTo>
                    <a:lnTo>
                      <a:pt x="205" y="27"/>
                    </a:lnTo>
                    <a:lnTo>
                      <a:pt x="180" y="37"/>
                    </a:lnTo>
                    <a:lnTo>
                      <a:pt x="155" y="48"/>
                    </a:lnTo>
                    <a:lnTo>
                      <a:pt x="132" y="59"/>
                    </a:lnTo>
                    <a:lnTo>
                      <a:pt x="107" y="70"/>
                    </a:lnTo>
                    <a:lnTo>
                      <a:pt x="83" y="82"/>
                    </a:lnTo>
                    <a:lnTo>
                      <a:pt x="60" y="95"/>
                    </a:lnTo>
                    <a:lnTo>
                      <a:pt x="37" y="111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23" y="111"/>
                    </a:lnTo>
                    <a:lnTo>
                      <a:pt x="49" y="95"/>
                    </a:lnTo>
                    <a:lnTo>
                      <a:pt x="72" y="81"/>
                    </a:lnTo>
                    <a:lnTo>
                      <a:pt x="97" y="66"/>
                    </a:lnTo>
                    <a:lnTo>
                      <a:pt x="122" y="52"/>
                    </a:lnTo>
                    <a:lnTo>
                      <a:pt x="147" y="39"/>
                    </a:lnTo>
                    <a:lnTo>
                      <a:pt x="173" y="28"/>
                    </a:lnTo>
                    <a:lnTo>
                      <a:pt x="200" y="18"/>
                    </a:lnTo>
                    <a:lnTo>
                      <a:pt x="225" y="9"/>
                    </a:lnTo>
                    <a:lnTo>
                      <a:pt x="252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823800" y="6299280"/>
                <a:ext cx="187920" cy="103320"/>
              </a:xfrm>
              <a:custGeom>
                <a:avLst/>
                <a:gdLst/>
                <a:ahLst/>
                <a:rect l="l" t="t" r="r" b="b"/>
                <a:pathLst>
                  <a:path w="261" h="129">
                    <a:moveTo>
                      <a:pt x="259" y="0"/>
                    </a:moveTo>
                    <a:lnTo>
                      <a:pt x="0" y="129"/>
                    </a:lnTo>
                    <a:lnTo>
                      <a:pt x="23" y="115"/>
                    </a:lnTo>
                    <a:lnTo>
                      <a:pt x="48" y="100"/>
                    </a:lnTo>
                    <a:lnTo>
                      <a:pt x="73" y="84"/>
                    </a:lnTo>
                    <a:lnTo>
                      <a:pt x="99" y="68"/>
                    </a:lnTo>
                    <a:lnTo>
                      <a:pt x="126" y="54"/>
                    </a:lnTo>
                    <a:lnTo>
                      <a:pt x="153" y="39"/>
                    </a:lnTo>
                    <a:lnTo>
                      <a:pt x="180" y="27"/>
                    </a:lnTo>
                    <a:lnTo>
                      <a:pt x="207" y="16"/>
                    </a:lnTo>
                    <a:lnTo>
                      <a:pt x="234" y="7"/>
                    </a:lnTo>
                    <a:lnTo>
                      <a:pt x="261" y="1"/>
                    </a:lnTo>
                    <a:lnTo>
                      <a:pt x="261" y="1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694920" y="6289920"/>
                <a:ext cx="190800" cy="106200"/>
              </a:xfrm>
              <a:custGeom>
                <a:avLst/>
                <a:gdLst/>
                <a:ahLst/>
                <a:rect l="l" t="t" r="r" b="b"/>
                <a:pathLst>
                  <a:path w="265" h="133">
                    <a:moveTo>
                      <a:pt x="17" y="131"/>
                    </a:moveTo>
                    <a:lnTo>
                      <a:pt x="0" y="131"/>
                    </a:lnTo>
                    <a:lnTo>
                      <a:pt x="23" y="115"/>
                    </a:lnTo>
                    <a:lnTo>
                      <a:pt x="48" y="101"/>
                    </a:lnTo>
                    <a:lnTo>
                      <a:pt x="73" y="84"/>
                    </a:lnTo>
                    <a:lnTo>
                      <a:pt x="100" y="70"/>
                    </a:lnTo>
                    <a:lnTo>
                      <a:pt x="126" y="56"/>
                    </a:lnTo>
                    <a:lnTo>
                      <a:pt x="153" y="41"/>
                    </a:lnTo>
                    <a:lnTo>
                      <a:pt x="180" y="29"/>
                    </a:lnTo>
                    <a:lnTo>
                      <a:pt x="209" y="18"/>
                    </a:lnTo>
                    <a:lnTo>
                      <a:pt x="236" y="9"/>
                    </a:lnTo>
                    <a:lnTo>
                      <a:pt x="265" y="0"/>
                    </a:lnTo>
                    <a:lnTo>
                      <a:pt x="19" y="133"/>
                    </a:lnTo>
                    <a:lnTo>
                      <a:pt x="19" y="133"/>
                    </a:lnTo>
                    <a:lnTo>
                      <a:pt x="17" y="131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02640" y="6313680"/>
                <a:ext cx="136080" cy="81000"/>
              </a:xfrm>
              <a:custGeom>
                <a:avLst/>
                <a:gdLst/>
                <a:ahLst/>
                <a:rect l="l" t="t" r="r" b="b"/>
                <a:pathLst>
                  <a:path w="190" h="102">
                    <a:moveTo>
                      <a:pt x="93" y="86"/>
                    </a:moveTo>
                    <a:lnTo>
                      <a:pt x="85" y="88"/>
                    </a:lnTo>
                    <a:lnTo>
                      <a:pt x="76" y="90"/>
                    </a:lnTo>
                    <a:lnTo>
                      <a:pt x="66" y="93"/>
                    </a:lnTo>
                    <a:lnTo>
                      <a:pt x="56" y="95"/>
                    </a:lnTo>
                    <a:lnTo>
                      <a:pt x="47" y="99"/>
                    </a:lnTo>
                    <a:lnTo>
                      <a:pt x="37" y="101"/>
                    </a:lnTo>
                    <a:lnTo>
                      <a:pt x="27" y="102"/>
                    </a:lnTo>
                    <a:lnTo>
                      <a:pt x="18" y="102"/>
                    </a:lnTo>
                    <a:lnTo>
                      <a:pt x="10" y="102"/>
                    </a:lnTo>
                    <a:lnTo>
                      <a:pt x="0" y="99"/>
                    </a:lnTo>
                    <a:lnTo>
                      <a:pt x="10" y="95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7" y="84"/>
                    </a:lnTo>
                    <a:lnTo>
                      <a:pt x="45" y="81"/>
                    </a:lnTo>
                    <a:lnTo>
                      <a:pt x="55" y="75"/>
                    </a:lnTo>
                    <a:lnTo>
                      <a:pt x="62" y="70"/>
                    </a:lnTo>
                    <a:lnTo>
                      <a:pt x="70" y="64"/>
                    </a:lnTo>
                    <a:lnTo>
                      <a:pt x="78" y="57"/>
                    </a:lnTo>
                    <a:lnTo>
                      <a:pt x="84" y="48"/>
                    </a:lnTo>
                    <a:lnTo>
                      <a:pt x="76" y="50"/>
                    </a:lnTo>
                    <a:lnTo>
                      <a:pt x="68" y="50"/>
                    </a:lnTo>
                    <a:lnTo>
                      <a:pt x="60" y="54"/>
                    </a:lnTo>
                    <a:lnTo>
                      <a:pt x="53" y="55"/>
                    </a:lnTo>
                    <a:lnTo>
                      <a:pt x="45" y="59"/>
                    </a:lnTo>
                    <a:lnTo>
                      <a:pt x="35" y="61"/>
                    </a:lnTo>
                    <a:lnTo>
                      <a:pt x="27" y="64"/>
                    </a:lnTo>
                    <a:lnTo>
                      <a:pt x="20" y="68"/>
                    </a:lnTo>
                    <a:lnTo>
                      <a:pt x="10" y="72"/>
                    </a:lnTo>
                    <a:lnTo>
                      <a:pt x="2" y="73"/>
                    </a:lnTo>
                    <a:lnTo>
                      <a:pt x="184" y="0"/>
                    </a:lnTo>
                    <a:lnTo>
                      <a:pt x="190" y="18"/>
                    </a:lnTo>
                    <a:lnTo>
                      <a:pt x="190" y="32"/>
                    </a:lnTo>
                    <a:lnTo>
                      <a:pt x="186" y="45"/>
                    </a:lnTo>
                    <a:lnTo>
                      <a:pt x="178" y="55"/>
                    </a:lnTo>
                    <a:lnTo>
                      <a:pt x="167" y="64"/>
                    </a:lnTo>
                    <a:lnTo>
                      <a:pt x="153" y="70"/>
                    </a:lnTo>
                    <a:lnTo>
                      <a:pt x="138" y="75"/>
                    </a:lnTo>
                    <a:lnTo>
                      <a:pt x="122" y="81"/>
                    </a:lnTo>
                    <a:lnTo>
                      <a:pt x="109" y="84"/>
                    </a:lnTo>
                    <a:lnTo>
                      <a:pt x="95" y="88"/>
                    </a:lnTo>
                    <a:lnTo>
                      <a:pt x="95" y="88"/>
                    </a:lnTo>
                    <a:lnTo>
                      <a:pt x="93" y="86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522840" y="6335640"/>
                <a:ext cx="35640" cy="8100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0" y="101"/>
                    </a:moveTo>
                    <a:lnTo>
                      <a:pt x="2" y="91"/>
                    </a:lnTo>
                    <a:lnTo>
                      <a:pt x="5" y="80"/>
                    </a:lnTo>
                    <a:lnTo>
                      <a:pt x="9" y="71"/>
                    </a:lnTo>
                    <a:lnTo>
                      <a:pt x="15" y="60"/>
                    </a:lnTo>
                    <a:lnTo>
                      <a:pt x="23" y="51"/>
                    </a:lnTo>
                    <a:lnTo>
                      <a:pt x="29" y="42"/>
                    </a:lnTo>
                    <a:lnTo>
                      <a:pt x="35" y="31"/>
                    </a:lnTo>
                    <a:lnTo>
                      <a:pt x="40" y="22"/>
                    </a:lnTo>
                    <a:lnTo>
                      <a:pt x="44" y="11"/>
                    </a:lnTo>
                    <a:lnTo>
                      <a:pt x="48" y="0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522840" y="633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11" y="0"/>
                    </a:lnTo>
                    <a:lnTo>
                      <a:pt x="11" y="4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332040" y="6343560"/>
                <a:ext cx="28800" cy="79560"/>
              </a:xfrm>
              <a:custGeom>
                <a:avLst/>
                <a:gdLst/>
                <a:ahLst/>
                <a:rect l="l" t="t" r="r" b="b"/>
                <a:pathLst>
                  <a:path w="41" h="101">
                    <a:moveTo>
                      <a:pt x="0" y="100"/>
                    </a:moveTo>
                    <a:lnTo>
                      <a:pt x="4" y="91"/>
                    </a:lnTo>
                    <a:lnTo>
                      <a:pt x="8" y="82"/>
                    </a:lnTo>
                    <a:lnTo>
                      <a:pt x="12" y="71"/>
                    </a:lnTo>
                    <a:lnTo>
                      <a:pt x="16" y="60"/>
                    </a:lnTo>
                    <a:lnTo>
                      <a:pt x="20" y="51"/>
                    </a:lnTo>
                    <a:lnTo>
                      <a:pt x="24" y="40"/>
                    </a:lnTo>
                    <a:lnTo>
                      <a:pt x="28" y="29"/>
                    </a:lnTo>
                    <a:lnTo>
                      <a:pt x="31" y="20"/>
                    </a:lnTo>
                    <a:lnTo>
                      <a:pt x="37" y="9"/>
                    </a:lnTo>
                    <a:lnTo>
                      <a:pt x="41" y="0"/>
                    </a:lnTo>
                    <a:lnTo>
                      <a:pt x="41" y="9"/>
                    </a:lnTo>
                    <a:lnTo>
                      <a:pt x="39" y="20"/>
                    </a:lnTo>
                    <a:lnTo>
                      <a:pt x="35" y="29"/>
                    </a:lnTo>
                    <a:lnTo>
                      <a:pt x="31" y="40"/>
                    </a:lnTo>
                    <a:lnTo>
                      <a:pt x="26" y="49"/>
                    </a:lnTo>
                    <a:lnTo>
                      <a:pt x="22" y="60"/>
                    </a:lnTo>
                    <a:lnTo>
                      <a:pt x="16" y="71"/>
                    </a:lnTo>
                    <a:lnTo>
                      <a:pt x="10" y="82"/>
                    </a:lnTo>
                    <a:lnTo>
                      <a:pt x="6" y="91"/>
                    </a:lnTo>
                    <a:lnTo>
                      <a:pt x="2" y="101"/>
                    </a:lnTo>
                    <a:lnTo>
                      <a:pt x="2" y="10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393960" y="6356520"/>
                <a:ext cx="5760" cy="1728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5" y="3"/>
                    </a:moveTo>
                    <a:lnTo>
                      <a:pt x="7" y="5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22320" y="640404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81" h="216">
                    <a:moveTo>
                      <a:pt x="81" y="56"/>
                    </a:moveTo>
                    <a:lnTo>
                      <a:pt x="74" y="72"/>
                    </a:lnTo>
                    <a:lnTo>
                      <a:pt x="66" y="88"/>
                    </a:lnTo>
                    <a:lnTo>
                      <a:pt x="58" y="105"/>
                    </a:lnTo>
                    <a:lnTo>
                      <a:pt x="52" y="121"/>
                    </a:lnTo>
                    <a:lnTo>
                      <a:pt x="46" y="137"/>
                    </a:lnTo>
                    <a:lnTo>
                      <a:pt x="41" y="153"/>
                    </a:lnTo>
                    <a:lnTo>
                      <a:pt x="35" y="170"/>
                    </a:lnTo>
                    <a:lnTo>
                      <a:pt x="29" y="186"/>
                    </a:lnTo>
                    <a:lnTo>
                      <a:pt x="23" y="202"/>
                    </a:lnTo>
                    <a:lnTo>
                      <a:pt x="17" y="216"/>
                    </a:lnTo>
                    <a:lnTo>
                      <a:pt x="6" y="204"/>
                    </a:lnTo>
                    <a:lnTo>
                      <a:pt x="4" y="204"/>
                    </a:lnTo>
                    <a:lnTo>
                      <a:pt x="4" y="204"/>
                    </a:lnTo>
                    <a:lnTo>
                      <a:pt x="4" y="206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6" y="191"/>
                    </a:lnTo>
                    <a:lnTo>
                      <a:pt x="10" y="170"/>
                    </a:lnTo>
                    <a:lnTo>
                      <a:pt x="15" y="148"/>
                    </a:lnTo>
                    <a:lnTo>
                      <a:pt x="21" y="126"/>
                    </a:lnTo>
                    <a:lnTo>
                      <a:pt x="27" y="105"/>
                    </a:lnTo>
                    <a:lnTo>
                      <a:pt x="33" y="83"/>
                    </a:lnTo>
                    <a:lnTo>
                      <a:pt x="41" y="63"/>
                    </a:lnTo>
                    <a:lnTo>
                      <a:pt x="50" y="42"/>
                    </a:lnTo>
                    <a:lnTo>
                      <a:pt x="60" y="20"/>
                    </a:lnTo>
                    <a:lnTo>
                      <a:pt x="74" y="0"/>
                    </a:lnTo>
                    <a:lnTo>
                      <a:pt x="70" y="7"/>
                    </a:lnTo>
                    <a:lnTo>
                      <a:pt x="68" y="15"/>
                    </a:lnTo>
                    <a:lnTo>
                      <a:pt x="66" y="20"/>
                    </a:lnTo>
                    <a:lnTo>
                      <a:pt x="66" y="25"/>
                    </a:lnTo>
                    <a:lnTo>
                      <a:pt x="66" y="31"/>
                    </a:lnTo>
                    <a:lnTo>
                      <a:pt x="68" y="36"/>
                    </a:lnTo>
                    <a:lnTo>
                      <a:pt x="70" y="42"/>
                    </a:lnTo>
                    <a:lnTo>
                      <a:pt x="74" y="45"/>
                    </a:lnTo>
                    <a:lnTo>
                      <a:pt x="77" y="51"/>
                    </a:lnTo>
                    <a:lnTo>
                      <a:pt x="81" y="56"/>
                    </a:lnTo>
                    <a:lnTo>
                      <a:pt x="81" y="56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70320" y="64533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0" y="13"/>
                    </a:moveTo>
                    <a:lnTo>
                      <a:pt x="20" y="0"/>
                    </a:lnTo>
                    <a:lnTo>
                      <a:pt x="6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26640" y="6465960"/>
                <a:ext cx="31320" cy="92160"/>
              </a:xfrm>
              <a:custGeom>
                <a:avLst/>
                <a:gdLst/>
                <a:ahLst/>
                <a:rect l="l" t="t" r="r" b="b"/>
                <a:pathLst>
                  <a:path w="44" h="116">
                    <a:moveTo>
                      <a:pt x="0" y="114"/>
                    </a:moveTo>
                    <a:lnTo>
                      <a:pt x="4" y="103"/>
                    </a:lnTo>
                    <a:lnTo>
                      <a:pt x="6" y="92"/>
                    </a:lnTo>
                    <a:lnTo>
                      <a:pt x="11" y="80"/>
                    </a:lnTo>
                    <a:lnTo>
                      <a:pt x="15" y="69"/>
                    </a:lnTo>
                    <a:lnTo>
                      <a:pt x="21" y="58"/>
                    </a:lnTo>
                    <a:lnTo>
                      <a:pt x="25" y="46"/>
                    </a:lnTo>
                    <a:lnTo>
                      <a:pt x="31" y="35"/>
                    </a:lnTo>
                    <a:lnTo>
                      <a:pt x="37" y="24"/>
                    </a:lnTo>
                    <a:lnTo>
                      <a:pt x="40" y="13"/>
                    </a:lnTo>
                    <a:lnTo>
                      <a:pt x="44" y="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42120" y="6477120"/>
                <a:ext cx="39960" cy="13644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0" y="169"/>
                    </a:moveTo>
                    <a:lnTo>
                      <a:pt x="2" y="153"/>
                    </a:lnTo>
                    <a:lnTo>
                      <a:pt x="4" y="135"/>
                    </a:lnTo>
                    <a:lnTo>
                      <a:pt x="8" y="119"/>
                    </a:lnTo>
                    <a:lnTo>
                      <a:pt x="14" y="101"/>
                    </a:lnTo>
                    <a:lnTo>
                      <a:pt x="19" y="85"/>
                    </a:lnTo>
                    <a:lnTo>
                      <a:pt x="27" y="68"/>
                    </a:lnTo>
                    <a:lnTo>
                      <a:pt x="33" y="50"/>
                    </a:lnTo>
                    <a:lnTo>
                      <a:pt x="41" y="34"/>
                    </a:lnTo>
                    <a:lnTo>
                      <a:pt x="48" y="18"/>
                    </a:lnTo>
                    <a:lnTo>
                      <a:pt x="54" y="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346800" y="6527880"/>
                <a:ext cx="36720" cy="122400"/>
              </a:xfrm>
              <a:custGeom>
                <a:avLst/>
                <a:gdLst/>
                <a:ahLst/>
                <a:rect l="l" t="t" r="r" b="b"/>
                <a:pathLst>
                  <a:path w="50" h="153">
                    <a:moveTo>
                      <a:pt x="13" y="151"/>
                    </a:moveTo>
                    <a:lnTo>
                      <a:pt x="0" y="139"/>
                    </a:lnTo>
                    <a:lnTo>
                      <a:pt x="50" y="0"/>
                    </a:lnTo>
                    <a:lnTo>
                      <a:pt x="46" y="13"/>
                    </a:lnTo>
                    <a:lnTo>
                      <a:pt x="42" y="27"/>
                    </a:lnTo>
                    <a:lnTo>
                      <a:pt x="39" y="43"/>
                    </a:lnTo>
                    <a:lnTo>
                      <a:pt x="33" y="58"/>
                    </a:lnTo>
                    <a:lnTo>
                      <a:pt x="27" y="74"/>
                    </a:lnTo>
                    <a:lnTo>
                      <a:pt x="23" y="90"/>
                    </a:lnTo>
                    <a:lnTo>
                      <a:pt x="19" y="105"/>
                    </a:lnTo>
                    <a:lnTo>
                      <a:pt x="15" y="121"/>
                    </a:lnTo>
                    <a:lnTo>
                      <a:pt x="13" y="137"/>
                    </a:lnTo>
                    <a:lnTo>
                      <a:pt x="15" y="153"/>
                    </a:lnTo>
                    <a:lnTo>
                      <a:pt x="15" y="153"/>
                    </a:lnTo>
                    <a:lnTo>
                      <a:pt x="13" y="151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369480" y="6559560"/>
                <a:ext cx="29880" cy="112680"/>
              </a:xfrm>
              <a:custGeom>
                <a:avLst/>
                <a:gdLst/>
                <a:ahLst/>
                <a:rect l="l" t="t" r="r" b="b"/>
                <a:pathLst>
                  <a:path w="42" h="142">
                    <a:moveTo>
                      <a:pt x="13" y="110"/>
                    </a:moveTo>
                    <a:lnTo>
                      <a:pt x="23" y="108"/>
                    </a:lnTo>
                    <a:lnTo>
                      <a:pt x="27" y="102"/>
                    </a:lnTo>
                    <a:lnTo>
                      <a:pt x="29" y="95"/>
                    </a:lnTo>
                    <a:lnTo>
                      <a:pt x="31" y="88"/>
                    </a:lnTo>
                    <a:lnTo>
                      <a:pt x="31" y="79"/>
                    </a:lnTo>
                    <a:lnTo>
                      <a:pt x="33" y="72"/>
                    </a:lnTo>
                    <a:lnTo>
                      <a:pt x="33" y="63"/>
                    </a:lnTo>
                    <a:lnTo>
                      <a:pt x="35" y="56"/>
                    </a:lnTo>
                    <a:lnTo>
                      <a:pt x="38" y="48"/>
                    </a:lnTo>
                    <a:lnTo>
                      <a:pt x="42" y="45"/>
                    </a:lnTo>
                    <a:lnTo>
                      <a:pt x="42" y="52"/>
                    </a:lnTo>
                    <a:lnTo>
                      <a:pt x="42" y="61"/>
                    </a:lnTo>
                    <a:lnTo>
                      <a:pt x="42" y="72"/>
                    </a:lnTo>
                    <a:lnTo>
                      <a:pt x="40" y="81"/>
                    </a:lnTo>
                    <a:lnTo>
                      <a:pt x="40" y="93"/>
                    </a:lnTo>
                    <a:lnTo>
                      <a:pt x="38" y="104"/>
                    </a:lnTo>
                    <a:lnTo>
                      <a:pt x="38" y="115"/>
                    </a:lnTo>
                    <a:lnTo>
                      <a:pt x="37" y="126"/>
                    </a:lnTo>
                    <a:lnTo>
                      <a:pt x="35" y="135"/>
                    </a:lnTo>
                    <a:lnTo>
                      <a:pt x="31" y="142"/>
                    </a:lnTo>
                    <a:lnTo>
                      <a:pt x="31" y="137"/>
                    </a:lnTo>
                    <a:lnTo>
                      <a:pt x="29" y="133"/>
                    </a:lnTo>
                    <a:lnTo>
                      <a:pt x="25" y="129"/>
                    </a:lnTo>
                    <a:lnTo>
                      <a:pt x="21" y="129"/>
                    </a:lnTo>
                    <a:lnTo>
                      <a:pt x="19" y="128"/>
                    </a:lnTo>
                    <a:lnTo>
                      <a:pt x="15" y="128"/>
                    </a:lnTo>
                    <a:lnTo>
                      <a:pt x="11" y="128"/>
                    </a:lnTo>
                    <a:lnTo>
                      <a:pt x="8" y="128"/>
                    </a:lnTo>
                    <a:lnTo>
                      <a:pt x="4" y="128"/>
                    </a:lnTo>
                    <a:lnTo>
                      <a:pt x="0" y="128"/>
                    </a:lnTo>
                    <a:lnTo>
                      <a:pt x="2" y="113"/>
                    </a:lnTo>
                    <a:lnTo>
                      <a:pt x="2" y="101"/>
                    </a:lnTo>
                    <a:lnTo>
                      <a:pt x="4" y="86"/>
                    </a:lnTo>
                    <a:lnTo>
                      <a:pt x="6" y="72"/>
                    </a:lnTo>
                    <a:lnTo>
                      <a:pt x="6" y="59"/>
                    </a:lnTo>
                    <a:lnTo>
                      <a:pt x="9" y="45"/>
                    </a:lnTo>
                    <a:lnTo>
                      <a:pt x="13" y="32"/>
                    </a:lnTo>
                    <a:lnTo>
                      <a:pt x="17" y="21"/>
                    </a:lnTo>
                    <a:lnTo>
                      <a:pt x="25" y="10"/>
                    </a:lnTo>
                    <a:lnTo>
                      <a:pt x="33" y="0"/>
                    </a:lnTo>
                    <a:lnTo>
                      <a:pt x="31" y="9"/>
                    </a:lnTo>
                    <a:lnTo>
                      <a:pt x="27" y="18"/>
                    </a:lnTo>
                    <a:lnTo>
                      <a:pt x="25" y="28"/>
                    </a:lnTo>
                    <a:lnTo>
                      <a:pt x="21" y="39"/>
                    </a:lnTo>
                    <a:lnTo>
                      <a:pt x="17" y="50"/>
                    </a:lnTo>
                    <a:lnTo>
                      <a:pt x="15" y="63"/>
                    </a:lnTo>
                    <a:lnTo>
                      <a:pt x="13" y="74"/>
                    </a:lnTo>
                    <a:lnTo>
                      <a:pt x="11" y="86"/>
                    </a:lnTo>
                    <a:lnTo>
                      <a:pt x="13" y="99"/>
                    </a:lnTo>
                    <a:lnTo>
                      <a:pt x="15" y="111"/>
                    </a:lnTo>
                    <a:lnTo>
                      <a:pt x="15" y="111"/>
                    </a:lnTo>
                    <a:lnTo>
                      <a:pt x="13" y="110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08000" y="6621480"/>
                <a:ext cx="31320" cy="66600"/>
              </a:xfrm>
              <a:custGeom>
                <a:avLst/>
                <a:gdLst/>
                <a:ahLst/>
                <a:rect l="l" t="t" r="r" b="b"/>
                <a:pathLst>
                  <a:path w="45" h="83">
                    <a:moveTo>
                      <a:pt x="21" y="52"/>
                    </a:moveTo>
                    <a:lnTo>
                      <a:pt x="37" y="36"/>
                    </a:lnTo>
                    <a:lnTo>
                      <a:pt x="35" y="41"/>
                    </a:lnTo>
                    <a:lnTo>
                      <a:pt x="35" y="49"/>
                    </a:lnTo>
                    <a:lnTo>
                      <a:pt x="37" y="54"/>
                    </a:lnTo>
                    <a:lnTo>
                      <a:pt x="41" y="61"/>
                    </a:lnTo>
                    <a:lnTo>
                      <a:pt x="43" y="67"/>
                    </a:lnTo>
                    <a:lnTo>
                      <a:pt x="45" y="72"/>
                    </a:lnTo>
                    <a:lnTo>
                      <a:pt x="45" y="77"/>
                    </a:lnTo>
                    <a:lnTo>
                      <a:pt x="43" y="81"/>
                    </a:lnTo>
                    <a:lnTo>
                      <a:pt x="39" y="83"/>
                    </a:lnTo>
                    <a:lnTo>
                      <a:pt x="33" y="83"/>
                    </a:lnTo>
                    <a:lnTo>
                      <a:pt x="25" y="54"/>
                    </a:lnTo>
                    <a:lnTo>
                      <a:pt x="21" y="54"/>
                    </a:lnTo>
                    <a:lnTo>
                      <a:pt x="17" y="56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4" y="63"/>
                    </a:lnTo>
                    <a:lnTo>
                      <a:pt x="14" y="65"/>
                    </a:lnTo>
                    <a:lnTo>
                      <a:pt x="12" y="67"/>
                    </a:lnTo>
                    <a:lnTo>
                      <a:pt x="10" y="68"/>
                    </a:lnTo>
                    <a:lnTo>
                      <a:pt x="6" y="67"/>
                    </a:lnTo>
                    <a:lnTo>
                      <a:pt x="0" y="65"/>
                    </a:lnTo>
                    <a:lnTo>
                      <a:pt x="10" y="0"/>
                    </a:lnTo>
                    <a:lnTo>
                      <a:pt x="12" y="5"/>
                    </a:lnTo>
                    <a:lnTo>
                      <a:pt x="14" y="11"/>
                    </a:lnTo>
                    <a:lnTo>
                      <a:pt x="14" y="16"/>
                    </a:lnTo>
                    <a:lnTo>
                      <a:pt x="14" y="22"/>
                    </a:lnTo>
                    <a:lnTo>
                      <a:pt x="12" y="27"/>
                    </a:lnTo>
                    <a:lnTo>
                      <a:pt x="12" y="34"/>
                    </a:lnTo>
                    <a:lnTo>
                      <a:pt x="12" y="40"/>
                    </a:lnTo>
                    <a:lnTo>
                      <a:pt x="14" y="45"/>
                    </a:lnTo>
                    <a:lnTo>
                      <a:pt x="17" y="49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1" y="52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562800" y="6635880"/>
                <a:ext cx="29880" cy="5868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0" y="76"/>
                    </a:moveTo>
                    <a:lnTo>
                      <a:pt x="40" y="0"/>
                    </a:lnTo>
                    <a:lnTo>
                      <a:pt x="11" y="63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43000" y="6670800"/>
                <a:ext cx="22680" cy="396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31" y="0"/>
                    </a:moveTo>
                    <a:lnTo>
                      <a:pt x="0" y="5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48320" y="667224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12" y="31"/>
                    </a:moveTo>
                    <a:lnTo>
                      <a:pt x="10" y="31"/>
                    </a:lnTo>
                    <a:lnTo>
                      <a:pt x="8" y="27"/>
                    </a:lnTo>
                    <a:lnTo>
                      <a:pt x="4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8" y="20"/>
                    </a:lnTo>
                    <a:lnTo>
                      <a:pt x="18" y="23"/>
                    </a:lnTo>
                    <a:lnTo>
                      <a:pt x="18" y="27"/>
                    </a:lnTo>
                    <a:lnTo>
                      <a:pt x="16" y="29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3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99280" y="6694560"/>
                <a:ext cx="332280" cy="136440"/>
              </a:xfrm>
              <a:custGeom>
                <a:avLst/>
                <a:gdLst/>
                <a:ahLst/>
                <a:rect l="l" t="t" r="r" b="b"/>
                <a:pathLst>
                  <a:path w="463" h="173">
                    <a:moveTo>
                      <a:pt x="461" y="4"/>
                    </a:moveTo>
                    <a:lnTo>
                      <a:pt x="461" y="18"/>
                    </a:lnTo>
                    <a:lnTo>
                      <a:pt x="459" y="34"/>
                    </a:lnTo>
                    <a:lnTo>
                      <a:pt x="459" y="49"/>
                    </a:lnTo>
                    <a:lnTo>
                      <a:pt x="457" y="61"/>
                    </a:lnTo>
                    <a:lnTo>
                      <a:pt x="453" y="76"/>
                    </a:lnTo>
                    <a:lnTo>
                      <a:pt x="449" y="90"/>
                    </a:lnTo>
                    <a:lnTo>
                      <a:pt x="443" y="103"/>
                    </a:lnTo>
                    <a:lnTo>
                      <a:pt x="434" y="114"/>
                    </a:lnTo>
                    <a:lnTo>
                      <a:pt x="422" y="124"/>
                    </a:lnTo>
                    <a:lnTo>
                      <a:pt x="407" y="135"/>
                    </a:lnTo>
                    <a:lnTo>
                      <a:pt x="397" y="133"/>
                    </a:lnTo>
                    <a:lnTo>
                      <a:pt x="389" y="133"/>
                    </a:lnTo>
                    <a:lnTo>
                      <a:pt x="381" y="137"/>
                    </a:lnTo>
                    <a:lnTo>
                      <a:pt x="376" y="142"/>
                    </a:lnTo>
                    <a:lnTo>
                      <a:pt x="370" y="148"/>
                    </a:lnTo>
                    <a:lnTo>
                      <a:pt x="362" y="153"/>
                    </a:lnTo>
                    <a:lnTo>
                      <a:pt x="356" y="157"/>
                    </a:lnTo>
                    <a:lnTo>
                      <a:pt x="348" y="162"/>
                    </a:lnTo>
                    <a:lnTo>
                      <a:pt x="343" y="164"/>
                    </a:lnTo>
                    <a:lnTo>
                      <a:pt x="333" y="164"/>
                    </a:lnTo>
                    <a:lnTo>
                      <a:pt x="314" y="164"/>
                    </a:lnTo>
                    <a:lnTo>
                      <a:pt x="294" y="164"/>
                    </a:lnTo>
                    <a:lnTo>
                      <a:pt x="275" y="164"/>
                    </a:lnTo>
                    <a:lnTo>
                      <a:pt x="256" y="164"/>
                    </a:lnTo>
                    <a:lnTo>
                      <a:pt x="236" y="164"/>
                    </a:lnTo>
                    <a:lnTo>
                      <a:pt x="217" y="164"/>
                    </a:lnTo>
                    <a:lnTo>
                      <a:pt x="197" y="164"/>
                    </a:lnTo>
                    <a:lnTo>
                      <a:pt x="178" y="166"/>
                    </a:lnTo>
                    <a:lnTo>
                      <a:pt x="159" y="170"/>
                    </a:lnTo>
                    <a:lnTo>
                      <a:pt x="141" y="173"/>
                    </a:lnTo>
                    <a:lnTo>
                      <a:pt x="126" y="166"/>
                    </a:lnTo>
                    <a:lnTo>
                      <a:pt x="110" y="159"/>
                    </a:lnTo>
                    <a:lnTo>
                      <a:pt x="93" y="152"/>
                    </a:lnTo>
                    <a:lnTo>
                      <a:pt x="77" y="144"/>
                    </a:lnTo>
                    <a:lnTo>
                      <a:pt x="60" y="135"/>
                    </a:lnTo>
                    <a:lnTo>
                      <a:pt x="44" y="128"/>
                    </a:lnTo>
                    <a:lnTo>
                      <a:pt x="31" y="117"/>
                    </a:lnTo>
                    <a:lnTo>
                      <a:pt x="19" y="106"/>
                    </a:lnTo>
                    <a:lnTo>
                      <a:pt x="8" y="92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25" y="18"/>
                    </a:lnTo>
                    <a:lnTo>
                      <a:pt x="48" y="34"/>
                    </a:lnTo>
                    <a:lnTo>
                      <a:pt x="75" y="51"/>
                    </a:lnTo>
                    <a:lnTo>
                      <a:pt x="101" y="65"/>
                    </a:lnTo>
                    <a:lnTo>
                      <a:pt x="128" y="78"/>
                    </a:lnTo>
                    <a:lnTo>
                      <a:pt x="155" y="88"/>
                    </a:lnTo>
                    <a:lnTo>
                      <a:pt x="182" y="99"/>
                    </a:lnTo>
                    <a:lnTo>
                      <a:pt x="211" y="108"/>
                    </a:lnTo>
                    <a:lnTo>
                      <a:pt x="240" y="115"/>
                    </a:lnTo>
                    <a:lnTo>
                      <a:pt x="271" y="123"/>
                    </a:lnTo>
                    <a:lnTo>
                      <a:pt x="277" y="117"/>
                    </a:lnTo>
                    <a:lnTo>
                      <a:pt x="281" y="114"/>
                    </a:lnTo>
                    <a:lnTo>
                      <a:pt x="287" y="110"/>
                    </a:lnTo>
                    <a:lnTo>
                      <a:pt x="292" y="105"/>
                    </a:lnTo>
                    <a:lnTo>
                      <a:pt x="298" y="103"/>
                    </a:lnTo>
                    <a:lnTo>
                      <a:pt x="304" y="99"/>
                    </a:lnTo>
                    <a:lnTo>
                      <a:pt x="310" y="97"/>
                    </a:lnTo>
                    <a:lnTo>
                      <a:pt x="316" y="96"/>
                    </a:lnTo>
                    <a:lnTo>
                      <a:pt x="323" y="96"/>
                    </a:lnTo>
                    <a:lnTo>
                      <a:pt x="329" y="96"/>
                    </a:lnTo>
                    <a:lnTo>
                      <a:pt x="337" y="87"/>
                    </a:lnTo>
                    <a:lnTo>
                      <a:pt x="347" y="79"/>
                    </a:lnTo>
                    <a:lnTo>
                      <a:pt x="354" y="74"/>
                    </a:lnTo>
                    <a:lnTo>
                      <a:pt x="364" y="67"/>
                    </a:lnTo>
                    <a:lnTo>
                      <a:pt x="374" y="61"/>
                    </a:lnTo>
                    <a:lnTo>
                      <a:pt x="381" y="56"/>
                    </a:lnTo>
                    <a:lnTo>
                      <a:pt x="391" y="49"/>
                    </a:lnTo>
                    <a:lnTo>
                      <a:pt x="399" y="43"/>
                    </a:lnTo>
                    <a:lnTo>
                      <a:pt x="407" y="36"/>
                    </a:lnTo>
                    <a:lnTo>
                      <a:pt x="414" y="31"/>
                    </a:lnTo>
                    <a:lnTo>
                      <a:pt x="420" y="36"/>
                    </a:lnTo>
                    <a:lnTo>
                      <a:pt x="424" y="38"/>
                    </a:lnTo>
                    <a:lnTo>
                      <a:pt x="430" y="36"/>
                    </a:lnTo>
                    <a:lnTo>
                      <a:pt x="436" y="34"/>
                    </a:lnTo>
                    <a:lnTo>
                      <a:pt x="439" y="29"/>
                    </a:lnTo>
                    <a:lnTo>
                      <a:pt x="445" y="24"/>
                    </a:lnTo>
                    <a:lnTo>
                      <a:pt x="449" y="18"/>
                    </a:lnTo>
                    <a:lnTo>
                      <a:pt x="453" y="13"/>
                    </a:lnTo>
                    <a:lnTo>
                      <a:pt x="459" y="7"/>
                    </a:lnTo>
                    <a:lnTo>
                      <a:pt x="463" y="4"/>
                    </a:lnTo>
                    <a:lnTo>
                      <a:pt x="463" y="4"/>
                    </a:lnTo>
                    <a:lnTo>
                      <a:pt x="461" y="4"/>
                    </a:lnTo>
                    <a:close/>
                  </a:path>
                </a:pathLst>
              </a:custGeom>
              <a:solidFill>
                <a:srgbClr val="d99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154800" y="66600"/>
              <a:ext cx="4082400" cy="6494760"/>
              <a:chOff x="154800" y="66600"/>
              <a:chExt cx="4082400" cy="6494760"/>
            </a:xfrm>
          </p:grpSpPr>
          <p:sp>
            <p:nvSpPr>
              <p:cNvPr id="822" name=""/>
              <p:cNvSpPr/>
              <p:nvPr/>
            </p:nvSpPr>
            <p:spPr>
              <a:xfrm>
                <a:off x="154800" y="66600"/>
                <a:ext cx="730800" cy="64947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05320" y="31608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ífilis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05680" y="1227240"/>
                <a:ext cx="34315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omegalovirus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05680" y="2117880"/>
                <a:ext cx="165276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ubeóla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05320" y="307044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ds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04960" y="3981600"/>
                <a:ext cx="322884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oxoplasmosis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04240" y="4872240"/>
                <a:ext cx="21132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oxsacki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04600" y="5783400"/>
                <a:ext cx="140148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erpes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7215840" y="6660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lotkin, 198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maprub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509040"/>
            <a:ext cx="9144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fecciones Congénitas: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allazgos comun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rdo del crecimiento intrauteri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toesplenomeg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mbocitop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cef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ntomática al na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FECCIONES CONGENITAS: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allazgos específico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14120" y="243828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e157"/>
                </a:solidFill>
                <a:latin typeface="Arial"/>
              </a:rPr>
              <a:t>CMV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cefalia, calcificaciones periventriculares , petequias, trombocitopenia, perdida auditiva sensorineural , hernia inguinal  (homb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e157"/>
                </a:solidFill>
                <a:latin typeface="Arial"/>
              </a:rPr>
              <a:t>Herpes simplex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iones vesiculares, queratoconjuntivitis, convulsiones, hepatitis,CID, corioret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itomegaloviru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37" name="cmvfoto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629400" cy="41148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 flipV="1">
            <a:off x="4724280" y="5105160"/>
            <a:ext cx="0" cy="1143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74680" y="6008760"/>
            <a:ext cx="27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epatomeg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144920" y="36226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icrocef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7238520" y="3962520"/>
            <a:ext cx="228600" cy="4572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585000"/>
            <a:ext cx="9144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fecciones Congénitas: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Hallazgos Específico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37920" y="2286000"/>
            <a:ext cx="786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ífili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steocondritis/ periostitis, exantema, rin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oxoplasmosi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idrocefalia, calcificaciones intracraneales corioreti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5:40:39Z</dcterms:created>
  <dc:creator>Elizabeth Castaño</dc:creator>
  <dc:description/>
  <dc:language>en-US</dc:language>
  <cp:lastModifiedBy>Elizabeth Castaño</cp:lastModifiedBy>
  <dcterms:modified xsi:type="dcterms:W3CDTF">2002-07-02T11:41:11Z</dcterms:modified>
  <cp:revision>15</cp:revision>
  <dc:subject/>
  <dc:title>Infecciones Congénitas</dc:title>
</cp:coreProperties>
</file>